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8B3D48-E292-4431-A7B9-AAE28656F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90119BBE-3443-4B97-AC1A-BAB61EDFBC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7" name="Group 12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Text Box 8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9" name="AutoShape 9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minimize F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6708600" y="5135400"/>
            <a:ext cx="1737000" cy="1484640"/>
            <a:chOff x="6708600" y="5135400"/>
            <a:chExt cx="1737000" cy="1484640"/>
          </a:xfrm>
        </p:grpSpPr>
        <p:grpSp>
          <p:nvGrpSpPr>
            <p:cNvPr id="175" name="Group 6"/>
            <p:cNvGrpSpPr/>
            <p:nvPr/>
          </p:nvGrpSpPr>
          <p:grpSpPr>
            <a:xfrm>
              <a:off x="6708600" y="5135400"/>
              <a:ext cx="1737000" cy="479520"/>
              <a:chOff x="6708600" y="5135400"/>
              <a:chExt cx="1737000" cy="479520"/>
            </a:xfrm>
          </p:grpSpPr>
          <p:sp>
            <p:nvSpPr>
              <p:cNvPr id="176" name="Rectangle 7"/>
              <p:cNvSpPr/>
              <p:nvPr/>
            </p:nvSpPr>
            <p:spPr>
              <a:xfrm>
                <a:off x="6708600" y="514008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Rectangle 8"/>
              <p:cNvSpPr/>
              <p:nvPr/>
            </p:nvSpPr>
            <p:spPr>
              <a:xfrm>
                <a:off x="7856640" y="513540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9"/>
              <p:cNvSpPr/>
              <p:nvPr/>
            </p:nvSpPr>
            <p:spPr>
              <a:xfrm>
                <a:off x="7315200" y="5360760"/>
                <a:ext cx="536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Text Box 10"/>
              <p:cNvSpPr/>
              <p:nvPr/>
            </p:nvSpPr>
            <p:spPr>
              <a:xfrm>
                <a:off x="7313040" y="5194080"/>
                <a:ext cx="56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energy 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articles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Text Box 11"/>
              <p:cNvSpPr/>
              <p:nvPr/>
            </p:nvSpPr>
            <p:spPr>
              <a:xfrm>
                <a:off x="8016480" y="5236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Text Box 12"/>
              <p:cNvSpPr/>
              <p:nvPr/>
            </p:nvSpPr>
            <p:spPr>
              <a:xfrm>
                <a:off x="6859080" y="5238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2" name="Arc 13"/>
            <p:cNvSpPr/>
            <p:nvPr/>
          </p:nvSpPr>
          <p:spPr>
            <a:xfrm flipV="1">
              <a:off x="7057800" y="6090480"/>
              <a:ext cx="1052640" cy="23004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-360 h 230040"/>
                <a:gd name="textAreaBottom" fmla="*/ 230040 h 230040"/>
              </a:gdLst>
              <a:ahLst/>
              <a:rect l="textAreaLeft" t="textAreaTop" r="textAreaRight" b="textAreaBottom"/>
              <a:pathLst>
                <a:path fill="none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</a:path>
                <a:path stroke="0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  <a:lnTo>
                    <a:pt x="19315" y="21600"/>
                  </a:lnTo>
                  <a:lnTo>
                    <a:pt x="-1" y="1193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" name="Line 14"/>
            <p:cNvSpPr/>
            <p:nvPr/>
          </p:nvSpPr>
          <p:spPr>
            <a:xfrm>
              <a:off x="6857640" y="5864040"/>
              <a:ext cx="0" cy="70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" name="Line 15"/>
            <p:cNvSpPr/>
            <p:nvPr/>
          </p:nvSpPr>
          <p:spPr>
            <a:xfrm>
              <a:off x="6857640" y="6559560"/>
              <a:ext cx="1459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" name="Text Box 16"/>
            <p:cNvSpPr/>
            <p:nvPr/>
          </p:nvSpPr>
          <p:spPr>
            <a:xfrm>
              <a:off x="8140680" y="6343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6" name="Text Box 17"/>
            <p:cNvSpPr/>
            <p:nvPr/>
          </p:nvSpPr>
          <p:spPr>
            <a:xfrm>
              <a:off x="6819840" y="5771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5" name="Group 6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6" name="AutoShape 7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7" name="Group 8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98" name="Group 9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99" name="Oval 10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0" name="Oval 11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1" name="Oval 12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2" name="Oval 13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Oval 14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4" name="Oval 15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5" name="Oval 16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" name="Oval 17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Oval 18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Oval 19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Oval 20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Oval 21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Oval 22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" name="Oval 23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" name="Oval 24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" name="Oval 25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6" name="Group 27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17" name="Oval 28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29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0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2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3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34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35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6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7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8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9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Oval 40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Oval 41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Oval 42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Oval 43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AutoShape 44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284040 w 493560"/>
                  <a:gd name="textAreaRight" fmla="*/ 415800 w 493560"/>
                  <a:gd name="textAreaTop" fmla="*/ 34920 h 260280"/>
                  <a:gd name="textAreaBottom" fmla="*/ 1112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" name="Text Box 46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Text Box 47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Object 4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Line 9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Text Box 39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Rectangle 41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47" name="Object 42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2" name="Text Box 3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4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55" name="Group 6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56" name="AutoShape 7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7" name="Group 8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58" name="Group 9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59" name="Oval 10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Oval 11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Oval 12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Oval 13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Oval 14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Oval 15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Oval 16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Oval 17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Oval 18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19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20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21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1" name="Oval 22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3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24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25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26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76" name="Group 27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77" name="Oval 28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Oval 29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Oval 30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Oval 31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Oval 32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33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Oval 34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Oval 35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36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37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Oval 38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Oval 39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Oval 40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Oval 41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Oval 42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43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AutoShape 44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284040 w 493560"/>
                    <a:gd name="textAreaRight" fmla="*/ 415800 w 493560"/>
                    <a:gd name="textAreaTop" fmla="*/ 34920 h 259920"/>
                    <a:gd name="textAreaBottom" fmla="*/ 1108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6079"/>
                      </a:moveTo>
                      <a:lnTo>
                        <a:pt x="15126" y="0"/>
                      </a:lnTo>
                      <a:lnTo>
                        <a:pt x="15126" y="2912"/>
                      </a:lnTo>
                      <a:lnTo>
                        <a:pt x="12427" y="2912"/>
                      </a:lnTo>
                      <a:cubicBezTo>
                        <a:pt x="5564" y="2912"/>
                        <a:pt x="0" y="7052"/>
                        <a:pt x="0" y="12158"/>
                      </a:cubicBezTo>
                      <a:lnTo>
                        <a:pt x="0" y="21600"/>
                      </a:lnTo>
                      <a:lnTo>
                        <a:pt x="6474" y="21600"/>
                      </a:lnTo>
                      <a:lnTo>
                        <a:pt x="6474" y="12158"/>
                      </a:lnTo>
                      <a:cubicBezTo>
                        <a:pt x="6474" y="10550"/>
                        <a:pt x="9139" y="9246"/>
                        <a:pt x="12427" y="9246"/>
                      </a:cubicBezTo>
                      <a:lnTo>
                        <a:pt x="15126" y="9246"/>
                      </a:lnTo>
                      <a:lnTo>
                        <a:pt x="15126" y="12158"/>
                      </a:lnTo>
                      <a:lnTo>
                        <a:pt x="21600" y="607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Text Box 45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Rectangle 46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" name="Text Box 48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8" name="Object 51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52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53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54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05" name="Object 55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7" name="Rectangle 56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12" name="Group 1"/>
          <p:cNvGrpSpPr/>
          <p:nvPr/>
        </p:nvGrpSpPr>
        <p:grpSpPr>
          <a:xfrm>
            <a:off x="366840" y="5095800"/>
            <a:ext cx="8385120" cy="1635480"/>
            <a:chOff x="366840" y="5095800"/>
            <a:chExt cx="8385120" cy="1635480"/>
          </a:xfrm>
        </p:grpSpPr>
        <p:sp>
          <p:nvSpPr>
            <p:cNvPr id="313" name="Text Box 8"/>
            <p:cNvSpPr/>
            <p:nvPr/>
          </p:nvSpPr>
          <p:spPr>
            <a:xfrm>
              <a:off x="587160" y="6454800"/>
              <a:ext cx="618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This is not Robert Stirling (“Stirling engine”) but James Stirling, Scottish mathematicia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13"/>
            <p:cNvSpPr/>
            <p:nvPr/>
          </p:nvSpPr>
          <p:spPr>
            <a:xfrm>
              <a:off x="7540920" y="5298840"/>
              <a:ext cx="1211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derivative is only defined for large 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315" name="Object 15"/>
            <p:cNvGraphicFramePr/>
            <p:nvPr/>
          </p:nvGraphicFramePr>
          <p:xfrm>
            <a:off x="366840" y="5316480"/>
            <a:ext cx="7016760" cy="61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6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6840" y="5316480"/>
                      <a:ext cx="7016760" cy="61740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7" name="Oval 16"/>
            <p:cNvSpPr/>
            <p:nvPr/>
          </p:nvSpPr>
          <p:spPr>
            <a:xfrm>
              <a:off x="473040" y="5095800"/>
              <a:ext cx="1028520" cy="1016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Oval 17"/>
            <p:cNvSpPr/>
            <p:nvPr/>
          </p:nvSpPr>
          <p:spPr>
            <a:xfrm>
              <a:off x="6542280" y="5187600"/>
              <a:ext cx="819000" cy="865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49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22" name="Object 50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51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52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Object 5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8" name="Text Box 53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Text Box 54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0" name="Line 56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31" name="Object 57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Object 5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59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4" name="Object 5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5" name="Text Box 61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36" name="Object 62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7" name="Object 6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63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9" name="Text Box 64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Object 9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61" name="Text Box 11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4" name="Object 10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8" name="Object 4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Text Box 5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53" name="Object 8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5" name="Group 9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56" name="Group 10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57" name="Group 11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58" name="Oval 12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Oval 13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Oval 14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15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Oval 16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Oval 17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Oval 18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Oval 19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Oval 20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Oval 21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8" name="Oval 22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9" name="Oval 23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0" name="Oval 24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1" name="Oval 25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2" name="Oval 26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3" name="Oval 27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4" name="Oval 28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5" name="Oval 29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376" name="Group 30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77" name="Oval 31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Oval 32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33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34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35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Oval 36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Oval 37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Oval 38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Oval 39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40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87" name="Oval 41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Oval 42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Oval 43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Oval 44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Oval 45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Oval 46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Oval 47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Oval 48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49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96" name="Group 50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97" name="Oval 51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Oval 52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Oval 53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Oval 54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Oval 55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Oval 56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Oval 57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Oval 58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Oval 59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Group 60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07" name="Oval 61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Oval 62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Oval 63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Oval 64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Oval 65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Oval 66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Oval 67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Oval 68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Oval 69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Group 70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17" name="Oval 71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Oval 72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Oval 73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74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75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76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77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78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79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80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27" name="Oval 81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Oval 82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Oval 83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Oval 84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Oval 85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86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87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88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89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6" name="Oval 90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37" name="Arc 91"/>
          <p:cNvSpPr/>
          <p:nvPr/>
        </p:nvSpPr>
        <p:spPr>
          <a:xfrm flipV="1">
            <a:off x="3759120" y="5378400"/>
            <a:ext cx="1482840" cy="488880"/>
          </a:xfrm>
          <a:custGeom>
            <a:avLst/>
            <a:gdLst/>
            <a:ahLst/>
            <a:rect l="l" t="t" r="r" b="b"/>
            <a:pathLst>
              <a:path fill="none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</a:path>
              <a:path stroke="0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  <a:lnTo>
                  <a:pt x="18993" y="21600"/>
                </a:lnTo>
                <a:lnTo>
                  <a:pt x="-1" y="11313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8" name="TextBox 1"/>
          <p:cNvSpPr/>
          <p:nvPr/>
        </p:nvSpPr>
        <p:spPr>
          <a:xfrm>
            <a:off x="5715000" y="6095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39" name="Object 2"/>
          <p:cNvGraphicFramePr/>
          <p:nvPr/>
        </p:nvGraphicFramePr>
        <p:xfrm>
          <a:off x="6529320" y="5945040"/>
          <a:ext cx="1457280" cy="6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9320" y="5945040"/>
                    <a:ext cx="145728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Object 3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4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79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1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9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91960" y="695160"/>
            <a:ext cx="830916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99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02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05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06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7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08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13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15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18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1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22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4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25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1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3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46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8" name="Object 58"/>
          <p:cNvGraphicFramePr/>
          <p:nvPr/>
        </p:nvGraphicFramePr>
        <p:xfrm>
          <a:off x="6724800" y="5864400"/>
          <a:ext cx="1049040" cy="48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4800" y="5864400"/>
                    <a:ext cx="1049040" cy="4838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Box 1"/>
          <p:cNvSpPr/>
          <p:nvPr/>
        </p:nvSpPr>
        <p:spPr>
          <a:xfrm>
            <a:off x="3501360" y="5410080"/>
            <a:ext cx="4062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chemical potential of sub-system i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56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63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1-17T14:41:41Z</cp:lastPrinted>
  <dcterms:modified xsi:type="dcterms:W3CDTF">2015-02-20T21:01:05Z</dcterms:modified>
  <cp:revision>57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