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788436E-A8BA-4A52-8B78-4F96277363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FA5D6EAD-C709-4153-AB5B-571C4F5559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mal Expectation Val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2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Text Box 6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AutoShape 7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Group 13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Text Box 9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10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" name="Picture 18" descr="https://encrypted-tbn2.gstatic.com/images?q=tbn:ANd9GcTRRrMZUOsPH4i1mnoYZXt_ige4ywxVGHGDltOl0tYfJ0kDxmZuTg"/>
          <p:cNvPicPr/>
          <p:nvPr/>
        </p:nvPicPr>
        <p:blipFill>
          <a:blip r:embed="rId1"/>
          <a:stretch/>
        </p:blipFill>
        <p:spPr>
          <a:xfrm>
            <a:off x="6335640" y="2079720"/>
            <a:ext cx="2210040" cy="2066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6428520" y="40957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dwig Boltz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5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36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Object 39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40"/>
          <p:cNvGraphicFramePr/>
          <p:nvPr/>
        </p:nvGraphicFramePr>
        <p:xfrm>
          <a:off x="574560" y="3052800"/>
          <a:ext cx="127656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560" y="3052800"/>
                    <a:ext cx="12765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43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44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Object 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45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Object 4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46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47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4347000" y="4232160"/>
            <a:ext cx="459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focus o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nce reservoir &gt;&gt; sy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Text Box 65"/>
          <p:cNvSpPr/>
          <p:nvPr/>
        </p:nvSpPr>
        <p:spPr>
          <a:xfrm>
            <a:off x="822240" y="1612800"/>
            <a:ext cx="75628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It describes how the probability is partitioned among ALL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a function of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cl. all it’s descriptive parameters) and T.  Z(stuff, 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66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67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68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73"/>
          <p:cNvGraphicFramePr/>
          <p:nvPr/>
        </p:nvGraphicFramePr>
        <p:xfrm>
          <a:off x="1274760" y="3689280"/>
          <a:ext cx="380700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7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89280"/>
                    <a:ext cx="3807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74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4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5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09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22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23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9" name="Group 5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40" name="Line 6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Line 9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5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1" name="Text Box 16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7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56" name="Text Box 40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43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4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6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63" name="Group 7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64" name="Oval 8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9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0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67" name="Oval 11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2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13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70" name="Oval 14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5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16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73" name="Oval 17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8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19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76" name="Oval 20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21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22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79" name="Oval 23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24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5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82" name="Oval 26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27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28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85" name="Oval 29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30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31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88" name="Oval 32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33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34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91" name="Oval 35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36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38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4" name="Object 41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Group 46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97" name="Text Box 37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45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053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01" name="Picture 2120" descr="brain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2128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Group 1052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304" name="Group 2127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305" name="Object 2108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6" name="Object 2122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7" name="Line 2123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2124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2125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2126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2133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312" name="Line 2131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Text Box 2132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19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21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AutoShape 93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97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98"/>
          <p:cNvSpPr/>
          <p:nvPr/>
        </p:nvSpPr>
        <p:spPr>
          <a:xfrm>
            <a:off x="387720" y="971640"/>
            <a:ext cx="839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for one spin, using Boltzmann factors to obtain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 for one sp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 (note one-spin probabilities,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nd N give answ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111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22" name="Object 101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3" name="Object 10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Object 102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5" name="Object 10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Line 103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4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05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06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08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109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Rectangle 113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407880" y="96840"/>
            <a:ext cx="8512200" cy="65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o far, we’ve been looking at systems having a fixed amount of total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microstates with that same total energy are possible microstates of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ll macrostates that have that total energy are possible, and the one with the maximum number of microstates (“multiplicity”) is the one we s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(Actually, there are many similar states with “almost” the same macro-observables that are also seen.  Remember there are fluctuation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f the energy can change a b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Where does that energy come from??     A Thermal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in Thermal Equilibrium with a heat bat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case, a microstate, n, has a probability controlled by the temperature and the microstate energy,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It’s proportional to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the Boltzmann Factor.  Unlike constant energy systems, here the probability of a microstate is not the same for all microstates.  The probability is found by normalizing the Boltzmann Factor using the partition function, Z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). 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(n) = e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-E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/k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fore only microstates with a specified total energy were possible. 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each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all microstates are possible, not just those with a specified total energy. 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ld: fixed energy ensemble         New: thermal ensemble –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509800" y="592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reeform 4"/>
          <p:cNvSpPr/>
          <p:nvPr/>
        </p:nvSpPr>
        <p:spPr>
          <a:xfrm>
            <a:off x="7986600" y="5165640"/>
            <a:ext cx="706680" cy="889200"/>
          </a:xfrm>
          <a:custGeom>
            <a:avLst/>
            <a:gdLst/>
            <a:ahLst/>
            <a:rect l="l" t="t" r="r" b="b"/>
            <a:pathLst>
              <a:path w="606001" h="612959">
                <a:moveTo>
                  <a:pt x="0" y="126576"/>
                </a:moveTo>
                <a:cubicBezTo>
                  <a:pt x="116732" y="61725"/>
                  <a:pt x="233464" y="-3126"/>
                  <a:pt x="330740" y="116"/>
                </a:cubicBezTo>
                <a:cubicBezTo>
                  <a:pt x="428016" y="3358"/>
                  <a:pt x="539885" y="43891"/>
                  <a:pt x="583659" y="146031"/>
                </a:cubicBezTo>
                <a:cubicBezTo>
                  <a:pt x="627433" y="248171"/>
                  <a:pt x="593387" y="612959"/>
                  <a:pt x="593387" y="612959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4"/>
          <p:cNvGrpSpPr/>
          <p:nvPr/>
        </p:nvGrpSpPr>
        <p:grpSpPr>
          <a:xfrm>
            <a:off x="514440" y="4400640"/>
            <a:ext cx="6815160" cy="1991160"/>
            <a:chOff x="514440" y="4400640"/>
            <a:chExt cx="6815160" cy="1991160"/>
          </a:xfrm>
        </p:grpSpPr>
        <p:sp>
          <p:nvSpPr>
            <p:cNvPr id="336" name="Rectangle 3"/>
            <p:cNvSpPr/>
            <p:nvPr/>
          </p:nvSpPr>
          <p:spPr>
            <a:xfrm>
              <a:off x="514440" y="440064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32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38" name="Object 4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40" name="Group 23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41" name="Text Box 74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70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71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72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Text Box 73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Text Box 75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Line 3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Freeform 5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7" name="Object 13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Text Box 14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Oval 16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8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1" name="Object 5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Text Box 6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396720" y="1103400"/>
            <a:ext cx="8578800" cy="2925720"/>
            <a:chOff x="396720" y="1103400"/>
            <a:chExt cx="8578800" cy="2925720"/>
          </a:xfrm>
        </p:grpSpPr>
        <p:sp>
          <p:nvSpPr>
            <p:cNvPr id="380" name="Rectangle 4"/>
            <p:cNvSpPr/>
            <p:nvPr/>
          </p:nvSpPr>
          <p:spPr>
            <a:xfrm>
              <a:off x="396720" y="110340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81" name="Object 5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83" name="Object 1"/>
          <p:cNvGraphicFramePr/>
          <p:nvPr/>
        </p:nvGraphicFramePr>
        <p:xfrm>
          <a:off x="4108320" y="499896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8320" y="499896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8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393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0" descr="030_Sa063dav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20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7" name="Oval 11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12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Line 14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1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quantum state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or each part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add all the par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#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“Boltzmann factor”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Text Box 3112"/>
          <p:cNvSpPr/>
          <p:nvPr/>
        </p:nvSpPr>
        <p:spPr>
          <a:xfrm>
            <a:off x="417600" y="1058760"/>
            <a:ext cx="8669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have a fixed TOTAL energy, but they can exchange energy, volume, particles, etc.  Each individual system is at a fixed temperature, not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Group 3118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5" name="Rectangle 3113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3114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3115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3117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Rectangle 3119"/>
          <p:cNvSpPr/>
          <p:nvPr/>
        </p:nvSpPr>
        <p:spPr>
          <a:xfrm>
            <a:off x="401760" y="5145120"/>
            <a:ext cx="522576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120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4059360" y="3236760"/>
            <a:ext cx="373212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125280" y="4924440"/>
            <a:ext cx="901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39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6" name="Text Box 4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" name="Group 6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8" name="Line 7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8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Line 9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11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12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14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5" name="Line 15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16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17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Line 18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19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20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21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22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23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24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25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26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27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28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29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30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31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32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" name="Text Box 36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8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Rectangle 40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1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5"/>
          <p:cNvSpPr/>
          <p:nvPr/>
        </p:nvSpPr>
        <p:spPr>
          <a:xfrm>
            <a:off x="131760" y="5183280"/>
            <a:ext cx="9018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   From befor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q) ~ q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7778880" y="1155600"/>
            <a:ext cx="74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3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Object 95"/>
          <p:cNvGraphicFramePr/>
          <p:nvPr/>
        </p:nvGraphicFramePr>
        <p:xfrm>
          <a:off x="7061040" y="1519200"/>
          <a:ext cx="168300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9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1040" y="1519200"/>
                    <a:ext cx="1683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Group 99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44" name="Line 3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47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96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97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8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63" name="Object 100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65" name="Group 1"/>
          <p:cNvGrpSpPr/>
          <p:nvPr/>
        </p:nvGrpSpPr>
        <p:grpSpPr>
          <a:xfrm>
            <a:off x="6808680" y="2581200"/>
            <a:ext cx="2230560" cy="1532160"/>
            <a:chOff x="6808680" y="2581200"/>
            <a:chExt cx="2230560" cy="1532160"/>
          </a:xfrm>
        </p:grpSpPr>
        <p:graphicFrame>
          <p:nvGraphicFramePr>
            <p:cNvPr id="166" name="Object 90"/>
            <p:cNvGraphicFramePr/>
            <p:nvPr/>
          </p:nvGraphicFramePr>
          <p:xfrm>
            <a:off x="6808680" y="2924280"/>
            <a:ext cx="2230560" cy="118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7" name="Object 9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8680" y="2924280"/>
                      <a:ext cx="2230560" cy="118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Text Box 38"/>
            <p:cNvSpPr/>
            <p:nvPr/>
          </p:nvSpPr>
          <p:spPr>
            <a:xfrm>
              <a:off x="7776000" y="25812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5-04-06T21:24:59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