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CC48A9-B9A3-445E-9364-C3BA7242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B2630C6-6ACD-4C4B-AA30-5DACC11A59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75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6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8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9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6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7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2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6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7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8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9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6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7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8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5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13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7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2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1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6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4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3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6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7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8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8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376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7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7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6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7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7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7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7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37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46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7T14:41:41Z</cp:lastPrinted>
  <dcterms:modified xsi:type="dcterms:W3CDTF">2015-02-20T21:01:05Z</dcterms:modified>
  <cp:revision>5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