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2FEEF4B-98D0-43CB-B439-2039DC944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DA16E15E-878B-49ED-8E7F-CBC3B21C55E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Font typeface="Monotype Sort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4C8D84C6-5D00-4A16-B70A-138F1E5775B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75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3" name="Group 67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4" name="Oval 40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5" name="Rectangle 41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6" name="Rectangle 42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7" name="Rectangle 43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8" name="Rectangle 44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9" name="Oval 45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0" name="Oval 46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1" name="Oval 47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2" name="Oval 48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3" name="Oval 49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4" name="Oval 50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5" name="Oval 51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6" name="Oval 52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7" name="Oval 53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8" name="Oval 54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9" name="Oval 55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0" name="Oval 56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1" name="Oval 57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2" name="Oval 58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3" name="Oval 59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4" name="Oval 60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5" name="Oval 61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6" name="Oval 62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07" name="Group 66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08" name="Line 63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64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65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" name="Group 74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2" name="Group 70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3" name="Rectangle 68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69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71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6" name="Line 72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7" name="Line 73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8" name="Object 79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83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1" name="Rectangle 86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2" name="Rectangle 89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3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0" name="Object 6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7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33" name="Object 8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14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8" name="Rectangle 30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40" name="Object 5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Rectangle 6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43" name="Object 8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45" name="Group 43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46" name="Oval 11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47" name="Oval 9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48" name="Line 10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249" name="Group 32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50" name="Oval 16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1" name="Oval 17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3" name="Line 20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4" name="Line 21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aphicFrame>
        <p:nvGraphicFramePr>
          <p:cNvPr id="255" name="Object 25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7" name="Text Box 46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58" name="Object 47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9" name="Object 4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0" name="Rectangle 42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1" name="Text Box 44"/>
          <p:cNvSpPr/>
          <p:nvPr/>
        </p:nvSpPr>
        <p:spPr>
          <a:xfrm>
            <a:off x="630360" y="5759280"/>
            <a:ext cx="870732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72" name="Group 54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273" name="Rectangle 6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274" name="Group 50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275" name="Rectangle 5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76" name="Rectangle 7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77" name="Rectangle 8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49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279" name="Oval 4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0" name="Oval 9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1" name="Oval 10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2" name="Oval 11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3" name="Oval 12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4" name="Oval 13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5" name="Oval 14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6" name="Oval 15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7" name="Oval 16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8" name="Oval 17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9" name="Oval 18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0" name="Oval 19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1" name="Oval 20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2" name="Oval 21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3" name="Oval 22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4" name="Oval 23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5" name="Oval 24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6" name="Oval 25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7" name="Oval 26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48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299" name="Line 29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00" name="Line 30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01" name="Line 31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sp>
          <p:nvSpPr>
            <p:cNvPr id="302" name="Rectangle 34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3" name="Line 36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4" name="Line 37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5" name="Line 38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6" name="Text Box 45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7" name="Text Box 52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8" name="Rectangle 53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309" name="Text Box 55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0" name="Line 56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1" name="Line 14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2" name="Line 15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6920" y="1294920"/>
            <a:ext cx="67453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Volum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Press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emperat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hermal Energ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0" name="Oval 7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33" name="Rectangle 12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134" name="Group 60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5" name="Oval 11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138" name="Group 63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39" name="Rectangle 19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9" name="Line 33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0" name="Line 34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1" name="Line 35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2" name="Rectangle 36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3" name="Rectangle 37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4" name="Rectangle 38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5" name="Line 41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6" name="Rectangle 43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8" name="Rectangle 56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9" name="Rectangle 57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70" name="Text Box 58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71" name="Rectangle 59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72" name="Rectangle 64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intro.chem.okstate.edu/1314F00/Laboratory/GLP.htm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Line 5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180" name="Group 7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Line 8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2" name="Line 9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3" name="Line 10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4" name="Line 11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5" name="Line 12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5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9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5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6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06" name="Object 8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3" name="Line 15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4" name="Line 16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15" name="Group 20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16" name="Oval 17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17" name="Line 18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5-02-19T15:53:15Z</dcterms:modified>
  <cp:revision>34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