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981B052-5A45-401C-BFC2-627D02C91D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68632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CBDB5F22-3625-44CB-A543-E7C9CCF03AA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rmal Expectation Val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12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7" name="Text Box 6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AutoShape 7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" name="Group 13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0" name="Text Box 9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AutoShape 10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" name="Picture 18" descr="https://encrypted-tbn2.gstatic.com/images?q=tbn:ANd9GcTRRrMZUOsPH4i1mnoYZXt_ige4ywxVGHGDltOl0tYfJ0kDxmZuTg"/>
          <p:cNvPicPr/>
          <p:nvPr/>
        </p:nvPicPr>
        <p:blipFill>
          <a:blip r:embed="rId1"/>
          <a:stretch/>
        </p:blipFill>
        <p:spPr>
          <a:xfrm>
            <a:off x="6335640" y="2079720"/>
            <a:ext cx="2210040" cy="20667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6428520" y="409572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udwig Boltzma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34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5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36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7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Object 39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40"/>
          <p:cNvGraphicFramePr/>
          <p:nvPr/>
        </p:nvGraphicFramePr>
        <p:xfrm>
          <a:off x="574560" y="3052800"/>
          <a:ext cx="127656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4560" y="3052800"/>
                    <a:ext cx="12765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43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44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2" name="Object 4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45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" name="Object 4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46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47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1"/>
          <p:cNvSpPr/>
          <p:nvPr/>
        </p:nvSpPr>
        <p:spPr>
          <a:xfrm>
            <a:off x="4347000" y="4232160"/>
            <a:ext cx="459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focus o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nce reservoir &gt;&gt; sy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" name="Text Box 65"/>
          <p:cNvSpPr/>
          <p:nvPr/>
        </p:nvSpPr>
        <p:spPr>
          <a:xfrm>
            <a:off x="822240" y="1612800"/>
            <a:ext cx="75628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It describes how the probability is partitioned among ALL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a function of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cl. all it’s descriptive parameters) and T.  Z(stuff, 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Object 66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67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6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68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Object 6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73"/>
          <p:cNvGraphicFramePr/>
          <p:nvPr/>
        </p:nvGraphicFramePr>
        <p:xfrm>
          <a:off x="1274760" y="3689280"/>
          <a:ext cx="3807000" cy="9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Object 7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89280"/>
                    <a:ext cx="3807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Rectangle 74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04" name="Group 5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05" name="Line 6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7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9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09" name="Line 10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Text Box 11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1" name="Text Box 12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15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17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 Box 18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22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23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6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37" name="Object 4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9" name="Group 5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240" name="Line 6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7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8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Line 9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1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5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1" name="Text Box 16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7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47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256" name="Text Box 40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43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4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6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263" name="Group 7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264" name="Oval 8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9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10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267" name="Oval 11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2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13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270" name="Oval 14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15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2" name="Group 16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273" name="Oval 17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18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19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276" name="Oval 20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21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22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279" name="Oval 23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24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5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282" name="Oval 26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27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28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285" name="Oval 29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30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31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288" name="Oval 32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33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34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291" name="Oval 35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36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Text Box 38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4" name="Object 41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6" name="Group 46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297" name="Text Box 37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45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053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01" name="Picture 2120" descr="brain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2128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3" name="Group 1052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304" name="Group 2127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305" name="Object 2108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06" name="Object 2122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7" name="Line 2123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2124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2125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2126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2133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312" name="Line 2131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Text Box 2132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Object 19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21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7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AutoShape 93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97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(Nuclear) Magnetic Reson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98"/>
          <p:cNvSpPr/>
          <p:nvPr/>
        </p:nvSpPr>
        <p:spPr>
          <a:xfrm>
            <a:off x="387720" y="971640"/>
            <a:ext cx="839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for one spin, using Boltzmann factors to obtain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 for one spi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 (note one-spin probabilities, 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nd N give answ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111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322" name="Object 101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3" name="Object 10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4" name="Object 102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5" name="Object 10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Line 103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04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05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06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08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109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Rectangle 113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407880" y="96840"/>
            <a:ext cx="8512200" cy="65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So far, we’ve been looking at systems having a fixed amount of total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microstates with that same total energy are possible microstates of th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All macrostates that have that total energy are possible, and the one with the maximum number of microstates (“multiplicity”) is the one we s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(Actually, there are many similar states with “almost” the same macro-observables that are also seen.  Remember there are fluctuation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f the energy can change a bi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Where does that energy come from??     A Thermal Reservo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in Thermal Equilibrium with a heat bat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case, a microstate, n, has a probability controlled by the temperature and the microstate energy,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It’s proportional to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the Boltzmann Factor.  Unlike constant energy systems, here the probability of a microstate is not the same for all microstates.  The probability is found by normalizing the Boltzmann Factor using the partition function, Z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i). 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(n) = e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-E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/k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fore only microstates with a specified total energy were possible. 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each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ow all microstates are possible, not just those with a specified total energy.  P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ld: fixed energy ensemble         New: thermal ensemble – P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509800" y="592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Freeform 4"/>
          <p:cNvSpPr/>
          <p:nvPr/>
        </p:nvSpPr>
        <p:spPr>
          <a:xfrm>
            <a:off x="7986600" y="5165640"/>
            <a:ext cx="706680" cy="889200"/>
          </a:xfrm>
          <a:custGeom>
            <a:avLst/>
            <a:gdLst/>
            <a:ahLst/>
            <a:rect l="l" t="t" r="r" b="b"/>
            <a:pathLst>
              <a:path w="606001" h="612959">
                <a:moveTo>
                  <a:pt x="0" y="126576"/>
                </a:moveTo>
                <a:cubicBezTo>
                  <a:pt x="116732" y="61725"/>
                  <a:pt x="233464" y="-3126"/>
                  <a:pt x="330740" y="116"/>
                </a:cubicBezTo>
                <a:cubicBezTo>
                  <a:pt x="428016" y="3358"/>
                  <a:pt x="539885" y="43891"/>
                  <a:pt x="583659" y="146031"/>
                </a:cubicBezTo>
                <a:cubicBezTo>
                  <a:pt x="627433" y="248171"/>
                  <a:pt x="593387" y="612959"/>
                  <a:pt x="593387" y="612959"/>
                </a:cubicBezTo>
              </a:path>
            </a:pathLst>
          </a:custGeom>
          <a:noFill/>
          <a:ln w="19080">
            <a:solidFill>
              <a:srgbClr val="fafd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4"/>
          <p:cNvGrpSpPr/>
          <p:nvPr/>
        </p:nvGrpSpPr>
        <p:grpSpPr>
          <a:xfrm>
            <a:off x="514440" y="4400640"/>
            <a:ext cx="6815160" cy="1991160"/>
            <a:chOff x="514440" y="4400640"/>
            <a:chExt cx="6815160" cy="1991160"/>
          </a:xfrm>
        </p:grpSpPr>
        <p:sp>
          <p:nvSpPr>
            <p:cNvPr id="336" name="Rectangle 3"/>
            <p:cNvSpPr/>
            <p:nvPr/>
          </p:nvSpPr>
          <p:spPr>
            <a:xfrm>
              <a:off x="514440" y="440064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Text Box 32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338" name="Object 4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9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40" name="Group 23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341" name="Text Box 74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70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71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72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Text Box 73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Text Box 75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Line 3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4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Freeform 5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6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7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9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10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7" name="Object 13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Text Box 14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15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Oval 16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17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8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9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21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(Nuclear) Magnetic Resonanc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635040" y="2538360"/>
            <a:ext cx="6800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you take ratios of probabilities, the normalization factor cance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1" name="Object 5"/>
          <p:cNvGraphicFramePr/>
          <p:nvPr/>
        </p:nvGraphicFramePr>
        <p:xfrm>
          <a:off x="1096920" y="3006720"/>
          <a:ext cx="382428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3006720"/>
                    <a:ext cx="38242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Text Box 6"/>
          <p:cNvSpPr/>
          <p:nvPr/>
        </p:nvSpPr>
        <p:spPr>
          <a:xfrm>
            <a:off x="1006560" y="4889520"/>
            <a:ext cx="75891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smaller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y a factor of 658, so B must be larger by that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= 9.9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make 150 T fields (not easily), but not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as large as the field of some neutron sta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4824000" y="383688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ical MRI field ~ 2 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79" name="Group 3"/>
          <p:cNvGrpSpPr/>
          <p:nvPr/>
        </p:nvGrpSpPr>
        <p:grpSpPr>
          <a:xfrm>
            <a:off x="396720" y="1103400"/>
            <a:ext cx="8578800" cy="2925720"/>
            <a:chOff x="396720" y="1103400"/>
            <a:chExt cx="8578800" cy="2925720"/>
          </a:xfrm>
        </p:grpSpPr>
        <p:sp>
          <p:nvSpPr>
            <p:cNvPr id="380" name="Rectangle 4"/>
            <p:cNvSpPr/>
            <p:nvPr/>
          </p:nvSpPr>
          <p:spPr>
            <a:xfrm>
              <a:off x="396720" y="110340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381" name="Object 5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83" name="Object 1"/>
          <p:cNvGraphicFramePr/>
          <p:nvPr/>
        </p:nvGraphicFramePr>
        <p:xfrm>
          <a:off x="4108320" y="499896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08320" y="499896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8" name="Object 3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Group 6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393" name="Picture 7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Text Box 8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Text Box 9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Text Box 10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11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Line 12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10" descr="030_Sa063dav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20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7" name="Oval 11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12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3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Line 14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7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21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s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v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quantum state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or each part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st add all the par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#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“Boltzmann factor”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Text Box 3112"/>
          <p:cNvSpPr/>
          <p:nvPr/>
        </p:nvSpPr>
        <p:spPr>
          <a:xfrm>
            <a:off x="417600" y="1058760"/>
            <a:ext cx="8669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have a fixed TOTAL energy, but they can exchange energy, volume, particles, etc.  Each individual system is at a fixed temperature, not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Group 3118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5" name="Rectangle 3113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3114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3115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3117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" name="Rectangle 3119"/>
          <p:cNvSpPr/>
          <p:nvPr/>
        </p:nvSpPr>
        <p:spPr>
          <a:xfrm>
            <a:off x="401760" y="5145120"/>
            <a:ext cx="522576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120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4059360" y="3236760"/>
            <a:ext cx="373212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5"/>
          <p:cNvSpPr/>
          <p:nvPr/>
        </p:nvSpPr>
        <p:spPr>
          <a:xfrm>
            <a:off x="125280" y="4924440"/>
            <a:ext cx="901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39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6" name="Text Box 4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" name="Group 6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8" name="Line 7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Line 8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Line 9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Line 11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Line 12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14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5" name="Line 15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Line 16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17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Line 18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19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20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21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22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23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24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25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26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27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28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29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Line 30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31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32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" name="Text Box 36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8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Rectangle 40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1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2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35"/>
          <p:cNvSpPr/>
          <p:nvPr/>
        </p:nvSpPr>
        <p:spPr>
          <a:xfrm>
            <a:off x="131760" y="5183280"/>
            <a:ext cx="901872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   From befor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q) ~ q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8"/>
          <p:cNvSpPr/>
          <p:nvPr/>
        </p:nvSpPr>
        <p:spPr>
          <a:xfrm>
            <a:off x="7778880" y="1155600"/>
            <a:ext cx="74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3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25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7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8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91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Object 95"/>
          <p:cNvGraphicFramePr/>
          <p:nvPr/>
        </p:nvGraphicFramePr>
        <p:xfrm>
          <a:off x="7061040" y="1519200"/>
          <a:ext cx="168300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9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1040" y="1519200"/>
                    <a:ext cx="16830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" name="Group 99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44" name="Line 3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5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6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7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Text Box 8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0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1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12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13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6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7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8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47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96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97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98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63" name="Object 100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10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65" name="Group 1"/>
          <p:cNvGrpSpPr/>
          <p:nvPr/>
        </p:nvGrpSpPr>
        <p:grpSpPr>
          <a:xfrm>
            <a:off x="6808680" y="2581200"/>
            <a:ext cx="2230560" cy="1532160"/>
            <a:chOff x="6808680" y="2581200"/>
            <a:chExt cx="2230560" cy="1532160"/>
          </a:xfrm>
        </p:grpSpPr>
        <p:graphicFrame>
          <p:nvGraphicFramePr>
            <p:cNvPr id="166" name="Object 90"/>
            <p:cNvGraphicFramePr/>
            <p:nvPr/>
          </p:nvGraphicFramePr>
          <p:xfrm>
            <a:off x="6808680" y="2924280"/>
            <a:ext cx="2230560" cy="118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7" name="Object 9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08680" y="2924280"/>
                      <a:ext cx="2230560" cy="118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8" name="Text Box 38"/>
            <p:cNvSpPr/>
            <p:nvPr/>
          </p:nvSpPr>
          <p:spPr>
            <a:xfrm>
              <a:off x="7776000" y="258120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 =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5-04-06T21:24:59Z</dcterms:modified>
  <cp:revision>33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