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840B0C-CF63-47B9-BEDF-DCD9DF968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work through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5736D53E-2F37-418A-8B5F-989983BE0C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9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2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6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7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28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5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6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5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398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4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9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0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1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2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3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0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1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4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0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5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1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2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3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4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5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1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2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5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0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1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6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7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88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7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08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1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7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2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4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5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49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1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4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1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6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7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28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9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0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1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2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5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0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1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2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3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5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6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7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wo systems that are allowed to exchange energy will do so until the total entropy is maximiz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5132520" y="3355920"/>
          <a:ext cx="16873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2520" y="3355920"/>
                    <a:ext cx="1687320" cy="939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6273720" y="2127240"/>
          <a:ext cx="15462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3720" y="2127240"/>
                    <a:ext cx="1546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1027080" y="2070000"/>
          <a:ext cx="419724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7080" y="2070000"/>
                    <a:ext cx="41972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225440" y="3564000"/>
            <a:ext cx="457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36680" y="4646520"/>
            <a:ext cx="750240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this definition, out of equilibrium, heat flows from hot to col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 equipartition of energy: U = ½kT for each energy mod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61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6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88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89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90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91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4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5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10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11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12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13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14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1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22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30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38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45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9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0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54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7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59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60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1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62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3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4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5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6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0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7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8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9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80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81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82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83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84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85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93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0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801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809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16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1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2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31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3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3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3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39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0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1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2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43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4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45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46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47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48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9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0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7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8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9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0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1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2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3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4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05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906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7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909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0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1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12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3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3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4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5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6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7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4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1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88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5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2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3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6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19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0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2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28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9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0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7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38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39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0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7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4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7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58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9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0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4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5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3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2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3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4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5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2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5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2T20:20:36Z</dcterms:modified>
  <cp:revision>3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