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7256B341-2DE3-46B4-B5D4-4F3CAEBA17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first part as an exercise, and only the second as a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~ 25 kJ/g (similar to ethan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~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ng 15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44 kJ/g = 1254 kcal/mole of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aca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+ 68 kcal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286 kJ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=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ding ballo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:  4H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e  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elta_E per He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4.5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H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.7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mo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_E /g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0.03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(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kg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+ 2 e --&gt;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+ 2 neutrinos + 6 ph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energy released in each separate reaction has been measured. The net energy release is 26 MeV (corresponds to 4.1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/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to ponder:  </a:t>
            </a:r>
            <a:r>
              <a:rPr b="0" lang="en-US" sz="1200" spc="-1" strike="noStrike">
                <a:solidFill>
                  <a:srgbClr val="00ae00"/>
                </a:solidFill>
                <a:latin typeface="Arial"/>
              </a:rPr>
              <a:t>Why don’t the tables of free energy mention T_environ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en.wikipedia.org/wiki/Internal_combustion_engine#Energy_efficiency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Otherwise S could increase by exchanging particles, but in equilibrium S is already a ma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EC1E228F-287F-4B81-BA94-D39C497F1CA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6480" y="70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6</a:t>
            </a:r>
            <a:br>
              <a:rPr sz="1600"/>
            </a:b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quilibrium and Chemical Potential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40160" y="2594880"/>
            <a:ext cx="585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 Energy and Chemical 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defects in sol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03400" y="5423040"/>
            <a:ext cx="318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lement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 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2800" y="5262480"/>
            <a:ext cx="3970440" cy="10558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957920" y="5264280"/>
            <a:ext cx="3404880" cy="1054080"/>
            <a:chOff x="4957920" y="5264280"/>
            <a:chExt cx="3404880" cy="1054080"/>
          </a:xfrm>
        </p:grpSpPr>
        <p:sp>
          <p:nvSpPr>
            <p:cNvPr id="48" name=""/>
            <p:cNvSpPr/>
            <p:nvPr/>
          </p:nvSpPr>
          <p:spPr>
            <a:xfrm>
              <a:off x="5130720" y="5442120"/>
              <a:ext cx="306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Reference for Lecture 17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lements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 1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57920" y="5264280"/>
              <a:ext cx="3404880" cy="10540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80960" y="61560"/>
            <a:ext cx="82216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ath Ahead..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82760" y="1243080"/>
            <a:ext cx="819288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Having considered thermal equilibrium when volume and energy exchang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we’ll consider systems in which particles can be exchanged (or “created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imization of total free energy will allow us to understand a wide variety of different physical proce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examp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move from place to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combine into new types (</a:t>
            </a:r>
            <a:r>
              <a:rPr b="0" i="1" lang="en-US" sz="1800" spc="-1" strike="noStrike">
                <a:solidFill>
                  <a:srgbClr val="66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chemical reaction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is will lead to the concept of “chemical equilibrium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nd lots and lots of applications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Let’s start with a concrete examp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61640" y="2859120"/>
            <a:ext cx="8731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In a perfect crystal at low temperatures, the atoms are arranged on a lattice like the one shown at the left.  Consider M atoms on lattice sites, where M is a very large number, about 10</a:t>
            </a:r>
            <a:r>
              <a:rPr b="0" lang="en-US" sz="1900" spc="-1" strike="noStrike" baseline="30000">
                <a:solidFill>
                  <a:srgbClr val="66ffcc"/>
                </a:solidFill>
                <a:latin typeface="Arial"/>
              </a:rPr>
              <a:t>22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for a mm-sized crysta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As the crystal is heated up the atoms jiggle around, and some atoms will jump to “interstitial” sites, leaving a “vacancy” behind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There is an energy cos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to form each interstitial-vacancy pair (“I-V pair”) like the one shown above, i.e., there is an energy difference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between an I-V pair and a normally occupied si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By minimizing the Free energy of N ‘I-V pairs’, we will calculate the average number of defects that form at a temperature T.</a:t>
            </a:r>
            <a:r>
              <a:rPr b="1" lang="en-US" sz="1900" spc="-1" strike="noStrike">
                <a:solidFill>
                  <a:srgbClr val="66ffcc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82120" y="1398600"/>
            <a:ext cx="104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sti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6006960" y="1565280"/>
            <a:ext cx="914400" cy="21744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165280" y="2101320"/>
            <a:ext cx="1639800" cy="34956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289160" y="995400"/>
            <a:ext cx="4863960" cy="1595520"/>
            <a:chOff x="1289160" y="995400"/>
            <a:chExt cx="4863960" cy="1595520"/>
          </a:xfrm>
        </p:grpSpPr>
        <p:sp>
          <p:nvSpPr>
            <p:cNvPr id="199" name=""/>
            <p:cNvSpPr/>
            <p:nvPr/>
          </p:nvSpPr>
          <p:spPr>
            <a:xfrm>
              <a:off x="3089520" y="1739880"/>
              <a:ext cx="1292040" cy="304920"/>
            </a:xfrm>
            <a:prstGeom prst="rightArrow">
              <a:avLst>
                <a:gd name="adj1" fmla="val 50000"/>
                <a:gd name="adj2" fmla="val 105933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1289160" y="1017720"/>
              <a:ext cx="1668600" cy="1573200"/>
              <a:chOff x="1289160" y="1017720"/>
              <a:chExt cx="1668600" cy="157320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1289160" y="1458720"/>
                <a:ext cx="1663560" cy="1132200"/>
                <a:chOff x="1289160" y="1458720"/>
                <a:chExt cx="1663560" cy="113220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1289160" y="1506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29708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305000" y="23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760760" y="15001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76868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774800" y="235584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2246400" y="1479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732400" y="14587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225432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725920" y="1909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248200" y="2349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735280" y="23731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1297080" y="1065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768680" y="105876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254320" y="1038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740320" y="1017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4469040" y="995400"/>
              <a:ext cx="1684080" cy="1558800"/>
              <a:chOff x="4469040" y="995400"/>
              <a:chExt cx="1684080" cy="155880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4469040" y="995400"/>
                <a:ext cx="1684080" cy="1558800"/>
                <a:chOff x="4469040" y="995400"/>
                <a:chExt cx="1684080" cy="155880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4489560" y="1469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49748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505400" y="2327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4961160" y="14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81880" y="17175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975200" y="23191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446800" y="1442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932800" y="1422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45472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926320" y="1873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48600" y="2313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935680" y="2336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469040" y="1042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940280" y="103644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426280" y="1015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911920" y="9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6" name=""/>
              <p:cNvSpPr/>
              <p:nvPr/>
            </p:nvSpPr>
            <p:spPr>
              <a:xfrm>
                <a:off x="5078520" y="1710000"/>
                <a:ext cx="493560" cy="260280"/>
              </a:xfrm>
              <a:custGeom>
                <a:avLst/>
                <a:gdLst>
                  <a:gd name="textAreaLeft" fmla="*/ 0 w 493560"/>
                  <a:gd name="textAreaRight" fmla="*/ 493920 w 49356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1442520" y="1011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64840" y="2289240"/>
            <a:ext cx="9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can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7632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-minimum examp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2560" y="3357720"/>
            <a:ext cx="75358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 it costs energy to create an interstitial-vacancy pair, at low temperature the decrease in F due to entropy gain (increasing the number of available sites) will be smaller than the increase in F due to the energy cost.  Therefore, the free energy will be minimized by “staying at home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= U - 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1520" y="2505240"/>
            <a:ext cx="1134720" cy="49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527200" y="5160600"/>
            <a:ext cx="0" cy="41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13960" y="5611680"/>
            <a:ext cx="221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As T 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0, the TS term 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becomes unimport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87120" y="61560"/>
            <a:ext cx="7883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7600" y="1095120"/>
            <a:ext cx="8201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uppose we ha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vacancy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interstitial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(essentially one per atom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ant to know N, the number of interstitial-vacancy pairs at temperature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want to minimize F(N) as a function of N.  Call F(0)=0 for conveni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790720" y="2873520"/>
          <a:ext cx="294804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0720" y="2873520"/>
                    <a:ext cx="29480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 flipV="1">
            <a:off x="2389320" y="3762360"/>
            <a:ext cx="4680" cy="836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82720" y="4554360"/>
            <a:ext cx="163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 energy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each interstitial-vacancy pa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13200" y="3881520"/>
            <a:ext cx="2577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to calculate S(N)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25800" y="4484520"/>
            <a:ext cx="355608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ssume the crystal’s vibrational entropy is not much changed by making an interstitial. S is then due to the number of places each vacancy could be, and the number of places each interstitial could b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957240" y="3416400"/>
          <a:ext cx="164772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7240" y="3416400"/>
                    <a:ext cx="16477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1339920" y="878040"/>
            <a:ext cx="6816960" cy="2030040"/>
            <a:chOff x="1339920" y="878040"/>
            <a:chExt cx="6816960" cy="2030040"/>
          </a:xfrm>
        </p:grpSpPr>
        <p:sp>
          <p:nvSpPr>
            <p:cNvPr id="259" name=""/>
            <p:cNvSpPr/>
            <p:nvPr/>
          </p:nvSpPr>
          <p:spPr>
            <a:xfrm>
              <a:off x="7013160" y="164916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stiti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6135840" y="1839600"/>
              <a:ext cx="914400" cy="2174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flipV="1">
              <a:off x="5294160" y="2376000"/>
              <a:ext cx="1640160" cy="3488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1417680" y="1269720"/>
              <a:ext cx="4863960" cy="1594080"/>
              <a:chOff x="1417680" y="1269720"/>
              <a:chExt cx="4863960" cy="1594080"/>
            </a:xfrm>
          </p:grpSpPr>
          <p:sp>
            <p:nvSpPr>
              <p:cNvPr id="263" name=""/>
              <p:cNvSpPr/>
              <p:nvPr/>
            </p:nvSpPr>
            <p:spPr>
              <a:xfrm>
                <a:off x="3218040" y="2013840"/>
                <a:ext cx="1292040" cy="304560"/>
              </a:xfrm>
              <a:prstGeom prst="rightArrow">
                <a:avLst>
                  <a:gd name="adj1" fmla="val 50000"/>
                  <a:gd name="adj2" fmla="val 106058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4" name=""/>
              <p:cNvGrpSpPr/>
              <p:nvPr/>
            </p:nvGrpSpPr>
            <p:grpSpPr>
              <a:xfrm>
                <a:off x="1417680" y="1291680"/>
                <a:ext cx="1668600" cy="1572120"/>
                <a:chOff x="1417680" y="1291680"/>
                <a:chExt cx="1668600" cy="157212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1417680" y="1732320"/>
                  <a:ext cx="1663560" cy="1131480"/>
                  <a:chOff x="1417680" y="1732320"/>
                  <a:chExt cx="1663560" cy="113148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1417680" y="1779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142560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1433520" y="26370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1889280" y="177336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1897200" y="220032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1903320" y="2629080"/>
                    <a:ext cx="21780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2374920" y="1752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2860920" y="1732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238284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2854440" y="21830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2376720" y="26226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2863800" y="26463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8" name=""/>
                <p:cNvSpPr/>
                <p:nvPr/>
              </p:nvSpPr>
              <p:spPr>
                <a:xfrm>
                  <a:off x="1425600" y="1338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897200" y="133236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382840" y="1311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68840" y="129168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4597560" y="1269720"/>
                <a:ext cx="1684080" cy="1558800"/>
                <a:chOff x="4597560" y="1269720"/>
                <a:chExt cx="1684080" cy="155880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597560" y="1269720"/>
                  <a:ext cx="1684080" cy="1558800"/>
                  <a:chOff x="4597560" y="1269720"/>
                  <a:chExt cx="1684080" cy="155880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618080" y="1744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462600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633920" y="2601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5089680" y="1738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810400" y="19918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5103720" y="259344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5575320" y="1717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6061320" y="16966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558324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6054840" y="21474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5577120" y="2587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6064200" y="2611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4597560" y="1317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5068800" y="131076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5554800" y="1290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6040440" y="1269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0" name=""/>
                <p:cNvSpPr/>
                <p:nvPr/>
              </p:nvSpPr>
              <p:spPr>
                <a:xfrm>
                  <a:off x="5207040" y="1983960"/>
                  <a:ext cx="493560" cy="259920"/>
                </a:xfrm>
                <a:custGeom>
                  <a:avLst/>
                  <a:gdLst>
                    <a:gd name="textAreaLeft" fmla="*/ 0 w 493560"/>
                    <a:gd name="textAreaRight" fmla="*/ 493920 w 493560"/>
                    <a:gd name="textAreaTop" fmla="*/ 0 h 259920"/>
                    <a:gd name="textAreaBottom" fmla="*/ 260280 h 259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lnTo>
                        <a:pt x="0" y="12160"/>
                      </a:lnTo>
                      <a:arcTo wR="12427" hR="9260" stAng="10800000" swAng="5400000"/>
                      <a:lnTo>
                        <a:pt x="15100" y="2900"/>
                      </a:lnTo>
                      <a:lnTo>
                        <a:pt x="15100" y="0"/>
                      </a:lnTo>
                      <a:lnTo>
                        <a:pt x="21600" y="6079"/>
                      </a:lnTo>
                      <a:lnTo>
                        <a:pt x="15100" y="12158"/>
                      </a:lnTo>
                      <a:lnTo>
                        <a:pt x="15100" y="9258"/>
                      </a:lnTo>
                      <a:lnTo>
                        <a:pt x="12427" y="9258"/>
                      </a:lnTo>
                      <a:arcTo wR="6069" hR="2902" stAng="16200000" swAng="-5400000"/>
                      <a:lnTo>
                        <a:pt x="6358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1" name=""/>
            <p:cNvSpPr/>
            <p:nvPr/>
          </p:nvSpPr>
          <p:spPr>
            <a:xfrm>
              <a:off x="6995520" y="253980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ca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39920" y="878040"/>
              <a:ext cx="58752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cc"/>
                  </a:solidFill>
                  <a:latin typeface="Arial"/>
                </a:rPr>
                <a:t>Perfect lattice                     Lattice with a Defect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61800" y="14256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efects in Crystal Lattices (3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70000" y="3532320"/>
            <a:ext cx="865800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ways to put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 particles in M cells = 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 (single occupancy,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lute limit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there is no correlation between the position of a vacancy and the position of an interstitial.  Therefore, the total number of accessible state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(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994040" y="5587920"/>
          <a:ext cx="5287680" cy="4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4040" y="5587920"/>
                    <a:ext cx="5287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1947960" y="4641840"/>
          <a:ext cx="511956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7960" y="4641840"/>
                    <a:ext cx="5119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2174760" y="3057480"/>
          <a:ext cx="4422960" cy="4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74760" y="3057480"/>
                    <a:ext cx="442296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173160" y="4835520"/>
            <a:ext cx="1860480" cy="16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Fre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3519360" y="6202440"/>
          <a:ext cx="1209960" cy="65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19360" y="6202440"/>
                    <a:ext cx="1209960" cy="6555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749600" y="630072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n equilibriu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12400" y="254160"/>
            <a:ext cx="849636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call: Stirling’s Approxima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43120" y="2665440"/>
            <a:ext cx="4827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some numbe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ln N!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Symbol"/>
                <a:ea typeface="Symbol"/>
              </a:rPr>
              <a:t>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 ln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-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5.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3.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3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8.5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95.6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5.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?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6908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9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04960" y="1142640"/>
            <a:ext cx="707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will often be necessary to calculate d(ln N!)/dN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’ll use a well known approximation for N!, known a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tirling’s Approximatio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67160" y="2101680"/>
            <a:ext cx="209340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 N!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 lnN -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87520" y="6454800"/>
            <a:ext cx="61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</a:rPr>
              <a:t>This is not Robert Stirling (“Stirling engine”) but James Stirling, Scottish mathematicia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540560" y="5299200"/>
            <a:ext cx="121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erivative is only defined for large 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66840" y="5316480"/>
          <a:ext cx="70167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5316480"/>
                    <a:ext cx="7016760" cy="6177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473040" y="5095800"/>
            <a:ext cx="1028880" cy="1015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541920" y="5187960"/>
            <a:ext cx="819360" cy="865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11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Defects in Crystal Lattices (4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30200" y="727200"/>
            <a:ext cx="8075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By minimizing the Free energy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interstitial-vacancy pair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we determine the average number of defects that form at temperature T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82520" y="2319480"/>
            <a:ext cx="26211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Minimize F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Solve for the fraction N/M =  # defects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÷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lattice sit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2525760" y="2155680"/>
          <a:ext cx="54658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5760" y="2155680"/>
                    <a:ext cx="546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2135160" y="1514520"/>
          <a:ext cx="527220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5160" y="1514520"/>
                    <a:ext cx="52722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5497560" y="3056040"/>
          <a:ext cx="1363680" cy="67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7560" y="3056040"/>
                    <a:ext cx="1363680" cy="67932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5451480" y="4975200"/>
            <a:ext cx="356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otice the 2 in the Boltzmann factor.  It came from squaring the (M</a:t>
            </a:r>
            <a:r>
              <a:rPr b="0" lang="en-US" sz="14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/N!) number of positional states, because there are 2 movable objects, vacancy and interstitial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22360" y="1504800"/>
            <a:ext cx="13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from a previous slid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 flipV="1">
            <a:off x="6518160" y="4384440"/>
            <a:ext cx="82800" cy="5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3191040" y="3040200"/>
          <a:ext cx="168588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91040" y="3040200"/>
                    <a:ext cx="168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5499000" y="4030560"/>
          <a:ext cx="1403280" cy="723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99000" y="4030560"/>
                    <a:ext cx="1403280" cy="72396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6915240" y="425592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i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7437600" y="4010040"/>
          <a:ext cx="1706400" cy="941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37600" y="4010040"/>
                    <a:ext cx="17064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6926400" y="2916360"/>
            <a:ext cx="221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is looks like a Boltzmann factor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n exponential temperature dependenc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00280" y="4335480"/>
            <a:ext cx="430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we predicted before, as T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 the fraction of interstitial-vacancy pairs is exponentially suppres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239760" y="3137040"/>
          <a:ext cx="595152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3137040"/>
                    <a:ext cx="595152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"/>
          <p:cNvSpPr/>
          <p:nvPr/>
        </p:nvSpPr>
        <p:spPr>
          <a:xfrm>
            <a:off x="3467160" y="2744640"/>
            <a:ext cx="1247760" cy="387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415200" y="3249720"/>
            <a:ext cx="24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pretation: As we raise the temperature higher, the material is literally coming apar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920" y="61560"/>
            <a:ext cx="8866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verting Chemical Fuels into Wor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8080" y="1164960"/>
            <a:ext cx="8705880" cy="305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1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table of free energy for some fuels: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what you get when you burn the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blem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f you could convert the free energy of gas perfectly into work, how many miles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r gallon would your car achieve?  (Wow, can we really do this problem?  Sure: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lution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need to know how much work it takes to drive the car 1 mile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bviously that depends on a number of factors: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peed, tire friction, wind , etc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ctually a simple experiment can give us the answ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termine the decelerating force!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Work = force x distan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292400" y="1644840"/>
            <a:ext cx="2771640" cy="1110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ue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ree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M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18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24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Gasoline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35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473200" y="317988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17988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" name="Group 7"/>
          <p:cNvGrpSpPr/>
          <p:nvPr/>
        </p:nvGrpSpPr>
        <p:grpSpPr>
          <a:xfrm>
            <a:off x="2452680" y="6098400"/>
            <a:ext cx="3011400" cy="368280"/>
            <a:chOff x="2452680" y="6098400"/>
            <a:chExt cx="3011400" cy="368280"/>
          </a:xfrm>
        </p:grpSpPr>
        <p:sp>
          <p:nvSpPr>
            <p:cNvPr id="56" name="Line 8"/>
            <p:cNvSpPr/>
            <p:nvPr/>
          </p:nvSpPr>
          <p:spPr>
            <a:xfrm flipH="1">
              <a:off x="3681360" y="6301080"/>
              <a:ext cx="709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" name="Group 9"/>
            <p:cNvGrpSpPr/>
            <p:nvPr/>
          </p:nvGrpSpPr>
          <p:grpSpPr>
            <a:xfrm>
              <a:off x="2452680" y="6098400"/>
              <a:ext cx="3011400" cy="368280"/>
              <a:chOff x="2452680" y="6098400"/>
              <a:chExt cx="3011400" cy="368280"/>
            </a:xfrm>
          </p:grpSpPr>
          <p:graphicFrame>
            <p:nvGraphicFramePr>
              <p:cNvPr id="58" name=""/>
              <p:cNvGraphicFramePr/>
              <p:nvPr/>
            </p:nvGraphicFramePr>
            <p:xfrm>
              <a:off x="2452680" y="6118200"/>
              <a:ext cx="1143000" cy="3096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452680" y="6118200"/>
                        <a:ext cx="1143000" cy="309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0" name="Text Box 11"/>
              <p:cNvSpPr/>
              <p:nvPr/>
            </p:nvSpPr>
            <p:spPr>
              <a:xfrm>
                <a:off x="4128120" y="6098400"/>
                <a:ext cx="133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Forc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"/>
          <p:cNvSpPr/>
          <p:nvPr/>
        </p:nvSpPr>
        <p:spPr>
          <a:xfrm>
            <a:off x="4923000" y="1616040"/>
            <a:ext cx="372564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http://en.wikipedia.org/wiki/Alcohol_fuel#Methanol_and_ethan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Ethanol has less free energy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er liter than gasoline does.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 You’ll get worse mileag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39760" y="3137040"/>
          <a:ext cx="595152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3137040"/>
                    <a:ext cx="595152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>
            <a:off x="3467160" y="2744640"/>
            <a:ext cx="1247760" cy="387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415200" y="3249720"/>
            <a:ext cx="24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pretation: As we raise the temperature higher, the material is literally coming apar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470400" y="5372280"/>
            <a:ext cx="2117520" cy="387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79440" y="5811840"/>
            <a:ext cx="844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2 in the Boltzman factor came from the fact that the vacancy sites and interstitial locations were independent. If instead their locations are correlated, the allowable temperature will essentially dou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47360" y="84240"/>
            <a:ext cx="76136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Related Example: Solid “Solutions”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730080" y="2303640"/>
            <a:ext cx="8118720" cy="35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equilibrium, some A atoms are in the B crystal and vice ver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um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are M “A” sites, N of which are occupied by “B” atoms.  N &lt;&lt; 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only entropy is due to site counting (ignore vibrations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tc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energy increase when a “B” goes to an “A” site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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l the chemical potential of the B atoms in their own crystal 0, by choosing a convenient zero for energy. Then, in equilibrium, the chemical potential of the B’s in A must also be zer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1174680" y="5003640"/>
          <a:ext cx="684540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5003640"/>
                    <a:ext cx="68454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"/>
          <p:cNvSpPr/>
          <p:nvPr/>
        </p:nvSpPr>
        <p:spPr>
          <a:xfrm>
            <a:off x="495720" y="1371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100840" y="147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04840" y="1384200"/>
            <a:ext cx="24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ortant for real devices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 silicon-gold, tin-le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3691080" y="5989680"/>
          <a:ext cx="153036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1080" y="5989680"/>
                    <a:ext cx="15303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7" name=""/>
          <p:cNvGrpSpPr/>
          <p:nvPr/>
        </p:nvGrpSpPr>
        <p:grpSpPr>
          <a:xfrm>
            <a:off x="835200" y="1042920"/>
            <a:ext cx="4329000" cy="1152360"/>
            <a:chOff x="835200" y="1042920"/>
            <a:chExt cx="4329000" cy="1152360"/>
          </a:xfrm>
        </p:grpSpPr>
        <p:grpSp>
          <p:nvGrpSpPr>
            <p:cNvPr id="378" name=""/>
            <p:cNvGrpSpPr/>
            <p:nvPr/>
          </p:nvGrpSpPr>
          <p:grpSpPr>
            <a:xfrm>
              <a:off x="835200" y="1042920"/>
              <a:ext cx="4329000" cy="1152360"/>
              <a:chOff x="835200" y="1042920"/>
              <a:chExt cx="4329000" cy="1152360"/>
            </a:xfrm>
          </p:grpSpPr>
          <p:grpSp>
            <p:nvGrpSpPr>
              <p:cNvPr id="379" name=""/>
              <p:cNvGrpSpPr/>
              <p:nvPr/>
            </p:nvGrpSpPr>
            <p:grpSpPr>
              <a:xfrm>
                <a:off x="835200" y="1042920"/>
                <a:ext cx="2122200" cy="267840"/>
                <a:chOff x="835200" y="1042920"/>
                <a:chExt cx="2122200" cy="26784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835200" y="1042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073160" y="10490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311120" y="10555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549440" y="10616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787400" y="10681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025720" y="10746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263680" y="10807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502000" y="10872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739960" y="1093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9" name=""/>
              <p:cNvSpPr/>
              <p:nvPr/>
            </p:nvSpPr>
            <p:spPr>
              <a:xfrm>
                <a:off x="843120" y="13255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081440" y="13316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319400" y="13381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557720" y="134460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795680" y="1350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033640" y="1357200"/>
                <a:ext cx="217800" cy="21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71960" y="13636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509920" y="1369800"/>
                <a:ext cx="21780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748240" y="13762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8" name=""/>
              <p:cNvGrpSpPr/>
              <p:nvPr/>
            </p:nvGrpSpPr>
            <p:grpSpPr>
              <a:xfrm>
                <a:off x="878040" y="1608120"/>
                <a:ext cx="2122200" cy="267840"/>
                <a:chOff x="878040" y="1608120"/>
                <a:chExt cx="2122200" cy="26784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878040" y="16081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1116000" y="16142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1353960" y="16207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1592280" y="1626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1830240" y="16333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068560" y="16398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306520" y="1645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544840" y="16524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782800" y="16585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914760" y="1876320"/>
                <a:ext cx="2122200" cy="268200"/>
                <a:chOff x="914760" y="1876320"/>
                <a:chExt cx="2122200" cy="26820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914760" y="1876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1152720" y="1882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1629000" y="18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1866960" y="19015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105280" y="1908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343240" y="191448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581560" y="1920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81952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2962440" y="1093680"/>
                <a:ext cx="2201760" cy="1101600"/>
                <a:chOff x="2962440" y="1093680"/>
                <a:chExt cx="2201760" cy="1101600"/>
              </a:xfrm>
            </p:grpSpPr>
            <p:grpSp>
              <p:nvGrpSpPr>
                <p:cNvPr id="418" name=""/>
                <p:cNvGrpSpPr/>
                <p:nvPr/>
              </p:nvGrpSpPr>
              <p:grpSpPr>
                <a:xfrm>
                  <a:off x="2962440" y="1093680"/>
                  <a:ext cx="2122560" cy="268200"/>
                  <a:chOff x="2962440" y="1093680"/>
                  <a:chExt cx="2122560" cy="26820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>
                    <a:off x="2962440" y="1093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3200760" y="1100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3438720" y="110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3677040" y="1112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3915000" y="11188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4152960" y="11253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4391280" y="1131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4629240" y="1137960"/>
                    <a:ext cx="21780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4867560" y="114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2970360" y="1376280"/>
                  <a:ext cx="2122560" cy="268200"/>
                  <a:chOff x="2970360" y="1376280"/>
                  <a:chExt cx="2122560" cy="26820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>
                    <a:off x="2970360" y="137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3208680" y="13824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3446640" y="138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3684960" y="13953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3922920" y="14014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4161240" y="140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4399200" y="141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4637160" y="14205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4875480" y="142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8" name=""/>
                <p:cNvGrpSpPr/>
                <p:nvPr/>
              </p:nvGrpSpPr>
              <p:grpSpPr>
                <a:xfrm>
                  <a:off x="3005280" y="1658880"/>
                  <a:ext cx="2122560" cy="268200"/>
                  <a:chOff x="3005280" y="1658880"/>
                  <a:chExt cx="2122560" cy="26820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>
                    <a:off x="3005280" y="165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3243600" y="16650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3481560" y="16714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3719880" y="167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3957840" y="1684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4196160" y="1690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4434120" y="169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4672080" y="17031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4910400" y="17096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8" name=""/>
                <p:cNvGrpSpPr/>
                <p:nvPr/>
              </p:nvGrpSpPr>
              <p:grpSpPr>
                <a:xfrm>
                  <a:off x="3042000" y="1927080"/>
                  <a:ext cx="2122200" cy="268200"/>
                  <a:chOff x="3042000" y="1927080"/>
                  <a:chExt cx="2122200" cy="268200"/>
                </a:xfrm>
              </p:grpSpPr>
              <p:sp>
                <p:nvSpPr>
                  <p:cNvPr id="449" name=""/>
                  <p:cNvSpPr/>
                  <p:nvPr/>
                </p:nvSpPr>
                <p:spPr>
                  <a:xfrm>
                    <a:off x="3042000" y="1927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3279960" y="1933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3518280" y="1939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3756240" y="1946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3994200" y="19526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4232520" y="1958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4470480" y="19652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4708800" y="197136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4946760" y="1977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58" name=""/>
            <p:cNvSpPr/>
            <p:nvPr/>
          </p:nvSpPr>
          <p:spPr>
            <a:xfrm>
              <a:off x="1397160" y="1911240"/>
              <a:ext cx="217440" cy="21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 flipV="1">
            <a:off x="3656880" y="4888800"/>
            <a:ext cx="1695960" cy="97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3" y="5657"/>
                </a:moveTo>
                <a:arcTo wR="10800" hR="10800" stAng="-9093663" swAng="7311620"/>
                <a:lnTo>
                  <a:pt x="10800" y="10800"/>
                </a:lnTo>
                <a:close/>
              </a:path>
              <a:path fill="none" w="21600" h="21600">
                <a:moveTo>
                  <a:pt x="1303" y="5657"/>
                </a:moveTo>
                <a:arcTo wR="10800" hR="10800" stAng="-9093663" swAng="7311620"/>
              </a:path>
            </a:pathLst>
          </a:custGeom>
          <a:noFill/>
          <a:ln w="3240">
            <a:solidFill>
              <a:srgbClr val="ffffff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2529000" y="2021040"/>
            <a:ext cx="453528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of free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w of atmospheres, revisi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414360" y="797040"/>
            <a:ext cx="7610400" cy="56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Equilibrium corresponds to maximum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=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reservoir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+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small system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aw that minimizing F is equivalent to maximizing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but with the advantage that we don’t have to deal explicitly with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reservoir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now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wo small systems in equilibrium with a reservoir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(not shown) at temperature T.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equilibrium at temperature           T is given by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minimizing total fre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F = 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e derivative of free energy with respect to particle number i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o important that we define a special name and symbol for i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15552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7201800" y="4183920"/>
            <a:ext cx="1962360" cy="983160"/>
            <a:chOff x="7201800" y="4183920"/>
            <a:chExt cx="1962360" cy="983160"/>
          </a:xfrm>
        </p:grpSpPr>
        <p:grpSp>
          <p:nvGrpSpPr>
            <p:cNvPr id="467" name=""/>
            <p:cNvGrpSpPr/>
            <p:nvPr/>
          </p:nvGrpSpPr>
          <p:grpSpPr>
            <a:xfrm>
              <a:off x="8430840" y="4438440"/>
              <a:ext cx="733320" cy="263160"/>
              <a:chOff x="8430840" y="4438440"/>
              <a:chExt cx="733320" cy="263160"/>
            </a:xfrm>
          </p:grpSpPr>
          <p:sp>
            <p:nvSpPr>
              <p:cNvPr id="468" name=""/>
              <p:cNvSpPr/>
              <p:nvPr/>
            </p:nvSpPr>
            <p:spPr>
              <a:xfrm>
                <a:off x="8539920" y="457956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430840" y="443844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7765920" y="4579920"/>
              <a:ext cx="675000" cy="447480"/>
            </a:xfrm>
            <a:custGeom>
              <a:avLst/>
              <a:gdLst/>
              <a:ahLst/>
              <a:rect l="l" t="t" r="r" b="b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201800" y="418392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7486560" y="433692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496280" y="4527360"/>
              <a:ext cx="118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7303320" y="2903400"/>
            <a:ext cx="1702440" cy="843840"/>
            <a:chOff x="7303320" y="2903400"/>
            <a:chExt cx="1702440" cy="843840"/>
          </a:xfrm>
        </p:grpSpPr>
        <p:grpSp>
          <p:nvGrpSpPr>
            <p:cNvPr id="475" name=""/>
            <p:cNvGrpSpPr/>
            <p:nvPr/>
          </p:nvGrpSpPr>
          <p:grpSpPr>
            <a:xfrm>
              <a:off x="7303320" y="2903400"/>
              <a:ext cx="1702440" cy="843840"/>
              <a:chOff x="7303320" y="2903400"/>
              <a:chExt cx="1702440" cy="843840"/>
            </a:xfrm>
          </p:grpSpPr>
          <p:grpSp>
            <p:nvGrpSpPr>
              <p:cNvPr id="476" name=""/>
              <p:cNvGrpSpPr/>
              <p:nvPr/>
            </p:nvGrpSpPr>
            <p:grpSpPr>
              <a:xfrm>
                <a:off x="7303320" y="3549240"/>
                <a:ext cx="740160" cy="188280"/>
                <a:chOff x="7303320" y="3549240"/>
                <a:chExt cx="740160" cy="18828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7303320" y="354924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414560" y="361548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8267040" y="3558600"/>
                <a:ext cx="738720" cy="188640"/>
                <a:chOff x="8267040" y="3558600"/>
                <a:chExt cx="738720" cy="18864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8267040" y="35586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8376840" y="362520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7327800" y="2903400"/>
                <a:ext cx="1523520" cy="570960"/>
                <a:chOff x="7327800" y="2903400"/>
                <a:chExt cx="1523520" cy="570960"/>
              </a:xfrm>
            </p:grpSpPr>
            <p:grpSp>
              <p:nvGrpSpPr>
                <p:cNvPr id="483" name=""/>
                <p:cNvGrpSpPr/>
                <p:nvPr/>
              </p:nvGrpSpPr>
              <p:grpSpPr>
                <a:xfrm>
                  <a:off x="7327800" y="2903400"/>
                  <a:ext cx="1523520" cy="570960"/>
                  <a:chOff x="7327800" y="2903400"/>
                  <a:chExt cx="1523520" cy="570960"/>
                </a:xfrm>
              </p:grpSpPr>
              <p:sp>
                <p:nvSpPr>
                  <p:cNvPr id="484" name=""/>
                  <p:cNvSpPr/>
                  <p:nvPr/>
                </p:nvSpPr>
                <p:spPr>
                  <a:xfrm>
                    <a:off x="7327800" y="290340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7327800" y="290340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86" name=""/>
                  <p:cNvGrpSpPr/>
                  <p:nvPr/>
                </p:nvGrpSpPr>
                <p:grpSpPr>
                  <a:xfrm>
                    <a:off x="8051400" y="2903400"/>
                    <a:ext cx="1440" cy="570600"/>
                    <a:chOff x="8051400" y="2903400"/>
                    <a:chExt cx="1440" cy="570600"/>
                  </a:xfrm>
                </p:grpSpPr>
                <p:sp>
                  <p:nvSpPr>
                    <p:cNvPr id="487" name=""/>
                    <p:cNvSpPr/>
                    <p:nvPr/>
                  </p:nvSpPr>
                  <p:spPr>
                    <a:xfrm>
                      <a:off x="8051400" y="290340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8" name=""/>
                    <p:cNvSpPr/>
                    <p:nvPr/>
                  </p:nvSpPr>
                  <p:spPr>
                    <a:xfrm>
                      <a:off x="8051400" y="324576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89" name=""/>
                  <p:cNvSpPr/>
                  <p:nvPr/>
                </p:nvSpPr>
                <p:spPr>
                  <a:xfrm>
                    <a:off x="7340400" y="346176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8051400" y="314460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8051400" y="32457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92" name=""/>
                  <p:cNvGrpSpPr/>
                  <p:nvPr/>
                </p:nvGrpSpPr>
                <p:grpSpPr>
                  <a:xfrm>
                    <a:off x="8470440" y="2903400"/>
                    <a:ext cx="1440" cy="570600"/>
                    <a:chOff x="8470440" y="2903400"/>
                    <a:chExt cx="1440" cy="570600"/>
                  </a:xfrm>
                </p:grpSpPr>
                <p:sp>
                  <p:nvSpPr>
                    <p:cNvPr id="493" name=""/>
                    <p:cNvSpPr/>
                    <p:nvPr/>
                  </p:nvSpPr>
                  <p:spPr>
                    <a:xfrm>
                      <a:off x="8470440" y="290340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4" name=""/>
                    <p:cNvSpPr/>
                    <p:nvPr/>
                  </p:nvSpPr>
                  <p:spPr>
                    <a:xfrm>
                      <a:off x="8470440" y="324576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95" name=""/>
                  <p:cNvSpPr/>
                  <p:nvPr/>
                </p:nvSpPr>
                <p:spPr>
                  <a:xfrm>
                    <a:off x="8470440" y="290340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8484840" y="346176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8838720" y="290340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8" name=""/>
                <p:cNvSpPr/>
                <p:nvPr/>
              </p:nvSpPr>
              <p:spPr>
                <a:xfrm>
                  <a:off x="7543440" y="316980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695720" y="332208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353000" y="329652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7708680" y="303012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7518240" y="296676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7860960" y="323316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8675280" y="300492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8546760" y="314460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8686440" y="33346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7" name=""/>
            <p:cNvSpPr/>
            <p:nvPr/>
          </p:nvSpPr>
          <p:spPr>
            <a:xfrm flipV="1">
              <a:off x="8129520" y="304452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604800" y="5499000"/>
            <a:ext cx="5294520" cy="633240"/>
            <a:chOff x="604800" y="5499000"/>
            <a:chExt cx="5294520" cy="633240"/>
          </a:xfrm>
        </p:grpSpPr>
        <p:grpSp>
          <p:nvGrpSpPr>
            <p:cNvPr id="509" name=""/>
            <p:cNvGrpSpPr/>
            <p:nvPr/>
          </p:nvGrpSpPr>
          <p:grpSpPr>
            <a:xfrm>
              <a:off x="695520" y="5520960"/>
              <a:ext cx="5203800" cy="600120"/>
              <a:chOff x="695520" y="5520960"/>
              <a:chExt cx="5203800" cy="600120"/>
            </a:xfrm>
          </p:grpSpPr>
          <p:sp>
            <p:nvSpPr>
              <p:cNvPr id="510" name=""/>
              <p:cNvSpPr/>
              <p:nvPr/>
            </p:nvSpPr>
            <p:spPr>
              <a:xfrm>
                <a:off x="1369080" y="5700600"/>
                <a:ext cx="4530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The chemical potential of subsystem “i”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511" name=""/>
              <p:cNvGraphicFramePr/>
              <p:nvPr/>
            </p:nvGraphicFramePr>
            <p:xfrm>
              <a:off x="695520" y="5520960"/>
              <a:ext cx="833400" cy="6001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51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95520" y="5520960"/>
                        <a:ext cx="833400" cy="600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513" name=""/>
            <p:cNvSpPr/>
            <p:nvPr/>
          </p:nvSpPr>
          <p:spPr>
            <a:xfrm>
              <a:off x="604800" y="5499000"/>
              <a:ext cx="5046840" cy="6332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0" y="4245120"/>
            <a:ext cx="80312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43720" indent="-24372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43720" indent="-24372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43720" indent="-243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1515960" y="4068720"/>
          <a:ext cx="2773440" cy="76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15960" y="4068720"/>
                    <a:ext cx="2773440" cy="76824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17" name=""/>
          <p:cNvGraphicFramePr/>
          <p:nvPr/>
        </p:nvGraphicFramePr>
        <p:xfrm>
          <a:off x="3570120" y="6253200"/>
          <a:ext cx="2592720" cy="3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70120" y="6253200"/>
                    <a:ext cx="2592720" cy="39528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9" name=""/>
          <p:cNvSpPr/>
          <p:nvPr/>
        </p:nvSpPr>
        <p:spPr>
          <a:xfrm>
            <a:off x="912960" y="6245280"/>
            <a:ext cx="25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condi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71520" y="1468440"/>
            <a:ext cx="8283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tunately for us, Professor Kwiat did the experi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find that when I depress the clutch at 65 mph, my car slows to 55 mph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10 seconds.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5 m/s)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ce of wind and friction = m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V/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 = (2000 kg)(5 m/s)/(10 sec) = 1000 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ork to drive 1 mile =  (1000 N)(1600 m) = 1.6 MJ (megajoul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free energy of gas were converted perfectly into work, he would ne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.6 MJ / (33 MJ / liter) = 0.048 liters = 0.011 gallons of fue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refore,</a:t>
            </a: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his car were powered by a perfect Carnot engine,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 could expect  ~90 miles per gall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ypical gasoline engine achieves about half of the ideal Carnot efficiency </a:t>
            </a:r>
            <a:br>
              <a:rPr sz="10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is is not a bad estimate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en.wikipedia.org/wiki/Internal_combustion_engine#Energy_efficienc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This calculation is pretty crude.  The purpose is to demonstrate that                     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ee Energy applies to physics, chemistry and engineering.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54000" y="22212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22212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7102440" y="307800"/>
          <a:ext cx="1143000" cy="3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02440" y="30780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7"/>
          <p:cNvSpPr/>
          <p:nvPr/>
        </p:nvSpPr>
        <p:spPr>
          <a:xfrm>
            <a:off x="3232800" y="2161080"/>
            <a:ext cx="2137680" cy="3070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1 mph = 0.45 m/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42920" y="61920"/>
            <a:ext cx="886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as Milea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3080" y="0"/>
            <a:ext cx="6248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Previously…Maximize entropy to find equilibrium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357120" y="2603520"/>
            <a:ext cx="830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" name="Group 4"/>
          <p:cNvGrpSpPr/>
          <p:nvPr/>
        </p:nvGrpSpPr>
        <p:grpSpPr>
          <a:xfrm>
            <a:off x="3079800" y="1047600"/>
            <a:ext cx="2987640" cy="1130400"/>
            <a:chOff x="3079800" y="1047600"/>
            <a:chExt cx="2987640" cy="1130400"/>
          </a:xfrm>
        </p:grpSpPr>
        <p:sp>
          <p:nvSpPr>
            <p:cNvPr id="72" name="Rectangle 5"/>
            <p:cNvSpPr/>
            <p:nvPr/>
          </p:nvSpPr>
          <p:spPr>
            <a:xfrm>
              <a:off x="3079800" y="1047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Rectangle 6"/>
            <p:cNvSpPr/>
            <p:nvPr/>
          </p:nvSpPr>
          <p:spPr>
            <a:xfrm>
              <a:off x="4910040" y="1052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Line 7"/>
            <p:cNvSpPr/>
            <p:nvPr/>
          </p:nvSpPr>
          <p:spPr>
            <a:xfrm>
              <a:off x="4187880" y="1601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Text Box 8"/>
            <p:cNvSpPr/>
            <p:nvPr/>
          </p:nvSpPr>
          <p:spPr>
            <a:xfrm>
              <a:off x="316368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Text Box 9"/>
            <p:cNvSpPr/>
            <p:nvPr/>
          </p:nvSpPr>
          <p:spPr>
            <a:xfrm>
              <a:off x="498420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" name="Line 10"/>
          <p:cNvSpPr/>
          <p:nvPr/>
        </p:nvSpPr>
        <p:spPr>
          <a:xfrm flipV="1">
            <a:off x="4548240" y="1663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3384720" y="2690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 or energ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Object 12"/>
          <p:cNvGraphicFramePr/>
          <p:nvPr/>
        </p:nvGraphicFramePr>
        <p:xfrm>
          <a:off x="1847880" y="3470400"/>
          <a:ext cx="6232320" cy="72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7880" y="3470400"/>
                    <a:ext cx="62323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12"/>
          <p:cNvGraphicFramePr/>
          <p:nvPr/>
        </p:nvGraphicFramePr>
        <p:xfrm>
          <a:off x="1909800" y="4473720"/>
          <a:ext cx="5091120" cy="72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9800" y="4473720"/>
                    <a:ext cx="50911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Text Box 3"/>
          <p:cNvSpPr/>
          <p:nvPr/>
        </p:nvSpPr>
        <p:spPr>
          <a:xfrm>
            <a:off x="420840" y="5638680"/>
            <a:ext cx="83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Now: Allow particle numbers to change, e.g., swap between systems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19040" y="888840"/>
            <a:ext cx="50040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Let each particle in system 1 (2) have energy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, and le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In equilibrium, where will the particles g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2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 to eac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, i.e.,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depends o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5759280" y="1085760"/>
            <a:ext cx="2987640" cy="1130400"/>
            <a:chOff x="5759280" y="1085760"/>
            <a:chExt cx="2987640" cy="1130400"/>
          </a:xfrm>
        </p:grpSpPr>
        <p:sp>
          <p:nvSpPr>
            <p:cNvPr id="87" name="Rectangle 5"/>
            <p:cNvSpPr/>
            <p:nvPr/>
          </p:nvSpPr>
          <p:spPr>
            <a:xfrm>
              <a:off x="5759280" y="108576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Rectangle 6"/>
            <p:cNvSpPr/>
            <p:nvPr/>
          </p:nvSpPr>
          <p:spPr>
            <a:xfrm>
              <a:off x="7589520" y="109044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Line 7"/>
            <p:cNvSpPr/>
            <p:nvPr/>
          </p:nvSpPr>
          <p:spPr>
            <a:xfrm>
              <a:off x="6867360" y="163980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Text Box 8"/>
            <p:cNvSpPr/>
            <p:nvPr/>
          </p:nvSpPr>
          <p:spPr>
            <a:xfrm>
              <a:off x="584316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Text Box 9"/>
            <p:cNvSpPr/>
            <p:nvPr/>
          </p:nvSpPr>
          <p:spPr>
            <a:xfrm>
              <a:off x="766368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19040" y="888840"/>
            <a:ext cx="50040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Let each particle in system 1 (2) have energy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, and le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In equilibrium, where will the particles g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2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 to eac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, i.e.,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depends o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94" name="Group 4"/>
          <p:cNvGrpSpPr/>
          <p:nvPr/>
        </p:nvGrpSpPr>
        <p:grpSpPr>
          <a:xfrm>
            <a:off x="5759280" y="1085760"/>
            <a:ext cx="2987640" cy="1130400"/>
            <a:chOff x="5759280" y="1085760"/>
            <a:chExt cx="2987640" cy="1130400"/>
          </a:xfrm>
        </p:grpSpPr>
        <p:sp>
          <p:nvSpPr>
            <p:cNvPr id="95" name="Rectangle 5"/>
            <p:cNvSpPr/>
            <p:nvPr/>
          </p:nvSpPr>
          <p:spPr>
            <a:xfrm>
              <a:off x="5759280" y="108576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6"/>
            <p:cNvSpPr/>
            <p:nvPr/>
          </p:nvSpPr>
          <p:spPr>
            <a:xfrm>
              <a:off x="7589520" y="109044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Line 7"/>
            <p:cNvSpPr/>
            <p:nvPr/>
          </p:nvSpPr>
          <p:spPr>
            <a:xfrm>
              <a:off x="6867360" y="163980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Text Box 8"/>
            <p:cNvSpPr/>
            <p:nvPr/>
          </p:nvSpPr>
          <p:spPr>
            <a:xfrm>
              <a:off x="584316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Text Box 9"/>
            <p:cNvSpPr/>
            <p:nvPr/>
          </p:nvSpPr>
          <p:spPr>
            <a:xfrm>
              <a:off x="766368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504720" y="4611600"/>
            <a:ext cx="8018640" cy="22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call: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= U –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very small, the energy term dominates, and F is minimized by having all particles in the system with the lowest energy, e.g., system 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very big, the entropy term dominates, and F is minimized by allowing the particles to be in both systems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ore microstate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about for intermediate values of T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3680" y="4076640"/>
            <a:ext cx="3319200" cy="493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281160" y="695160"/>
            <a:ext cx="830880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Equilibrium corresponds to maximum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+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small system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When we calculate </a:t>
            </a:r>
            <a:r>
              <a:rPr b="0" lang="en-US" sz="16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, we only need to know the temperature of the reservoir.  In minimizing F (equivalent to maximizing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) we don’t have to deal explicitly with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 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Consider exchange of material (particles) between two containers.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se are two small systems in equilibrium with a reservoir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(not shown) at temperature T.  In equilibrium, dF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/dN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0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 derivative of free energy with respect to particle number is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o important that we define a special name and symbol for it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For two subsystems exchanging particles, the equilibrium condition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102240" y="6444720"/>
            <a:ext cx="8326800" cy="337320"/>
            <a:chOff x="102240" y="6444720"/>
            <a:chExt cx="8326800" cy="337320"/>
          </a:xfrm>
        </p:grpSpPr>
        <p:sp>
          <p:nvSpPr>
            <p:cNvPr id="107" name="Text Box 7"/>
            <p:cNvSpPr/>
            <p:nvPr/>
          </p:nvSpPr>
          <p:spPr>
            <a:xfrm>
              <a:off x="102240" y="6444720"/>
              <a:ext cx="832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  <a:ea typeface="MS PGothic"/>
                </a:rPr>
                <a:t>Maximum Total Entropy           Minimum Free Energy         Equal chemical potential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Line 8"/>
            <p:cNvSpPr/>
            <p:nvPr/>
          </p:nvSpPr>
          <p:spPr>
            <a:xfrm>
              <a:off x="2727360" y="662292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Line 9"/>
            <p:cNvSpPr/>
            <p:nvPr/>
          </p:nvSpPr>
          <p:spPr>
            <a:xfrm>
              <a:off x="5375520" y="663264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10" name="Object 10"/>
          <p:cNvGraphicFramePr/>
          <p:nvPr/>
        </p:nvGraphicFramePr>
        <p:xfrm>
          <a:off x="461880" y="3624120"/>
          <a:ext cx="347976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3624120"/>
                    <a:ext cx="347976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2" name="Group 11"/>
          <p:cNvGrpSpPr/>
          <p:nvPr/>
        </p:nvGrpSpPr>
        <p:grpSpPr>
          <a:xfrm>
            <a:off x="6757200" y="3815640"/>
            <a:ext cx="1961640" cy="983160"/>
            <a:chOff x="6757200" y="3815640"/>
            <a:chExt cx="1961640" cy="983160"/>
          </a:xfrm>
        </p:grpSpPr>
        <p:grpSp>
          <p:nvGrpSpPr>
            <p:cNvPr id="113" name="Group 12"/>
            <p:cNvGrpSpPr/>
            <p:nvPr/>
          </p:nvGrpSpPr>
          <p:grpSpPr>
            <a:xfrm>
              <a:off x="7985880" y="4070160"/>
              <a:ext cx="732960" cy="263160"/>
              <a:chOff x="7985880" y="4070160"/>
              <a:chExt cx="732960" cy="263160"/>
            </a:xfrm>
          </p:grpSpPr>
          <p:sp>
            <p:nvSpPr>
              <p:cNvPr id="114" name="Rectangle 13"/>
              <p:cNvSpPr/>
              <p:nvPr/>
            </p:nvSpPr>
            <p:spPr>
              <a:xfrm>
                <a:off x="8094600" y="421128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  <a:ea typeface="MS PGothic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14"/>
              <p:cNvSpPr/>
              <p:nvPr/>
            </p:nvSpPr>
            <p:spPr>
              <a:xfrm>
                <a:off x="7985880" y="407016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6" name="Freeform 15"/>
            <p:cNvSpPr/>
            <p:nvPr/>
          </p:nvSpPr>
          <p:spPr>
            <a:xfrm>
              <a:off x="7321320" y="4211640"/>
              <a:ext cx="674640" cy="44748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Text Box 16"/>
            <p:cNvSpPr/>
            <p:nvPr/>
          </p:nvSpPr>
          <p:spPr>
            <a:xfrm>
              <a:off x="6757200" y="381564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Line 17"/>
            <p:cNvSpPr/>
            <p:nvPr/>
          </p:nvSpPr>
          <p:spPr>
            <a:xfrm flipV="1">
              <a:off x="7041960" y="396864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Line 18"/>
            <p:cNvSpPr/>
            <p:nvPr/>
          </p:nvSpPr>
          <p:spPr>
            <a:xfrm>
              <a:off x="7051680" y="4159080"/>
              <a:ext cx="118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" name="Group 19"/>
          <p:cNvGrpSpPr/>
          <p:nvPr/>
        </p:nvGrpSpPr>
        <p:grpSpPr>
          <a:xfrm>
            <a:off x="6820920" y="2700360"/>
            <a:ext cx="1702440" cy="843840"/>
            <a:chOff x="6820920" y="2700360"/>
            <a:chExt cx="1702440" cy="843840"/>
          </a:xfrm>
        </p:grpSpPr>
        <p:grpSp>
          <p:nvGrpSpPr>
            <p:cNvPr id="121" name="Group 20"/>
            <p:cNvGrpSpPr/>
            <p:nvPr/>
          </p:nvGrpSpPr>
          <p:grpSpPr>
            <a:xfrm>
              <a:off x="6820920" y="2700360"/>
              <a:ext cx="1702440" cy="843840"/>
              <a:chOff x="6820920" y="2700360"/>
              <a:chExt cx="1702440" cy="843840"/>
            </a:xfrm>
          </p:grpSpPr>
          <p:grpSp>
            <p:nvGrpSpPr>
              <p:cNvPr id="122" name="Group 21"/>
              <p:cNvGrpSpPr/>
              <p:nvPr/>
            </p:nvGrpSpPr>
            <p:grpSpPr>
              <a:xfrm>
                <a:off x="6820920" y="3346200"/>
                <a:ext cx="740160" cy="188280"/>
                <a:chOff x="6820920" y="3346200"/>
                <a:chExt cx="740160" cy="188280"/>
              </a:xfrm>
            </p:grpSpPr>
            <p:sp>
              <p:nvSpPr>
                <p:cNvPr id="123" name="Rectangle 22"/>
                <p:cNvSpPr/>
                <p:nvPr/>
              </p:nvSpPr>
              <p:spPr>
                <a:xfrm>
                  <a:off x="6820920" y="33462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Rectangle 23"/>
                <p:cNvSpPr/>
                <p:nvPr/>
              </p:nvSpPr>
              <p:spPr>
                <a:xfrm>
                  <a:off x="6932160" y="341244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1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Group 24"/>
              <p:cNvGrpSpPr/>
              <p:nvPr/>
            </p:nvGrpSpPr>
            <p:grpSpPr>
              <a:xfrm>
                <a:off x="7784640" y="3355560"/>
                <a:ext cx="738720" cy="188640"/>
                <a:chOff x="7784640" y="3355560"/>
                <a:chExt cx="738720" cy="188640"/>
              </a:xfrm>
            </p:grpSpPr>
            <p:sp>
              <p:nvSpPr>
                <p:cNvPr id="126" name="Rectangle 25"/>
                <p:cNvSpPr/>
                <p:nvPr/>
              </p:nvSpPr>
              <p:spPr>
                <a:xfrm>
                  <a:off x="7784640" y="335556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Rectangle 26"/>
                <p:cNvSpPr/>
                <p:nvPr/>
              </p:nvSpPr>
              <p:spPr>
                <a:xfrm>
                  <a:off x="7894440" y="342216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2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Group 27"/>
              <p:cNvGrpSpPr/>
              <p:nvPr/>
            </p:nvGrpSpPr>
            <p:grpSpPr>
              <a:xfrm>
                <a:off x="6845400" y="2700360"/>
                <a:ext cx="1523520" cy="570960"/>
                <a:chOff x="6845400" y="2700360"/>
                <a:chExt cx="1523520" cy="570960"/>
              </a:xfrm>
            </p:grpSpPr>
            <p:grpSp>
              <p:nvGrpSpPr>
                <p:cNvPr id="129" name="Group 28"/>
                <p:cNvGrpSpPr/>
                <p:nvPr/>
              </p:nvGrpSpPr>
              <p:grpSpPr>
                <a:xfrm>
                  <a:off x="6845400" y="2700360"/>
                  <a:ext cx="1523520" cy="570960"/>
                  <a:chOff x="6845400" y="2700360"/>
                  <a:chExt cx="1523520" cy="570960"/>
                </a:xfrm>
              </p:grpSpPr>
              <p:sp>
                <p:nvSpPr>
                  <p:cNvPr id="130" name="Line 29"/>
                  <p:cNvSpPr/>
                  <p:nvPr/>
                </p:nvSpPr>
                <p:spPr>
                  <a:xfrm>
                    <a:off x="6845400" y="270036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Line 30"/>
                  <p:cNvSpPr/>
                  <p:nvPr/>
                </p:nvSpPr>
                <p:spPr>
                  <a:xfrm>
                    <a:off x="684540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2" name="Group 31"/>
                  <p:cNvGrpSpPr/>
                  <p:nvPr/>
                </p:nvGrpSpPr>
                <p:grpSpPr>
                  <a:xfrm>
                    <a:off x="7569000" y="2700360"/>
                    <a:ext cx="1440" cy="570600"/>
                    <a:chOff x="7569000" y="2700360"/>
                    <a:chExt cx="1440" cy="570600"/>
                  </a:xfrm>
                </p:grpSpPr>
                <p:sp>
                  <p:nvSpPr>
                    <p:cNvPr id="133" name="Line 32"/>
                    <p:cNvSpPr/>
                    <p:nvPr/>
                  </p:nvSpPr>
                  <p:spPr>
                    <a:xfrm>
                      <a:off x="756900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Line 33"/>
                    <p:cNvSpPr/>
                    <p:nvPr/>
                  </p:nvSpPr>
                  <p:spPr>
                    <a:xfrm>
                      <a:off x="756900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5" name="Line 34"/>
                  <p:cNvSpPr/>
                  <p:nvPr/>
                </p:nvSpPr>
                <p:spPr>
                  <a:xfrm>
                    <a:off x="6858000" y="325872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Line 35"/>
                  <p:cNvSpPr/>
                  <p:nvPr/>
                </p:nvSpPr>
                <p:spPr>
                  <a:xfrm>
                    <a:off x="7569000" y="29415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Line 36"/>
                  <p:cNvSpPr/>
                  <p:nvPr/>
                </p:nvSpPr>
                <p:spPr>
                  <a:xfrm>
                    <a:off x="7569000" y="304272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8" name="Group 37"/>
                  <p:cNvGrpSpPr/>
                  <p:nvPr/>
                </p:nvGrpSpPr>
                <p:grpSpPr>
                  <a:xfrm>
                    <a:off x="7988040" y="2700360"/>
                    <a:ext cx="1440" cy="570600"/>
                    <a:chOff x="7988040" y="2700360"/>
                    <a:chExt cx="1440" cy="570600"/>
                  </a:xfrm>
                </p:grpSpPr>
                <p:sp>
                  <p:nvSpPr>
                    <p:cNvPr id="139" name="Line 38"/>
                    <p:cNvSpPr/>
                    <p:nvPr/>
                  </p:nvSpPr>
                  <p:spPr>
                    <a:xfrm>
                      <a:off x="798804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Line 39"/>
                    <p:cNvSpPr/>
                    <p:nvPr/>
                  </p:nvSpPr>
                  <p:spPr>
                    <a:xfrm>
                      <a:off x="798804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1" name="Line 40"/>
                  <p:cNvSpPr/>
                  <p:nvPr/>
                </p:nvSpPr>
                <p:spPr>
                  <a:xfrm>
                    <a:off x="7988040" y="270036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Line 41"/>
                  <p:cNvSpPr/>
                  <p:nvPr/>
                </p:nvSpPr>
                <p:spPr>
                  <a:xfrm>
                    <a:off x="8002440" y="325872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Line 42"/>
                  <p:cNvSpPr/>
                  <p:nvPr/>
                </p:nvSpPr>
                <p:spPr>
                  <a:xfrm>
                    <a:off x="835632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4" name="Oval 43"/>
                <p:cNvSpPr/>
                <p:nvPr/>
              </p:nvSpPr>
              <p:spPr>
                <a:xfrm>
                  <a:off x="7061040" y="296676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Oval 44"/>
                <p:cNvSpPr/>
                <p:nvPr/>
              </p:nvSpPr>
              <p:spPr>
                <a:xfrm>
                  <a:off x="7213320" y="311904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Oval 45"/>
                <p:cNvSpPr/>
                <p:nvPr/>
              </p:nvSpPr>
              <p:spPr>
                <a:xfrm>
                  <a:off x="6870600" y="30934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Oval 46"/>
                <p:cNvSpPr/>
                <p:nvPr/>
              </p:nvSpPr>
              <p:spPr>
                <a:xfrm>
                  <a:off x="7226280" y="282708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Oval 47"/>
                <p:cNvSpPr/>
                <p:nvPr/>
              </p:nvSpPr>
              <p:spPr>
                <a:xfrm>
                  <a:off x="7035840" y="276372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Oval 48"/>
                <p:cNvSpPr/>
                <p:nvPr/>
              </p:nvSpPr>
              <p:spPr>
                <a:xfrm>
                  <a:off x="7378560" y="303012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Oval 49"/>
                <p:cNvSpPr/>
                <p:nvPr/>
              </p:nvSpPr>
              <p:spPr>
                <a:xfrm>
                  <a:off x="8192880" y="280188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Oval 50"/>
                <p:cNvSpPr/>
                <p:nvPr/>
              </p:nvSpPr>
              <p:spPr>
                <a:xfrm>
                  <a:off x="8064360" y="294156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Oval 51"/>
                <p:cNvSpPr/>
                <p:nvPr/>
              </p:nvSpPr>
              <p:spPr>
                <a:xfrm>
                  <a:off x="8204040" y="313164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3" name="Line 52"/>
            <p:cNvSpPr/>
            <p:nvPr/>
          </p:nvSpPr>
          <p:spPr>
            <a:xfrm flipV="1">
              <a:off x="7647120" y="284148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Rectangle 55"/>
          <p:cNvSpPr/>
          <p:nvPr/>
        </p:nvSpPr>
        <p:spPr>
          <a:xfrm>
            <a:off x="3570120" y="5418000"/>
            <a:ext cx="4278600" cy="274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MS PGothic"/>
              </a:rPr>
              <a:t>The chemical potential of subsystem “i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5" name="Object 56"/>
          <p:cNvGraphicFramePr/>
          <p:nvPr/>
        </p:nvGraphicFramePr>
        <p:xfrm>
          <a:off x="2468520" y="5295960"/>
          <a:ext cx="83340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5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8520" y="5295960"/>
                    <a:ext cx="833400" cy="6001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7" name="Object 58"/>
          <p:cNvGraphicFramePr/>
          <p:nvPr/>
        </p:nvGraphicFramePr>
        <p:xfrm>
          <a:off x="6910560" y="5904000"/>
          <a:ext cx="1049040" cy="4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Object 5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10560" y="5904000"/>
                    <a:ext cx="1049040" cy="4842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Why Bother with Yet Another Definition?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281160" y="1295280"/>
            <a:ext cx="830880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It makes the various equilibrium conditions look the sam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artic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Why does the last equation use dF/dn, instead of d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/dN?  Remember that there is a thermal reservoir (not shown). When particles are exchanged, the reservoir’s entropy might change.  (It might gain or lose energy.)  That’s what F takes care of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5645160" y="2406600"/>
            <a:ext cx="2955960" cy="1130400"/>
            <a:chOff x="5645160" y="2406600"/>
            <a:chExt cx="2955960" cy="1130400"/>
          </a:xfrm>
        </p:grpSpPr>
        <p:sp>
          <p:nvSpPr>
            <p:cNvPr id="162" name="Rectangle 5"/>
            <p:cNvSpPr/>
            <p:nvPr/>
          </p:nvSpPr>
          <p:spPr>
            <a:xfrm>
              <a:off x="5645160" y="2406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Rectangle 6"/>
            <p:cNvSpPr/>
            <p:nvPr/>
          </p:nvSpPr>
          <p:spPr>
            <a:xfrm>
              <a:off x="7475400" y="2411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>
              <a:off x="6753240" y="2960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Text Box 8"/>
            <p:cNvSpPr/>
            <p:nvPr/>
          </p:nvSpPr>
          <p:spPr>
            <a:xfrm>
              <a:off x="572688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Text Box 9"/>
            <p:cNvSpPr/>
            <p:nvPr/>
          </p:nvSpPr>
          <p:spPr>
            <a:xfrm>
              <a:off x="754776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Line 10"/>
          <p:cNvSpPr/>
          <p:nvPr/>
        </p:nvSpPr>
        <p:spPr>
          <a:xfrm flipV="1">
            <a:off x="7113600" y="3022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5950080" y="4049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, energy, or partic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9" name="Object 12"/>
          <p:cNvGraphicFramePr/>
          <p:nvPr/>
        </p:nvGraphicFramePr>
        <p:xfrm>
          <a:off x="1735200" y="2530440"/>
          <a:ext cx="122544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5200" y="2530440"/>
                    <a:ext cx="122544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13"/>
          <p:cNvGraphicFramePr/>
          <p:nvPr/>
        </p:nvGraphicFramePr>
        <p:xfrm>
          <a:off x="1727280" y="3351240"/>
          <a:ext cx="1245960" cy="72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7280" y="3351240"/>
                    <a:ext cx="124596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14"/>
          <p:cNvGraphicFramePr/>
          <p:nvPr/>
        </p:nvGraphicFramePr>
        <p:xfrm>
          <a:off x="1736640" y="4179960"/>
          <a:ext cx="1225800" cy="72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36640" y="4179960"/>
                    <a:ext cx="12258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52440" y="1053720"/>
            <a:ext cx="8089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call the situation when systems can exchange energy.  The definition of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emperature: 1/T = dS/dU (holding V and N fixed) tells us that temperatures are equal in thermal equilibrium.  Otherwise we could increase S by exchanging so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lso know what happens when the systems are out of equilibrium (unequal T).  Because high T means a small derivative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ergy flows from the hot system to the cold 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look at the situation when we have particle ex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om the definition of chemical potential, we have alread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en that in thermal and particle equilibrium, the chemical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tentials are equal: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t of equilibrium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arger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ystem has a larger dF/dN, so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rticles flow from hig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o low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 that d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dN (= d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/dN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must be positiv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r equilibrium isn’t st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187200" y="61920"/>
            <a:ext cx="875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Equilibrium and Chemical Potenti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7" name="Object 4"/>
          <p:cNvGraphicFramePr/>
          <p:nvPr/>
        </p:nvGraphicFramePr>
        <p:xfrm>
          <a:off x="6880320" y="4021200"/>
          <a:ext cx="115704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0320" y="4021200"/>
                    <a:ext cx="11570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Text Box 5"/>
          <p:cNvSpPr/>
          <p:nvPr/>
        </p:nvSpPr>
        <p:spPr>
          <a:xfrm>
            <a:off x="1809720" y="56451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Group 6"/>
          <p:cNvGrpSpPr/>
          <p:nvPr/>
        </p:nvGrpSpPr>
        <p:grpSpPr>
          <a:xfrm>
            <a:off x="6708600" y="5135400"/>
            <a:ext cx="1737000" cy="479520"/>
            <a:chOff x="6708600" y="5135400"/>
            <a:chExt cx="1737000" cy="479520"/>
          </a:xfrm>
        </p:grpSpPr>
        <p:sp>
          <p:nvSpPr>
            <p:cNvPr id="181" name="Rectangle 7"/>
            <p:cNvSpPr/>
            <p:nvPr/>
          </p:nvSpPr>
          <p:spPr>
            <a:xfrm>
              <a:off x="6708600" y="514008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Rectangle 8"/>
            <p:cNvSpPr/>
            <p:nvPr/>
          </p:nvSpPr>
          <p:spPr>
            <a:xfrm>
              <a:off x="7856640" y="513540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Line 9"/>
            <p:cNvSpPr/>
            <p:nvPr/>
          </p:nvSpPr>
          <p:spPr>
            <a:xfrm>
              <a:off x="7315200" y="5360760"/>
              <a:ext cx="536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Text Box 10"/>
            <p:cNvSpPr/>
            <p:nvPr/>
          </p:nvSpPr>
          <p:spPr>
            <a:xfrm>
              <a:off x="7313040" y="5194080"/>
              <a:ext cx="56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nergy </a:t>
              </a:r>
              <a:br>
                <a:rPr sz="800"/>
              </a:b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articl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8016480" y="52369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Text Box 12"/>
            <p:cNvSpPr/>
            <p:nvPr/>
          </p:nvSpPr>
          <p:spPr>
            <a:xfrm>
              <a:off x="6859080" y="5238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7" name="Arc 13"/>
          <p:cNvSpPr/>
          <p:nvPr/>
        </p:nvSpPr>
        <p:spPr>
          <a:xfrm flipV="1">
            <a:off x="7058160" y="6091200"/>
            <a:ext cx="1052280" cy="230400"/>
          </a:xfrm>
          <a:custGeom>
            <a:avLst/>
            <a:gdLst>
              <a:gd name="textAreaLeft" fmla="*/ 0 w 1052280"/>
              <a:gd name="textAreaRight" fmla="*/ 1052640 w 1052280"/>
              <a:gd name="textAreaTop" fmla="*/ 360 h 230400"/>
              <a:gd name="textAreaBottom" fmla="*/ 231120 h 230400"/>
            </a:gdLst>
            <a:ahLst/>
            <a:rect l="textAreaLeft" t="textAreaTop" r="textAreaRight" b="textAreaBottom"/>
            <a:pathLst>
              <a:path fill="none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</a:path>
              <a:path stroke="0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  <a:lnTo>
                  <a:pt x="19315" y="21600"/>
                </a:ln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Line 14"/>
          <p:cNvSpPr/>
          <p:nvPr/>
        </p:nvSpPr>
        <p:spPr>
          <a:xfrm>
            <a:off x="6858000" y="5864400"/>
            <a:ext cx="0" cy="70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15"/>
          <p:cNvSpPr/>
          <p:nvPr/>
        </p:nvSpPr>
        <p:spPr>
          <a:xfrm>
            <a:off x="6858000" y="6559560"/>
            <a:ext cx="145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8140680" y="63435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6820200" y="577224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2-16T22:38:26Z</dcterms:modified>
  <cp:revision>56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