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0F93760-FE14-4B0B-914E-3853EC1571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k – which has the higher Heat Capa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an’t tell unless you know how much of each there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31BE0578-EAD2-46BA-8D38-C64C6B6924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62160" y="4019400"/>
          <a:ext cx="321444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4019400"/>
                    <a:ext cx="3214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49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71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8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36680" y="57240"/>
            <a:ext cx="645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90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1357200" y="3360600"/>
          <a:ext cx="464976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360600"/>
                    <a:ext cx="46497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964080" y="51912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hat’s a lot!  Windows are a major cause of high heating bil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9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206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4019400"/>
          <a:ext cx="42372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19400"/>
                    <a:ext cx="42372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>
            <a:off x="5681160" y="4367160"/>
            <a:ext cx="870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84400" y="42307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&lt; 1320 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440" y="550224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Note: Large air gaps don’t always work, due to convection curr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720" y="4624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87640" y="3197160"/>
            <a:ext cx="117468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36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43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5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120" y="4427640"/>
            <a:ext cx="86137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of cooling is determined by the time constan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ots have the same amount of water, so they have the same heat capacity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hermal resistance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d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me that the thickness, d, of the pot bottoms is the same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t B has a larger area, so it will have a smaller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nd therefore a short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t will cool fa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440" y="3017880"/>
            <a:ext cx="1057320" cy="301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68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86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96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0760" y="2733840"/>
            <a:ext cx="261756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03800" y="5695920"/>
            <a:ext cx="2678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119640" y="4548240"/>
            <a:ext cx="0" cy="1141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75360" y="4425840"/>
            <a:ext cx="2552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40440" y="4776840"/>
            <a:ext cx="9792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121440" y="3993120"/>
            <a:ext cx="4015440" cy="156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5960" y="46753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0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77240" y="513864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80" y="4210200"/>
            <a:ext cx="419760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ever, th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f heat flow out of the bearing depends on 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bear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wat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and is different (~190 C and ~90 C) for the two cases.  Because more heat flows at the outset, the initial temperature drop is fast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13404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153120" y="49240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6880" y="581040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81720" y="580068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66756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3400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577224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68664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4240" y="100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325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336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341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90800" y="14209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29320" y="361008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" y="2562120"/>
            <a:ext cx="1542960" cy="408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" y="3386160"/>
            <a:ext cx="776304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Heat flows from the brass to the water.  No work is done,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and we assume that no energy is lost to the environm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Remember: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 = 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 = m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Brass (heat flows out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ater (heat flows in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Energy is conserved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+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Solve for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=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= 8.3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e measured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_____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88280" y="3622680"/>
            <a:ext cx="1731960" cy="711360"/>
            <a:chOff x="6488280" y="3622680"/>
            <a:chExt cx="1731960" cy="711360"/>
          </a:xfrm>
        </p:grpSpPr>
        <p:sp>
          <p:nvSpPr>
            <p:cNvPr id="108" name=""/>
            <p:cNvSpPr/>
            <p:nvPr/>
          </p:nvSpPr>
          <p:spPr>
            <a:xfrm>
              <a:off x="6488280" y="3622680"/>
              <a:ext cx="590760" cy="703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7760" y="3622680"/>
              <a:ext cx="582480" cy="7113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9040" y="3978360"/>
              <a:ext cx="56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2400" y="3635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600" y="371484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372132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21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33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29:38Z</dcterms:modified>
  <cp:revision>35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