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FD9DC0-C485-49F8-8462-A63198F1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work through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D8F804E3-22D4-4A97-8632-3C5434896B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302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3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4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5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6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7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8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2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3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5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26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27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328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29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1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2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3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4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5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6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7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8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39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0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1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2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3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4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5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6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558880" y="1531800"/>
            <a:ext cx="608976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half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V/2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1/2) = -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01680" y="2171880"/>
            <a:ext cx="1971720" cy="37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309600" y="4584600"/>
            <a:ext cx="1971720" cy="374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2584440" y="4140360"/>
            <a:ext cx="608976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ccording to the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aw, the entropy of an isolated system must stay the same or increase.  Considering the (gas + environment) as the ‘system’, the reduction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matched by an increase in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We will see later that for isothermal processes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 (i.e., they are reversible!)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375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376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8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79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0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2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3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4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5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6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7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8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89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0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1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92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395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398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04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9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10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11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2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3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4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5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6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7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8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19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0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1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2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3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4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5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6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7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28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430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431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434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440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549520" y="2979720"/>
            <a:ext cx="647064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 are twice as many places for each gas particle: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V)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onst)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 const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(2) = 6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ln 2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282600" y="3029040"/>
            <a:ext cx="1971720" cy="393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888840" y="4635360"/>
            <a:ext cx="72327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 isothermal process (why?), but not quasi-static, i.e., the gas is not in equilibrium throughout the expansion.  In fact, the gas does not interact with the environment at all, so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oesn’t change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is is an irreversible expansion (the particles will never randomly all go back into the 1-liter box!)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1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452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453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4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5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6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7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8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59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0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1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2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3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4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5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6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7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8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69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471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472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475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0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481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6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487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488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507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508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511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517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2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24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25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6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7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8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29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0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1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2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3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4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5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6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7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8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39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0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1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2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4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5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6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7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49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0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551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9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0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1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2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6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8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9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0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4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6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577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8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9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0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5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01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02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603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626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27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628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9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30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631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632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633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634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635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0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1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642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4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45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wo systems that are allowed to exchange energy will do so until the total entropy is maximiz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5132520" y="3355920"/>
          <a:ext cx="16873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2520" y="3355920"/>
                    <a:ext cx="1687320" cy="939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6273720" y="2127240"/>
          <a:ext cx="15462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3720" y="2127240"/>
                    <a:ext cx="1546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1027080" y="2070000"/>
          <a:ext cx="419724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7080" y="2070000"/>
                    <a:ext cx="41972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225440" y="3564000"/>
            <a:ext cx="457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6680" y="4646520"/>
            <a:ext cx="750240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this definition, out of equilibrium, heat flows from hot to col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 equipartition of energy: U = ½kT for each energy mod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661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778320" y="2428920"/>
            <a:ext cx="457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holds, so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k = 13.8 J/K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776520" y="3728880"/>
            <a:ext cx="252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 / C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0.07 K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767880" y="4906800"/>
            <a:ext cx="55652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U = 1/k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is almost constant here, so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kT = 1 J / (4.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2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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exponential of this, a gigantic number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6594840" y="5030640"/>
            <a:ext cx="2261520" cy="978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8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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/T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14 J/K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154160" y="1895400"/>
            <a:ext cx="718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STP, 1 mole of a gas occupies 22.4 liter.  Therefore, in 1 liter there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N = 1 liter x (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2.4 liter) = 2.7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310760" y="3157560"/>
            <a:ext cx="127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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44600" y="4351320"/>
            <a:ext cx="645804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1/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^(3.7x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1.0 according to my calcula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1 + 2.56 x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ccording to Mathematic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lesson: the number of microstates increases   mind-bogglingly fast – that’s why the gas fills the spac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88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689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90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691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7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8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99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0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1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2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3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4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5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6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7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08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10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11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12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13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14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22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730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738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5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9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750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754" name="Object 65"/>
          <p:cNvGraphicFramePr/>
          <p:nvPr/>
        </p:nvGraphicFramePr>
        <p:xfrm>
          <a:off x="1122480" y="4095720"/>
          <a:ext cx="3797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5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4095720"/>
                    <a:ext cx="3797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Object 69"/>
          <p:cNvGraphicFramePr/>
          <p:nvPr/>
        </p:nvGraphicFramePr>
        <p:xfrm>
          <a:off x="1147680" y="5135400"/>
          <a:ext cx="32050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7" name="Object 6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135400"/>
                    <a:ext cx="32050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 Box 70"/>
          <p:cNvSpPr/>
          <p:nvPr/>
        </p:nvSpPr>
        <p:spPr>
          <a:xfrm>
            <a:off x="962280" y="5902200"/>
            <a:ext cx="4540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fter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6 oscillators share 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= 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759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760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761" name="Group 73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762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3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4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7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8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1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3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4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5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6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7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8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79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2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781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782" name="Group 94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783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784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785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793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6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0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801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2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809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6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 Box 132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1" name="Text Box 133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2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2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831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3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834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835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7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839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840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843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845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846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47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848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49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0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1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2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3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4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5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6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7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8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59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0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1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2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3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4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5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6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7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8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69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0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1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2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3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4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5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6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7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8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79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0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1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2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3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4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5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6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7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8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89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0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1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2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3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4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5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905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906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7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909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0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912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3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4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" name="Rectangle 56"/>
          <p:cNvSpPr/>
          <p:nvPr/>
        </p:nvSpPr>
        <p:spPr>
          <a:xfrm>
            <a:off x="1626840" y="2273400"/>
            <a:ext cx="377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100 on table) = 0.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7.9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Rectangle 60"/>
          <p:cNvSpPr/>
          <p:nvPr/>
        </p:nvSpPr>
        <p:spPr>
          <a:xfrm>
            <a:off x="1012680" y="3979800"/>
            <a:ext cx="7491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one macrostate, and we want to know how many microstates correspond to it.  There are three parts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how many ways to have a 70/30 split:    100!/(70!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how many ways for the 7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how many ways for the 30 to be configured: 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fore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70 on table)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ln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n[100!/(70!30!)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] = 100 ln 2 + ln(100!) – ln(70!) – ln(30!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We’ll see later that ln x!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≈ x ln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x}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63" name="Group 62"/>
          <p:cNvGrpSpPr/>
          <p:nvPr/>
        </p:nvGrpSpPr>
        <p:grpSpPr>
          <a:xfrm>
            <a:off x="442800" y="949320"/>
            <a:ext cx="7756560" cy="4771080"/>
            <a:chOff x="442800" y="949320"/>
            <a:chExt cx="7756560" cy="4771080"/>
          </a:xfrm>
        </p:grpSpPr>
        <p:grpSp>
          <p:nvGrpSpPr>
            <p:cNvPr id="164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65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66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67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74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81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88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95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2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3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6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442800" y="1093680"/>
              <a:ext cx="7756560" cy="46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4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9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7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3.30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4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6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2.77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.6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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to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= 10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" name="Text Box 63"/>
          <p:cNvSpPr/>
          <p:nvPr/>
        </p:nvSpPr>
        <p:spPr>
          <a:xfrm>
            <a:off x="734040" y="5618160"/>
            <a:ext cx="6253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 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&lt;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(1*25 + 2*32 + 3*27 + 4*16 + 5*5) / 105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59/105 = 2.47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Text Box 64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) on righ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19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220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2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4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6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228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9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0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37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38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39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40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47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827600" y="915840"/>
            <a:ext cx="1698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st probable V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ln(32) = 3.47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5"/>
          <p:cNvGrpSpPr/>
          <p:nvPr/>
        </p:nvGrpSpPr>
        <p:grpSpPr>
          <a:xfrm>
            <a:off x="3944880" y="1141560"/>
            <a:ext cx="776520" cy="198360"/>
            <a:chOff x="3944880" y="1141560"/>
            <a:chExt cx="776520" cy="198360"/>
          </a:xfrm>
        </p:grpSpPr>
        <p:sp>
          <p:nvSpPr>
            <p:cNvPr id="254" name="Line 6"/>
            <p:cNvSpPr/>
            <p:nvPr/>
          </p:nvSpPr>
          <p:spPr>
            <a:xfrm>
              <a:off x="3944880" y="1141560"/>
              <a:ext cx="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3944880" y="1141560"/>
              <a:ext cx="776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257" name="Group 9"/>
            <p:cNvGrpSpPr/>
            <p:nvPr/>
          </p:nvGrpSpPr>
          <p:grpSpPr>
            <a:xfrm>
              <a:off x="3449520" y="1433520"/>
              <a:ext cx="1835280" cy="1355760"/>
              <a:chOff x="3449520" y="1433520"/>
              <a:chExt cx="1835280" cy="1355760"/>
            </a:xfrm>
          </p:grpSpPr>
          <p:sp>
            <p:nvSpPr>
              <p:cNvPr id="258" name="Oval 22"/>
              <p:cNvSpPr/>
              <p:nvPr/>
            </p:nvSpPr>
            <p:spPr>
              <a:xfrm>
                <a:off x="3449520" y="1731960"/>
                <a:ext cx="14148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9" name="Oval 23"/>
              <p:cNvSpPr/>
              <p:nvPr/>
            </p:nvSpPr>
            <p:spPr>
              <a:xfrm>
                <a:off x="3873600" y="1433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0" name="Oval 24"/>
              <p:cNvSpPr/>
              <p:nvPr/>
            </p:nvSpPr>
            <p:spPr>
              <a:xfrm>
                <a:off x="4297320" y="1681200"/>
                <a:ext cx="139680" cy="133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1" name="Oval 25"/>
              <p:cNvSpPr/>
              <p:nvPr/>
            </p:nvSpPr>
            <p:spPr>
              <a:xfrm>
                <a:off x="4719600" y="2209680"/>
                <a:ext cx="141480" cy="133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62" name="Oval 26"/>
              <p:cNvSpPr/>
              <p:nvPr/>
            </p:nvSpPr>
            <p:spPr>
              <a:xfrm>
                <a:off x="5143680" y="2657520"/>
                <a:ext cx="141120" cy="13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5"/>
            <p:cNvGrpSpPr/>
            <p:nvPr/>
          </p:nvGrpSpPr>
          <p:grpSpPr>
            <a:xfrm>
              <a:off x="1568520" y="864720"/>
              <a:ext cx="4516200" cy="2538000"/>
              <a:chOff x="1568520" y="864720"/>
              <a:chExt cx="4516200" cy="2538000"/>
            </a:xfrm>
          </p:grpSpPr>
          <p:grpSp>
            <p:nvGrpSpPr>
              <p:cNvPr id="264" name="Group 16"/>
              <p:cNvGrpSpPr/>
              <p:nvPr/>
            </p:nvGrpSpPr>
            <p:grpSpPr>
              <a:xfrm>
                <a:off x="3048120" y="2914560"/>
                <a:ext cx="3036600" cy="488160"/>
                <a:chOff x="3048120" y="2914560"/>
                <a:chExt cx="3036600" cy="488160"/>
              </a:xfrm>
            </p:grpSpPr>
            <p:sp>
              <p:nvSpPr>
                <p:cNvPr id="265" name="Text Box 9"/>
                <p:cNvSpPr/>
                <p:nvPr/>
              </p:nvSpPr>
              <p:spPr>
                <a:xfrm>
                  <a:off x="5380200" y="3009960"/>
                  <a:ext cx="704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1"/>
                <p:cNvSpPr/>
                <p:nvPr/>
              </p:nvSpPr>
              <p:spPr>
                <a:xfrm>
                  <a:off x="3048120" y="2978280"/>
                  <a:ext cx="25398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3"/>
                <p:cNvSpPr/>
                <p:nvPr/>
              </p:nvSpPr>
              <p:spPr>
                <a:xfrm>
                  <a:off x="39178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4"/>
                <p:cNvSpPr/>
                <p:nvPr/>
              </p:nvSpPr>
              <p:spPr>
                <a:xfrm>
                  <a:off x="43419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5"/>
                <p:cNvSpPr/>
                <p:nvPr/>
              </p:nvSpPr>
              <p:spPr>
                <a:xfrm>
                  <a:off x="476568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"/>
                <p:cNvSpPr/>
                <p:nvPr/>
              </p:nvSpPr>
              <p:spPr>
                <a:xfrm>
                  <a:off x="519120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28"/>
                <p:cNvSpPr/>
                <p:nvPr/>
              </p:nvSpPr>
              <p:spPr>
                <a:xfrm>
                  <a:off x="3338640" y="3095640"/>
                  <a:ext cx="2152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ctr" pos="460440"/>
                      <a:tab algn="ctr" pos="914400"/>
                      <a:tab algn="ctr" pos="1314360"/>
                      <a:tab algn="ctr" pos="176832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"/>
              <p:cNvGrpSpPr/>
              <p:nvPr/>
            </p:nvGrpSpPr>
            <p:grpSpPr>
              <a:xfrm>
                <a:off x="1568520" y="864720"/>
                <a:ext cx="1925640" cy="2269800"/>
                <a:chOff x="1568520" y="864720"/>
                <a:chExt cx="1925640" cy="2269800"/>
              </a:xfrm>
            </p:grpSpPr>
            <p:sp>
              <p:nvSpPr>
                <p:cNvPr id="273" name="Line 10"/>
                <p:cNvSpPr/>
                <p:nvPr/>
              </p:nvSpPr>
              <p:spPr>
                <a:xfrm flipV="1">
                  <a:off x="3068640" y="864720"/>
                  <a:ext cx="0" cy="211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2"/>
                <p:cNvSpPr/>
                <p:nvPr/>
              </p:nvSpPr>
              <p:spPr>
                <a:xfrm>
                  <a:off x="3494160" y="2914560"/>
                  <a:ext cx="0" cy="138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"/>
                <p:cNvSpPr/>
                <p:nvPr/>
              </p:nvSpPr>
              <p:spPr>
                <a:xfrm>
                  <a:off x="2982960" y="25052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8"/>
                <p:cNvSpPr/>
                <p:nvPr/>
              </p:nvSpPr>
              <p:spPr>
                <a:xfrm>
                  <a:off x="2982960" y="202716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9"/>
                <p:cNvSpPr/>
                <p:nvPr/>
              </p:nvSpPr>
              <p:spPr>
                <a:xfrm>
                  <a:off x="2982960" y="1547640"/>
                  <a:ext cx="1713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20"/>
                <p:cNvSpPr/>
                <p:nvPr/>
              </p:nvSpPr>
              <p:spPr>
                <a:xfrm>
                  <a:off x="2978280" y="1128600"/>
                  <a:ext cx="169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Text Box 27"/>
                <p:cNvSpPr/>
                <p:nvPr/>
              </p:nvSpPr>
              <p:spPr>
                <a:xfrm>
                  <a:off x="2600280" y="952560"/>
                  <a:ext cx="733320" cy="21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  <a:p>
                  <a:pPr marL="285840" indent="-285840">
                    <a:spcBef>
                      <a:spcPts val="20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Text Box 30"/>
                <p:cNvSpPr/>
                <p:nvPr/>
              </p:nvSpPr>
              <p:spPr>
                <a:xfrm>
                  <a:off x="1568520" y="1177920"/>
                  <a:ext cx="13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3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282" name="Rectangle 34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83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284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285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92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93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94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95" name="Object 47"/>
          <p:cNvGraphicFramePr/>
          <p:nvPr/>
        </p:nvGraphicFramePr>
        <p:xfrm>
          <a:off x="1147680" y="5943600"/>
          <a:ext cx="204336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7680" y="5943600"/>
                    <a:ext cx="20433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20:36Z</dcterms:modified>
  <cp:revision>37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