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D823D31E-DD50-4739-A0B3-BFE49F827E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766240" y="214200"/>
            <a:ext cx="175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oon and L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pentine can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2654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76320" y="45622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2F416350-0CAC-47DB-8A84-56B388E817B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331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332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337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9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340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2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344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346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8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349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352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357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360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366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0" name="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371" name="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374" name="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378" name="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84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86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352520" y="5990760"/>
            <a:ext cx="0" cy="2034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1752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641600" y="5502240"/>
            <a:ext cx="0" cy="7192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84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1746360" y="5157720"/>
            <a:ext cx="0" cy="10699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2324160" y="5162400"/>
            <a:ext cx="0" cy="10605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646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8916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9720" y="75960"/>
            <a:ext cx="716292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: OOPS!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66720" y="1244520"/>
            <a:ext cx="7399440" cy="44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hotos below show the results of steam cleaning a railroad tank car, then sealing it before the steam had coo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Group 4"/>
          <p:cNvGrpSpPr/>
          <p:nvPr/>
        </p:nvGrpSpPr>
        <p:grpSpPr>
          <a:xfrm>
            <a:off x="930240" y="2503440"/>
            <a:ext cx="7656120" cy="2779920"/>
            <a:chOff x="930240" y="2503440"/>
            <a:chExt cx="7656120" cy="2779920"/>
          </a:xfrm>
        </p:grpSpPr>
        <p:pic>
          <p:nvPicPr>
            <p:cNvPr id="420" name="Picture 5" descr="PVNRT_Rail_Car_Jul04_01"/>
            <p:cNvPicPr/>
            <p:nvPr/>
          </p:nvPicPr>
          <p:blipFill>
            <a:blip r:embed="rId1"/>
            <a:stretch/>
          </p:blipFill>
          <p:spPr>
            <a:xfrm>
              <a:off x="930240" y="2503440"/>
              <a:ext cx="3706560" cy="277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6" descr="PVNRT_Rail_Car_Jul04_02"/>
            <p:cNvPicPr/>
            <p:nvPr/>
          </p:nvPicPr>
          <p:blipFill>
            <a:blip r:embed="rId2"/>
            <a:stretch/>
          </p:blipFill>
          <p:spPr>
            <a:xfrm>
              <a:off x="4879800" y="2503440"/>
              <a:ext cx="3706560" cy="277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427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428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4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439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47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7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58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1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68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8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79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2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330200" y="3800520"/>
            <a:ext cx="2733840" cy="32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658160" y="4637160"/>
            <a:ext cx="39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emperature will remain constant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til all the ice is mel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490" name="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491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504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505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506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507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8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509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510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2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513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15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16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517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8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2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523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9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0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6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537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38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539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0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1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2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3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4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5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6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547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548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559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570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0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584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586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prstGeom prst="pie">
                <a:avLst/>
              </a:pr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7" name="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588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3" name="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594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606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611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6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624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4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635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8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643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3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654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7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9" name="Rectangle 28"/>
          <p:cNvSpPr/>
          <p:nvPr/>
        </p:nvSpPr>
        <p:spPr>
          <a:xfrm>
            <a:off x="1517760" y="2949480"/>
            <a:ext cx="40561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T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333 J/g / 273 K * 18 g/m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22.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30"/>
          <p:cNvSpPr/>
          <p:nvPr/>
        </p:nvSpPr>
        <p:spPr>
          <a:xfrm>
            <a:off x="739800" y="5024520"/>
            <a:ext cx="618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a loss o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about 2.73 per molecul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 is, there are about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.7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r 1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many microstate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vailable to each molecule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Entropy in freez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4120" y="128412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t them equal and solve for the equilibrium ga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of the solid at temperature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0.26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535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11280" y="3703680"/>
          <a:ext cx="44578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703680"/>
                    <a:ext cx="44578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6227640" y="2216160"/>
            <a:ext cx="2651040" cy="1641240"/>
            <a:chOff x="6227640" y="2216160"/>
            <a:chExt cx="2651040" cy="1641240"/>
          </a:xfrm>
        </p:grpSpPr>
        <p:sp>
          <p:nvSpPr>
            <p:cNvPr id="50" name="Line 29"/>
            <p:cNvSpPr/>
            <p:nvPr/>
          </p:nvSpPr>
          <p:spPr>
            <a:xfrm flipV="1">
              <a:off x="6227640" y="25664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Line 30"/>
            <p:cNvSpPr/>
            <p:nvPr/>
          </p:nvSpPr>
          <p:spPr>
            <a:xfrm flipV="1">
              <a:off x="6235560" y="28490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Line 31"/>
            <p:cNvSpPr/>
            <p:nvPr/>
          </p:nvSpPr>
          <p:spPr>
            <a:xfrm flipV="1">
              <a:off x="8624520" y="2712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32"/>
            <p:cNvSpPr/>
            <p:nvPr/>
          </p:nvSpPr>
          <p:spPr>
            <a:xfrm flipV="1">
              <a:off x="6237000" y="31824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33"/>
            <p:cNvSpPr/>
            <p:nvPr/>
          </p:nvSpPr>
          <p:spPr>
            <a:xfrm flipV="1">
              <a:off x="6230520" y="34934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34"/>
            <p:cNvSpPr/>
            <p:nvPr/>
          </p:nvSpPr>
          <p:spPr>
            <a:xfrm flipV="1">
              <a:off x="6845040" y="367668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35"/>
            <p:cNvSpPr/>
            <p:nvPr/>
          </p:nvSpPr>
          <p:spPr>
            <a:xfrm flipV="1">
              <a:off x="6507000" y="368460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6"/>
            <p:cNvSpPr/>
            <p:nvPr/>
          </p:nvSpPr>
          <p:spPr>
            <a:xfrm flipV="1">
              <a:off x="7192800" y="36766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7"/>
            <p:cNvSpPr/>
            <p:nvPr/>
          </p:nvSpPr>
          <p:spPr>
            <a:xfrm flipV="1">
              <a:off x="7589520" y="367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8"/>
            <p:cNvSpPr/>
            <p:nvPr/>
          </p:nvSpPr>
          <p:spPr>
            <a:xfrm flipV="1">
              <a:off x="7961040" y="366552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39"/>
            <p:cNvSpPr/>
            <p:nvPr/>
          </p:nvSpPr>
          <p:spPr>
            <a:xfrm flipV="1">
              <a:off x="8616600" y="30078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40"/>
            <p:cNvSpPr/>
            <p:nvPr/>
          </p:nvSpPr>
          <p:spPr>
            <a:xfrm flipV="1">
              <a:off x="8632440" y="3326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41"/>
            <p:cNvSpPr/>
            <p:nvPr/>
          </p:nvSpPr>
          <p:spPr>
            <a:xfrm flipV="1">
              <a:off x="8294400" y="3666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55"/>
            <p:cNvSpPr/>
            <p:nvPr/>
          </p:nvSpPr>
          <p:spPr>
            <a:xfrm flipV="1">
              <a:off x="6646680" y="22208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56"/>
            <p:cNvSpPr/>
            <p:nvPr/>
          </p:nvSpPr>
          <p:spPr>
            <a:xfrm flipV="1">
              <a:off x="6992640" y="22161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57"/>
            <p:cNvSpPr/>
            <p:nvPr/>
          </p:nvSpPr>
          <p:spPr>
            <a:xfrm flipV="1">
              <a:off x="7303680" y="222084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58"/>
            <p:cNvSpPr/>
            <p:nvPr/>
          </p:nvSpPr>
          <p:spPr>
            <a:xfrm flipV="1">
              <a:off x="7713360" y="22287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59"/>
            <p:cNvSpPr/>
            <p:nvPr/>
          </p:nvSpPr>
          <p:spPr>
            <a:xfrm flipV="1">
              <a:off x="8134200" y="222192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60"/>
            <p:cNvSpPr/>
            <p:nvPr/>
          </p:nvSpPr>
          <p:spPr>
            <a:xfrm flipV="1">
              <a:off x="8481600" y="22399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6505200" y="2385720"/>
              <a:ext cx="2124360" cy="1262160"/>
              <a:chOff x="6505200" y="2385720"/>
              <a:chExt cx="2124360" cy="1262160"/>
            </a:xfrm>
          </p:grpSpPr>
          <p:sp>
            <p:nvSpPr>
              <p:cNvPr id="70" name="Text Box 42"/>
              <p:cNvSpPr/>
              <p:nvPr/>
            </p:nvSpPr>
            <p:spPr>
              <a:xfrm>
                <a:off x="6599520" y="23857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6600600" y="2579400"/>
                <a:ext cx="1765440" cy="1030320"/>
                <a:chOff x="6600600" y="2579400"/>
                <a:chExt cx="1765440" cy="1030320"/>
              </a:xfrm>
            </p:grpSpPr>
            <p:sp>
              <p:nvSpPr>
                <p:cNvPr id="72" name="Oval 18"/>
                <p:cNvSpPr/>
                <p:nvPr/>
              </p:nvSpPr>
              <p:spPr>
                <a:xfrm>
                  <a:off x="7961040" y="328284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Oval 19"/>
                <p:cNvSpPr/>
                <p:nvPr/>
              </p:nvSpPr>
              <p:spPr>
                <a:xfrm>
                  <a:off x="7440480" y="26272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Oval 20"/>
                <p:cNvSpPr/>
                <p:nvPr/>
              </p:nvSpPr>
              <p:spPr>
                <a:xfrm>
                  <a:off x="8119800" y="25794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Oval 21"/>
                <p:cNvSpPr/>
                <p:nvPr/>
              </p:nvSpPr>
              <p:spPr>
                <a:xfrm>
                  <a:off x="7840440" y="28861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22"/>
                <p:cNvSpPr/>
                <p:nvPr/>
              </p:nvSpPr>
              <p:spPr>
                <a:xfrm>
                  <a:off x="7083000" y="28954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Oval 23"/>
                <p:cNvSpPr/>
                <p:nvPr/>
              </p:nvSpPr>
              <p:spPr>
                <a:xfrm>
                  <a:off x="6675120" y="262224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Oval 24"/>
                <p:cNvSpPr/>
                <p:nvPr/>
              </p:nvSpPr>
              <p:spPr>
                <a:xfrm>
                  <a:off x="8242200" y="29970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25"/>
                <p:cNvSpPr/>
                <p:nvPr/>
              </p:nvSpPr>
              <p:spPr>
                <a:xfrm>
                  <a:off x="7489440" y="30430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6600600" y="3170160"/>
                  <a:ext cx="631800" cy="439560"/>
                  <a:chOff x="6600600" y="3170160"/>
                  <a:chExt cx="631800" cy="439560"/>
                </a:xfrm>
              </p:grpSpPr>
              <p:sp>
                <p:nvSpPr>
                  <p:cNvPr id="81" name="Oval 17"/>
                  <p:cNvSpPr/>
                  <p:nvPr/>
                </p:nvSpPr>
                <p:spPr>
                  <a:xfrm>
                    <a:off x="6609960" y="32353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Oval 43"/>
                  <p:cNvSpPr/>
                  <p:nvPr/>
                </p:nvSpPr>
                <p:spPr>
                  <a:xfrm>
                    <a:off x="6744960" y="3170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Oval 44"/>
                  <p:cNvSpPr/>
                  <p:nvPr/>
                </p:nvSpPr>
                <p:spPr>
                  <a:xfrm>
                    <a:off x="6735600" y="33256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Oval 45"/>
                  <p:cNvSpPr/>
                  <p:nvPr/>
                </p:nvSpPr>
                <p:spPr>
                  <a:xfrm>
                    <a:off x="6860880" y="32479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6"/>
                  <p:cNvSpPr/>
                  <p:nvPr/>
                </p:nvSpPr>
                <p:spPr>
                  <a:xfrm>
                    <a:off x="6600600" y="3381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47"/>
                  <p:cNvSpPr/>
                  <p:nvPr/>
                </p:nvSpPr>
                <p:spPr>
                  <a:xfrm>
                    <a:off x="6854400" y="33940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Oval 48"/>
                  <p:cNvSpPr/>
                  <p:nvPr/>
                </p:nvSpPr>
                <p:spPr>
                  <a:xfrm>
                    <a:off x="6981480" y="33303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49"/>
                  <p:cNvSpPr/>
                  <p:nvPr/>
                </p:nvSpPr>
                <p:spPr>
                  <a:xfrm>
                    <a:off x="69688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50"/>
                  <p:cNvSpPr/>
                  <p:nvPr/>
                </p:nvSpPr>
                <p:spPr>
                  <a:xfrm>
                    <a:off x="67276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51"/>
                  <p:cNvSpPr/>
                  <p:nvPr/>
                </p:nvSpPr>
                <p:spPr>
                  <a:xfrm>
                    <a:off x="7095960" y="341928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Oval 52"/>
                  <p:cNvSpPr/>
                  <p:nvPr/>
                </p:nvSpPr>
                <p:spPr>
                  <a:xfrm>
                    <a:off x="7108560" y="3273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2" name=""/>
              <p:cNvSpPr/>
              <p:nvPr/>
            </p:nvSpPr>
            <p:spPr>
              <a:xfrm>
                <a:off x="6505200" y="241920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4204800" y="24685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962520" y="27050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981760" y="59911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00640" y="634536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93800" y="4662360"/>
            <a:ext cx="75438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increase of the environment must at least balance the entropy loss of the water. Otherwise, the total entropy of the water-environment system would decrease, in violation of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nce this is an open system, some of the energy extracted from the water will spread irreversibly into the environment, i.e., the net entropy must incre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005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87240" y="4253040"/>
            <a:ext cx="2584440" cy="315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6" name="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07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18"/>
            <p:cNvSpPr/>
            <p:nvPr/>
          </p:nvSpPr>
          <p:spPr>
            <a:xfrm>
              <a:off x="4413240" y="4811760"/>
              <a:ext cx="1328760" cy="1163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30"/>
            <p:cNvSpPr/>
            <p:nvPr/>
          </p:nvSpPr>
          <p:spPr>
            <a:xfrm>
              <a:off x="4425840" y="4824360"/>
              <a:ext cx="925560" cy="14940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30"/>
            <p:cNvSpPr/>
            <p:nvPr/>
          </p:nvSpPr>
          <p:spPr>
            <a:xfrm>
              <a:off x="4435560" y="4824360"/>
              <a:ext cx="1600200" cy="80172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28" name="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31" name="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2"/>
          <p:cNvSpPr/>
          <p:nvPr/>
        </p:nvSpPr>
        <p:spPr>
          <a:xfrm flipV="1">
            <a:off x="5780160" y="1706400"/>
            <a:ext cx="25200" cy="37008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22"/>
          <p:cNvSpPr/>
          <p:nvPr/>
        </p:nvSpPr>
        <p:spPr>
          <a:xfrm flipV="1">
            <a:off x="6154560" y="1692000"/>
            <a:ext cx="24120" cy="35528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 flipV="1">
            <a:off x="6651720" y="1708200"/>
            <a:ext cx="20520" cy="29700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42" name="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43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162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4" name="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165" name="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804640" y="4363920"/>
            <a:ext cx="2536200" cy="1708200"/>
            <a:chOff x="5804640" y="4363920"/>
            <a:chExt cx="2536200" cy="1708200"/>
          </a:xfrm>
        </p:grpSpPr>
        <p:sp>
          <p:nvSpPr>
            <p:cNvPr id="184" name=""/>
            <p:cNvSpPr/>
            <p:nvPr/>
          </p:nvSpPr>
          <p:spPr>
            <a:xfrm>
              <a:off x="5817240" y="5092560"/>
              <a:ext cx="37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04640" y="5263920"/>
              <a:ext cx="383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6319440" y="540864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6333840" y="5298840"/>
              <a:ext cx="1076040" cy="51300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02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20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565200" y="35359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41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1306440" y="1262160"/>
            <a:ext cx="370080" cy="28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5920" y="1766880"/>
            <a:ext cx="6180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points lie on the liquid’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) curv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int A does not lie on the solid’s curve, so it must be liqu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but not one in equilibrium [lowest possibl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point B the liquid and solid are in equilibrium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on’t actually know how much of each there i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92400" y="1262160"/>
            <a:ext cx="369720" cy="28548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27040" y="3564720"/>
            <a:ext cx="796932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ff"/>
                </a:solidFill>
                <a:uFillTx/>
                <a:latin typeface="Arial"/>
              </a:rPr>
              <a:t>FYI: Global equilibrium condition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inimum G =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+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     G  =   Gibbs Fre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cept at a coexistence temperature,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wo of the N’s will be zero in equilibri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520" y="6176880"/>
            <a:ext cx="7121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and C are equivalent.  That’s what systems do unless we interfer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is also correct, becaus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t that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63600" y="5186520"/>
            <a:ext cx="3611520" cy="1006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63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64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69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272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4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276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278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281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3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284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289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292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298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2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03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05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3203640" y="428796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5-03T21:16:08Z</cp:lastPrinted>
  <dcterms:modified xsi:type="dcterms:W3CDTF">2013-12-06T06:01:10Z</dcterms:modified>
  <cp:revision>35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