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18240" y="9147240"/>
            <a:ext cx="12805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79249D6-D4EE-4052-8092-53E58B125A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6828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chalk dust –floats; erasers don’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with He: show that v goes like 1/sqrt(m).  And v_sound ~ v.  So, if we blow into a pipe with He (4) instead of N2 (28), we expect a higher pitch [by sqrt(28/4), though it doesn’t work out precisely that way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66840" y="72864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C299CC74-87EB-4BFB-B01B-423BF0B429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05A00E16-CFD0-445C-BD32-8E50F3D8EC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4175280"/>
            <a:ext cx="7296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an ideal gas, the molecules are  non-interacting except for occasional elastic collisions, so the motion of an individual molecule does not depend on the oth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otal collision rate is proportional to N, but the rate per molecule is independent of 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68000" y="66600"/>
            <a:ext cx="2721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4280" y="3317760"/>
            <a:ext cx="866520" cy="46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67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71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840" y="2678040"/>
            <a:ext cx="128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352680" y="3059280"/>
                <a:ext cx="4006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6224760" y="3056040"/>
            <a:ext cx="1144440" cy="3841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403280" y="2978280"/>
                <a:ext cx="189252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p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41760" y="4019400"/>
            <a:ext cx="30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s is a LOT of energ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65160"/>
            <a:ext cx="63295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 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ssume each container contains 1 mole of ga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200" y="2755800"/>
            <a:ext cx="1535040" cy="459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571760" y="4538520"/>
          <a:ext cx="152856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4538520"/>
                    <a:ext cx="15285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586480" y="4075200"/>
          <a:ext cx="325584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6480" y="4075200"/>
                    <a:ext cx="32558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58800" y="3306600"/>
            <a:ext cx="56372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ach quadratic degree of freedom gets kT/2.  The monatomic gas has 3 degrees of freedo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diatomic gas has 3 +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71680" y="5513400"/>
            <a:ext cx="1535040" cy="45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77960" y="5986440"/>
            <a:ext cx="5637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we have defined it thus far, the temperature depends only on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translational kinetic energ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76240" y="60912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V = N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1560" y="1064880"/>
            <a:ext cx="825048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66680" y="65160"/>
            <a:ext cx="880416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39960" y="2205000"/>
          <a:ext cx="6497640" cy="8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2205000"/>
                    <a:ext cx="64976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465880" y="2417760"/>
            <a:ext cx="1990440" cy="351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11240" y="5032440"/>
          <a:ext cx="593712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5032440"/>
                    <a:ext cx="59371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34920" y="3670200"/>
          <a:ext cx="7132680" cy="4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4920" y="3670200"/>
                    <a:ext cx="7132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081920" y="3656160"/>
            <a:ext cx="915840" cy="39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54840" y="5713560"/>
            <a:ext cx="936360" cy="366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329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331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335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55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78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1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Solution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9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92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1776240" y="1878120"/>
            <a:ext cx="59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enter of mass velocity of this “large particle” is given by the Equipartition Theor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662440" y="2300400"/>
          <a:ext cx="1909800" cy="66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2440" y="2300400"/>
                    <a:ext cx="19098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955880" y="4249800"/>
          <a:ext cx="589428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5880" y="4249800"/>
                    <a:ext cx="589428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698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9880" y="3092400"/>
            <a:ext cx="8278920" cy="32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&lt;K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ra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quipartition of translational kinetic energy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rotational energy of nitrogen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ecules is not important h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4/28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lium doesn’t form molecu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 baseline="-4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28/4)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.6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 = mv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2 so the speed ratio is the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verse square root of the mas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of sound speed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hould be approximatel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ctual ratio of sound speeds is 2.76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as this rat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33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3-13T17:26:04Z</dcterms:modified>
  <cp:revision>33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