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54C33E1-1034-4BC9-ADD0-40582152AA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140BFE97-CCAB-4B7B-AE74-8BCF7FEA985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18680" y="68040"/>
            <a:ext cx="6234120" cy="68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iscellaneous Not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57160" y="3339000"/>
            <a:ext cx="828684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end is near – don’t get behi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he PHYS 213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exam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times are 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8-10 AM, Friday, Dec.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-10 AM, Wednesday, Dec. 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6 is due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Tuesda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, Dec. 10 at  8 am. (NO late turn-i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Cour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= 2 bonus points (accessible in ByteShelf, but not until Dec.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87480" y="735120"/>
            <a:ext cx="33098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74920" y="2019240"/>
          <a:ext cx="412272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019240"/>
                    <a:ext cx="41227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416240" y="278928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lower pressure, gas atoms hit the surface less oft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7320" y="1486080"/>
            <a:ext cx="69516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1184400" y="4637160"/>
            <a:ext cx="77216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igher T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igher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creases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decre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s sense?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atoms have enough thermal energy to le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7320" y="4105440"/>
            <a:ext cx="1333440" cy="295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062240" y="5173560"/>
          <a:ext cx="13338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5173560"/>
                    <a:ext cx="1333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4640" y="2658960"/>
            <a:ext cx="720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: 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lung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 @ S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tm;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05 atm;   f(lungs) = 2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2040" y="1136520"/>
            <a:ext cx="819792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2/3 in the lungs (wher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19 atm).  That is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mpirically, 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/3, so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235480" y="2004840"/>
          <a:ext cx="16923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2004840"/>
                    <a:ext cx="16923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719520" y="2970360"/>
          <a:ext cx="110664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9520" y="2970360"/>
                    <a:ext cx="110664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05120" y="3656160"/>
          <a:ext cx="197172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3656160"/>
                    <a:ext cx="197172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42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43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85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87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26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27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400" y="4381560"/>
            <a:ext cx="720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transfer to cause the transition had to come from/go to somewhere, decreasing or increasing the entropy of THAT. The 2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aw applies to the total entropy of everything involved in the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4840" y="2971800"/>
            <a:ext cx="7446960" cy="709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7720" y="3800520"/>
            <a:ext cx="7446960" cy="4651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0640" y="5665680"/>
            <a:ext cx="720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’m not sure if this is tru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: the universe is expanding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entropy as things sprea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gainst: black holes (but even they evaporat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5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56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66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76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8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79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8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9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4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8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9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1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7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1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2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3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7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19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2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4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7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29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2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4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7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39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2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4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7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49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4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04800" y="66600"/>
            <a:ext cx="7900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640" y="3500280"/>
          <a:ext cx="741996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500280"/>
                    <a:ext cx="741996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3"/>
          <p:cNvSpPr/>
          <p:nvPr/>
        </p:nvSpPr>
        <p:spPr>
          <a:xfrm>
            <a:off x="72072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4-02-16T23:42:59Z</dcterms:modified>
  <cp:revision>36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