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68C8E4B-27E7-4B3D-BB42-F13618BE58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1BDABB87-2FFA-4317-9C4B-B0EED8785C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7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200040" y="62640"/>
            <a:ext cx="271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85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Text Box 14"/>
          <p:cNvSpPr/>
          <p:nvPr/>
        </p:nvSpPr>
        <p:spPr>
          <a:xfrm>
            <a:off x="223560" y="6404040"/>
            <a:ext cx="5241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0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because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0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4000" y="3384720"/>
            <a:ext cx="1468440" cy="536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50800" y="4035600"/>
            <a:ext cx="752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This is an irreversible process, so there must be a net increase in entropy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Let’s calculat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MS PGothic"/>
              </a:rPr>
              <a:t>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544840" y="4433760"/>
          <a:ext cx="404820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433760"/>
                    <a:ext cx="404820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78920" y="5076720"/>
            <a:ext cx="255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ositive term is slight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gger than the negative term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20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21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4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5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9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31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1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4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4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6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6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6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99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424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29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72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73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94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99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1360" y="326376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cess 1 is obvious, since we’re heating the g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isothermal expansion (process 2), although the temperature is kept consta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still have to put heat in to do the work from the expan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6680" y="2297160"/>
            <a:ext cx="116208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51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51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54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54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56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7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9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60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62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637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39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6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73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1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93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94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5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3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5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94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46720" y="2835360"/>
            <a:ext cx="6571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y (heat) leaves the environment, so its entropy decrease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 fact, since the environment and gas have the same T,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two entropy changes cancel: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0.  This is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88960" y="2265480"/>
            <a:ext cx="152100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2040" y="5122800"/>
            <a:ext cx="7485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no work or heat flow, so U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s constant.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T is consta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owever, because the volume increases, so does the number of available states,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nd therefore 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increases.  Nothing is happening to the environme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fore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&gt; 0.  This is not a reversible proce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562640"/>
            <a:ext cx="1520640" cy="446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111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23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43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52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00:17Z</dcterms:modified>
  <cp:revision>2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