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media/image17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9.png" ContentType="image/png"/>
  <Override PartName="/ppt/media/image22.jpeg" ContentType="image/jpeg"/>
  <Override PartName="/ppt/media/image16.wmf" ContentType="image/x-wmf"/>
  <Override PartName="/ppt/media/image18.wmf" ContentType="image/x-wmf"/>
  <Override PartName="/ppt/media/image19.wmf" ContentType="image/x-wmf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2429C6A-40E4-44D5-B74D-8E80C4DC9C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D865C2C8-AF36-4E44-9125-C9E02DCC1D2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8400" y="3406680"/>
            <a:ext cx="52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microstates or arrangements of the lin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8160" y="5972040"/>
            <a:ext cx="51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(with L=30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s only one micro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76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77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8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725400" y="295416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7200" y="5586480"/>
            <a:ext cx="12398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3200" y="2730600"/>
            <a:ext cx="49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inimum entropy state has the fewes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icrostates or arrangements of the link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.e., the extended ch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06320" y="216216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83240" y="4916520"/>
            <a:ext cx="1468440" cy="44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37120" y="557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y is that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35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52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85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410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54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56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71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328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84440" y="3811680"/>
            <a:ext cx="18478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77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6720" y="1345680"/>
            <a:ext cx="852984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84440" y="363996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84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1008360" y="4216320"/>
            <a:ext cx="55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hf = (6.6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-s)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27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Hz) = 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91800" y="5891040"/>
            <a:ext cx="56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 =  (8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)/(1.38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/K) = 6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16120" y="5286240"/>
            <a:ext cx="184788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497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54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55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70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71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78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79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6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87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589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1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597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99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0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1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3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614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619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22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4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625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632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636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42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3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50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0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5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8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59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0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2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9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4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5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07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22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31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36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41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48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49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0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2-18T01:14:03Z</dcterms:modified>
  <cp:revision>619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