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155DB61-078E-480C-A32B-E4FCDEECBF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04040" y="23184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6ABCCCCB-33DA-45E2-A16B-ECA20ED52A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1120" y="5076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213 Midterm coming up…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23560" y="1265400"/>
            <a:ext cx="741204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day Apr. 14 @ 7 pm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conflict exam @ 5:15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ectures 1-12 (not including thermal radi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W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ion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bs 1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Ses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day Apr. 13, 3-5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W 4 is not due until Thursday, Apr. 17 at 8 am, but some of the problems are relevant for the ex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1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2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08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09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27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591720" y="5256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232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233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781200" y="3373560"/>
          <a:ext cx="4736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373560"/>
                    <a:ext cx="4736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288120" y="3835440"/>
          <a:ext cx="24163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3835440"/>
                    <a:ext cx="24163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6361200" y="2298600"/>
            <a:ext cx="2030040" cy="398520"/>
            <a:chOff x="6361200" y="2298600"/>
            <a:chExt cx="2030040" cy="398520"/>
          </a:xfrm>
        </p:grpSpPr>
        <p:sp>
          <p:nvSpPr>
            <p:cNvPr id="251" name=""/>
            <p:cNvSpPr/>
            <p:nvPr/>
          </p:nvSpPr>
          <p:spPr>
            <a:xfrm>
              <a:off x="6802200" y="2298600"/>
              <a:ext cx="1589040" cy="39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You can always pick E=0</a:t>
              </a:r>
              <a:br>
                <a:rPr sz="1000"/>
              </a:br>
              <a:r>
                <a:rPr b="0" lang="en-US" sz="1000" spc="-1" strike="noStrike">
                  <a:solidFill>
                    <a:srgbClr val="fafd00"/>
                  </a:solidFill>
                  <a:latin typeface="Arial"/>
                </a:rPr>
                <a:t>at your convenience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361200" y="2512800"/>
              <a:ext cx="404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16040" y="5460840"/>
            <a:ext cx="7151760" cy="679320"/>
            <a:chOff x="716040" y="5460840"/>
            <a:chExt cx="7151760" cy="679320"/>
          </a:xfrm>
        </p:grpSpPr>
        <p:grpSp>
          <p:nvGrpSpPr>
            <p:cNvPr id="254" name=""/>
            <p:cNvGrpSpPr/>
            <p:nvPr/>
          </p:nvGrpSpPr>
          <p:grpSpPr>
            <a:xfrm>
              <a:off x="716040" y="5460840"/>
              <a:ext cx="7151760" cy="679320"/>
              <a:chOff x="716040" y="5460840"/>
              <a:chExt cx="7151760" cy="67932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716040" y="5460840"/>
                    <a:ext cx="3625920" cy="67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T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124160" y="5470200"/>
                    <a:ext cx="2764080" cy="60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5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</m:den>
                              </m:f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6280200" y="5626080"/>
                    <a:ext cx="158760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7</m:t>
                              </m:r>
                            </m:e>
                            <m:e/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6854760" y="5595840"/>
              <a:ext cx="687600" cy="406440"/>
            </a:xfrm>
            <a:prstGeom prst="rect">
              <a:avLst/>
            </a:prstGeom>
            <a:noFill/>
            <a:ln w="12600">
              <a:solidFill>
                <a:srgbClr val="f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6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6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8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99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00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320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321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67240" y="3105000"/>
            <a:ext cx="574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o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because 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s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1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3640" y="2698920"/>
            <a:ext cx="571680" cy="35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280" y="420696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1/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, so all the probabilities become equ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6480" y="3833640"/>
            <a:ext cx="68580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960" y="5440320"/>
            <a:ext cx="7547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T decreases, there is less chance to find the molecule with energ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because that’s the highest E. The ratio of its probability to that of every other state always decreases as T incre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55600" y="5014800"/>
            <a:ext cx="1441440" cy="35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344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358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365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366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369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372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375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381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384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390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393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399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406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407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08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9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414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9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2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424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8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436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8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0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3400" y="2271600"/>
            <a:ext cx="1143000" cy="468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2960" y="286056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high temperature, each spin is as likely to point up as down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at is, each spin as two possible equally likely micro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160" y="4148280"/>
            <a:ext cx="567000" cy="36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560" y="4714920"/>
            <a:ext cx="81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very spin is stuck in the lowest-energy state, aligned with th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 general result: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alistic system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(even a big one)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 are only one or two ground states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290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s T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:  S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The third law” of thermodynam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920" y="5794200"/>
            <a:ext cx="3560760" cy="668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87040" y="57240"/>
            <a:ext cx="196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5040" y="2538360"/>
            <a:ext cx="680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f you take ratios of probabilities, the normalization factor cance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1096920" y="3006720"/>
          <a:ext cx="38242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3006720"/>
                    <a:ext cx="38242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1006560" y="4889520"/>
            <a:ext cx="75891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smaller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y a factor of 658, so B must be larger by that fac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 = 9.9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make 150 T fields (not easily), but not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as large as the field of some neutron st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4000" y="383688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ical MRI field ~ 2 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491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4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4-05T20:08:34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