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98C2BB2-B2B8-4150-812D-98066BC389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766240" y="214200"/>
            <a:ext cx="175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oon and L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pentine can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FD7F6C29-2F90-4CF9-9FD1-C59060A978F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331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332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337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9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40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44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46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49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52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57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60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66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71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74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78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84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86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9720" y="75960"/>
            <a:ext cx="71629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: OOPS!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66720" y="1244520"/>
            <a:ext cx="7399440" cy="4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hotos below show the results of steam cleaning a railroad tank car, then sealing it before the steam had coo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Group 4"/>
          <p:cNvGrpSpPr/>
          <p:nvPr/>
        </p:nvGrpSpPr>
        <p:grpSpPr>
          <a:xfrm>
            <a:off x="930240" y="2503440"/>
            <a:ext cx="7656120" cy="2779920"/>
            <a:chOff x="930240" y="2503440"/>
            <a:chExt cx="7656120" cy="2779920"/>
          </a:xfrm>
        </p:grpSpPr>
        <p:pic>
          <p:nvPicPr>
            <p:cNvPr id="420" name="Picture 5" descr="PVNRT_Rail_Car_Jul04_01"/>
            <p:cNvPicPr/>
            <p:nvPr/>
          </p:nvPicPr>
          <p:blipFill>
            <a:blip r:embed="rId1"/>
            <a:stretch/>
          </p:blipFill>
          <p:spPr>
            <a:xfrm>
              <a:off x="93024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6" descr="PVNRT_Rail_Car_Jul04_02"/>
            <p:cNvPicPr/>
            <p:nvPr/>
          </p:nvPicPr>
          <p:blipFill>
            <a:blip r:embed="rId2"/>
            <a:stretch/>
          </p:blipFill>
          <p:spPr>
            <a:xfrm>
              <a:off x="487980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427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428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4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439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47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58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68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79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2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330200" y="3800520"/>
            <a:ext cx="2733840" cy="32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658160" y="463716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will remain constan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til all the ice is mel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90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91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504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505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506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507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8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509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510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2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513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5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6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517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523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9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6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537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38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539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0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1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2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3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4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5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6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547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548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559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70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0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84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86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7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88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94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606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611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6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24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4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35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8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43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3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54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7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9" name="Rectangle 28"/>
          <p:cNvSpPr/>
          <p:nvPr/>
        </p:nvSpPr>
        <p:spPr>
          <a:xfrm>
            <a:off x="1517760" y="2949480"/>
            <a:ext cx="4056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333 J/g / 273 K * 18 g/m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22.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30"/>
          <p:cNvSpPr/>
          <p:nvPr/>
        </p:nvSpPr>
        <p:spPr>
          <a:xfrm>
            <a:off x="739800" y="5024520"/>
            <a:ext cx="61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a loss o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about 2.73 per molecul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 is, there are about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.7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r 1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many microstate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vailable to each molecule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0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0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2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1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93800" y="4662360"/>
            <a:ext cx="7543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increase of the environment must at least balance the entropy loss of the water. Otherwise, the total entropy of the water-environment system would decrease, in violation of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nce this is an open system, some of the energy extracted from the water will spread irreversibly into the environment, i.e., the net entropy must incre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87240" y="4253040"/>
            <a:ext cx="2584440" cy="315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7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28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1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2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3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2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5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4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2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20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65200" y="35359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41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27040" y="35647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520" y="6176880"/>
            <a:ext cx="7121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and C are equivalent.  That’s what systems do unless we interfer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is also correct, becaus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that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63600" y="5186520"/>
            <a:ext cx="3611520" cy="1006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6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6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6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7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7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7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8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8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8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9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9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2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03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05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3-12-06T06:00:55Z</dcterms:modified>
  <cp:revision>35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