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3475A30-B07E-4759-AC15-8F0F72D333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D5E59774-940B-4981-B085-96F9C2BFD3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48120" y="3243240"/>
            <a:ext cx="6066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y cancel, because the amount of heat needed to rais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from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 equa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mount of heat needed to lower the temperature fr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constant volume*, even though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Note:  This is only valid for ideal gas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only independent of V for an ideal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8320" y="2257560"/>
            <a:ext cx="3787920" cy="266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3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7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46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68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76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0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98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0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34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54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55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8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8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0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12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13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36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37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04720" y="3011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es 1 and 3 are irreversibl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isochoric heating and cool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: Cold gas touches hot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: Hot gas touches cold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44680" y="1674720"/>
            <a:ext cx="906480" cy="428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61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87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22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36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71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3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78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4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7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29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29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3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6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3T00:57:43Z</dcterms:modified>
  <cp:revision>2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