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19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1.png" ContentType="image/png"/>
  <Override PartName="/ppt/media/image14.wmf" ContentType="image/x-wmf"/>
  <Override PartName="/ppt/media/image33.png" ContentType="image/png"/>
  <Override PartName="/ppt/media/image16.wmf" ContentType="image/x-wmf"/>
  <Override PartName="/ppt/media/image29.jpeg" ContentType="image/jpeg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01B24833-848C-4705-A834-652C4073F5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04040" y="231840"/>
            <a:ext cx="1686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cture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predict M v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lecture is about 5-10 minutes too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ubber band with heat g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ompare with metal 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ubber band wheel (I’d skip i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d Al become magnetic demo  (M(77K) = 300/77 M(300K) = 3.9 M(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reservoir means  system can’t pull out enough E to change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its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big. So we can ignore higher deriv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ization is an important point that they often mi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5E09628B-2018-4DCD-8E14-177B781503C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1120" y="5076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213 Midterm coming up…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23560" y="1265400"/>
            <a:ext cx="7412040" cy="38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day Nov. 11 @ 7 pm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conflict exam @ 5:15p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gn up for Conflict-conflict by Tuesday nig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ectures 1-12 (not including thermal radi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W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ion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bs 1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Ses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day Nov. 10, 3-5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4 is not due until Thursday, Nov. 14 at 8 am, but some of the problems are relevant for the ex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06080" y="52560"/>
            <a:ext cx="650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Boltzmann Fact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191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192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196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08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09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13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22" name="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6" name="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27" name="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32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33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37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46" name="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0" name="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51" name="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716040" y="5460840"/>
            <a:ext cx="7151760" cy="679320"/>
            <a:chOff x="716040" y="5460840"/>
            <a:chExt cx="7151760" cy="679320"/>
          </a:xfrm>
        </p:grpSpPr>
        <p:grpSp>
          <p:nvGrpSpPr>
            <p:cNvPr id="254" name=""/>
            <p:cNvGrpSpPr/>
            <p:nvPr/>
          </p:nvGrpSpPr>
          <p:grpSpPr>
            <a:xfrm>
              <a:off x="716040" y="5460840"/>
              <a:ext cx="7151760" cy="679320"/>
              <a:chOff x="716040" y="5460840"/>
              <a:chExt cx="7151760" cy="679320"/>
            </a:xfrm>
          </p:grpSpPr>
          <mc:AlternateContent>
            <mc:Choice xmlns:a14="http://schemas.microsoft.com/office/drawing/2010/main" Requires="a14">
              <p:sp>
                <p:nvSpPr>
                  <p:cNvPr id="255" name=""/>
                  <p:cNvSpPr txBox="1"/>
                  <p:nvPr/>
                </p:nvSpPr>
                <p:spPr>
                  <a:xfrm>
                    <a:off x="716040" y="5460840"/>
                    <a:ext cx="3625920" cy="679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6" name=""/>
                  <p:cNvSpPr txBox="1"/>
                  <p:nvPr/>
                </p:nvSpPr>
                <p:spPr>
                  <a:xfrm>
                    <a:off x="4124160" y="5470200"/>
                    <a:ext cx="2764080" cy="60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f>
                                <m:num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num>
                                <m:den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85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den>
                              </m:f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7" name=""/>
                  <p:cNvSpPr txBox="1"/>
                  <p:nvPr/>
                </p:nvSpPr>
                <p:spPr>
                  <a:xfrm>
                    <a:off x="6280200" y="5626080"/>
                    <a:ext cx="158760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7</m:t>
                              </m:r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58" name=""/>
            <p:cNvSpPr/>
            <p:nvPr/>
          </p:nvSpPr>
          <p:spPr>
            <a:xfrm>
              <a:off x="6854760" y="5595840"/>
              <a:ext cx="687600" cy="406440"/>
            </a:xfrm>
            <a:prstGeom prst="rect">
              <a:avLst/>
            </a:prstGeom>
            <a:noFill/>
            <a:ln w="1260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63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64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80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81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99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00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320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21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9960" y="5440320"/>
            <a:ext cx="75470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T decreases, there is less chance to find the molecule with energ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because that’s the highest E. The ratio of its probability to that of every other state always decreases as T increa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55600" y="5014800"/>
            <a:ext cx="144144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798480" y="1366920"/>
            <a:ext cx="7172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34000"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often come across a system that is “degenerate”, which means t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than one state has the same energ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The Boltzmann calculation still applies – just make sure t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sum over all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tes. In this case, you simply need to count the number of degenerate states.  For example, three states have energy 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Boltzmann factor tells us the probability per state!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that the system has a particular energy E depends on the number of states at that energ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1840" y="56880"/>
            <a:ext cx="8663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pply the Boltzmann Fact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f there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tat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111320" y="4863960"/>
          <a:ext cx="251136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4863960"/>
                    <a:ext cx="25113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3" name=""/>
          <p:cNvGrpSpPr/>
          <p:nvPr/>
        </p:nvGrpSpPr>
        <p:grpSpPr>
          <a:xfrm>
            <a:off x="2131920" y="2995560"/>
            <a:ext cx="1079640" cy="47520"/>
            <a:chOff x="2131920" y="2995560"/>
            <a:chExt cx="1079640" cy="47520"/>
          </a:xfrm>
        </p:grpSpPr>
        <p:sp>
          <p:nvSpPr>
            <p:cNvPr id="344" name=""/>
            <p:cNvSpPr/>
            <p:nvPr/>
          </p:nvSpPr>
          <p:spPr>
            <a:xfrm>
              <a:off x="2131920" y="299556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1920" y="301932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31920" y="304308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149560" y="3681360"/>
            <a:ext cx="10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06120" y="2873520"/>
            <a:ext cx="1380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3 sta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1 st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386080" y="3071880"/>
            <a:ext cx="0" cy="598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73480" y="28861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97240" y="352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98560" y="6149880"/>
            <a:ext cx="29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ree states have the same Boltzmann facto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075360" y="4570560"/>
          <a:ext cx="22604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5360" y="4570560"/>
                    <a:ext cx="2260440" cy="1108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6045120" y="5686560"/>
            <a:ext cx="283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degeneracy of state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81680" y="609768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probability of a particula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878040" y="4491000"/>
            <a:ext cx="7765920" cy="1532160"/>
            <a:chOff x="878040" y="4491000"/>
            <a:chExt cx="7765920" cy="1532160"/>
          </a:xfrm>
        </p:grpSpPr>
        <p:sp>
          <p:nvSpPr>
            <p:cNvPr id="358" name=""/>
            <p:cNvSpPr/>
            <p:nvPr/>
          </p:nvSpPr>
          <p:spPr>
            <a:xfrm>
              <a:off x="878040" y="4626000"/>
              <a:ext cx="776592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Each spin has potential energy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-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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=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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(a result from P212)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 probability P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that a spin will have energy E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is given by the Boltzmann distribution (which gives the probability that the spin is up or down)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029200" y="4491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Paramagnetism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ystem of Independent Magnetic Spi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54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agnetic fiel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pins can only point parallel or anti-paralle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ield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result of quantum mechanic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866960" y="2533680"/>
            <a:ext cx="0" cy="1828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66680" y="2971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286000" y="2742840"/>
            <a:ext cx="1904760" cy="1371600"/>
            <a:chOff x="2286000" y="2742840"/>
            <a:chExt cx="1904760" cy="1371600"/>
          </a:xfrm>
        </p:grpSpPr>
        <p:grpSp>
          <p:nvGrpSpPr>
            <p:cNvPr id="365" name=""/>
            <p:cNvGrpSpPr/>
            <p:nvPr/>
          </p:nvGrpSpPr>
          <p:grpSpPr>
            <a:xfrm>
              <a:off x="2286000" y="2810880"/>
              <a:ext cx="131040" cy="479880"/>
              <a:chOff x="2286000" y="2810880"/>
              <a:chExt cx="131040" cy="479880"/>
            </a:xfrm>
          </p:grpSpPr>
          <p:sp>
            <p:nvSpPr>
              <p:cNvPr id="366" name=""/>
              <p:cNvSpPr/>
              <p:nvPr/>
            </p:nvSpPr>
            <p:spPr>
              <a:xfrm>
                <a:off x="2286000" y="301680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2351520" y="28108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3074040" y="2742840"/>
              <a:ext cx="131040" cy="479880"/>
              <a:chOff x="3074040" y="2742840"/>
              <a:chExt cx="131040" cy="479880"/>
            </a:xfrm>
          </p:grpSpPr>
          <p:sp>
            <p:nvSpPr>
              <p:cNvPr id="369" name=""/>
              <p:cNvSpPr/>
              <p:nvPr/>
            </p:nvSpPr>
            <p:spPr>
              <a:xfrm>
                <a:off x="3074040" y="29487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3139560" y="27428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2417040" y="3634200"/>
              <a:ext cx="131040" cy="479880"/>
              <a:chOff x="2417040" y="3634200"/>
              <a:chExt cx="131040" cy="479880"/>
            </a:xfrm>
          </p:grpSpPr>
          <p:sp>
            <p:nvSpPr>
              <p:cNvPr id="372" name=""/>
              <p:cNvSpPr/>
              <p:nvPr/>
            </p:nvSpPr>
            <p:spPr>
              <a:xfrm>
                <a:off x="241704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248256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3599640" y="2879640"/>
              <a:ext cx="131040" cy="479880"/>
              <a:chOff x="3599640" y="2879640"/>
              <a:chExt cx="131040" cy="479880"/>
            </a:xfrm>
          </p:grpSpPr>
          <p:sp>
            <p:nvSpPr>
              <p:cNvPr id="375" name=""/>
              <p:cNvSpPr/>
              <p:nvPr/>
            </p:nvSpPr>
            <p:spPr>
              <a:xfrm>
                <a:off x="35996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3665160" y="28796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3402720" y="3634200"/>
              <a:ext cx="131040" cy="479880"/>
              <a:chOff x="3402720" y="3634200"/>
              <a:chExt cx="131040" cy="479880"/>
            </a:xfrm>
          </p:grpSpPr>
          <p:sp>
            <p:nvSpPr>
              <p:cNvPr id="378" name=""/>
              <p:cNvSpPr/>
              <p:nvPr/>
            </p:nvSpPr>
            <p:spPr>
              <a:xfrm>
                <a:off x="340272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346824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4059720" y="3291480"/>
              <a:ext cx="131040" cy="479880"/>
              <a:chOff x="4059720" y="3291480"/>
              <a:chExt cx="131040" cy="479880"/>
            </a:xfrm>
          </p:grpSpPr>
          <p:sp>
            <p:nvSpPr>
              <p:cNvPr id="381" name=""/>
              <p:cNvSpPr/>
              <p:nvPr/>
            </p:nvSpPr>
            <p:spPr>
              <a:xfrm>
                <a:off x="4059720" y="342828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125240" y="32914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3336840" y="3085920"/>
              <a:ext cx="131400" cy="479880"/>
              <a:chOff x="3336840" y="3085920"/>
              <a:chExt cx="131400" cy="479880"/>
            </a:xfrm>
          </p:grpSpPr>
          <p:sp>
            <p:nvSpPr>
              <p:cNvPr id="384" name=""/>
              <p:cNvSpPr/>
              <p:nvPr/>
            </p:nvSpPr>
            <p:spPr>
              <a:xfrm>
                <a:off x="3336840" y="3222720"/>
                <a:ext cx="13140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402360" y="308592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2877120" y="3634560"/>
              <a:ext cx="131040" cy="479880"/>
              <a:chOff x="2877120" y="3634560"/>
              <a:chExt cx="131040" cy="479880"/>
            </a:xfrm>
          </p:grpSpPr>
          <p:sp>
            <p:nvSpPr>
              <p:cNvPr id="387" name=""/>
              <p:cNvSpPr/>
              <p:nvPr/>
            </p:nvSpPr>
            <p:spPr>
              <a:xfrm>
                <a:off x="28771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426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3665520" y="3634560"/>
              <a:ext cx="131040" cy="479880"/>
              <a:chOff x="3665520" y="3634560"/>
              <a:chExt cx="131040" cy="479880"/>
            </a:xfrm>
          </p:grpSpPr>
          <p:sp>
            <p:nvSpPr>
              <p:cNvPr id="390" name=""/>
              <p:cNvSpPr/>
              <p:nvPr/>
            </p:nvSpPr>
            <p:spPr>
              <a:xfrm>
                <a:off x="36655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7310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2679840" y="2948760"/>
              <a:ext cx="131040" cy="479880"/>
              <a:chOff x="2679840" y="2948760"/>
              <a:chExt cx="131040" cy="479880"/>
            </a:xfrm>
          </p:grpSpPr>
          <p:sp>
            <p:nvSpPr>
              <p:cNvPr id="393" name=""/>
              <p:cNvSpPr/>
              <p:nvPr/>
            </p:nvSpPr>
            <p:spPr>
              <a:xfrm>
                <a:off x="26798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745360" y="29487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5" name=""/>
          <p:cNvSpPr/>
          <p:nvPr/>
        </p:nvSpPr>
        <p:spPr>
          <a:xfrm>
            <a:off x="685800" y="5029200"/>
            <a:ext cx="693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3800520" y="5681520"/>
          <a:ext cx="21924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0520" y="5681520"/>
                    <a:ext cx="2192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8" name=""/>
          <p:cNvGrpSpPr/>
          <p:nvPr/>
        </p:nvGrpSpPr>
        <p:grpSpPr>
          <a:xfrm>
            <a:off x="4484520" y="3019320"/>
            <a:ext cx="4426200" cy="720360"/>
            <a:chOff x="4484520" y="3019320"/>
            <a:chExt cx="4426200" cy="720360"/>
          </a:xfrm>
        </p:grpSpPr>
        <p:sp>
          <p:nvSpPr>
            <p:cNvPr id="399" name=""/>
            <p:cNvSpPr/>
            <p:nvPr/>
          </p:nvSpPr>
          <p:spPr>
            <a:xfrm>
              <a:off x="4484520" y="3159000"/>
              <a:ext cx="442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 spins, each with magnetic moment 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, in contact with a thermal bath at temperature 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826400" y="3019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485640" y="1217520"/>
            <a:ext cx="77392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RI exploits the paramagnetic behavior of the protons in your bod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you place your body in a magnetic field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tons (hydrogen nuclei) align their magnetic moments (spins)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gnetic field.  This is the basis of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gnetic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sonance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g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small ‘system’ to be a single proton spin;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‘reservoir’ is your body.  Here are the energy leve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prot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interested in the net magnetic moment, 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N protons in the magnetic field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, where m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-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dow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“spin excess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7320" y="57240"/>
            <a:ext cx="8659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pplication: Magnetic Resonance Imaging (MRI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7086600" y="4016520"/>
            <a:ext cx="1419120" cy="16938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6842160" y="5780160"/>
            <a:ext cx="215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 Nobel Prize in Medicine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IUC’s Paul Lauterb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2119320" y="3585960"/>
            <a:ext cx="2779560" cy="865440"/>
            <a:chOff x="2119320" y="3585960"/>
            <a:chExt cx="2779560" cy="865440"/>
          </a:xfrm>
        </p:grpSpPr>
        <p:grpSp>
          <p:nvGrpSpPr>
            <p:cNvPr id="406" name=""/>
            <p:cNvGrpSpPr/>
            <p:nvPr/>
          </p:nvGrpSpPr>
          <p:grpSpPr>
            <a:xfrm>
              <a:off x="2662200" y="3652920"/>
              <a:ext cx="2236680" cy="798480"/>
              <a:chOff x="2662200" y="365292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407" name=""/>
                  <p:cNvSpPr txBox="1"/>
                  <p:nvPr/>
                </p:nvSpPr>
                <p:spPr>
                  <a:xfrm>
                    <a:off x="3844800" y="365292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08" name=""/>
                  <p:cNvSpPr txBox="1"/>
                  <p:nvPr/>
                </p:nvSpPr>
                <p:spPr>
                  <a:xfrm>
                    <a:off x="3867120" y="415440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9" name=""/>
              <p:cNvSpPr/>
              <p:nvPr/>
            </p:nvSpPr>
            <p:spPr>
              <a:xfrm flipH="1">
                <a:off x="2776320" y="428652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2776320" y="377208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2662200" y="419112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681280" y="369576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2119320" y="3585960"/>
              <a:ext cx="401760" cy="824040"/>
              <a:chOff x="2119320" y="3585960"/>
              <a:chExt cx="401760" cy="824040"/>
            </a:xfrm>
          </p:grpSpPr>
          <p:sp>
            <p:nvSpPr>
              <p:cNvPr id="414" name=""/>
              <p:cNvSpPr/>
              <p:nvPr/>
            </p:nvSpPr>
            <p:spPr>
              <a:xfrm flipV="1">
                <a:off x="2489400" y="358596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119320" y="384012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3240" y="6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0</a:t>
            </a:r>
            <a:br>
              <a:rPr sz="3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Boltzmann Distribution</a:t>
            </a:r>
            <a:br>
              <a:rPr sz="32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97000" y="2161080"/>
            <a:ext cx="708192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 of a thermal reservoi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oltzmann distribu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magnetic Spins – MRI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plement: Proof of equipartition, showing its limi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822240" y="5024520"/>
            <a:ext cx="3692520" cy="1033200"/>
            <a:chOff x="822240" y="5024520"/>
            <a:chExt cx="3692520" cy="1033200"/>
          </a:xfrm>
        </p:grpSpPr>
        <p:sp>
          <p:nvSpPr>
            <p:cNvPr id="49" name=""/>
            <p:cNvSpPr/>
            <p:nvPr/>
          </p:nvSpPr>
          <p:spPr>
            <a:xfrm>
              <a:off x="822240" y="5153040"/>
              <a:ext cx="369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this Lecture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63640" y="5024520"/>
              <a:ext cx="3486240" cy="1033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746600" y="5030640"/>
            <a:ext cx="3678120" cy="1008360"/>
            <a:chOff x="4746600" y="5030640"/>
            <a:chExt cx="3678120" cy="1008360"/>
          </a:xfrm>
        </p:grpSpPr>
        <p:sp>
          <p:nvSpPr>
            <p:cNvPr id="52" name=""/>
            <p:cNvSpPr/>
            <p:nvPr/>
          </p:nvSpPr>
          <p:spPr>
            <a:xfrm>
              <a:off x="4746600" y="5140440"/>
              <a:ext cx="367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Lecture 11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759200" y="5030640"/>
              <a:ext cx="3490920" cy="1008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1187280" y="3220920"/>
          <a:ext cx="2114640" cy="3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20920"/>
                    <a:ext cx="21146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1222200" y="4249800"/>
          <a:ext cx="3787920" cy="15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249800"/>
                    <a:ext cx="37879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1362240" y="5370480"/>
            <a:ext cx="2217600" cy="423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8120" y="971640"/>
            <a:ext cx="633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e this problem using Boltzmann fac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rtition function, Z, is the sum of the Boltzmann facto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magnetic moment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60400" y="1481040"/>
            <a:ext cx="4327560" cy="995400"/>
            <a:chOff x="860400" y="1481040"/>
            <a:chExt cx="4327560" cy="995400"/>
          </a:xfrm>
        </p:grpSpPr>
        <p:graphicFrame>
          <p:nvGraphicFramePr>
            <p:cNvPr id="424" name=""/>
            <p:cNvGraphicFramePr/>
            <p:nvPr/>
          </p:nvGraphicFramePr>
          <p:xfrm>
            <a:off x="2504880" y="1481040"/>
            <a:ext cx="2683080" cy="471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4880" y="1481040"/>
                      <a:ext cx="26830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6" name=""/>
            <p:cNvGraphicFramePr/>
            <p:nvPr/>
          </p:nvGraphicFramePr>
          <p:xfrm>
            <a:off x="2504880" y="1995480"/>
            <a:ext cx="258912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4880" y="1995480"/>
                      <a:ext cx="2589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8" name=""/>
            <p:cNvSpPr/>
            <p:nvPr/>
          </p:nvSpPr>
          <p:spPr>
            <a:xfrm flipH="1">
              <a:off x="1517040" y="221760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1517040" y="170316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1403280" y="2122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422360" y="1627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230120" y="1517040"/>
              <a:ext cx="0" cy="824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60400" y="1771560"/>
              <a:ext cx="4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4112280" y="56800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plot this function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514080" y="4400280"/>
            <a:ext cx="6815160" cy="1991520"/>
            <a:chOff x="514080" y="4400280"/>
            <a:chExt cx="6815160" cy="1991520"/>
          </a:xfrm>
        </p:grpSpPr>
        <p:sp>
          <p:nvSpPr>
            <p:cNvPr id="436" name="PlaceHolder 1"/>
            <p:cNvSpPr>
              <a:spLocks noGrp="1"/>
            </p:cNvSpPr>
            <p:nvPr>
              <p:ph/>
            </p:nvPr>
          </p:nvSpPr>
          <p:spPr>
            <a:xfrm>
              <a:off x="514080" y="4400280"/>
              <a:ext cx="6815160" cy="91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indent="0">
                <a:lnSpc>
                  <a:spcPct val="9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 sufficiently high temperatur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the ratio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 / kT &lt;&lt; 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ing tanh(x) ~ x for small x,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e total magnetic moment of the spin system i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35480" y="5764320"/>
              <a:ext cx="14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Curie’s Law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38" name=""/>
            <p:cNvGraphicFramePr/>
            <p:nvPr/>
          </p:nvGraphicFramePr>
          <p:xfrm>
            <a:off x="2193840" y="5586480"/>
            <a:ext cx="1838520" cy="65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3840" y="5586480"/>
                      <a:ext cx="1838520" cy="65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40" name=""/>
            <p:cNvGrpSpPr/>
            <p:nvPr/>
          </p:nvGrpSpPr>
          <p:grpSpPr>
            <a:xfrm>
              <a:off x="5726160" y="5273640"/>
              <a:ext cx="1332000" cy="1118160"/>
              <a:chOff x="5726160" y="5273640"/>
              <a:chExt cx="1332000" cy="1118160"/>
            </a:xfrm>
          </p:grpSpPr>
          <p:sp>
            <p:nvSpPr>
              <p:cNvPr id="441" name=""/>
              <p:cNvSpPr/>
              <p:nvPr/>
            </p:nvSpPr>
            <p:spPr>
              <a:xfrm>
                <a:off x="6718320" y="608472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6086520" y="5443200"/>
                <a:ext cx="0" cy="7729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097680" y="6218280"/>
                <a:ext cx="63180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189840" y="5433840"/>
                <a:ext cx="547560" cy="679680"/>
              </a:xfrm>
              <a:custGeom>
                <a:avLst/>
                <a:gdLst/>
                <a:ahLst/>
                <a:rect l="l" t="t" r="r" b="b"/>
                <a:pathLst>
                  <a:path w="345" h="428">
                    <a:moveTo>
                      <a:pt x="0" y="0"/>
                    </a:moveTo>
                    <a:cubicBezTo>
                      <a:pt x="28" y="125"/>
                      <a:pt x="56" y="250"/>
                      <a:pt x="113" y="321"/>
                    </a:cubicBezTo>
                    <a:cubicBezTo>
                      <a:pt x="170" y="392"/>
                      <a:pt x="257" y="410"/>
                      <a:pt x="345" y="428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726160" y="527364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311880" y="5597640"/>
                <a:ext cx="66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/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7" name=""/>
          <p:cNvSpPr/>
          <p:nvPr/>
        </p:nvSpPr>
        <p:spPr>
          <a:xfrm flipV="1">
            <a:off x="4019400" y="162576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657440" y="276876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343240" y="1854360"/>
            <a:ext cx="3429000" cy="1828800"/>
          </a:xfrm>
          <a:custGeom>
            <a:avLst/>
            <a:gdLst/>
            <a:ahLst/>
            <a:rect l="l" t="t" r="r" b="b"/>
            <a:pathLst>
              <a:path w="2160" h="1152">
                <a:moveTo>
                  <a:pt x="0" y="1152"/>
                </a:moveTo>
                <a:cubicBezTo>
                  <a:pt x="200" y="1128"/>
                  <a:pt x="400" y="1104"/>
                  <a:pt x="576" y="1008"/>
                </a:cubicBezTo>
                <a:cubicBezTo>
                  <a:pt x="752" y="912"/>
                  <a:pt x="904" y="720"/>
                  <a:pt x="1056" y="576"/>
                </a:cubicBezTo>
                <a:cubicBezTo>
                  <a:pt x="1208" y="432"/>
                  <a:pt x="1304" y="240"/>
                  <a:pt x="1488" y="144"/>
                </a:cubicBezTo>
                <a:cubicBezTo>
                  <a:pt x="1672" y="48"/>
                  <a:pt x="1916" y="24"/>
                  <a:pt x="2160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67120" y="185436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67120" y="3759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76520" y="1711440"/>
            <a:ext cx="449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766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622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57640" y="28447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+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330960" y="27766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/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243080" y="3225960"/>
          <a:ext cx="2000160" cy="2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3080" y="3225960"/>
                    <a:ext cx="20001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4067280" y="148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29720" y="1152360"/>
            <a:ext cx="171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-B or low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ost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turati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689280" y="2436840"/>
            <a:ext cx="662040" cy="662040"/>
          </a:xfrm>
          <a:prstGeom prst="ellipse">
            <a:avLst/>
          </a:prstGeom>
          <a:noFill/>
          <a:ln cap="rnd" w="19080">
            <a:solidFill>
              <a:srgbClr val="00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092240" y="1487520"/>
            <a:ext cx="165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-B or high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ew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Linear respon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554200" y="2081160"/>
            <a:ext cx="1114560" cy="49392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5864400" y="1573200"/>
            <a:ext cx="274320" cy="27144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3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371760" y="3606840"/>
            <a:ext cx="555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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0160" y="4148280"/>
            <a:ext cx="567000" cy="36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5560" y="4714920"/>
            <a:ext cx="8193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very spin is stuck in the lowest-energy state, aligned with the fie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 general result: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 </a:t>
            </a:r>
            <a:r>
              <a:rPr b="0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realistic system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(even a big one)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 are only one or two ground states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s T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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:  S 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The third law” of thermodynam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04920" y="5794200"/>
            <a:ext cx="3560760" cy="668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77360" y="6192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772920" y="1083960"/>
            <a:ext cx="7894440" cy="2925720"/>
            <a:chOff x="772920" y="1083960"/>
            <a:chExt cx="7894440" cy="2925720"/>
          </a:xfrm>
        </p:grpSpPr>
        <p:sp>
          <p:nvSpPr>
            <p:cNvPr id="482" name="PlaceHolder 2"/>
            <p:cNvSpPr>
              <a:spLocks noGrp="1"/>
            </p:cNvSpPr>
            <p:nvPr>
              <p:ph/>
            </p:nvPr>
          </p:nvSpPr>
          <p:spPr>
            <a:xfrm>
              <a:off x="772920" y="1083960"/>
              <a:ext cx="7894440" cy="2925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and down is just N times the probabiliti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macroscopic properties (see Appendix)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83" name=""/>
            <p:cNvGraphicFramePr/>
            <p:nvPr/>
          </p:nvGraphicFramePr>
          <p:xfrm>
            <a:off x="1728720" y="2011320"/>
            <a:ext cx="4895640" cy="66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28720" y="2011320"/>
                      <a:ext cx="4895640" cy="66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9640" y="49320"/>
            <a:ext cx="8002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-state Systems in General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2697120" y="2868480"/>
          <a:ext cx="153504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7120" y="2868480"/>
                    <a:ext cx="153504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"/>
          <p:cNvSpPr/>
          <p:nvPr/>
        </p:nvSpPr>
        <p:spPr>
          <a:xfrm>
            <a:off x="1030320" y="5818320"/>
            <a:ext cx="60516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s behavior will be exactly the same for every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“two-state system” with the sam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835200" y="2952720"/>
          <a:ext cx="152388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200" y="2952720"/>
                    <a:ext cx="15238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1" name=""/>
          <p:cNvGrpSpPr/>
          <p:nvPr/>
        </p:nvGrpSpPr>
        <p:grpSpPr>
          <a:xfrm>
            <a:off x="5437080" y="2717640"/>
            <a:ext cx="3638160" cy="2794680"/>
            <a:chOff x="5437080" y="2717640"/>
            <a:chExt cx="3638160" cy="2794680"/>
          </a:xfrm>
        </p:grpSpPr>
        <p:sp>
          <p:nvSpPr>
            <p:cNvPr id="492" name=""/>
            <p:cNvSpPr/>
            <p:nvPr/>
          </p:nvSpPr>
          <p:spPr>
            <a:xfrm>
              <a:off x="6053040" y="2717640"/>
              <a:ext cx="2693880" cy="2171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59124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8612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1308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3994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6690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937280" y="2717640"/>
              <a:ext cx="180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20908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47728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53040" y="2717640"/>
              <a:ext cx="2693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6053040" y="4845960"/>
              <a:ext cx="2693880" cy="44640"/>
              <a:chOff x="6053040" y="4845960"/>
              <a:chExt cx="2693880" cy="44640"/>
            </a:xfrm>
          </p:grpSpPr>
          <p:sp>
            <p:nvSpPr>
              <p:cNvPr id="503" name=""/>
              <p:cNvSpPr/>
              <p:nvPr/>
            </p:nvSpPr>
            <p:spPr>
              <a:xfrm flipV="1">
                <a:off x="632124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659124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68612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71308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73994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76690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793728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820908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847728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053040" y="4889160"/>
                <a:ext cx="269388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8703720" y="2717640"/>
              <a:ext cx="45000" cy="2171520"/>
              <a:chOff x="8703720" y="2717640"/>
              <a:chExt cx="45000" cy="2171520"/>
            </a:xfrm>
          </p:grpSpPr>
          <p:sp>
            <p:nvSpPr>
              <p:cNvPr id="516" name=""/>
              <p:cNvSpPr/>
              <p:nvPr/>
            </p:nvSpPr>
            <p:spPr>
              <a:xfrm flipV="1">
                <a:off x="874692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874692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870372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>
                <a:off x="8724600" y="46890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870372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>
                <a:off x="8724600" y="429552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>
                <a:off x="870372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>
                <a:off x="8724600" y="390168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>
                <a:off x="870372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>
                <a:off x="8724600" y="35064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>
                <a:off x="870372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>
                <a:off x="8724600" y="311112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>
                <a:off x="870372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>
                <a:off x="8724600" y="271764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874692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>
              <a:off x="6054840" y="4093920"/>
              <a:ext cx="1346040" cy="79200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998"/>
                  </a:moveTo>
                  <a:lnTo>
                    <a:pt x="3" y="998"/>
                  </a:lnTo>
                  <a:lnTo>
                    <a:pt x="6" y="998"/>
                  </a:lnTo>
                  <a:lnTo>
                    <a:pt x="11" y="998"/>
                  </a:lnTo>
                  <a:lnTo>
                    <a:pt x="14" y="998"/>
                  </a:lnTo>
                  <a:lnTo>
                    <a:pt x="17" y="998"/>
                  </a:lnTo>
                  <a:lnTo>
                    <a:pt x="20" y="998"/>
                  </a:lnTo>
                  <a:lnTo>
                    <a:pt x="24" y="998"/>
                  </a:lnTo>
                  <a:lnTo>
                    <a:pt x="27" y="998"/>
                  </a:lnTo>
                  <a:lnTo>
                    <a:pt x="30" y="998"/>
                  </a:lnTo>
                  <a:lnTo>
                    <a:pt x="35" y="998"/>
                  </a:lnTo>
                  <a:lnTo>
                    <a:pt x="38" y="998"/>
                  </a:lnTo>
                  <a:lnTo>
                    <a:pt x="41" y="998"/>
                  </a:lnTo>
                  <a:lnTo>
                    <a:pt x="44" y="998"/>
                  </a:lnTo>
                  <a:lnTo>
                    <a:pt x="47" y="998"/>
                  </a:lnTo>
                  <a:lnTo>
                    <a:pt x="50" y="998"/>
                  </a:lnTo>
                  <a:lnTo>
                    <a:pt x="54" y="998"/>
                  </a:lnTo>
                  <a:lnTo>
                    <a:pt x="58" y="998"/>
                  </a:lnTo>
                  <a:lnTo>
                    <a:pt x="62" y="998"/>
                  </a:lnTo>
                  <a:lnTo>
                    <a:pt x="65" y="998"/>
                  </a:lnTo>
                  <a:lnTo>
                    <a:pt x="68" y="998"/>
                  </a:lnTo>
                  <a:lnTo>
                    <a:pt x="71" y="998"/>
                  </a:lnTo>
                  <a:lnTo>
                    <a:pt x="74" y="998"/>
                  </a:lnTo>
                  <a:lnTo>
                    <a:pt x="77" y="998"/>
                  </a:lnTo>
                  <a:lnTo>
                    <a:pt x="82" y="998"/>
                  </a:lnTo>
                  <a:lnTo>
                    <a:pt x="85" y="998"/>
                  </a:lnTo>
                  <a:lnTo>
                    <a:pt x="88" y="996"/>
                  </a:lnTo>
                  <a:lnTo>
                    <a:pt x="92" y="996"/>
                  </a:lnTo>
                  <a:lnTo>
                    <a:pt x="95" y="996"/>
                  </a:lnTo>
                  <a:lnTo>
                    <a:pt x="98" y="994"/>
                  </a:lnTo>
                  <a:lnTo>
                    <a:pt x="101" y="994"/>
                  </a:lnTo>
                  <a:lnTo>
                    <a:pt x="106" y="993"/>
                  </a:lnTo>
                  <a:lnTo>
                    <a:pt x="109" y="993"/>
                  </a:lnTo>
                  <a:lnTo>
                    <a:pt x="112" y="991"/>
                  </a:lnTo>
                  <a:lnTo>
                    <a:pt x="115" y="990"/>
                  </a:lnTo>
                  <a:lnTo>
                    <a:pt x="119" y="988"/>
                  </a:lnTo>
                  <a:lnTo>
                    <a:pt x="122" y="987"/>
                  </a:lnTo>
                  <a:lnTo>
                    <a:pt x="125" y="985"/>
                  </a:lnTo>
                  <a:lnTo>
                    <a:pt x="130" y="983"/>
                  </a:lnTo>
                  <a:lnTo>
                    <a:pt x="133" y="982"/>
                  </a:lnTo>
                  <a:lnTo>
                    <a:pt x="136" y="980"/>
                  </a:lnTo>
                  <a:lnTo>
                    <a:pt x="139" y="977"/>
                  </a:lnTo>
                  <a:lnTo>
                    <a:pt x="142" y="975"/>
                  </a:lnTo>
                  <a:lnTo>
                    <a:pt x="146" y="972"/>
                  </a:lnTo>
                  <a:lnTo>
                    <a:pt x="149" y="969"/>
                  </a:lnTo>
                  <a:lnTo>
                    <a:pt x="153" y="966"/>
                  </a:lnTo>
                  <a:lnTo>
                    <a:pt x="157" y="963"/>
                  </a:lnTo>
                  <a:lnTo>
                    <a:pt x="160" y="960"/>
                  </a:lnTo>
                  <a:lnTo>
                    <a:pt x="163" y="956"/>
                  </a:lnTo>
                  <a:lnTo>
                    <a:pt x="166" y="953"/>
                  </a:lnTo>
                  <a:lnTo>
                    <a:pt x="169" y="950"/>
                  </a:lnTo>
                  <a:lnTo>
                    <a:pt x="172" y="945"/>
                  </a:lnTo>
                  <a:lnTo>
                    <a:pt x="177" y="942"/>
                  </a:lnTo>
                  <a:lnTo>
                    <a:pt x="180" y="939"/>
                  </a:lnTo>
                  <a:lnTo>
                    <a:pt x="184" y="934"/>
                  </a:lnTo>
                  <a:lnTo>
                    <a:pt x="187" y="930"/>
                  </a:lnTo>
                  <a:lnTo>
                    <a:pt x="190" y="926"/>
                  </a:lnTo>
                  <a:lnTo>
                    <a:pt x="193" y="922"/>
                  </a:lnTo>
                  <a:lnTo>
                    <a:pt x="198" y="917"/>
                  </a:lnTo>
                  <a:lnTo>
                    <a:pt x="201" y="912"/>
                  </a:lnTo>
                  <a:lnTo>
                    <a:pt x="204" y="907"/>
                  </a:lnTo>
                  <a:lnTo>
                    <a:pt x="207" y="903"/>
                  </a:lnTo>
                  <a:lnTo>
                    <a:pt x="210" y="898"/>
                  </a:lnTo>
                  <a:lnTo>
                    <a:pt x="214" y="893"/>
                  </a:lnTo>
                  <a:lnTo>
                    <a:pt x="217" y="888"/>
                  </a:lnTo>
                  <a:lnTo>
                    <a:pt x="222" y="884"/>
                  </a:lnTo>
                  <a:lnTo>
                    <a:pt x="225" y="879"/>
                  </a:lnTo>
                  <a:lnTo>
                    <a:pt x="228" y="873"/>
                  </a:lnTo>
                  <a:lnTo>
                    <a:pt x="231" y="868"/>
                  </a:lnTo>
                  <a:lnTo>
                    <a:pt x="234" y="863"/>
                  </a:lnTo>
                  <a:lnTo>
                    <a:pt x="237" y="858"/>
                  </a:lnTo>
                  <a:lnTo>
                    <a:pt x="241" y="852"/>
                  </a:lnTo>
                  <a:lnTo>
                    <a:pt x="245" y="847"/>
                  </a:lnTo>
                  <a:lnTo>
                    <a:pt x="249" y="842"/>
                  </a:lnTo>
                  <a:lnTo>
                    <a:pt x="252" y="836"/>
                  </a:lnTo>
                  <a:lnTo>
                    <a:pt x="255" y="831"/>
                  </a:lnTo>
                  <a:lnTo>
                    <a:pt x="258" y="825"/>
                  </a:lnTo>
                  <a:lnTo>
                    <a:pt x="261" y="820"/>
                  </a:lnTo>
                  <a:lnTo>
                    <a:pt x="264" y="816"/>
                  </a:lnTo>
                  <a:lnTo>
                    <a:pt x="269" y="809"/>
                  </a:lnTo>
                  <a:lnTo>
                    <a:pt x="272" y="804"/>
                  </a:lnTo>
                  <a:lnTo>
                    <a:pt x="275" y="798"/>
                  </a:lnTo>
                  <a:lnTo>
                    <a:pt x="279" y="793"/>
                  </a:lnTo>
                  <a:lnTo>
                    <a:pt x="282" y="787"/>
                  </a:lnTo>
                  <a:lnTo>
                    <a:pt x="285" y="782"/>
                  </a:lnTo>
                  <a:lnTo>
                    <a:pt x="288" y="776"/>
                  </a:lnTo>
                  <a:lnTo>
                    <a:pt x="293" y="771"/>
                  </a:lnTo>
                  <a:lnTo>
                    <a:pt x="296" y="766"/>
                  </a:lnTo>
                  <a:lnTo>
                    <a:pt x="299" y="760"/>
                  </a:lnTo>
                  <a:lnTo>
                    <a:pt x="302" y="755"/>
                  </a:lnTo>
                  <a:lnTo>
                    <a:pt x="306" y="749"/>
                  </a:lnTo>
                  <a:lnTo>
                    <a:pt x="309" y="744"/>
                  </a:lnTo>
                  <a:lnTo>
                    <a:pt x="312" y="738"/>
                  </a:lnTo>
                  <a:lnTo>
                    <a:pt x="317" y="733"/>
                  </a:lnTo>
                  <a:lnTo>
                    <a:pt x="320" y="728"/>
                  </a:lnTo>
                  <a:lnTo>
                    <a:pt x="323" y="722"/>
                  </a:lnTo>
                  <a:lnTo>
                    <a:pt x="326" y="717"/>
                  </a:lnTo>
                  <a:lnTo>
                    <a:pt x="329" y="713"/>
                  </a:lnTo>
                  <a:lnTo>
                    <a:pt x="332" y="706"/>
                  </a:lnTo>
                  <a:lnTo>
                    <a:pt x="336" y="702"/>
                  </a:lnTo>
                  <a:lnTo>
                    <a:pt x="340" y="697"/>
                  </a:lnTo>
                  <a:lnTo>
                    <a:pt x="344" y="690"/>
                  </a:lnTo>
                  <a:lnTo>
                    <a:pt x="347" y="686"/>
                  </a:lnTo>
                  <a:lnTo>
                    <a:pt x="350" y="681"/>
                  </a:lnTo>
                  <a:lnTo>
                    <a:pt x="353" y="676"/>
                  </a:lnTo>
                  <a:lnTo>
                    <a:pt x="356" y="671"/>
                  </a:lnTo>
                  <a:lnTo>
                    <a:pt x="359" y="665"/>
                  </a:lnTo>
                  <a:lnTo>
                    <a:pt x="364" y="660"/>
                  </a:lnTo>
                  <a:lnTo>
                    <a:pt x="367" y="656"/>
                  </a:lnTo>
                  <a:lnTo>
                    <a:pt x="371" y="651"/>
                  </a:lnTo>
                  <a:lnTo>
                    <a:pt x="374" y="646"/>
                  </a:lnTo>
                  <a:lnTo>
                    <a:pt x="377" y="641"/>
                  </a:lnTo>
                  <a:lnTo>
                    <a:pt x="380" y="637"/>
                  </a:lnTo>
                  <a:lnTo>
                    <a:pt x="383" y="632"/>
                  </a:lnTo>
                  <a:lnTo>
                    <a:pt x="388" y="627"/>
                  </a:lnTo>
                  <a:lnTo>
                    <a:pt x="391" y="622"/>
                  </a:lnTo>
                  <a:lnTo>
                    <a:pt x="394" y="618"/>
                  </a:lnTo>
                  <a:lnTo>
                    <a:pt x="397" y="613"/>
                  </a:lnTo>
                  <a:lnTo>
                    <a:pt x="401" y="608"/>
                  </a:lnTo>
                  <a:lnTo>
                    <a:pt x="404" y="603"/>
                  </a:lnTo>
                  <a:lnTo>
                    <a:pt x="407" y="599"/>
                  </a:lnTo>
                  <a:lnTo>
                    <a:pt x="412" y="594"/>
                  </a:lnTo>
                  <a:lnTo>
                    <a:pt x="415" y="589"/>
                  </a:lnTo>
                  <a:lnTo>
                    <a:pt x="418" y="584"/>
                  </a:lnTo>
                  <a:lnTo>
                    <a:pt x="421" y="580"/>
                  </a:lnTo>
                  <a:lnTo>
                    <a:pt x="424" y="576"/>
                  </a:lnTo>
                  <a:lnTo>
                    <a:pt x="428" y="572"/>
                  </a:lnTo>
                  <a:lnTo>
                    <a:pt x="431" y="567"/>
                  </a:lnTo>
                  <a:lnTo>
                    <a:pt x="435" y="562"/>
                  </a:lnTo>
                  <a:lnTo>
                    <a:pt x="439" y="559"/>
                  </a:lnTo>
                  <a:lnTo>
                    <a:pt x="442" y="554"/>
                  </a:lnTo>
                  <a:lnTo>
                    <a:pt x="445" y="549"/>
                  </a:lnTo>
                  <a:lnTo>
                    <a:pt x="448" y="546"/>
                  </a:lnTo>
                  <a:lnTo>
                    <a:pt x="451" y="542"/>
                  </a:lnTo>
                  <a:lnTo>
                    <a:pt x="454" y="537"/>
                  </a:lnTo>
                  <a:lnTo>
                    <a:pt x="459" y="534"/>
                  </a:lnTo>
                  <a:lnTo>
                    <a:pt x="462" y="529"/>
                  </a:lnTo>
                  <a:lnTo>
                    <a:pt x="466" y="526"/>
                  </a:lnTo>
                  <a:lnTo>
                    <a:pt x="469" y="521"/>
                  </a:lnTo>
                  <a:lnTo>
                    <a:pt x="472" y="518"/>
                  </a:lnTo>
                  <a:lnTo>
                    <a:pt x="475" y="513"/>
                  </a:lnTo>
                  <a:lnTo>
                    <a:pt x="478" y="510"/>
                  </a:lnTo>
                  <a:lnTo>
                    <a:pt x="483" y="505"/>
                  </a:lnTo>
                  <a:lnTo>
                    <a:pt x="486" y="502"/>
                  </a:lnTo>
                  <a:lnTo>
                    <a:pt x="489" y="497"/>
                  </a:lnTo>
                  <a:lnTo>
                    <a:pt x="492" y="494"/>
                  </a:lnTo>
                  <a:lnTo>
                    <a:pt x="496" y="491"/>
                  </a:lnTo>
                  <a:lnTo>
                    <a:pt x="499" y="486"/>
                  </a:lnTo>
                  <a:lnTo>
                    <a:pt x="502" y="483"/>
                  </a:lnTo>
                  <a:lnTo>
                    <a:pt x="507" y="480"/>
                  </a:lnTo>
                  <a:lnTo>
                    <a:pt x="510" y="475"/>
                  </a:lnTo>
                  <a:lnTo>
                    <a:pt x="513" y="472"/>
                  </a:lnTo>
                  <a:lnTo>
                    <a:pt x="516" y="469"/>
                  </a:lnTo>
                  <a:lnTo>
                    <a:pt x="519" y="466"/>
                  </a:lnTo>
                  <a:lnTo>
                    <a:pt x="523" y="461"/>
                  </a:lnTo>
                  <a:lnTo>
                    <a:pt x="526" y="458"/>
                  </a:lnTo>
                  <a:lnTo>
                    <a:pt x="531" y="454"/>
                  </a:lnTo>
                  <a:lnTo>
                    <a:pt x="534" y="451"/>
                  </a:lnTo>
                  <a:lnTo>
                    <a:pt x="537" y="448"/>
                  </a:lnTo>
                  <a:lnTo>
                    <a:pt x="540" y="445"/>
                  </a:lnTo>
                  <a:lnTo>
                    <a:pt x="543" y="440"/>
                  </a:lnTo>
                  <a:lnTo>
                    <a:pt x="546" y="437"/>
                  </a:lnTo>
                  <a:lnTo>
                    <a:pt x="550" y="434"/>
                  </a:lnTo>
                  <a:lnTo>
                    <a:pt x="554" y="431"/>
                  </a:lnTo>
                  <a:lnTo>
                    <a:pt x="557" y="428"/>
                  </a:lnTo>
                  <a:lnTo>
                    <a:pt x="561" y="424"/>
                  </a:lnTo>
                  <a:lnTo>
                    <a:pt x="564" y="421"/>
                  </a:lnTo>
                  <a:lnTo>
                    <a:pt x="567" y="418"/>
                  </a:lnTo>
                  <a:lnTo>
                    <a:pt x="570" y="415"/>
                  </a:lnTo>
                  <a:lnTo>
                    <a:pt x="575" y="412"/>
                  </a:lnTo>
                  <a:lnTo>
                    <a:pt x="578" y="409"/>
                  </a:lnTo>
                  <a:lnTo>
                    <a:pt x="581" y="405"/>
                  </a:lnTo>
                  <a:lnTo>
                    <a:pt x="584" y="402"/>
                  </a:lnTo>
                  <a:lnTo>
                    <a:pt x="588" y="399"/>
                  </a:lnTo>
                  <a:lnTo>
                    <a:pt x="591" y="397"/>
                  </a:lnTo>
                  <a:lnTo>
                    <a:pt x="594" y="394"/>
                  </a:lnTo>
                  <a:lnTo>
                    <a:pt x="599" y="391"/>
                  </a:lnTo>
                  <a:lnTo>
                    <a:pt x="602" y="388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1" y="380"/>
                  </a:lnTo>
                  <a:lnTo>
                    <a:pt x="614" y="377"/>
                  </a:lnTo>
                  <a:lnTo>
                    <a:pt x="618" y="374"/>
                  </a:lnTo>
                  <a:lnTo>
                    <a:pt x="622" y="371"/>
                  </a:lnTo>
                  <a:lnTo>
                    <a:pt x="626" y="369"/>
                  </a:lnTo>
                  <a:lnTo>
                    <a:pt x="629" y="366"/>
                  </a:lnTo>
                  <a:lnTo>
                    <a:pt x="632" y="363"/>
                  </a:lnTo>
                  <a:lnTo>
                    <a:pt x="635" y="359"/>
                  </a:lnTo>
                  <a:lnTo>
                    <a:pt x="638" y="358"/>
                  </a:lnTo>
                  <a:lnTo>
                    <a:pt x="641" y="355"/>
                  </a:lnTo>
                  <a:lnTo>
                    <a:pt x="646" y="352"/>
                  </a:lnTo>
                  <a:lnTo>
                    <a:pt x="649" y="350"/>
                  </a:lnTo>
                  <a:lnTo>
                    <a:pt x="653" y="347"/>
                  </a:lnTo>
                  <a:lnTo>
                    <a:pt x="656" y="344"/>
                  </a:lnTo>
                  <a:lnTo>
                    <a:pt x="659" y="342"/>
                  </a:lnTo>
                  <a:lnTo>
                    <a:pt x="662" y="339"/>
                  </a:lnTo>
                  <a:lnTo>
                    <a:pt x="665" y="337"/>
                  </a:lnTo>
                  <a:lnTo>
                    <a:pt x="670" y="334"/>
                  </a:lnTo>
                  <a:lnTo>
                    <a:pt x="673" y="333"/>
                  </a:lnTo>
                  <a:lnTo>
                    <a:pt x="676" y="329"/>
                  </a:lnTo>
                  <a:lnTo>
                    <a:pt x="679" y="326"/>
                  </a:lnTo>
                  <a:lnTo>
                    <a:pt x="683" y="325"/>
                  </a:lnTo>
                  <a:lnTo>
                    <a:pt x="686" y="321"/>
                  </a:lnTo>
                  <a:lnTo>
                    <a:pt x="689" y="320"/>
                  </a:lnTo>
                  <a:lnTo>
                    <a:pt x="694" y="317"/>
                  </a:lnTo>
                  <a:lnTo>
                    <a:pt x="697" y="315"/>
                  </a:lnTo>
                  <a:lnTo>
                    <a:pt x="700" y="314"/>
                  </a:lnTo>
                  <a:lnTo>
                    <a:pt x="703" y="310"/>
                  </a:lnTo>
                  <a:lnTo>
                    <a:pt x="706" y="309"/>
                  </a:lnTo>
                  <a:lnTo>
                    <a:pt x="710" y="306"/>
                  </a:lnTo>
                  <a:lnTo>
                    <a:pt x="713" y="304"/>
                  </a:lnTo>
                  <a:lnTo>
                    <a:pt x="717" y="301"/>
                  </a:lnTo>
                  <a:lnTo>
                    <a:pt x="721" y="299"/>
                  </a:lnTo>
                  <a:lnTo>
                    <a:pt x="724" y="298"/>
                  </a:lnTo>
                  <a:lnTo>
                    <a:pt x="727" y="295"/>
                  </a:lnTo>
                  <a:lnTo>
                    <a:pt x="730" y="293"/>
                  </a:lnTo>
                  <a:lnTo>
                    <a:pt x="733" y="290"/>
                  </a:lnTo>
                  <a:lnTo>
                    <a:pt x="736" y="288"/>
                  </a:lnTo>
                  <a:lnTo>
                    <a:pt x="741" y="287"/>
                  </a:lnTo>
                  <a:lnTo>
                    <a:pt x="744" y="283"/>
                  </a:lnTo>
                  <a:lnTo>
                    <a:pt x="748" y="282"/>
                  </a:lnTo>
                  <a:lnTo>
                    <a:pt x="751" y="280"/>
                  </a:lnTo>
                  <a:lnTo>
                    <a:pt x="754" y="277"/>
                  </a:lnTo>
                  <a:lnTo>
                    <a:pt x="757" y="276"/>
                  </a:lnTo>
                  <a:lnTo>
                    <a:pt x="760" y="274"/>
                  </a:lnTo>
                  <a:lnTo>
                    <a:pt x="765" y="272"/>
                  </a:lnTo>
                  <a:lnTo>
                    <a:pt x="768" y="269"/>
                  </a:lnTo>
                  <a:lnTo>
                    <a:pt x="771" y="268"/>
                  </a:lnTo>
                  <a:lnTo>
                    <a:pt x="775" y="266"/>
                  </a:lnTo>
                  <a:lnTo>
                    <a:pt x="778" y="264"/>
                  </a:lnTo>
                  <a:lnTo>
                    <a:pt x="781" y="261"/>
                  </a:lnTo>
                  <a:lnTo>
                    <a:pt x="784" y="260"/>
                  </a:lnTo>
                  <a:lnTo>
                    <a:pt x="789" y="258"/>
                  </a:lnTo>
                  <a:lnTo>
                    <a:pt x="792" y="256"/>
                  </a:lnTo>
                  <a:lnTo>
                    <a:pt x="795" y="255"/>
                  </a:lnTo>
                  <a:lnTo>
                    <a:pt x="798" y="252"/>
                  </a:lnTo>
                  <a:lnTo>
                    <a:pt x="801" y="250"/>
                  </a:lnTo>
                  <a:lnTo>
                    <a:pt x="805" y="249"/>
                  </a:lnTo>
                  <a:lnTo>
                    <a:pt x="808" y="247"/>
                  </a:lnTo>
                  <a:lnTo>
                    <a:pt x="813" y="245"/>
                  </a:lnTo>
                  <a:lnTo>
                    <a:pt x="816" y="244"/>
                  </a:lnTo>
                  <a:lnTo>
                    <a:pt x="819" y="241"/>
                  </a:lnTo>
                  <a:lnTo>
                    <a:pt x="822" y="239"/>
                  </a:lnTo>
                  <a:lnTo>
                    <a:pt x="825" y="237"/>
                  </a:lnTo>
                  <a:lnTo>
                    <a:pt x="828" y="236"/>
                  </a:lnTo>
                  <a:lnTo>
                    <a:pt x="832" y="234"/>
                  </a:lnTo>
                  <a:lnTo>
                    <a:pt x="836" y="233"/>
                  </a:lnTo>
                  <a:lnTo>
                    <a:pt x="839" y="231"/>
                  </a:lnTo>
                  <a:lnTo>
                    <a:pt x="843" y="230"/>
                  </a:lnTo>
                  <a:lnTo>
                    <a:pt x="846" y="228"/>
                  </a:lnTo>
                  <a:lnTo>
                    <a:pt x="849" y="226"/>
                  </a:lnTo>
                  <a:lnTo>
                    <a:pt x="852" y="223"/>
                  </a:lnTo>
                  <a:lnTo>
                    <a:pt x="855" y="222"/>
                  </a:lnTo>
                  <a:lnTo>
                    <a:pt x="860" y="220"/>
                  </a:lnTo>
                  <a:lnTo>
                    <a:pt x="863" y="218"/>
                  </a:lnTo>
                  <a:lnTo>
                    <a:pt x="866" y="217"/>
                  </a:lnTo>
                  <a:lnTo>
                    <a:pt x="870" y="215"/>
                  </a:lnTo>
                  <a:lnTo>
                    <a:pt x="873" y="214"/>
                  </a:lnTo>
                  <a:lnTo>
                    <a:pt x="876" y="212"/>
                  </a:lnTo>
                  <a:lnTo>
                    <a:pt x="879" y="211"/>
                  </a:lnTo>
                  <a:lnTo>
                    <a:pt x="884" y="209"/>
                  </a:lnTo>
                  <a:lnTo>
                    <a:pt x="887" y="207"/>
                  </a:lnTo>
                  <a:lnTo>
                    <a:pt x="890" y="206"/>
                  </a:lnTo>
                  <a:lnTo>
                    <a:pt x="893" y="204"/>
                  </a:lnTo>
                  <a:lnTo>
                    <a:pt x="897" y="203"/>
                  </a:lnTo>
                  <a:lnTo>
                    <a:pt x="900" y="201"/>
                  </a:lnTo>
                  <a:lnTo>
                    <a:pt x="903" y="199"/>
                  </a:lnTo>
                  <a:lnTo>
                    <a:pt x="908" y="198"/>
                  </a:lnTo>
                  <a:lnTo>
                    <a:pt x="911" y="196"/>
                  </a:lnTo>
                  <a:lnTo>
                    <a:pt x="914" y="195"/>
                  </a:lnTo>
                  <a:lnTo>
                    <a:pt x="917" y="195"/>
                  </a:lnTo>
                  <a:lnTo>
                    <a:pt x="920" y="193"/>
                  </a:lnTo>
                  <a:lnTo>
                    <a:pt x="923" y="192"/>
                  </a:lnTo>
                  <a:lnTo>
                    <a:pt x="927" y="190"/>
                  </a:lnTo>
                  <a:lnTo>
                    <a:pt x="931" y="188"/>
                  </a:lnTo>
                  <a:lnTo>
                    <a:pt x="935" y="187"/>
                  </a:lnTo>
                  <a:lnTo>
                    <a:pt x="938" y="185"/>
                  </a:lnTo>
                  <a:lnTo>
                    <a:pt x="941" y="184"/>
                  </a:lnTo>
                  <a:lnTo>
                    <a:pt x="944" y="182"/>
                  </a:lnTo>
                  <a:lnTo>
                    <a:pt x="947" y="180"/>
                  </a:lnTo>
                  <a:lnTo>
                    <a:pt x="952" y="179"/>
                  </a:lnTo>
                  <a:lnTo>
                    <a:pt x="955" y="179"/>
                  </a:lnTo>
                  <a:lnTo>
                    <a:pt x="958" y="177"/>
                  </a:lnTo>
                  <a:lnTo>
                    <a:pt x="961" y="176"/>
                  </a:lnTo>
                  <a:lnTo>
                    <a:pt x="965" y="174"/>
                  </a:lnTo>
                  <a:lnTo>
                    <a:pt x="968" y="173"/>
                  </a:lnTo>
                  <a:lnTo>
                    <a:pt x="971" y="171"/>
                  </a:lnTo>
                  <a:lnTo>
                    <a:pt x="976" y="169"/>
                  </a:lnTo>
                  <a:lnTo>
                    <a:pt x="979" y="169"/>
                  </a:lnTo>
                  <a:lnTo>
                    <a:pt x="982" y="168"/>
                  </a:lnTo>
                  <a:lnTo>
                    <a:pt x="985" y="166"/>
                  </a:lnTo>
                  <a:lnTo>
                    <a:pt x="988" y="165"/>
                  </a:lnTo>
                  <a:lnTo>
                    <a:pt x="992" y="163"/>
                  </a:lnTo>
                  <a:lnTo>
                    <a:pt x="995" y="163"/>
                  </a:lnTo>
                  <a:lnTo>
                    <a:pt x="999" y="161"/>
                  </a:lnTo>
                  <a:lnTo>
                    <a:pt x="1003" y="160"/>
                  </a:lnTo>
                  <a:lnTo>
                    <a:pt x="1006" y="158"/>
                  </a:lnTo>
                  <a:lnTo>
                    <a:pt x="1009" y="157"/>
                  </a:lnTo>
                  <a:lnTo>
                    <a:pt x="1012" y="157"/>
                  </a:lnTo>
                  <a:lnTo>
                    <a:pt x="1015" y="155"/>
                  </a:lnTo>
                  <a:lnTo>
                    <a:pt x="1019" y="154"/>
                  </a:lnTo>
                  <a:lnTo>
                    <a:pt x="1023" y="152"/>
                  </a:lnTo>
                  <a:lnTo>
                    <a:pt x="1026" y="150"/>
                  </a:lnTo>
                  <a:lnTo>
                    <a:pt x="1030" y="150"/>
                  </a:lnTo>
                  <a:lnTo>
                    <a:pt x="1033" y="149"/>
                  </a:lnTo>
                  <a:lnTo>
                    <a:pt x="1036" y="147"/>
                  </a:lnTo>
                  <a:lnTo>
                    <a:pt x="1039" y="146"/>
                  </a:lnTo>
                  <a:lnTo>
                    <a:pt x="1042" y="146"/>
                  </a:lnTo>
                  <a:lnTo>
                    <a:pt x="1047" y="144"/>
                  </a:lnTo>
                  <a:lnTo>
                    <a:pt x="1050" y="142"/>
                  </a:lnTo>
                  <a:lnTo>
                    <a:pt x="1053" y="141"/>
                  </a:lnTo>
                  <a:lnTo>
                    <a:pt x="1057" y="141"/>
                  </a:lnTo>
                  <a:lnTo>
                    <a:pt x="1060" y="139"/>
                  </a:lnTo>
                  <a:lnTo>
                    <a:pt x="1063" y="138"/>
                  </a:lnTo>
                  <a:lnTo>
                    <a:pt x="1066" y="138"/>
                  </a:lnTo>
                  <a:lnTo>
                    <a:pt x="1071" y="136"/>
                  </a:lnTo>
                  <a:lnTo>
                    <a:pt x="1074" y="135"/>
                  </a:lnTo>
                  <a:lnTo>
                    <a:pt x="1077" y="133"/>
                  </a:lnTo>
                  <a:lnTo>
                    <a:pt x="1080" y="133"/>
                  </a:lnTo>
                  <a:lnTo>
                    <a:pt x="1083" y="131"/>
                  </a:lnTo>
                  <a:lnTo>
                    <a:pt x="1087" y="130"/>
                  </a:lnTo>
                  <a:lnTo>
                    <a:pt x="1090" y="130"/>
                  </a:lnTo>
                  <a:lnTo>
                    <a:pt x="1095" y="128"/>
                  </a:lnTo>
                  <a:lnTo>
                    <a:pt x="1098" y="127"/>
                  </a:lnTo>
                  <a:lnTo>
                    <a:pt x="1101" y="127"/>
                  </a:lnTo>
                  <a:lnTo>
                    <a:pt x="1104" y="125"/>
                  </a:lnTo>
                  <a:lnTo>
                    <a:pt x="1107" y="123"/>
                  </a:lnTo>
                  <a:lnTo>
                    <a:pt x="1110" y="123"/>
                  </a:lnTo>
                  <a:lnTo>
                    <a:pt x="1114" y="122"/>
                  </a:lnTo>
                  <a:lnTo>
                    <a:pt x="1118" y="120"/>
                  </a:lnTo>
                  <a:lnTo>
                    <a:pt x="1121" y="120"/>
                  </a:lnTo>
                  <a:lnTo>
                    <a:pt x="1125" y="119"/>
                  </a:lnTo>
                  <a:lnTo>
                    <a:pt x="1128" y="117"/>
                  </a:lnTo>
                  <a:lnTo>
                    <a:pt x="1131" y="117"/>
                  </a:lnTo>
                  <a:lnTo>
                    <a:pt x="1134" y="116"/>
                  </a:lnTo>
                  <a:lnTo>
                    <a:pt x="1137" y="114"/>
                  </a:lnTo>
                  <a:lnTo>
                    <a:pt x="1142" y="114"/>
                  </a:lnTo>
                  <a:lnTo>
                    <a:pt x="1145" y="112"/>
                  </a:lnTo>
                  <a:lnTo>
                    <a:pt x="1148" y="111"/>
                  </a:lnTo>
                  <a:lnTo>
                    <a:pt x="1152" y="111"/>
                  </a:lnTo>
                  <a:lnTo>
                    <a:pt x="1155" y="109"/>
                  </a:lnTo>
                  <a:lnTo>
                    <a:pt x="1158" y="109"/>
                  </a:lnTo>
                  <a:lnTo>
                    <a:pt x="1161" y="108"/>
                  </a:lnTo>
                  <a:lnTo>
                    <a:pt x="1166" y="106"/>
                  </a:lnTo>
                  <a:lnTo>
                    <a:pt x="1169" y="106"/>
                  </a:lnTo>
                  <a:lnTo>
                    <a:pt x="1172" y="104"/>
                  </a:lnTo>
                  <a:lnTo>
                    <a:pt x="1175" y="104"/>
                  </a:lnTo>
                  <a:lnTo>
                    <a:pt x="1179" y="103"/>
                  </a:lnTo>
                  <a:lnTo>
                    <a:pt x="1182" y="101"/>
                  </a:lnTo>
                  <a:lnTo>
                    <a:pt x="1185" y="101"/>
                  </a:lnTo>
                  <a:lnTo>
                    <a:pt x="1190" y="100"/>
                  </a:lnTo>
                  <a:lnTo>
                    <a:pt x="1193" y="100"/>
                  </a:lnTo>
                  <a:lnTo>
                    <a:pt x="1196" y="98"/>
                  </a:lnTo>
                  <a:lnTo>
                    <a:pt x="1199" y="97"/>
                  </a:lnTo>
                  <a:lnTo>
                    <a:pt x="1202" y="97"/>
                  </a:lnTo>
                  <a:lnTo>
                    <a:pt x="1205" y="95"/>
                  </a:lnTo>
                  <a:lnTo>
                    <a:pt x="1209" y="95"/>
                  </a:lnTo>
                  <a:lnTo>
                    <a:pt x="1213" y="93"/>
                  </a:lnTo>
                  <a:lnTo>
                    <a:pt x="1217" y="93"/>
                  </a:lnTo>
                  <a:lnTo>
                    <a:pt x="1220" y="92"/>
                  </a:lnTo>
                  <a:lnTo>
                    <a:pt x="1223" y="90"/>
                  </a:lnTo>
                  <a:lnTo>
                    <a:pt x="1226" y="90"/>
                  </a:lnTo>
                  <a:lnTo>
                    <a:pt x="1229" y="89"/>
                  </a:lnTo>
                  <a:lnTo>
                    <a:pt x="1232" y="89"/>
                  </a:lnTo>
                  <a:lnTo>
                    <a:pt x="1237" y="87"/>
                  </a:lnTo>
                  <a:lnTo>
                    <a:pt x="1240" y="87"/>
                  </a:lnTo>
                  <a:lnTo>
                    <a:pt x="1243" y="85"/>
                  </a:lnTo>
                  <a:lnTo>
                    <a:pt x="1247" y="85"/>
                  </a:lnTo>
                  <a:lnTo>
                    <a:pt x="1250" y="84"/>
                  </a:lnTo>
                  <a:lnTo>
                    <a:pt x="1253" y="84"/>
                  </a:lnTo>
                  <a:lnTo>
                    <a:pt x="1256" y="82"/>
                  </a:lnTo>
                  <a:lnTo>
                    <a:pt x="1261" y="82"/>
                  </a:lnTo>
                  <a:lnTo>
                    <a:pt x="1264" y="81"/>
                  </a:lnTo>
                  <a:lnTo>
                    <a:pt x="1267" y="79"/>
                  </a:lnTo>
                  <a:lnTo>
                    <a:pt x="1270" y="79"/>
                  </a:lnTo>
                  <a:lnTo>
                    <a:pt x="1274" y="78"/>
                  </a:lnTo>
                  <a:lnTo>
                    <a:pt x="1277" y="78"/>
                  </a:lnTo>
                  <a:lnTo>
                    <a:pt x="1280" y="76"/>
                  </a:lnTo>
                  <a:lnTo>
                    <a:pt x="1285" y="76"/>
                  </a:lnTo>
                  <a:lnTo>
                    <a:pt x="1288" y="74"/>
                  </a:lnTo>
                  <a:lnTo>
                    <a:pt x="1291" y="74"/>
                  </a:lnTo>
                  <a:lnTo>
                    <a:pt x="1294" y="73"/>
                  </a:lnTo>
                  <a:lnTo>
                    <a:pt x="1297" y="73"/>
                  </a:lnTo>
                  <a:lnTo>
                    <a:pt x="1301" y="71"/>
                  </a:lnTo>
                  <a:lnTo>
                    <a:pt x="1304" y="71"/>
                  </a:lnTo>
                  <a:lnTo>
                    <a:pt x="1308" y="70"/>
                  </a:lnTo>
                  <a:lnTo>
                    <a:pt x="1312" y="70"/>
                  </a:lnTo>
                  <a:lnTo>
                    <a:pt x="1315" y="68"/>
                  </a:lnTo>
                  <a:lnTo>
                    <a:pt x="1318" y="68"/>
                  </a:lnTo>
                  <a:lnTo>
                    <a:pt x="1321" y="66"/>
                  </a:lnTo>
                  <a:lnTo>
                    <a:pt x="1324" y="66"/>
                  </a:lnTo>
                  <a:lnTo>
                    <a:pt x="1329" y="65"/>
                  </a:lnTo>
                  <a:lnTo>
                    <a:pt x="1332" y="65"/>
                  </a:lnTo>
                  <a:lnTo>
                    <a:pt x="1335" y="65"/>
                  </a:lnTo>
                  <a:lnTo>
                    <a:pt x="1339" y="63"/>
                  </a:lnTo>
                  <a:lnTo>
                    <a:pt x="1342" y="63"/>
                  </a:lnTo>
                  <a:lnTo>
                    <a:pt x="1345" y="62"/>
                  </a:lnTo>
                  <a:lnTo>
                    <a:pt x="1348" y="62"/>
                  </a:lnTo>
                  <a:lnTo>
                    <a:pt x="1353" y="60"/>
                  </a:lnTo>
                  <a:lnTo>
                    <a:pt x="1356" y="60"/>
                  </a:lnTo>
                  <a:lnTo>
                    <a:pt x="1359" y="59"/>
                  </a:lnTo>
                  <a:lnTo>
                    <a:pt x="1362" y="59"/>
                  </a:lnTo>
                  <a:lnTo>
                    <a:pt x="1365" y="57"/>
                  </a:lnTo>
                  <a:lnTo>
                    <a:pt x="1369" y="57"/>
                  </a:lnTo>
                  <a:lnTo>
                    <a:pt x="1372" y="55"/>
                  </a:lnTo>
                  <a:lnTo>
                    <a:pt x="1377" y="55"/>
                  </a:lnTo>
                  <a:lnTo>
                    <a:pt x="1380" y="55"/>
                  </a:lnTo>
                  <a:lnTo>
                    <a:pt x="1383" y="54"/>
                  </a:lnTo>
                  <a:lnTo>
                    <a:pt x="1386" y="54"/>
                  </a:lnTo>
                  <a:lnTo>
                    <a:pt x="1389" y="52"/>
                  </a:lnTo>
                  <a:lnTo>
                    <a:pt x="1392" y="52"/>
                  </a:lnTo>
                  <a:lnTo>
                    <a:pt x="1396" y="51"/>
                  </a:lnTo>
                  <a:lnTo>
                    <a:pt x="1400" y="51"/>
                  </a:lnTo>
                  <a:lnTo>
                    <a:pt x="1404" y="49"/>
                  </a:lnTo>
                  <a:lnTo>
                    <a:pt x="1407" y="49"/>
                  </a:lnTo>
                  <a:lnTo>
                    <a:pt x="1410" y="49"/>
                  </a:lnTo>
                  <a:lnTo>
                    <a:pt x="1413" y="47"/>
                  </a:lnTo>
                  <a:lnTo>
                    <a:pt x="1416" y="47"/>
                  </a:lnTo>
                  <a:lnTo>
                    <a:pt x="1419" y="46"/>
                  </a:lnTo>
                  <a:lnTo>
                    <a:pt x="1424" y="46"/>
                  </a:lnTo>
                  <a:lnTo>
                    <a:pt x="1427" y="44"/>
                  </a:lnTo>
                  <a:lnTo>
                    <a:pt x="1430" y="44"/>
                  </a:lnTo>
                  <a:lnTo>
                    <a:pt x="1434" y="44"/>
                  </a:lnTo>
                  <a:lnTo>
                    <a:pt x="1437" y="43"/>
                  </a:lnTo>
                  <a:lnTo>
                    <a:pt x="1440" y="43"/>
                  </a:lnTo>
                  <a:lnTo>
                    <a:pt x="1443" y="41"/>
                  </a:lnTo>
                  <a:lnTo>
                    <a:pt x="1448" y="41"/>
                  </a:lnTo>
                  <a:lnTo>
                    <a:pt x="1451" y="41"/>
                  </a:lnTo>
                  <a:lnTo>
                    <a:pt x="1454" y="40"/>
                  </a:lnTo>
                  <a:lnTo>
                    <a:pt x="1457" y="40"/>
                  </a:lnTo>
                  <a:lnTo>
                    <a:pt x="1461" y="38"/>
                  </a:lnTo>
                  <a:lnTo>
                    <a:pt x="1464" y="38"/>
                  </a:lnTo>
                  <a:lnTo>
                    <a:pt x="1467" y="38"/>
                  </a:lnTo>
                  <a:lnTo>
                    <a:pt x="1472" y="36"/>
                  </a:lnTo>
                  <a:lnTo>
                    <a:pt x="1475" y="36"/>
                  </a:lnTo>
                  <a:lnTo>
                    <a:pt x="1478" y="35"/>
                  </a:lnTo>
                  <a:lnTo>
                    <a:pt x="1481" y="35"/>
                  </a:lnTo>
                  <a:lnTo>
                    <a:pt x="1484" y="35"/>
                  </a:lnTo>
                  <a:lnTo>
                    <a:pt x="1487" y="33"/>
                  </a:lnTo>
                  <a:lnTo>
                    <a:pt x="1491" y="33"/>
                  </a:lnTo>
                  <a:lnTo>
                    <a:pt x="1495" y="32"/>
                  </a:lnTo>
                  <a:lnTo>
                    <a:pt x="1499" y="32"/>
                  </a:lnTo>
                  <a:lnTo>
                    <a:pt x="1502" y="32"/>
                  </a:lnTo>
                  <a:lnTo>
                    <a:pt x="1505" y="30"/>
                  </a:lnTo>
                  <a:lnTo>
                    <a:pt x="1508" y="30"/>
                  </a:lnTo>
                  <a:lnTo>
                    <a:pt x="1511" y="30"/>
                  </a:lnTo>
                  <a:lnTo>
                    <a:pt x="1514" y="28"/>
                  </a:lnTo>
                  <a:lnTo>
                    <a:pt x="1519" y="28"/>
                  </a:lnTo>
                  <a:lnTo>
                    <a:pt x="1522" y="27"/>
                  </a:lnTo>
                  <a:lnTo>
                    <a:pt x="1526" y="27"/>
                  </a:lnTo>
                  <a:lnTo>
                    <a:pt x="1529" y="27"/>
                  </a:lnTo>
                  <a:lnTo>
                    <a:pt x="1532" y="25"/>
                  </a:lnTo>
                  <a:lnTo>
                    <a:pt x="1535" y="25"/>
                  </a:lnTo>
                  <a:lnTo>
                    <a:pt x="1538" y="25"/>
                  </a:lnTo>
                  <a:lnTo>
                    <a:pt x="1543" y="24"/>
                  </a:lnTo>
                  <a:lnTo>
                    <a:pt x="1546" y="24"/>
                  </a:lnTo>
                  <a:lnTo>
                    <a:pt x="1549" y="24"/>
                  </a:lnTo>
                  <a:lnTo>
                    <a:pt x="1552" y="22"/>
                  </a:lnTo>
                  <a:lnTo>
                    <a:pt x="1556" y="22"/>
                  </a:lnTo>
                  <a:lnTo>
                    <a:pt x="1559" y="21"/>
                  </a:lnTo>
                  <a:lnTo>
                    <a:pt x="1562" y="21"/>
                  </a:lnTo>
                  <a:lnTo>
                    <a:pt x="1567" y="21"/>
                  </a:lnTo>
                  <a:lnTo>
                    <a:pt x="1570" y="19"/>
                  </a:lnTo>
                  <a:lnTo>
                    <a:pt x="1573" y="19"/>
                  </a:lnTo>
                  <a:lnTo>
                    <a:pt x="1576" y="19"/>
                  </a:lnTo>
                  <a:lnTo>
                    <a:pt x="1579" y="17"/>
                  </a:lnTo>
                  <a:lnTo>
                    <a:pt x="1583" y="17"/>
                  </a:lnTo>
                  <a:lnTo>
                    <a:pt x="1586" y="17"/>
                  </a:lnTo>
                  <a:lnTo>
                    <a:pt x="1590" y="16"/>
                  </a:lnTo>
                  <a:lnTo>
                    <a:pt x="1594" y="16"/>
                  </a:lnTo>
                  <a:lnTo>
                    <a:pt x="1597" y="16"/>
                  </a:lnTo>
                  <a:lnTo>
                    <a:pt x="1600" y="14"/>
                  </a:lnTo>
                  <a:lnTo>
                    <a:pt x="1603" y="14"/>
                  </a:lnTo>
                  <a:lnTo>
                    <a:pt x="1606" y="14"/>
                  </a:lnTo>
                  <a:lnTo>
                    <a:pt x="1609" y="13"/>
                  </a:lnTo>
                  <a:lnTo>
                    <a:pt x="1614" y="13"/>
                  </a:lnTo>
                  <a:lnTo>
                    <a:pt x="1617" y="13"/>
                  </a:lnTo>
                  <a:lnTo>
                    <a:pt x="1621" y="11"/>
                  </a:lnTo>
                  <a:lnTo>
                    <a:pt x="1624" y="11"/>
                  </a:lnTo>
                  <a:lnTo>
                    <a:pt x="1627" y="11"/>
                  </a:lnTo>
                  <a:lnTo>
                    <a:pt x="1630" y="9"/>
                  </a:lnTo>
                  <a:lnTo>
                    <a:pt x="1633" y="9"/>
                  </a:lnTo>
                  <a:lnTo>
                    <a:pt x="1638" y="9"/>
                  </a:lnTo>
                  <a:lnTo>
                    <a:pt x="1641" y="8"/>
                  </a:lnTo>
                  <a:lnTo>
                    <a:pt x="1644" y="8"/>
                  </a:lnTo>
                  <a:lnTo>
                    <a:pt x="1647" y="8"/>
                  </a:lnTo>
                  <a:lnTo>
                    <a:pt x="1651" y="6"/>
                  </a:lnTo>
                  <a:lnTo>
                    <a:pt x="1654" y="6"/>
                  </a:lnTo>
                  <a:lnTo>
                    <a:pt x="1657" y="6"/>
                  </a:lnTo>
                  <a:lnTo>
                    <a:pt x="1662" y="5"/>
                  </a:lnTo>
                  <a:lnTo>
                    <a:pt x="1665" y="5"/>
                  </a:lnTo>
                  <a:lnTo>
                    <a:pt x="1668" y="5"/>
                  </a:lnTo>
                  <a:lnTo>
                    <a:pt x="1671" y="5"/>
                  </a:lnTo>
                  <a:lnTo>
                    <a:pt x="1674" y="3"/>
                  </a:lnTo>
                  <a:lnTo>
                    <a:pt x="1678" y="3"/>
                  </a:lnTo>
                  <a:lnTo>
                    <a:pt x="1681" y="3"/>
                  </a:lnTo>
                  <a:lnTo>
                    <a:pt x="1686" y="2"/>
                  </a:lnTo>
                  <a:lnTo>
                    <a:pt x="1689" y="2"/>
                  </a:lnTo>
                  <a:lnTo>
                    <a:pt x="1692" y="2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400880" y="3998520"/>
              <a:ext cx="1346040" cy="9540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120"/>
                  </a:moveTo>
                  <a:lnTo>
                    <a:pt x="3" y="120"/>
                  </a:lnTo>
                  <a:lnTo>
                    <a:pt x="6" y="120"/>
                  </a:lnTo>
                  <a:lnTo>
                    <a:pt x="11" y="120"/>
                  </a:lnTo>
                  <a:lnTo>
                    <a:pt x="14" y="118"/>
                  </a:lnTo>
                  <a:lnTo>
                    <a:pt x="17" y="118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7" y="117"/>
                  </a:lnTo>
                  <a:lnTo>
                    <a:pt x="30" y="117"/>
                  </a:lnTo>
                  <a:lnTo>
                    <a:pt x="35" y="115"/>
                  </a:lnTo>
                  <a:lnTo>
                    <a:pt x="38" y="115"/>
                  </a:lnTo>
                  <a:lnTo>
                    <a:pt x="41" y="115"/>
                  </a:lnTo>
                  <a:lnTo>
                    <a:pt x="44" y="115"/>
                  </a:lnTo>
                  <a:lnTo>
                    <a:pt x="48" y="114"/>
                  </a:lnTo>
                  <a:lnTo>
                    <a:pt x="51" y="114"/>
                  </a:lnTo>
                  <a:lnTo>
                    <a:pt x="54" y="114"/>
                  </a:lnTo>
                  <a:lnTo>
                    <a:pt x="59" y="112"/>
                  </a:lnTo>
                  <a:lnTo>
                    <a:pt x="62" y="112"/>
                  </a:lnTo>
                  <a:lnTo>
                    <a:pt x="65" y="112"/>
                  </a:lnTo>
                  <a:lnTo>
                    <a:pt x="68" y="112"/>
                  </a:lnTo>
                  <a:lnTo>
                    <a:pt x="71" y="110"/>
                  </a:lnTo>
                  <a:lnTo>
                    <a:pt x="74" y="110"/>
                  </a:lnTo>
                  <a:lnTo>
                    <a:pt x="78" y="110"/>
                  </a:lnTo>
                  <a:lnTo>
                    <a:pt x="82" y="110"/>
                  </a:lnTo>
                  <a:lnTo>
                    <a:pt x="86" y="109"/>
                  </a:lnTo>
                  <a:lnTo>
                    <a:pt x="89" y="109"/>
                  </a:lnTo>
                  <a:lnTo>
                    <a:pt x="92" y="109"/>
                  </a:lnTo>
                  <a:lnTo>
                    <a:pt x="95" y="107"/>
                  </a:lnTo>
                  <a:lnTo>
                    <a:pt x="98" y="107"/>
                  </a:lnTo>
                  <a:lnTo>
                    <a:pt x="101" y="107"/>
                  </a:lnTo>
                  <a:lnTo>
                    <a:pt x="106" y="107"/>
                  </a:lnTo>
                  <a:lnTo>
                    <a:pt x="109" y="106"/>
                  </a:lnTo>
                  <a:lnTo>
                    <a:pt x="113" y="106"/>
                  </a:lnTo>
                  <a:lnTo>
                    <a:pt x="116" y="106"/>
                  </a:lnTo>
                  <a:lnTo>
                    <a:pt x="119" y="106"/>
                  </a:lnTo>
                  <a:lnTo>
                    <a:pt x="122" y="104"/>
                  </a:lnTo>
                  <a:lnTo>
                    <a:pt x="125" y="104"/>
                  </a:lnTo>
                  <a:lnTo>
                    <a:pt x="130" y="104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39" y="103"/>
                  </a:lnTo>
                  <a:lnTo>
                    <a:pt x="143" y="103"/>
                  </a:lnTo>
                  <a:lnTo>
                    <a:pt x="146" y="101"/>
                  </a:lnTo>
                  <a:lnTo>
                    <a:pt x="149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0" y="99"/>
                  </a:lnTo>
                  <a:lnTo>
                    <a:pt x="163" y="99"/>
                  </a:lnTo>
                  <a:lnTo>
                    <a:pt x="166" y="99"/>
                  </a:lnTo>
                  <a:lnTo>
                    <a:pt x="170" y="99"/>
                  </a:lnTo>
                  <a:lnTo>
                    <a:pt x="173" y="98"/>
                  </a:lnTo>
                  <a:lnTo>
                    <a:pt x="177" y="98"/>
                  </a:lnTo>
                  <a:lnTo>
                    <a:pt x="181" y="98"/>
                  </a:lnTo>
                  <a:lnTo>
                    <a:pt x="184" y="98"/>
                  </a:lnTo>
                  <a:lnTo>
                    <a:pt x="187" y="96"/>
                  </a:lnTo>
                  <a:lnTo>
                    <a:pt x="190" y="96"/>
                  </a:lnTo>
                  <a:lnTo>
                    <a:pt x="193" y="96"/>
                  </a:lnTo>
                  <a:lnTo>
                    <a:pt x="196" y="96"/>
                  </a:lnTo>
                  <a:lnTo>
                    <a:pt x="201" y="95"/>
                  </a:lnTo>
                  <a:lnTo>
                    <a:pt x="204" y="95"/>
                  </a:lnTo>
                  <a:lnTo>
                    <a:pt x="208" y="95"/>
                  </a:lnTo>
                  <a:lnTo>
                    <a:pt x="211" y="95"/>
                  </a:lnTo>
                  <a:lnTo>
                    <a:pt x="214" y="93"/>
                  </a:lnTo>
                  <a:lnTo>
                    <a:pt x="217" y="93"/>
                  </a:lnTo>
                  <a:lnTo>
                    <a:pt x="220" y="93"/>
                  </a:lnTo>
                  <a:lnTo>
                    <a:pt x="225" y="93"/>
                  </a:lnTo>
                  <a:lnTo>
                    <a:pt x="228" y="93"/>
                  </a:lnTo>
                  <a:lnTo>
                    <a:pt x="231" y="91"/>
                  </a:lnTo>
                  <a:lnTo>
                    <a:pt x="235" y="91"/>
                  </a:lnTo>
                  <a:lnTo>
                    <a:pt x="238" y="91"/>
                  </a:lnTo>
                  <a:lnTo>
                    <a:pt x="241" y="91"/>
                  </a:lnTo>
                  <a:lnTo>
                    <a:pt x="244" y="90"/>
                  </a:lnTo>
                  <a:lnTo>
                    <a:pt x="249" y="90"/>
                  </a:lnTo>
                  <a:lnTo>
                    <a:pt x="252" y="90"/>
                  </a:lnTo>
                  <a:lnTo>
                    <a:pt x="255" y="90"/>
                  </a:lnTo>
                  <a:lnTo>
                    <a:pt x="258" y="88"/>
                  </a:lnTo>
                  <a:lnTo>
                    <a:pt x="261" y="88"/>
                  </a:lnTo>
                  <a:lnTo>
                    <a:pt x="265" y="88"/>
                  </a:lnTo>
                  <a:lnTo>
                    <a:pt x="268" y="88"/>
                  </a:lnTo>
                  <a:lnTo>
                    <a:pt x="273" y="88"/>
                  </a:lnTo>
                  <a:lnTo>
                    <a:pt x="276" y="87"/>
                  </a:lnTo>
                  <a:lnTo>
                    <a:pt x="279" y="87"/>
                  </a:lnTo>
                  <a:lnTo>
                    <a:pt x="282" y="87"/>
                  </a:lnTo>
                  <a:lnTo>
                    <a:pt x="285" y="87"/>
                  </a:lnTo>
                  <a:lnTo>
                    <a:pt x="288" y="85"/>
                  </a:lnTo>
                  <a:lnTo>
                    <a:pt x="292" y="85"/>
                  </a:lnTo>
                  <a:lnTo>
                    <a:pt x="296" y="85"/>
                  </a:lnTo>
                  <a:lnTo>
                    <a:pt x="299" y="85"/>
                  </a:lnTo>
                  <a:lnTo>
                    <a:pt x="303" y="85"/>
                  </a:lnTo>
                  <a:lnTo>
                    <a:pt x="306" y="84"/>
                  </a:lnTo>
                  <a:lnTo>
                    <a:pt x="309" y="84"/>
                  </a:lnTo>
                  <a:lnTo>
                    <a:pt x="312" y="84"/>
                  </a:lnTo>
                  <a:lnTo>
                    <a:pt x="315" y="84"/>
                  </a:lnTo>
                  <a:lnTo>
                    <a:pt x="320" y="82"/>
                  </a:lnTo>
                  <a:lnTo>
                    <a:pt x="323" y="82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3" y="82"/>
                  </a:lnTo>
                  <a:lnTo>
                    <a:pt x="336" y="80"/>
                  </a:lnTo>
                  <a:lnTo>
                    <a:pt x="339" y="80"/>
                  </a:lnTo>
                  <a:lnTo>
                    <a:pt x="344" y="80"/>
                  </a:lnTo>
                  <a:lnTo>
                    <a:pt x="347" y="80"/>
                  </a:lnTo>
                  <a:lnTo>
                    <a:pt x="350" y="80"/>
                  </a:lnTo>
                  <a:lnTo>
                    <a:pt x="353" y="79"/>
                  </a:lnTo>
                  <a:lnTo>
                    <a:pt x="357" y="79"/>
                  </a:lnTo>
                  <a:lnTo>
                    <a:pt x="360" y="79"/>
                  </a:lnTo>
                  <a:lnTo>
                    <a:pt x="363" y="79"/>
                  </a:lnTo>
                  <a:lnTo>
                    <a:pt x="368" y="77"/>
                  </a:lnTo>
                  <a:lnTo>
                    <a:pt x="371" y="77"/>
                  </a:lnTo>
                  <a:lnTo>
                    <a:pt x="374" y="77"/>
                  </a:lnTo>
                  <a:lnTo>
                    <a:pt x="377" y="77"/>
                  </a:lnTo>
                  <a:lnTo>
                    <a:pt x="380" y="77"/>
                  </a:lnTo>
                  <a:lnTo>
                    <a:pt x="383" y="76"/>
                  </a:lnTo>
                  <a:lnTo>
                    <a:pt x="388" y="76"/>
                  </a:lnTo>
                  <a:lnTo>
                    <a:pt x="391" y="76"/>
                  </a:lnTo>
                  <a:lnTo>
                    <a:pt x="395" y="76"/>
                  </a:lnTo>
                  <a:lnTo>
                    <a:pt x="398" y="76"/>
                  </a:lnTo>
                  <a:lnTo>
                    <a:pt x="401" y="74"/>
                  </a:lnTo>
                  <a:lnTo>
                    <a:pt x="404" y="74"/>
                  </a:lnTo>
                  <a:lnTo>
                    <a:pt x="407" y="74"/>
                  </a:lnTo>
                  <a:lnTo>
                    <a:pt x="412" y="74"/>
                  </a:lnTo>
                  <a:lnTo>
                    <a:pt x="415" y="74"/>
                  </a:lnTo>
                  <a:lnTo>
                    <a:pt x="418" y="72"/>
                  </a:lnTo>
                  <a:lnTo>
                    <a:pt x="421" y="72"/>
                  </a:lnTo>
                  <a:lnTo>
                    <a:pt x="425" y="72"/>
                  </a:lnTo>
                  <a:lnTo>
                    <a:pt x="428" y="72"/>
                  </a:lnTo>
                  <a:lnTo>
                    <a:pt x="431" y="72"/>
                  </a:lnTo>
                  <a:lnTo>
                    <a:pt x="436" y="71"/>
                  </a:lnTo>
                  <a:lnTo>
                    <a:pt x="439" y="71"/>
                  </a:lnTo>
                  <a:lnTo>
                    <a:pt x="442" y="71"/>
                  </a:lnTo>
                  <a:lnTo>
                    <a:pt x="445" y="71"/>
                  </a:lnTo>
                  <a:lnTo>
                    <a:pt x="448" y="71"/>
                  </a:lnTo>
                  <a:lnTo>
                    <a:pt x="452" y="71"/>
                  </a:lnTo>
                  <a:lnTo>
                    <a:pt x="455" y="69"/>
                  </a:lnTo>
                  <a:lnTo>
                    <a:pt x="459" y="69"/>
                  </a:lnTo>
                  <a:lnTo>
                    <a:pt x="463" y="69"/>
                  </a:lnTo>
                  <a:lnTo>
                    <a:pt x="466" y="69"/>
                  </a:lnTo>
                  <a:lnTo>
                    <a:pt x="469" y="69"/>
                  </a:lnTo>
                  <a:lnTo>
                    <a:pt x="472" y="68"/>
                  </a:lnTo>
                  <a:lnTo>
                    <a:pt x="475" y="68"/>
                  </a:lnTo>
                  <a:lnTo>
                    <a:pt x="479" y="68"/>
                  </a:lnTo>
                  <a:lnTo>
                    <a:pt x="483" y="68"/>
                  </a:lnTo>
                  <a:lnTo>
                    <a:pt x="486" y="68"/>
                  </a:lnTo>
                  <a:lnTo>
                    <a:pt x="490" y="66"/>
                  </a:lnTo>
                  <a:lnTo>
                    <a:pt x="493" y="66"/>
                  </a:lnTo>
                  <a:lnTo>
                    <a:pt x="496" y="66"/>
                  </a:lnTo>
                  <a:lnTo>
                    <a:pt x="499" y="66"/>
                  </a:lnTo>
                  <a:lnTo>
                    <a:pt x="502" y="66"/>
                  </a:lnTo>
                  <a:lnTo>
                    <a:pt x="507" y="66"/>
                  </a:lnTo>
                  <a:lnTo>
                    <a:pt x="510" y="65"/>
                  </a:lnTo>
                  <a:lnTo>
                    <a:pt x="513" y="65"/>
                  </a:lnTo>
                  <a:lnTo>
                    <a:pt x="517" y="65"/>
                  </a:lnTo>
                  <a:lnTo>
                    <a:pt x="520" y="65"/>
                  </a:lnTo>
                  <a:lnTo>
                    <a:pt x="523" y="65"/>
                  </a:lnTo>
                  <a:lnTo>
                    <a:pt x="526" y="63"/>
                  </a:lnTo>
                  <a:lnTo>
                    <a:pt x="531" y="63"/>
                  </a:lnTo>
                  <a:lnTo>
                    <a:pt x="534" y="63"/>
                  </a:lnTo>
                  <a:lnTo>
                    <a:pt x="537" y="63"/>
                  </a:lnTo>
                  <a:lnTo>
                    <a:pt x="540" y="63"/>
                  </a:lnTo>
                  <a:lnTo>
                    <a:pt x="543" y="63"/>
                  </a:lnTo>
                  <a:lnTo>
                    <a:pt x="547" y="61"/>
                  </a:lnTo>
                  <a:lnTo>
                    <a:pt x="550" y="61"/>
                  </a:lnTo>
                  <a:lnTo>
                    <a:pt x="555" y="61"/>
                  </a:lnTo>
                  <a:lnTo>
                    <a:pt x="558" y="61"/>
                  </a:lnTo>
                  <a:lnTo>
                    <a:pt x="561" y="61"/>
                  </a:lnTo>
                  <a:lnTo>
                    <a:pt x="564" y="61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0"/>
                  </a:lnTo>
                  <a:lnTo>
                    <a:pt x="581" y="60"/>
                  </a:lnTo>
                  <a:lnTo>
                    <a:pt x="585" y="58"/>
                  </a:lnTo>
                  <a:lnTo>
                    <a:pt x="588" y="58"/>
                  </a:lnTo>
                  <a:lnTo>
                    <a:pt x="591" y="58"/>
                  </a:lnTo>
                  <a:lnTo>
                    <a:pt x="594" y="58"/>
                  </a:lnTo>
                  <a:lnTo>
                    <a:pt x="597" y="58"/>
                  </a:lnTo>
                  <a:lnTo>
                    <a:pt x="602" y="58"/>
                  </a:lnTo>
                  <a:lnTo>
                    <a:pt x="605" y="57"/>
                  </a:lnTo>
                  <a:lnTo>
                    <a:pt x="608" y="57"/>
                  </a:lnTo>
                  <a:lnTo>
                    <a:pt x="612" y="57"/>
                  </a:lnTo>
                  <a:lnTo>
                    <a:pt x="615" y="57"/>
                  </a:lnTo>
                  <a:lnTo>
                    <a:pt x="618" y="57"/>
                  </a:lnTo>
                  <a:lnTo>
                    <a:pt x="621" y="57"/>
                  </a:lnTo>
                  <a:lnTo>
                    <a:pt x="626" y="55"/>
                  </a:lnTo>
                  <a:lnTo>
                    <a:pt x="629" y="55"/>
                  </a:lnTo>
                  <a:lnTo>
                    <a:pt x="632" y="55"/>
                  </a:lnTo>
                  <a:lnTo>
                    <a:pt x="635" y="55"/>
                  </a:lnTo>
                  <a:lnTo>
                    <a:pt x="639" y="55"/>
                  </a:lnTo>
                  <a:lnTo>
                    <a:pt x="642" y="55"/>
                  </a:lnTo>
                  <a:lnTo>
                    <a:pt x="645" y="55"/>
                  </a:lnTo>
                  <a:lnTo>
                    <a:pt x="650" y="53"/>
                  </a:lnTo>
                  <a:lnTo>
                    <a:pt x="653" y="53"/>
                  </a:lnTo>
                  <a:lnTo>
                    <a:pt x="656" y="53"/>
                  </a:lnTo>
                  <a:lnTo>
                    <a:pt x="659" y="53"/>
                  </a:lnTo>
                  <a:lnTo>
                    <a:pt x="662" y="53"/>
                  </a:lnTo>
                  <a:lnTo>
                    <a:pt x="665" y="53"/>
                  </a:lnTo>
                  <a:lnTo>
                    <a:pt x="669" y="52"/>
                  </a:lnTo>
                  <a:lnTo>
                    <a:pt x="673" y="52"/>
                  </a:lnTo>
                  <a:lnTo>
                    <a:pt x="677" y="52"/>
                  </a:lnTo>
                  <a:lnTo>
                    <a:pt x="680" y="52"/>
                  </a:lnTo>
                  <a:lnTo>
                    <a:pt x="683" y="52"/>
                  </a:lnTo>
                  <a:lnTo>
                    <a:pt x="686" y="52"/>
                  </a:lnTo>
                  <a:lnTo>
                    <a:pt x="689" y="50"/>
                  </a:lnTo>
                  <a:lnTo>
                    <a:pt x="692" y="50"/>
                  </a:lnTo>
                  <a:lnTo>
                    <a:pt x="697" y="50"/>
                  </a:lnTo>
                  <a:lnTo>
                    <a:pt x="700" y="50"/>
                  </a:lnTo>
                  <a:lnTo>
                    <a:pt x="703" y="50"/>
                  </a:lnTo>
                  <a:lnTo>
                    <a:pt x="707" y="50"/>
                  </a:lnTo>
                  <a:lnTo>
                    <a:pt x="710" y="50"/>
                  </a:lnTo>
                  <a:lnTo>
                    <a:pt x="713" y="49"/>
                  </a:lnTo>
                  <a:lnTo>
                    <a:pt x="716" y="49"/>
                  </a:lnTo>
                  <a:lnTo>
                    <a:pt x="721" y="49"/>
                  </a:lnTo>
                  <a:lnTo>
                    <a:pt x="724" y="49"/>
                  </a:lnTo>
                  <a:lnTo>
                    <a:pt x="727" y="49"/>
                  </a:lnTo>
                  <a:lnTo>
                    <a:pt x="730" y="49"/>
                  </a:lnTo>
                  <a:lnTo>
                    <a:pt x="734" y="47"/>
                  </a:lnTo>
                  <a:lnTo>
                    <a:pt x="737" y="47"/>
                  </a:lnTo>
                  <a:lnTo>
                    <a:pt x="740" y="47"/>
                  </a:lnTo>
                  <a:lnTo>
                    <a:pt x="745" y="47"/>
                  </a:lnTo>
                  <a:lnTo>
                    <a:pt x="748" y="47"/>
                  </a:lnTo>
                  <a:lnTo>
                    <a:pt x="751" y="47"/>
                  </a:lnTo>
                  <a:lnTo>
                    <a:pt x="754" y="47"/>
                  </a:lnTo>
                  <a:lnTo>
                    <a:pt x="757" y="46"/>
                  </a:lnTo>
                  <a:lnTo>
                    <a:pt x="761" y="46"/>
                  </a:lnTo>
                  <a:lnTo>
                    <a:pt x="765" y="46"/>
                  </a:lnTo>
                  <a:lnTo>
                    <a:pt x="768" y="46"/>
                  </a:lnTo>
                  <a:lnTo>
                    <a:pt x="772" y="46"/>
                  </a:lnTo>
                  <a:lnTo>
                    <a:pt x="775" y="46"/>
                  </a:lnTo>
                  <a:lnTo>
                    <a:pt x="778" y="46"/>
                  </a:lnTo>
                  <a:lnTo>
                    <a:pt x="781" y="44"/>
                  </a:lnTo>
                  <a:lnTo>
                    <a:pt x="784" y="44"/>
                  </a:lnTo>
                  <a:lnTo>
                    <a:pt x="789" y="44"/>
                  </a:lnTo>
                  <a:lnTo>
                    <a:pt x="792" y="44"/>
                  </a:lnTo>
                  <a:lnTo>
                    <a:pt x="795" y="44"/>
                  </a:lnTo>
                  <a:lnTo>
                    <a:pt x="799" y="44"/>
                  </a:lnTo>
                  <a:lnTo>
                    <a:pt x="802" y="44"/>
                  </a:lnTo>
                  <a:lnTo>
                    <a:pt x="805" y="42"/>
                  </a:lnTo>
                  <a:lnTo>
                    <a:pt x="808" y="42"/>
                  </a:lnTo>
                  <a:lnTo>
                    <a:pt x="813" y="42"/>
                  </a:lnTo>
                  <a:lnTo>
                    <a:pt x="816" y="42"/>
                  </a:lnTo>
                  <a:lnTo>
                    <a:pt x="819" y="42"/>
                  </a:lnTo>
                  <a:lnTo>
                    <a:pt x="822" y="42"/>
                  </a:lnTo>
                  <a:lnTo>
                    <a:pt x="825" y="42"/>
                  </a:lnTo>
                  <a:lnTo>
                    <a:pt x="829" y="41"/>
                  </a:lnTo>
                  <a:lnTo>
                    <a:pt x="832" y="41"/>
                  </a:lnTo>
                  <a:lnTo>
                    <a:pt x="837" y="41"/>
                  </a:lnTo>
                  <a:lnTo>
                    <a:pt x="840" y="41"/>
                  </a:lnTo>
                  <a:lnTo>
                    <a:pt x="843" y="41"/>
                  </a:lnTo>
                  <a:lnTo>
                    <a:pt x="846" y="41"/>
                  </a:lnTo>
                  <a:lnTo>
                    <a:pt x="849" y="41"/>
                  </a:lnTo>
                  <a:lnTo>
                    <a:pt x="852" y="39"/>
                  </a:lnTo>
                  <a:lnTo>
                    <a:pt x="856" y="39"/>
                  </a:lnTo>
                  <a:lnTo>
                    <a:pt x="860" y="39"/>
                  </a:lnTo>
                  <a:lnTo>
                    <a:pt x="864" y="39"/>
                  </a:lnTo>
                  <a:lnTo>
                    <a:pt x="867" y="39"/>
                  </a:lnTo>
                  <a:lnTo>
                    <a:pt x="870" y="39"/>
                  </a:lnTo>
                  <a:lnTo>
                    <a:pt x="873" y="39"/>
                  </a:lnTo>
                  <a:lnTo>
                    <a:pt x="876" y="39"/>
                  </a:lnTo>
                  <a:lnTo>
                    <a:pt x="879" y="38"/>
                  </a:lnTo>
                  <a:lnTo>
                    <a:pt x="884" y="38"/>
                  </a:lnTo>
                  <a:lnTo>
                    <a:pt x="887" y="38"/>
                  </a:lnTo>
                  <a:lnTo>
                    <a:pt x="890" y="38"/>
                  </a:lnTo>
                  <a:lnTo>
                    <a:pt x="894" y="38"/>
                  </a:lnTo>
                  <a:lnTo>
                    <a:pt x="897" y="38"/>
                  </a:lnTo>
                  <a:lnTo>
                    <a:pt x="900" y="38"/>
                  </a:lnTo>
                  <a:lnTo>
                    <a:pt x="903" y="36"/>
                  </a:lnTo>
                  <a:lnTo>
                    <a:pt x="908" y="36"/>
                  </a:lnTo>
                  <a:lnTo>
                    <a:pt x="911" y="36"/>
                  </a:lnTo>
                  <a:lnTo>
                    <a:pt x="914" y="36"/>
                  </a:lnTo>
                  <a:lnTo>
                    <a:pt x="917" y="36"/>
                  </a:lnTo>
                  <a:lnTo>
                    <a:pt x="921" y="36"/>
                  </a:lnTo>
                  <a:lnTo>
                    <a:pt x="924" y="36"/>
                  </a:lnTo>
                  <a:lnTo>
                    <a:pt x="927" y="36"/>
                  </a:lnTo>
                  <a:lnTo>
                    <a:pt x="932" y="34"/>
                  </a:lnTo>
                  <a:lnTo>
                    <a:pt x="935" y="34"/>
                  </a:lnTo>
                  <a:lnTo>
                    <a:pt x="938" y="34"/>
                  </a:lnTo>
                  <a:lnTo>
                    <a:pt x="941" y="34"/>
                  </a:lnTo>
                  <a:lnTo>
                    <a:pt x="944" y="34"/>
                  </a:lnTo>
                  <a:lnTo>
                    <a:pt x="947" y="34"/>
                  </a:lnTo>
                  <a:lnTo>
                    <a:pt x="951" y="34"/>
                  </a:lnTo>
                  <a:lnTo>
                    <a:pt x="955" y="34"/>
                  </a:lnTo>
                  <a:lnTo>
                    <a:pt x="959" y="33"/>
                  </a:lnTo>
                  <a:lnTo>
                    <a:pt x="962" y="33"/>
                  </a:lnTo>
                  <a:lnTo>
                    <a:pt x="965" y="33"/>
                  </a:lnTo>
                  <a:lnTo>
                    <a:pt x="968" y="33"/>
                  </a:lnTo>
                  <a:lnTo>
                    <a:pt x="971" y="33"/>
                  </a:lnTo>
                  <a:lnTo>
                    <a:pt x="974" y="33"/>
                  </a:lnTo>
                  <a:lnTo>
                    <a:pt x="979" y="33"/>
                  </a:lnTo>
                  <a:lnTo>
                    <a:pt x="982" y="33"/>
                  </a:lnTo>
                  <a:lnTo>
                    <a:pt x="986" y="31"/>
                  </a:lnTo>
                  <a:lnTo>
                    <a:pt x="989" y="31"/>
                  </a:lnTo>
                  <a:lnTo>
                    <a:pt x="992" y="31"/>
                  </a:lnTo>
                  <a:lnTo>
                    <a:pt x="995" y="31"/>
                  </a:lnTo>
                  <a:lnTo>
                    <a:pt x="998" y="31"/>
                  </a:lnTo>
                  <a:lnTo>
                    <a:pt x="1003" y="31"/>
                  </a:lnTo>
                  <a:lnTo>
                    <a:pt x="1006" y="31"/>
                  </a:lnTo>
                  <a:lnTo>
                    <a:pt x="1009" y="31"/>
                  </a:lnTo>
                  <a:lnTo>
                    <a:pt x="1012" y="30"/>
                  </a:lnTo>
                  <a:lnTo>
                    <a:pt x="1016" y="30"/>
                  </a:lnTo>
                  <a:lnTo>
                    <a:pt x="1019" y="30"/>
                  </a:lnTo>
                  <a:lnTo>
                    <a:pt x="1022" y="30"/>
                  </a:lnTo>
                  <a:lnTo>
                    <a:pt x="1027" y="30"/>
                  </a:lnTo>
                  <a:lnTo>
                    <a:pt x="1030" y="30"/>
                  </a:lnTo>
                  <a:lnTo>
                    <a:pt x="1033" y="30"/>
                  </a:lnTo>
                  <a:lnTo>
                    <a:pt x="1036" y="30"/>
                  </a:lnTo>
                  <a:lnTo>
                    <a:pt x="1039" y="28"/>
                  </a:lnTo>
                  <a:lnTo>
                    <a:pt x="1043" y="28"/>
                  </a:lnTo>
                  <a:lnTo>
                    <a:pt x="1046" y="28"/>
                  </a:lnTo>
                  <a:lnTo>
                    <a:pt x="1050" y="28"/>
                  </a:lnTo>
                  <a:lnTo>
                    <a:pt x="1054" y="28"/>
                  </a:lnTo>
                  <a:lnTo>
                    <a:pt x="1057" y="28"/>
                  </a:lnTo>
                  <a:lnTo>
                    <a:pt x="1060" y="28"/>
                  </a:lnTo>
                  <a:lnTo>
                    <a:pt x="1063" y="28"/>
                  </a:lnTo>
                  <a:lnTo>
                    <a:pt x="1066" y="28"/>
                  </a:lnTo>
                  <a:lnTo>
                    <a:pt x="1069" y="27"/>
                  </a:lnTo>
                  <a:lnTo>
                    <a:pt x="1074" y="27"/>
                  </a:lnTo>
                  <a:lnTo>
                    <a:pt x="1077" y="27"/>
                  </a:lnTo>
                  <a:lnTo>
                    <a:pt x="1081" y="27"/>
                  </a:lnTo>
                  <a:lnTo>
                    <a:pt x="1084" y="27"/>
                  </a:lnTo>
                  <a:lnTo>
                    <a:pt x="1087" y="27"/>
                  </a:lnTo>
                  <a:lnTo>
                    <a:pt x="1090" y="27"/>
                  </a:lnTo>
                  <a:lnTo>
                    <a:pt x="1093" y="27"/>
                  </a:lnTo>
                  <a:lnTo>
                    <a:pt x="1098" y="25"/>
                  </a:lnTo>
                  <a:lnTo>
                    <a:pt x="1101" y="25"/>
                  </a:lnTo>
                  <a:lnTo>
                    <a:pt x="1104" y="25"/>
                  </a:lnTo>
                  <a:lnTo>
                    <a:pt x="1107" y="25"/>
                  </a:lnTo>
                  <a:lnTo>
                    <a:pt x="1111" y="25"/>
                  </a:lnTo>
                  <a:lnTo>
                    <a:pt x="1114" y="25"/>
                  </a:lnTo>
                  <a:lnTo>
                    <a:pt x="1117" y="25"/>
                  </a:lnTo>
                  <a:lnTo>
                    <a:pt x="1122" y="25"/>
                  </a:lnTo>
                  <a:lnTo>
                    <a:pt x="1125" y="25"/>
                  </a:lnTo>
                  <a:lnTo>
                    <a:pt x="1128" y="23"/>
                  </a:lnTo>
                  <a:lnTo>
                    <a:pt x="1131" y="23"/>
                  </a:lnTo>
                  <a:lnTo>
                    <a:pt x="1134" y="23"/>
                  </a:lnTo>
                  <a:lnTo>
                    <a:pt x="1138" y="23"/>
                  </a:lnTo>
                  <a:lnTo>
                    <a:pt x="1142" y="23"/>
                  </a:lnTo>
                  <a:lnTo>
                    <a:pt x="1146" y="23"/>
                  </a:lnTo>
                  <a:lnTo>
                    <a:pt x="1149" y="23"/>
                  </a:lnTo>
                  <a:lnTo>
                    <a:pt x="1152" y="23"/>
                  </a:lnTo>
                  <a:lnTo>
                    <a:pt x="1155" y="23"/>
                  </a:lnTo>
                  <a:lnTo>
                    <a:pt x="1158" y="22"/>
                  </a:lnTo>
                  <a:lnTo>
                    <a:pt x="1161" y="22"/>
                  </a:lnTo>
                  <a:lnTo>
                    <a:pt x="1166" y="22"/>
                  </a:lnTo>
                  <a:lnTo>
                    <a:pt x="1169" y="22"/>
                  </a:lnTo>
                  <a:lnTo>
                    <a:pt x="1172" y="22"/>
                  </a:lnTo>
                  <a:lnTo>
                    <a:pt x="1176" y="22"/>
                  </a:lnTo>
                  <a:lnTo>
                    <a:pt x="1179" y="22"/>
                  </a:lnTo>
                  <a:lnTo>
                    <a:pt x="1182" y="22"/>
                  </a:lnTo>
                  <a:lnTo>
                    <a:pt x="1185" y="22"/>
                  </a:lnTo>
                  <a:lnTo>
                    <a:pt x="1190" y="20"/>
                  </a:lnTo>
                  <a:lnTo>
                    <a:pt x="1193" y="20"/>
                  </a:lnTo>
                  <a:lnTo>
                    <a:pt x="1196" y="20"/>
                  </a:lnTo>
                  <a:lnTo>
                    <a:pt x="1199" y="20"/>
                  </a:lnTo>
                  <a:lnTo>
                    <a:pt x="1203" y="20"/>
                  </a:lnTo>
                  <a:lnTo>
                    <a:pt x="1206" y="20"/>
                  </a:lnTo>
                  <a:lnTo>
                    <a:pt x="1209" y="20"/>
                  </a:lnTo>
                  <a:lnTo>
                    <a:pt x="1214" y="20"/>
                  </a:lnTo>
                  <a:lnTo>
                    <a:pt x="1217" y="20"/>
                  </a:lnTo>
                  <a:lnTo>
                    <a:pt x="1220" y="20"/>
                  </a:lnTo>
                  <a:lnTo>
                    <a:pt x="1223" y="19"/>
                  </a:lnTo>
                  <a:lnTo>
                    <a:pt x="1226" y="19"/>
                  </a:lnTo>
                  <a:lnTo>
                    <a:pt x="1229" y="19"/>
                  </a:lnTo>
                  <a:lnTo>
                    <a:pt x="1233" y="19"/>
                  </a:lnTo>
                  <a:lnTo>
                    <a:pt x="1237" y="19"/>
                  </a:lnTo>
                  <a:lnTo>
                    <a:pt x="1241" y="19"/>
                  </a:lnTo>
                  <a:lnTo>
                    <a:pt x="1244" y="19"/>
                  </a:lnTo>
                  <a:lnTo>
                    <a:pt x="1247" y="19"/>
                  </a:lnTo>
                  <a:lnTo>
                    <a:pt x="1250" y="19"/>
                  </a:lnTo>
                  <a:lnTo>
                    <a:pt x="1253" y="19"/>
                  </a:lnTo>
                  <a:lnTo>
                    <a:pt x="1256" y="17"/>
                  </a:lnTo>
                  <a:lnTo>
                    <a:pt x="1261" y="17"/>
                  </a:lnTo>
                  <a:lnTo>
                    <a:pt x="1264" y="17"/>
                  </a:lnTo>
                  <a:lnTo>
                    <a:pt x="1268" y="17"/>
                  </a:lnTo>
                  <a:lnTo>
                    <a:pt x="1271" y="17"/>
                  </a:lnTo>
                  <a:lnTo>
                    <a:pt x="1274" y="17"/>
                  </a:lnTo>
                  <a:lnTo>
                    <a:pt x="1277" y="17"/>
                  </a:lnTo>
                  <a:lnTo>
                    <a:pt x="1280" y="17"/>
                  </a:lnTo>
                  <a:lnTo>
                    <a:pt x="1285" y="17"/>
                  </a:lnTo>
                  <a:lnTo>
                    <a:pt x="1288" y="15"/>
                  </a:lnTo>
                  <a:lnTo>
                    <a:pt x="1291" y="15"/>
                  </a:lnTo>
                  <a:lnTo>
                    <a:pt x="1294" y="15"/>
                  </a:lnTo>
                  <a:lnTo>
                    <a:pt x="1298" y="15"/>
                  </a:lnTo>
                  <a:lnTo>
                    <a:pt x="1301" y="15"/>
                  </a:lnTo>
                  <a:lnTo>
                    <a:pt x="1304" y="15"/>
                  </a:lnTo>
                  <a:lnTo>
                    <a:pt x="1309" y="15"/>
                  </a:lnTo>
                  <a:lnTo>
                    <a:pt x="1312" y="15"/>
                  </a:lnTo>
                  <a:lnTo>
                    <a:pt x="1315" y="15"/>
                  </a:lnTo>
                  <a:lnTo>
                    <a:pt x="1318" y="15"/>
                  </a:lnTo>
                  <a:lnTo>
                    <a:pt x="1321" y="15"/>
                  </a:lnTo>
                  <a:lnTo>
                    <a:pt x="1325" y="14"/>
                  </a:lnTo>
                  <a:lnTo>
                    <a:pt x="1328" y="14"/>
                  </a:lnTo>
                  <a:lnTo>
                    <a:pt x="1332" y="14"/>
                  </a:lnTo>
                  <a:lnTo>
                    <a:pt x="1336" y="14"/>
                  </a:lnTo>
                  <a:lnTo>
                    <a:pt x="1339" y="14"/>
                  </a:lnTo>
                  <a:lnTo>
                    <a:pt x="1342" y="14"/>
                  </a:lnTo>
                  <a:lnTo>
                    <a:pt x="1345" y="14"/>
                  </a:lnTo>
                  <a:lnTo>
                    <a:pt x="1348" y="14"/>
                  </a:lnTo>
                  <a:lnTo>
                    <a:pt x="1351" y="14"/>
                  </a:lnTo>
                  <a:lnTo>
                    <a:pt x="1356" y="14"/>
                  </a:lnTo>
                  <a:lnTo>
                    <a:pt x="1359" y="12"/>
                  </a:lnTo>
                  <a:lnTo>
                    <a:pt x="1363" y="12"/>
                  </a:lnTo>
                  <a:lnTo>
                    <a:pt x="1366" y="12"/>
                  </a:lnTo>
                  <a:lnTo>
                    <a:pt x="1369" y="12"/>
                  </a:lnTo>
                  <a:lnTo>
                    <a:pt x="1372" y="12"/>
                  </a:lnTo>
                  <a:lnTo>
                    <a:pt x="1375" y="12"/>
                  </a:lnTo>
                  <a:lnTo>
                    <a:pt x="1380" y="12"/>
                  </a:lnTo>
                  <a:lnTo>
                    <a:pt x="1383" y="12"/>
                  </a:lnTo>
                  <a:lnTo>
                    <a:pt x="1386" y="12"/>
                  </a:lnTo>
                  <a:lnTo>
                    <a:pt x="1390" y="12"/>
                  </a:lnTo>
                  <a:lnTo>
                    <a:pt x="1393" y="11"/>
                  </a:lnTo>
                  <a:lnTo>
                    <a:pt x="1396" y="11"/>
                  </a:lnTo>
                  <a:lnTo>
                    <a:pt x="1399" y="11"/>
                  </a:lnTo>
                  <a:lnTo>
                    <a:pt x="1404" y="11"/>
                  </a:lnTo>
                  <a:lnTo>
                    <a:pt x="1407" y="11"/>
                  </a:lnTo>
                  <a:lnTo>
                    <a:pt x="1410" y="11"/>
                  </a:lnTo>
                  <a:lnTo>
                    <a:pt x="1413" y="11"/>
                  </a:lnTo>
                  <a:lnTo>
                    <a:pt x="1416" y="11"/>
                  </a:lnTo>
                  <a:lnTo>
                    <a:pt x="1420" y="11"/>
                  </a:lnTo>
                  <a:lnTo>
                    <a:pt x="1423" y="11"/>
                  </a:lnTo>
                  <a:lnTo>
                    <a:pt x="1428" y="11"/>
                  </a:lnTo>
                  <a:lnTo>
                    <a:pt x="1431" y="9"/>
                  </a:lnTo>
                  <a:lnTo>
                    <a:pt x="1434" y="9"/>
                  </a:lnTo>
                  <a:lnTo>
                    <a:pt x="1437" y="9"/>
                  </a:lnTo>
                  <a:lnTo>
                    <a:pt x="1440" y="9"/>
                  </a:lnTo>
                  <a:lnTo>
                    <a:pt x="1443" y="9"/>
                  </a:lnTo>
                  <a:lnTo>
                    <a:pt x="1447" y="9"/>
                  </a:lnTo>
                  <a:lnTo>
                    <a:pt x="1451" y="9"/>
                  </a:lnTo>
                  <a:lnTo>
                    <a:pt x="1454" y="9"/>
                  </a:lnTo>
                  <a:lnTo>
                    <a:pt x="1458" y="9"/>
                  </a:lnTo>
                  <a:lnTo>
                    <a:pt x="1461" y="9"/>
                  </a:lnTo>
                  <a:lnTo>
                    <a:pt x="1464" y="9"/>
                  </a:lnTo>
                  <a:lnTo>
                    <a:pt x="1467" y="8"/>
                  </a:lnTo>
                  <a:lnTo>
                    <a:pt x="1470" y="8"/>
                  </a:lnTo>
                  <a:lnTo>
                    <a:pt x="1475" y="8"/>
                  </a:lnTo>
                  <a:lnTo>
                    <a:pt x="1478" y="8"/>
                  </a:lnTo>
                  <a:lnTo>
                    <a:pt x="1481" y="8"/>
                  </a:lnTo>
                  <a:lnTo>
                    <a:pt x="1485" y="8"/>
                  </a:lnTo>
                  <a:lnTo>
                    <a:pt x="1488" y="8"/>
                  </a:lnTo>
                  <a:lnTo>
                    <a:pt x="1491" y="8"/>
                  </a:lnTo>
                  <a:lnTo>
                    <a:pt x="1494" y="8"/>
                  </a:lnTo>
                  <a:lnTo>
                    <a:pt x="1499" y="8"/>
                  </a:lnTo>
                  <a:lnTo>
                    <a:pt x="1502" y="8"/>
                  </a:lnTo>
                  <a:lnTo>
                    <a:pt x="1505" y="8"/>
                  </a:lnTo>
                  <a:lnTo>
                    <a:pt x="1508" y="6"/>
                  </a:lnTo>
                  <a:lnTo>
                    <a:pt x="1512" y="6"/>
                  </a:lnTo>
                  <a:lnTo>
                    <a:pt x="1515" y="6"/>
                  </a:lnTo>
                  <a:lnTo>
                    <a:pt x="1519" y="6"/>
                  </a:lnTo>
                  <a:lnTo>
                    <a:pt x="1523" y="6"/>
                  </a:lnTo>
                  <a:lnTo>
                    <a:pt x="1526" y="6"/>
                  </a:lnTo>
                  <a:lnTo>
                    <a:pt x="1529" y="6"/>
                  </a:lnTo>
                  <a:lnTo>
                    <a:pt x="1532" y="6"/>
                  </a:lnTo>
                  <a:lnTo>
                    <a:pt x="1535" y="6"/>
                  </a:lnTo>
                  <a:lnTo>
                    <a:pt x="1538" y="6"/>
                  </a:lnTo>
                  <a:lnTo>
                    <a:pt x="1543" y="6"/>
                  </a:lnTo>
                  <a:lnTo>
                    <a:pt x="1546" y="4"/>
                  </a:lnTo>
                  <a:lnTo>
                    <a:pt x="1550" y="4"/>
                  </a:lnTo>
                  <a:lnTo>
                    <a:pt x="1553" y="4"/>
                  </a:lnTo>
                  <a:lnTo>
                    <a:pt x="1556" y="4"/>
                  </a:lnTo>
                  <a:lnTo>
                    <a:pt x="1559" y="4"/>
                  </a:lnTo>
                  <a:lnTo>
                    <a:pt x="1562" y="4"/>
                  </a:lnTo>
                  <a:lnTo>
                    <a:pt x="1567" y="4"/>
                  </a:lnTo>
                  <a:lnTo>
                    <a:pt x="1570" y="4"/>
                  </a:lnTo>
                  <a:lnTo>
                    <a:pt x="1573" y="4"/>
                  </a:lnTo>
                  <a:lnTo>
                    <a:pt x="1576" y="4"/>
                  </a:lnTo>
                  <a:lnTo>
                    <a:pt x="1580" y="4"/>
                  </a:lnTo>
                  <a:lnTo>
                    <a:pt x="1583" y="4"/>
                  </a:lnTo>
                  <a:lnTo>
                    <a:pt x="1586" y="3"/>
                  </a:lnTo>
                  <a:lnTo>
                    <a:pt x="1591" y="3"/>
                  </a:lnTo>
                  <a:lnTo>
                    <a:pt x="1594" y="3"/>
                  </a:lnTo>
                  <a:lnTo>
                    <a:pt x="1597" y="3"/>
                  </a:lnTo>
                  <a:lnTo>
                    <a:pt x="1600" y="3"/>
                  </a:lnTo>
                  <a:lnTo>
                    <a:pt x="1603" y="3"/>
                  </a:lnTo>
                  <a:lnTo>
                    <a:pt x="1607" y="3"/>
                  </a:lnTo>
                  <a:lnTo>
                    <a:pt x="1610" y="3"/>
                  </a:lnTo>
                  <a:lnTo>
                    <a:pt x="1614" y="3"/>
                  </a:lnTo>
                  <a:lnTo>
                    <a:pt x="1618" y="3"/>
                  </a:lnTo>
                  <a:lnTo>
                    <a:pt x="1621" y="3"/>
                  </a:lnTo>
                  <a:lnTo>
                    <a:pt x="1624" y="3"/>
                  </a:lnTo>
                  <a:lnTo>
                    <a:pt x="1627" y="1"/>
                  </a:lnTo>
                  <a:lnTo>
                    <a:pt x="1630" y="1"/>
                  </a:lnTo>
                  <a:lnTo>
                    <a:pt x="1634" y="1"/>
                  </a:lnTo>
                  <a:lnTo>
                    <a:pt x="1638" y="1"/>
                  </a:lnTo>
                  <a:lnTo>
                    <a:pt x="1641" y="1"/>
                  </a:lnTo>
                  <a:lnTo>
                    <a:pt x="1645" y="1"/>
                  </a:lnTo>
                  <a:lnTo>
                    <a:pt x="1648" y="1"/>
                  </a:lnTo>
                  <a:lnTo>
                    <a:pt x="1651" y="1"/>
                  </a:lnTo>
                  <a:lnTo>
                    <a:pt x="1654" y="1"/>
                  </a:lnTo>
                  <a:lnTo>
                    <a:pt x="1657" y="1"/>
                  </a:lnTo>
                  <a:lnTo>
                    <a:pt x="1662" y="1"/>
                  </a:lnTo>
                  <a:lnTo>
                    <a:pt x="1665" y="1"/>
                  </a:lnTo>
                  <a:lnTo>
                    <a:pt x="1668" y="1"/>
                  </a:lnTo>
                  <a:lnTo>
                    <a:pt x="1672" y="0"/>
                  </a:lnTo>
                  <a:lnTo>
                    <a:pt x="1675" y="0"/>
                  </a:lnTo>
                  <a:lnTo>
                    <a:pt x="1678" y="0"/>
                  </a:lnTo>
                  <a:lnTo>
                    <a:pt x="1681" y="0"/>
                  </a:lnTo>
                  <a:lnTo>
                    <a:pt x="1686" y="0"/>
                  </a:lnTo>
                  <a:lnTo>
                    <a:pt x="1689" y="0"/>
                  </a:lnTo>
                  <a:lnTo>
                    <a:pt x="1692" y="0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94440" y="2898360"/>
              <a:ext cx="1346040" cy="79236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5" y="3"/>
                  </a:lnTo>
                  <a:lnTo>
                    <a:pt x="98" y="3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09" y="6"/>
                  </a:lnTo>
                  <a:lnTo>
                    <a:pt x="112" y="6"/>
                  </a:lnTo>
                  <a:lnTo>
                    <a:pt x="115" y="8"/>
                  </a:lnTo>
                  <a:lnTo>
                    <a:pt x="119" y="9"/>
                  </a:lnTo>
                  <a:lnTo>
                    <a:pt x="122" y="11"/>
                  </a:lnTo>
                  <a:lnTo>
                    <a:pt x="125" y="13"/>
                  </a:lnTo>
                  <a:lnTo>
                    <a:pt x="130" y="14"/>
                  </a:lnTo>
                  <a:lnTo>
                    <a:pt x="133" y="17"/>
                  </a:lnTo>
                  <a:lnTo>
                    <a:pt x="136" y="19"/>
                  </a:lnTo>
                  <a:lnTo>
                    <a:pt x="139" y="20"/>
                  </a:lnTo>
                  <a:lnTo>
                    <a:pt x="142" y="24"/>
                  </a:lnTo>
                  <a:lnTo>
                    <a:pt x="146" y="27"/>
                  </a:lnTo>
                  <a:lnTo>
                    <a:pt x="149" y="28"/>
                  </a:lnTo>
                  <a:lnTo>
                    <a:pt x="153" y="32"/>
                  </a:lnTo>
                  <a:lnTo>
                    <a:pt x="157" y="35"/>
                  </a:lnTo>
                  <a:lnTo>
                    <a:pt x="160" y="38"/>
                  </a:lnTo>
                  <a:lnTo>
                    <a:pt x="163" y="41"/>
                  </a:lnTo>
                  <a:lnTo>
                    <a:pt x="166" y="44"/>
                  </a:lnTo>
                  <a:lnTo>
                    <a:pt x="169" y="49"/>
                  </a:lnTo>
                  <a:lnTo>
                    <a:pt x="172" y="52"/>
                  </a:lnTo>
                  <a:lnTo>
                    <a:pt x="177" y="55"/>
                  </a:lnTo>
                  <a:lnTo>
                    <a:pt x="180" y="60"/>
                  </a:lnTo>
                  <a:lnTo>
                    <a:pt x="184" y="63"/>
                  </a:lnTo>
                  <a:lnTo>
                    <a:pt x="187" y="68"/>
                  </a:lnTo>
                  <a:lnTo>
                    <a:pt x="190" y="73"/>
                  </a:lnTo>
                  <a:lnTo>
                    <a:pt x="193" y="76"/>
                  </a:lnTo>
                  <a:lnTo>
                    <a:pt x="198" y="81"/>
                  </a:lnTo>
                  <a:lnTo>
                    <a:pt x="201" y="85"/>
                  </a:lnTo>
                  <a:lnTo>
                    <a:pt x="204" y="90"/>
                  </a:lnTo>
                  <a:lnTo>
                    <a:pt x="207" y="95"/>
                  </a:lnTo>
                  <a:lnTo>
                    <a:pt x="210" y="100"/>
                  </a:lnTo>
                  <a:lnTo>
                    <a:pt x="214" y="104"/>
                  </a:lnTo>
                  <a:lnTo>
                    <a:pt x="217" y="109"/>
                  </a:lnTo>
                  <a:lnTo>
                    <a:pt x="222" y="114"/>
                  </a:lnTo>
                  <a:lnTo>
                    <a:pt x="225" y="120"/>
                  </a:lnTo>
                  <a:lnTo>
                    <a:pt x="228" y="125"/>
                  </a:lnTo>
                  <a:lnTo>
                    <a:pt x="231" y="130"/>
                  </a:lnTo>
                  <a:lnTo>
                    <a:pt x="234" y="134"/>
                  </a:lnTo>
                  <a:lnTo>
                    <a:pt x="237" y="141"/>
                  </a:lnTo>
                  <a:lnTo>
                    <a:pt x="241" y="146"/>
                  </a:lnTo>
                  <a:lnTo>
                    <a:pt x="245" y="150"/>
                  </a:lnTo>
                  <a:lnTo>
                    <a:pt x="249" y="157"/>
                  </a:lnTo>
                  <a:lnTo>
                    <a:pt x="252" y="161"/>
                  </a:lnTo>
                  <a:lnTo>
                    <a:pt x="255" y="168"/>
                  </a:lnTo>
                  <a:lnTo>
                    <a:pt x="258" y="172"/>
                  </a:lnTo>
                  <a:lnTo>
                    <a:pt x="261" y="177"/>
                  </a:lnTo>
                  <a:lnTo>
                    <a:pt x="264" y="184"/>
                  </a:lnTo>
                  <a:lnTo>
                    <a:pt x="269" y="188"/>
                  </a:lnTo>
                  <a:lnTo>
                    <a:pt x="272" y="195"/>
                  </a:lnTo>
                  <a:lnTo>
                    <a:pt x="275" y="199"/>
                  </a:lnTo>
                  <a:lnTo>
                    <a:pt x="279" y="206"/>
                  </a:lnTo>
                  <a:lnTo>
                    <a:pt x="282" y="211"/>
                  </a:lnTo>
                  <a:lnTo>
                    <a:pt x="285" y="217"/>
                  </a:lnTo>
                  <a:lnTo>
                    <a:pt x="288" y="222"/>
                  </a:lnTo>
                  <a:lnTo>
                    <a:pt x="293" y="226"/>
                  </a:lnTo>
                  <a:lnTo>
                    <a:pt x="296" y="233"/>
                  </a:lnTo>
                  <a:lnTo>
                    <a:pt x="299" y="237"/>
                  </a:lnTo>
                  <a:lnTo>
                    <a:pt x="302" y="244"/>
                  </a:lnTo>
                  <a:lnTo>
                    <a:pt x="306" y="249"/>
                  </a:lnTo>
                  <a:lnTo>
                    <a:pt x="309" y="255"/>
                  </a:lnTo>
                  <a:lnTo>
                    <a:pt x="312" y="260"/>
                  </a:lnTo>
                  <a:lnTo>
                    <a:pt x="317" y="264"/>
                  </a:lnTo>
                  <a:lnTo>
                    <a:pt x="320" y="271"/>
                  </a:lnTo>
                  <a:lnTo>
                    <a:pt x="323" y="275"/>
                  </a:lnTo>
                  <a:lnTo>
                    <a:pt x="326" y="280"/>
                  </a:lnTo>
                  <a:lnTo>
                    <a:pt x="329" y="287"/>
                  </a:lnTo>
                  <a:lnTo>
                    <a:pt x="332" y="291"/>
                  </a:lnTo>
                  <a:lnTo>
                    <a:pt x="336" y="296"/>
                  </a:lnTo>
                  <a:lnTo>
                    <a:pt x="340" y="302"/>
                  </a:lnTo>
                  <a:lnTo>
                    <a:pt x="344" y="307"/>
                  </a:lnTo>
                  <a:lnTo>
                    <a:pt x="347" y="312"/>
                  </a:lnTo>
                  <a:lnTo>
                    <a:pt x="350" y="317"/>
                  </a:lnTo>
                  <a:lnTo>
                    <a:pt x="353" y="323"/>
                  </a:lnTo>
                  <a:lnTo>
                    <a:pt x="356" y="328"/>
                  </a:lnTo>
                  <a:lnTo>
                    <a:pt x="359" y="332"/>
                  </a:lnTo>
                  <a:lnTo>
                    <a:pt x="364" y="337"/>
                  </a:lnTo>
                  <a:lnTo>
                    <a:pt x="367" y="342"/>
                  </a:lnTo>
                  <a:lnTo>
                    <a:pt x="371" y="347"/>
                  </a:lnTo>
                  <a:lnTo>
                    <a:pt x="374" y="353"/>
                  </a:lnTo>
                  <a:lnTo>
                    <a:pt x="377" y="358"/>
                  </a:lnTo>
                  <a:lnTo>
                    <a:pt x="380" y="363"/>
                  </a:lnTo>
                  <a:lnTo>
                    <a:pt x="383" y="367"/>
                  </a:lnTo>
                  <a:lnTo>
                    <a:pt x="388" y="372"/>
                  </a:lnTo>
                  <a:lnTo>
                    <a:pt x="391" y="377"/>
                  </a:lnTo>
                  <a:lnTo>
                    <a:pt x="394" y="382"/>
                  </a:lnTo>
                  <a:lnTo>
                    <a:pt x="397" y="386"/>
                  </a:lnTo>
                  <a:lnTo>
                    <a:pt x="401" y="391"/>
                  </a:lnTo>
                  <a:lnTo>
                    <a:pt x="404" y="396"/>
                  </a:lnTo>
                  <a:lnTo>
                    <a:pt x="407" y="401"/>
                  </a:lnTo>
                  <a:lnTo>
                    <a:pt x="412" y="404"/>
                  </a:lnTo>
                  <a:lnTo>
                    <a:pt x="415" y="408"/>
                  </a:lnTo>
                  <a:lnTo>
                    <a:pt x="418" y="413"/>
                  </a:lnTo>
                  <a:lnTo>
                    <a:pt x="421" y="418"/>
                  </a:lnTo>
                  <a:lnTo>
                    <a:pt x="424" y="423"/>
                  </a:lnTo>
                  <a:lnTo>
                    <a:pt x="428" y="427"/>
                  </a:lnTo>
                  <a:lnTo>
                    <a:pt x="431" y="431"/>
                  </a:lnTo>
                  <a:lnTo>
                    <a:pt x="435" y="435"/>
                  </a:lnTo>
                  <a:lnTo>
                    <a:pt x="439" y="440"/>
                  </a:lnTo>
                  <a:lnTo>
                    <a:pt x="442" y="443"/>
                  </a:lnTo>
                  <a:lnTo>
                    <a:pt x="445" y="448"/>
                  </a:lnTo>
                  <a:lnTo>
                    <a:pt x="448" y="453"/>
                  </a:lnTo>
                  <a:lnTo>
                    <a:pt x="451" y="456"/>
                  </a:lnTo>
                  <a:lnTo>
                    <a:pt x="454" y="461"/>
                  </a:lnTo>
                  <a:lnTo>
                    <a:pt x="459" y="465"/>
                  </a:lnTo>
                  <a:lnTo>
                    <a:pt x="462" y="469"/>
                  </a:lnTo>
                  <a:lnTo>
                    <a:pt x="466" y="473"/>
                  </a:lnTo>
                  <a:lnTo>
                    <a:pt x="469" y="477"/>
                  </a:lnTo>
                  <a:lnTo>
                    <a:pt x="472" y="481"/>
                  </a:lnTo>
                  <a:lnTo>
                    <a:pt x="475" y="484"/>
                  </a:lnTo>
                  <a:lnTo>
                    <a:pt x="478" y="489"/>
                  </a:lnTo>
                  <a:lnTo>
                    <a:pt x="483" y="492"/>
                  </a:lnTo>
                  <a:lnTo>
                    <a:pt x="486" y="497"/>
                  </a:lnTo>
                  <a:lnTo>
                    <a:pt x="489" y="500"/>
                  </a:lnTo>
                  <a:lnTo>
                    <a:pt x="492" y="503"/>
                  </a:lnTo>
                  <a:lnTo>
                    <a:pt x="496" y="508"/>
                  </a:lnTo>
                  <a:lnTo>
                    <a:pt x="499" y="511"/>
                  </a:lnTo>
                  <a:lnTo>
                    <a:pt x="502" y="515"/>
                  </a:lnTo>
                  <a:lnTo>
                    <a:pt x="507" y="519"/>
                  </a:lnTo>
                  <a:lnTo>
                    <a:pt x="510" y="522"/>
                  </a:lnTo>
                  <a:lnTo>
                    <a:pt x="513" y="526"/>
                  </a:lnTo>
                  <a:lnTo>
                    <a:pt x="516" y="530"/>
                  </a:lnTo>
                  <a:lnTo>
                    <a:pt x="519" y="534"/>
                  </a:lnTo>
                  <a:lnTo>
                    <a:pt x="523" y="537"/>
                  </a:lnTo>
                  <a:lnTo>
                    <a:pt x="526" y="540"/>
                  </a:lnTo>
                  <a:lnTo>
                    <a:pt x="531" y="543"/>
                  </a:lnTo>
                  <a:lnTo>
                    <a:pt x="534" y="548"/>
                  </a:lnTo>
                  <a:lnTo>
                    <a:pt x="537" y="551"/>
                  </a:lnTo>
                  <a:lnTo>
                    <a:pt x="540" y="554"/>
                  </a:lnTo>
                  <a:lnTo>
                    <a:pt x="543" y="557"/>
                  </a:lnTo>
                  <a:lnTo>
                    <a:pt x="546" y="560"/>
                  </a:lnTo>
                  <a:lnTo>
                    <a:pt x="550" y="564"/>
                  </a:lnTo>
                  <a:lnTo>
                    <a:pt x="554" y="567"/>
                  </a:lnTo>
                  <a:lnTo>
                    <a:pt x="557" y="570"/>
                  </a:lnTo>
                  <a:lnTo>
                    <a:pt x="561" y="573"/>
                  </a:lnTo>
                  <a:lnTo>
                    <a:pt x="564" y="576"/>
                  </a:lnTo>
                  <a:lnTo>
                    <a:pt x="567" y="579"/>
                  </a:lnTo>
                  <a:lnTo>
                    <a:pt x="570" y="583"/>
                  </a:lnTo>
                  <a:lnTo>
                    <a:pt x="575" y="586"/>
                  </a:lnTo>
                  <a:lnTo>
                    <a:pt x="578" y="589"/>
                  </a:lnTo>
                  <a:lnTo>
                    <a:pt x="581" y="592"/>
                  </a:lnTo>
                  <a:lnTo>
                    <a:pt x="584" y="595"/>
                  </a:lnTo>
                  <a:lnTo>
                    <a:pt x="588" y="599"/>
                  </a:lnTo>
                  <a:lnTo>
                    <a:pt x="591" y="602"/>
                  </a:lnTo>
                  <a:lnTo>
                    <a:pt x="594" y="605"/>
                  </a:lnTo>
                  <a:lnTo>
                    <a:pt x="599" y="606"/>
                  </a:lnTo>
                  <a:lnTo>
                    <a:pt x="602" y="610"/>
                  </a:lnTo>
                  <a:lnTo>
                    <a:pt x="605" y="613"/>
                  </a:lnTo>
                  <a:lnTo>
                    <a:pt x="608" y="616"/>
                  </a:lnTo>
                  <a:lnTo>
                    <a:pt x="611" y="619"/>
                  </a:lnTo>
                  <a:lnTo>
                    <a:pt x="614" y="622"/>
                  </a:lnTo>
                  <a:lnTo>
                    <a:pt x="618" y="624"/>
                  </a:lnTo>
                  <a:lnTo>
                    <a:pt x="622" y="627"/>
                  </a:lnTo>
                  <a:lnTo>
                    <a:pt x="626" y="630"/>
                  </a:lnTo>
                  <a:lnTo>
                    <a:pt x="629" y="633"/>
                  </a:lnTo>
                  <a:lnTo>
                    <a:pt x="632" y="635"/>
                  </a:lnTo>
                  <a:lnTo>
                    <a:pt x="635" y="638"/>
                  </a:lnTo>
                  <a:lnTo>
                    <a:pt x="638" y="641"/>
                  </a:lnTo>
                  <a:lnTo>
                    <a:pt x="641" y="643"/>
                  </a:lnTo>
                  <a:lnTo>
                    <a:pt x="646" y="646"/>
                  </a:lnTo>
                  <a:lnTo>
                    <a:pt x="649" y="649"/>
                  </a:lnTo>
                  <a:lnTo>
                    <a:pt x="653" y="651"/>
                  </a:lnTo>
                  <a:lnTo>
                    <a:pt x="656" y="654"/>
                  </a:lnTo>
                  <a:lnTo>
                    <a:pt x="659" y="656"/>
                  </a:lnTo>
                  <a:lnTo>
                    <a:pt x="662" y="659"/>
                  </a:lnTo>
                  <a:lnTo>
                    <a:pt x="665" y="662"/>
                  </a:lnTo>
                  <a:lnTo>
                    <a:pt x="670" y="663"/>
                  </a:lnTo>
                  <a:lnTo>
                    <a:pt x="673" y="667"/>
                  </a:lnTo>
                  <a:lnTo>
                    <a:pt x="676" y="668"/>
                  </a:lnTo>
                  <a:lnTo>
                    <a:pt x="679" y="671"/>
                  </a:lnTo>
                  <a:lnTo>
                    <a:pt x="683" y="673"/>
                  </a:lnTo>
                  <a:lnTo>
                    <a:pt x="686" y="676"/>
                  </a:lnTo>
                  <a:lnTo>
                    <a:pt x="689" y="678"/>
                  </a:lnTo>
                  <a:lnTo>
                    <a:pt x="694" y="681"/>
                  </a:lnTo>
                  <a:lnTo>
                    <a:pt x="697" y="682"/>
                  </a:lnTo>
                  <a:lnTo>
                    <a:pt x="700" y="686"/>
                  </a:lnTo>
                  <a:lnTo>
                    <a:pt x="703" y="687"/>
                  </a:lnTo>
                  <a:lnTo>
                    <a:pt x="706" y="690"/>
                  </a:lnTo>
                  <a:lnTo>
                    <a:pt x="710" y="692"/>
                  </a:lnTo>
                  <a:lnTo>
                    <a:pt x="713" y="695"/>
                  </a:lnTo>
                  <a:lnTo>
                    <a:pt x="717" y="697"/>
                  </a:lnTo>
                  <a:lnTo>
                    <a:pt x="721" y="698"/>
                  </a:lnTo>
                  <a:lnTo>
                    <a:pt x="724" y="701"/>
                  </a:lnTo>
                  <a:lnTo>
                    <a:pt x="727" y="703"/>
                  </a:lnTo>
                  <a:lnTo>
                    <a:pt x="730" y="706"/>
                  </a:lnTo>
                  <a:lnTo>
                    <a:pt x="733" y="708"/>
                  </a:lnTo>
                  <a:lnTo>
                    <a:pt x="736" y="709"/>
                  </a:lnTo>
                  <a:lnTo>
                    <a:pt x="741" y="713"/>
                  </a:lnTo>
                  <a:lnTo>
                    <a:pt x="744" y="714"/>
                  </a:lnTo>
                  <a:lnTo>
                    <a:pt x="748" y="716"/>
                  </a:lnTo>
                  <a:lnTo>
                    <a:pt x="751" y="719"/>
                  </a:lnTo>
                  <a:lnTo>
                    <a:pt x="754" y="720"/>
                  </a:lnTo>
                  <a:lnTo>
                    <a:pt x="757" y="722"/>
                  </a:lnTo>
                  <a:lnTo>
                    <a:pt x="760" y="724"/>
                  </a:lnTo>
                  <a:lnTo>
                    <a:pt x="765" y="727"/>
                  </a:lnTo>
                  <a:lnTo>
                    <a:pt x="768" y="728"/>
                  </a:lnTo>
                  <a:lnTo>
                    <a:pt x="771" y="730"/>
                  </a:lnTo>
                  <a:lnTo>
                    <a:pt x="775" y="733"/>
                  </a:lnTo>
                  <a:lnTo>
                    <a:pt x="778" y="735"/>
                  </a:lnTo>
                  <a:lnTo>
                    <a:pt x="781" y="736"/>
                  </a:lnTo>
                  <a:lnTo>
                    <a:pt x="784" y="738"/>
                  </a:lnTo>
                  <a:lnTo>
                    <a:pt x="789" y="739"/>
                  </a:lnTo>
                  <a:lnTo>
                    <a:pt x="792" y="743"/>
                  </a:lnTo>
                  <a:lnTo>
                    <a:pt x="795" y="744"/>
                  </a:lnTo>
                  <a:lnTo>
                    <a:pt x="798" y="746"/>
                  </a:lnTo>
                  <a:lnTo>
                    <a:pt x="801" y="747"/>
                  </a:lnTo>
                  <a:lnTo>
                    <a:pt x="805" y="749"/>
                  </a:lnTo>
                  <a:lnTo>
                    <a:pt x="808" y="752"/>
                  </a:lnTo>
                  <a:lnTo>
                    <a:pt x="813" y="754"/>
                  </a:lnTo>
                  <a:lnTo>
                    <a:pt x="816" y="755"/>
                  </a:lnTo>
                  <a:lnTo>
                    <a:pt x="819" y="757"/>
                  </a:lnTo>
                  <a:lnTo>
                    <a:pt x="822" y="758"/>
                  </a:lnTo>
                  <a:lnTo>
                    <a:pt x="825" y="760"/>
                  </a:lnTo>
                  <a:lnTo>
                    <a:pt x="828" y="762"/>
                  </a:lnTo>
                  <a:lnTo>
                    <a:pt x="832" y="763"/>
                  </a:lnTo>
                  <a:lnTo>
                    <a:pt x="836" y="766"/>
                  </a:lnTo>
                  <a:lnTo>
                    <a:pt x="839" y="768"/>
                  </a:lnTo>
                  <a:lnTo>
                    <a:pt x="843" y="770"/>
                  </a:lnTo>
                  <a:lnTo>
                    <a:pt x="846" y="771"/>
                  </a:lnTo>
                  <a:lnTo>
                    <a:pt x="849" y="773"/>
                  </a:lnTo>
                  <a:lnTo>
                    <a:pt x="852" y="774"/>
                  </a:lnTo>
                  <a:lnTo>
                    <a:pt x="855" y="776"/>
                  </a:lnTo>
                  <a:lnTo>
                    <a:pt x="860" y="777"/>
                  </a:lnTo>
                  <a:lnTo>
                    <a:pt x="863" y="779"/>
                  </a:lnTo>
                  <a:lnTo>
                    <a:pt x="866" y="781"/>
                  </a:lnTo>
                  <a:lnTo>
                    <a:pt x="870" y="782"/>
                  </a:lnTo>
                  <a:lnTo>
                    <a:pt x="873" y="784"/>
                  </a:lnTo>
                  <a:lnTo>
                    <a:pt x="876" y="785"/>
                  </a:lnTo>
                  <a:lnTo>
                    <a:pt x="879" y="787"/>
                  </a:lnTo>
                  <a:lnTo>
                    <a:pt x="884" y="789"/>
                  </a:lnTo>
                  <a:lnTo>
                    <a:pt x="887" y="790"/>
                  </a:lnTo>
                  <a:lnTo>
                    <a:pt x="890" y="792"/>
                  </a:lnTo>
                  <a:lnTo>
                    <a:pt x="893" y="793"/>
                  </a:lnTo>
                  <a:lnTo>
                    <a:pt x="897" y="795"/>
                  </a:lnTo>
                  <a:lnTo>
                    <a:pt x="900" y="796"/>
                  </a:lnTo>
                  <a:lnTo>
                    <a:pt x="903" y="798"/>
                  </a:lnTo>
                  <a:lnTo>
                    <a:pt x="908" y="800"/>
                  </a:lnTo>
                  <a:lnTo>
                    <a:pt x="911" y="801"/>
                  </a:lnTo>
                  <a:lnTo>
                    <a:pt x="914" y="803"/>
                  </a:lnTo>
                  <a:lnTo>
                    <a:pt x="917" y="804"/>
                  </a:lnTo>
                  <a:lnTo>
                    <a:pt x="920" y="806"/>
                  </a:lnTo>
                  <a:lnTo>
                    <a:pt x="923" y="808"/>
                  </a:lnTo>
                  <a:lnTo>
                    <a:pt x="927" y="809"/>
                  </a:lnTo>
                  <a:lnTo>
                    <a:pt x="931" y="811"/>
                  </a:lnTo>
                  <a:lnTo>
                    <a:pt x="935" y="811"/>
                  </a:lnTo>
                  <a:lnTo>
                    <a:pt x="938" y="812"/>
                  </a:lnTo>
                  <a:lnTo>
                    <a:pt x="941" y="814"/>
                  </a:lnTo>
                  <a:lnTo>
                    <a:pt x="944" y="815"/>
                  </a:lnTo>
                  <a:lnTo>
                    <a:pt x="947" y="817"/>
                  </a:lnTo>
                  <a:lnTo>
                    <a:pt x="952" y="819"/>
                  </a:lnTo>
                  <a:lnTo>
                    <a:pt x="955" y="820"/>
                  </a:lnTo>
                  <a:lnTo>
                    <a:pt x="958" y="822"/>
                  </a:lnTo>
                  <a:lnTo>
                    <a:pt x="961" y="822"/>
                  </a:lnTo>
                  <a:lnTo>
                    <a:pt x="965" y="823"/>
                  </a:lnTo>
                  <a:lnTo>
                    <a:pt x="968" y="825"/>
                  </a:lnTo>
                  <a:lnTo>
                    <a:pt x="971" y="827"/>
                  </a:lnTo>
                  <a:lnTo>
                    <a:pt x="976" y="828"/>
                  </a:lnTo>
                  <a:lnTo>
                    <a:pt x="979" y="830"/>
                  </a:lnTo>
                  <a:lnTo>
                    <a:pt x="982" y="831"/>
                  </a:lnTo>
                  <a:lnTo>
                    <a:pt x="985" y="831"/>
                  </a:lnTo>
                  <a:lnTo>
                    <a:pt x="988" y="833"/>
                  </a:lnTo>
                  <a:lnTo>
                    <a:pt x="992" y="834"/>
                  </a:lnTo>
                  <a:lnTo>
                    <a:pt x="995" y="836"/>
                  </a:lnTo>
                  <a:lnTo>
                    <a:pt x="999" y="838"/>
                  </a:lnTo>
                  <a:lnTo>
                    <a:pt x="1003" y="838"/>
                  </a:lnTo>
                  <a:lnTo>
                    <a:pt x="1006" y="839"/>
                  </a:lnTo>
                  <a:lnTo>
                    <a:pt x="1009" y="841"/>
                  </a:lnTo>
                  <a:lnTo>
                    <a:pt x="1012" y="842"/>
                  </a:lnTo>
                  <a:lnTo>
                    <a:pt x="1015" y="844"/>
                  </a:lnTo>
                  <a:lnTo>
                    <a:pt x="1019" y="844"/>
                  </a:lnTo>
                  <a:lnTo>
                    <a:pt x="1023" y="846"/>
                  </a:lnTo>
                  <a:lnTo>
                    <a:pt x="1026" y="847"/>
                  </a:lnTo>
                  <a:lnTo>
                    <a:pt x="1030" y="849"/>
                  </a:lnTo>
                  <a:lnTo>
                    <a:pt x="1033" y="849"/>
                  </a:lnTo>
                  <a:lnTo>
                    <a:pt x="1036" y="850"/>
                  </a:lnTo>
                  <a:lnTo>
                    <a:pt x="1039" y="852"/>
                  </a:lnTo>
                  <a:lnTo>
                    <a:pt x="1042" y="853"/>
                  </a:lnTo>
                  <a:lnTo>
                    <a:pt x="1047" y="853"/>
                  </a:lnTo>
                  <a:lnTo>
                    <a:pt x="1050" y="855"/>
                  </a:lnTo>
                  <a:lnTo>
                    <a:pt x="1053" y="857"/>
                  </a:lnTo>
                  <a:lnTo>
                    <a:pt x="1057" y="858"/>
                  </a:lnTo>
                  <a:lnTo>
                    <a:pt x="1060" y="858"/>
                  </a:lnTo>
                  <a:lnTo>
                    <a:pt x="1063" y="860"/>
                  </a:lnTo>
                  <a:lnTo>
                    <a:pt x="1066" y="861"/>
                  </a:lnTo>
                  <a:lnTo>
                    <a:pt x="1071" y="863"/>
                  </a:lnTo>
                  <a:lnTo>
                    <a:pt x="1074" y="863"/>
                  </a:lnTo>
                  <a:lnTo>
                    <a:pt x="1077" y="865"/>
                  </a:lnTo>
                  <a:lnTo>
                    <a:pt x="1080" y="866"/>
                  </a:lnTo>
                  <a:lnTo>
                    <a:pt x="1083" y="866"/>
                  </a:lnTo>
                  <a:lnTo>
                    <a:pt x="1087" y="868"/>
                  </a:lnTo>
                  <a:lnTo>
                    <a:pt x="1090" y="869"/>
                  </a:lnTo>
                  <a:lnTo>
                    <a:pt x="1095" y="869"/>
                  </a:lnTo>
                  <a:lnTo>
                    <a:pt x="1098" y="871"/>
                  </a:lnTo>
                  <a:lnTo>
                    <a:pt x="1101" y="872"/>
                  </a:lnTo>
                  <a:lnTo>
                    <a:pt x="1104" y="872"/>
                  </a:lnTo>
                  <a:lnTo>
                    <a:pt x="1107" y="874"/>
                  </a:lnTo>
                  <a:lnTo>
                    <a:pt x="1110" y="876"/>
                  </a:lnTo>
                  <a:lnTo>
                    <a:pt x="1114" y="876"/>
                  </a:lnTo>
                  <a:lnTo>
                    <a:pt x="1118" y="877"/>
                  </a:lnTo>
                  <a:lnTo>
                    <a:pt x="1121" y="879"/>
                  </a:lnTo>
                  <a:lnTo>
                    <a:pt x="1125" y="879"/>
                  </a:lnTo>
                  <a:lnTo>
                    <a:pt x="1128" y="880"/>
                  </a:lnTo>
                  <a:lnTo>
                    <a:pt x="1131" y="882"/>
                  </a:lnTo>
                  <a:lnTo>
                    <a:pt x="1134" y="882"/>
                  </a:lnTo>
                  <a:lnTo>
                    <a:pt x="1137" y="884"/>
                  </a:lnTo>
                  <a:lnTo>
                    <a:pt x="1142" y="885"/>
                  </a:lnTo>
                  <a:lnTo>
                    <a:pt x="1145" y="885"/>
                  </a:lnTo>
                  <a:lnTo>
                    <a:pt x="1148" y="887"/>
                  </a:lnTo>
                  <a:lnTo>
                    <a:pt x="1152" y="888"/>
                  </a:lnTo>
                  <a:lnTo>
                    <a:pt x="1155" y="888"/>
                  </a:lnTo>
                  <a:lnTo>
                    <a:pt x="1158" y="890"/>
                  </a:lnTo>
                  <a:lnTo>
                    <a:pt x="1161" y="890"/>
                  </a:lnTo>
                  <a:lnTo>
                    <a:pt x="1166" y="891"/>
                  </a:lnTo>
                  <a:lnTo>
                    <a:pt x="1169" y="893"/>
                  </a:lnTo>
                  <a:lnTo>
                    <a:pt x="1172" y="893"/>
                  </a:lnTo>
                  <a:lnTo>
                    <a:pt x="1175" y="895"/>
                  </a:lnTo>
                  <a:lnTo>
                    <a:pt x="1179" y="895"/>
                  </a:lnTo>
                  <a:lnTo>
                    <a:pt x="1182" y="896"/>
                  </a:lnTo>
                  <a:lnTo>
                    <a:pt x="1185" y="898"/>
                  </a:lnTo>
                  <a:lnTo>
                    <a:pt x="1190" y="898"/>
                  </a:lnTo>
                  <a:lnTo>
                    <a:pt x="1193" y="899"/>
                  </a:lnTo>
                  <a:lnTo>
                    <a:pt x="1196" y="899"/>
                  </a:lnTo>
                  <a:lnTo>
                    <a:pt x="1199" y="901"/>
                  </a:lnTo>
                  <a:lnTo>
                    <a:pt x="1202" y="903"/>
                  </a:lnTo>
                  <a:lnTo>
                    <a:pt x="1205" y="903"/>
                  </a:lnTo>
                  <a:lnTo>
                    <a:pt x="1209" y="904"/>
                  </a:lnTo>
                  <a:lnTo>
                    <a:pt x="1213" y="904"/>
                  </a:lnTo>
                  <a:lnTo>
                    <a:pt x="1217" y="906"/>
                  </a:lnTo>
                  <a:lnTo>
                    <a:pt x="1220" y="906"/>
                  </a:lnTo>
                  <a:lnTo>
                    <a:pt x="1223" y="907"/>
                  </a:lnTo>
                  <a:lnTo>
                    <a:pt x="1226" y="907"/>
                  </a:lnTo>
                  <a:lnTo>
                    <a:pt x="1229" y="909"/>
                  </a:lnTo>
                  <a:lnTo>
                    <a:pt x="1232" y="910"/>
                  </a:lnTo>
                  <a:lnTo>
                    <a:pt x="1237" y="910"/>
                  </a:lnTo>
                  <a:lnTo>
                    <a:pt x="1240" y="912"/>
                  </a:lnTo>
                  <a:lnTo>
                    <a:pt x="1243" y="912"/>
                  </a:lnTo>
                  <a:lnTo>
                    <a:pt x="1247" y="914"/>
                  </a:lnTo>
                  <a:lnTo>
                    <a:pt x="1250" y="914"/>
                  </a:lnTo>
                  <a:lnTo>
                    <a:pt x="1253" y="915"/>
                  </a:lnTo>
                  <a:lnTo>
                    <a:pt x="1256" y="915"/>
                  </a:lnTo>
                  <a:lnTo>
                    <a:pt x="1261" y="917"/>
                  </a:lnTo>
                  <a:lnTo>
                    <a:pt x="1264" y="917"/>
                  </a:lnTo>
                  <a:lnTo>
                    <a:pt x="1267" y="918"/>
                  </a:lnTo>
                  <a:lnTo>
                    <a:pt x="1270" y="918"/>
                  </a:lnTo>
                  <a:lnTo>
                    <a:pt x="1274" y="920"/>
                  </a:lnTo>
                  <a:lnTo>
                    <a:pt x="1277" y="920"/>
                  </a:lnTo>
                  <a:lnTo>
                    <a:pt x="1280" y="922"/>
                  </a:lnTo>
                  <a:lnTo>
                    <a:pt x="1285" y="923"/>
                  </a:lnTo>
                  <a:lnTo>
                    <a:pt x="1288" y="923"/>
                  </a:lnTo>
                  <a:lnTo>
                    <a:pt x="1291" y="925"/>
                  </a:lnTo>
                  <a:lnTo>
                    <a:pt x="1294" y="925"/>
                  </a:lnTo>
                  <a:lnTo>
                    <a:pt x="1297" y="926"/>
                  </a:lnTo>
                  <a:lnTo>
                    <a:pt x="1301" y="926"/>
                  </a:lnTo>
                  <a:lnTo>
                    <a:pt x="1304" y="928"/>
                  </a:lnTo>
                  <a:lnTo>
                    <a:pt x="1308" y="928"/>
                  </a:lnTo>
                  <a:lnTo>
                    <a:pt x="1312" y="928"/>
                  </a:lnTo>
                  <a:lnTo>
                    <a:pt x="1315" y="929"/>
                  </a:lnTo>
                  <a:lnTo>
                    <a:pt x="1318" y="929"/>
                  </a:lnTo>
                  <a:lnTo>
                    <a:pt x="1321" y="931"/>
                  </a:lnTo>
                  <a:lnTo>
                    <a:pt x="1324" y="931"/>
                  </a:lnTo>
                  <a:lnTo>
                    <a:pt x="1329" y="933"/>
                  </a:lnTo>
                  <a:lnTo>
                    <a:pt x="1332" y="933"/>
                  </a:lnTo>
                  <a:lnTo>
                    <a:pt x="1335" y="934"/>
                  </a:lnTo>
                  <a:lnTo>
                    <a:pt x="1339" y="934"/>
                  </a:lnTo>
                  <a:lnTo>
                    <a:pt x="1342" y="936"/>
                  </a:lnTo>
                  <a:lnTo>
                    <a:pt x="1345" y="936"/>
                  </a:lnTo>
                  <a:lnTo>
                    <a:pt x="1348" y="937"/>
                  </a:lnTo>
                  <a:lnTo>
                    <a:pt x="1353" y="937"/>
                  </a:lnTo>
                  <a:lnTo>
                    <a:pt x="1356" y="939"/>
                  </a:lnTo>
                  <a:lnTo>
                    <a:pt x="1359" y="939"/>
                  </a:lnTo>
                  <a:lnTo>
                    <a:pt x="1362" y="941"/>
                  </a:lnTo>
                  <a:lnTo>
                    <a:pt x="1365" y="941"/>
                  </a:lnTo>
                  <a:lnTo>
                    <a:pt x="1369" y="942"/>
                  </a:lnTo>
                  <a:lnTo>
                    <a:pt x="1372" y="942"/>
                  </a:lnTo>
                  <a:lnTo>
                    <a:pt x="1377" y="942"/>
                  </a:lnTo>
                  <a:lnTo>
                    <a:pt x="1380" y="944"/>
                  </a:lnTo>
                  <a:lnTo>
                    <a:pt x="1383" y="944"/>
                  </a:lnTo>
                  <a:lnTo>
                    <a:pt x="1386" y="945"/>
                  </a:lnTo>
                  <a:lnTo>
                    <a:pt x="1389" y="945"/>
                  </a:lnTo>
                  <a:lnTo>
                    <a:pt x="1392" y="947"/>
                  </a:lnTo>
                  <a:lnTo>
                    <a:pt x="1396" y="947"/>
                  </a:lnTo>
                  <a:lnTo>
                    <a:pt x="1400" y="947"/>
                  </a:lnTo>
                  <a:lnTo>
                    <a:pt x="1404" y="948"/>
                  </a:lnTo>
                  <a:lnTo>
                    <a:pt x="1407" y="948"/>
                  </a:lnTo>
                  <a:lnTo>
                    <a:pt x="1410" y="950"/>
                  </a:lnTo>
                  <a:lnTo>
                    <a:pt x="1413" y="950"/>
                  </a:lnTo>
                  <a:lnTo>
                    <a:pt x="1416" y="952"/>
                  </a:lnTo>
                  <a:lnTo>
                    <a:pt x="1419" y="952"/>
                  </a:lnTo>
                  <a:lnTo>
                    <a:pt x="1424" y="952"/>
                  </a:lnTo>
                  <a:lnTo>
                    <a:pt x="1427" y="953"/>
                  </a:lnTo>
                  <a:lnTo>
                    <a:pt x="1430" y="953"/>
                  </a:lnTo>
                  <a:lnTo>
                    <a:pt x="1434" y="955"/>
                  </a:lnTo>
                  <a:lnTo>
                    <a:pt x="1437" y="955"/>
                  </a:lnTo>
                  <a:lnTo>
                    <a:pt x="1440" y="956"/>
                  </a:lnTo>
                  <a:lnTo>
                    <a:pt x="1443" y="956"/>
                  </a:lnTo>
                  <a:lnTo>
                    <a:pt x="1448" y="956"/>
                  </a:lnTo>
                  <a:lnTo>
                    <a:pt x="1451" y="958"/>
                  </a:lnTo>
                  <a:lnTo>
                    <a:pt x="1454" y="958"/>
                  </a:lnTo>
                  <a:lnTo>
                    <a:pt x="1457" y="960"/>
                  </a:lnTo>
                  <a:lnTo>
                    <a:pt x="1461" y="960"/>
                  </a:lnTo>
                  <a:lnTo>
                    <a:pt x="1464" y="960"/>
                  </a:lnTo>
                  <a:lnTo>
                    <a:pt x="1467" y="961"/>
                  </a:lnTo>
                  <a:lnTo>
                    <a:pt x="1472" y="961"/>
                  </a:lnTo>
                  <a:lnTo>
                    <a:pt x="1475" y="963"/>
                  </a:lnTo>
                  <a:lnTo>
                    <a:pt x="1478" y="963"/>
                  </a:lnTo>
                  <a:lnTo>
                    <a:pt x="1481" y="963"/>
                  </a:lnTo>
                  <a:lnTo>
                    <a:pt x="1484" y="964"/>
                  </a:lnTo>
                  <a:lnTo>
                    <a:pt x="1487" y="964"/>
                  </a:lnTo>
                  <a:lnTo>
                    <a:pt x="1491" y="966"/>
                  </a:lnTo>
                  <a:lnTo>
                    <a:pt x="1495" y="966"/>
                  </a:lnTo>
                  <a:lnTo>
                    <a:pt x="1499" y="966"/>
                  </a:lnTo>
                  <a:lnTo>
                    <a:pt x="1502" y="967"/>
                  </a:lnTo>
                  <a:lnTo>
                    <a:pt x="1505" y="967"/>
                  </a:lnTo>
                  <a:lnTo>
                    <a:pt x="1508" y="967"/>
                  </a:lnTo>
                  <a:lnTo>
                    <a:pt x="1511" y="969"/>
                  </a:lnTo>
                  <a:lnTo>
                    <a:pt x="1514" y="969"/>
                  </a:lnTo>
                  <a:lnTo>
                    <a:pt x="1519" y="971"/>
                  </a:lnTo>
                  <a:lnTo>
                    <a:pt x="1522" y="971"/>
                  </a:lnTo>
                  <a:lnTo>
                    <a:pt x="1526" y="971"/>
                  </a:lnTo>
                  <a:lnTo>
                    <a:pt x="1529" y="972"/>
                  </a:lnTo>
                  <a:lnTo>
                    <a:pt x="1532" y="972"/>
                  </a:lnTo>
                  <a:lnTo>
                    <a:pt x="1535" y="972"/>
                  </a:lnTo>
                  <a:lnTo>
                    <a:pt x="1538" y="974"/>
                  </a:lnTo>
                  <a:lnTo>
                    <a:pt x="1543" y="974"/>
                  </a:lnTo>
                  <a:lnTo>
                    <a:pt x="1546" y="974"/>
                  </a:lnTo>
                  <a:lnTo>
                    <a:pt x="1549" y="975"/>
                  </a:lnTo>
                  <a:lnTo>
                    <a:pt x="1552" y="975"/>
                  </a:lnTo>
                  <a:lnTo>
                    <a:pt x="1556" y="977"/>
                  </a:lnTo>
                  <a:lnTo>
                    <a:pt x="1559" y="977"/>
                  </a:lnTo>
                  <a:lnTo>
                    <a:pt x="1562" y="977"/>
                  </a:lnTo>
                  <a:lnTo>
                    <a:pt x="1567" y="979"/>
                  </a:lnTo>
                  <a:lnTo>
                    <a:pt x="1570" y="979"/>
                  </a:lnTo>
                  <a:lnTo>
                    <a:pt x="1573" y="979"/>
                  </a:lnTo>
                  <a:lnTo>
                    <a:pt x="1576" y="980"/>
                  </a:lnTo>
                  <a:lnTo>
                    <a:pt x="1579" y="980"/>
                  </a:lnTo>
                  <a:lnTo>
                    <a:pt x="1583" y="980"/>
                  </a:lnTo>
                  <a:lnTo>
                    <a:pt x="1586" y="982"/>
                  </a:lnTo>
                  <a:lnTo>
                    <a:pt x="1590" y="982"/>
                  </a:lnTo>
                  <a:lnTo>
                    <a:pt x="1594" y="982"/>
                  </a:lnTo>
                  <a:lnTo>
                    <a:pt x="1597" y="983"/>
                  </a:lnTo>
                  <a:lnTo>
                    <a:pt x="1600" y="983"/>
                  </a:lnTo>
                  <a:lnTo>
                    <a:pt x="1603" y="983"/>
                  </a:lnTo>
                  <a:lnTo>
                    <a:pt x="1606" y="985"/>
                  </a:lnTo>
                  <a:lnTo>
                    <a:pt x="1609" y="985"/>
                  </a:lnTo>
                  <a:lnTo>
                    <a:pt x="1614" y="985"/>
                  </a:lnTo>
                  <a:lnTo>
                    <a:pt x="1617" y="987"/>
                  </a:lnTo>
                  <a:lnTo>
                    <a:pt x="1621" y="987"/>
                  </a:lnTo>
                  <a:lnTo>
                    <a:pt x="1624" y="987"/>
                  </a:lnTo>
                  <a:lnTo>
                    <a:pt x="1627" y="988"/>
                  </a:lnTo>
                  <a:lnTo>
                    <a:pt x="1630" y="988"/>
                  </a:lnTo>
                  <a:lnTo>
                    <a:pt x="1633" y="988"/>
                  </a:lnTo>
                  <a:lnTo>
                    <a:pt x="1638" y="990"/>
                  </a:lnTo>
                  <a:lnTo>
                    <a:pt x="1641" y="990"/>
                  </a:lnTo>
                  <a:lnTo>
                    <a:pt x="1644" y="990"/>
                  </a:lnTo>
                  <a:lnTo>
                    <a:pt x="1647" y="991"/>
                  </a:lnTo>
                  <a:lnTo>
                    <a:pt x="1651" y="991"/>
                  </a:lnTo>
                  <a:lnTo>
                    <a:pt x="1654" y="991"/>
                  </a:lnTo>
                  <a:lnTo>
                    <a:pt x="1657" y="993"/>
                  </a:lnTo>
                  <a:lnTo>
                    <a:pt x="1662" y="993"/>
                  </a:lnTo>
                  <a:lnTo>
                    <a:pt x="1665" y="993"/>
                  </a:lnTo>
                  <a:lnTo>
                    <a:pt x="1668" y="994"/>
                  </a:lnTo>
                  <a:lnTo>
                    <a:pt x="1671" y="994"/>
                  </a:lnTo>
                  <a:lnTo>
                    <a:pt x="1674" y="994"/>
                  </a:lnTo>
                  <a:lnTo>
                    <a:pt x="1678" y="994"/>
                  </a:lnTo>
                  <a:lnTo>
                    <a:pt x="1681" y="996"/>
                  </a:lnTo>
                  <a:lnTo>
                    <a:pt x="1686" y="996"/>
                  </a:lnTo>
                  <a:lnTo>
                    <a:pt x="1689" y="996"/>
                  </a:lnTo>
                  <a:lnTo>
                    <a:pt x="1692" y="998"/>
                  </a:lnTo>
                  <a:lnTo>
                    <a:pt x="1695" y="998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400880" y="3706560"/>
              <a:ext cx="1346040" cy="9504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6"/>
                  </a:lnTo>
                  <a:lnTo>
                    <a:pt x="48" y="6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2" y="12"/>
                  </a:lnTo>
                  <a:lnTo>
                    <a:pt x="95" y="12"/>
                  </a:lnTo>
                  <a:lnTo>
                    <a:pt x="98" y="12"/>
                  </a:lnTo>
                  <a:lnTo>
                    <a:pt x="101" y="14"/>
                  </a:lnTo>
                  <a:lnTo>
                    <a:pt x="106" y="14"/>
                  </a:lnTo>
                  <a:lnTo>
                    <a:pt x="109" y="14"/>
                  </a:lnTo>
                  <a:lnTo>
                    <a:pt x="113" y="14"/>
                  </a:lnTo>
                  <a:lnTo>
                    <a:pt x="116" y="15"/>
                  </a:lnTo>
                  <a:lnTo>
                    <a:pt x="119" y="15"/>
                  </a:lnTo>
                  <a:lnTo>
                    <a:pt x="122" y="15"/>
                  </a:lnTo>
                  <a:lnTo>
                    <a:pt x="125" y="15"/>
                  </a:lnTo>
                  <a:lnTo>
                    <a:pt x="130" y="17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9" y="17"/>
                  </a:lnTo>
                  <a:lnTo>
                    <a:pt x="143" y="19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4" y="19"/>
                  </a:lnTo>
                  <a:lnTo>
                    <a:pt x="157" y="20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6" y="20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1" y="22"/>
                  </a:lnTo>
                  <a:lnTo>
                    <a:pt x="184" y="23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3" y="23"/>
                  </a:lnTo>
                  <a:lnTo>
                    <a:pt x="196" y="25"/>
                  </a:lnTo>
                  <a:lnTo>
                    <a:pt x="201" y="25"/>
                  </a:lnTo>
                  <a:lnTo>
                    <a:pt x="204" y="25"/>
                  </a:lnTo>
                  <a:lnTo>
                    <a:pt x="208" y="25"/>
                  </a:lnTo>
                  <a:lnTo>
                    <a:pt x="211" y="27"/>
                  </a:lnTo>
                  <a:lnTo>
                    <a:pt x="214" y="27"/>
                  </a:lnTo>
                  <a:lnTo>
                    <a:pt x="217" y="27"/>
                  </a:lnTo>
                  <a:lnTo>
                    <a:pt x="220" y="27"/>
                  </a:lnTo>
                  <a:lnTo>
                    <a:pt x="225" y="28"/>
                  </a:lnTo>
                  <a:lnTo>
                    <a:pt x="228" y="28"/>
                  </a:lnTo>
                  <a:lnTo>
                    <a:pt x="231" y="28"/>
                  </a:lnTo>
                  <a:lnTo>
                    <a:pt x="235" y="28"/>
                  </a:lnTo>
                  <a:lnTo>
                    <a:pt x="238" y="30"/>
                  </a:lnTo>
                  <a:lnTo>
                    <a:pt x="241" y="30"/>
                  </a:lnTo>
                  <a:lnTo>
                    <a:pt x="244" y="30"/>
                  </a:lnTo>
                  <a:lnTo>
                    <a:pt x="249" y="30"/>
                  </a:lnTo>
                  <a:lnTo>
                    <a:pt x="252" y="30"/>
                  </a:lnTo>
                  <a:lnTo>
                    <a:pt x="255" y="31"/>
                  </a:lnTo>
                  <a:lnTo>
                    <a:pt x="258" y="31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3"/>
                  </a:lnTo>
                  <a:lnTo>
                    <a:pt x="273" y="33"/>
                  </a:lnTo>
                  <a:lnTo>
                    <a:pt x="276" y="33"/>
                  </a:lnTo>
                  <a:lnTo>
                    <a:pt x="279" y="33"/>
                  </a:lnTo>
                  <a:lnTo>
                    <a:pt x="282" y="34"/>
                  </a:lnTo>
                  <a:lnTo>
                    <a:pt x="285" y="34"/>
                  </a:lnTo>
                  <a:lnTo>
                    <a:pt x="288" y="34"/>
                  </a:lnTo>
                  <a:lnTo>
                    <a:pt x="292" y="34"/>
                  </a:lnTo>
                  <a:lnTo>
                    <a:pt x="296" y="34"/>
                  </a:lnTo>
                  <a:lnTo>
                    <a:pt x="299" y="36"/>
                  </a:lnTo>
                  <a:lnTo>
                    <a:pt x="303" y="36"/>
                  </a:lnTo>
                  <a:lnTo>
                    <a:pt x="306" y="36"/>
                  </a:lnTo>
                  <a:lnTo>
                    <a:pt x="309" y="36"/>
                  </a:lnTo>
                  <a:lnTo>
                    <a:pt x="312" y="38"/>
                  </a:lnTo>
                  <a:lnTo>
                    <a:pt x="315" y="38"/>
                  </a:lnTo>
                  <a:lnTo>
                    <a:pt x="320" y="38"/>
                  </a:lnTo>
                  <a:lnTo>
                    <a:pt x="323" y="38"/>
                  </a:lnTo>
                  <a:lnTo>
                    <a:pt x="326" y="38"/>
                  </a:lnTo>
                  <a:lnTo>
                    <a:pt x="330" y="39"/>
                  </a:lnTo>
                  <a:lnTo>
                    <a:pt x="333" y="39"/>
                  </a:lnTo>
                  <a:lnTo>
                    <a:pt x="336" y="39"/>
                  </a:lnTo>
                  <a:lnTo>
                    <a:pt x="339" y="39"/>
                  </a:lnTo>
                  <a:lnTo>
                    <a:pt x="344" y="39"/>
                  </a:lnTo>
                  <a:lnTo>
                    <a:pt x="347" y="41"/>
                  </a:lnTo>
                  <a:lnTo>
                    <a:pt x="350" y="41"/>
                  </a:lnTo>
                  <a:lnTo>
                    <a:pt x="353" y="41"/>
                  </a:lnTo>
                  <a:lnTo>
                    <a:pt x="357" y="41"/>
                  </a:lnTo>
                  <a:lnTo>
                    <a:pt x="360" y="41"/>
                  </a:lnTo>
                  <a:lnTo>
                    <a:pt x="363" y="42"/>
                  </a:lnTo>
                  <a:lnTo>
                    <a:pt x="368" y="42"/>
                  </a:lnTo>
                  <a:lnTo>
                    <a:pt x="371" y="42"/>
                  </a:lnTo>
                  <a:lnTo>
                    <a:pt x="374" y="42"/>
                  </a:lnTo>
                  <a:lnTo>
                    <a:pt x="377" y="44"/>
                  </a:lnTo>
                  <a:lnTo>
                    <a:pt x="380" y="44"/>
                  </a:lnTo>
                  <a:lnTo>
                    <a:pt x="383" y="44"/>
                  </a:lnTo>
                  <a:lnTo>
                    <a:pt x="388" y="44"/>
                  </a:lnTo>
                  <a:lnTo>
                    <a:pt x="391" y="44"/>
                  </a:lnTo>
                  <a:lnTo>
                    <a:pt x="395" y="46"/>
                  </a:lnTo>
                  <a:lnTo>
                    <a:pt x="398" y="46"/>
                  </a:lnTo>
                  <a:lnTo>
                    <a:pt x="401" y="46"/>
                  </a:lnTo>
                  <a:lnTo>
                    <a:pt x="404" y="46"/>
                  </a:lnTo>
                  <a:lnTo>
                    <a:pt x="407" y="46"/>
                  </a:lnTo>
                  <a:lnTo>
                    <a:pt x="412" y="47"/>
                  </a:lnTo>
                  <a:lnTo>
                    <a:pt x="415" y="47"/>
                  </a:lnTo>
                  <a:lnTo>
                    <a:pt x="418" y="47"/>
                  </a:lnTo>
                  <a:lnTo>
                    <a:pt x="421" y="47"/>
                  </a:lnTo>
                  <a:lnTo>
                    <a:pt x="425" y="47"/>
                  </a:lnTo>
                  <a:lnTo>
                    <a:pt x="428" y="49"/>
                  </a:lnTo>
                  <a:lnTo>
                    <a:pt x="431" y="49"/>
                  </a:lnTo>
                  <a:lnTo>
                    <a:pt x="436" y="49"/>
                  </a:lnTo>
                  <a:lnTo>
                    <a:pt x="439" y="49"/>
                  </a:lnTo>
                  <a:lnTo>
                    <a:pt x="442" y="49"/>
                  </a:lnTo>
                  <a:lnTo>
                    <a:pt x="445" y="49"/>
                  </a:lnTo>
                  <a:lnTo>
                    <a:pt x="448" y="50"/>
                  </a:lnTo>
                  <a:lnTo>
                    <a:pt x="452" y="50"/>
                  </a:lnTo>
                  <a:lnTo>
                    <a:pt x="455" y="50"/>
                  </a:lnTo>
                  <a:lnTo>
                    <a:pt x="459" y="50"/>
                  </a:lnTo>
                  <a:lnTo>
                    <a:pt x="463" y="50"/>
                  </a:lnTo>
                  <a:lnTo>
                    <a:pt x="466" y="52"/>
                  </a:lnTo>
                  <a:lnTo>
                    <a:pt x="469" y="52"/>
                  </a:lnTo>
                  <a:lnTo>
                    <a:pt x="472" y="52"/>
                  </a:lnTo>
                  <a:lnTo>
                    <a:pt x="475" y="52"/>
                  </a:lnTo>
                  <a:lnTo>
                    <a:pt x="479" y="52"/>
                  </a:lnTo>
                  <a:lnTo>
                    <a:pt x="483" y="53"/>
                  </a:lnTo>
                  <a:lnTo>
                    <a:pt x="486" y="53"/>
                  </a:lnTo>
                  <a:lnTo>
                    <a:pt x="490" y="53"/>
                  </a:lnTo>
                  <a:lnTo>
                    <a:pt x="493" y="53"/>
                  </a:lnTo>
                  <a:lnTo>
                    <a:pt x="496" y="53"/>
                  </a:lnTo>
                  <a:lnTo>
                    <a:pt x="499" y="53"/>
                  </a:lnTo>
                  <a:lnTo>
                    <a:pt x="502" y="55"/>
                  </a:lnTo>
                  <a:lnTo>
                    <a:pt x="507" y="55"/>
                  </a:lnTo>
                  <a:lnTo>
                    <a:pt x="510" y="55"/>
                  </a:lnTo>
                  <a:lnTo>
                    <a:pt x="513" y="55"/>
                  </a:lnTo>
                  <a:lnTo>
                    <a:pt x="517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31" y="57"/>
                  </a:lnTo>
                  <a:lnTo>
                    <a:pt x="534" y="57"/>
                  </a:lnTo>
                  <a:lnTo>
                    <a:pt x="537" y="57"/>
                  </a:lnTo>
                  <a:lnTo>
                    <a:pt x="540" y="58"/>
                  </a:lnTo>
                  <a:lnTo>
                    <a:pt x="543" y="58"/>
                  </a:lnTo>
                  <a:lnTo>
                    <a:pt x="547" y="58"/>
                  </a:lnTo>
                  <a:lnTo>
                    <a:pt x="550" y="58"/>
                  </a:lnTo>
                  <a:lnTo>
                    <a:pt x="555" y="58"/>
                  </a:lnTo>
                  <a:lnTo>
                    <a:pt x="558" y="60"/>
                  </a:lnTo>
                  <a:lnTo>
                    <a:pt x="561" y="60"/>
                  </a:lnTo>
                  <a:lnTo>
                    <a:pt x="564" y="60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1"/>
                  </a:lnTo>
                  <a:lnTo>
                    <a:pt x="581" y="61"/>
                  </a:lnTo>
                  <a:lnTo>
                    <a:pt x="585" y="61"/>
                  </a:lnTo>
                  <a:lnTo>
                    <a:pt x="588" y="61"/>
                  </a:lnTo>
                  <a:lnTo>
                    <a:pt x="591" y="61"/>
                  </a:lnTo>
                  <a:lnTo>
                    <a:pt x="594" y="61"/>
                  </a:lnTo>
                  <a:lnTo>
                    <a:pt x="597" y="63"/>
                  </a:lnTo>
                  <a:lnTo>
                    <a:pt x="602" y="63"/>
                  </a:lnTo>
                  <a:lnTo>
                    <a:pt x="605" y="63"/>
                  </a:lnTo>
                  <a:lnTo>
                    <a:pt x="608" y="63"/>
                  </a:lnTo>
                  <a:lnTo>
                    <a:pt x="612" y="63"/>
                  </a:lnTo>
                  <a:lnTo>
                    <a:pt x="615" y="63"/>
                  </a:lnTo>
                  <a:lnTo>
                    <a:pt x="618" y="65"/>
                  </a:lnTo>
                  <a:lnTo>
                    <a:pt x="621" y="65"/>
                  </a:lnTo>
                  <a:lnTo>
                    <a:pt x="626" y="65"/>
                  </a:lnTo>
                  <a:lnTo>
                    <a:pt x="629" y="65"/>
                  </a:lnTo>
                  <a:lnTo>
                    <a:pt x="632" y="65"/>
                  </a:lnTo>
                  <a:lnTo>
                    <a:pt x="635" y="65"/>
                  </a:lnTo>
                  <a:lnTo>
                    <a:pt x="639" y="66"/>
                  </a:lnTo>
                  <a:lnTo>
                    <a:pt x="642" y="66"/>
                  </a:lnTo>
                  <a:lnTo>
                    <a:pt x="645" y="66"/>
                  </a:lnTo>
                  <a:lnTo>
                    <a:pt x="650" y="66"/>
                  </a:lnTo>
                  <a:lnTo>
                    <a:pt x="653" y="66"/>
                  </a:lnTo>
                  <a:lnTo>
                    <a:pt x="656" y="66"/>
                  </a:lnTo>
                  <a:lnTo>
                    <a:pt x="659" y="68"/>
                  </a:lnTo>
                  <a:lnTo>
                    <a:pt x="662" y="68"/>
                  </a:lnTo>
                  <a:lnTo>
                    <a:pt x="665" y="68"/>
                  </a:lnTo>
                  <a:lnTo>
                    <a:pt x="669" y="68"/>
                  </a:lnTo>
                  <a:lnTo>
                    <a:pt x="673" y="68"/>
                  </a:lnTo>
                  <a:lnTo>
                    <a:pt x="677" y="68"/>
                  </a:lnTo>
                  <a:lnTo>
                    <a:pt x="680" y="68"/>
                  </a:lnTo>
                  <a:lnTo>
                    <a:pt x="683" y="69"/>
                  </a:lnTo>
                  <a:lnTo>
                    <a:pt x="686" y="69"/>
                  </a:lnTo>
                  <a:lnTo>
                    <a:pt x="689" y="69"/>
                  </a:lnTo>
                  <a:lnTo>
                    <a:pt x="692" y="69"/>
                  </a:lnTo>
                  <a:lnTo>
                    <a:pt x="697" y="69"/>
                  </a:lnTo>
                  <a:lnTo>
                    <a:pt x="700" y="69"/>
                  </a:lnTo>
                  <a:lnTo>
                    <a:pt x="703" y="71"/>
                  </a:lnTo>
                  <a:lnTo>
                    <a:pt x="707" y="71"/>
                  </a:lnTo>
                  <a:lnTo>
                    <a:pt x="710" y="71"/>
                  </a:lnTo>
                  <a:lnTo>
                    <a:pt x="713" y="71"/>
                  </a:lnTo>
                  <a:lnTo>
                    <a:pt x="716" y="71"/>
                  </a:lnTo>
                  <a:lnTo>
                    <a:pt x="721" y="71"/>
                  </a:lnTo>
                  <a:lnTo>
                    <a:pt x="724" y="71"/>
                  </a:lnTo>
                  <a:lnTo>
                    <a:pt x="727" y="72"/>
                  </a:lnTo>
                  <a:lnTo>
                    <a:pt x="730" y="72"/>
                  </a:lnTo>
                  <a:lnTo>
                    <a:pt x="734" y="72"/>
                  </a:lnTo>
                  <a:lnTo>
                    <a:pt x="737" y="72"/>
                  </a:lnTo>
                  <a:lnTo>
                    <a:pt x="740" y="72"/>
                  </a:lnTo>
                  <a:lnTo>
                    <a:pt x="745" y="72"/>
                  </a:lnTo>
                  <a:lnTo>
                    <a:pt x="748" y="72"/>
                  </a:lnTo>
                  <a:lnTo>
                    <a:pt x="751" y="74"/>
                  </a:lnTo>
                  <a:lnTo>
                    <a:pt x="754" y="74"/>
                  </a:lnTo>
                  <a:lnTo>
                    <a:pt x="757" y="74"/>
                  </a:lnTo>
                  <a:lnTo>
                    <a:pt x="761" y="74"/>
                  </a:lnTo>
                  <a:lnTo>
                    <a:pt x="765" y="74"/>
                  </a:lnTo>
                  <a:lnTo>
                    <a:pt x="768" y="74"/>
                  </a:lnTo>
                  <a:lnTo>
                    <a:pt x="772" y="76"/>
                  </a:lnTo>
                  <a:lnTo>
                    <a:pt x="775" y="76"/>
                  </a:lnTo>
                  <a:lnTo>
                    <a:pt x="778" y="76"/>
                  </a:lnTo>
                  <a:lnTo>
                    <a:pt x="781" y="76"/>
                  </a:lnTo>
                  <a:lnTo>
                    <a:pt x="784" y="76"/>
                  </a:lnTo>
                  <a:lnTo>
                    <a:pt x="789" y="76"/>
                  </a:lnTo>
                  <a:lnTo>
                    <a:pt x="792" y="76"/>
                  </a:lnTo>
                  <a:lnTo>
                    <a:pt x="795" y="77"/>
                  </a:lnTo>
                  <a:lnTo>
                    <a:pt x="799" y="77"/>
                  </a:lnTo>
                  <a:lnTo>
                    <a:pt x="802" y="77"/>
                  </a:lnTo>
                  <a:lnTo>
                    <a:pt x="805" y="77"/>
                  </a:lnTo>
                  <a:lnTo>
                    <a:pt x="808" y="77"/>
                  </a:lnTo>
                  <a:lnTo>
                    <a:pt x="813" y="77"/>
                  </a:lnTo>
                  <a:lnTo>
                    <a:pt x="816" y="77"/>
                  </a:lnTo>
                  <a:lnTo>
                    <a:pt x="819" y="79"/>
                  </a:lnTo>
                  <a:lnTo>
                    <a:pt x="822" y="79"/>
                  </a:lnTo>
                  <a:lnTo>
                    <a:pt x="825" y="79"/>
                  </a:lnTo>
                  <a:lnTo>
                    <a:pt x="829" y="79"/>
                  </a:lnTo>
                  <a:lnTo>
                    <a:pt x="832" y="79"/>
                  </a:lnTo>
                  <a:lnTo>
                    <a:pt x="837" y="79"/>
                  </a:lnTo>
                  <a:lnTo>
                    <a:pt x="840" y="79"/>
                  </a:lnTo>
                  <a:lnTo>
                    <a:pt x="843" y="80"/>
                  </a:lnTo>
                  <a:lnTo>
                    <a:pt x="846" y="80"/>
                  </a:lnTo>
                  <a:lnTo>
                    <a:pt x="849" y="80"/>
                  </a:lnTo>
                  <a:lnTo>
                    <a:pt x="852" y="80"/>
                  </a:lnTo>
                  <a:lnTo>
                    <a:pt x="856" y="80"/>
                  </a:lnTo>
                  <a:lnTo>
                    <a:pt x="860" y="80"/>
                  </a:lnTo>
                  <a:lnTo>
                    <a:pt x="864" y="80"/>
                  </a:lnTo>
                  <a:lnTo>
                    <a:pt x="867" y="80"/>
                  </a:lnTo>
                  <a:lnTo>
                    <a:pt x="870" y="82"/>
                  </a:lnTo>
                  <a:lnTo>
                    <a:pt x="873" y="82"/>
                  </a:lnTo>
                  <a:lnTo>
                    <a:pt x="876" y="82"/>
                  </a:lnTo>
                  <a:lnTo>
                    <a:pt x="879" y="82"/>
                  </a:lnTo>
                  <a:lnTo>
                    <a:pt x="884" y="82"/>
                  </a:lnTo>
                  <a:lnTo>
                    <a:pt x="887" y="82"/>
                  </a:lnTo>
                  <a:lnTo>
                    <a:pt x="890" y="82"/>
                  </a:lnTo>
                  <a:lnTo>
                    <a:pt x="894" y="84"/>
                  </a:lnTo>
                  <a:lnTo>
                    <a:pt x="897" y="84"/>
                  </a:lnTo>
                  <a:lnTo>
                    <a:pt x="900" y="84"/>
                  </a:lnTo>
                  <a:lnTo>
                    <a:pt x="903" y="84"/>
                  </a:lnTo>
                  <a:lnTo>
                    <a:pt x="908" y="84"/>
                  </a:lnTo>
                  <a:lnTo>
                    <a:pt x="911" y="84"/>
                  </a:lnTo>
                  <a:lnTo>
                    <a:pt x="914" y="84"/>
                  </a:lnTo>
                  <a:lnTo>
                    <a:pt x="917" y="84"/>
                  </a:lnTo>
                  <a:lnTo>
                    <a:pt x="921" y="85"/>
                  </a:lnTo>
                  <a:lnTo>
                    <a:pt x="924" y="85"/>
                  </a:lnTo>
                  <a:lnTo>
                    <a:pt x="927" y="85"/>
                  </a:lnTo>
                  <a:lnTo>
                    <a:pt x="932" y="85"/>
                  </a:lnTo>
                  <a:lnTo>
                    <a:pt x="935" y="85"/>
                  </a:lnTo>
                  <a:lnTo>
                    <a:pt x="938" y="85"/>
                  </a:lnTo>
                  <a:lnTo>
                    <a:pt x="941" y="85"/>
                  </a:lnTo>
                  <a:lnTo>
                    <a:pt x="944" y="85"/>
                  </a:lnTo>
                  <a:lnTo>
                    <a:pt x="947" y="87"/>
                  </a:lnTo>
                  <a:lnTo>
                    <a:pt x="951" y="87"/>
                  </a:lnTo>
                  <a:lnTo>
                    <a:pt x="955" y="87"/>
                  </a:lnTo>
                  <a:lnTo>
                    <a:pt x="959" y="87"/>
                  </a:lnTo>
                  <a:lnTo>
                    <a:pt x="962" y="87"/>
                  </a:lnTo>
                  <a:lnTo>
                    <a:pt x="965" y="87"/>
                  </a:lnTo>
                  <a:lnTo>
                    <a:pt x="968" y="87"/>
                  </a:lnTo>
                  <a:lnTo>
                    <a:pt x="971" y="87"/>
                  </a:lnTo>
                  <a:lnTo>
                    <a:pt x="974" y="88"/>
                  </a:lnTo>
                  <a:lnTo>
                    <a:pt x="979" y="88"/>
                  </a:lnTo>
                  <a:lnTo>
                    <a:pt x="982" y="88"/>
                  </a:lnTo>
                  <a:lnTo>
                    <a:pt x="986" y="88"/>
                  </a:lnTo>
                  <a:lnTo>
                    <a:pt x="989" y="88"/>
                  </a:lnTo>
                  <a:lnTo>
                    <a:pt x="992" y="88"/>
                  </a:lnTo>
                  <a:lnTo>
                    <a:pt x="995" y="88"/>
                  </a:lnTo>
                  <a:lnTo>
                    <a:pt x="998" y="88"/>
                  </a:lnTo>
                  <a:lnTo>
                    <a:pt x="1003" y="90"/>
                  </a:lnTo>
                  <a:lnTo>
                    <a:pt x="1006" y="90"/>
                  </a:lnTo>
                  <a:lnTo>
                    <a:pt x="1009" y="90"/>
                  </a:lnTo>
                  <a:lnTo>
                    <a:pt x="1012" y="90"/>
                  </a:lnTo>
                  <a:lnTo>
                    <a:pt x="1016" y="90"/>
                  </a:lnTo>
                  <a:lnTo>
                    <a:pt x="1019" y="90"/>
                  </a:lnTo>
                  <a:lnTo>
                    <a:pt x="1022" y="90"/>
                  </a:lnTo>
                  <a:lnTo>
                    <a:pt x="1027" y="90"/>
                  </a:lnTo>
                  <a:lnTo>
                    <a:pt x="1030" y="91"/>
                  </a:lnTo>
                  <a:lnTo>
                    <a:pt x="1033" y="91"/>
                  </a:lnTo>
                  <a:lnTo>
                    <a:pt x="1036" y="91"/>
                  </a:lnTo>
                  <a:lnTo>
                    <a:pt x="1039" y="91"/>
                  </a:lnTo>
                  <a:lnTo>
                    <a:pt x="1043" y="91"/>
                  </a:lnTo>
                  <a:lnTo>
                    <a:pt x="1046" y="91"/>
                  </a:lnTo>
                  <a:lnTo>
                    <a:pt x="1050" y="91"/>
                  </a:lnTo>
                  <a:lnTo>
                    <a:pt x="1054" y="91"/>
                  </a:lnTo>
                  <a:lnTo>
                    <a:pt x="1057" y="93"/>
                  </a:lnTo>
                  <a:lnTo>
                    <a:pt x="1060" y="93"/>
                  </a:lnTo>
                  <a:lnTo>
                    <a:pt x="1063" y="93"/>
                  </a:lnTo>
                  <a:lnTo>
                    <a:pt x="1066" y="93"/>
                  </a:lnTo>
                  <a:lnTo>
                    <a:pt x="1069" y="93"/>
                  </a:lnTo>
                  <a:lnTo>
                    <a:pt x="1074" y="93"/>
                  </a:lnTo>
                  <a:lnTo>
                    <a:pt x="1077" y="93"/>
                  </a:lnTo>
                  <a:lnTo>
                    <a:pt x="1081" y="93"/>
                  </a:lnTo>
                  <a:lnTo>
                    <a:pt x="1084" y="93"/>
                  </a:lnTo>
                  <a:lnTo>
                    <a:pt x="1087" y="95"/>
                  </a:lnTo>
                  <a:lnTo>
                    <a:pt x="1090" y="95"/>
                  </a:lnTo>
                  <a:lnTo>
                    <a:pt x="1093" y="95"/>
                  </a:lnTo>
                  <a:lnTo>
                    <a:pt x="1098" y="95"/>
                  </a:lnTo>
                  <a:lnTo>
                    <a:pt x="1101" y="95"/>
                  </a:lnTo>
                  <a:lnTo>
                    <a:pt x="1104" y="95"/>
                  </a:lnTo>
                  <a:lnTo>
                    <a:pt x="1107" y="95"/>
                  </a:lnTo>
                  <a:lnTo>
                    <a:pt x="1111" y="95"/>
                  </a:lnTo>
                  <a:lnTo>
                    <a:pt x="1114" y="95"/>
                  </a:lnTo>
                  <a:lnTo>
                    <a:pt x="1117" y="96"/>
                  </a:lnTo>
                  <a:lnTo>
                    <a:pt x="1122" y="96"/>
                  </a:lnTo>
                  <a:lnTo>
                    <a:pt x="1125" y="96"/>
                  </a:lnTo>
                  <a:lnTo>
                    <a:pt x="1128" y="96"/>
                  </a:lnTo>
                  <a:lnTo>
                    <a:pt x="1131" y="96"/>
                  </a:lnTo>
                  <a:lnTo>
                    <a:pt x="1134" y="96"/>
                  </a:lnTo>
                  <a:lnTo>
                    <a:pt x="1138" y="96"/>
                  </a:lnTo>
                  <a:lnTo>
                    <a:pt x="1142" y="96"/>
                  </a:lnTo>
                  <a:lnTo>
                    <a:pt x="1146" y="96"/>
                  </a:lnTo>
                  <a:lnTo>
                    <a:pt x="1149" y="98"/>
                  </a:lnTo>
                  <a:lnTo>
                    <a:pt x="1152" y="98"/>
                  </a:lnTo>
                  <a:lnTo>
                    <a:pt x="1155" y="98"/>
                  </a:lnTo>
                  <a:lnTo>
                    <a:pt x="1158" y="98"/>
                  </a:lnTo>
                  <a:lnTo>
                    <a:pt x="1161" y="98"/>
                  </a:lnTo>
                  <a:lnTo>
                    <a:pt x="1166" y="98"/>
                  </a:lnTo>
                  <a:lnTo>
                    <a:pt x="1169" y="98"/>
                  </a:lnTo>
                  <a:lnTo>
                    <a:pt x="1172" y="98"/>
                  </a:lnTo>
                  <a:lnTo>
                    <a:pt x="1176" y="98"/>
                  </a:lnTo>
                  <a:lnTo>
                    <a:pt x="1179" y="99"/>
                  </a:lnTo>
                  <a:lnTo>
                    <a:pt x="1182" y="99"/>
                  </a:lnTo>
                  <a:lnTo>
                    <a:pt x="1185" y="99"/>
                  </a:lnTo>
                  <a:lnTo>
                    <a:pt x="1190" y="99"/>
                  </a:lnTo>
                  <a:lnTo>
                    <a:pt x="1193" y="99"/>
                  </a:lnTo>
                  <a:lnTo>
                    <a:pt x="1196" y="99"/>
                  </a:lnTo>
                  <a:lnTo>
                    <a:pt x="1199" y="99"/>
                  </a:lnTo>
                  <a:lnTo>
                    <a:pt x="1203" y="99"/>
                  </a:lnTo>
                  <a:lnTo>
                    <a:pt x="1206" y="99"/>
                  </a:lnTo>
                  <a:lnTo>
                    <a:pt x="1209" y="101"/>
                  </a:lnTo>
                  <a:lnTo>
                    <a:pt x="1214" y="101"/>
                  </a:lnTo>
                  <a:lnTo>
                    <a:pt x="1217" y="101"/>
                  </a:lnTo>
                  <a:lnTo>
                    <a:pt x="1220" y="101"/>
                  </a:lnTo>
                  <a:lnTo>
                    <a:pt x="1223" y="101"/>
                  </a:lnTo>
                  <a:lnTo>
                    <a:pt x="1226" y="101"/>
                  </a:lnTo>
                  <a:lnTo>
                    <a:pt x="1229" y="101"/>
                  </a:lnTo>
                  <a:lnTo>
                    <a:pt x="1233" y="101"/>
                  </a:lnTo>
                  <a:lnTo>
                    <a:pt x="1237" y="101"/>
                  </a:lnTo>
                  <a:lnTo>
                    <a:pt x="1241" y="101"/>
                  </a:lnTo>
                  <a:lnTo>
                    <a:pt x="1244" y="103"/>
                  </a:lnTo>
                  <a:lnTo>
                    <a:pt x="1247" y="103"/>
                  </a:lnTo>
                  <a:lnTo>
                    <a:pt x="1250" y="103"/>
                  </a:lnTo>
                  <a:lnTo>
                    <a:pt x="1253" y="103"/>
                  </a:lnTo>
                  <a:lnTo>
                    <a:pt x="1256" y="103"/>
                  </a:lnTo>
                  <a:lnTo>
                    <a:pt x="1261" y="103"/>
                  </a:lnTo>
                  <a:lnTo>
                    <a:pt x="1264" y="103"/>
                  </a:lnTo>
                  <a:lnTo>
                    <a:pt x="1268" y="103"/>
                  </a:lnTo>
                  <a:lnTo>
                    <a:pt x="1271" y="103"/>
                  </a:lnTo>
                  <a:lnTo>
                    <a:pt x="1274" y="103"/>
                  </a:lnTo>
                  <a:lnTo>
                    <a:pt x="1277" y="104"/>
                  </a:lnTo>
                  <a:lnTo>
                    <a:pt x="1280" y="104"/>
                  </a:lnTo>
                  <a:lnTo>
                    <a:pt x="1285" y="104"/>
                  </a:lnTo>
                  <a:lnTo>
                    <a:pt x="1288" y="104"/>
                  </a:lnTo>
                  <a:lnTo>
                    <a:pt x="1291" y="104"/>
                  </a:lnTo>
                  <a:lnTo>
                    <a:pt x="1294" y="104"/>
                  </a:lnTo>
                  <a:lnTo>
                    <a:pt x="1298" y="104"/>
                  </a:lnTo>
                  <a:lnTo>
                    <a:pt x="1301" y="104"/>
                  </a:lnTo>
                  <a:lnTo>
                    <a:pt x="1304" y="104"/>
                  </a:lnTo>
                  <a:lnTo>
                    <a:pt x="1309" y="104"/>
                  </a:lnTo>
                  <a:lnTo>
                    <a:pt x="1312" y="106"/>
                  </a:lnTo>
                  <a:lnTo>
                    <a:pt x="1315" y="106"/>
                  </a:lnTo>
                  <a:lnTo>
                    <a:pt x="1318" y="106"/>
                  </a:lnTo>
                  <a:lnTo>
                    <a:pt x="1321" y="106"/>
                  </a:lnTo>
                  <a:lnTo>
                    <a:pt x="1325" y="106"/>
                  </a:lnTo>
                  <a:lnTo>
                    <a:pt x="1328" y="106"/>
                  </a:lnTo>
                  <a:lnTo>
                    <a:pt x="1332" y="106"/>
                  </a:lnTo>
                  <a:lnTo>
                    <a:pt x="1336" y="106"/>
                  </a:lnTo>
                  <a:lnTo>
                    <a:pt x="1339" y="106"/>
                  </a:lnTo>
                  <a:lnTo>
                    <a:pt x="1342" y="106"/>
                  </a:lnTo>
                  <a:lnTo>
                    <a:pt x="1345" y="107"/>
                  </a:lnTo>
                  <a:lnTo>
                    <a:pt x="1348" y="107"/>
                  </a:lnTo>
                  <a:lnTo>
                    <a:pt x="1351" y="107"/>
                  </a:lnTo>
                  <a:lnTo>
                    <a:pt x="1356" y="107"/>
                  </a:lnTo>
                  <a:lnTo>
                    <a:pt x="1359" y="107"/>
                  </a:lnTo>
                  <a:lnTo>
                    <a:pt x="1363" y="107"/>
                  </a:lnTo>
                  <a:lnTo>
                    <a:pt x="1366" y="107"/>
                  </a:lnTo>
                  <a:lnTo>
                    <a:pt x="1369" y="107"/>
                  </a:lnTo>
                  <a:lnTo>
                    <a:pt x="1372" y="107"/>
                  </a:lnTo>
                  <a:lnTo>
                    <a:pt x="1375" y="107"/>
                  </a:lnTo>
                  <a:lnTo>
                    <a:pt x="1380" y="109"/>
                  </a:lnTo>
                  <a:lnTo>
                    <a:pt x="1383" y="109"/>
                  </a:lnTo>
                  <a:lnTo>
                    <a:pt x="1386" y="109"/>
                  </a:lnTo>
                  <a:lnTo>
                    <a:pt x="1390" y="109"/>
                  </a:lnTo>
                  <a:lnTo>
                    <a:pt x="1393" y="109"/>
                  </a:lnTo>
                  <a:lnTo>
                    <a:pt x="1396" y="109"/>
                  </a:lnTo>
                  <a:lnTo>
                    <a:pt x="1399" y="109"/>
                  </a:lnTo>
                  <a:lnTo>
                    <a:pt x="1404" y="109"/>
                  </a:lnTo>
                  <a:lnTo>
                    <a:pt x="1407" y="109"/>
                  </a:lnTo>
                  <a:lnTo>
                    <a:pt x="1410" y="109"/>
                  </a:lnTo>
                  <a:lnTo>
                    <a:pt x="1413" y="109"/>
                  </a:lnTo>
                  <a:lnTo>
                    <a:pt x="1416" y="110"/>
                  </a:lnTo>
                  <a:lnTo>
                    <a:pt x="1420" y="110"/>
                  </a:lnTo>
                  <a:lnTo>
                    <a:pt x="1423" y="110"/>
                  </a:lnTo>
                  <a:lnTo>
                    <a:pt x="1428" y="110"/>
                  </a:lnTo>
                  <a:lnTo>
                    <a:pt x="1431" y="110"/>
                  </a:lnTo>
                  <a:lnTo>
                    <a:pt x="1434" y="110"/>
                  </a:lnTo>
                  <a:lnTo>
                    <a:pt x="1437" y="110"/>
                  </a:lnTo>
                  <a:lnTo>
                    <a:pt x="1440" y="110"/>
                  </a:lnTo>
                  <a:lnTo>
                    <a:pt x="1443" y="110"/>
                  </a:lnTo>
                  <a:lnTo>
                    <a:pt x="1447" y="110"/>
                  </a:lnTo>
                  <a:lnTo>
                    <a:pt x="1451" y="110"/>
                  </a:lnTo>
                  <a:lnTo>
                    <a:pt x="1454" y="112"/>
                  </a:lnTo>
                  <a:lnTo>
                    <a:pt x="1458" y="112"/>
                  </a:lnTo>
                  <a:lnTo>
                    <a:pt x="1461" y="112"/>
                  </a:lnTo>
                  <a:lnTo>
                    <a:pt x="1464" y="112"/>
                  </a:lnTo>
                  <a:lnTo>
                    <a:pt x="1467" y="112"/>
                  </a:lnTo>
                  <a:lnTo>
                    <a:pt x="1470" y="112"/>
                  </a:lnTo>
                  <a:lnTo>
                    <a:pt x="1475" y="112"/>
                  </a:lnTo>
                  <a:lnTo>
                    <a:pt x="1478" y="112"/>
                  </a:lnTo>
                  <a:lnTo>
                    <a:pt x="1481" y="112"/>
                  </a:lnTo>
                  <a:lnTo>
                    <a:pt x="1485" y="112"/>
                  </a:lnTo>
                  <a:lnTo>
                    <a:pt x="1488" y="112"/>
                  </a:lnTo>
                  <a:lnTo>
                    <a:pt x="1491" y="114"/>
                  </a:lnTo>
                  <a:lnTo>
                    <a:pt x="1494" y="114"/>
                  </a:lnTo>
                  <a:lnTo>
                    <a:pt x="1499" y="114"/>
                  </a:lnTo>
                  <a:lnTo>
                    <a:pt x="1502" y="114"/>
                  </a:lnTo>
                  <a:lnTo>
                    <a:pt x="1505" y="114"/>
                  </a:lnTo>
                  <a:lnTo>
                    <a:pt x="1508" y="114"/>
                  </a:lnTo>
                  <a:lnTo>
                    <a:pt x="1512" y="114"/>
                  </a:lnTo>
                  <a:lnTo>
                    <a:pt x="1515" y="114"/>
                  </a:lnTo>
                  <a:lnTo>
                    <a:pt x="1519" y="114"/>
                  </a:lnTo>
                  <a:lnTo>
                    <a:pt x="1523" y="114"/>
                  </a:lnTo>
                  <a:lnTo>
                    <a:pt x="1526" y="114"/>
                  </a:lnTo>
                  <a:lnTo>
                    <a:pt x="1529" y="114"/>
                  </a:lnTo>
                  <a:lnTo>
                    <a:pt x="1532" y="115"/>
                  </a:lnTo>
                  <a:lnTo>
                    <a:pt x="1535" y="115"/>
                  </a:lnTo>
                  <a:lnTo>
                    <a:pt x="1538" y="115"/>
                  </a:lnTo>
                  <a:lnTo>
                    <a:pt x="1543" y="115"/>
                  </a:lnTo>
                  <a:lnTo>
                    <a:pt x="1546" y="115"/>
                  </a:lnTo>
                  <a:lnTo>
                    <a:pt x="1550" y="115"/>
                  </a:lnTo>
                  <a:lnTo>
                    <a:pt x="1553" y="115"/>
                  </a:lnTo>
                  <a:lnTo>
                    <a:pt x="1556" y="115"/>
                  </a:lnTo>
                  <a:lnTo>
                    <a:pt x="1559" y="115"/>
                  </a:lnTo>
                  <a:lnTo>
                    <a:pt x="1562" y="115"/>
                  </a:lnTo>
                  <a:lnTo>
                    <a:pt x="1567" y="115"/>
                  </a:lnTo>
                  <a:lnTo>
                    <a:pt x="1570" y="115"/>
                  </a:lnTo>
                  <a:lnTo>
                    <a:pt x="1573" y="117"/>
                  </a:lnTo>
                  <a:lnTo>
                    <a:pt x="1576" y="117"/>
                  </a:lnTo>
                  <a:lnTo>
                    <a:pt x="1580" y="117"/>
                  </a:lnTo>
                  <a:lnTo>
                    <a:pt x="1583" y="117"/>
                  </a:lnTo>
                  <a:lnTo>
                    <a:pt x="1586" y="117"/>
                  </a:lnTo>
                  <a:lnTo>
                    <a:pt x="1591" y="117"/>
                  </a:lnTo>
                  <a:lnTo>
                    <a:pt x="1594" y="117"/>
                  </a:lnTo>
                  <a:lnTo>
                    <a:pt x="1597" y="117"/>
                  </a:lnTo>
                  <a:lnTo>
                    <a:pt x="1600" y="117"/>
                  </a:lnTo>
                  <a:lnTo>
                    <a:pt x="1603" y="117"/>
                  </a:lnTo>
                  <a:lnTo>
                    <a:pt x="1607" y="117"/>
                  </a:lnTo>
                  <a:lnTo>
                    <a:pt x="1610" y="117"/>
                  </a:lnTo>
                  <a:lnTo>
                    <a:pt x="1614" y="118"/>
                  </a:lnTo>
                  <a:lnTo>
                    <a:pt x="1618" y="118"/>
                  </a:lnTo>
                  <a:lnTo>
                    <a:pt x="1621" y="118"/>
                  </a:lnTo>
                  <a:lnTo>
                    <a:pt x="1624" y="118"/>
                  </a:lnTo>
                  <a:lnTo>
                    <a:pt x="1627" y="118"/>
                  </a:lnTo>
                  <a:lnTo>
                    <a:pt x="1630" y="118"/>
                  </a:lnTo>
                  <a:lnTo>
                    <a:pt x="1634" y="118"/>
                  </a:lnTo>
                  <a:lnTo>
                    <a:pt x="1638" y="118"/>
                  </a:lnTo>
                  <a:lnTo>
                    <a:pt x="1641" y="118"/>
                  </a:lnTo>
                  <a:lnTo>
                    <a:pt x="1645" y="118"/>
                  </a:lnTo>
                  <a:lnTo>
                    <a:pt x="1648" y="118"/>
                  </a:lnTo>
                  <a:lnTo>
                    <a:pt x="1651" y="118"/>
                  </a:lnTo>
                  <a:lnTo>
                    <a:pt x="1654" y="120"/>
                  </a:lnTo>
                  <a:lnTo>
                    <a:pt x="1657" y="120"/>
                  </a:lnTo>
                  <a:lnTo>
                    <a:pt x="1662" y="120"/>
                  </a:lnTo>
                  <a:lnTo>
                    <a:pt x="1665" y="120"/>
                  </a:lnTo>
                  <a:lnTo>
                    <a:pt x="1668" y="120"/>
                  </a:lnTo>
                  <a:lnTo>
                    <a:pt x="1672" y="120"/>
                  </a:lnTo>
                  <a:lnTo>
                    <a:pt x="1675" y="120"/>
                  </a:lnTo>
                  <a:lnTo>
                    <a:pt x="1678" y="120"/>
                  </a:lnTo>
                  <a:lnTo>
                    <a:pt x="1681" y="120"/>
                  </a:lnTo>
                  <a:lnTo>
                    <a:pt x="1686" y="120"/>
                  </a:lnTo>
                  <a:lnTo>
                    <a:pt x="1689" y="120"/>
                  </a:lnTo>
                  <a:lnTo>
                    <a:pt x="1692" y="120"/>
                  </a:lnTo>
                  <a:lnTo>
                    <a:pt x="1695" y="120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6864120" y="3295440"/>
              <a:ext cx="830160" cy="344880"/>
              <a:chOff x="6864120" y="3295440"/>
              <a:chExt cx="830160" cy="344880"/>
            </a:xfrm>
          </p:grpSpPr>
          <p:sp>
            <p:nvSpPr>
              <p:cNvPr id="536" name=""/>
              <p:cNvSpPr/>
              <p:nvPr/>
            </p:nvSpPr>
            <p:spPr>
              <a:xfrm>
                <a:off x="6864120" y="329544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036560" y="34574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6875280" y="4179600"/>
              <a:ext cx="828360" cy="344520"/>
              <a:chOff x="6875280" y="4179600"/>
              <a:chExt cx="828360" cy="344520"/>
            </a:xfrm>
          </p:grpSpPr>
          <p:sp>
            <p:nvSpPr>
              <p:cNvPr id="539" name=""/>
              <p:cNvSpPr/>
              <p:nvPr/>
            </p:nvSpPr>
            <p:spPr>
              <a:xfrm>
                <a:off x="6875280" y="417960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045920" y="43412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6261840" y="4920840"/>
              <a:ext cx="2813400" cy="591480"/>
              <a:chOff x="6261840" y="4920840"/>
              <a:chExt cx="2813400" cy="591480"/>
            </a:xfrm>
          </p:grpSpPr>
          <p:grpSp>
            <p:nvGrpSpPr>
              <p:cNvPr id="542" name=""/>
              <p:cNvGrpSpPr/>
              <p:nvPr/>
            </p:nvGrpSpPr>
            <p:grpSpPr>
              <a:xfrm>
                <a:off x="6753960" y="5146200"/>
                <a:ext cx="1287000" cy="366120"/>
                <a:chOff x="6753960" y="5146200"/>
                <a:chExt cx="1287000" cy="36612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6753960" y="5184360"/>
                  <a:ext cx="925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kT/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7114680" y="5146200"/>
                  <a:ext cx="758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7299360" y="5184360"/>
                  <a:ext cx="7416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6" name=""/>
              <p:cNvSpPr/>
              <p:nvPr/>
            </p:nvSpPr>
            <p:spPr>
              <a:xfrm>
                <a:off x="626184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8014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3396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8793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4175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>
              <a:off x="5723640" y="4920840"/>
              <a:ext cx="65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506920" y="47937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506920" y="44002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506920" y="400644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506920" y="36111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506920" y="32176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506920" y="282240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8" name=""/>
            <p:cNvGrpSpPr/>
            <p:nvPr/>
          </p:nvGrpSpPr>
          <p:grpSpPr>
            <a:xfrm>
              <a:off x="6053040" y="2717640"/>
              <a:ext cx="270000" cy="2171520"/>
              <a:chOff x="6053040" y="2717640"/>
              <a:chExt cx="270000" cy="2171520"/>
            </a:xfrm>
          </p:grpSpPr>
          <p:sp>
            <p:nvSpPr>
              <p:cNvPr id="559" name=""/>
              <p:cNvSpPr/>
              <p:nvPr/>
            </p:nvSpPr>
            <p:spPr>
              <a:xfrm>
                <a:off x="6321240" y="2717640"/>
                <a:ext cx="1800" cy="20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605304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05304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053040" y="46890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05304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053040" y="429552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05304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053040" y="390168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05304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053040" y="35064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05304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053040" y="311112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05304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053040" y="271764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605304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05304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 rot="16200000">
              <a:off x="4743000" y="3833280"/>
              <a:ext cx="161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robabiliti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493560" y="1170000"/>
            <a:ext cx="518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two-state system with an energy 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 between the two sta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 the occupation probabiliti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tates vary with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 energy state is preferentially occupied at low T, but the stat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roach equal occupancy at high 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6042960" y="1192320"/>
            <a:ext cx="2100960" cy="1011960"/>
            <a:chOff x="6042960" y="1192320"/>
            <a:chExt cx="2100960" cy="1011960"/>
          </a:xfrm>
        </p:grpSpPr>
        <p:sp>
          <p:nvSpPr>
            <p:cNvPr id="578" name=""/>
            <p:cNvSpPr/>
            <p:nvPr/>
          </p:nvSpPr>
          <p:spPr>
            <a:xfrm>
              <a:off x="6683400" y="1392120"/>
              <a:ext cx="1447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696000" y="2001960"/>
              <a:ext cx="14479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140600" y="1392120"/>
              <a:ext cx="0" cy="609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823080" y="1506600"/>
              <a:ext cx="10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42960" y="119232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071400" y="179856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50640" y="53640"/>
            <a:ext cx="8523000" cy="8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366920" y="2339280"/>
            <a:ext cx="7176960" cy="25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Harmonic Oscillato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ck Distribution of Electromagnetic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38360" y="0"/>
            <a:ext cx="7240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Internal Energ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07960" y="1523880"/>
            <a:ext cx="5313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6000"/>
          </a:bodyPr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call how to calculate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ternal energy 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-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-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 tanh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/k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this look like as a function of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6456240" y="1332000"/>
            <a:ext cx="2489760" cy="1101600"/>
            <a:chOff x="6456240" y="1332000"/>
            <a:chExt cx="2489760" cy="1101600"/>
          </a:xfrm>
        </p:grpSpPr>
        <p:sp>
          <p:nvSpPr>
            <p:cNvPr id="589" name=""/>
            <p:cNvSpPr/>
            <p:nvPr/>
          </p:nvSpPr>
          <p:spPr>
            <a:xfrm flipV="1">
              <a:off x="7431120" y="19512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869160" y="15397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869160" y="22129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347680" y="1386000"/>
              <a:ext cx="598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dow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333640" y="20588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7431120" y="13320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745320" y="1414440"/>
              <a:ext cx="0" cy="88920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6" name=""/>
                <p:cNvSpPr txBox="1"/>
                <p:nvPr/>
              </p:nvSpPr>
              <p:spPr>
                <a:xfrm>
                  <a:off x="6456240" y="1714680"/>
                  <a:ext cx="190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7" name=""/>
          <p:cNvSpPr/>
          <p:nvPr/>
        </p:nvSpPr>
        <p:spPr>
          <a:xfrm>
            <a:off x="159480" y="4243320"/>
            <a:ext cx="3215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 T (kT &lt;&l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~ 0.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l spins are stuck in low energy state.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= N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N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300480" y="5789520"/>
            <a:ext cx="45925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 T (kT &gt;&g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approaches 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most equal numbers in the up and down stat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(N/2)(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+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) = 0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3422520" y="3500280"/>
            <a:ext cx="4334040" cy="2284560"/>
            <a:chOff x="3422520" y="3500280"/>
            <a:chExt cx="4334040" cy="2284560"/>
          </a:xfrm>
        </p:grpSpPr>
        <p:sp>
          <p:nvSpPr>
            <p:cNvPr id="600" name=""/>
            <p:cNvSpPr/>
            <p:nvPr/>
          </p:nvSpPr>
          <p:spPr>
            <a:xfrm>
              <a:off x="3440160" y="3500280"/>
              <a:ext cx="620640" cy="22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01" name="" descr=""/>
            <p:cNvPicPr/>
            <p:nvPr/>
          </p:nvPicPr>
          <p:blipFill>
            <a:blip r:embed="rId1"/>
            <a:stretch/>
          </p:blipFill>
          <p:spPr>
            <a:xfrm>
              <a:off x="4064040" y="3502080"/>
              <a:ext cx="3686040" cy="22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4734000" y="3622680"/>
              <a:ext cx="30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6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8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422520" y="3524400"/>
              <a:ext cx="720720" cy="22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U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1.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 flipV="1">
            <a:off x="7329600" y="4136760"/>
            <a:ext cx="190440" cy="17031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305160" y="4570560"/>
            <a:ext cx="911160" cy="9903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016040" y="2576520"/>
            <a:ext cx="153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7" name=""/>
          <p:cNvGraphicFramePr/>
          <p:nvPr/>
        </p:nvGraphicFramePr>
        <p:xfrm>
          <a:off x="1346040" y="2211480"/>
          <a:ext cx="430236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2211480"/>
                    <a:ext cx="4302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612360" y="1375920"/>
            <a:ext cx="8256600" cy="35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now have U(T), for fixed B, so we can get the heat capacity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B), by tak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lt;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vanishes, because all are stuck in “ground state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gt;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 vanishes, becaus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ies of the two states eac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pproach 0.5, and cease to depend on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collection of 2-state spins does not behave anything like an ideal g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1116000" y="3994200"/>
            <a:ext cx="3089160" cy="1646280"/>
            <a:chOff x="1116000" y="3994200"/>
            <a:chExt cx="3089160" cy="1646280"/>
          </a:xfrm>
        </p:grpSpPr>
        <p:pic>
          <p:nvPicPr>
            <p:cNvPr id="611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1116000" y="3994200"/>
              <a:ext cx="3003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>
              <a:off x="1763640" y="5146920"/>
              <a:ext cx="244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8480"/>
                  <a:tab algn="l" pos="1541520"/>
                  <a:tab algn="l" pos="160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3  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268640" y="4056120"/>
              <a:ext cx="7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/k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70894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Heat Capacit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278000" y="3625920"/>
            <a:ext cx="0" cy="1317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4003560" y="4640400"/>
            <a:ext cx="28584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80640" y="5688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Question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e’d Like to Answ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66840" y="5613480"/>
            <a:ext cx="5127840" cy="1177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questions involve the interaction betwee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small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tom or molecule)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much larger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he environmen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basic problem in statistical mechan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7280" y="1576440"/>
            <a:ext cx="17110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range of kinetic energies of an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molecul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5680" y="2811600"/>
            <a:ext cx="19987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nder what conditions does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break up into two O atom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8840" y="1474920"/>
            <a:ext cx="22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probability that a DNA molecule will unfold and replicat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10320" y="3932280"/>
            <a:ext cx="250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capacity of a myoglobin molecule to carry oxygen to the muscle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92760" y="3013200"/>
            <a:ext cx="239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vapor pressure of a solid or liquid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5760" y="4121280"/>
            <a:ext cx="27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en do molecular vibrations become important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14787" t="15571" r="14680" b="27372"/>
          <a:stretch/>
        </p:blipFill>
        <p:spPr>
          <a:xfrm>
            <a:off x="2766960" y="1330200"/>
            <a:ext cx="3724200" cy="40132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2541600" y="2965320"/>
            <a:ext cx="101880" cy="333360"/>
            <a:chOff x="2541600" y="2965320"/>
            <a:chExt cx="101880" cy="333360"/>
          </a:xfrm>
        </p:grpSpPr>
        <p:sp>
          <p:nvSpPr>
            <p:cNvPr id="64" name=""/>
            <p:cNvSpPr/>
            <p:nvPr/>
          </p:nvSpPr>
          <p:spPr>
            <a:xfrm>
              <a:off x="2541600" y="296532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63920" y="322416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056000">
              <a:off x="2512080" y="3079800"/>
              <a:ext cx="177480" cy="77760"/>
            </a:xfrm>
            <a:custGeom>
              <a:avLst/>
              <a:gdLst/>
              <a:ahLst/>
              <a:rect l="l" t="t" r="r" b="b"/>
              <a:pathLst>
                <a:path w="220" h="126">
                  <a:moveTo>
                    <a:pt x="0" y="63"/>
                  </a:moveTo>
                  <a:cubicBezTo>
                    <a:pt x="11" y="31"/>
                    <a:pt x="22" y="0"/>
                    <a:pt x="36" y="7"/>
                  </a:cubicBezTo>
                  <a:cubicBezTo>
                    <a:pt x="50" y="14"/>
                    <a:pt x="84" y="88"/>
                    <a:pt x="84" y="103"/>
                  </a:cubicBezTo>
                  <a:cubicBezTo>
                    <a:pt x="84" y="118"/>
                    <a:pt x="31" y="116"/>
                    <a:pt x="36" y="99"/>
                  </a:cubicBezTo>
                  <a:cubicBezTo>
                    <a:pt x="41" y="82"/>
                    <a:pt x="94" y="2"/>
                    <a:pt x="116" y="3"/>
                  </a:cubicBezTo>
                  <a:cubicBezTo>
                    <a:pt x="138" y="4"/>
                    <a:pt x="167" y="85"/>
                    <a:pt x="168" y="103"/>
                  </a:cubicBezTo>
                  <a:cubicBezTo>
                    <a:pt x="169" y="121"/>
                    <a:pt x="121" y="126"/>
                    <a:pt x="124" y="111"/>
                  </a:cubicBezTo>
                  <a:cubicBezTo>
                    <a:pt x="127" y="96"/>
                    <a:pt x="172" y="19"/>
                    <a:pt x="188" y="11"/>
                  </a:cubicBezTo>
                  <a:cubicBezTo>
                    <a:pt x="204" y="3"/>
                    <a:pt x="212" y="33"/>
                    <a:pt x="220" y="63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2040" bIns="32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089080" y="2266920"/>
            <a:ext cx="298440" cy="60948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190600" y="3187440"/>
            <a:ext cx="171720" cy="612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222640" y="3441240"/>
            <a:ext cx="222120" cy="6858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219640" y="2695320"/>
            <a:ext cx="153360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867280" y="1847880"/>
            <a:ext cx="9144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124240" y="3723840"/>
            <a:ext cx="153324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724120" y="2800440"/>
            <a:ext cx="1542960" cy="295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01920" y="5310360"/>
            <a:ext cx="28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Vitruvian Man, 1490, by Leonardo da Vinc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,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623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9800" y="56880"/>
            <a:ext cx="7130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verages from Probabilit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988560"/>
            <a:ext cx="815832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oul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 every quantum stat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som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is is realistic for small object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scillators or ato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perti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.g., energy, magnetic moment, optical density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babil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(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...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ould calculate the avera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, magnetic moment, optical density, etc. for each part . For example, &lt;E&gt;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...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if you have a big system, made up of simple little parts,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 &lt;E&gt;, &lt;m&gt;, etc. for the big system, just add all the par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figure out how things behave, starting from scrat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key step is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 Boltzmann factor tells us the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4800" y="5688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cept of a 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3000" y="1058760"/>
            <a:ext cx="847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be considering situations like th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systems can exchange energy, volume, particles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large system is much larger than the small one, the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temperature will not be significantly affected by the interac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fine a thermal reservoir to be a syste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 is large enough so that its T does not 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interacting with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ervoir doesn’t have to be very large, just a lot larger than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080360" y="1595520"/>
            <a:ext cx="3526560" cy="1741320"/>
            <a:chOff x="1080360" y="1595520"/>
            <a:chExt cx="3526560" cy="1741320"/>
          </a:xfrm>
        </p:grpSpPr>
        <p:sp>
          <p:nvSpPr>
            <p:cNvPr id="80" name=""/>
            <p:cNvSpPr/>
            <p:nvPr/>
          </p:nvSpPr>
          <p:spPr>
            <a:xfrm>
              <a:off x="1755720" y="1873080"/>
              <a:ext cx="439920" cy="39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98880" y="1595520"/>
              <a:ext cx="2408040" cy="174132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A large syst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81160" y="2066760"/>
              <a:ext cx="24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80360" y="183348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 small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11120" y="4906800"/>
            <a:ext cx="5226120" cy="944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39920" y="1984320"/>
            <a:ext cx="415836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ystems do not have to be collections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f oscillators (with equally spaced energy levels)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only assume that to simplify the math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3880" y="6156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6880" y="1127160"/>
            <a:ext cx="78501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start with a reservoir that isn’t very larg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makes the problem easier to solve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oscillator in thermal contact with a system of three oscilla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59360" y="3236760"/>
            <a:ext cx="3363840" cy="860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tal energ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# reservoir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icrostat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5280" y="4924440"/>
            <a:ext cx="901872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What is the probability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the small system ha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is proportional to the corresponding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 point: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every n, so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calculation is dominate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he behavior of the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77840" y="2209680"/>
            <a:ext cx="4957920" cy="2712600"/>
            <a:chOff x="1077840" y="2209680"/>
            <a:chExt cx="4957920" cy="2712600"/>
          </a:xfrm>
        </p:grpSpPr>
        <p:sp>
          <p:nvSpPr>
            <p:cNvPr id="91" name=""/>
            <p:cNvSpPr/>
            <p:nvPr/>
          </p:nvSpPr>
          <p:spPr>
            <a:xfrm>
              <a:off x="1393920" y="2209680"/>
              <a:ext cx="4641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     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k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=  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= energy of reservoir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428840" y="2514240"/>
              <a:ext cx="304560" cy="1890720"/>
              <a:chOff x="1428840" y="2514240"/>
              <a:chExt cx="304560" cy="1890720"/>
            </a:xfrm>
          </p:grpSpPr>
          <p:sp>
            <p:nvSpPr>
              <p:cNvPr id="93" name=""/>
              <p:cNvSpPr/>
              <p:nvPr/>
            </p:nvSpPr>
            <p:spPr>
              <a:xfrm>
                <a:off x="1428840" y="402804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428840" y="44049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28840" y="36529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28840" y="28990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428840" y="32763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1581120" y="2514240"/>
                <a:ext cx="0" cy="1890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266920" y="2514600"/>
              <a:ext cx="1066680" cy="1905120"/>
              <a:chOff x="2266920" y="2514600"/>
              <a:chExt cx="1066680" cy="1905120"/>
            </a:xfrm>
          </p:grpSpPr>
          <p:sp>
            <p:nvSpPr>
              <p:cNvPr id="100" name=""/>
              <p:cNvSpPr/>
              <p:nvPr/>
            </p:nvSpPr>
            <p:spPr>
              <a:xfrm>
                <a:off x="264780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64780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47800" y="3657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4780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4780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66920" y="40356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66920" y="44197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66920" y="3651120"/>
                <a:ext cx="30456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266920" y="28828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66920" y="32670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41920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02868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2868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28680" y="3651120"/>
                <a:ext cx="30492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2868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2868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318132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280008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1279440" y="4402080"/>
              <a:ext cx="224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mall            Reservoir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77840" y="2719440"/>
              <a:ext cx="357480" cy="18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919160" y="5908680"/>
            <a:ext cx="4194360" cy="606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92440" y="5483160"/>
            <a:ext cx="1881360" cy="38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40560" y="5994360"/>
            <a:ext cx="1023840" cy="405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5560" y="5977080"/>
            <a:ext cx="7068960" cy="926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bability decreases with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# states of the large system decreases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es dow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37560" y="225432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81120" y="1298520"/>
            <a:ext cx="732780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=  total # states for                                 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mbined syste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0720" y="324324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178760" y="3187800"/>
          <a:ext cx="196524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8760" y="3187800"/>
                    <a:ext cx="196524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061040" y="1460520"/>
          <a:ext cx="168300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61040" y="1460520"/>
                    <a:ext cx="16830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431640" y="3602160"/>
            <a:ext cx="3170520" cy="2080800"/>
            <a:chOff x="431640" y="3602160"/>
            <a:chExt cx="3170520" cy="2080800"/>
          </a:xfrm>
        </p:grpSpPr>
        <p:sp>
          <p:nvSpPr>
            <p:cNvPr id="138" name=""/>
            <p:cNvSpPr/>
            <p:nvPr/>
          </p:nvSpPr>
          <p:spPr>
            <a:xfrm>
              <a:off x="884160" y="4244760"/>
              <a:ext cx="2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01880" y="5284440"/>
              <a:ext cx="229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640" y="3602160"/>
              <a:ext cx="152424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3040" y="4941720"/>
              <a:ext cx="50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38400" y="5314680"/>
              <a:ext cx="23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    1    2     3     4  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001880" y="3988800"/>
              <a:ext cx="0" cy="129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82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6364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4488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25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06440" y="432252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87680" y="46656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68560" y="492264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49440" y="505584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560600" y="4198680"/>
              <a:ext cx="380880" cy="1141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41480" y="3919320"/>
              <a:ext cx="128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hy is zero energy the most probable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32200" y="520380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38600" y="51084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71600" y="4395600"/>
              <a:ext cx="1538280" cy="791640"/>
            </a:xfrm>
            <a:custGeom>
              <a:avLst/>
              <a:gdLst/>
              <a:ahLst/>
              <a:rect l="l" t="t" r="r" b="b"/>
              <a:pathLst>
                <a:path w="969" h="499">
                  <a:moveTo>
                    <a:pt x="0" y="0"/>
                  </a:moveTo>
                  <a:cubicBezTo>
                    <a:pt x="78" y="76"/>
                    <a:pt x="157" y="152"/>
                    <a:pt x="238" y="216"/>
                  </a:cubicBezTo>
                  <a:cubicBezTo>
                    <a:pt x="319" y="280"/>
                    <a:pt x="406" y="341"/>
                    <a:pt x="487" y="382"/>
                  </a:cubicBezTo>
                  <a:cubicBezTo>
                    <a:pt x="568" y="423"/>
                    <a:pt x="646" y="445"/>
                    <a:pt x="726" y="465"/>
                  </a:cubicBezTo>
                  <a:cubicBezTo>
                    <a:pt x="806" y="485"/>
                    <a:pt x="887" y="492"/>
                    <a:pt x="969" y="499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57" name=""/>
          <p:cNvGraphicFramePr/>
          <p:nvPr/>
        </p:nvGraphicFramePr>
        <p:xfrm>
          <a:off x="4484520" y="4530600"/>
          <a:ext cx="3472200" cy="9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84520" y="4530600"/>
                    <a:ext cx="3472200" cy="986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5508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Boltzmann Facto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6800" y="1236240"/>
            <a:ext cx="85219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calculat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e only need to know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 small system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temperature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f the reservoi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do i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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n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lculat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using a Taylor expansion (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rivative onl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e definition of temperatu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75360" y="1353960"/>
            <a:ext cx="439920" cy="395640"/>
          </a:xfrm>
          <a:prstGeom prst="rect">
            <a:avLst/>
          </a:prstGeom>
          <a:solidFill>
            <a:srgbClr val="dddddd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18160" y="1076400"/>
            <a:ext cx="1909800" cy="1249200"/>
          </a:xfrm>
          <a:prstGeom prst="rect">
            <a:avLst/>
          </a:prstGeom>
          <a:solidFill>
            <a:srgbClr val="80808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A large system</a:t>
            </a:r>
            <a:br>
              <a:rPr sz="1800"/>
            </a:b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Temperature = T</a:t>
            </a:r>
            <a:r>
              <a:rPr b="0" lang="en-US" sz="1800" spc="-1" strike="noStrike" baseline="-25000">
                <a:solidFill>
                  <a:srgbClr val="00004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00800" y="1547640"/>
            <a:ext cx="2462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00000" y="13143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25320" y="4086360"/>
          <a:ext cx="36259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086360"/>
                    <a:ext cx="36259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85720" y="3052800"/>
          <a:ext cx="12556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5720" y="3052800"/>
                    <a:ext cx="12556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768920" y="4629240"/>
          <a:ext cx="112212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8920" y="4629240"/>
                    <a:ext cx="11221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663560" y="5678640"/>
          <a:ext cx="130680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3560" y="5678640"/>
                    <a:ext cx="13068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3486240" y="5629320"/>
          <a:ext cx="1693800" cy="6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86240" y="5629320"/>
                    <a:ext cx="1693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6184800" y="5234040"/>
            <a:ext cx="2756160" cy="134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Boltzmann factor.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t tells us the probability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small system is in a stat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has energy 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t is very important !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24400" y="5837400"/>
            <a:ext cx="833400" cy="358560"/>
          </a:xfrm>
          <a:prstGeom prst="leftArrow">
            <a:avLst>
              <a:gd name="adj1" fmla="val 50000"/>
              <a:gd name="adj2" fmla="val 58107"/>
            </a:avLst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2440" y="47160"/>
            <a:ext cx="7873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rmalization of the Probabil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2240" y="1612800"/>
            <a:ext cx="6964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determine the proportionality constant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requiring that the total probability equal o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is called the “partition function”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913120" y="1620720"/>
          <a:ext cx="12985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3120" y="1620720"/>
                    <a:ext cx="12985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1752480" y="4762440"/>
          <a:ext cx="166536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762440"/>
                    <a:ext cx="1665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415880" y="2054160"/>
          <a:ext cx="149256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5880" y="2054160"/>
                    <a:ext cx="14925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274760" y="3602160"/>
          <a:ext cx="3807000" cy="92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4760" y="3602160"/>
                    <a:ext cx="380700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5726160" y="392256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sum over a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04T00:34:19Z</dcterms:modified>
  <cp:revision>30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