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E9E6677-B31C-4C52-9A49-340AF1F5F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5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6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7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lso a prelecture ques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lso in Prel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work through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E393F5BF-B970-4DFE-9943-ABEA4538E7F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99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1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302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3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4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5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6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7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8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9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0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1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2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5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6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7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1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2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3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4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5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26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27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328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9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0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1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3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4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5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7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8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2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3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4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5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6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558880" y="1531800"/>
            <a:ext cx="608976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half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V/2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1/2) = -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301680" y="2171880"/>
            <a:ext cx="1971720" cy="37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309600" y="4584600"/>
            <a:ext cx="1971720" cy="374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2584440" y="4140360"/>
            <a:ext cx="608976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ccording to the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aw, the entropy of an isolated system must stay the same or increase.  Considering the (gas + environment) as the ‘system’, the reduction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matched by an increase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We will see later that for isothermal processes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 (i.e., they are reversible!)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375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376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7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8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1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2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3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4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8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9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0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1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2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394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395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398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04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9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10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11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2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3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4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5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6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7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8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9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0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1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2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3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4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5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6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7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8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430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431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33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434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440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5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2549520" y="2979720"/>
            <a:ext cx="647064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twice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V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2) = 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282600" y="3029040"/>
            <a:ext cx="1971720" cy="39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888840" y="4635360"/>
            <a:ext cx="72327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 isothermal process (why?), but not quasi-static, i.e., the gas is not in equilibrium throughout the expansion.  In fact, the gas does not interact with the environment at all, so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oesn’t change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is is an irreversible expansion (the particles will never randomly all go back into the 1-liter box!)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1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452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453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4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5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6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7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8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9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0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1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2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3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4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5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6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7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8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9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471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472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74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475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0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81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6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87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88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9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0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1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3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4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5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6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7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8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9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2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3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4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5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507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508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511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6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517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2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24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25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6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7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8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9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0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1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2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3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4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5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6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7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8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9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0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1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2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3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4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5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6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7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49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0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551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9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0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1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2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6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7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8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9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0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1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2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4" name="Text Box 4"/>
          <p:cNvSpPr/>
          <p:nvPr/>
        </p:nvSpPr>
        <p:spPr>
          <a:xfrm>
            <a:off x="990720" y="284004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6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77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8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9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0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2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3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4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5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01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02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603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26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27" name="TextBox 1" descr=""/>
          <p:cNvPicPr/>
          <p:nvPr/>
        </p:nvPicPr>
        <p:blipFill>
          <a:blip r:embed="rId1"/>
          <a:stretch/>
        </p:blipFill>
        <p:spPr>
          <a:xfrm>
            <a:off x="2852640" y="522432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628" name="TextBox 58"/>
          <p:cNvSpPr/>
          <p:nvPr/>
        </p:nvSpPr>
        <p:spPr>
          <a:xfrm>
            <a:off x="3052440" y="48448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9" name="TextBox 59"/>
          <p:cNvSpPr/>
          <p:nvPr/>
        </p:nvSpPr>
        <p:spPr>
          <a:xfrm>
            <a:off x="6141600" y="4844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30" name="TextBox 2" descr=""/>
          <p:cNvPicPr/>
          <p:nvPr/>
        </p:nvPicPr>
        <p:blipFill>
          <a:blip r:embed="rId2"/>
          <a:stretch/>
        </p:blipFill>
        <p:spPr>
          <a:xfrm>
            <a:off x="2852640" y="5589720"/>
            <a:ext cx="1517760" cy="366480"/>
          </a:xfrm>
          <a:prstGeom prst="rect">
            <a:avLst/>
          </a:prstGeom>
          <a:ln w="0">
            <a:noFill/>
          </a:ln>
        </p:spPr>
      </p:pic>
      <p:pic>
        <p:nvPicPr>
          <p:cNvPr id="631" name="TextBox 69" descr=""/>
          <p:cNvPicPr/>
          <p:nvPr/>
        </p:nvPicPr>
        <p:blipFill>
          <a:blip r:embed="rId3"/>
          <a:stretch/>
        </p:blipFill>
        <p:spPr>
          <a:xfrm>
            <a:off x="2852640" y="5919840"/>
            <a:ext cx="2949840" cy="365040"/>
          </a:xfrm>
          <a:prstGeom prst="rect">
            <a:avLst/>
          </a:prstGeom>
          <a:ln w="0">
            <a:noFill/>
          </a:ln>
        </p:spPr>
      </p:pic>
      <p:pic>
        <p:nvPicPr>
          <p:cNvPr id="632" name="TextBox 70" descr=""/>
          <p:cNvPicPr/>
          <p:nvPr/>
        </p:nvPicPr>
        <p:blipFill>
          <a:blip r:embed="rId4"/>
          <a:stretch/>
        </p:blipFill>
        <p:spPr>
          <a:xfrm>
            <a:off x="6113520" y="522432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633" name="TextBox 71" descr=""/>
          <p:cNvPicPr/>
          <p:nvPr/>
        </p:nvPicPr>
        <p:blipFill>
          <a:blip r:embed="rId5"/>
          <a:stretch/>
        </p:blipFill>
        <p:spPr>
          <a:xfrm>
            <a:off x="6059520" y="5589720"/>
            <a:ext cx="3084480" cy="366480"/>
          </a:xfrm>
          <a:prstGeom prst="rect">
            <a:avLst/>
          </a:prstGeom>
          <a:ln w="0">
            <a:noFill/>
          </a:ln>
        </p:spPr>
      </p:pic>
      <p:pic>
        <p:nvPicPr>
          <p:cNvPr id="634" name="TextBox 73" descr=""/>
          <p:cNvPicPr/>
          <p:nvPr/>
        </p:nvPicPr>
        <p:blipFill>
          <a:blip r:embed="rId6"/>
          <a:stretch/>
        </p:blipFill>
        <p:spPr>
          <a:xfrm>
            <a:off x="3595680" y="6345360"/>
            <a:ext cx="2762280" cy="396720"/>
          </a:xfrm>
          <a:prstGeom prst="rect">
            <a:avLst/>
          </a:prstGeom>
          <a:ln w="0">
            <a:noFill/>
          </a:ln>
        </p:spPr>
      </p:pic>
      <p:sp>
        <p:nvSpPr>
          <p:cNvPr id="635" name="TextBox 5"/>
          <p:cNvSpPr/>
          <p:nvPr/>
        </p:nvSpPr>
        <p:spPr>
          <a:xfrm>
            <a:off x="6426720" y="628668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487440" y="259380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2278080" y="3595680"/>
            <a:ext cx="6865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ystem before removing the partition is nearly identical to   the system after removing it, i.e., the number of microstates changes very little (there are small fluctuations, fractionally ~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.  Let’s calculate it (incorrectly…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TextBox 10" descr=""/>
          <p:cNvPicPr/>
          <p:nvPr/>
        </p:nvPicPr>
        <p:blipFill>
          <a:blip r:embed="rId1"/>
          <a:srcRect l="4673" t="22739" r="4673" b="20501"/>
          <a:stretch/>
        </p:blipFill>
        <p:spPr>
          <a:xfrm>
            <a:off x="3510000" y="5235480"/>
            <a:ext cx="1776240" cy="2304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0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orrectly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1" name="TextBox 3" descr=""/>
          <p:cNvPicPr/>
          <p:nvPr/>
        </p:nvPicPr>
        <p:blipFill>
          <a:blip r:embed="rId2"/>
          <a:stretch/>
        </p:blipFill>
        <p:spPr>
          <a:xfrm>
            <a:off x="1566720" y="3743280"/>
            <a:ext cx="2451240" cy="371520"/>
          </a:xfrm>
          <a:prstGeom prst="rect">
            <a:avLst/>
          </a:prstGeom>
          <a:ln w="0">
            <a:noFill/>
          </a:ln>
        </p:spPr>
      </p:pic>
      <p:pic>
        <p:nvPicPr>
          <p:cNvPr id="642" name="TextBox 4" descr=""/>
          <p:cNvPicPr/>
          <p:nvPr/>
        </p:nvPicPr>
        <p:blipFill>
          <a:blip r:embed="rId3"/>
          <a:stretch/>
        </p:blipFill>
        <p:spPr>
          <a:xfrm>
            <a:off x="1371600" y="4095720"/>
            <a:ext cx="3005280" cy="646200"/>
          </a:xfrm>
          <a:prstGeom prst="rect">
            <a:avLst/>
          </a:prstGeom>
          <a:ln w="0">
            <a:noFill/>
          </a:ln>
        </p:spPr>
      </p:pic>
      <p:sp>
        <p:nvSpPr>
          <p:cNvPr id="643" name="TextBox 58"/>
          <p:cNvSpPr/>
          <p:nvPr/>
        </p:nvSpPr>
        <p:spPr>
          <a:xfrm>
            <a:off x="2006280" y="34005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4" name="TextBox 59"/>
          <p:cNvSpPr/>
          <p:nvPr/>
        </p:nvSpPr>
        <p:spPr>
          <a:xfrm>
            <a:off x="4968720" y="34005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5" name="TextBox 7" descr=""/>
          <p:cNvPicPr/>
          <p:nvPr/>
        </p:nvPicPr>
        <p:blipFill>
          <a:blip r:embed="rId4"/>
          <a:stretch/>
        </p:blipFill>
        <p:spPr>
          <a:xfrm>
            <a:off x="4651200" y="3767040"/>
            <a:ext cx="2372040" cy="378000"/>
          </a:xfrm>
          <a:prstGeom prst="rect">
            <a:avLst/>
          </a:prstGeom>
          <a:ln w="0">
            <a:noFill/>
          </a:ln>
        </p:spPr>
      </p:pic>
      <p:pic>
        <p:nvPicPr>
          <p:cNvPr id="646" name="TextBox 8" descr=""/>
          <p:cNvPicPr/>
          <p:nvPr/>
        </p:nvPicPr>
        <p:blipFill>
          <a:blip r:embed="rId5"/>
          <a:stretch/>
        </p:blipFill>
        <p:spPr>
          <a:xfrm>
            <a:off x="4602240" y="4237200"/>
            <a:ext cx="3176640" cy="365040"/>
          </a:xfrm>
          <a:prstGeom prst="rect">
            <a:avLst/>
          </a:prstGeom>
          <a:ln w="0">
            <a:noFill/>
          </a:ln>
        </p:spPr>
      </p:pic>
      <p:pic>
        <p:nvPicPr>
          <p:cNvPr id="647" name="Rectangle 9" descr=""/>
          <p:cNvPicPr/>
          <p:nvPr/>
        </p:nvPicPr>
        <p:blipFill>
          <a:blip r:embed="rId6"/>
          <a:stretch/>
        </p:blipFill>
        <p:spPr>
          <a:xfrm>
            <a:off x="3103560" y="4724280"/>
            <a:ext cx="2749680" cy="36540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4800600" y="5183280"/>
            <a:ext cx="576360" cy="368280"/>
          </a:xfrm>
          <a:prstGeom prst="rect">
            <a:avLst/>
          </a:prstGeom>
          <a:solidFill>
            <a:srgbClr val="000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wo systems that are allowed to exchange energy will do so until the total entropy is maximized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5132520" y="3355920"/>
          <a:ext cx="168732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2520" y="3355920"/>
                    <a:ext cx="1687320" cy="9399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3" name=""/>
          <p:cNvGraphicFramePr/>
          <p:nvPr/>
        </p:nvGraphicFramePr>
        <p:xfrm>
          <a:off x="6273720" y="2127240"/>
          <a:ext cx="15462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3720" y="2127240"/>
                    <a:ext cx="15462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1027080" y="2070000"/>
          <a:ext cx="419724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27080" y="2070000"/>
                    <a:ext cx="41972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225440" y="3564000"/>
            <a:ext cx="457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36680" y="4646520"/>
            <a:ext cx="750240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this definition, out of equilibrium, heat flows from hot to col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 equipartition of energy: U = ½kT for each energy mod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61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7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0" name="Text Box 4"/>
          <p:cNvSpPr/>
          <p:nvPr/>
        </p:nvSpPr>
        <p:spPr>
          <a:xfrm>
            <a:off x="778320" y="2428920"/>
            <a:ext cx="457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holds, so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k = 13.8 J/K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1" name="Text Box 5"/>
          <p:cNvSpPr/>
          <p:nvPr/>
        </p:nvSpPr>
        <p:spPr>
          <a:xfrm>
            <a:off x="776520" y="3728880"/>
            <a:ext cx="252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 /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0.07 K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2" name="Text Box 6"/>
          <p:cNvSpPr/>
          <p:nvPr/>
        </p:nvSpPr>
        <p:spPr>
          <a:xfrm>
            <a:off x="767880" y="4906800"/>
            <a:ext cx="55652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U = 1/k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is almost constant here, so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kT = 1 J / (4.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2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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exponential of this, a gigantic number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3" name="Text Box 7"/>
          <p:cNvSpPr/>
          <p:nvPr/>
        </p:nvSpPr>
        <p:spPr>
          <a:xfrm>
            <a:off x="6594840" y="5030640"/>
            <a:ext cx="2261520" cy="978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8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k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14 J/K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6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154160" y="1895400"/>
            <a:ext cx="718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STP, 1 mole of a gas occupies 22.4 liter.  Therefore, in 1 liter ther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N = 1 liter x (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2.4 liter) = 2.7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1310760" y="3157560"/>
            <a:ext cx="127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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344600" y="4351320"/>
            <a:ext cx="645804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1/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^(3.7x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1.0 according to my calcula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1 + 2.5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ccording to Mathematic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lesson: the number of microstates increases   mind-bogglingly fast – that’s why the gas fills the spac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88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689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90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691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2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3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4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5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6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7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8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9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0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1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2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3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4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5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6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7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8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10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11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12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13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14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1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22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9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730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738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45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7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8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9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0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54" name="Object 65"/>
          <p:cNvGraphicFramePr/>
          <p:nvPr/>
        </p:nvGraphicFramePr>
        <p:xfrm>
          <a:off x="1122480" y="4095720"/>
          <a:ext cx="379728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Object 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4095720"/>
                    <a:ext cx="3797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6" name="Object 69"/>
          <p:cNvGraphicFramePr/>
          <p:nvPr/>
        </p:nvGraphicFramePr>
        <p:xfrm>
          <a:off x="1147680" y="5135400"/>
          <a:ext cx="320508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7" name="Object 6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135400"/>
                    <a:ext cx="32050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Text Box 70"/>
          <p:cNvSpPr/>
          <p:nvPr/>
        </p:nvSpPr>
        <p:spPr>
          <a:xfrm>
            <a:off x="962280" y="5902200"/>
            <a:ext cx="4540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fter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6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59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760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61" name="Group 73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762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3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4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5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6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7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8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9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0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1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2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3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4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5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6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7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8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9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80" name="Group 92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81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82" name="Group 94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83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84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85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9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2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93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6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0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801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809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16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7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8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9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 Box 132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1" name="Text Box 133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24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25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6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7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8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831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3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34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35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6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7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8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839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40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1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2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843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4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45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846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47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48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9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0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1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2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4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5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6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7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8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9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0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1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2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3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4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5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6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7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8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9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0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1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2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3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4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5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6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7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8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9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0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1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2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3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4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905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906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7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08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909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0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11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912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3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4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Rectangle 56"/>
          <p:cNvSpPr/>
          <p:nvPr/>
        </p:nvSpPr>
        <p:spPr>
          <a:xfrm>
            <a:off x="1626840" y="2273400"/>
            <a:ext cx="377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100 on table) = 0.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7.9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Rectangle 60"/>
          <p:cNvSpPr/>
          <p:nvPr/>
        </p:nvSpPr>
        <p:spPr>
          <a:xfrm>
            <a:off x="1012680" y="3979800"/>
            <a:ext cx="7491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one macrostate, and we want to know how many microstates correspond to it.  There are three part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how many ways to have a 70/30 split:    100!/(70!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how many ways for the 7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how many ways for the 3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fore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70 on table)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ln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ln[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] = 100 ln 2 + ln(100!) – ln(70!) – ln(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We’ll see later that ln x!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≈ x ln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x}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3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4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5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2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9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0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1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2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5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7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99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1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2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0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2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3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4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5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6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3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0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7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4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1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5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63" name="Group 62"/>
          <p:cNvGrpSpPr/>
          <p:nvPr/>
        </p:nvGrpSpPr>
        <p:grpSpPr>
          <a:xfrm>
            <a:off x="442800" y="949320"/>
            <a:ext cx="7756560" cy="4771080"/>
            <a:chOff x="442800" y="949320"/>
            <a:chExt cx="7756560" cy="4771080"/>
          </a:xfrm>
        </p:grpSpPr>
        <p:grpSp>
          <p:nvGrpSpPr>
            <p:cNvPr id="164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65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66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67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74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81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88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95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1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2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3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6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Text Box 60"/>
            <p:cNvSpPr/>
            <p:nvPr/>
          </p:nvSpPr>
          <p:spPr>
            <a:xfrm>
              <a:off x="442800" y="1093680"/>
              <a:ext cx="7756560" cy="46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4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9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7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30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.7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.6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to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0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2" name="Text Box 63"/>
          <p:cNvSpPr/>
          <p:nvPr/>
        </p:nvSpPr>
        <p:spPr>
          <a:xfrm>
            <a:off x="734040" y="5618160"/>
            <a:ext cx="6253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 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verage &lt;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(1*25 + 2*32 + 3*27 + 4*16 + 5*5) / 105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59/105 = 2.47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Text Box 64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19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220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2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4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6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228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9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0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3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37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38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39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40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47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4827600" y="915840"/>
            <a:ext cx="1698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st probable V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ln(32) = 3.47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3" name="Group 5"/>
          <p:cNvGrpSpPr/>
          <p:nvPr/>
        </p:nvGrpSpPr>
        <p:grpSpPr>
          <a:xfrm>
            <a:off x="3944880" y="1141560"/>
            <a:ext cx="776520" cy="198360"/>
            <a:chOff x="3944880" y="1141560"/>
            <a:chExt cx="776520" cy="198360"/>
          </a:xfrm>
        </p:grpSpPr>
        <p:sp>
          <p:nvSpPr>
            <p:cNvPr id="254" name="Line 6"/>
            <p:cNvSpPr/>
            <p:nvPr/>
          </p:nvSpPr>
          <p:spPr>
            <a:xfrm>
              <a:off x="3944880" y="1141560"/>
              <a:ext cx="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>
              <a:off x="3944880" y="1141560"/>
              <a:ext cx="776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57" name="Group 9"/>
            <p:cNvGrpSpPr/>
            <p:nvPr/>
          </p:nvGrpSpPr>
          <p:grpSpPr>
            <a:xfrm>
              <a:off x="3449520" y="1433520"/>
              <a:ext cx="1835280" cy="1355760"/>
              <a:chOff x="3449520" y="1433520"/>
              <a:chExt cx="1835280" cy="1355760"/>
            </a:xfrm>
          </p:grpSpPr>
          <p:sp>
            <p:nvSpPr>
              <p:cNvPr id="258" name="Oval 22"/>
              <p:cNvSpPr/>
              <p:nvPr/>
            </p:nvSpPr>
            <p:spPr>
              <a:xfrm>
                <a:off x="3449520" y="1731960"/>
                <a:ext cx="14148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9" name="Oval 23"/>
              <p:cNvSpPr/>
              <p:nvPr/>
            </p:nvSpPr>
            <p:spPr>
              <a:xfrm>
                <a:off x="3873600" y="1433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0" name="Oval 24"/>
              <p:cNvSpPr/>
              <p:nvPr/>
            </p:nvSpPr>
            <p:spPr>
              <a:xfrm>
                <a:off x="4297320" y="1681200"/>
                <a:ext cx="139680" cy="1332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1" name="Oval 25"/>
              <p:cNvSpPr/>
              <p:nvPr/>
            </p:nvSpPr>
            <p:spPr>
              <a:xfrm>
                <a:off x="4719600" y="2209680"/>
                <a:ext cx="141480" cy="1335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2" name="Oval 26"/>
              <p:cNvSpPr/>
              <p:nvPr/>
            </p:nvSpPr>
            <p:spPr>
              <a:xfrm>
                <a:off x="5143680" y="2657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15"/>
            <p:cNvGrpSpPr/>
            <p:nvPr/>
          </p:nvGrpSpPr>
          <p:grpSpPr>
            <a:xfrm>
              <a:off x="1568520" y="864720"/>
              <a:ext cx="4516200" cy="2538000"/>
              <a:chOff x="1568520" y="864720"/>
              <a:chExt cx="4516200" cy="2538000"/>
            </a:xfrm>
          </p:grpSpPr>
          <p:grpSp>
            <p:nvGrpSpPr>
              <p:cNvPr id="264" name="Group 16"/>
              <p:cNvGrpSpPr/>
              <p:nvPr/>
            </p:nvGrpSpPr>
            <p:grpSpPr>
              <a:xfrm>
                <a:off x="3048120" y="2914560"/>
                <a:ext cx="3036600" cy="488160"/>
                <a:chOff x="3048120" y="2914560"/>
                <a:chExt cx="3036600" cy="488160"/>
              </a:xfrm>
            </p:grpSpPr>
            <p:sp>
              <p:nvSpPr>
                <p:cNvPr id="265" name="Text Box 9"/>
                <p:cNvSpPr/>
                <p:nvPr/>
              </p:nvSpPr>
              <p:spPr>
                <a:xfrm>
                  <a:off x="5380200" y="3009960"/>
                  <a:ext cx="7045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11"/>
                <p:cNvSpPr/>
                <p:nvPr/>
              </p:nvSpPr>
              <p:spPr>
                <a:xfrm>
                  <a:off x="3048120" y="2978280"/>
                  <a:ext cx="2539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3"/>
                <p:cNvSpPr/>
                <p:nvPr/>
              </p:nvSpPr>
              <p:spPr>
                <a:xfrm>
                  <a:off x="39178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4"/>
                <p:cNvSpPr/>
                <p:nvPr/>
              </p:nvSpPr>
              <p:spPr>
                <a:xfrm>
                  <a:off x="43419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5"/>
                <p:cNvSpPr/>
                <p:nvPr/>
              </p:nvSpPr>
              <p:spPr>
                <a:xfrm>
                  <a:off x="47656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6"/>
                <p:cNvSpPr/>
                <p:nvPr/>
              </p:nvSpPr>
              <p:spPr>
                <a:xfrm>
                  <a:off x="519120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Text Box 28"/>
                <p:cNvSpPr/>
                <p:nvPr/>
              </p:nvSpPr>
              <p:spPr>
                <a:xfrm>
                  <a:off x="3338640" y="3095640"/>
                  <a:ext cx="2152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ctr" pos="460440"/>
                      <a:tab algn="ctr" pos="914400"/>
                      <a:tab algn="ctr" pos="1314360"/>
                      <a:tab algn="ctr" pos="1768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Group 24"/>
              <p:cNvGrpSpPr/>
              <p:nvPr/>
            </p:nvGrpSpPr>
            <p:grpSpPr>
              <a:xfrm>
                <a:off x="1568520" y="864720"/>
                <a:ext cx="1925640" cy="2269800"/>
                <a:chOff x="1568520" y="864720"/>
                <a:chExt cx="1925640" cy="2269800"/>
              </a:xfrm>
            </p:grpSpPr>
            <p:sp>
              <p:nvSpPr>
                <p:cNvPr id="273" name="Line 10"/>
                <p:cNvSpPr/>
                <p:nvPr/>
              </p:nvSpPr>
              <p:spPr>
                <a:xfrm flipV="1">
                  <a:off x="3068640" y="864720"/>
                  <a:ext cx="0" cy="211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Line 12"/>
                <p:cNvSpPr/>
                <p:nvPr/>
              </p:nvSpPr>
              <p:spPr>
                <a:xfrm>
                  <a:off x="34941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17"/>
                <p:cNvSpPr/>
                <p:nvPr/>
              </p:nvSpPr>
              <p:spPr>
                <a:xfrm>
                  <a:off x="2982960" y="25052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8"/>
                <p:cNvSpPr/>
                <p:nvPr/>
              </p:nvSpPr>
              <p:spPr>
                <a:xfrm>
                  <a:off x="2982960" y="202716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9"/>
                <p:cNvSpPr/>
                <p:nvPr/>
              </p:nvSpPr>
              <p:spPr>
                <a:xfrm>
                  <a:off x="2982960" y="15476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20"/>
                <p:cNvSpPr/>
                <p:nvPr/>
              </p:nvSpPr>
              <p:spPr>
                <a:xfrm>
                  <a:off x="2978280" y="1128600"/>
                  <a:ext cx="169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Text Box 27"/>
                <p:cNvSpPr/>
                <p:nvPr/>
              </p:nvSpPr>
              <p:spPr>
                <a:xfrm>
                  <a:off x="2600280" y="952560"/>
                  <a:ext cx="733320" cy="21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Text Box 30"/>
                <p:cNvSpPr/>
                <p:nvPr/>
              </p:nvSpPr>
              <p:spPr>
                <a:xfrm>
                  <a:off x="1568520" y="1177920"/>
                  <a:ext cx="1331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Group 3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82" name="Rectangle 34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83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84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85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92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3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4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95" name="Object 47"/>
          <p:cNvGraphicFramePr/>
          <p:nvPr/>
        </p:nvGraphicFramePr>
        <p:xfrm>
          <a:off x="1147680" y="5943600"/>
          <a:ext cx="204336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943600"/>
                    <a:ext cx="20433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12T20:20:36Z</dcterms:modified>
  <cp:revision>37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