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DE7B397-6052-4758-9590-A231AF4B79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alileoandeinstein.physics.virginia.edu/more_stuff/flashlets/carn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CEBB0A1E-4CC7-4CD0-ACF2-5915EC158D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0" y="5178600"/>
            <a:ext cx="30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Lecture 1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7040" y="51786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48120" y="3243240"/>
            <a:ext cx="6066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y cancel, because the amount of heat needed to rais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from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constant volume equa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mount of heat needed to lower the temperature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constant volume*, even though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Note:  This is only valid for ideal gas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only independent of V for an ideal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8320" y="2257560"/>
            <a:ext cx="3787920" cy="266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03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7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446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468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476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480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98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0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534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5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6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9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10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554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555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580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582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589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603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Stirling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12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13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36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37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04720" y="3011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es 1 and 3 are irreversibl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isochoric heating and cool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: Cold gas touches hot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: Hot gas touches cold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44680" y="1674720"/>
            <a:ext cx="906480" cy="42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58320"/>
            <a:ext cx="858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chieve Carnot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100840" y="758880"/>
            <a:ext cx="4854600" cy="5055120"/>
            <a:chOff x="5100840" y="758880"/>
            <a:chExt cx="4854600" cy="5055120"/>
          </a:xfrm>
        </p:grpSpPr>
        <p:sp>
          <p:nvSpPr>
            <p:cNvPr id="661" name=""/>
            <p:cNvSpPr/>
            <p:nvPr/>
          </p:nvSpPr>
          <p:spPr>
            <a:xfrm>
              <a:off x="8377200" y="531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424120" y="2598480"/>
              <a:ext cx="0" cy="27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37080" y="5332320"/>
              <a:ext cx="34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2240" y="4842000"/>
              <a:ext cx="469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6160" y="4284720"/>
              <a:ext cx="94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35640" y="5305320"/>
              <a:ext cx="1737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b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a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00840" y="242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22960" y="769680"/>
              <a:ext cx="373248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59" y="21220"/>
                  </a:moveTo>
                  <a:arcTo wR="10800" hR="10800" stAng="6315115" swAng="3498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7959" y="21220"/>
                  </a:moveTo>
                  <a:arcTo wR="10800" hR="10800" stAng="6315115" swAng="3498494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789520" y="1269720"/>
              <a:ext cx="3736080" cy="37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05" y="21589"/>
                  </a:moveTo>
                  <a:arcTo wR="10800" hR="10800" stAng="5557570" swAng="336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05" y="21589"/>
                  </a:moveTo>
                  <a:arcTo wR="10800" hR="10800" stAng="5557570" swAng="3360135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14680" y="758880"/>
              <a:ext cx="3732840" cy="37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6" y="20258"/>
                  </a:moveTo>
                  <a:arcTo wR="10800" hR="10800" stAng="7131970" swAng="1745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6" y="20258"/>
                  </a:moveTo>
                  <a:arcTo wR="10800" hR="10800" stAng="7131970" swAng="1745341"/>
                </a:path>
              </a:pathLst>
            </a:custGeom>
            <a:noFill/>
            <a:ln w="19080">
              <a:solidFill>
                <a:srgbClr val="fafd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85920" y="1263240"/>
              <a:ext cx="373032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6" y="21395"/>
                  </a:moveTo>
                  <a:arcTo wR="10800" hR="10800" stAng="6070854" swAng="1119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6" y="21395"/>
                  </a:moveTo>
                  <a:arcTo wR="10800" hR="10800" stAng="6070854" swAng="1119238"/>
                </a:path>
              </a:pathLst>
            </a:custGeom>
            <a:noFill/>
            <a:ln w="1908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4400" y="3625920"/>
              <a:ext cx="0" cy="173196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84960" y="4968720"/>
              <a:ext cx="0" cy="3556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274800" y="403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42800" y="3738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9480" y="442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0800" y="48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6477120" y="1257480"/>
              <a:ext cx="1117800" cy="38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9" y="2197"/>
                  </a:moveTo>
                  <a:arcTo wR="10800" hR="10800" stAng="-3168282" swAng="2413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9" y="2197"/>
                  </a:moveTo>
                  <a:arcTo wR="10800" hR="10800" stAng="-3168282" swAng="241363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7156080" y="2543040"/>
              <a:ext cx="1149120" cy="290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3" y="3548"/>
                  </a:moveTo>
                  <a:arcTo wR="10800" hR="10800" stAng="-2530759" swAng="184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3" y="3548"/>
                  </a:moveTo>
                  <a:arcTo wR="10800" hR="10800" stAng="-2530759" swAng="1843974"/>
                </a:path>
              </a:pathLst>
            </a:custGeom>
            <a:noFill/>
            <a:ln w="1908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17960" y="4755960"/>
              <a:ext cx="0" cy="581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62560" y="4294080"/>
              <a:ext cx="0" cy="1050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11120" y="1579680"/>
            <a:ext cx="75369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chieve Carnot efficiency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must replace the isochors (irreversible)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reversible processe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Let’s use adiabatic processes, as show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Processes 1 and 3 are now adiabati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sses 2 and 4 are still isotherm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ycle is reversible, which mean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emains constant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ar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thermal cycle i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cyc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an engine that implements it is call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heat engin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687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22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36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71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3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78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 – 273/373 = 26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3009960" y="1311120"/>
          <a:ext cx="11462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311120"/>
                    <a:ext cx="1146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990720" y="1460520"/>
            <a:ext cx="1778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cyc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e Carnot cyc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(be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6400" y="4316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not engines are an idealization - impossible to realiz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require very slow processes, and perfect insulation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’s a net entropy increase, the efficiency is redu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2324160" y="5433840"/>
          <a:ext cx="27748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5433840"/>
                    <a:ext cx="277488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4969800" y="142416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energy is dump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o the cold reservoi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3097080" y="2201760"/>
          <a:ext cx="973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201760"/>
                    <a:ext cx="973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805120" y="3365640"/>
          <a:ext cx="155880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5120" y="3365640"/>
                    <a:ext cx="1558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5003640" y="2360520"/>
            <a:ext cx="286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annot be reduced to z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34240" y="35798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for reversible cy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Work and Free Ener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14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16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19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19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21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249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274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279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298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299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32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33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35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36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38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3T00:57:43Z</dcterms:modified>
  <cp:revision>2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