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10.wmf" ContentType="image/x-wmf"/>
  <Override PartName="/ppt/media/image12.jpeg" ContentType="image/jpeg"/>
  <Override PartName="/ppt/media/image8.wmf" ContentType="image/x-wmf"/>
  <Override PartName="/ppt/media/image17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9.png" ContentType="image/png"/>
  <Override PartName="/ppt/media/image22.jpeg" ContentType="image/jpeg"/>
  <Override PartName="/ppt/media/image16.wmf" ContentType="image/x-wmf"/>
  <Override PartName="/ppt/media/image18.wmf" ContentType="image/x-wmf"/>
  <Override PartName="/ppt/media/image19.wmf" ContentType="image/x-wmf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2B31B5A-018A-486E-95B1-BB4F56B1A3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798EC083-E75C-4652-AAA2-49579BAEB2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385000"/>
            <a:ext cx="71769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8160" y="597204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(with L=30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s only one micro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76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77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8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27200" y="558648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83240" y="491652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37120" y="557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y is that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35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352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385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410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454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456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71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328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84440" y="3811680"/>
            <a:ext cx="18478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77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6720" y="1345680"/>
            <a:ext cx="85298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84440" y="363996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84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91800" y="5891040"/>
            <a:ext cx="56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 =  (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)/(1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/K) = 6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16120" y="528624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497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54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55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70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71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78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79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6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87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589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597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99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0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1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3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614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19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22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4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25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632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636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637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42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3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50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0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2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1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6240" y="1795320"/>
            <a:ext cx="8578440" cy="2926080"/>
            <a:chOff x="336240" y="1795320"/>
            <a:chExt cx="8578440" cy="2926080"/>
          </a:xfrm>
        </p:grpSpPr>
        <p:sp>
          <p:nvSpPr>
            <p:cNvPr id="155" name="PlaceHolder 2"/>
            <p:cNvSpPr>
              <a:spLocks noGrp="1"/>
            </p:cNvSpPr>
            <p:nvPr>
              <p:ph/>
            </p:nvPr>
          </p:nvSpPr>
          <p:spPr>
            <a:xfrm>
              <a:off x="33624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1375200" y="272268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72268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8" name="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59" name="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2" name="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9" name="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4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5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6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207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222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231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236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41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48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49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0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4-02-18T01:14:03Z</dcterms:modified>
  <cp:revision>619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