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3.png" ContentType="image/png"/>
  <Override PartName="/ppt/media/image16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8F5CB6A-DF2C-4F7B-9960-6E3783D714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1D25B7A1-0E6D-40F6-8DE7-1B55F40D50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gn up for Conflict-conflict by Tuesday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48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49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50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53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53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55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57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589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7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600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611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62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4T00:34:19Z</dcterms:modified>
  <cp:revision>3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