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4C2810-E30B-48D4-918C-F5975E298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6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EB5DC9CF-50C7-49B8-B85D-01E38DB7030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9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302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3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4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5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6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7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8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5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4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6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27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328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9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3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4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5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558880" y="1531800"/>
            <a:ext cx="608976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half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V/2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1/2) = -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01680" y="2171880"/>
            <a:ext cx="1971720" cy="37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09600" y="4584600"/>
            <a:ext cx="1971720" cy="37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2584440" y="4140360"/>
            <a:ext cx="608976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ording to the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aw, the entropy of an isolated system must stay the same or increase.  Considering the (gas + environment) as the ‘system’, the reduction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matched by an increase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We will see later that for isothermal processes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 (i.e., they are reversible!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375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376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0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1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395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398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04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9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10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11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2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3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4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5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6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7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8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9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0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1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2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3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4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5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6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7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8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430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431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434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440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5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2549520" y="2979720"/>
            <a:ext cx="647064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twice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V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2) = 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282600" y="3029040"/>
            <a:ext cx="1971720" cy="39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888840" y="4635360"/>
            <a:ext cx="7232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 isothermal process (why?), but not quasi-static, i.e., the gas is not in equilibrium throughout the expansion.  In fact, the gas does not interact with the environment at all, so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oesn’t change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is is an irreversible expansion (the particles will never randomly all go back into the 1-liter box!)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1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452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453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4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5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6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7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8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9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0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1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2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3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4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5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6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7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8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9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471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472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75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0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81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6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87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88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9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0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507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508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511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6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517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2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24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25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6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7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4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5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6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7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8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9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0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1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2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4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5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6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7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49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0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551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9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0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1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2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6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7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8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9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0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1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2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4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6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77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8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9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0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5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01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02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603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26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27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628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9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30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631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632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633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634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635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0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1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642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643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4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5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646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647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0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1154160" y="1895400"/>
            <a:ext cx="718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STP, 1 mole of a gas occupies 22.4 liter.  Therefore, in 1 liter ther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N = 1 liter x (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2.4 liter) = 2.7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1310760" y="3157560"/>
            <a:ext cx="127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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1344600" y="4351320"/>
            <a:ext cx="645804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1/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^(3.7x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1.0 according to my calcula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1 + 2.5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ccording to Mathematic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lesson: the number of microstates increases   mind-bogglingly fast – that’s why the gas fills the spac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7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58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778320" y="2428920"/>
            <a:ext cx="457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holds, so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k = 13.8 J/K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776520" y="3728880"/>
            <a:ext cx="25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 /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0.07 K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767880" y="4906800"/>
            <a:ext cx="5565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U = 1/k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is almost constant here, so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kT = 1 J / (4.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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exponential of this, a gigantic number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6594840" y="5030640"/>
            <a:ext cx="2261520" cy="978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8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4 J/K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3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78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679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80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681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2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3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4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5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6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7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8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9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0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1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2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3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4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5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6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7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8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00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01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02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03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04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12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9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20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7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28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35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9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40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44" name="Object 65"/>
          <p:cNvGraphicFramePr/>
          <p:nvPr/>
        </p:nvGraphicFramePr>
        <p:xfrm>
          <a:off x="1122480" y="4095720"/>
          <a:ext cx="3797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095720"/>
                    <a:ext cx="3797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Object 69"/>
          <p:cNvGraphicFramePr/>
          <p:nvPr/>
        </p:nvGraphicFramePr>
        <p:xfrm>
          <a:off x="1147680" y="5135400"/>
          <a:ext cx="32050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7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135400"/>
                    <a:ext cx="3205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Text Box 70"/>
          <p:cNvSpPr/>
          <p:nvPr/>
        </p:nvSpPr>
        <p:spPr>
          <a:xfrm>
            <a:off x="962280" y="5902200"/>
            <a:ext cx="4540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ter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49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750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51" name="Group 73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752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3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4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5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6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7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8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9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0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1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2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3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4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5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6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7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8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9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92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71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72" name="Group 94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73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74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75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83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0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91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8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99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06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8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9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0" name="Text Box 132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1" name="Text Box 133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1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1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21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3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2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2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29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30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1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2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833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4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35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836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37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38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9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0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1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2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3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4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5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6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7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8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9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0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95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896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7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899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0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902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3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4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56"/>
          <p:cNvSpPr/>
          <p:nvPr/>
        </p:nvSpPr>
        <p:spPr>
          <a:xfrm>
            <a:off x="1626840" y="2273400"/>
            <a:ext cx="37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100 on table) = 0.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7.9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Rectangle 60"/>
          <p:cNvSpPr/>
          <p:nvPr/>
        </p:nvSpPr>
        <p:spPr>
          <a:xfrm>
            <a:off x="1012680" y="3979800"/>
            <a:ext cx="74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e macrostate, and we want to know how many microstates correspond to it.  There are three part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how many ways to have a 70/30 split:    100!/(70!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many ways for the 7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how many ways for the 3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fore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70 on table)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l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n[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 = 100 ln 2 + ln(100!) – ln(70!) – ln(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We’ll see later that ln x!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≈ x ln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x}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3" name="Group 62"/>
          <p:cNvGrpSpPr/>
          <p:nvPr/>
        </p:nvGrpSpPr>
        <p:grpSpPr>
          <a:xfrm>
            <a:off x="442800" y="949320"/>
            <a:ext cx="7756560" cy="4771080"/>
            <a:chOff x="442800" y="949320"/>
            <a:chExt cx="7756560" cy="4771080"/>
          </a:xfrm>
        </p:grpSpPr>
        <p:grpSp>
          <p:nvGrpSpPr>
            <p:cNvPr id="164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65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66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67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74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81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88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95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2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3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6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Text Box 60"/>
            <p:cNvSpPr/>
            <p:nvPr/>
          </p:nvSpPr>
          <p:spPr>
            <a:xfrm>
              <a:off x="442800" y="1093680"/>
              <a:ext cx="7756560" cy="46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4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9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30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.7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.6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to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0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" name="Text Box 63"/>
          <p:cNvSpPr/>
          <p:nvPr/>
        </p:nvSpPr>
        <p:spPr>
          <a:xfrm>
            <a:off x="734040" y="5618160"/>
            <a:ext cx="6253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 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&lt;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1*25 + 2*32 + 3*27 + 4*16 + 5*5) / 105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59/105 = 2.47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Text Box 64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19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220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2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4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228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9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0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37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38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39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40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47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827600" y="915840"/>
            <a:ext cx="1698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probable 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ln(32) = 3.47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" name="Group 5"/>
          <p:cNvGrpSpPr/>
          <p:nvPr/>
        </p:nvGrpSpPr>
        <p:grpSpPr>
          <a:xfrm>
            <a:off x="3944880" y="1141560"/>
            <a:ext cx="776520" cy="198360"/>
            <a:chOff x="3944880" y="1141560"/>
            <a:chExt cx="776520" cy="198360"/>
          </a:xfrm>
        </p:grpSpPr>
        <p:sp>
          <p:nvSpPr>
            <p:cNvPr id="254" name="Line 6"/>
            <p:cNvSpPr/>
            <p:nvPr/>
          </p:nvSpPr>
          <p:spPr>
            <a:xfrm>
              <a:off x="3944880" y="1141560"/>
              <a:ext cx="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>
              <a:off x="3944880" y="1141560"/>
              <a:ext cx="77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57" name="Group 9"/>
            <p:cNvGrpSpPr/>
            <p:nvPr/>
          </p:nvGrpSpPr>
          <p:grpSpPr>
            <a:xfrm>
              <a:off x="3449520" y="1433520"/>
              <a:ext cx="1835280" cy="1355760"/>
              <a:chOff x="3449520" y="1433520"/>
              <a:chExt cx="1835280" cy="1355760"/>
            </a:xfrm>
          </p:grpSpPr>
          <p:sp>
            <p:nvSpPr>
              <p:cNvPr id="258" name="Oval 22"/>
              <p:cNvSpPr/>
              <p:nvPr/>
            </p:nvSpPr>
            <p:spPr>
              <a:xfrm>
                <a:off x="3449520" y="1731960"/>
                <a:ext cx="14148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9" name="Oval 23"/>
              <p:cNvSpPr/>
              <p:nvPr/>
            </p:nvSpPr>
            <p:spPr>
              <a:xfrm>
                <a:off x="3873600" y="1433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0" name="Oval 24"/>
              <p:cNvSpPr/>
              <p:nvPr/>
            </p:nvSpPr>
            <p:spPr>
              <a:xfrm>
                <a:off x="4297320" y="1681200"/>
                <a:ext cx="139680" cy="133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1" name="Oval 25"/>
              <p:cNvSpPr/>
              <p:nvPr/>
            </p:nvSpPr>
            <p:spPr>
              <a:xfrm>
                <a:off x="4719600" y="2209680"/>
                <a:ext cx="141480" cy="133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2" name="Oval 26"/>
              <p:cNvSpPr/>
              <p:nvPr/>
            </p:nvSpPr>
            <p:spPr>
              <a:xfrm>
                <a:off x="5143680" y="2657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5"/>
            <p:cNvGrpSpPr/>
            <p:nvPr/>
          </p:nvGrpSpPr>
          <p:grpSpPr>
            <a:xfrm>
              <a:off x="1568520" y="864720"/>
              <a:ext cx="4516200" cy="2538000"/>
              <a:chOff x="1568520" y="864720"/>
              <a:chExt cx="4516200" cy="2538000"/>
            </a:xfrm>
          </p:grpSpPr>
          <p:grpSp>
            <p:nvGrpSpPr>
              <p:cNvPr id="264" name="Group 16"/>
              <p:cNvGrpSpPr/>
              <p:nvPr/>
            </p:nvGrpSpPr>
            <p:grpSpPr>
              <a:xfrm>
                <a:off x="3048120" y="2914560"/>
                <a:ext cx="3036600" cy="488160"/>
                <a:chOff x="3048120" y="2914560"/>
                <a:chExt cx="3036600" cy="488160"/>
              </a:xfrm>
            </p:grpSpPr>
            <p:sp>
              <p:nvSpPr>
                <p:cNvPr id="265" name="Text Box 9"/>
                <p:cNvSpPr/>
                <p:nvPr/>
              </p:nvSpPr>
              <p:spPr>
                <a:xfrm>
                  <a:off x="5380200" y="3009960"/>
                  <a:ext cx="704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11"/>
                <p:cNvSpPr/>
                <p:nvPr/>
              </p:nvSpPr>
              <p:spPr>
                <a:xfrm>
                  <a:off x="3048120" y="2978280"/>
                  <a:ext cx="2539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3"/>
                <p:cNvSpPr/>
                <p:nvPr/>
              </p:nvSpPr>
              <p:spPr>
                <a:xfrm>
                  <a:off x="39178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4"/>
                <p:cNvSpPr/>
                <p:nvPr/>
              </p:nvSpPr>
              <p:spPr>
                <a:xfrm>
                  <a:off x="43419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5"/>
                <p:cNvSpPr/>
                <p:nvPr/>
              </p:nvSpPr>
              <p:spPr>
                <a:xfrm>
                  <a:off x="47656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6"/>
                <p:cNvSpPr/>
                <p:nvPr/>
              </p:nvSpPr>
              <p:spPr>
                <a:xfrm>
                  <a:off x="519120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Text Box 28"/>
                <p:cNvSpPr/>
                <p:nvPr/>
              </p:nvSpPr>
              <p:spPr>
                <a:xfrm>
                  <a:off x="3338640" y="3095640"/>
                  <a:ext cx="215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ctr" pos="460440"/>
                      <a:tab algn="ctr" pos="914400"/>
                      <a:tab algn="ctr" pos="1314360"/>
                      <a:tab algn="ctr" pos="1768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24"/>
              <p:cNvGrpSpPr/>
              <p:nvPr/>
            </p:nvGrpSpPr>
            <p:grpSpPr>
              <a:xfrm>
                <a:off x="1568520" y="864720"/>
                <a:ext cx="1925640" cy="2269800"/>
                <a:chOff x="1568520" y="864720"/>
                <a:chExt cx="1925640" cy="2269800"/>
              </a:xfrm>
            </p:grpSpPr>
            <p:sp>
              <p:nvSpPr>
                <p:cNvPr id="273" name="Line 10"/>
                <p:cNvSpPr/>
                <p:nvPr/>
              </p:nvSpPr>
              <p:spPr>
                <a:xfrm flipV="1">
                  <a:off x="3068640" y="864720"/>
                  <a:ext cx="0" cy="211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12"/>
                <p:cNvSpPr/>
                <p:nvPr/>
              </p:nvSpPr>
              <p:spPr>
                <a:xfrm>
                  <a:off x="34941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7"/>
                <p:cNvSpPr/>
                <p:nvPr/>
              </p:nvSpPr>
              <p:spPr>
                <a:xfrm>
                  <a:off x="2982960" y="25052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8"/>
                <p:cNvSpPr/>
                <p:nvPr/>
              </p:nvSpPr>
              <p:spPr>
                <a:xfrm>
                  <a:off x="2982960" y="202716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9"/>
                <p:cNvSpPr/>
                <p:nvPr/>
              </p:nvSpPr>
              <p:spPr>
                <a:xfrm>
                  <a:off x="2982960" y="15476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20"/>
                <p:cNvSpPr/>
                <p:nvPr/>
              </p:nvSpPr>
              <p:spPr>
                <a:xfrm>
                  <a:off x="2978280" y="1128600"/>
                  <a:ext cx="16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27"/>
                <p:cNvSpPr/>
                <p:nvPr/>
              </p:nvSpPr>
              <p:spPr>
                <a:xfrm>
                  <a:off x="2600280" y="952560"/>
                  <a:ext cx="733320" cy="21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Text Box 30"/>
                <p:cNvSpPr/>
                <p:nvPr/>
              </p:nvSpPr>
              <p:spPr>
                <a:xfrm>
                  <a:off x="1568520" y="1177920"/>
                  <a:ext cx="13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Group 3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82" name="Rectangle 34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83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84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85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92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5" name="Object 47"/>
          <p:cNvGraphicFramePr/>
          <p:nvPr/>
        </p:nvGraphicFramePr>
        <p:xfrm>
          <a:off x="1147680" y="5943600"/>
          <a:ext cx="2043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943600"/>
                    <a:ext cx="2043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1T17:05:05Z</dcterms:modified>
  <cp:revision>37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