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10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1582A72-052B-4EC9-BE96-FE6C8F2B74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3B9FD281-5FEE-46DF-AC3A-79D5677C47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175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200040" y="62640"/>
            <a:ext cx="271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185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Text Box 14"/>
          <p:cNvSpPr/>
          <p:nvPr/>
        </p:nvSpPr>
        <p:spPr>
          <a:xfrm>
            <a:off x="223560" y="6404040"/>
            <a:ext cx="5241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because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4000" y="3384720"/>
            <a:ext cx="1468440" cy="536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50800" y="4035600"/>
            <a:ext cx="752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This is an irreversible process, so there must be a net increase in entropy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Let’s calculat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544840" y="4433760"/>
          <a:ext cx="40482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4840" y="4433760"/>
                    <a:ext cx="40482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578920" y="5076720"/>
            <a:ext cx="25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ositive term is slight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gger than the negative term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201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214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216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4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247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259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8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296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310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311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12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313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1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3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4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346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348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1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362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363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64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399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424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429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448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449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472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473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494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499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1360" y="3263760"/>
            <a:ext cx="52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 1 is obvious, since we’re heating the g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isothermal expansion (process 2), although the temperature is kept consta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still have to put heat in to do the work from the expan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6680" y="2297160"/>
            <a:ext cx="116208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518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519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540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545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561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576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593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608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625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637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639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1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6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673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8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4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693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694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5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63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85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94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2040" y="5122800"/>
            <a:ext cx="74851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no work or heat flow, so U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s constant. 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T is consta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owever, because the volume increases, so does the number of available states,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nd therefore 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ncreases.  Nothing is happening to the environme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for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&gt; 0.  This is not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4562640"/>
            <a:ext cx="152064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111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119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123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143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145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152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159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166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20T04:00:17Z</dcterms:modified>
  <cp:revision>27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