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C4C24E86-8749-4C6C-8796-09BB056ED6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04040" y="231840"/>
            <a:ext cx="1686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F368E8C0-5FDE-4754-A0F1-3F10EFB0507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23560" y="1265400"/>
            <a:ext cx="741204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day Apr. 14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Apr. 13, 3-5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Apr. 17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191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192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196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08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09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13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22" name="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6" name="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27" name="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32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33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37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46" name="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0" name="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51" name="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716040" y="5460840"/>
            <a:ext cx="7151760" cy="679320"/>
            <a:chOff x="716040" y="5460840"/>
            <a:chExt cx="7151760" cy="679320"/>
          </a:xfrm>
        </p:grpSpPr>
        <p:grpSp>
          <p:nvGrpSpPr>
            <p:cNvPr id="254" name=""/>
            <p:cNvGrpSpPr/>
            <p:nvPr/>
          </p:nvGrpSpPr>
          <p:grpSpPr>
            <a:xfrm>
              <a:off x="716040" y="5460840"/>
              <a:ext cx="7151760" cy="679320"/>
              <a:chOff x="716040" y="5460840"/>
              <a:chExt cx="7151760" cy="679320"/>
            </a:xfrm>
          </p:grpSpPr>
          <mc:AlternateContent>
            <mc:Choice xmlns:a14="http://schemas.microsoft.com/office/drawing/2010/main" Requires="a14">
              <p:sp>
                <p:nvSpPr>
                  <p:cNvPr id="255" name=""/>
                  <p:cNvSpPr txBox="1"/>
                  <p:nvPr/>
                </p:nvSpPr>
                <p:spPr>
                  <a:xfrm>
                    <a:off x="716040" y="5460840"/>
                    <a:ext cx="3625920" cy="67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6" name=""/>
                  <p:cNvSpPr txBox="1"/>
                  <p:nvPr/>
                </p:nvSpPr>
                <p:spPr>
                  <a:xfrm>
                    <a:off x="4124160" y="5470200"/>
                    <a:ext cx="2764080" cy="60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f>
                                <m:num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num>
                                <m:den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85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den>
                              </m:f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7" name=""/>
                  <p:cNvSpPr txBox="1"/>
                  <p:nvPr/>
                </p:nvSpPr>
                <p:spPr>
                  <a:xfrm>
                    <a:off x="6280200" y="5626080"/>
                    <a:ext cx="158760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7</m:t>
                              </m:r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58" name=""/>
            <p:cNvSpPr/>
            <p:nvPr/>
          </p:nvSpPr>
          <p:spPr>
            <a:xfrm>
              <a:off x="6854760" y="5595840"/>
              <a:ext cx="687600" cy="406440"/>
            </a:xfrm>
            <a:prstGeom prst="rect">
              <a:avLst/>
            </a:prstGeom>
            <a:noFill/>
            <a:ln w="1260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63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64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80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81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99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00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320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21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9960" y="5440320"/>
            <a:ext cx="75470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T decreases, there is less chance to find the molecule with energ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because that’s the highest E. The ratio of its probability to that of every other state always decreases as T increa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55600" y="5014800"/>
            <a:ext cx="144144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4000"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3" name="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344" name="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358" name="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365" name="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366" name="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369" name="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372" name="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375" name="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378" name="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381" name="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384" name="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387" name="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390" name="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393" name="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5" name="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8" name="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399" name="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2119320" y="3604680"/>
            <a:ext cx="2779560" cy="865440"/>
            <a:chOff x="2119320" y="3604680"/>
            <a:chExt cx="2779560" cy="865440"/>
          </a:xfrm>
        </p:grpSpPr>
        <p:grpSp>
          <p:nvGrpSpPr>
            <p:cNvPr id="406" name=""/>
            <p:cNvGrpSpPr/>
            <p:nvPr/>
          </p:nvGrpSpPr>
          <p:grpSpPr>
            <a:xfrm>
              <a:off x="2662200" y="3671640"/>
              <a:ext cx="2236680" cy="798480"/>
              <a:chOff x="2662200" y="36716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407" name=""/>
                  <p:cNvSpPr txBox="1"/>
                  <p:nvPr/>
                </p:nvSpPr>
                <p:spPr>
                  <a:xfrm>
                    <a:off x="3844800" y="36716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8" name=""/>
                  <p:cNvSpPr txBox="1"/>
                  <p:nvPr/>
                </p:nvSpPr>
                <p:spPr>
                  <a:xfrm>
                    <a:off x="3867120" y="41731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9" name=""/>
              <p:cNvSpPr/>
              <p:nvPr/>
            </p:nvSpPr>
            <p:spPr>
              <a:xfrm flipH="1">
                <a:off x="2776320" y="43052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2776320" y="37908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2662200" y="42098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681280" y="37144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2119320" y="3604680"/>
              <a:ext cx="401760" cy="824040"/>
              <a:chOff x="2119320" y="3604680"/>
              <a:chExt cx="401760" cy="824040"/>
            </a:xfrm>
          </p:grpSpPr>
          <p:sp>
            <p:nvSpPr>
              <p:cNvPr id="414" name=""/>
              <p:cNvSpPr/>
              <p:nvPr/>
            </p:nvSpPr>
            <p:spPr>
              <a:xfrm flipV="1">
                <a:off x="2489400" y="36046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119320" y="38588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97000" y="2161080"/>
            <a:ext cx="70819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lement: Proof of equipartition, showing its limi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9" name="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52" name="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8120" y="971640"/>
            <a:ext cx="63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using Boltzmann fac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424" name="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6" name="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8" name="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514080" y="4400280"/>
            <a:ext cx="6815160" cy="1991520"/>
            <a:chOff x="514080" y="4400280"/>
            <a:chExt cx="6815160" cy="1991520"/>
          </a:xfrm>
        </p:grpSpPr>
        <p:sp>
          <p:nvSpPr>
            <p:cNvPr id="436" name="PlaceHolder 1"/>
            <p:cNvSpPr>
              <a:spLocks noGrp="1"/>
            </p:cNvSpPr>
            <p:nvPr>
              <p:ph/>
            </p:nvPr>
          </p:nvSpPr>
          <p:spPr>
            <a:xfrm>
              <a:off x="514080" y="440028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indent="0">
                <a:lnSpc>
                  <a:spcPct val="9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38" name="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40" name="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441" name="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0160" y="4148280"/>
            <a:ext cx="567000" cy="36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560" y="4714920"/>
            <a:ext cx="8193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very spin is stuck in the lowest-energy state, aligned with the fie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 general result: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 </a:t>
            </a: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realistic system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(even a big one)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 are only one or two ground states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s T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:  S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The third law” of thermodynam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04920" y="5794200"/>
            <a:ext cx="3560760" cy="668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96240" y="57240"/>
            <a:ext cx="5953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Spin alignm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87040" y="572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5040" y="2538360"/>
            <a:ext cx="6800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you take ratios of probabilities, the normalization factor cance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1096920" y="3006720"/>
          <a:ext cx="3824280" cy="11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3006720"/>
                    <a:ext cx="38242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"/>
          <p:cNvSpPr/>
          <p:nvPr/>
        </p:nvSpPr>
        <p:spPr>
          <a:xfrm>
            <a:off x="1006560" y="4889520"/>
            <a:ext cx="758916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smaller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y a factor of 658, so B must be larger by that fac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= 9.9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make 150 T fields (not easily), but not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’s as large as the field of some neutron sta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4000" y="3836880"/>
            <a:ext cx="20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ical MRI field ~ 2 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396720" y="1103040"/>
            <a:ext cx="8578800" cy="2925720"/>
            <a:chOff x="396720" y="1103040"/>
            <a:chExt cx="8578800" cy="2925720"/>
          </a:xfrm>
        </p:grpSpPr>
        <p:sp>
          <p:nvSpPr>
            <p:cNvPr id="491" name="PlaceHolder 2"/>
            <p:cNvSpPr>
              <a:spLocks noGrp="1"/>
            </p:cNvSpPr>
            <p:nvPr>
              <p:ph/>
            </p:nvPr>
          </p:nvSpPr>
          <p:spPr>
            <a:xfrm>
              <a:off x="396720" y="1103040"/>
              <a:ext cx="8578800" cy="2925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 (see Appendix)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92" name=""/>
            <p:cNvGraphicFramePr/>
            <p:nvPr/>
          </p:nvGraphicFramePr>
          <p:xfrm>
            <a:off x="1435320" y="2030400"/>
            <a:ext cx="532008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35320" y="2030400"/>
                      <a:ext cx="532008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366920" y="2616840"/>
            <a:ext cx="717696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see next lecture)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502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4" name="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 every quantum stat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for each part 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just add all the par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Boltzmann factor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3000" y="1058760"/>
            <a:ext cx="847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can exchange energy, volume, particles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0" name="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11120" y="4906800"/>
            <a:ext cx="522612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59360" y="3236760"/>
            <a:ext cx="336384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280" y="4924440"/>
            <a:ext cx="901872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1" name="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0" name="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37560" y="225432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178760" y="3187800"/>
          <a:ext cx="196524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8760" y="3187800"/>
                    <a:ext cx="1965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061040" y="1460520"/>
          <a:ext cx="168300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61040" y="1460520"/>
                    <a:ext cx="1683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38" name="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85720" y="3052800"/>
          <a:ext cx="12556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20" y="3052800"/>
                    <a:ext cx="12556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2240" y="1612800"/>
            <a:ext cx="6964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274760" y="3602160"/>
          <a:ext cx="3807000" cy="92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02160"/>
                    <a:ext cx="38070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4-05T20:08:34Z</dcterms:modified>
  <cp:revision>31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