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CD5387E-DADD-42EC-BCB5-C3D66903A6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7A8F425B-BE24-4048-9377-F996EC2854A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26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30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50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74880" y="6300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45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5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resistance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34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35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42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50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6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4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476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477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478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7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80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74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7" name="Object 10"/>
          <p:cNvGraphicFramePr/>
          <p:nvPr/>
        </p:nvGraphicFramePr>
        <p:xfrm>
          <a:off x="793800" y="3662280"/>
          <a:ext cx="2293920" cy="9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3662280"/>
                    <a:ext cx="2293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80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81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88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89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90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93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96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97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9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00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06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4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29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48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66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8T14:52:49Z</dcterms:modified>
  <cp:revision>5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