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00F8E2D4-82DB-4684-A202-5E453A34DB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chalk dust –floats; erasers don’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with He: show that v goes like 1/sqrt(m).  And v_sound ~ v.  So, if we blow into a pipe with He (4) instead of N2 (28), we expect a higher pitch [by sqrt(28/4), though it doesn’t work out precisely that wa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87BC5182-9930-42FA-9592-753780F7BED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5E91802F-4B65-46A7-ADA9-85DCA4FCDEF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0240" y="4175280"/>
            <a:ext cx="7296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an ideal gas, the molecules are  non-interacting except for occasional elastic collisions, so the motion of an individual molecule does not depend on the oth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otal collision rate is proportional to N, but the rate per molecule is independent of 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68000" y="66600"/>
            <a:ext cx="2721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4280" y="3317760"/>
            <a:ext cx="866520" cy="462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67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71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6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2840" y="2678040"/>
            <a:ext cx="128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352680" y="3059280"/>
                <a:ext cx="4006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6224760" y="3056040"/>
            <a:ext cx="1144440" cy="3841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403280" y="2978280"/>
                <a:ext cx="18925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941760" y="4019400"/>
            <a:ext cx="30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s is a LOT of energy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71680" y="5513400"/>
            <a:ext cx="1535040" cy="45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77960" y="5986440"/>
            <a:ext cx="5637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we have defined it thus far, the temperature depends only on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ranslational kinetic energ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76240" y="60912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V = Nk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01560" y="1064880"/>
            <a:ext cx="825048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166680" y="65160"/>
            <a:ext cx="880416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39960" y="2205000"/>
          <a:ext cx="649764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205000"/>
                    <a:ext cx="64976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5465880" y="2417760"/>
            <a:ext cx="1990440" cy="351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11240" y="5032440"/>
          <a:ext cx="593712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5032440"/>
                    <a:ext cx="59371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934920" y="3670200"/>
          <a:ext cx="71326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3670200"/>
                    <a:ext cx="7132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7081920" y="3656160"/>
            <a:ext cx="915840" cy="39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54840" y="5713560"/>
            <a:ext cx="936360" cy="366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329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331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335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8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1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Solution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9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92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1776240" y="1878120"/>
            <a:ext cx="59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enter of mass velocity of this “large particle” is given by the Equipartition Theore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662440" y="2300400"/>
          <a:ext cx="19098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2440" y="2300400"/>
                    <a:ext cx="190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955880" y="4249800"/>
          <a:ext cx="589428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5880" y="4249800"/>
                    <a:ext cx="58942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585600" y="698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9880" y="3092400"/>
            <a:ext cx="827892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of translational kinetic energy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rotational energy of nitrogen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ecules is not important he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4/28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lium doesn’t form molecu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28/4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.6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 = mv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 so the speed ratio is the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verse square root of the mas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of sound speed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ould be approximat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ctual ratio of sound speeds is 2.76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as thi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33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3-13T17:26:04Z</dcterms:modified>
  <cp:revision>33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