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19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1.png" ContentType="image/png"/>
  <Override PartName="/ppt/media/image14.wmf" ContentType="image/x-wmf"/>
  <Override PartName="/ppt/media/image33.png" ContentType="image/png"/>
  <Override PartName="/ppt/media/image16.wmf" ContentType="image/x-wmf"/>
  <Override PartName="/ppt/media/image29.jpeg" ContentType="image/jpeg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C973B0F-90D5-4659-BF27-6CF240FEA7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04040" y="23184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lecture is about 5-10 minutes too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ith heat g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ompare with metal 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heel (I’d skip i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8380BCC7-D646-4759-AE76-4E8467C74C5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Nov. 11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gn up for Conflict-conflict by Tuesday n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Nov. 10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Nov. 14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1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2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08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09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13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6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27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32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33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37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51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16040" y="5460840"/>
            <a:ext cx="7151760" cy="679320"/>
            <a:chOff x="716040" y="5460840"/>
            <a:chExt cx="7151760" cy="679320"/>
          </a:xfrm>
        </p:grpSpPr>
        <p:grpSp>
          <p:nvGrpSpPr>
            <p:cNvPr id="254" name=""/>
            <p:cNvGrpSpPr/>
            <p:nvPr/>
          </p:nvGrpSpPr>
          <p:grpSpPr>
            <a:xfrm>
              <a:off x="716040" y="5460840"/>
              <a:ext cx="7151760" cy="679320"/>
              <a:chOff x="716040" y="5460840"/>
              <a:chExt cx="7151760" cy="679320"/>
            </a:xfrm>
          </p:grpSpPr>
          <mc:AlternateContent>
            <mc:Choice xmlns:a14="http://schemas.microsoft.com/office/drawing/2010/main" Requires="a14">
              <p:sp>
                <p:nvSpPr>
                  <p:cNvPr id="255" name=""/>
                  <p:cNvSpPr txBox="1"/>
                  <p:nvPr/>
                </p:nvSpPr>
                <p:spPr>
                  <a:xfrm>
                    <a:off x="716040" y="5460840"/>
                    <a:ext cx="3625920" cy="67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6" name=""/>
                  <p:cNvSpPr txBox="1"/>
                  <p:nvPr/>
                </p:nvSpPr>
                <p:spPr>
                  <a:xfrm>
                    <a:off x="4124160" y="5470200"/>
                    <a:ext cx="2764080" cy="60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5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den>
                              </m:f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6280200" y="5626080"/>
                    <a:ext cx="1587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7</m:t>
                              </m:r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8" name=""/>
            <p:cNvSpPr/>
            <p:nvPr/>
          </p:nvSpPr>
          <p:spPr>
            <a:xfrm>
              <a:off x="6854760" y="5595840"/>
              <a:ext cx="687600" cy="406440"/>
            </a:xfrm>
            <a:prstGeom prst="rect">
              <a:avLst/>
            </a:prstGeom>
            <a:noFill/>
            <a:ln w="1260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6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6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8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8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99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00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2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2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9960" y="5440320"/>
            <a:ext cx="7547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T decreases, there is less chance to find the molecule with energ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because that’s the highest E. The ratio of its probability to that of every other state always decreases as T increa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55600" y="5014800"/>
            <a:ext cx="144144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3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344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358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365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366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369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372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375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378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381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384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387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390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393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5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8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399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2119320" y="3585960"/>
            <a:ext cx="2779560" cy="865440"/>
            <a:chOff x="2119320" y="3585960"/>
            <a:chExt cx="2779560" cy="865440"/>
          </a:xfrm>
        </p:grpSpPr>
        <p:grpSp>
          <p:nvGrpSpPr>
            <p:cNvPr id="406" name=""/>
            <p:cNvGrpSpPr/>
            <p:nvPr/>
          </p:nvGrpSpPr>
          <p:grpSpPr>
            <a:xfrm>
              <a:off x="2662200" y="3652920"/>
              <a:ext cx="2236680" cy="798480"/>
              <a:chOff x="2662200" y="365292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407" name=""/>
                  <p:cNvSpPr txBox="1"/>
                  <p:nvPr/>
                </p:nvSpPr>
                <p:spPr>
                  <a:xfrm>
                    <a:off x="3844800" y="365292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8" name=""/>
                  <p:cNvSpPr txBox="1"/>
                  <p:nvPr/>
                </p:nvSpPr>
                <p:spPr>
                  <a:xfrm>
                    <a:off x="3867120" y="415440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9" name=""/>
              <p:cNvSpPr/>
              <p:nvPr/>
            </p:nvSpPr>
            <p:spPr>
              <a:xfrm flipH="1">
                <a:off x="2776320" y="428652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2776320" y="377208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2662200" y="419112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81280" y="369576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119320" y="3585960"/>
              <a:ext cx="401760" cy="824040"/>
              <a:chOff x="2119320" y="3585960"/>
              <a:chExt cx="401760" cy="824040"/>
            </a:xfrm>
          </p:grpSpPr>
          <p:sp>
            <p:nvSpPr>
              <p:cNvPr id="414" name=""/>
              <p:cNvSpPr/>
              <p:nvPr/>
            </p:nvSpPr>
            <p:spPr>
              <a:xfrm flipV="1">
                <a:off x="2489400" y="358596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119320" y="384012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lement: Proof of equipartition, showing its lim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9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2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424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6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8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436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8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40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441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0160" y="4148280"/>
            <a:ext cx="567000" cy="36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560" y="4714920"/>
            <a:ext cx="819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very spin is stuck in the lowest-energy state, aligned with the fie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 general result: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alistic system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(even a big one)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 are only one or two ground states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s T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:  S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The third law” of thermodynam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04920" y="5794200"/>
            <a:ext cx="3560760" cy="668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72920" y="1083960"/>
            <a:ext cx="7894440" cy="2925720"/>
            <a:chOff x="772920" y="1083960"/>
            <a:chExt cx="7894440" cy="2925720"/>
          </a:xfrm>
        </p:grpSpPr>
        <p:sp>
          <p:nvSpPr>
            <p:cNvPr id="482" name="PlaceHolder 2"/>
            <p:cNvSpPr>
              <a:spLocks noGrp="1"/>
            </p:cNvSpPr>
            <p:nvPr>
              <p:ph/>
            </p:nvPr>
          </p:nvSpPr>
          <p:spPr>
            <a:xfrm>
              <a:off x="772920" y="1083960"/>
              <a:ext cx="789444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83" name=""/>
            <p:cNvGraphicFramePr/>
            <p:nvPr/>
          </p:nvGraphicFramePr>
          <p:xfrm>
            <a:off x="1728720" y="2011320"/>
            <a:ext cx="489564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28720" y="2011320"/>
                      <a:ext cx="489564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1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492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503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516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536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539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6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559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578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366920" y="2339280"/>
            <a:ext cx="717696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ck Distribution of Electromagnetic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589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6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7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600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01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611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4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,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623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04T00:34:19Z</dcterms:modified>
  <cp:revision>30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