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70280" y="88549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6795B049-9215-42C1-BE6A-6D6DB858EE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576520" y="222120"/>
            <a:ext cx="177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4A066136-2CBE-4D21-AD2F-856BCFF6B8F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18680" y="68040"/>
            <a:ext cx="623412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iscellaneous Not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857160" y="3339000"/>
            <a:ext cx="828684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end is near – don’t get behi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PHYS 21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exam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times are 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8-10 AM, Friday, Dec.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Wednesday, Dec. 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6 is due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, Dec. 10 at  8 am. (NO late turn-i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2 bonus points (accessible in ByteShelf, but not until Dec. 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87480" y="735120"/>
            <a:ext cx="330984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1184400" y="4637160"/>
            <a:ext cx="77216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igher T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igher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crease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decre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s sense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atoms have enough thermal energy to le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57320" y="4105440"/>
            <a:ext cx="133344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062240" y="5173560"/>
          <a:ext cx="13338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2240" y="5173560"/>
                    <a:ext cx="13338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4640" y="2658960"/>
            <a:ext cx="720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s: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lung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 @ S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tm;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05 atm;   f(lungs) = 2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92040" y="1136520"/>
            <a:ext cx="8197920" cy="40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2/3 in the lungs (wher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19 atm).  That is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mpirically, 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/3, so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235480" y="2004840"/>
          <a:ext cx="169236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2004840"/>
                    <a:ext cx="169236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3719520" y="2970360"/>
          <a:ext cx="1106640" cy="3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9520" y="2970360"/>
                    <a:ext cx="110664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805120" y="3656160"/>
          <a:ext cx="1971720" cy="35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05120" y="3656160"/>
                    <a:ext cx="197172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786040" y="342576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42576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42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43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285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287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26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27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3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3400" y="4381560"/>
            <a:ext cx="720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ergy transfer to cause the transition had to come from/go to somewhere, decreasing or increasing the entropy of THAT.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 applies to the total entropy of everything involved in the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4840" y="2971800"/>
            <a:ext cx="7446960" cy="709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7720" y="3800520"/>
            <a:ext cx="7446960" cy="4651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0640" y="5665680"/>
            <a:ext cx="7209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’m not sure if this is tru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: the universe is expanding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entropy as things sprea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gainst: black holes (but even they evaporate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55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56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366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376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8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379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48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49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4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78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79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1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7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11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12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13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17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8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19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22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3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24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27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29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32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3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34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37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8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39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1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42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3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44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6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47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8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49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1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5" name="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ltzmann facto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0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3" name="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174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3"/>
            <p:cNvSpPr/>
            <p:nvPr/>
          </p:nvSpPr>
          <p:spPr>
            <a:xfrm>
              <a:off x="5488200" y="4307040"/>
              <a:ext cx="1282680" cy="1333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4"/>
            <p:cNvSpPr/>
            <p:nvPr/>
          </p:nvSpPr>
          <p:spPr>
            <a:xfrm>
              <a:off x="5489640" y="4292640"/>
              <a:ext cx="2793960" cy="133344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5"/>
            <p:cNvSpPr/>
            <p:nvPr/>
          </p:nvSpPr>
          <p:spPr>
            <a:xfrm>
              <a:off x="5500800" y="4622760"/>
              <a:ext cx="2679840" cy="1015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604800" y="66600"/>
            <a:ext cx="7900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640" y="3500280"/>
          <a:ext cx="7419960" cy="16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3500280"/>
                    <a:ext cx="741996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Rectangle 3"/>
          <p:cNvSpPr/>
          <p:nvPr/>
        </p:nvSpPr>
        <p:spPr>
          <a:xfrm>
            <a:off x="72072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4-28T23:15:39Z</cp:lastPrinted>
  <dcterms:modified xsi:type="dcterms:W3CDTF">2014-02-16T23:42:59Z</dcterms:modified>
  <cp:revision>36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