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7CE2347-8D66-4BFB-A38A-BC29899C17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8EA102B2-FA04-49A0-9D55-9BD0B85E03E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331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332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337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9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40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44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46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49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52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57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60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66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71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74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78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84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86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66720" y="124452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930240" y="2503440"/>
            <a:ext cx="7656120" cy="2779920"/>
            <a:chOff x="930240" y="2503440"/>
            <a:chExt cx="7656120" cy="2779920"/>
          </a:xfrm>
        </p:grpSpPr>
        <p:pic>
          <p:nvPicPr>
            <p:cNvPr id="420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93024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87980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42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42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43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4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5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6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7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90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9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50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50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50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50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50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51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51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51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52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53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3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53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4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54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55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7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8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8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8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9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606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611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6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24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4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35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43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3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54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7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0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0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2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1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7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28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1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2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3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2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5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4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2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20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41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6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6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7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7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7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8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8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8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9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9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03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05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12-06T06:00:55Z</dcterms:modified>
  <cp:revision>35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