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2.wmf" ContentType="image/x-wmf"/>
  <Override PartName="/ppt/media/image9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19.wmf" ContentType="image/x-wmf"/>
  <Override PartName="/ppt/media/image1.wmf" ContentType="image/x-wmf"/>
  <Override PartName="/ppt/media/image3.wmf" ContentType="image/x-wmf"/>
  <Override PartName="/ppt/media/image13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4.jpeg" ContentType="image/jpeg"/>
  <Override PartName="/ppt/media/image16.wmf" ContentType="image/x-wmf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04FF183-7F93-4503-95BF-214A9F6135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rass block in boiling wat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Water/washer hea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nburnabl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ods in L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y R_thermal formul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winter, put on more (thicker) layers to stay wa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minimize surface area (sometimes by cuddling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to electric RC network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cite block demo – C depends on the size of the block – c divides out the mass/number of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ask – which has the higher Heat Capa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an’t tell unless you know how much of each there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aluminum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 kg of Al has more atoms than a kg of lea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igher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_Al = 900 J/kg-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_Pb = 128 J/kg-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dropped balls exampl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pped (lead) balls…dropped 20 x 1 m.  DeltaU=mgh = C deltaT = mc del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T = mgh/mc = gh/c = 9.8x20/128 = 1.53C = 2.8F (we measured ~2F – some of the thermal energy went into the plastic, sound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block and boiling wa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block and boiling wa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circuits:  I ~ Delta V (large differenc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 curr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s around rods, ice on blocks, unburnabl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4, p </a:t>
            </a:r>
            <a:fld id="{C0EDEFB8-0DA3-4258-BC26-81AB92A0A41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200" y="58680"/>
            <a:ext cx="8933040" cy="12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2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4:</a:t>
            </a:r>
            <a:br>
              <a:rPr sz="2800"/>
            </a:b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Classical Illustrations of Macroscopic Thermal Effects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 of solids &amp; liqu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condu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70040" y="5376960"/>
            <a:ext cx="26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eference for Lecture 5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20600" y="537696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eferences for this Lect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3,4A-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3560" y="64800"/>
            <a:ext cx="8697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ypical Problem in Heat Conduction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62160" y="4019400"/>
          <a:ext cx="321444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2160" y="4019400"/>
                    <a:ext cx="321444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423040" y="4035600"/>
            <a:ext cx="353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mal resistance is defined to make the similarity to electrical current  flow (Ohm’s Law) clea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849280" y="4900320"/>
            <a:ext cx="2566080" cy="1306440"/>
            <a:chOff x="5849280" y="4900320"/>
            <a:chExt cx="2566080" cy="1306440"/>
          </a:xfrm>
        </p:grpSpPr>
        <p:graphicFrame>
          <p:nvGraphicFramePr>
            <p:cNvPr id="149" name=""/>
            <p:cNvGraphicFramePr/>
            <p:nvPr/>
          </p:nvGraphicFramePr>
          <p:xfrm>
            <a:off x="5875200" y="5616720"/>
            <a:ext cx="682920" cy="51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75200" y="5616720"/>
                      <a:ext cx="68292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51" name=""/>
            <p:cNvGrpSpPr/>
            <p:nvPr/>
          </p:nvGrpSpPr>
          <p:grpSpPr>
            <a:xfrm>
              <a:off x="5849280" y="4900320"/>
              <a:ext cx="2127960" cy="673920"/>
              <a:chOff x="5849280" y="4900320"/>
              <a:chExt cx="2127960" cy="67392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6446880" y="5031000"/>
                <a:ext cx="1530360" cy="263520"/>
                <a:chOff x="6446880" y="5031000"/>
                <a:chExt cx="1530360" cy="26352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446880" y="5173920"/>
                  <a:ext cx="546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7000920" y="5045040"/>
                  <a:ext cx="65160" cy="128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 flipV="1">
                  <a:off x="7375320" y="5057640"/>
                  <a:ext cx="65160" cy="128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075800" y="50454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180560" y="5040360"/>
                  <a:ext cx="36360" cy="249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7126200" y="50310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7227720" y="50454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7323120" y="5040360"/>
                  <a:ext cx="36360" cy="249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269480" y="50310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431120" y="5169240"/>
                  <a:ext cx="546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6353280" y="5072400"/>
                <a:ext cx="379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849280" y="4900320"/>
                <a:ext cx="81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783480" y="5236920"/>
                <a:ext cx="888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630840" y="5592600"/>
              <a:ext cx="17845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     </a:t>
              </a:r>
              <a:r>
                <a:rPr b="0" lang="en-US" sz="16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V = V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- V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= voltage dro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828800" y="2473200"/>
            <a:ext cx="1855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terial with thermal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ductivit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64120" y="847800"/>
            <a:ext cx="15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ide is at 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51440" y="194364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ea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611520" y="933480"/>
            <a:ext cx="1487520" cy="2197080"/>
            <a:chOff x="3611520" y="933480"/>
            <a:chExt cx="1487520" cy="2197080"/>
          </a:xfrm>
        </p:grpSpPr>
        <p:sp>
          <p:nvSpPr>
            <p:cNvPr id="171" name=""/>
            <p:cNvSpPr/>
            <p:nvPr/>
          </p:nvSpPr>
          <p:spPr>
            <a:xfrm flipV="1" rot="5400000">
              <a:off x="3135960" y="1409400"/>
              <a:ext cx="2194200" cy="1243080"/>
            </a:xfrm>
            <a:prstGeom prst="parallelogram">
              <a:avLst>
                <a:gd name="adj" fmla="val 65277"/>
              </a:avLst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 rot="5400000">
              <a:off x="3377160" y="1411920"/>
              <a:ext cx="2193840" cy="1243080"/>
            </a:xfrm>
            <a:prstGeom prst="parallelogram">
              <a:avLst>
                <a:gd name="adj" fmla="val 65266"/>
              </a:avLst>
            </a:prstGeom>
            <a:blipFill rotWithShape="0">
              <a:blip r:embed="rId5">
                <a:alphaModFix amt="18000"/>
              </a:blip>
              <a:srcRect/>
              <a:tile tx="0" ty="0" sx="100000" sy="100000" algn="ctr"/>
            </a:blip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13320" y="175752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65760" y="93348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69000" y="231156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18000" y="312120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127320" y="847800"/>
            <a:ext cx="15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ide is at 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62320" y="315180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ckness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6360" y="3932280"/>
            <a:ext cx="3381120" cy="2433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5724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xercise: Heat Loss Through Wind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3840" y="1243080"/>
            <a:ext cx="62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If it’s 22°C inside, and 0°C outsid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the heat flow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rough a glass window of area 0.3 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and thickness 0.5 cm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glass is about 1 W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048440" y="1341360"/>
            <a:ext cx="1371600" cy="1371600"/>
            <a:chOff x="7048440" y="1341360"/>
            <a:chExt cx="1371600" cy="1371600"/>
          </a:xfrm>
        </p:grpSpPr>
        <p:sp>
          <p:nvSpPr>
            <p:cNvPr id="183" name=""/>
            <p:cNvSpPr/>
            <p:nvPr/>
          </p:nvSpPr>
          <p:spPr>
            <a:xfrm>
              <a:off x="7048440" y="134136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141732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34240" y="141732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24760" y="202716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336680" y="57240"/>
            <a:ext cx="6454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3840" y="1243080"/>
            <a:ext cx="62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If it’s 22°C inside, and 0°C outsid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the heat flow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rough a glass window of area 0.3 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and thickness 0.5 cm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glass is about 1 W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048440" y="1341360"/>
            <a:ext cx="1371600" cy="1371600"/>
            <a:chOff x="7048440" y="1341360"/>
            <a:chExt cx="1371600" cy="1371600"/>
          </a:xfrm>
        </p:grpSpPr>
        <p:sp>
          <p:nvSpPr>
            <p:cNvPr id="190" name=""/>
            <p:cNvSpPr/>
            <p:nvPr/>
          </p:nvSpPr>
          <p:spPr>
            <a:xfrm>
              <a:off x="7048440" y="134136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124760" y="141732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34240" y="141732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24760" y="202716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94" name=""/>
          <p:cNvGraphicFramePr/>
          <p:nvPr/>
        </p:nvGraphicFramePr>
        <p:xfrm>
          <a:off x="1357200" y="3360600"/>
          <a:ext cx="4649760" cy="15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3360600"/>
                    <a:ext cx="4649760" cy="15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964080" y="5191200"/>
            <a:ext cx="638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That’s a lot!  Windows are a major cause of high heating bil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982800" y="65160"/>
            <a:ext cx="716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246800" y="1224000"/>
            <a:ext cx="1371600" cy="1371600"/>
            <a:chOff x="7246800" y="1224000"/>
            <a:chExt cx="1371600" cy="1371600"/>
          </a:xfrm>
        </p:grpSpPr>
        <p:sp>
          <p:nvSpPr>
            <p:cNvPr id="199" name=""/>
            <p:cNvSpPr/>
            <p:nvPr/>
          </p:nvSpPr>
          <p:spPr>
            <a:xfrm>
              <a:off x="7246800" y="122400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23120" y="129996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32600" y="129996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23120" y="190980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07880" y="1222200"/>
            <a:ext cx="82184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How much heat is lost through a double-pane version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that window, with a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5-cm air gap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?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air is about 0.03 W/(m K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Ignore the glass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, which has a much higher conductivity than air.  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H is limited by the high resistance air ga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13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4,000 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982800" y="65160"/>
            <a:ext cx="716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246800" y="1224000"/>
            <a:ext cx="1371600" cy="1371600"/>
            <a:chOff x="7246800" y="1224000"/>
            <a:chExt cx="1371600" cy="1371600"/>
          </a:xfrm>
        </p:grpSpPr>
        <p:sp>
          <p:nvSpPr>
            <p:cNvPr id="206" name=""/>
            <p:cNvSpPr/>
            <p:nvPr/>
          </p:nvSpPr>
          <p:spPr>
            <a:xfrm>
              <a:off x="7246800" y="122400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23120" y="129996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32600" y="129996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23120" y="190980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07880" y="1222200"/>
            <a:ext cx="82184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How much heat is lost through a double-pane version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that window, with a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5-cm air gap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?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air is about 0.03 W/(m K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Ignore the glass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, which has a much higher conductivity than air.  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H is limited by the high resistance air ga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13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4,000 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187280" y="4019400"/>
          <a:ext cx="4237200" cy="7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019400"/>
                    <a:ext cx="423720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 flipH="1">
            <a:off x="5681160" y="4367160"/>
            <a:ext cx="8701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84400" y="423072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&lt; 1320 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2440" y="5502240"/>
            <a:ext cx="697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Note: Large air gaps don’t always work, due to convection curr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08720" y="4624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87640" y="3197160"/>
            <a:ext cx="1174680" cy="407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0880" y="56880"/>
            <a:ext cx="8831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rmal conductivities (</a:t>
            </a:r>
            <a:r>
              <a:rPr b="0" lang="en-US" sz="4000" spc="-1" strike="noStrike">
                <a:solidFill>
                  <a:srgbClr val="ff7c80"/>
                </a:solidFill>
                <a:latin typeface="Symbol"/>
                <a:ea typeface="Symbol"/>
              </a:rPr>
              <a:t>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t 300 K):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1163520"/>
            <a:ext cx="7162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03 W/m-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1 W/m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ass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umin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0 W/m-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p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0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 small can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 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eroge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’s aerog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68160" y="57240"/>
            <a:ext cx="23972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erogel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84280" y="2664000"/>
            <a:ext cx="3612600" cy="3791160"/>
            <a:chOff x="584280" y="2664000"/>
            <a:chExt cx="3612600" cy="379116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815760" y="2664000"/>
              <a:ext cx="3381120" cy="33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 flipV="1">
              <a:off x="1353960" y="3910320"/>
              <a:ext cx="1261800" cy="21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2714400" y="5557680"/>
              <a:ext cx="1440" cy="46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4280" y="6086880"/>
              <a:ext cx="15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5 kg bri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27120" y="6061320"/>
              <a:ext cx="161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 g aerog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156280" y="2695680"/>
            <a:ext cx="2743200" cy="4016160"/>
            <a:chOff x="5156280" y="2695680"/>
            <a:chExt cx="2743200" cy="401616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5156280" y="2695680"/>
              <a:ext cx="27432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5462280" y="6343560"/>
              <a:ext cx="207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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= 8 x 10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-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/m-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771480" y="961920"/>
            <a:ext cx="7647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An artificial substance formed by specially drying a wet silica gel, resulting in a solid mesh of microscopic strand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Used on space missions to catch comet dus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least dense solid material known (</a:t>
            </a:r>
            <a:r>
              <a:rPr b="0" lang="en-US" sz="1800" spc="-1" strike="noStrike">
                <a:solidFill>
                  <a:srgbClr val="00ff99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1.9 mg/c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ff99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1.2 mg/c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98% porous, but nevertheless, quite rig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6960" y="57240"/>
            <a:ext cx="8848440" cy="63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ow Long Does Heat Conduction Tak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1800" y="3732120"/>
            <a:ext cx="7756560" cy="28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current </a:t>
            </a:r>
            <a:r>
              <a:rPr b="0" i="1" lang="en-US" sz="2000" spc="-1" strike="noStrike">
                <a:solidFill>
                  <a:srgbClr val="00ff99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depends on the temperature difference between the two samples, and the thermal resistance: R</a:t>
            </a:r>
            <a:r>
              <a:rPr b="0" lang="en-US" sz="2000" spc="-1" strike="noStrike" baseline="-25000">
                <a:solidFill>
                  <a:srgbClr val="00ff99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= d/A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Assume that all the heat leaving A enters 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emperature of the samples depends on their initial temperatures, the amount of heat flowing into (out of) them, and their heat capacit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general, the time to reach thermal equilibrium is a nontrivial problem, but we can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tim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time it will tak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043000" y="1135080"/>
            <a:ext cx="4932360" cy="2122560"/>
            <a:chOff x="2043000" y="1135080"/>
            <a:chExt cx="4932360" cy="2122560"/>
          </a:xfrm>
        </p:grpSpPr>
        <p:sp>
          <p:nvSpPr>
            <p:cNvPr id="236" name=""/>
            <p:cNvSpPr/>
            <p:nvPr/>
          </p:nvSpPr>
          <p:spPr>
            <a:xfrm>
              <a:off x="2043000" y="1135080"/>
              <a:ext cx="4932360" cy="2122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7" name=""/>
            <p:cNvGraphicFramePr/>
            <p:nvPr/>
          </p:nvGraphicFramePr>
          <p:xfrm>
            <a:off x="2265120" y="1328760"/>
            <a:ext cx="4363920" cy="166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5120" y="1328760"/>
                      <a:ext cx="4363920" cy="16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4291920" y="1681200"/>
              <a:ext cx="424440" cy="37080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40"/>
                  </a:solidFill>
                  <a:latin typeface="Arial"/>
                  <a:ea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40"/>
                  </a:solidFill>
                  <a:latin typeface="Arial"/>
                  <a:ea typeface="Times New Roman"/>
                </a:rPr>
                <a:t>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96960" y="57240"/>
            <a:ext cx="775008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ow Long to Equilibrate a Rod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12560" y="2165040"/>
            <a:ext cx="8731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ate at which heat flows from hot to cold is about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H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/ 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heat capacity is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 = c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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ol) = c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(dA)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en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 the rate at whic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 is reduced is abou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ternatively, the typical distance that the thermal energy has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diffus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varies with the square root of the tim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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. This fact is a result of the random nature of heat flow, which we’ll discuss mor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241280" y="955800"/>
            <a:ext cx="5962680" cy="838080"/>
            <a:chOff x="1241280" y="955800"/>
            <a:chExt cx="5962680" cy="838080"/>
          </a:xfrm>
        </p:grpSpPr>
        <p:sp>
          <p:nvSpPr>
            <p:cNvPr id="243" name=""/>
            <p:cNvSpPr/>
            <p:nvPr/>
          </p:nvSpPr>
          <p:spPr>
            <a:xfrm flipV="1">
              <a:off x="2017800" y="969120"/>
              <a:ext cx="5170320" cy="150840"/>
            </a:xfrm>
            <a:prstGeom prst="parallelogram">
              <a:avLst>
                <a:gd name="adj" fmla="val 302937"/>
              </a:avLst>
            </a:prstGeom>
            <a:solidFill>
              <a:srgbClr val="cc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9280" y="1123920"/>
              <a:ext cx="4684680" cy="658800"/>
            </a:xfrm>
            <a:prstGeom prst="rect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59800" y="129384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ngth 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5400000">
              <a:off x="1845000" y="1124640"/>
              <a:ext cx="838080" cy="500040"/>
            </a:xfrm>
            <a:prstGeom prst="parallelogram">
              <a:avLst>
                <a:gd name="adj" fmla="val 33575"/>
              </a:avLst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41280" y="11430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rea  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91760" y="12146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43120" y="1206720"/>
              <a:ext cx="11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+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58880" y="1251000"/>
              <a:ext cx="459612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51" name=""/>
          <p:cNvGraphicFramePr/>
          <p:nvPr/>
        </p:nvGraphicFramePr>
        <p:xfrm>
          <a:off x="150840" y="3773520"/>
          <a:ext cx="86090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40" y="3773520"/>
                    <a:ext cx="86090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512640" y="1141560"/>
            <a:ext cx="8124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You are cooking with two pots that have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volum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 Pot B has half the height, but twice the area as Pot A.  Initially the pots are both full of boiling water (e.g., 100 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C).  You set them each on the bottom of your metal sink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cools fast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y cool at same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79680" y="63360"/>
            <a:ext cx="5978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3: Cooling po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3367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221000" y="2627280"/>
            <a:ext cx="4000680" cy="1219320"/>
            <a:chOff x="4221000" y="2627280"/>
            <a:chExt cx="4000680" cy="1219320"/>
          </a:xfrm>
        </p:grpSpPr>
        <p:sp>
          <p:nvSpPr>
            <p:cNvPr id="257" name=""/>
            <p:cNvSpPr/>
            <p:nvPr/>
          </p:nvSpPr>
          <p:spPr>
            <a:xfrm rot="16200000">
              <a:off x="6374520" y="2773800"/>
              <a:ext cx="522360" cy="102852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21000" y="3584520"/>
              <a:ext cx="4000680" cy="26208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99160" y="2627280"/>
              <a:ext cx="522000" cy="9144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90960" y="293220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97560" y="310032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1000" y="61920"/>
            <a:ext cx="7120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t time: Heat capac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742000" y="3789360"/>
          <a:ext cx="1065240" cy="7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2000" y="3789360"/>
                    <a:ext cx="10652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95440" y="1146240"/>
            <a:ext cx="802152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h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w of Thermodynamic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 + 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(conservation of energ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f we add heat to a system, it can do two thing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aise the temperature (internal energy increases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Do mechanical work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, expanding g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uch does the temperature ris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heat capacity to be the amount of hea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quired to raise the temperature by 1 K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The heat capacity is proportional to the amount of mater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It can be measured either at constant volum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) or constant pressur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). 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It depends on the material, and may also be a function of tempera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22440" y="3776760"/>
            <a:ext cx="6316560" cy="830160"/>
            <a:chOff x="622440" y="3776760"/>
            <a:chExt cx="6316560" cy="830160"/>
          </a:xfrm>
        </p:grpSpPr>
        <p:sp>
          <p:nvSpPr>
            <p:cNvPr id="53" name=""/>
            <p:cNvSpPr/>
            <p:nvPr/>
          </p:nvSpPr>
          <p:spPr>
            <a:xfrm>
              <a:off x="622440" y="3776760"/>
              <a:ext cx="6316560" cy="8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3778200"/>
              <a:ext cx="0" cy="828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12640" y="1141560"/>
            <a:ext cx="8124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You are cooking with two pots that have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volum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 Pot B has half the height, but twice the area as Pot A.  Initially the pots are both full of boiling water (e.g., 100 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C).  You set them each on the bottom of your metal sink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cools fast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y cool at same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79680" y="63360"/>
            <a:ext cx="5978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3367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6120" y="4427640"/>
            <a:ext cx="861372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e of cooling is determined by the time constan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R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ots have the same amount of water, so they have the same heat capacity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hermal resistance R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d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sume that the thickness, d, of the pot bottoms is the same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t B has a larger area, so it will have a smaller R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and therefore a short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t will cool fas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1440" y="3017880"/>
            <a:ext cx="1057320" cy="301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221000" y="2627280"/>
            <a:ext cx="4000680" cy="1219320"/>
            <a:chOff x="4221000" y="2627280"/>
            <a:chExt cx="4000680" cy="1219320"/>
          </a:xfrm>
        </p:grpSpPr>
        <p:sp>
          <p:nvSpPr>
            <p:cNvPr id="268" name=""/>
            <p:cNvSpPr/>
            <p:nvPr/>
          </p:nvSpPr>
          <p:spPr>
            <a:xfrm rot="16200000">
              <a:off x="6374520" y="2773800"/>
              <a:ext cx="522360" cy="102852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21000" y="3584520"/>
              <a:ext cx="4000680" cy="26208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99160" y="2627280"/>
              <a:ext cx="522000" cy="9144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90960" y="293220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97560" y="310032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3487680"/>
            <a:ext cx="8296200" cy="30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“into” A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uess solution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(t)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(t=0) e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t/</a:t>
            </a:r>
            <a:r>
              <a:rPr b="0" lang="en-US" sz="2000" spc="-1" strike="noStrike" baseline="30000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 or  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t) =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(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0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–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t/</a:t>
            </a:r>
            <a:r>
              <a:rPr b="0" lang="en-US" sz="2000" spc="-1" strike="noStrike" baseline="30000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ug into above DiffEQ: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(like a discharging capacitor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40960" y="2631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Comic Sans MS"/>
              </a:rPr>
              <a:t>Heat conduction – How long does it take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1480" y="1209600"/>
            <a:ext cx="7756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simplicity we assume that system B is really big (a “thermal reservoir”), so that it’s temperature is always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889680" y="2487600"/>
          <a:ext cx="198144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9680" y="2487600"/>
                    <a:ext cx="19814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966960" y="3567240"/>
          <a:ext cx="795780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6960" y="3567240"/>
                    <a:ext cx="79578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1273320" y="2195640"/>
            <a:ext cx="750600" cy="5382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(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8920" y="2766960"/>
            <a:ext cx="2498760" cy="424080"/>
          </a:xfrm>
          <a:prstGeom prst="rect">
            <a:avLst/>
          </a:prstGeom>
          <a:solidFill>
            <a:srgbClr val="ff00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63520" y="2724120"/>
            <a:ext cx="750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216240" y="1755360"/>
            <a:ext cx="4997160" cy="1514880"/>
            <a:chOff x="3216240" y="1755360"/>
            <a:chExt cx="4997160" cy="1514880"/>
          </a:xfrm>
        </p:grpSpPr>
        <p:sp>
          <p:nvSpPr>
            <p:cNvPr id="286" name=""/>
            <p:cNvSpPr/>
            <p:nvPr/>
          </p:nvSpPr>
          <p:spPr>
            <a:xfrm>
              <a:off x="4179960" y="3257640"/>
              <a:ext cx="2678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195800" y="2129040"/>
              <a:ext cx="0" cy="11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51160" y="2006640"/>
              <a:ext cx="25527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(t) = 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+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(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16240" y="2357640"/>
              <a:ext cx="97956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4197240" y="1755000"/>
              <a:ext cx="4016160" cy="120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71760" y="2256120"/>
              <a:ext cx="7509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A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72120" y="2686320"/>
              <a:ext cx="7509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93" name=""/>
          <p:cNvGraphicFramePr/>
          <p:nvPr/>
        </p:nvGraphicFramePr>
        <p:xfrm>
          <a:off x="1278000" y="4410000"/>
          <a:ext cx="2617560" cy="87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8000" y="4410000"/>
                    <a:ext cx="26175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5" name=""/>
          <p:cNvGrpSpPr/>
          <p:nvPr/>
        </p:nvGrpSpPr>
        <p:grpSpPr>
          <a:xfrm>
            <a:off x="3998880" y="3506760"/>
            <a:ext cx="4970520" cy="1401840"/>
            <a:chOff x="3998880" y="3506760"/>
            <a:chExt cx="4970520" cy="1401840"/>
          </a:xfrm>
        </p:grpSpPr>
        <p:sp>
          <p:nvSpPr>
            <p:cNvPr id="296" name=""/>
            <p:cNvSpPr/>
            <p:nvPr/>
          </p:nvSpPr>
          <p:spPr>
            <a:xfrm>
              <a:off x="4230720" y="3559320"/>
              <a:ext cx="1241280" cy="874800"/>
            </a:xfrm>
            <a:prstGeom prst="roundRect">
              <a:avLst>
                <a:gd name="adj" fmla="val 16667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50040" y="3506760"/>
              <a:ext cx="1719360" cy="1121040"/>
            </a:xfrm>
            <a:prstGeom prst="roundRect">
              <a:avLst>
                <a:gd name="adj" fmla="val 16667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98880" y="4434120"/>
              <a:ext cx="750960" cy="453960"/>
            </a:xfrm>
            <a:custGeom>
              <a:avLst/>
              <a:gdLst/>
              <a:ahLst/>
              <a:rect l="l" t="t" r="r" b="b"/>
              <a:pathLst>
                <a:path w="473" h="286">
                  <a:moveTo>
                    <a:pt x="473" y="0"/>
                  </a:moveTo>
                  <a:cubicBezTo>
                    <a:pt x="465" y="97"/>
                    <a:pt x="457" y="194"/>
                    <a:pt x="378" y="240"/>
                  </a:cubicBezTo>
                  <a:cubicBezTo>
                    <a:pt x="299" y="286"/>
                    <a:pt x="149" y="280"/>
                    <a:pt x="0" y="275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45120" y="4542120"/>
              <a:ext cx="2987640" cy="366480"/>
            </a:xfrm>
            <a:custGeom>
              <a:avLst/>
              <a:gdLst/>
              <a:ahLst/>
              <a:rect l="l" t="t" r="r" b="b"/>
              <a:pathLst>
                <a:path w="1882" h="231">
                  <a:moveTo>
                    <a:pt x="0" y="215"/>
                  </a:moveTo>
                  <a:cubicBezTo>
                    <a:pt x="333" y="223"/>
                    <a:pt x="667" y="231"/>
                    <a:pt x="928" y="215"/>
                  </a:cubicBezTo>
                  <a:cubicBezTo>
                    <a:pt x="1189" y="199"/>
                    <a:pt x="1405" y="157"/>
                    <a:pt x="1564" y="121"/>
                  </a:cubicBezTo>
                  <a:cubicBezTo>
                    <a:pt x="1723" y="85"/>
                    <a:pt x="1802" y="42"/>
                    <a:pt x="1882" y="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79560" y="61560"/>
            <a:ext cx="71625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Exponential Cool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72840" y="1010880"/>
            <a:ext cx="83120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hot steel bearing (at T = 200 C) is dropped into a large vat of          cold water at 10 C.  Compare the time it takes the bearing to cool      from 200 to 190 C to the time it takes to cool from 100 to 90 C.(Assume the specific heat of steel is ~constant over this temperature range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79560" y="61560"/>
            <a:ext cx="71625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70760" y="2733840"/>
            <a:ext cx="2617560" cy="407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03800" y="5695920"/>
            <a:ext cx="2678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119640" y="4548240"/>
            <a:ext cx="0" cy="1141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75360" y="4425840"/>
            <a:ext cx="25527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40440" y="4776840"/>
            <a:ext cx="9792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6121440" y="3993120"/>
            <a:ext cx="4015440" cy="156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95960" y="4675320"/>
            <a:ext cx="750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00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77240" y="5138640"/>
            <a:ext cx="750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6480" y="4210200"/>
            <a:ext cx="419760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ever, th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rat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f heat flow out of the bearing depends on 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bearing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wate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and is different (~190 C and ~90 C) for the two cases.  Because more heat flows at the outset, the initial temperature drop is fast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43600" y="5791320"/>
            <a:ext cx="171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6134040" y="5791320"/>
            <a:ext cx="171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153120" y="492408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76880" y="5810400"/>
            <a:ext cx="109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90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81720" y="5800680"/>
            <a:ext cx="171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6667560" y="5791320"/>
            <a:ext cx="171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6534000" y="493344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553080" y="5772240"/>
            <a:ext cx="109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90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6686640" y="493344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4240" y="100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hot steel bearing (at T = 200 C) is dropped into a large vat of          cold water at 10 C.  Compare the time it takes the bearing to cool      from 200 to 190 C to the time it takes to cool from 100 to 90 C.(Assume the specific heat of steel is ~constant over this temperature range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90320" y="1565280"/>
            <a:ext cx="8321400" cy="423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is it that random motion can give heat flow in a particular direc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randomly diffuses around, spreading out.  However, the heat flow out of a region is proportional to the amount of energy that is there at tha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ok at region 2.  More heat will random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ffuse in from a high T region than from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 T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re will be a net flow of heat i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ion of decreasing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-D the heat current density is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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the thermal conductivity, a property of the mate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789120" y="63000"/>
            <a:ext cx="757224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Thermal Diffusion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Heat Conduc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460840" y="3087720"/>
            <a:ext cx="3211560" cy="1861920"/>
            <a:chOff x="5460840" y="3087720"/>
            <a:chExt cx="3211560" cy="1861920"/>
          </a:xfrm>
        </p:grpSpPr>
        <p:sp>
          <p:nvSpPr>
            <p:cNvPr id="325" name=""/>
            <p:cNvSpPr/>
            <p:nvPr/>
          </p:nvSpPr>
          <p:spPr>
            <a:xfrm>
              <a:off x="8372520" y="4641840"/>
              <a:ext cx="299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45120" y="3338640"/>
              <a:ext cx="1984320" cy="12063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60840" y="3087720"/>
              <a:ext cx="328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53160" y="4627440"/>
              <a:ext cx="2851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759280" y="3186000"/>
              <a:ext cx="0" cy="144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30" name=""/>
          <p:cNvGraphicFramePr/>
          <p:nvPr/>
        </p:nvGraphicFramePr>
        <p:xfrm>
          <a:off x="1860480" y="5124600"/>
          <a:ext cx="134136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0480" y="5124600"/>
                    <a:ext cx="1341360" cy="6602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6515280" y="331488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010280" y="331488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32600" y="310212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      2     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95800" y="4130640"/>
            <a:ext cx="700200" cy="443160"/>
            <a:chOff x="5995800" y="4130640"/>
            <a:chExt cx="700200" cy="443160"/>
          </a:xfrm>
        </p:grpSpPr>
        <p:sp>
          <p:nvSpPr>
            <p:cNvPr id="336" name=""/>
            <p:cNvSpPr/>
            <p:nvPr/>
          </p:nvSpPr>
          <p:spPr>
            <a:xfrm>
              <a:off x="6276960" y="4257720"/>
              <a:ext cx="419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6338520" y="4448160"/>
              <a:ext cx="290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95800" y="41306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03720" y="430668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791400" y="4130640"/>
            <a:ext cx="691920" cy="443520"/>
            <a:chOff x="6791400" y="4130640"/>
            <a:chExt cx="691920" cy="443520"/>
          </a:xfrm>
        </p:grpSpPr>
        <p:sp>
          <p:nvSpPr>
            <p:cNvPr id="341" name=""/>
            <p:cNvSpPr/>
            <p:nvPr/>
          </p:nvSpPr>
          <p:spPr>
            <a:xfrm>
              <a:off x="6791400" y="4257720"/>
              <a:ext cx="419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852600" y="4448160"/>
              <a:ext cx="290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48160" y="41306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56080" y="43070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273480" y="66600"/>
            <a:ext cx="261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2198520" y="2133720"/>
            <a:ext cx="489744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Random Walk and Particle Diffu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Counting and Prob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Microstates and Macrost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The meaning of equilibriu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6600" y="65160"/>
            <a:ext cx="84232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apacity of a Soli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720" y="1146240"/>
            <a:ext cx="749016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atoms in a solid behave like little balls 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connected by springs.  Here’s one ato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t has x, y, and z springs as well as x, y, and z mo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f T is not too low, the equipartition theorem applies,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kinetic and potential term contributes ½ kT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to the internal energ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U = 3(½ kT) + 3(½ kT) = 3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refore, a solid with N atoms has this heat capaci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3Nk = 3n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Note: For solids (and most liquids), the volume doesn’t change much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s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(no work is don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temperature dependence of C is usually much larger in solids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liquids than in gases 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(because the forces between atoms are more important)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296120" y="708120"/>
            <a:ext cx="1428480" cy="1414440"/>
            <a:chOff x="7296120" y="708120"/>
            <a:chExt cx="1428480" cy="1414440"/>
          </a:xfrm>
        </p:grpSpPr>
        <p:sp>
          <p:nvSpPr>
            <p:cNvPr id="58" name=""/>
            <p:cNvSpPr/>
            <p:nvPr/>
          </p:nvSpPr>
          <p:spPr>
            <a:xfrm>
              <a:off x="7862760" y="1600200"/>
              <a:ext cx="401760" cy="8568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96120" y="1581120"/>
              <a:ext cx="401400" cy="8100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5280" bIns="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9227600">
              <a:off x="7792920" y="1415880"/>
              <a:ext cx="401760" cy="7596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6200000">
              <a:off x="7580880" y="1306800"/>
              <a:ext cx="401400" cy="7632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7581600" y="1886040"/>
              <a:ext cx="401760" cy="7128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9227600">
              <a:off x="7354440" y="1758600"/>
              <a:ext cx="401400" cy="7632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15280" y="1644840"/>
              <a:ext cx="311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8192880" y="1141200"/>
              <a:ext cx="25092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778520" y="779760"/>
              <a:ext cx="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467560" y="1627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797600" y="708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83320" y="11080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78440" y="1536840"/>
              <a:ext cx="182880" cy="182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501920" y="4064040"/>
            <a:ext cx="2027160" cy="587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377040" y="3011400"/>
            <a:ext cx="2570040" cy="582840"/>
            <a:chOff x="6377040" y="3011400"/>
            <a:chExt cx="2570040" cy="582840"/>
          </a:xfrm>
        </p:grpSpPr>
        <p:sp>
          <p:nvSpPr>
            <p:cNvPr id="73" name=""/>
            <p:cNvSpPr/>
            <p:nvPr/>
          </p:nvSpPr>
          <p:spPr>
            <a:xfrm>
              <a:off x="6377040" y="3043080"/>
              <a:ext cx="257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quipartition often works near room temperature and above.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14840" y="3011400"/>
              <a:ext cx="2492640" cy="5828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159520" y="1647720"/>
            <a:ext cx="16729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7080" y="65160"/>
            <a:ext cx="81961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apacity and Specific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250040" y="3513240"/>
          <a:ext cx="857160" cy="73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0040" y="3513240"/>
                    <a:ext cx="857160" cy="734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7250040" y="4392720"/>
          <a:ext cx="1020960" cy="6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50040" y="4392720"/>
                    <a:ext cx="1020960" cy="658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7250040" y="1322280"/>
          <a:ext cx="951120" cy="6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50040" y="1322280"/>
                    <a:ext cx="951120" cy="665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23960" y="722160"/>
            <a:ext cx="721656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capacity: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energy required to raise the temperature of an object by 1K (=1º C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depends on the amount of material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    Units:  J /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ic heat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 heat capacity normalized to a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standard amount of material (mass or mo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only depends on the kind of mater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mass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kg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moles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mole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“molar specific heat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volume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“volume specific heat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Which has the higher c, aluminum or lea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27560" y="3890880"/>
            <a:ext cx="166536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84880" y="4581360"/>
            <a:ext cx="1665360" cy="558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90800" y="1420920"/>
            <a:ext cx="85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ppe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se “C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29320" y="3610080"/>
            <a:ext cx="81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e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se “c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218360" y="5268960"/>
          <a:ext cx="97776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18360" y="5268960"/>
                    <a:ext cx="977760" cy="658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167440" y="5472000"/>
            <a:ext cx="1965240" cy="810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97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214200" y="14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7400" y="6444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1111320" y="148104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674720" y="1481040"/>
          <a:ext cx="3571920" cy="33804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345960" y="1022400"/>
            <a:ext cx="83361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-gram brass block sits in boiling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It is taken out of the boiling water and placed in a cup contain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 grams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ice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What is the final temperature,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the system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.e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, when the two objects have the same T)?  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br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  380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;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184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1680" y="2552760"/>
            <a:ext cx="706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l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=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g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97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214200" y="14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87400" y="6444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1111320" y="148104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74720" y="1481040"/>
          <a:ext cx="3571920" cy="33804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345960" y="1022400"/>
            <a:ext cx="83361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-gram brass block sits in boiling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It is taken out of the boiling water and placed in a cup contain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 grams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ice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What is the final temperature,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the system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.e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, when the two objects have the same T)?  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br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  380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;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184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1680" y="2552760"/>
            <a:ext cx="706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l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=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g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2760" y="2562120"/>
            <a:ext cx="1542960" cy="408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4960" y="3386160"/>
            <a:ext cx="776304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Soluti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Heat flows from the brass to the water.  No work is done, 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and we assume that no energy is lost to the environmen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Remember: 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Q = C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 = mc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Brass (heat flows out):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Q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U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(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-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Water (heat flows in):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Q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U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(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-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Energy is conserved: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+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Solve for 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(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+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/ (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+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= (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+ 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/ (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+ 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= 8.3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We measured 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_____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488280" y="3622680"/>
            <a:ext cx="1731960" cy="711360"/>
            <a:chOff x="6488280" y="3622680"/>
            <a:chExt cx="1731960" cy="711360"/>
          </a:xfrm>
        </p:grpSpPr>
        <p:sp>
          <p:nvSpPr>
            <p:cNvPr id="108" name=""/>
            <p:cNvSpPr/>
            <p:nvPr/>
          </p:nvSpPr>
          <p:spPr>
            <a:xfrm>
              <a:off x="6488280" y="3622680"/>
              <a:ext cx="590760" cy="7034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37760" y="3622680"/>
              <a:ext cx="582480" cy="71136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79040" y="3978360"/>
              <a:ext cx="566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42400" y="3635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73600" y="3714840"/>
              <a:ext cx="3866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96080" y="3721320"/>
              <a:ext cx="3866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7040" y="56880"/>
            <a:ext cx="73659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ome Exercises: Cook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6680" y="1161720"/>
            <a:ext cx="80690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While cooking a turkey in a microwave oven that puts out 500 W of power, you notice that the temperature probe in the turkey shows a 1°C temperature increase every 30 seconds.  If you assume that the turkey has roughly the same specific heat as water (c= 4184 J/kg-K), what is your estimate for the mass of the turke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You place a copper ladle of mass m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=0.15 kg (c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386 J/kg-K) - initially at room temperature, T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room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= 20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C - into a pot containing 0.6 kg of hot cider 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(c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4184 J/kg-K), initially at 90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C.  If you forget about the ladle while watching a football game on TV, roughly what is its temperature when you try to pick it up after a few minu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88680" y="5357880"/>
            <a:ext cx="169092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 = 190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55200" y="2633760"/>
            <a:ext cx="8024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3.6 k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83880" y="6336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onduc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4080" y="1081080"/>
            <a:ext cx="7620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rmal energy randomly diffuses equally in all directions,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like gas particles (next lecture).  More energy diffuses out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a high T region than out of a low T region, implying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t energy flow from HOT to COLD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current, H, depends on the gradient of temperatur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For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ous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change of T along x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T / d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For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p interfac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between hot and cold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612880" y="2700360"/>
            <a:ext cx="3353040" cy="714240"/>
            <a:chOff x="2612880" y="2700360"/>
            <a:chExt cx="3353040" cy="714240"/>
          </a:xfrm>
        </p:grpSpPr>
        <p:sp>
          <p:nvSpPr>
            <p:cNvPr id="121" name=""/>
            <p:cNvSpPr/>
            <p:nvPr/>
          </p:nvSpPr>
          <p:spPr>
            <a:xfrm>
              <a:off x="2612880" y="2700360"/>
              <a:ext cx="1640160" cy="7048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38640" y="2709720"/>
              <a:ext cx="1727280" cy="704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17800" y="2852640"/>
              <a:ext cx="75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O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22920" y="285264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COL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13200" y="290988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17880" y="324324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908520" y="308124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84240" y="63360"/>
            <a:ext cx="71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onduction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8040" y="1303200"/>
            <a:ext cx="829296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eat current dens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heat flow per unit area through a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/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 =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dT / dx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(- sign because heat flows toward col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hermal conductiv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proportionality constant, a property of the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/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otal heat curr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total heat flow through the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 = J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54280" y="2103480"/>
            <a:ext cx="1811520" cy="515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4000" y="4297320"/>
            <a:ext cx="1144440" cy="479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575080" y="5051520"/>
            <a:ext cx="3852720" cy="1538280"/>
            <a:chOff x="2575080" y="5051520"/>
            <a:chExt cx="3852720" cy="1538280"/>
          </a:xfrm>
        </p:grpSpPr>
        <p:grpSp>
          <p:nvGrpSpPr>
            <p:cNvPr id="133" name=""/>
            <p:cNvGrpSpPr/>
            <p:nvPr/>
          </p:nvGrpSpPr>
          <p:grpSpPr>
            <a:xfrm>
              <a:off x="2575080" y="5051520"/>
              <a:ext cx="3321000" cy="1261440"/>
              <a:chOff x="2575080" y="5051520"/>
              <a:chExt cx="3321000" cy="1261440"/>
            </a:xfrm>
          </p:grpSpPr>
          <p:sp>
            <p:nvSpPr>
              <p:cNvPr id="134" name=""/>
              <p:cNvSpPr/>
              <p:nvPr/>
            </p:nvSpPr>
            <p:spPr>
              <a:xfrm>
                <a:off x="2575080" y="5052960"/>
                <a:ext cx="738360" cy="1260000"/>
              </a:xfrm>
              <a:prstGeom prst="ellipse">
                <a:avLst/>
              </a:prstGeom>
              <a:gradFill rotWithShape="0">
                <a:gsLst>
                  <a:gs pos="0">
                    <a:srgbClr val="00ff99"/>
                  </a:gs>
                  <a:gs pos="50000">
                    <a:srgbClr val="007546"/>
                  </a:gs>
                  <a:gs pos="100000">
                    <a:srgbClr val="00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57760" y="5060880"/>
                <a:ext cx="2573280" cy="1252080"/>
              </a:xfrm>
              <a:prstGeom prst="rect">
                <a:avLst/>
              </a:prstGeom>
              <a:gradFill rotWithShape="0">
                <a:gsLst>
                  <a:gs pos="0">
                    <a:srgbClr val="00ff99"/>
                  </a:gs>
                  <a:gs pos="50000">
                    <a:srgbClr val="007546"/>
                  </a:gs>
                  <a:gs pos="100000">
                    <a:srgbClr val="00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58080" y="5051520"/>
                <a:ext cx="738000" cy="126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698200" y="630252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83360" y="6313320"/>
              <a:ext cx="49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ol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38960" y="5407200"/>
              <a:ext cx="125280" cy="2124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2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92600" y="5513400"/>
              <a:ext cx="452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30680" y="5780160"/>
              <a:ext cx="897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915160" y="5014800"/>
            <a:ext cx="132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J is the heat flow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er unit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87680" y="5843520"/>
            <a:ext cx="174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H is the total heat flow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the whole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0-21T21:29:38Z</dcterms:modified>
  <cp:revision>35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