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3.wmf" ContentType="image/x-wmf"/>
  <Override PartName="/ppt/media/image9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11.wmf" ContentType="image/x-wmf"/>
  <Override PartName="/ppt/media/image7.png" ContentType="image/png"/>
  <Override PartName="/ppt/media/image6.wmf" ContentType="image/x-wmf"/>
  <Override PartName="/ppt/media/image10.wmf" ContentType="image/x-wmf"/>
  <Override PartName="/ppt/media/image22.wmf" ContentType="image/x-wmf"/>
  <Override PartName="/ppt/media/image5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5.png" ContentType="image/png"/>
  <Override PartName="/ppt/media/image14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018240" y="9145440"/>
            <a:ext cx="12805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4378789A-ECE6-4F81-B5F0-75125EA8045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2654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tirling (hand held) - no time for the other Stirling eng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rmolectric powered f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team eng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Stirling demo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Steam engine and thermoelectric fan here 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 Because number of states ~V^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ill show this explicitly in HW for an ideal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3, p </a:t>
            </a:r>
            <a:fld id="{FEE800DF-D632-4EAF-BC08-A4D5ED2BC09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53920" y="54000"/>
            <a:ext cx="7452000" cy="85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t">
            <a:noAutofit/>
          </a:bodyPr>
          <a:p>
            <a:pPr indent="0" algn="ctr">
              <a:lnSpc>
                <a:spcPct val="120000"/>
              </a:lnSpc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3</a:t>
            </a:r>
            <a:br>
              <a:rPr sz="40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Heat Engines</a:t>
            </a:r>
            <a:br>
              <a:rPr sz="4000"/>
            </a:b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6360" y="2139840"/>
            <a:ext cx="6135840" cy="24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processes and entr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cy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racting work from he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do we define engine efficienc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rnot cycle: the best possible efficie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2200" y="5149800"/>
            <a:ext cx="34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ading for this Lectur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4D-E, 10A-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23880" y="1262160"/>
            <a:ext cx="5106960" cy="255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wo blocks, each with heat capacity*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 = 1 J/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re initially at differen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emperature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50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350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y are then placed into contact, and eventually reach a final temperature of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0 K. (Why?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can you say abou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otal change in entropy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lt;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 0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3508560" y="62640"/>
            <a:ext cx="210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  <a:ea typeface="MS PGothic"/>
              </a:rPr>
              <a:t>ACT 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5429520" y="1363320"/>
            <a:ext cx="3331800" cy="2293560"/>
            <a:chOff x="5429520" y="1363320"/>
            <a:chExt cx="3331800" cy="2293560"/>
          </a:xfrm>
        </p:grpSpPr>
        <p:sp>
          <p:nvSpPr>
            <p:cNvPr id="175" name="Text Box 4"/>
            <p:cNvSpPr/>
            <p:nvPr/>
          </p:nvSpPr>
          <p:spPr>
            <a:xfrm>
              <a:off x="5429520" y="1448280"/>
              <a:ext cx="9903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Text Box 5"/>
            <p:cNvSpPr/>
            <p:nvPr/>
          </p:nvSpPr>
          <p:spPr>
            <a:xfrm>
              <a:off x="6494760" y="1449720"/>
              <a:ext cx="9903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Text Box 6"/>
            <p:cNvSpPr/>
            <p:nvPr/>
          </p:nvSpPr>
          <p:spPr>
            <a:xfrm>
              <a:off x="5793840" y="2269080"/>
              <a:ext cx="9489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Text Box 7"/>
            <p:cNvSpPr/>
            <p:nvPr/>
          </p:nvSpPr>
          <p:spPr>
            <a:xfrm>
              <a:off x="6210000" y="2269080"/>
              <a:ext cx="9489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Text Box 8"/>
            <p:cNvSpPr/>
            <p:nvPr/>
          </p:nvSpPr>
          <p:spPr>
            <a:xfrm>
              <a:off x="7335720" y="1363320"/>
              <a:ext cx="1425600" cy="136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250K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350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  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f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300 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Text Box 13"/>
            <p:cNvSpPr/>
            <p:nvPr/>
          </p:nvSpPr>
          <p:spPr>
            <a:xfrm>
              <a:off x="6391440" y="2832840"/>
              <a:ext cx="2226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wo masses each with heat capacity </a:t>
              </a:r>
              <a:br>
                <a:rPr sz="1600"/>
              </a:br>
              <a:r>
                <a:rPr b="0" lang="en-US" sz="16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C = 1J/K*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1" name="Text Box 14"/>
          <p:cNvSpPr/>
          <p:nvPr/>
        </p:nvSpPr>
        <p:spPr>
          <a:xfrm>
            <a:off x="211680" y="6404040"/>
            <a:ext cx="52556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cc"/>
                </a:solidFill>
                <a:latin typeface="Arial"/>
                <a:ea typeface="MS PGothic"/>
              </a:rPr>
              <a:t>*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For a solid, C = C</a:t>
            </a:r>
            <a:r>
              <a:rPr b="1" lang="en-US" sz="1200" spc="-1" strike="noStrike" baseline="-25000">
                <a:solidFill>
                  <a:srgbClr val="00ffcc"/>
                </a:solidFill>
                <a:latin typeface="Arial"/>
                <a:ea typeface="MS PGothic"/>
              </a:rPr>
              <a:t>V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 = C</a:t>
            </a:r>
            <a:r>
              <a:rPr b="1" lang="en-US" sz="1200" spc="-1" strike="noStrike" baseline="-25000">
                <a:solidFill>
                  <a:srgbClr val="00ffcc"/>
                </a:solidFill>
                <a:latin typeface="Arial"/>
                <a:ea typeface="MS PGothic"/>
              </a:rPr>
              <a:t>p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, to good approximation, since </a:t>
            </a:r>
            <a:r>
              <a:rPr b="1" lang="en-US" sz="12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V </a:t>
            </a:r>
            <a:r>
              <a:rPr b="1" lang="en-US" sz="1200" spc="-1" strike="noStrike">
                <a:solidFill>
                  <a:srgbClr val="00ffcc"/>
                </a:solidFill>
                <a:latin typeface="Symbol"/>
                <a:ea typeface="Symbol"/>
              </a:rPr>
              <a:t>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 0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23880" y="1262160"/>
            <a:ext cx="5106960" cy="255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wo blocks, each with heat capacity*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 = 1 J/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re initially at differen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emperature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50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350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y are then placed into contact, and eventually reach a final temperature of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0 K. (Why?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can you say abou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otal change in entropy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lt;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 0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3" name="Text Box 12"/>
          <p:cNvSpPr/>
          <p:nvPr/>
        </p:nvSpPr>
        <p:spPr>
          <a:xfrm>
            <a:off x="3200040" y="62640"/>
            <a:ext cx="271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  <a:ea typeface="MS PGothic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5429520" y="1363320"/>
            <a:ext cx="3331800" cy="2293560"/>
            <a:chOff x="5429520" y="1363320"/>
            <a:chExt cx="3331800" cy="2293560"/>
          </a:xfrm>
        </p:grpSpPr>
        <p:sp>
          <p:nvSpPr>
            <p:cNvPr id="185" name="Text Box 4"/>
            <p:cNvSpPr/>
            <p:nvPr/>
          </p:nvSpPr>
          <p:spPr>
            <a:xfrm>
              <a:off x="5429520" y="1448280"/>
              <a:ext cx="9903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Text Box 5"/>
            <p:cNvSpPr/>
            <p:nvPr/>
          </p:nvSpPr>
          <p:spPr>
            <a:xfrm>
              <a:off x="6494760" y="1449720"/>
              <a:ext cx="9903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Text Box 6"/>
            <p:cNvSpPr/>
            <p:nvPr/>
          </p:nvSpPr>
          <p:spPr>
            <a:xfrm>
              <a:off x="5793840" y="2269080"/>
              <a:ext cx="9489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Text Box 7"/>
            <p:cNvSpPr/>
            <p:nvPr/>
          </p:nvSpPr>
          <p:spPr>
            <a:xfrm>
              <a:off x="6210000" y="2269080"/>
              <a:ext cx="9489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Text Box 8"/>
            <p:cNvSpPr/>
            <p:nvPr/>
          </p:nvSpPr>
          <p:spPr>
            <a:xfrm>
              <a:off x="7335720" y="1363320"/>
              <a:ext cx="1425600" cy="136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250K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350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  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f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300 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Text Box 13"/>
            <p:cNvSpPr/>
            <p:nvPr/>
          </p:nvSpPr>
          <p:spPr>
            <a:xfrm>
              <a:off x="6391440" y="2832840"/>
              <a:ext cx="2226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wo masses each with heat capacity </a:t>
              </a:r>
              <a:br>
                <a:rPr sz="1600"/>
              </a:br>
              <a:r>
                <a:rPr b="0" lang="en-US" sz="16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C = 1J/K*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1" name="Text Box 14"/>
          <p:cNvSpPr/>
          <p:nvPr/>
        </p:nvSpPr>
        <p:spPr>
          <a:xfrm>
            <a:off x="223560" y="6404040"/>
            <a:ext cx="52412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  <a:ea typeface="MS PGothic"/>
              </a:rPr>
              <a:t>*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For a solid, C = C</a:t>
            </a:r>
            <a:r>
              <a:rPr b="0" lang="en-US" sz="1200" spc="-1" strike="noStrike" baseline="-25000">
                <a:solidFill>
                  <a:srgbClr val="00ffcc"/>
                </a:solidFill>
                <a:latin typeface="Arial"/>
                <a:ea typeface="MS PGothic"/>
              </a:rPr>
              <a:t>V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 = C</a:t>
            </a:r>
            <a:r>
              <a:rPr b="0" lang="en-US" sz="1200" spc="-1" strike="noStrike" baseline="-25000">
                <a:solidFill>
                  <a:srgbClr val="00ffcc"/>
                </a:solidFill>
                <a:latin typeface="Arial"/>
                <a:ea typeface="MS PGothic"/>
              </a:rPr>
              <a:t>p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, to good approximation, because </a:t>
            </a:r>
            <a:r>
              <a:rPr b="0" lang="en-US" sz="12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V </a:t>
            </a:r>
            <a:r>
              <a:rPr b="0" lang="en-US" sz="1200" spc="-1" strike="noStrike">
                <a:solidFill>
                  <a:srgbClr val="00ffcc"/>
                </a:solidFill>
                <a:latin typeface="Symbol"/>
                <a:ea typeface="Symbol"/>
              </a:rPr>
              <a:t>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 0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94000" y="3384720"/>
            <a:ext cx="1468440" cy="5364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ext Box 9"/>
          <p:cNvSpPr/>
          <p:nvPr/>
        </p:nvSpPr>
        <p:spPr>
          <a:xfrm>
            <a:off x="550800" y="4035600"/>
            <a:ext cx="752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MS PGothic"/>
              </a:rPr>
              <a:t>This is an irreversible process, so there must be a net increase in entropy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MS PGothic"/>
              </a:rPr>
              <a:t>Let’s calculate 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MS PGothic"/>
              </a:rPr>
              <a:t>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2544840" y="4433760"/>
          <a:ext cx="4048200" cy="178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4840" y="4433760"/>
                    <a:ext cx="4048200" cy="17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5578920" y="5076720"/>
            <a:ext cx="255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positive term is slightly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igger than the negative term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650960" y="641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08840" y="1994040"/>
            <a:ext cx="329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chor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constant volum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8800" y="55080"/>
            <a:ext cx="838224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A Review of Some Thermodynamic Processes of an Ideal Ga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4902120" y="2227320"/>
            <a:ext cx="2030400" cy="1703880"/>
            <a:chOff x="4902120" y="2227320"/>
            <a:chExt cx="2030400" cy="1703880"/>
          </a:xfrm>
        </p:grpSpPr>
        <p:sp>
          <p:nvSpPr>
            <p:cNvPr id="201" name=""/>
            <p:cNvSpPr/>
            <p:nvPr/>
          </p:nvSpPr>
          <p:spPr>
            <a:xfrm>
              <a:off x="5999400" y="353232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5311800" y="2227320"/>
              <a:ext cx="0" cy="1239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5311800" y="3455640"/>
              <a:ext cx="1620720" cy="11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902120" y="268452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6067440" y="2816280"/>
              <a:ext cx="0" cy="3888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6067440" y="2552760"/>
              <a:ext cx="0" cy="3268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135840" y="3124440"/>
              <a:ext cx="25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148440" y="2344680"/>
              <a:ext cx="19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997600" y="2422440"/>
              <a:ext cx="138240" cy="1270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97600" y="3205080"/>
              <a:ext cx="138240" cy="1270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11" name=""/>
          <p:cNvGraphicFramePr/>
          <p:nvPr/>
        </p:nvGraphicFramePr>
        <p:xfrm>
          <a:off x="1187280" y="2517840"/>
          <a:ext cx="2587680" cy="125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517840"/>
                    <a:ext cx="2587680" cy="12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3" name=""/>
          <p:cNvGrpSpPr/>
          <p:nvPr/>
        </p:nvGrpSpPr>
        <p:grpSpPr>
          <a:xfrm>
            <a:off x="7088040" y="2463840"/>
            <a:ext cx="1432080" cy="1385280"/>
            <a:chOff x="7088040" y="2463840"/>
            <a:chExt cx="1432080" cy="1385280"/>
          </a:xfrm>
        </p:grpSpPr>
        <p:grpSp>
          <p:nvGrpSpPr>
            <p:cNvPr id="214" name=""/>
            <p:cNvGrpSpPr/>
            <p:nvPr/>
          </p:nvGrpSpPr>
          <p:grpSpPr>
            <a:xfrm>
              <a:off x="7601040" y="2463840"/>
              <a:ext cx="641160" cy="881640"/>
              <a:chOff x="7601040" y="2463840"/>
              <a:chExt cx="641160" cy="88164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7601040" y="2463840"/>
                <a:ext cx="641160" cy="881640"/>
                <a:chOff x="7601040" y="2463840"/>
                <a:chExt cx="641160" cy="881640"/>
              </a:xfrm>
            </p:grpSpPr>
            <p:grpSp>
              <p:nvGrpSpPr>
                <p:cNvPr id="216" name=""/>
                <p:cNvGrpSpPr/>
                <p:nvPr/>
              </p:nvGrpSpPr>
              <p:grpSpPr>
                <a:xfrm>
                  <a:off x="7601040" y="2463840"/>
                  <a:ext cx="641160" cy="615960"/>
                  <a:chOff x="7601040" y="2463840"/>
                  <a:chExt cx="641160" cy="615960"/>
                </a:xfrm>
              </p:grpSpPr>
              <p:sp>
                <p:nvSpPr>
                  <p:cNvPr id="217" name=""/>
                  <p:cNvSpPr/>
                  <p:nvPr/>
                </p:nvSpPr>
                <p:spPr>
                  <a:xfrm>
                    <a:off x="7763040" y="2744640"/>
                    <a:ext cx="2844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7978680" y="27464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8070840" y="295740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7891560" y="2849400"/>
                    <a:ext cx="2700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7601040" y="2468520"/>
                    <a:ext cx="120600" cy="58716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8129520" y="2463840"/>
                    <a:ext cx="112680" cy="59508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7604280" y="3043080"/>
                    <a:ext cx="634680" cy="36720"/>
                  </a:xfrm>
                  <a:prstGeom prst="rect">
                    <a:avLst/>
                  </a:prstGeom>
                  <a:solidFill>
                    <a:srgbClr val="cc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7866000" y="27446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8069400" y="27446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>
                    <a:off x="7738920" y="2849400"/>
                    <a:ext cx="2556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>
                    <a:off x="7738920" y="2952720"/>
                    <a:ext cx="2556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7967520" y="2977920"/>
                    <a:ext cx="27000" cy="241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>
                    <a:off x="7993080" y="2849400"/>
                    <a:ext cx="2700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7815240" y="279720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7891560" y="2977920"/>
                    <a:ext cx="27000" cy="241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>
                    <a:off x="7942320" y="290016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7942320" y="279720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815240" y="287496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8043840" y="290016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8069400" y="2849400"/>
                    <a:ext cx="2700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8029440" y="27986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7866000" y="292572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7707240" y="2498760"/>
                    <a:ext cx="84240" cy="104760"/>
                  </a:xfrm>
                  <a:prstGeom prst="rect">
                    <a:avLst/>
                  </a:prstGeom>
                  <a:solidFill>
                    <a:srgbClr val="cc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>
                    <a:off x="7718400" y="2600280"/>
                    <a:ext cx="411120" cy="101520"/>
                  </a:xfrm>
                  <a:prstGeom prst="rect">
                    <a:avLst/>
                  </a:prstGeom>
                  <a:solidFill>
                    <a:srgbClr val="fafd00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1" name=""/>
                <p:cNvGrpSpPr/>
                <p:nvPr/>
              </p:nvGrpSpPr>
              <p:grpSpPr>
                <a:xfrm>
                  <a:off x="7770960" y="2900160"/>
                  <a:ext cx="369720" cy="445320"/>
                  <a:chOff x="7770960" y="2900160"/>
                  <a:chExt cx="369720" cy="445320"/>
                </a:xfrm>
              </p:grpSpPr>
              <p:sp>
                <p:nvSpPr>
                  <p:cNvPr id="242" name=""/>
                  <p:cNvSpPr/>
                  <p:nvPr/>
                </p:nvSpPr>
                <p:spPr>
                  <a:xfrm>
                    <a:off x="7770960" y="3155760"/>
                    <a:ext cx="369720" cy="18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28440" bIns="28440" anchor="t">
                    <a:spAutoFit/>
                  </a:bodyPr>
                  <a:p>
                    <a:pPr>
                      <a:lnSpc>
                        <a:spcPct val="87000"/>
                      </a:lnSpc>
                      <a:tabLst>
                        <a:tab algn="l" pos="0"/>
                        <a:tab algn="l" pos="1028880"/>
                        <a:tab algn="l" pos="2057400"/>
                        <a:tab algn="l" pos="3086280"/>
                        <a:tab algn="l" pos="4114800"/>
                        <a:tab algn="l" pos="5143680"/>
                        <a:tab algn="l" pos="6172200"/>
                        <a:tab algn="l" pos="7201080"/>
                        <a:tab algn="l" pos="8229600"/>
                        <a:tab algn="l" pos="9258480"/>
                        <a:tab algn="l" pos="10287000"/>
                      </a:tabLst>
                    </a:pPr>
                    <a:r>
                      <a:rPr b="1" i="1" lang="en-US" sz="1000" spc="-1" strike="noStrike">
                        <a:solidFill>
                          <a:srgbClr val="ff0000"/>
                        </a:solidFill>
                        <a:latin typeface="Comic Sans MS"/>
                      </a:rPr>
                      <a:t>Q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 flipH="1" flipV="1">
                    <a:off x="7913160" y="2900160"/>
                    <a:ext cx="8280" cy="270000"/>
                  </a:xfrm>
                  <a:prstGeom prst="line">
                    <a:avLst/>
                  </a:prstGeom>
                  <a:ln w="19080">
                    <a:solidFill>
                      <a:srgbClr val="00ff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44" name=""/>
              <p:cNvSpPr/>
              <p:nvPr/>
            </p:nvSpPr>
            <p:spPr>
              <a:xfrm>
                <a:off x="8062920" y="2502000"/>
                <a:ext cx="84240" cy="1047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7088040" y="3390120"/>
              <a:ext cx="1432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emperature chang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4964040" y="4772160"/>
            <a:ext cx="2098800" cy="1622880"/>
            <a:chOff x="4964040" y="4772160"/>
            <a:chExt cx="2098800" cy="1622880"/>
          </a:xfrm>
        </p:grpSpPr>
        <p:sp>
          <p:nvSpPr>
            <p:cNvPr id="247" name=""/>
            <p:cNvSpPr/>
            <p:nvPr/>
          </p:nvSpPr>
          <p:spPr>
            <a:xfrm>
              <a:off x="6183720" y="599616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721480" y="5180040"/>
              <a:ext cx="947520" cy="701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5369040" y="4772160"/>
              <a:ext cx="0" cy="11095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369040" y="5889600"/>
              <a:ext cx="1693800" cy="32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964040" y="518004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788080" y="5180040"/>
              <a:ext cx="47448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195960" y="5180040"/>
              <a:ext cx="4064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584680" y="4830840"/>
              <a:ext cx="25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534000" y="4830840"/>
              <a:ext cx="19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602400" y="5122800"/>
              <a:ext cx="135000" cy="1126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653080" y="5122800"/>
              <a:ext cx="135000" cy="1126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6962760" y="4619880"/>
            <a:ext cx="1782720" cy="1818000"/>
            <a:chOff x="6962760" y="4619880"/>
            <a:chExt cx="1782720" cy="1818000"/>
          </a:xfrm>
        </p:grpSpPr>
        <p:grpSp>
          <p:nvGrpSpPr>
            <p:cNvPr id="259" name=""/>
            <p:cNvGrpSpPr/>
            <p:nvPr/>
          </p:nvGrpSpPr>
          <p:grpSpPr>
            <a:xfrm>
              <a:off x="7448400" y="4619880"/>
              <a:ext cx="860760" cy="1264680"/>
              <a:chOff x="7448400" y="4619880"/>
              <a:chExt cx="860760" cy="126468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7621560" y="5003280"/>
                <a:ext cx="641520" cy="881280"/>
                <a:chOff x="7621560" y="5003280"/>
                <a:chExt cx="641520" cy="881280"/>
              </a:xfrm>
            </p:grpSpPr>
            <p:grpSp>
              <p:nvGrpSpPr>
                <p:cNvPr id="261" name=""/>
                <p:cNvGrpSpPr/>
                <p:nvPr/>
              </p:nvGrpSpPr>
              <p:grpSpPr>
                <a:xfrm>
                  <a:off x="7621560" y="5003280"/>
                  <a:ext cx="641520" cy="615240"/>
                  <a:chOff x="7621560" y="5003280"/>
                  <a:chExt cx="641520" cy="615240"/>
                </a:xfrm>
              </p:grpSpPr>
              <p:sp>
                <p:nvSpPr>
                  <p:cNvPr id="262" name=""/>
                  <p:cNvSpPr/>
                  <p:nvPr/>
                </p:nvSpPr>
                <p:spPr>
                  <a:xfrm>
                    <a:off x="7783560" y="5284080"/>
                    <a:ext cx="2844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7999560" y="528552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8091360" y="549684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7912080" y="5388840"/>
                    <a:ext cx="270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7621560" y="5007960"/>
                    <a:ext cx="120600" cy="58680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8150400" y="5003280"/>
                    <a:ext cx="112680" cy="59508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7624800" y="5582520"/>
                    <a:ext cx="635040" cy="36000"/>
                  </a:xfrm>
                  <a:prstGeom prst="rect">
                    <a:avLst/>
                  </a:prstGeom>
                  <a:solidFill>
                    <a:srgbClr val="cc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7886880" y="528408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8089920" y="528408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7759800" y="5388840"/>
                    <a:ext cx="252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>
                    <a:off x="7759800" y="5492160"/>
                    <a:ext cx="252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7988400" y="551736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8013600" y="5388840"/>
                    <a:ext cx="270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7835760" y="533628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7912080" y="551736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7962840" y="543960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7962840" y="533628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7835760" y="541440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8064360" y="543960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8089920" y="5388840"/>
                    <a:ext cx="270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8050320" y="533808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>
                    <a:off x="7886880" y="546516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>
                    <a:off x="7738920" y="5139720"/>
                    <a:ext cx="411480" cy="101160"/>
                  </a:xfrm>
                  <a:prstGeom prst="rect">
                    <a:avLst/>
                  </a:prstGeom>
                  <a:solidFill>
                    <a:srgbClr val="fafd00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5" name=""/>
                <p:cNvGrpSpPr/>
                <p:nvPr/>
              </p:nvGrpSpPr>
              <p:grpSpPr>
                <a:xfrm>
                  <a:off x="7791480" y="5439240"/>
                  <a:ext cx="369720" cy="445320"/>
                  <a:chOff x="7791480" y="5439240"/>
                  <a:chExt cx="369720" cy="44532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>
                    <a:off x="7791480" y="5694840"/>
                    <a:ext cx="369720" cy="18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28440" bIns="28440" anchor="t">
                    <a:spAutoFit/>
                  </a:bodyPr>
                  <a:p>
                    <a:pPr>
                      <a:lnSpc>
                        <a:spcPct val="87000"/>
                      </a:lnSpc>
                      <a:tabLst>
                        <a:tab algn="l" pos="0"/>
                        <a:tab algn="l" pos="1028880"/>
                        <a:tab algn="l" pos="2057400"/>
                        <a:tab algn="l" pos="3086280"/>
                        <a:tab algn="l" pos="4114800"/>
                        <a:tab algn="l" pos="5143680"/>
                        <a:tab algn="l" pos="6172200"/>
                        <a:tab algn="l" pos="7201080"/>
                        <a:tab algn="l" pos="8229600"/>
                        <a:tab algn="l" pos="9258480"/>
                        <a:tab algn="l" pos="10287000"/>
                      </a:tabLst>
                    </a:pPr>
                    <a:r>
                      <a:rPr b="1" i="1" lang="en-US" sz="1000" spc="-1" strike="noStrike">
                        <a:solidFill>
                          <a:srgbClr val="ff0000"/>
                        </a:solidFill>
                        <a:latin typeface="Comic Sans MS"/>
                      </a:rPr>
                      <a:t>Q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7933680" y="5439240"/>
                    <a:ext cx="8280" cy="269640"/>
                  </a:xfrm>
                  <a:prstGeom prst="line">
                    <a:avLst/>
                  </a:prstGeom>
                  <a:ln w="19080">
                    <a:solidFill>
                      <a:srgbClr val="00ff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88" name=""/>
              <p:cNvSpPr/>
              <p:nvPr/>
            </p:nvSpPr>
            <p:spPr>
              <a:xfrm>
                <a:off x="7950240" y="4863600"/>
                <a:ext cx="0" cy="255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448400" y="4619880"/>
                <a:ext cx="860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>
              <a:off x="6962760" y="5978880"/>
              <a:ext cx="1782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emperature and volume chan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762840" y="4259160"/>
            <a:ext cx="334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bar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constant pressur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1150920" y="4908600"/>
          <a:ext cx="3370320" cy="133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50920" y="4908600"/>
                    <a:ext cx="3370320" cy="13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4" name=""/>
          <p:cNvSpPr/>
          <p:nvPr/>
        </p:nvSpPr>
        <p:spPr>
          <a:xfrm>
            <a:off x="641520" y="1268280"/>
            <a:ext cx="5712840" cy="58068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 will assume ideal gases in our treatment of heat engines,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ecause that simplifies the calculation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" name=""/>
          <p:cNvGrpSpPr/>
          <p:nvPr/>
        </p:nvGrpSpPr>
        <p:grpSpPr>
          <a:xfrm>
            <a:off x="4976640" y="1365120"/>
            <a:ext cx="2065320" cy="1819800"/>
            <a:chOff x="4976640" y="1365120"/>
            <a:chExt cx="2065320" cy="1819800"/>
          </a:xfrm>
        </p:grpSpPr>
        <p:sp>
          <p:nvSpPr>
            <p:cNvPr id="296" name=""/>
            <p:cNvSpPr/>
            <p:nvPr/>
          </p:nvSpPr>
          <p:spPr>
            <a:xfrm>
              <a:off x="5704560" y="1840680"/>
              <a:ext cx="911880" cy="883080"/>
            </a:xfrm>
            <a:custGeom>
              <a:avLst/>
              <a:gdLst/>
              <a:ahLst/>
              <a:rect l="l" t="t" r="r" b="b"/>
              <a:pathLst>
                <a:path w="720" h="624">
                  <a:moveTo>
                    <a:pt x="0" y="624"/>
                  </a:moveTo>
                  <a:lnTo>
                    <a:pt x="0" y="0"/>
                  </a:lnTo>
                  <a:cubicBezTo>
                    <a:pt x="2" y="5"/>
                    <a:pt x="3" y="10"/>
                    <a:pt x="5" y="15"/>
                  </a:cubicBezTo>
                  <a:cubicBezTo>
                    <a:pt x="7" y="24"/>
                    <a:pt x="11" y="26"/>
                    <a:pt x="18" y="33"/>
                  </a:cubicBezTo>
                  <a:cubicBezTo>
                    <a:pt x="32" y="47"/>
                    <a:pt x="43" y="65"/>
                    <a:pt x="59" y="78"/>
                  </a:cubicBezTo>
                  <a:cubicBezTo>
                    <a:pt x="66" y="89"/>
                    <a:pt x="73" y="98"/>
                    <a:pt x="86" y="99"/>
                  </a:cubicBezTo>
                  <a:cubicBezTo>
                    <a:pt x="101" y="118"/>
                    <a:pt x="118" y="119"/>
                    <a:pt x="137" y="132"/>
                  </a:cubicBezTo>
                  <a:cubicBezTo>
                    <a:pt x="152" y="157"/>
                    <a:pt x="201" y="182"/>
                    <a:pt x="228" y="194"/>
                  </a:cubicBezTo>
                  <a:cubicBezTo>
                    <a:pt x="239" y="199"/>
                    <a:pt x="249" y="208"/>
                    <a:pt x="261" y="210"/>
                  </a:cubicBezTo>
                  <a:cubicBezTo>
                    <a:pt x="269" y="214"/>
                    <a:pt x="275" y="218"/>
                    <a:pt x="284" y="219"/>
                  </a:cubicBezTo>
                  <a:cubicBezTo>
                    <a:pt x="296" y="225"/>
                    <a:pt x="290" y="223"/>
                    <a:pt x="299" y="225"/>
                  </a:cubicBezTo>
                  <a:cubicBezTo>
                    <a:pt x="308" y="229"/>
                    <a:pt x="319" y="232"/>
                    <a:pt x="329" y="234"/>
                  </a:cubicBezTo>
                  <a:cubicBezTo>
                    <a:pt x="340" y="239"/>
                    <a:pt x="348" y="242"/>
                    <a:pt x="360" y="243"/>
                  </a:cubicBezTo>
                  <a:cubicBezTo>
                    <a:pt x="368" y="246"/>
                    <a:pt x="375" y="251"/>
                    <a:pt x="384" y="252"/>
                  </a:cubicBezTo>
                  <a:cubicBezTo>
                    <a:pt x="395" y="256"/>
                    <a:pt x="408" y="259"/>
                    <a:pt x="419" y="261"/>
                  </a:cubicBezTo>
                  <a:cubicBezTo>
                    <a:pt x="425" y="264"/>
                    <a:pt x="430" y="266"/>
                    <a:pt x="437" y="267"/>
                  </a:cubicBezTo>
                  <a:cubicBezTo>
                    <a:pt x="446" y="271"/>
                    <a:pt x="458" y="270"/>
                    <a:pt x="468" y="272"/>
                  </a:cubicBezTo>
                  <a:cubicBezTo>
                    <a:pt x="475" y="276"/>
                    <a:pt x="483" y="278"/>
                    <a:pt x="491" y="279"/>
                  </a:cubicBezTo>
                  <a:cubicBezTo>
                    <a:pt x="497" y="282"/>
                    <a:pt x="502" y="284"/>
                    <a:pt x="509" y="285"/>
                  </a:cubicBezTo>
                  <a:cubicBezTo>
                    <a:pt x="515" y="288"/>
                    <a:pt x="523" y="290"/>
                    <a:pt x="530" y="291"/>
                  </a:cubicBezTo>
                  <a:cubicBezTo>
                    <a:pt x="542" y="297"/>
                    <a:pt x="556" y="295"/>
                    <a:pt x="569" y="297"/>
                  </a:cubicBezTo>
                  <a:cubicBezTo>
                    <a:pt x="586" y="306"/>
                    <a:pt x="607" y="307"/>
                    <a:pt x="626" y="308"/>
                  </a:cubicBezTo>
                  <a:cubicBezTo>
                    <a:pt x="639" y="310"/>
                    <a:pt x="655" y="316"/>
                    <a:pt x="668" y="320"/>
                  </a:cubicBezTo>
                  <a:cubicBezTo>
                    <a:pt x="676" y="326"/>
                    <a:pt x="689" y="325"/>
                    <a:pt x="698" y="326"/>
                  </a:cubicBezTo>
                  <a:cubicBezTo>
                    <a:pt x="704" y="326"/>
                    <a:pt x="716" y="327"/>
                    <a:pt x="716" y="327"/>
                  </a:cubicBezTo>
                  <a:lnTo>
                    <a:pt x="720" y="624"/>
                  </a:lnTo>
                  <a:lnTo>
                    <a:pt x="0" y="62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5400360" y="1432800"/>
              <a:ext cx="0" cy="1290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976640" y="187488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132960" y="278604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582880" y="1365120"/>
              <a:ext cx="25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516720" y="18392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008760" y="2112480"/>
              <a:ext cx="182160" cy="6804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704560" y="1840680"/>
              <a:ext cx="0" cy="88308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616800" y="2316240"/>
              <a:ext cx="0" cy="40752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400360" y="2723760"/>
              <a:ext cx="1641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700600" y="1861920"/>
              <a:ext cx="901800" cy="429840"/>
            </a:xfrm>
            <a:custGeom>
              <a:avLst/>
              <a:gdLst/>
              <a:ahLst/>
              <a:rect l="l" t="t" r="r" b="b"/>
              <a:pathLst>
                <a:path w="528" h="240">
                  <a:moveTo>
                    <a:pt x="0" y="0"/>
                  </a:moveTo>
                  <a:cubicBezTo>
                    <a:pt x="52" y="52"/>
                    <a:pt x="104" y="104"/>
                    <a:pt x="192" y="144"/>
                  </a:cubicBezTo>
                  <a:cubicBezTo>
                    <a:pt x="280" y="184"/>
                    <a:pt x="404" y="212"/>
                    <a:pt x="528" y="240"/>
                  </a:cubicBezTo>
                </a:path>
              </a:pathLst>
            </a:custGeom>
            <a:noFill/>
            <a:ln w="381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632200" y="1785600"/>
              <a:ext cx="145440" cy="16272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533280" y="2205720"/>
              <a:ext cx="145440" cy="16272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6993000" y="888840"/>
            <a:ext cx="1861920" cy="2822400"/>
            <a:chOff x="6993000" y="888840"/>
            <a:chExt cx="1861920" cy="2822400"/>
          </a:xfrm>
        </p:grpSpPr>
        <p:grpSp>
          <p:nvGrpSpPr>
            <p:cNvPr id="310" name=""/>
            <p:cNvGrpSpPr/>
            <p:nvPr/>
          </p:nvGrpSpPr>
          <p:grpSpPr>
            <a:xfrm>
              <a:off x="6993000" y="888840"/>
              <a:ext cx="1861920" cy="2254320"/>
              <a:chOff x="6993000" y="888840"/>
              <a:chExt cx="1861920" cy="2254320"/>
            </a:xfrm>
          </p:grpSpPr>
          <mc:AlternateContent>
            <mc:Choice xmlns:a14="http://schemas.microsoft.com/office/drawing/2010/main" Requires="a14">
              <p:sp>
                <p:nvSpPr>
                  <p:cNvPr id="311" name=""/>
                  <p:cNvSpPr txBox="1"/>
                  <p:nvPr/>
                </p:nvSpPr>
                <p:spPr>
                  <a:xfrm>
                    <a:off x="7670880" y="888840"/>
                    <a:ext cx="455400" cy="427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∝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312" name=""/>
              <p:cNvGrpSpPr/>
              <p:nvPr/>
            </p:nvGrpSpPr>
            <p:grpSpPr>
              <a:xfrm>
                <a:off x="6993000" y="1352520"/>
                <a:ext cx="1861920" cy="1790640"/>
                <a:chOff x="6993000" y="1352520"/>
                <a:chExt cx="1861920" cy="1790640"/>
              </a:xfrm>
            </p:grpSpPr>
            <p:grpSp>
              <p:nvGrpSpPr>
                <p:cNvPr id="313" name=""/>
                <p:cNvGrpSpPr/>
                <p:nvPr/>
              </p:nvGrpSpPr>
              <p:grpSpPr>
                <a:xfrm>
                  <a:off x="6993000" y="1492200"/>
                  <a:ext cx="1861920" cy="1650960"/>
                  <a:chOff x="6993000" y="1492200"/>
                  <a:chExt cx="1861920" cy="1650960"/>
                </a:xfrm>
              </p:grpSpPr>
              <p:grpSp>
                <p:nvGrpSpPr>
                  <p:cNvPr id="314" name=""/>
                  <p:cNvGrpSpPr/>
                  <p:nvPr/>
                </p:nvGrpSpPr>
                <p:grpSpPr>
                  <a:xfrm>
                    <a:off x="7562880" y="1492200"/>
                    <a:ext cx="640800" cy="615960"/>
                    <a:chOff x="7562880" y="1492200"/>
                    <a:chExt cx="640800" cy="615960"/>
                  </a:xfrm>
                </p:grpSpPr>
                <p:sp>
                  <p:nvSpPr>
                    <p:cNvPr id="315" name=""/>
                    <p:cNvSpPr/>
                    <p:nvPr/>
                  </p:nvSpPr>
                  <p:spPr>
                    <a:xfrm>
                      <a:off x="7724520" y="1773360"/>
                      <a:ext cx="2808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6" name=""/>
                    <p:cNvSpPr/>
                    <p:nvPr/>
                  </p:nvSpPr>
                  <p:spPr>
                    <a:xfrm>
                      <a:off x="7940520" y="1774800"/>
                      <a:ext cx="26640" cy="241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7" name=""/>
                    <p:cNvSpPr/>
                    <p:nvPr/>
                  </p:nvSpPr>
                  <p:spPr>
                    <a:xfrm>
                      <a:off x="8032320" y="198612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8" name=""/>
                    <p:cNvSpPr/>
                    <p:nvPr/>
                  </p:nvSpPr>
                  <p:spPr>
                    <a:xfrm>
                      <a:off x="7853040" y="1878120"/>
                      <a:ext cx="266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9" name=""/>
                    <p:cNvSpPr/>
                    <p:nvPr/>
                  </p:nvSpPr>
                  <p:spPr>
                    <a:xfrm>
                      <a:off x="7562880" y="1497240"/>
                      <a:ext cx="120240" cy="587160"/>
                    </a:xfrm>
                    <a:prstGeom prst="rect">
                      <a:avLst/>
                    </a:prstGeom>
                    <a:solidFill>
                      <a:srgbClr val="cc6600"/>
                    </a:solidFill>
                    <a:ln w="17640">
                      <a:solidFill>
                        <a:srgbClr val="00004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0" name=""/>
                    <p:cNvSpPr/>
                    <p:nvPr/>
                  </p:nvSpPr>
                  <p:spPr>
                    <a:xfrm>
                      <a:off x="8091360" y="1492200"/>
                      <a:ext cx="112320" cy="595440"/>
                    </a:xfrm>
                    <a:prstGeom prst="rect">
                      <a:avLst/>
                    </a:prstGeom>
                    <a:solidFill>
                      <a:srgbClr val="cc6600"/>
                    </a:solidFill>
                    <a:ln w="17640">
                      <a:solidFill>
                        <a:srgbClr val="00004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1" name=""/>
                    <p:cNvSpPr/>
                    <p:nvPr/>
                  </p:nvSpPr>
                  <p:spPr>
                    <a:xfrm>
                      <a:off x="7565760" y="2071800"/>
                      <a:ext cx="634680" cy="36360"/>
                    </a:xfrm>
                    <a:prstGeom prst="rect">
                      <a:avLst/>
                    </a:prstGeom>
                    <a:solidFill>
                      <a:srgbClr val="cc66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2" name=""/>
                    <p:cNvSpPr/>
                    <p:nvPr/>
                  </p:nvSpPr>
                  <p:spPr>
                    <a:xfrm>
                      <a:off x="7827840" y="177336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3" name=""/>
                    <p:cNvSpPr/>
                    <p:nvPr/>
                  </p:nvSpPr>
                  <p:spPr>
                    <a:xfrm>
                      <a:off x="8030880" y="177336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4" name=""/>
                    <p:cNvSpPr/>
                    <p:nvPr/>
                  </p:nvSpPr>
                  <p:spPr>
                    <a:xfrm>
                      <a:off x="7700760" y="1878120"/>
                      <a:ext cx="248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5" name=""/>
                    <p:cNvSpPr/>
                    <p:nvPr/>
                  </p:nvSpPr>
                  <p:spPr>
                    <a:xfrm>
                      <a:off x="7700760" y="1981440"/>
                      <a:ext cx="248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6" name=""/>
                    <p:cNvSpPr/>
                    <p:nvPr/>
                  </p:nvSpPr>
                  <p:spPr>
                    <a:xfrm>
                      <a:off x="7929360" y="200664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>
                      <a:off x="7954560" y="1878120"/>
                      <a:ext cx="266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8" name=""/>
                    <p:cNvSpPr/>
                    <p:nvPr/>
                  </p:nvSpPr>
                  <p:spPr>
                    <a:xfrm>
                      <a:off x="7776720" y="1825560"/>
                      <a:ext cx="26640" cy="241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>
                      <a:off x="7853040" y="200664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0" name=""/>
                    <p:cNvSpPr/>
                    <p:nvPr/>
                  </p:nvSpPr>
                  <p:spPr>
                    <a:xfrm>
                      <a:off x="7903800" y="192888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" name=""/>
                    <p:cNvSpPr/>
                    <p:nvPr/>
                  </p:nvSpPr>
                  <p:spPr>
                    <a:xfrm>
                      <a:off x="7903800" y="1825560"/>
                      <a:ext cx="26640" cy="241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2" name=""/>
                    <p:cNvSpPr/>
                    <p:nvPr/>
                  </p:nvSpPr>
                  <p:spPr>
                    <a:xfrm>
                      <a:off x="7776720" y="190368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3" name=""/>
                    <p:cNvSpPr/>
                    <p:nvPr/>
                  </p:nvSpPr>
                  <p:spPr>
                    <a:xfrm>
                      <a:off x="8005320" y="192888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4" name=""/>
                    <p:cNvSpPr/>
                    <p:nvPr/>
                  </p:nvSpPr>
                  <p:spPr>
                    <a:xfrm>
                      <a:off x="8030880" y="1878120"/>
                      <a:ext cx="266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5" name=""/>
                    <p:cNvSpPr/>
                    <p:nvPr/>
                  </p:nvSpPr>
                  <p:spPr>
                    <a:xfrm>
                      <a:off x="7991280" y="182736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6" name=""/>
                    <p:cNvSpPr/>
                    <p:nvPr/>
                  </p:nvSpPr>
                  <p:spPr>
                    <a:xfrm>
                      <a:off x="7827840" y="195444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7" name=""/>
                    <p:cNvSpPr/>
                    <p:nvPr/>
                  </p:nvSpPr>
                  <p:spPr>
                    <a:xfrm>
                      <a:off x="7679880" y="1629000"/>
                      <a:ext cx="411120" cy="101520"/>
                    </a:xfrm>
                    <a:prstGeom prst="rect">
                      <a:avLst/>
                    </a:prstGeom>
                    <a:solidFill>
                      <a:srgbClr val="fafd00"/>
                    </a:solidFill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38" name=""/>
                  <p:cNvGrpSpPr/>
                  <p:nvPr/>
                </p:nvGrpSpPr>
                <p:grpSpPr>
                  <a:xfrm>
                    <a:off x="7732800" y="1928880"/>
                    <a:ext cx="369720" cy="445320"/>
                    <a:chOff x="7732800" y="1928880"/>
                    <a:chExt cx="369720" cy="445320"/>
                  </a:xfrm>
                </p:grpSpPr>
                <p:sp>
                  <p:nvSpPr>
                    <p:cNvPr id="339" name=""/>
                    <p:cNvSpPr/>
                    <p:nvPr/>
                  </p:nvSpPr>
                  <p:spPr>
                    <a:xfrm>
                      <a:off x="7732800" y="2184480"/>
                      <a:ext cx="369720" cy="18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28440" bIns="28440" anchor="t">
                      <a:sp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Q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0" name=""/>
                    <p:cNvSpPr/>
                    <p:nvPr/>
                  </p:nvSpPr>
                  <p:spPr>
                    <a:xfrm flipH="1" flipV="1">
                      <a:off x="7875000" y="1928880"/>
                      <a:ext cx="8280" cy="270000"/>
                    </a:xfrm>
                    <a:prstGeom prst="line">
                      <a:avLst/>
                    </a:prstGeom>
                    <a:ln w="19080">
                      <a:solidFill>
                        <a:srgbClr val="00ff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41" name=""/>
                  <p:cNvSpPr/>
                  <p:nvPr/>
                </p:nvSpPr>
                <p:spPr>
                  <a:xfrm>
                    <a:off x="7335720" y="2147760"/>
                    <a:ext cx="1201680" cy="995400"/>
                  </a:xfrm>
                  <a:prstGeom prst="rect">
                    <a:avLst/>
                  </a:prstGeom>
                  <a:solidFill>
                    <a:srgbClr val="990099">
                      <a:alpha val="50000"/>
                    </a:srgbClr>
                  </a:solidFill>
                  <a:ln w="32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>
                    <a:off x="6993000" y="2552400"/>
                    <a:ext cx="1861920" cy="570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marL="285840" indent="-285840" algn="ctr"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Thermal Reservoir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marL="285840" indent="-285840" algn="ctr">
                      <a:lnSpc>
                        <a:spcPct val="10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T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3" name=""/>
                <p:cNvSpPr/>
                <p:nvPr/>
              </p:nvSpPr>
              <p:spPr>
                <a:xfrm>
                  <a:off x="7891560" y="1352520"/>
                  <a:ext cx="0" cy="255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44" name=""/>
            <p:cNvSpPr/>
            <p:nvPr/>
          </p:nvSpPr>
          <p:spPr>
            <a:xfrm>
              <a:off x="7020000" y="3252240"/>
              <a:ext cx="1782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olume and pressure chan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5015160" y="4435560"/>
            <a:ext cx="2165040" cy="1625760"/>
            <a:chOff x="5015160" y="4435560"/>
            <a:chExt cx="2165040" cy="1625760"/>
          </a:xfrm>
        </p:grpSpPr>
        <p:sp>
          <p:nvSpPr>
            <p:cNvPr id="346" name=""/>
            <p:cNvSpPr/>
            <p:nvPr/>
          </p:nvSpPr>
          <p:spPr>
            <a:xfrm>
              <a:off x="5015160" y="493380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5440320" y="4435560"/>
              <a:ext cx="1739880" cy="1625760"/>
              <a:chOff x="5440320" y="4435560"/>
              <a:chExt cx="1739880" cy="1625760"/>
            </a:xfrm>
          </p:grpSpPr>
          <p:sp>
            <p:nvSpPr>
              <p:cNvPr id="348" name=""/>
              <p:cNvSpPr/>
              <p:nvPr/>
            </p:nvSpPr>
            <p:spPr>
              <a:xfrm>
                <a:off x="5762160" y="4728960"/>
                <a:ext cx="966600" cy="586080"/>
              </a:xfrm>
              <a:custGeom>
                <a:avLst/>
                <a:gdLst/>
                <a:ahLst/>
                <a:rect l="l" t="t" r="r" b="b"/>
                <a:pathLst>
                  <a:path w="720" h="480">
                    <a:moveTo>
                      <a:pt x="0" y="0"/>
                    </a:moveTo>
                    <a:lnTo>
                      <a:pt x="0" y="480"/>
                    </a:lnTo>
                    <a:lnTo>
                      <a:pt x="720" y="480"/>
                    </a:lnTo>
                    <a:cubicBezTo>
                      <a:pt x="672" y="464"/>
                      <a:pt x="625" y="443"/>
                      <a:pt x="576" y="432"/>
                    </a:cubicBezTo>
                    <a:cubicBezTo>
                      <a:pt x="569" y="431"/>
                      <a:pt x="583" y="444"/>
                      <a:pt x="585" y="450"/>
                    </a:cubicBezTo>
                    <a:cubicBezTo>
                      <a:pt x="586" y="453"/>
                      <a:pt x="579" y="447"/>
                      <a:pt x="576" y="446"/>
                    </a:cubicBezTo>
                    <a:cubicBezTo>
                      <a:pt x="571" y="444"/>
                      <a:pt x="567" y="443"/>
                      <a:pt x="563" y="440"/>
                    </a:cubicBezTo>
                    <a:cubicBezTo>
                      <a:pt x="568" y="434"/>
                      <a:pt x="570" y="435"/>
                      <a:pt x="576" y="432"/>
                    </a:cubicBezTo>
                    <a:cubicBezTo>
                      <a:pt x="566" y="425"/>
                      <a:pt x="548" y="418"/>
                      <a:pt x="536" y="416"/>
                    </a:cubicBezTo>
                    <a:cubicBezTo>
                      <a:pt x="529" y="413"/>
                      <a:pt x="521" y="411"/>
                      <a:pt x="513" y="410"/>
                    </a:cubicBezTo>
                    <a:cubicBezTo>
                      <a:pt x="507" y="407"/>
                      <a:pt x="501" y="405"/>
                      <a:pt x="495" y="404"/>
                    </a:cubicBezTo>
                    <a:cubicBezTo>
                      <a:pt x="488" y="399"/>
                      <a:pt x="479" y="394"/>
                      <a:pt x="471" y="392"/>
                    </a:cubicBezTo>
                    <a:cubicBezTo>
                      <a:pt x="462" y="385"/>
                      <a:pt x="430" y="376"/>
                      <a:pt x="419" y="374"/>
                    </a:cubicBezTo>
                    <a:cubicBezTo>
                      <a:pt x="384" y="362"/>
                      <a:pt x="352" y="330"/>
                      <a:pt x="315" y="326"/>
                    </a:cubicBezTo>
                    <a:cubicBezTo>
                      <a:pt x="307" y="320"/>
                      <a:pt x="296" y="314"/>
                      <a:pt x="287" y="309"/>
                    </a:cubicBezTo>
                    <a:cubicBezTo>
                      <a:pt x="279" y="298"/>
                      <a:pt x="266" y="297"/>
                      <a:pt x="255" y="291"/>
                    </a:cubicBezTo>
                    <a:cubicBezTo>
                      <a:pt x="247" y="286"/>
                      <a:pt x="241" y="279"/>
                      <a:pt x="233" y="273"/>
                    </a:cubicBezTo>
                    <a:cubicBezTo>
                      <a:pt x="222" y="265"/>
                      <a:pt x="209" y="258"/>
                      <a:pt x="198" y="249"/>
                    </a:cubicBezTo>
                    <a:cubicBezTo>
                      <a:pt x="195" y="239"/>
                      <a:pt x="194" y="239"/>
                      <a:pt x="186" y="234"/>
                    </a:cubicBezTo>
                    <a:cubicBezTo>
                      <a:pt x="182" y="228"/>
                      <a:pt x="174" y="223"/>
                      <a:pt x="168" y="219"/>
                    </a:cubicBezTo>
                    <a:cubicBezTo>
                      <a:pt x="163" y="212"/>
                      <a:pt x="157" y="207"/>
                      <a:pt x="150" y="203"/>
                    </a:cubicBezTo>
                    <a:cubicBezTo>
                      <a:pt x="142" y="193"/>
                      <a:pt x="134" y="182"/>
                      <a:pt x="123" y="176"/>
                    </a:cubicBezTo>
                    <a:cubicBezTo>
                      <a:pt x="103" y="147"/>
                      <a:pt x="72" y="123"/>
                      <a:pt x="57" y="90"/>
                    </a:cubicBezTo>
                    <a:cubicBezTo>
                      <a:pt x="56" y="83"/>
                      <a:pt x="52" y="80"/>
                      <a:pt x="48" y="74"/>
                    </a:cubicBezTo>
                    <a:cubicBezTo>
                      <a:pt x="45" y="66"/>
                      <a:pt x="46" y="61"/>
                      <a:pt x="39" y="57"/>
                    </a:cubicBezTo>
                    <a:cubicBezTo>
                      <a:pt x="35" y="49"/>
                      <a:pt x="29" y="45"/>
                      <a:pt x="24" y="38"/>
                    </a:cubicBezTo>
                    <a:cubicBezTo>
                      <a:pt x="21" y="33"/>
                      <a:pt x="14" y="24"/>
                      <a:pt x="14" y="24"/>
                    </a:cubicBezTo>
                    <a:cubicBezTo>
                      <a:pt x="12" y="15"/>
                      <a:pt x="11" y="11"/>
                      <a:pt x="3" y="6"/>
                    </a:cubicBezTo>
                    <a:cubicBezTo>
                      <a:pt x="0" y="1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762160" y="4963320"/>
                <a:ext cx="966600" cy="645120"/>
              </a:xfrm>
              <a:custGeom>
                <a:avLst/>
                <a:gdLst/>
                <a:ahLst/>
                <a:rect l="l" t="t" r="r" b="b"/>
                <a:pathLst>
                  <a:path w="720" h="624">
                    <a:moveTo>
                      <a:pt x="0" y="624"/>
                    </a:moveTo>
                    <a:lnTo>
                      <a:pt x="0" y="0"/>
                    </a:lnTo>
                    <a:cubicBezTo>
                      <a:pt x="2" y="5"/>
                      <a:pt x="3" y="10"/>
                      <a:pt x="5" y="15"/>
                    </a:cubicBezTo>
                    <a:cubicBezTo>
                      <a:pt x="7" y="24"/>
                      <a:pt x="11" y="26"/>
                      <a:pt x="18" y="33"/>
                    </a:cubicBezTo>
                    <a:cubicBezTo>
                      <a:pt x="32" y="47"/>
                      <a:pt x="43" y="65"/>
                      <a:pt x="59" y="78"/>
                    </a:cubicBezTo>
                    <a:cubicBezTo>
                      <a:pt x="66" y="89"/>
                      <a:pt x="73" y="98"/>
                      <a:pt x="86" y="99"/>
                    </a:cubicBezTo>
                    <a:cubicBezTo>
                      <a:pt x="101" y="118"/>
                      <a:pt x="118" y="119"/>
                      <a:pt x="137" y="132"/>
                    </a:cubicBezTo>
                    <a:cubicBezTo>
                      <a:pt x="152" y="157"/>
                      <a:pt x="201" y="182"/>
                      <a:pt x="228" y="194"/>
                    </a:cubicBezTo>
                    <a:cubicBezTo>
                      <a:pt x="239" y="199"/>
                      <a:pt x="249" y="208"/>
                      <a:pt x="261" y="210"/>
                    </a:cubicBezTo>
                    <a:cubicBezTo>
                      <a:pt x="269" y="214"/>
                      <a:pt x="275" y="218"/>
                      <a:pt x="284" y="219"/>
                    </a:cubicBezTo>
                    <a:cubicBezTo>
                      <a:pt x="296" y="225"/>
                      <a:pt x="290" y="223"/>
                      <a:pt x="299" y="225"/>
                    </a:cubicBezTo>
                    <a:cubicBezTo>
                      <a:pt x="308" y="229"/>
                      <a:pt x="319" y="232"/>
                      <a:pt x="329" y="234"/>
                    </a:cubicBezTo>
                    <a:cubicBezTo>
                      <a:pt x="340" y="239"/>
                      <a:pt x="348" y="242"/>
                      <a:pt x="360" y="243"/>
                    </a:cubicBezTo>
                    <a:cubicBezTo>
                      <a:pt x="368" y="246"/>
                      <a:pt x="375" y="251"/>
                      <a:pt x="384" y="252"/>
                    </a:cubicBezTo>
                    <a:cubicBezTo>
                      <a:pt x="395" y="256"/>
                      <a:pt x="408" y="259"/>
                      <a:pt x="419" y="261"/>
                    </a:cubicBezTo>
                    <a:cubicBezTo>
                      <a:pt x="425" y="264"/>
                      <a:pt x="430" y="266"/>
                      <a:pt x="437" y="267"/>
                    </a:cubicBezTo>
                    <a:cubicBezTo>
                      <a:pt x="446" y="271"/>
                      <a:pt x="458" y="270"/>
                      <a:pt x="468" y="272"/>
                    </a:cubicBezTo>
                    <a:cubicBezTo>
                      <a:pt x="475" y="276"/>
                      <a:pt x="483" y="278"/>
                      <a:pt x="491" y="279"/>
                    </a:cubicBezTo>
                    <a:cubicBezTo>
                      <a:pt x="497" y="282"/>
                      <a:pt x="502" y="284"/>
                      <a:pt x="509" y="285"/>
                    </a:cubicBezTo>
                    <a:cubicBezTo>
                      <a:pt x="515" y="288"/>
                      <a:pt x="523" y="290"/>
                      <a:pt x="530" y="291"/>
                    </a:cubicBezTo>
                    <a:cubicBezTo>
                      <a:pt x="542" y="297"/>
                      <a:pt x="556" y="295"/>
                      <a:pt x="569" y="297"/>
                    </a:cubicBezTo>
                    <a:cubicBezTo>
                      <a:pt x="586" y="306"/>
                      <a:pt x="607" y="307"/>
                      <a:pt x="626" y="308"/>
                    </a:cubicBezTo>
                    <a:cubicBezTo>
                      <a:pt x="639" y="310"/>
                      <a:pt x="655" y="316"/>
                      <a:pt x="668" y="320"/>
                    </a:cubicBezTo>
                    <a:cubicBezTo>
                      <a:pt x="676" y="326"/>
                      <a:pt x="689" y="325"/>
                      <a:pt x="698" y="326"/>
                    </a:cubicBezTo>
                    <a:cubicBezTo>
                      <a:pt x="704" y="326"/>
                      <a:pt x="716" y="327"/>
                      <a:pt x="716" y="327"/>
                    </a:cubicBezTo>
                    <a:lnTo>
                      <a:pt x="720" y="624"/>
                    </a:lnTo>
                    <a:lnTo>
                      <a:pt x="0" y="624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V="1">
                <a:off x="5440320" y="4493880"/>
                <a:ext cx="0" cy="1114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215760" y="566244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635800" y="4435560"/>
                <a:ext cx="266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622920" y="48470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6041520" y="5036760"/>
                <a:ext cx="257760" cy="13932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762160" y="4728960"/>
                <a:ext cx="0" cy="87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728760" y="5256720"/>
                <a:ext cx="0" cy="35172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440320" y="5608440"/>
                <a:ext cx="17398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762160" y="4731120"/>
                <a:ext cx="966600" cy="586440"/>
              </a:xfrm>
              <a:custGeom>
                <a:avLst/>
                <a:gdLst/>
                <a:ahLst/>
                <a:rect l="l" t="t" r="r" b="b"/>
                <a:pathLst>
                  <a:path w="528" h="240">
                    <a:moveTo>
                      <a:pt x="0" y="0"/>
                    </a:moveTo>
                    <a:cubicBezTo>
                      <a:pt x="52" y="52"/>
                      <a:pt x="104" y="104"/>
                      <a:pt x="192" y="144"/>
                    </a:cubicBezTo>
                    <a:cubicBezTo>
                      <a:pt x="280" y="184"/>
                      <a:pt x="404" y="212"/>
                      <a:pt x="528" y="240"/>
                    </a:cubicBezTo>
                  </a:path>
                </a:pathLst>
              </a:custGeom>
              <a:noFill/>
              <a:ln w="38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681520" y="4669920"/>
                <a:ext cx="154440" cy="140400"/>
              </a:xfrm>
              <a:prstGeom prst="ellipse">
                <a:avLst/>
              </a:pr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648120" y="5231880"/>
                <a:ext cx="154440" cy="140760"/>
              </a:xfrm>
              <a:prstGeom prst="ellipse">
                <a:avLst/>
              </a:pr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1" name=""/>
          <p:cNvGrpSpPr/>
          <p:nvPr/>
        </p:nvGrpSpPr>
        <p:grpSpPr>
          <a:xfrm>
            <a:off x="7088040" y="4222800"/>
            <a:ext cx="1783080" cy="1731240"/>
            <a:chOff x="7088040" y="4222800"/>
            <a:chExt cx="1783080" cy="1731240"/>
          </a:xfrm>
        </p:grpSpPr>
        <p:grpSp>
          <p:nvGrpSpPr>
            <p:cNvPr id="362" name=""/>
            <p:cNvGrpSpPr/>
            <p:nvPr/>
          </p:nvGrpSpPr>
          <p:grpSpPr>
            <a:xfrm>
              <a:off x="7645320" y="4222800"/>
              <a:ext cx="677880" cy="1177920"/>
              <a:chOff x="7645320" y="4222800"/>
              <a:chExt cx="677880" cy="1177920"/>
            </a:xfrm>
          </p:grpSpPr>
          <mc:AlternateContent>
            <mc:Choice xmlns:a14="http://schemas.microsoft.com/office/drawing/2010/main" Requires="a14">
              <p:sp>
                <p:nvSpPr>
                  <p:cNvPr id="363" name=""/>
                  <p:cNvSpPr txBox="1"/>
                  <p:nvPr/>
                </p:nvSpPr>
                <p:spPr>
                  <a:xfrm>
                    <a:off x="7723080" y="4222800"/>
                    <a:ext cx="600120" cy="442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∝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γ</m:t>
                                </m:r>
                              </m:sup>
                            </m:sSup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364" name=""/>
              <p:cNvGrpSpPr/>
              <p:nvPr/>
            </p:nvGrpSpPr>
            <p:grpSpPr>
              <a:xfrm>
                <a:off x="7645320" y="4784760"/>
                <a:ext cx="641520" cy="615960"/>
                <a:chOff x="7645320" y="4784760"/>
                <a:chExt cx="641520" cy="61596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7807320" y="5065920"/>
                  <a:ext cx="2844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8023320" y="5067360"/>
                  <a:ext cx="27000" cy="241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8115120" y="527868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7935840" y="5170680"/>
                  <a:ext cx="270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7645320" y="4789800"/>
                  <a:ext cx="120600" cy="587160"/>
                </a:xfrm>
                <a:prstGeom prst="rect">
                  <a:avLst/>
                </a:prstGeom>
                <a:solidFill>
                  <a:srgbClr val="cc6600"/>
                </a:solidFill>
                <a:ln w="1764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8174160" y="4784760"/>
                  <a:ext cx="112680" cy="595440"/>
                </a:xfrm>
                <a:prstGeom prst="rect">
                  <a:avLst/>
                </a:prstGeom>
                <a:solidFill>
                  <a:srgbClr val="cc6600"/>
                </a:solidFill>
                <a:ln w="1764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7648560" y="5364360"/>
                  <a:ext cx="635040" cy="36360"/>
                </a:xfrm>
                <a:prstGeom prst="rect">
                  <a:avLst/>
                </a:prstGeom>
                <a:solidFill>
                  <a:srgbClr val="cc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7910640" y="506592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8113680" y="506592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7783560" y="5170680"/>
                  <a:ext cx="252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7783560" y="5274000"/>
                  <a:ext cx="252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8012160" y="529920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8037360" y="5170680"/>
                  <a:ext cx="270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7859520" y="5118120"/>
                  <a:ext cx="27000" cy="241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7935840" y="529920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7986600" y="522144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7986600" y="5118120"/>
                  <a:ext cx="27000" cy="241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7859520" y="519624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8088120" y="522144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8113680" y="5170680"/>
                  <a:ext cx="270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8074080" y="511992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7910640" y="524700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7762680" y="4921560"/>
                  <a:ext cx="411480" cy="101520"/>
                </a:xfrm>
                <a:prstGeom prst="rect">
                  <a:avLst/>
                </a:prstGeom>
                <a:solidFill>
                  <a:srgbClr val="fafd00"/>
                </a:solidFill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8" name=""/>
              <p:cNvSpPr/>
              <p:nvPr/>
            </p:nvSpPr>
            <p:spPr>
              <a:xfrm>
                <a:off x="7974000" y="4645080"/>
                <a:ext cx="0" cy="255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89" name=""/>
            <p:cNvSpPr/>
            <p:nvPr/>
          </p:nvSpPr>
          <p:spPr>
            <a:xfrm>
              <a:off x="7088040" y="5495040"/>
              <a:ext cx="1783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olume, pressure and temperature chan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>
            <a:off x="727920" y="1260360"/>
            <a:ext cx="40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thermal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constant temperatur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91" name=""/>
          <p:cNvGraphicFramePr/>
          <p:nvPr/>
        </p:nvGraphicFramePr>
        <p:xfrm>
          <a:off x="704880" y="1820880"/>
          <a:ext cx="421812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1820880"/>
                    <a:ext cx="421812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3" name=""/>
          <p:cNvSpPr/>
          <p:nvPr/>
        </p:nvSpPr>
        <p:spPr>
          <a:xfrm>
            <a:off x="388800" y="55440"/>
            <a:ext cx="83822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Review (2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33680" y="4043520"/>
            <a:ext cx="284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iabat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no heat flow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793800" y="4719600"/>
          <a:ext cx="3846600" cy="117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3800" y="4719600"/>
                    <a:ext cx="3846600" cy="11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88760" y="55440"/>
            <a:ext cx="7575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losed Thermodynamic Cycl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995400" y="2386080"/>
            <a:ext cx="2994840" cy="2040480"/>
            <a:chOff x="995400" y="2386080"/>
            <a:chExt cx="2994840" cy="2040480"/>
          </a:xfrm>
        </p:grpSpPr>
        <p:sp>
          <p:nvSpPr>
            <p:cNvPr id="399" name=""/>
            <p:cNvSpPr/>
            <p:nvPr/>
          </p:nvSpPr>
          <p:spPr>
            <a:xfrm flipV="1">
              <a:off x="1344600" y="2544480"/>
              <a:ext cx="0" cy="1523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640320" y="402768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995400" y="2386080"/>
              <a:ext cx="36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620720" y="3456000"/>
              <a:ext cx="307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614240" y="27352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344600" y="4068720"/>
              <a:ext cx="2549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396960" y="3062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947600" y="2913120"/>
              <a:ext cx="1398240" cy="709560"/>
            </a:xfrm>
            <a:custGeom>
              <a:avLst/>
              <a:gdLst/>
              <a:ahLst/>
              <a:rect l="l" t="t" r="r" b="b"/>
              <a:pathLst>
                <a:path w="576" h="336">
                  <a:moveTo>
                    <a:pt x="0" y="336"/>
                  </a:moveTo>
                  <a:lnTo>
                    <a:pt x="0" y="0"/>
                  </a:lnTo>
                  <a:lnTo>
                    <a:pt x="576" y="144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1947600" y="3136680"/>
              <a:ext cx="0" cy="7596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358720" y="3003480"/>
              <a:ext cx="328320" cy="6192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2462040" y="3375000"/>
              <a:ext cx="328320" cy="10008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865160" y="2836800"/>
              <a:ext cx="164880" cy="1476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263760" y="3141720"/>
              <a:ext cx="163080" cy="1476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865160" y="3541680"/>
              <a:ext cx="164880" cy="1476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3" name=""/>
          <p:cNvSpPr/>
          <p:nvPr/>
        </p:nvSpPr>
        <p:spPr>
          <a:xfrm>
            <a:off x="654120" y="1722600"/>
            <a:ext cx="800100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 closed cycle is one in which the system returns to the initial state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same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and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 For exampl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 is a state function.  Therefo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net work is the enclosed are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 is conserved (1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Law):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182960" y="1003320"/>
            <a:ext cx="65588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osed cycles will form the basis of our heat engine discuss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446720" y="4464000"/>
          <a:ext cx="1658880" cy="92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720" y="4464000"/>
                    <a:ext cx="165888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7" name=""/>
          <p:cNvSpPr/>
          <p:nvPr/>
        </p:nvSpPr>
        <p:spPr>
          <a:xfrm>
            <a:off x="6126120" y="4794120"/>
            <a:ext cx="185760" cy="590760"/>
          </a:xfrm>
          <a:custGeom>
            <a:avLst/>
            <a:gdLst>
              <a:gd name="textAreaLeft" fmla="*/ 0 w 185760"/>
              <a:gd name="textAreaRight" fmla="*/ 66960 w 185760"/>
              <a:gd name="textAreaTop" fmla="*/ 15120 h 590760"/>
              <a:gd name="textAreaBottom" fmla="*/ 575640 h 590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438960" y="4730760"/>
            <a:ext cx="2705040" cy="82404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the reason that neither W nor Q is a state function.  It makes no sense to talk about a state having a certain amount of W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55560" y="5757840"/>
            <a:ext cx="5537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ough of course we could use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curves to make a closed cycle, here we will consid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sochoric, isobaric, isothermal, and adiabatic process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51000" y="58680"/>
            <a:ext cx="84326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Introduction to Heat Engin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82120" y="972720"/>
            <a:ext cx="824076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ne of the primary applications of thermodynamics is to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urn heat into wor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standard heat engine works on a cyclic proces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xtract hea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rom a hot reservoir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erform wor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using some of the extracted heat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ump unused hea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to a cold reservoir (often the environment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repea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ver and over.   We represent this process with a diagra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688000" y="3327480"/>
            <a:ext cx="3133800" cy="73332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 “reservoir” is a large body whose temperature doesn’t change when it absorbs or gives up hea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1225440" y="3333600"/>
            <a:ext cx="3962520" cy="2261520"/>
            <a:chOff x="1225440" y="3333600"/>
            <a:chExt cx="3962520" cy="2261520"/>
          </a:xfrm>
        </p:grpSpPr>
        <p:sp>
          <p:nvSpPr>
            <p:cNvPr id="424" name=""/>
            <p:cNvSpPr/>
            <p:nvPr/>
          </p:nvSpPr>
          <p:spPr>
            <a:xfrm>
              <a:off x="4649760" y="4361040"/>
              <a:ext cx="538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147760" y="4152960"/>
              <a:ext cx="1567080" cy="723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967040" y="3333600"/>
              <a:ext cx="2406600" cy="41148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Hot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419200" y="3754440"/>
              <a:ext cx="0" cy="1461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28" name=""/>
            <p:cNvGrpSpPr/>
            <p:nvPr/>
          </p:nvGrpSpPr>
          <p:grpSpPr>
            <a:xfrm>
              <a:off x="3151080" y="3754440"/>
              <a:ext cx="1086120" cy="1450440"/>
              <a:chOff x="3151080" y="3754440"/>
              <a:chExt cx="1086120" cy="1450440"/>
            </a:xfrm>
          </p:grpSpPr>
          <p:sp>
            <p:nvSpPr>
              <p:cNvPr id="429" name=""/>
              <p:cNvSpPr/>
              <p:nvPr/>
            </p:nvSpPr>
            <p:spPr>
              <a:xfrm>
                <a:off x="3151080" y="4468680"/>
                <a:ext cx="0" cy="7362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164040" y="4468680"/>
                <a:ext cx="423720" cy="221760"/>
              </a:xfrm>
              <a:custGeom>
                <a:avLst/>
                <a:gdLst/>
                <a:ahLst/>
                <a:rect l="l" t="t" r="r" b="b"/>
                <a:pathLst>
                  <a:path w="240" h="152">
                    <a:moveTo>
                      <a:pt x="0" y="0"/>
                    </a:moveTo>
                    <a:cubicBezTo>
                      <a:pt x="11" y="52"/>
                      <a:pt x="23" y="104"/>
                      <a:pt x="48" y="128"/>
                    </a:cubicBezTo>
                    <a:cubicBezTo>
                      <a:pt x="73" y="152"/>
                      <a:pt x="120" y="141"/>
                      <a:pt x="152" y="144"/>
                    </a:cubicBezTo>
                    <a:cubicBezTo>
                      <a:pt x="184" y="147"/>
                      <a:pt x="225" y="144"/>
                      <a:pt x="240" y="144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3460680" y="3754440"/>
                <a:ext cx="0" cy="49176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460680" y="4233600"/>
                <a:ext cx="381240" cy="174240"/>
              </a:xfrm>
              <a:custGeom>
                <a:avLst/>
                <a:gdLst/>
                <a:ahLst/>
                <a:rect l="l" t="t" r="r" b="b"/>
                <a:pathLst>
                  <a:path w="201" h="95">
                    <a:moveTo>
                      <a:pt x="1" y="0"/>
                    </a:moveTo>
                    <a:cubicBezTo>
                      <a:pt x="0" y="32"/>
                      <a:pt x="0" y="65"/>
                      <a:pt x="33" y="80"/>
                    </a:cubicBezTo>
                    <a:cubicBezTo>
                      <a:pt x="66" y="95"/>
                      <a:pt x="173" y="87"/>
                      <a:pt x="201" y="88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801960" y="4397040"/>
                <a:ext cx="4352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575160" y="4678200"/>
                <a:ext cx="6476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V="1">
                <a:off x="4237200" y="4397040"/>
                <a:ext cx="0" cy="2808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>
              <a:off x="1225440" y="4327560"/>
              <a:ext cx="101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ngine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3930120" y="4535640"/>
              <a:ext cx="739800" cy="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2655720" y="3752640"/>
              <a:ext cx="0" cy="431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624040" y="3773520"/>
              <a:ext cx="4683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994040" y="5189400"/>
              <a:ext cx="242712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old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2681280" y="4787640"/>
              <a:ext cx="0" cy="38412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665440" y="4853160"/>
              <a:ext cx="663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3" name=""/>
          <p:cNvSpPr/>
          <p:nvPr/>
        </p:nvSpPr>
        <p:spPr>
          <a:xfrm>
            <a:off x="1274760" y="5935680"/>
            <a:ext cx="4089240" cy="3826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4000"/>
          </a:bodyPr>
          <a:p>
            <a:pPr marL="268560" indent="-2685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Energy is conserved: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+ W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667480" y="4681440"/>
            <a:ext cx="3049560" cy="57852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For heat engines 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we will define Q</a:t>
            </a:r>
            <a:r>
              <a:rPr b="0" lang="en-US" sz="1400" spc="-1" strike="noStrike" baseline="-25000">
                <a:solidFill>
                  <a:srgbClr val="fafd00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 , Q</a:t>
            </a:r>
            <a:r>
              <a:rPr b="0" lang="en-US" sz="1400" spc="-1" strike="noStrike" baseline="-25000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 , and W</a:t>
            </a:r>
            <a:r>
              <a:rPr b="0" lang="en-US" sz="14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 as positive.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99760" y="52560"/>
            <a:ext cx="79232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Simple Heat Engine:</a:t>
            </a:r>
            <a:br>
              <a:rPr sz="1800"/>
            </a:br>
            <a:br>
              <a:rPr sz="18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the Stirling Cycle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844200" y="5119560"/>
            <a:ext cx="65602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wo reservoir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 processes: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isotherms and two isoch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net work during one cycle: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rea of the “parallelogram”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2262240" y="-92880"/>
            <a:ext cx="4855680" cy="4942080"/>
            <a:chOff x="2262240" y="-92880"/>
            <a:chExt cx="4855680" cy="4942080"/>
          </a:xfrm>
        </p:grpSpPr>
        <p:grpSp>
          <p:nvGrpSpPr>
            <p:cNvPr id="448" name=""/>
            <p:cNvGrpSpPr/>
            <p:nvPr/>
          </p:nvGrpSpPr>
          <p:grpSpPr>
            <a:xfrm>
              <a:off x="2262240" y="-92880"/>
              <a:ext cx="4855680" cy="4942080"/>
              <a:chOff x="2262240" y="-92880"/>
              <a:chExt cx="4855680" cy="4942080"/>
            </a:xfrm>
          </p:grpSpPr>
          <p:sp>
            <p:nvSpPr>
              <p:cNvPr id="449" name=""/>
              <p:cNvSpPr/>
              <p:nvPr/>
            </p:nvSpPr>
            <p:spPr>
              <a:xfrm>
                <a:off x="5538600" y="446400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V="1">
                <a:off x="2585880" y="1747800"/>
                <a:ext cx="0" cy="2733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2598480" y="4481640"/>
                <a:ext cx="346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733640" y="3990960"/>
                <a:ext cx="4701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417920" y="3433680"/>
                <a:ext cx="941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471840" y="4478400"/>
                <a:ext cx="396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238640" y="4478400"/>
                <a:ext cx="6220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2262240" y="15778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384360" y="-81720"/>
                <a:ext cx="3733560" cy="3738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959" y="21220"/>
                    </a:moveTo>
                    <a:arcTo wR="10800" hR="10800" stAng="6315115" swAng="34984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959" y="21220"/>
                    </a:moveTo>
                    <a:arcTo wR="10800" hR="10800" stAng="6315115" swAng="3498494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2952000" y="418680"/>
                <a:ext cx="3735360" cy="373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305" y="21589"/>
                    </a:moveTo>
                    <a:arcTo wR="10800" hR="10800" stAng="5557570" swAng="387726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305" y="21589"/>
                    </a:moveTo>
                    <a:arcTo wR="10800" hR="10800" stAng="5557570" swAng="3877261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3376080" y="-92880"/>
                <a:ext cx="3734280" cy="3737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586" y="20258"/>
                    </a:moveTo>
                    <a:arcTo wR="10800" hR="10800" stAng="7131970" swAng="174534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586" y="20258"/>
                    </a:moveTo>
                    <a:arcTo wR="10800" hR="10800" stAng="7131970" swAng="1745341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head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946960" y="412560"/>
                <a:ext cx="3732120" cy="3737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283" y="21303"/>
                    </a:moveTo>
                    <a:arcTo wR="10800" hR="10800" stAng="6208640" swAng="146147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283" y="21303"/>
                    </a:moveTo>
                    <a:arcTo wR="10800" hR="10800" stAng="6208640" swAng="1461478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V="1">
                <a:off x="3632040" y="2784600"/>
                <a:ext cx="0" cy="94608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367160" y="3430440"/>
                <a:ext cx="0" cy="64620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632040" y="3722760"/>
                <a:ext cx="0" cy="78408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367160" y="4084560"/>
                <a:ext cx="0" cy="44460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65" name=""/>
            <p:cNvSpPr/>
            <p:nvPr/>
          </p:nvSpPr>
          <p:spPr>
            <a:xfrm>
              <a:off x="3381120" y="31161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881160" y="28875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341600" y="36306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870000" y="39546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162360" y="1160640"/>
            <a:ext cx="4502880" cy="23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ich processes in a Stirling cycl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rrespond to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the heat flow diagram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1 and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3 and 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14160" y="583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5247000" y="1116720"/>
            <a:ext cx="4855680" cy="4942080"/>
            <a:chOff x="5247000" y="1116720"/>
            <a:chExt cx="4855680" cy="4942080"/>
          </a:xfrm>
        </p:grpSpPr>
        <p:grpSp>
          <p:nvGrpSpPr>
            <p:cNvPr id="472" name=""/>
            <p:cNvGrpSpPr/>
            <p:nvPr/>
          </p:nvGrpSpPr>
          <p:grpSpPr>
            <a:xfrm>
              <a:off x="5247000" y="1116720"/>
              <a:ext cx="4855680" cy="4942080"/>
              <a:chOff x="5247000" y="1116720"/>
              <a:chExt cx="4855680" cy="4942080"/>
            </a:xfrm>
          </p:grpSpPr>
          <p:sp>
            <p:nvSpPr>
              <p:cNvPr id="473" name=""/>
              <p:cNvSpPr/>
              <p:nvPr/>
            </p:nvSpPr>
            <p:spPr>
              <a:xfrm>
                <a:off x="8523360" y="567360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5570640" y="2957400"/>
                <a:ext cx="0" cy="2733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583240" y="5691240"/>
                <a:ext cx="346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7718400" y="5200560"/>
                <a:ext cx="4701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7402680" y="4643280"/>
                <a:ext cx="941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456600" y="5688000"/>
                <a:ext cx="396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7223400" y="5688000"/>
                <a:ext cx="6220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247000" y="27874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6369120" y="1127880"/>
                <a:ext cx="3733560" cy="3738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959" y="21220"/>
                    </a:moveTo>
                    <a:arcTo wR="10800" hR="10800" stAng="6315115" swAng="34984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959" y="21220"/>
                    </a:moveTo>
                    <a:arcTo wR="10800" hR="10800" stAng="6315115" swAng="3498494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936760" y="1628280"/>
                <a:ext cx="3735360" cy="373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305" y="21589"/>
                    </a:moveTo>
                    <a:arcTo wR="10800" hR="10800" stAng="5557570" swAng="387726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305" y="21589"/>
                    </a:moveTo>
                    <a:arcTo wR="10800" hR="10800" stAng="5557570" swAng="3877261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360840" y="1116720"/>
                <a:ext cx="3734280" cy="3737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586" y="20258"/>
                    </a:moveTo>
                    <a:arcTo wR="10800" hR="10800" stAng="7131970" swAng="174534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586" y="20258"/>
                    </a:moveTo>
                    <a:arcTo wR="10800" hR="10800" stAng="7131970" swAng="1745341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head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931720" y="1622160"/>
                <a:ext cx="3732120" cy="3737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283" y="21303"/>
                    </a:moveTo>
                    <a:arcTo wR="10800" hR="10800" stAng="6208640" swAng="146147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283" y="21303"/>
                    </a:moveTo>
                    <a:arcTo wR="10800" hR="10800" stAng="6208640" swAng="1461478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V="1">
                <a:off x="6616800" y="3994200"/>
                <a:ext cx="0" cy="94608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351920" y="4640040"/>
                <a:ext cx="0" cy="64620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616800" y="4932360"/>
                <a:ext cx="0" cy="78408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351920" y="5294160"/>
                <a:ext cx="0" cy="44460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89" name=""/>
            <p:cNvSpPr/>
            <p:nvPr/>
          </p:nvSpPr>
          <p:spPr>
            <a:xfrm>
              <a:off x="6365160" y="43257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865200" y="40971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325640" y="48402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854040" y="51642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5000760" y="560520"/>
            <a:ext cx="3961800" cy="2261520"/>
            <a:chOff x="5000760" y="560520"/>
            <a:chExt cx="3961800" cy="2261520"/>
          </a:xfrm>
        </p:grpSpPr>
        <p:sp>
          <p:nvSpPr>
            <p:cNvPr id="494" name=""/>
            <p:cNvSpPr/>
            <p:nvPr/>
          </p:nvSpPr>
          <p:spPr>
            <a:xfrm>
              <a:off x="8424720" y="1587960"/>
              <a:ext cx="537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22720" y="1379880"/>
              <a:ext cx="1566720" cy="723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742000" y="560520"/>
              <a:ext cx="2406240" cy="41148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Hot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194160" y="981360"/>
              <a:ext cx="0" cy="1461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98" name=""/>
            <p:cNvGrpSpPr/>
            <p:nvPr/>
          </p:nvGrpSpPr>
          <p:grpSpPr>
            <a:xfrm>
              <a:off x="6926040" y="981360"/>
              <a:ext cx="1085760" cy="1450440"/>
              <a:chOff x="6926040" y="981360"/>
              <a:chExt cx="1085760" cy="1450440"/>
            </a:xfrm>
          </p:grpSpPr>
          <p:sp>
            <p:nvSpPr>
              <p:cNvPr id="499" name=""/>
              <p:cNvSpPr/>
              <p:nvPr/>
            </p:nvSpPr>
            <p:spPr>
              <a:xfrm>
                <a:off x="6926040" y="1695600"/>
                <a:ext cx="0" cy="7362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6938640" y="1695600"/>
                <a:ext cx="423360" cy="221760"/>
              </a:xfrm>
              <a:custGeom>
                <a:avLst/>
                <a:gdLst/>
                <a:ahLst/>
                <a:rect l="l" t="t" r="r" b="b"/>
                <a:pathLst>
                  <a:path w="240" h="152">
                    <a:moveTo>
                      <a:pt x="0" y="0"/>
                    </a:moveTo>
                    <a:cubicBezTo>
                      <a:pt x="11" y="52"/>
                      <a:pt x="23" y="104"/>
                      <a:pt x="48" y="128"/>
                    </a:cubicBezTo>
                    <a:cubicBezTo>
                      <a:pt x="73" y="152"/>
                      <a:pt x="120" y="141"/>
                      <a:pt x="152" y="144"/>
                    </a:cubicBezTo>
                    <a:cubicBezTo>
                      <a:pt x="184" y="147"/>
                      <a:pt x="225" y="144"/>
                      <a:pt x="240" y="144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7235280" y="981360"/>
                <a:ext cx="0" cy="49176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235280" y="1460520"/>
                <a:ext cx="380880" cy="174240"/>
              </a:xfrm>
              <a:custGeom>
                <a:avLst/>
                <a:gdLst/>
                <a:ahLst/>
                <a:rect l="l" t="t" r="r" b="b"/>
                <a:pathLst>
                  <a:path w="201" h="95">
                    <a:moveTo>
                      <a:pt x="1" y="0"/>
                    </a:moveTo>
                    <a:cubicBezTo>
                      <a:pt x="0" y="32"/>
                      <a:pt x="0" y="65"/>
                      <a:pt x="33" y="80"/>
                    </a:cubicBezTo>
                    <a:cubicBezTo>
                      <a:pt x="66" y="95"/>
                      <a:pt x="173" y="87"/>
                      <a:pt x="201" y="88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7576560" y="1623960"/>
                <a:ext cx="43488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349760" y="1905120"/>
                <a:ext cx="64728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V="1">
                <a:off x="8011800" y="1623960"/>
                <a:ext cx="0" cy="2808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000760" y="155448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ngine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>
              <a:off x="7705440" y="1762560"/>
              <a:ext cx="739440" cy="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6430680" y="979560"/>
              <a:ext cx="0" cy="431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399000" y="1000440"/>
              <a:ext cx="468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769000" y="2416320"/>
              <a:ext cx="242676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old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6456240" y="2014560"/>
              <a:ext cx="0" cy="38412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440400" y="2080080"/>
              <a:ext cx="663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162360" y="1160640"/>
            <a:ext cx="4502880" cy="23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ich processes in a Stirling cycl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rrespond to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the heat flow diagram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1 and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3 and 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14160" y="583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71360" y="3263760"/>
            <a:ext cx="526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rocess 1 is obvious, since we’re heating the ga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the isothermal expansion (process 2), although the temperature is kept constan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still have to put heat in to do the work from the expans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66680" y="2297160"/>
            <a:ext cx="1162080" cy="2667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5247000" y="1116720"/>
            <a:ext cx="4855680" cy="4942080"/>
            <a:chOff x="5247000" y="1116720"/>
            <a:chExt cx="4855680" cy="4942080"/>
          </a:xfrm>
        </p:grpSpPr>
        <p:grpSp>
          <p:nvGrpSpPr>
            <p:cNvPr id="518" name=""/>
            <p:cNvGrpSpPr/>
            <p:nvPr/>
          </p:nvGrpSpPr>
          <p:grpSpPr>
            <a:xfrm>
              <a:off x="5247000" y="1116720"/>
              <a:ext cx="4855680" cy="4942080"/>
              <a:chOff x="5247000" y="1116720"/>
              <a:chExt cx="4855680" cy="4942080"/>
            </a:xfrm>
          </p:grpSpPr>
          <p:sp>
            <p:nvSpPr>
              <p:cNvPr id="519" name=""/>
              <p:cNvSpPr/>
              <p:nvPr/>
            </p:nvSpPr>
            <p:spPr>
              <a:xfrm>
                <a:off x="8523360" y="567360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flipV="1">
                <a:off x="5570640" y="2957400"/>
                <a:ext cx="0" cy="2733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5583240" y="5691240"/>
                <a:ext cx="346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718400" y="5200560"/>
                <a:ext cx="4701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402680" y="4643280"/>
                <a:ext cx="941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456600" y="5688000"/>
                <a:ext cx="396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223400" y="5688000"/>
                <a:ext cx="6220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247000" y="27874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6369120" y="1127880"/>
                <a:ext cx="3733560" cy="3738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959" y="21220"/>
                    </a:moveTo>
                    <a:arcTo wR="10800" hR="10800" stAng="6315115" swAng="34984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959" y="21220"/>
                    </a:moveTo>
                    <a:arcTo wR="10800" hR="10800" stAng="6315115" swAng="3498494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5936760" y="1628280"/>
                <a:ext cx="3735360" cy="373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305" y="21589"/>
                    </a:moveTo>
                    <a:arcTo wR="10800" hR="10800" stAng="5557570" swAng="387726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305" y="21589"/>
                    </a:moveTo>
                    <a:arcTo wR="10800" hR="10800" stAng="5557570" swAng="3877261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6360840" y="1116720"/>
                <a:ext cx="3734280" cy="3737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586" y="20258"/>
                    </a:moveTo>
                    <a:arcTo wR="10800" hR="10800" stAng="7131970" swAng="174534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586" y="20258"/>
                    </a:moveTo>
                    <a:arcTo wR="10800" hR="10800" stAng="7131970" swAng="1745341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head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931720" y="1622160"/>
                <a:ext cx="3732120" cy="3737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283" y="21303"/>
                    </a:moveTo>
                    <a:arcTo wR="10800" hR="10800" stAng="6208640" swAng="146147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283" y="21303"/>
                    </a:moveTo>
                    <a:arcTo wR="10800" hR="10800" stAng="6208640" swAng="1461478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V="1">
                <a:off x="6616800" y="3994200"/>
                <a:ext cx="0" cy="94608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7351920" y="4640040"/>
                <a:ext cx="0" cy="64620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616800" y="4932360"/>
                <a:ext cx="0" cy="78408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351920" y="5294160"/>
                <a:ext cx="0" cy="44460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35" name=""/>
            <p:cNvSpPr/>
            <p:nvPr/>
          </p:nvSpPr>
          <p:spPr>
            <a:xfrm>
              <a:off x="6365160" y="43257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865200" y="40971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325640" y="48402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854040" y="51642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5000760" y="560520"/>
            <a:ext cx="3961800" cy="2261520"/>
            <a:chOff x="5000760" y="560520"/>
            <a:chExt cx="3961800" cy="2261520"/>
          </a:xfrm>
        </p:grpSpPr>
        <p:sp>
          <p:nvSpPr>
            <p:cNvPr id="540" name=""/>
            <p:cNvSpPr/>
            <p:nvPr/>
          </p:nvSpPr>
          <p:spPr>
            <a:xfrm>
              <a:off x="8424720" y="1587960"/>
              <a:ext cx="537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922720" y="1379880"/>
              <a:ext cx="1566720" cy="723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742000" y="560520"/>
              <a:ext cx="2406240" cy="41148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Hot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94160" y="981360"/>
              <a:ext cx="0" cy="1461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44" name=""/>
            <p:cNvGrpSpPr/>
            <p:nvPr/>
          </p:nvGrpSpPr>
          <p:grpSpPr>
            <a:xfrm>
              <a:off x="6926040" y="981360"/>
              <a:ext cx="1085760" cy="1450440"/>
              <a:chOff x="6926040" y="981360"/>
              <a:chExt cx="1085760" cy="1450440"/>
            </a:xfrm>
          </p:grpSpPr>
          <p:sp>
            <p:nvSpPr>
              <p:cNvPr id="545" name=""/>
              <p:cNvSpPr/>
              <p:nvPr/>
            </p:nvSpPr>
            <p:spPr>
              <a:xfrm>
                <a:off x="6926040" y="1695600"/>
                <a:ext cx="0" cy="7362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938640" y="1695600"/>
                <a:ext cx="423360" cy="221760"/>
              </a:xfrm>
              <a:custGeom>
                <a:avLst/>
                <a:gdLst/>
                <a:ahLst/>
                <a:rect l="l" t="t" r="r" b="b"/>
                <a:pathLst>
                  <a:path w="240" h="152">
                    <a:moveTo>
                      <a:pt x="0" y="0"/>
                    </a:moveTo>
                    <a:cubicBezTo>
                      <a:pt x="11" y="52"/>
                      <a:pt x="23" y="104"/>
                      <a:pt x="48" y="128"/>
                    </a:cubicBezTo>
                    <a:cubicBezTo>
                      <a:pt x="73" y="152"/>
                      <a:pt x="120" y="141"/>
                      <a:pt x="152" y="144"/>
                    </a:cubicBezTo>
                    <a:cubicBezTo>
                      <a:pt x="184" y="147"/>
                      <a:pt x="225" y="144"/>
                      <a:pt x="240" y="144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235280" y="981360"/>
                <a:ext cx="0" cy="49176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7235280" y="1460520"/>
                <a:ext cx="380880" cy="174240"/>
              </a:xfrm>
              <a:custGeom>
                <a:avLst/>
                <a:gdLst/>
                <a:ahLst/>
                <a:rect l="l" t="t" r="r" b="b"/>
                <a:pathLst>
                  <a:path w="201" h="95">
                    <a:moveTo>
                      <a:pt x="1" y="0"/>
                    </a:moveTo>
                    <a:cubicBezTo>
                      <a:pt x="0" y="32"/>
                      <a:pt x="0" y="65"/>
                      <a:pt x="33" y="80"/>
                    </a:cubicBezTo>
                    <a:cubicBezTo>
                      <a:pt x="66" y="95"/>
                      <a:pt x="173" y="87"/>
                      <a:pt x="201" y="88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576560" y="1623960"/>
                <a:ext cx="43488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349760" y="1905120"/>
                <a:ext cx="64728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flipV="1">
                <a:off x="8011800" y="1623960"/>
                <a:ext cx="0" cy="2808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52" name=""/>
            <p:cNvSpPr/>
            <p:nvPr/>
          </p:nvSpPr>
          <p:spPr>
            <a:xfrm>
              <a:off x="5000760" y="155448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ngine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H="1">
              <a:off x="7705440" y="1762560"/>
              <a:ext cx="739440" cy="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V="1">
              <a:off x="6430680" y="979560"/>
              <a:ext cx="0" cy="431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399000" y="1000440"/>
              <a:ext cx="468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769000" y="2416320"/>
              <a:ext cx="242676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old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6456240" y="2014560"/>
              <a:ext cx="0" cy="38412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440400" y="2080080"/>
              <a:ext cx="663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9760" y="52560"/>
            <a:ext cx="79232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Stirling Cycle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5442120" y="4095720"/>
            <a:ext cx="2436480" cy="2269440"/>
            <a:chOff x="5442120" y="4095720"/>
            <a:chExt cx="2436480" cy="2269440"/>
          </a:xfrm>
        </p:grpSpPr>
        <p:sp>
          <p:nvSpPr>
            <p:cNvPr id="561" name=""/>
            <p:cNvSpPr/>
            <p:nvPr/>
          </p:nvSpPr>
          <p:spPr>
            <a:xfrm>
              <a:off x="5442120" y="473400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451480" y="5959440"/>
              <a:ext cx="242712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463360" y="4095720"/>
              <a:ext cx="23446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3) Isochor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temperature decrease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t constant volume (piston can’t move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64" name=""/>
            <p:cNvGrpSpPr/>
            <p:nvPr/>
          </p:nvGrpSpPr>
          <p:grpSpPr>
            <a:xfrm>
              <a:off x="5781600" y="5595840"/>
              <a:ext cx="1677600" cy="331920"/>
              <a:chOff x="5781600" y="5595840"/>
              <a:chExt cx="1677600" cy="331920"/>
            </a:xfrm>
          </p:grpSpPr>
          <p:grpSp>
            <p:nvGrpSpPr>
              <p:cNvPr id="565" name=""/>
              <p:cNvGrpSpPr/>
              <p:nvPr/>
            </p:nvGrpSpPr>
            <p:grpSpPr>
              <a:xfrm>
                <a:off x="5781600" y="5599080"/>
                <a:ext cx="1573200" cy="328680"/>
                <a:chOff x="5781600" y="5599080"/>
                <a:chExt cx="1573200" cy="328680"/>
              </a:xfrm>
            </p:grpSpPr>
            <p:sp>
              <p:nvSpPr>
                <p:cNvPr id="566" name=""/>
                <p:cNvSpPr/>
                <p:nvPr/>
              </p:nvSpPr>
              <p:spPr>
                <a:xfrm>
                  <a:off x="5792760" y="592776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5792760" y="559908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 flipV="1">
                  <a:off x="5781600" y="560232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9" name=""/>
              <p:cNvGrpSpPr/>
              <p:nvPr/>
            </p:nvGrpSpPr>
            <p:grpSpPr>
              <a:xfrm>
                <a:off x="6786720" y="5595840"/>
                <a:ext cx="672480" cy="331560"/>
                <a:chOff x="6786720" y="5595840"/>
                <a:chExt cx="672480" cy="331560"/>
              </a:xfrm>
            </p:grpSpPr>
            <p:sp>
              <p:nvSpPr>
                <p:cNvPr id="570" name=""/>
                <p:cNvSpPr/>
                <p:nvPr/>
              </p:nvSpPr>
              <p:spPr>
                <a:xfrm>
                  <a:off x="6786720" y="559584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 flipV="1">
                  <a:off x="6788160" y="5760360"/>
                  <a:ext cx="67104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2" name=""/>
              <p:cNvSpPr/>
              <p:nvPr/>
            </p:nvSpPr>
            <p:spPr>
              <a:xfrm>
                <a:off x="5797440" y="5613480"/>
                <a:ext cx="98136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73" name=""/>
            <p:cNvSpPr/>
            <p:nvPr/>
          </p:nvSpPr>
          <p:spPr>
            <a:xfrm>
              <a:off x="5973840" y="575928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556240" y="5907240"/>
              <a:ext cx="452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c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701640" y="4246560"/>
            <a:ext cx="2525760" cy="2118600"/>
            <a:chOff x="701640" y="4246560"/>
            <a:chExt cx="2525760" cy="2118600"/>
          </a:xfrm>
        </p:grpSpPr>
        <p:sp>
          <p:nvSpPr>
            <p:cNvPr id="576" name=""/>
            <p:cNvSpPr/>
            <p:nvPr/>
          </p:nvSpPr>
          <p:spPr>
            <a:xfrm>
              <a:off x="708120" y="473400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17480" y="5959440"/>
              <a:ext cx="242748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78" name=""/>
            <p:cNvGrpSpPr/>
            <p:nvPr/>
          </p:nvGrpSpPr>
          <p:grpSpPr>
            <a:xfrm>
              <a:off x="1084320" y="5602320"/>
              <a:ext cx="1573200" cy="331560"/>
              <a:chOff x="1084320" y="5602320"/>
              <a:chExt cx="1573200" cy="331560"/>
            </a:xfrm>
          </p:grpSpPr>
          <p:grpSp>
            <p:nvGrpSpPr>
              <p:cNvPr id="579" name=""/>
              <p:cNvGrpSpPr/>
              <p:nvPr/>
            </p:nvGrpSpPr>
            <p:grpSpPr>
              <a:xfrm>
                <a:off x="1084320" y="5605200"/>
                <a:ext cx="1573200" cy="328680"/>
                <a:chOff x="1084320" y="5605200"/>
                <a:chExt cx="1573200" cy="328680"/>
              </a:xfrm>
            </p:grpSpPr>
            <p:sp>
              <p:nvSpPr>
                <p:cNvPr id="580" name=""/>
                <p:cNvSpPr/>
                <p:nvPr/>
              </p:nvSpPr>
              <p:spPr>
                <a:xfrm>
                  <a:off x="1095480" y="593388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1095480" y="560520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 flipV="1">
                  <a:off x="1084320" y="560844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3" name=""/>
              <p:cNvGrpSpPr/>
              <p:nvPr/>
            </p:nvGrpSpPr>
            <p:grpSpPr>
              <a:xfrm>
                <a:off x="1620720" y="5602320"/>
                <a:ext cx="673200" cy="331560"/>
                <a:chOff x="1620720" y="5602320"/>
                <a:chExt cx="673200" cy="331560"/>
              </a:xfrm>
            </p:grpSpPr>
            <p:sp>
              <p:nvSpPr>
                <p:cNvPr id="584" name=""/>
                <p:cNvSpPr/>
                <p:nvPr/>
              </p:nvSpPr>
              <p:spPr>
                <a:xfrm>
                  <a:off x="1620720" y="560232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 flipV="1">
                  <a:off x="1622520" y="5766840"/>
                  <a:ext cx="67140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6" name=""/>
              <p:cNvSpPr/>
              <p:nvPr/>
            </p:nvSpPr>
            <p:spPr>
              <a:xfrm>
                <a:off x="1100160" y="5619600"/>
                <a:ext cx="50328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7" name=""/>
            <p:cNvSpPr/>
            <p:nvPr/>
          </p:nvSpPr>
          <p:spPr>
            <a:xfrm>
              <a:off x="731520" y="4246560"/>
              <a:ext cx="2069280" cy="48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4) Isotherm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is compressed at constant T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>
              <a:off x="2390760" y="5769000"/>
              <a:ext cx="7603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820960" y="5423040"/>
              <a:ext cx="406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143000" y="578952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01640" y="5913360"/>
              <a:ext cx="460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c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708120" y="1000080"/>
            <a:ext cx="2436840" cy="2221920"/>
            <a:chOff x="708120" y="1000080"/>
            <a:chExt cx="2436840" cy="2221920"/>
          </a:xfrm>
        </p:grpSpPr>
        <p:sp>
          <p:nvSpPr>
            <p:cNvPr id="593" name=""/>
            <p:cNvSpPr/>
            <p:nvPr/>
          </p:nvSpPr>
          <p:spPr>
            <a:xfrm>
              <a:off x="708120" y="159084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17480" y="2816280"/>
              <a:ext cx="242748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95" name=""/>
            <p:cNvGrpSpPr/>
            <p:nvPr/>
          </p:nvGrpSpPr>
          <p:grpSpPr>
            <a:xfrm>
              <a:off x="1084320" y="2030400"/>
              <a:ext cx="1573200" cy="331560"/>
              <a:chOff x="1084320" y="2030400"/>
              <a:chExt cx="1573200" cy="331560"/>
            </a:xfrm>
          </p:grpSpPr>
          <p:grpSp>
            <p:nvGrpSpPr>
              <p:cNvPr id="596" name=""/>
              <p:cNvGrpSpPr/>
              <p:nvPr/>
            </p:nvGrpSpPr>
            <p:grpSpPr>
              <a:xfrm>
                <a:off x="1084320" y="2033280"/>
                <a:ext cx="1573200" cy="328680"/>
                <a:chOff x="1084320" y="2033280"/>
                <a:chExt cx="1573200" cy="328680"/>
              </a:xfrm>
            </p:grpSpPr>
            <p:sp>
              <p:nvSpPr>
                <p:cNvPr id="597" name=""/>
                <p:cNvSpPr/>
                <p:nvPr/>
              </p:nvSpPr>
              <p:spPr>
                <a:xfrm>
                  <a:off x="1095480" y="236196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1095480" y="203328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 flipV="1">
                  <a:off x="1084320" y="203652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0" name=""/>
              <p:cNvGrpSpPr/>
              <p:nvPr/>
            </p:nvGrpSpPr>
            <p:grpSpPr>
              <a:xfrm>
                <a:off x="1620720" y="2030400"/>
                <a:ext cx="673200" cy="331560"/>
                <a:chOff x="1620720" y="2030400"/>
                <a:chExt cx="673200" cy="331560"/>
              </a:xfrm>
            </p:grpSpPr>
            <p:sp>
              <p:nvSpPr>
                <p:cNvPr id="601" name=""/>
                <p:cNvSpPr/>
                <p:nvPr/>
              </p:nvSpPr>
              <p:spPr>
                <a:xfrm>
                  <a:off x="1620720" y="203040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 flipV="1">
                  <a:off x="1622520" y="2194920"/>
                  <a:ext cx="67140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3" name=""/>
              <p:cNvSpPr/>
              <p:nvPr/>
            </p:nvSpPr>
            <p:spPr>
              <a:xfrm>
                <a:off x="1100160" y="2047680"/>
                <a:ext cx="50328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04" name=""/>
            <p:cNvSpPr/>
            <p:nvPr/>
          </p:nvSpPr>
          <p:spPr>
            <a:xfrm>
              <a:off x="729360" y="1000080"/>
              <a:ext cx="23446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1) Isochoric</a:t>
              </a:r>
              <a:br>
                <a:rPr sz="14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temperature increase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t constant volume (piston can’t move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360440" y="177156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987480" y="1679400"/>
              <a:ext cx="452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h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7" name=""/>
          <p:cNvGrpSpPr/>
          <p:nvPr/>
        </p:nvGrpSpPr>
        <p:grpSpPr>
          <a:xfrm>
            <a:off x="5442120" y="1103400"/>
            <a:ext cx="2952720" cy="2118600"/>
            <a:chOff x="5442120" y="1103400"/>
            <a:chExt cx="2952720" cy="2118600"/>
          </a:xfrm>
        </p:grpSpPr>
        <p:sp>
          <p:nvSpPr>
            <p:cNvPr id="608" name=""/>
            <p:cNvSpPr/>
            <p:nvPr/>
          </p:nvSpPr>
          <p:spPr>
            <a:xfrm>
              <a:off x="5442120" y="159084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451480" y="2816280"/>
              <a:ext cx="242712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0" name=""/>
            <p:cNvGrpSpPr/>
            <p:nvPr/>
          </p:nvGrpSpPr>
          <p:grpSpPr>
            <a:xfrm>
              <a:off x="5818320" y="2030400"/>
              <a:ext cx="1677600" cy="331920"/>
              <a:chOff x="5818320" y="2030400"/>
              <a:chExt cx="1677600" cy="331920"/>
            </a:xfrm>
          </p:grpSpPr>
          <p:grpSp>
            <p:nvGrpSpPr>
              <p:cNvPr id="611" name=""/>
              <p:cNvGrpSpPr/>
              <p:nvPr/>
            </p:nvGrpSpPr>
            <p:grpSpPr>
              <a:xfrm>
                <a:off x="5818320" y="2033640"/>
                <a:ext cx="1573200" cy="328680"/>
                <a:chOff x="5818320" y="2033640"/>
                <a:chExt cx="1573200" cy="328680"/>
              </a:xfrm>
            </p:grpSpPr>
            <p:sp>
              <p:nvSpPr>
                <p:cNvPr id="612" name=""/>
                <p:cNvSpPr/>
                <p:nvPr/>
              </p:nvSpPr>
              <p:spPr>
                <a:xfrm>
                  <a:off x="5829480" y="236232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5829480" y="203364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 flipV="1">
                  <a:off x="5818320" y="203688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5" name=""/>
              <p:cNvGrpSpPr/>
              <p:nvPr/>
            </p:nvGrpSpPr>
            <p:grpSpPr>
              <a:xfrm>
                <a:off x="6823440" y="2030400"/>
                <a:ext cx="672480" cy="331560"/>
                <a:chOff x="6823440" y="2030400"/>
                <a:chExt cx="672480" cy="331560"/>
              </a:xfrm>
            </p:grpSpPr>
            <p:sp>
              <p:nvSpPr>
                <p:cNvPr id="616" name=""/>
                <p:cNvSpPr/>
                <p:nvPr/>
              </p:nvSpPr>
              <p:spPr>
                <a:xfrm>
                  <a:off x="6823440" y="203040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 flipV="1">
                  <a:off x="6824880" y="2194920"/>
                  <a:ext cx="67104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8" name=""/>
              <p:cNvSpPr/>
              <p:nvPr/>
            </p:nvSpPr>
            <p:spPr>
              <a:xfrm>
                <a:off x="5834160" y="2048040"/>
                <a:ext cx="98136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19" name=""/>
            <p:cNvSpPr/>
            <p:nvPr/>
          </p:nvSpPr>
          <p:spPr>
            <a:xfrm>
              <a:off x="5464800" y="1103400"/>
              <a:ext cx="1735200" cy="48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2) Isotherm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expands at constant T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634160" y="2189160"/>
              <a:ext cx="7606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967520" y="2190600"/>
              <a:ext cx="406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058080" y="177156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668920" y="1679400"/>
              <a:ext cx="452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h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4" name=""/>
          <p:cNvGrpSpPr/>
          <p:nvPr/>
        </p:nvGrpSpPr>
        <p:grpSpPr>
          <a:xfrm>
            <a:off x="3071520" y="2345400"/>
            <a:ext cx="2491560" cy="2510280"/>
            <a:chOff x="3071520" y="2345400"/>
            <a:chExt cx="2491560" cy="2510280"/>
          </a:xfrm>
        </p:grpSpPr>
        <p:sp>
          <p:nvSpPr>
            <p:cNvPr id="625" name=""/>
            <p:cNvSpPr/>
            <p:nvPr/>
          </p:nvSpPr>
          <p:spPr>
            <a:xfrm flipH="1" flipV="1" rot="3079200">
              <a:off x="3406680" y="2743560"/>
              <a:ext cx="1828080" cy="171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rot="3079200">
              <a:off x="3402000" y="2745360"/>
              <a:ext cx="1828080" cy="171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 flipV="1" rot="19279200">
              <a:off x="3453840" y="2681640"/>
              <a:ext cx="171864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 flipV="1" rot="8479200">
              <a:off x="3460680" y="2686320"/>
              <a:ext cx="171864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9" name=""/>
          <p:cNvSpPr/>
          <p:nvPr/>
        </p:nvSpPr>
        <p:spPr>
          <a:xfrm>
            <a:off x="3332160" y="2860560"/>
            <a:ext cx="201132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cycle goes            around like this.</a:t>
            </a: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We don’t describe the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mechanical parts that move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gas cylinder back and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forth between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reservoirs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0" name="" descr=""/>
          <p:cNvPicPr/>
          <p:nvPr/>
        </p:nvPicPr>
        <p:blipFill>
          <a:blip r:embed="rId1"/>
          <a:stretch/>
        </p:blipFill>
        <p:spPr>
          <a:xfrm>
            <a:off x="3251160" y="4708440"/>
            <a:ext cx="2389320" cy="198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37680" y="58320"/>
            <a:ext cx="84646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view</a:t>
            </a:r>
            <a:br>
              <a:rPr sz="1800"/>
            </a:br>
            <a:br>
              <a:rPr sz="18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Entropy in Macroscopic System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0600" y="1569600"/>
            <a:ext cx="82026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raditional thermodynamic entropy: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 = k ln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= k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want to calculate S from macrostate information (p, V, T, U, N,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)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tart with the definition of temperature in terms of entrop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entropy changes when T chang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 (We’re keeping V and N fixed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C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constan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09720" y="4389480"/>
          <a:ext cx="5689800" cy="18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9720" y="4389480"/>
                    <a:ext cx="5689800" cy="18478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2513160" y="2779560"/>
          <a:ext cx="3490920" cy="749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3160" y="2779560"/>
                    <a:ext cx="3490920" cy="749520"/>
                  </a:xfrm>
                  <a:prstGeom prst="rect">
                    <a:avLst/>
                  </a:prstGeom>
                  <a:ln w="32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14160" y="583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Does this Engine Do Work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82120" y="1125360"/>
            <a:ext cx="7695360" cy="49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ook at the two isothermal processes (2 and 4) on the previous sli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rocess 2: expanding gas does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 the piston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as it expands  from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to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rocess 4: contracting gas is don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by the piston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as it contracts from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to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f 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&gt; 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the net work is positive.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is true, because the contracting gas is colder (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lower pressure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uring one cycle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hot reservoir has lost some energy (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=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h1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+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h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cold reservoir has gained some energy (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=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3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+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4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engine (the gas cylinder) has neither gained nor lost energy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energy to do work comes from the hot reservoir, not from the engine itself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net work done by the engine i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W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W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c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Not all of the energy taken from the hot reservoir becomes useful work.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ome is lost into the cold reservoir.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 would like to make 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as small as possibl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415880" y="4773600"/>
            <a:ext cx="3795840" cy="4539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eat Engine Efficienc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2674800" y="5415120"/>
            <a:ext cx="3544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’s the best we can do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econd Law will tell u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227160" y="1365120"/>
            <a:ext cx="4243320" cy="3191400"/>
            <a:chOff x="227160" y="1365120"/>
            <a:chExt cx="4243320" cy="3191400"/>
          </a:xfrm>
        </p:grpSpPr>
        <p:graphicFrame>
          <p:nvGraphicFramePr>
            <p:cNvPr id="637" name=""/>
            <p:cNvGraphicFramePr/>
            <p:nvPr/>
          </p:nvGraphicFramePr>
          <p:xfrm>
            <a:off x="969840" y="3166920"/>
            <a:ext cx="2624400" cy="668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3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69840" y="3166920"/>
                      <a:ext cx="2624400" cy="668520"/>
                    </a:xfrm>
                    <a:prstGeom prst="rect">
                      <a:avLst/>
                    </a:prstGeom>
                    <a:ln w="2844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639" name=""/>
            <p:cNvGraphicFramePr/>
            <p:nvPr/>
          </p:nvGraphicFramePr>
          <p:xfrm>
            <a:off x="227160" y="2322360"/>
            <a:ext cx="4243320" cy="586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4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7160" y="2322360"/>
                      <a:ext cx="4243320" cy="58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41" name=""/>
            <p:cNvSpPr/>
            <p:nvPr/>
          </p:nvSpPr>
          <p:spPr>
            <a:xfrm>
              <a:off x="452520" y="1365120"/>
              <a:ext cx="3701880" cy="8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We pay for the heat input, Q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H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, so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fine the efficienc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027080" y="3944880"/>
              <a:ext cx="30225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alid for all heat engines.</a:t>
              </a:r>
              <a:br>
                <a:rPr sz="1800"/>
              </a:b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(Conservation of energy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5078520" y="1477800"/>
            <a:ext cx="37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artoon picture of a heat engine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648400" y="2003400"/>
            <a:ext cx="2573280" cy="39060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ot reservoir at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670720" y="3811680"/>
            <a:ext cx="2631960" cy="40140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ld reservoir at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086520" y="2405160"/>
            <a:ext cx="0" cy="14065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640560" y="3141720"/>
            <a:ext cx="0" cy="6699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640560" y="3141720"/>
            <a:ext cx="311040" cy="156960"/>
          </a:xfrm>
          <a:custGeom>
            <a:avLst/>
            <a:gdLst/>
            <a:ahLst/>
            <a:rect l="l" t="t" r="r" b="b"/>
            <a:pathLst>
              <a:path w="240" h="152">
                <a:moveTo>
                  <a:pt x="0" y="0"/>
                </a:moveTo>
                <a:cubicBezTo>
                  <a:pt x="11" y="52"/>
                  <a:pt x="23" y="104"/>
                  <a:pt x="48" y="128"/>
                </a:cubicBezTo>
                <a:cubicBezTo>
                  <a:pt x="73" y="152"/>
                  <a:pt x="120" y="141"/>
                  <a:pt x="152" y="144"/>
                </a:cubicBezTo>
                <a:cubicBezTo>
                  <a:pt x="184" y="147"/>
                  <a:pt x="225" y="144"/>
                  <a:pt x="240" y="144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848640" y="2405160"/>
            <a:ext cx="0" cy="4683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846840" y="2862360"/>
            <a:ext cx="312840" cy="166680"/>
          </a:xfrm>
          <a:custGeom>
            <a:avLst/>
            <a:gdLst/>
            <a:ahLst/>
            <a:rect l="l" t="t" r="r" b="b"/>
            <a:pathLst>
              <a:path w="201" h="95">
                <a:moveTo>
                  <a:pt x="1" y="0"/>
                </a:moveTo>
                <a:cubicBezTo>
                  <a:pt x="0" y="32"/>
                  <a:pt x="0" y="65"/>
                  <a:pt x="33" y="80"/>
                </a:cubicBezTo>
                <a:cubicBezTo>
                  <a:pt x="66" y="95"/>
                  <a:pt x="173" y="87"/>
                  <a:pt x="201" y="88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7126200" y="3019320"/>
            <a:ext cx="3571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940440" y="3286080"/>
            <a:ext cx="53208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7483320" y="3018960"/>
            <a:ext cx="0" cy="2667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7332840" y="3152880"/>
            <a:ext cx="542880" cy="0"/>
          </a:xfrm>
          <a:prstGeom prst="line">
            <a:avLst/>
          </a:prstGeom>
          <a:ln w="572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970600" y="2784600"/>
            <a:ext cx="1143000" cy="691920"/>
          </a:xfrm>
          <a:prstGeom prst="rect">
            <a:avLst/>
          </a:prstGeom>
          <a:noFill/>
          <a:ln w="38160">
            <a:solidFill>
              <a:srgbClr val="fe9b0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276960" y="2471760"/>
            <a:ext cx="0" cy="569880"/>
          </a:xfrm>
          <a:prstGeom prst="line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276960" y="3321000"/>
            <a:ext cx="0" cy="42408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281640" y="2408400"/>
            <a:ext cx="470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270480" y="3449520"/>
            <a:ext cx="551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7829640" y="3008160"/>
            <a:ext cx="584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b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235480" y="4226760"/>
            <a:ext cx="343692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Remember: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We define Q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and Q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as </a:t>
            </a:r>
            <a:r>
              <a:rPr b="0" i="1" lang="en-US" sz="1400" spc="-1" strike="noStrike">
                <a:solidFill>
                  <a:srgbClr val="00ffff"/>
                </a:solidFill>
                <a:latin typeface="Arial"/>
              </a:rPr>
              <a:t>positive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arrows define direction of flow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177160" y="295272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gi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11240" y="52560"/>
            <a:ext cx="893736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The 2</a:t>
            </a:r>
            <a:r>
              <a:rPr b="0" lang="en-US" sz="3200" spc="-1" strike="noStrike" baseline="30000">
                <a:solidFill>
                  <a:srgbClr val="ff9966"/>
                </a:solidFill>
                <a:latin typeface="Comic Sans MS"/>
              </a:rPr>
              <a:t>nd</a:t>
            </a: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Law Sets the Maximum Efficiency (1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664" name=""/>
          <p:cNvGraphicFramePr/>
          <p:nvPr/>
        </p:nvGraphicFramePr>
        <p:xfrm>
          <a:off x="3544920" y="658800"/>
          <a:ext cx="1573200" cy="55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44920" y="658800"/>
                    <a:ext cx="1573200" cy="5572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66" name=""/>
          <p:cNvSpPr/>
          <p:nvPr/>
        </p:nvSpPr>
        <p:spPr>
          <a:xfrm>
            <a:off x="584280" y="1500120"/>
            <a:ext cx="7576920" cy="23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1000"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to calculat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ver one cycl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engin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h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ol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member: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the heat taken from the hot reservoir, so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h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= -Q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the heat added to the cold reservoir, so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ol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+Q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840040" y="49687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68" name=""/>
          <p:cNvGraphicFramePr/>
          <p:nvPr/>
        </p:nvGraphicFramePr>
        <p:xfrm>
          <a:off x="2363760" y="4551480"/>
          <a:ext cx="2789280" cy="173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3760" y="4551480"/>
                    <a:ext cx="2789280" cy="173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0" name=""/>
          <p:cNvSpPr/>
          <p:nvPr/>
        </p:nvSpPr>
        <p:spPr>
          <a:xfrm>
            <a:off x="2379600" y="2835360"/>
            <a:ext cx="784440" cy="5824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126240" y="3267000"/>
            <a:ext cx="4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= 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2" name=""/>
          <p:cNvGrpSpPr/>
          <p:nvPr/>
        </p:nvGrpSpPr>
        <p:grpSpPr>
          <a:xfrm>
            <a:off x="5802480" y="3657600"/>
            <a:ext cx="1868400" cy="992160"/>
            <a:chOff x="5802480" y="3657600"/>
            <a:chExt cx="1868400" cy="992160"/>
          </a:xfrm>
        </p:grpSpPr>
        <p:sp>
          <p:nvSpPr>
            <p:cNvPr id="673" name=""/>
            <p:cNvSpPr/>
            <p:nvPr/>
          </p:nvSpPr>
          <p:spPr>
            <a:xfrm>
              <a:off x="5984280" y="3657600"/>
              <a:ext cx="147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From the definition of T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802480" y="3873600"/>
              <a:ext cx="1868400" cy="77616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5" name=""/>
          <p:cNvSpPr/>
          <p:nvPr/>
        </p:nvSpPr>
        <p:spPr>
          <a:xfrm>
            <a:off x="5150880" y="4767120"/>
            <a:ext cx="77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Law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341520" y="5452920"/>
            <a:ext cx="1244880" cy="808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747760" y="5545080"/>
            <a:ext cx="2396520" cy="549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cannot be zero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me energy is always lost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8" name=""/>
          <p:cNvGraphicFramePr/>
          <p:nvPr/>
        </p:nvGraphicFramePr>
        <p:xfrm>
          <a:off x="1851120" y="893880"/>
          <a:ext cx="4975200" cy="27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1120" y="893880"/>
                    <a:ext cx="4975200" cy="27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0" y="52560"/>
            <a:ext cx="91440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The 2</a:t>
            </a:r>
            <a:r>
              <a:rPr b="0" lang="en-US" sz="3200" spc="-1" strike="noStrike" baseline="30000">
                <a:solidFill>
                  <a:srgbClr val="ff9966"/>
                </a:solidFill>
                <a:latin typeface="Comic Sans MS"/>
              </a:rPr>
              <a:t>nd</a:t>
            </a: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Law Sets the Maximum Efficiency (2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119400" y="2722680"/>
            <a:ext cx="1441440" cy="833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525680" y="4002120"/>
            <a:ext cx="761832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is is a universal law !!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(equivalent to the 2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law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t is valid for any procedure that converts thermal energy into work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e did not assume any special properties (</a:t>
            </a: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ideal gas)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f the material in the derivatio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maximum possible efficiency,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arno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1 -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/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is called the Carnot efficiency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statement that heat engines have a maximum efficiency was the first expression of the 2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law, by Sadi Carnot in 1824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546200" y="4008600"/>
            <a:ext cx="3343320" cy="430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4" name=""/>
          <p:cNvGraphicFramePr/>
          <p:nvPr/>
        </p:nvGraphicFramePr>
        <p:xfrm>
          <a:off x="3467160" y="1854360"/>
          <a:ext cx="3187800" cy="65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67160" y="1854360"/>
                    <a:ext cx="318780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0" y="52560"/>
            <a:ext cx="91440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ow Efficient Can an Engine be?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919800" y="1133640"/>
            <a:ext cx="7704360" cy="40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n engine that uses steam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0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s the hot reservoir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d ice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°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s the cold reservoir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efficient can this engine b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Carnot efficiency i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fore, an engine that operates between these two temperatures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n, at best, turn only 27% of the steam’s heat energy into useful work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uestion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How might we design an engine that has higher efficiency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swer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By increasing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That’s more practical than lowering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ctrical power plants and race cars obtain bette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erformance by operating at a much higher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0360" y="52560"/>
            <a:ext cx="825372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en Is </a:t>
            </a:r>
            <a:r>
              <a:rPr b="0" lang="en-US" sz="4400" spc="-1" strike="noStrike">
                <a:solidFill>
                  <a:srgbClr val="ff9966"/>
                </a:solidFill>
                <a:latin typeface="Symbol"/>
                <a:ea typeface="Symbol"/>
              </a:rPr>
              <a:t>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Less than </a:t>
            </a:r>
            <a:r>
              <a:rPr b="0" lang="en-US" sz="4400" spc="-1" strike="noStrike">
                <a:solidFill>
                  <a:srgbClr val="ff9966"/>
                </a:solidFill>
                <a:latin typeface="Symbol"/>
                <a:ea typeface="Symbol"/>
              </a:rPr>
              <a:t></a:t>
            </a:r>
            <a:r>
              <a:rPr b="0" lang="en-US" sz="3600" spc="-1" strike="noStrike" baseline="-25000">
                <a:solidFill>
                  <a:srgbClr val="ff9966"/>
                </a:solidFill>
                <a:latin typeface="Comic Sans MS"/>
              </a:rPr>
              <a:t>Carnot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689" name=""/>
          <p:cNvGraphicFramePr/>
          <p:nvPr/>
        </p:nvGraphicFramePr>
        <p:xfrm>
          <a:off x="641520" y="1754280"/>
          <a:ext cx="4120920" cy="25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1520" y="1754280"/>
                    <a:ext cx="4120920" cy="25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1" name=""/>
          <p:cNvSpPr/>
          <p:nvPr/>
        </p:nvSpPr>
        <p:spPr>
          <a:xfrm>
            <a:off x="834840" y="4960800"/>
            <a:ext cx="4010400" cy="1503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son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void irreversible process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ones that increase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irect heat flow from hot to col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ree expansion (far from equilibrium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liding fricti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5558040" y="1944720"/>
            <a:ext cx="3246120" cy="2209680"/>
            <a:chOff x="5558040" y="1944720"/>
            <a:chExt cx="3246120" cy="2209680"/>
          </a:xfrm>
        </p:grpSpPr>
        <p:grpSp>
          <p:nvGrpSpPr>
            <p:cNvPr id="693" name=""/>
            <p:cNvGrpSpPr/>
            <p:nvPr/>
          </p:nvGrpSpPr>
          <p:grpSpPr>
            <a:xfrm>
              <a:off x="6038640" y="1944720"/>
              <a:ext cx="2765520" cy="2209680"/>
              <a:chOff x="6038640" y="1944720"/>
              <a:chExt cx="2765520" cy="2209680"/>
            </a:xfrm>
          </p:grpSpPr>
          <p:sp>
            <p:nvSpPr>
              <p:cNvPr id="694" name=""/>
              <p:cNvSpPr/>
              <p:nvPr/>
            </p:nvSpPr>
            <p:spPr>
              <a:xfrm>
                <a:off x="6038640" y="1944720"/>
                <a:ext cx="2573280" cy="390240"/>
              </a:xfrm>
              <a:prstGeom prst="rect">
                <a:avLst/>
              </a:prstGeom>
              <a:solidFill>
                <a:srgbClr val="fc0128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285840" indent="-2858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Hot reservoir at 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6060960" y="3752640"/>
                <a:ext cx="2631960" cy="401760"/>
              </a:xfrm>
              <a:prstGeom prst="rect">
                <a:avLst/>
              </a:prstGeom>
              <a:solidFill>
                <a:srgbClr val="0066ff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    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Cold reservoir at 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476760" y="2346120"/>
                <a:ext cx="0" cy="14065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7030800" y="3082680"/>
                <a:ext cx="0" cy="6699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7030800" y="3082680"/>
                <a:ext cx="311040" cy="157320"/>
              </a:xfrm>
              <a:custGeom>
                <a:avLst/>
                <a:gdLst/>
                <a:ahLst/>
                <a:rect l="l" t="t" r="r" b="b"/>
                <a:pathLst>
                  <a:path w="240" h="152">
                    <a:moveTo>
                      <a:pt x="0" y="0"/>
                    </a:moveTo>
                    <a:cubicBezTo>
                      <a:pt x="11" y="52"/>
                      <a:pt x="23" y="104"/>
                      <a:pt x="48" y="128"/>
                    </a:cubicBezTo>
                    <a:cubicBezTo>
                      <a:pt x="73" y="152"/>
                      <a:pt x="120" y="141"/>
                      <a:pt x="152" y="144"/>
                    </a:cubicBezTo>
                    <a:cubicBezTo>
                      <a:pt x="184" y="147"/>
                      <a:pt x="225" y="144"/>
                      <a:pt x="240" y="144"/>
                    </a:cubicBez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7238880" y="2346120"/>
                <a:ext cx="0" cy="4683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237080" y="2803320"/>
                <a:ext cx="312840" cy="166680"/>
              </a:xfrm>
              <a:custGeom>
                <a:avLst/>
                <a:gdLst/>
                <a:ahLst/>
                <a:rect l="l" t="t" r="r" b="b"/>
                <a:pathLst>
                  <a:path w="201" h="95">
                    <a:moveTo>
                      <a:pt x="1" y="0"/>
                    </a:moveTo>
                    <a:cubicBezTo>
                      <a:pt x="0" y="32"/>
                      <a:pt x="0" y="65"/>
                      <a:pt x="33" y="80"/>
                    </a:cubicBezTo>
                    <a:cubicBezTo>
                      <a:pt x="66" y="95"/>
                      <a:pt x="173" y="87"/>
                      <a:pt x="201" y="88"/>
                    </a:cubicBez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7516800" y="2960640"/>
                <a:ext cx="35712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7331040" y="3227400"/>
                <a:ext cx="53172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V="1">
                <a:off x="7873920" y="2960280"/>
                <a:ext cx="0" cy="2667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7723080" y="3093840"/>
                <a:ext cx="542880" cy="0"/>
              </a:xfrm>
              <a:prstGeom prst="line">
                <a:avLst/>
              </a:prstGeom>
              <a:ln w="5724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6360840" y="2725560"/>
                <a:ext cx="1143000" cy="692280"/>
              </a:xfrm>
              <a:prstGeom prst="rect">
                <a:avLst/>
              </a:prstGeom>
              <a:noFill/>
              <a:ln w="38160">
                <a:solidFill>
                  <a:srgbClr val="fe9b0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6667200" y="2413080"/>
                <a:ext cx="0" cy="569880"/>
              </a:xfrm>
              <a:prstGeom prst="line">
                <a:avLst/>
              </a:prstGeom>
              <a:ln w="57240">
                <a:solidFill>
                  <a:srgbClr val="fc012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6667200" y="3262320"/>
                <a:ext cx="0" cy="42372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6672240" y="2349360"/>
                <a:ext cx="4698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Q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6661080" y="3390840"/>
                <a:ext cx="5508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Q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219880" y="2949480"/>
                <a:ext cx="58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W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11" name=""/>
            <p:cNvSpPr/>
            <p:nvPr/>
          </p:nvSpPr>
          <p:spPr>
            <a:xfrm>
              <a:off x="5558040" y="2912760"/>
              <a:ext cx="81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ngin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12" name=""/>
          <p:cNvSpPr/>
          <p:nvPr/>
        </p:nvSpPr>
        <p:spPr>
          <a:xfrm>
            <a:off x="443520" y="1006560"/>
            <a:ext cx="456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can write the efficiency loss in terms of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change of total entrop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652120" y="4189320"/>
            <a:ext cx="570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Carno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90720" y="53640"/>
            <a:ext cx="71625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5" name="Rectangle 2"/>
          <p:cNvSpPr/>
          <p:nvPr/>
        </p:nvSpPr>
        <p:spPr>
          <a:xfrm>
            <a:off x="1954080" y="2039760"/>
            <a:ext cx="4945320" cy="21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not Engine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rigerators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Pumps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2320" y="58680"/>
            <a:ext cx="83502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ntropy in Quasi-static Heat Flow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30000" y="1093320"/>
            <a:ext cx="8064360" cy="1917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V is constant: </a:t>
            </a:r>
            <a:r>
              <a:rPr b="0" lang="en-US" sz="2000" spc="-1" strike="noStrike">
                <a:solidFill>
                  <a:srgbClr val="ffff00"/>
                </a:solidFill>
                <a:latin typeface="Arial Unicode MS"/>
              </a:rPr>
              <a:t>d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ffff00"/>
                </a:solidFill>
                <a:latin typeface="Arial Unicode MS"/>
              </a:rPr>
              <a:t> dU/T = dQ/T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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Arial Unicode MS"/>
                <a:ea typeface="Arial Unicode MS"/>
              </a:rPr>
              <a:t>W = 0, so dU = dQ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 fact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S = dQ/T during any reversibl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quasi-static)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ces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ven if V changes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reason: In a reversible process, 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system plus environment) doesn’t chang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389240" y="3076560"/>
          <a:ext cx="1806480" cy="179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9240" y="3076560"/>
                    <a:ext cx="1806480" cy="17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Rectangle 9"/>
          <p:cNvSpPr/>
          <p:nvPr/>
        </p:nvSpPr>
        <p:spPr>
          <a:xfrm>
            <a:off x="5118120" y="5506920"/>
            <a:ext cx="2911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for any reversible proc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736560" y="5219640"/>
          <a:ext cx="3987720" cy="88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6560" y="5219640"/>
                    <a:ext cx="3987720" cy="88416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3159000" y="3089160"/>
            <a:ext cx="5546880" cy="18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5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 if process is reversi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5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servoir is supplying (or absorbing) hea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5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servoir’s energy gain is the system’s heat los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at’s how they interac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2880" y="57240"/>
            <a:ext cx="85932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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 in Isothermal Proces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35200" y="3922560"/>
            <a:ext cx="68864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fff01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5526360" y="3760920"/>
            <a:ext cx="2982600" cy="2709720"/>
            <a:chOff x="5526360" y="3760920"/>
            <a:chExt cx="2982600" cy="2709720"/>
          </a:xfrm>
        </p:grpSpPr>
        <p:sp>
          <p:nvSpPr>
            <p:cNvPr id="63" name=""/>
            <p:cNvSpPr/>
            <p:nvPr/>
          </p:nvSpPr>
          <p:spPr>
            <a:xfrm>
              <a:off x="6404040" y="3881520"/>
              <a:ext cx="655560" cy="1485720"/>
            </a:xfrm>
            <a:custGeom>
              <a:avLst/>
              <a:gdLst/>
              <a:ahLst/>
              <a:rect l="l" t="t" r="r" b="b"/>
              <a:pathLst>
                <a:path w="413" h="936">
                  <a:moveTo>
                    <a:pt x="0" y="0"/>
                  </a:moveTo>
                  <a:cubicBezTo>
                    <a:pt x="4" y="45"/>
                    <a:pt x="17" y="204"/>
                    <a:pt x="27" y="276"/>
                  </a:cubicBezTo>
                  <a:cubicBezTo>
                    <a:pt x="37" y="348"/>
                    <a:pt x="38" y="366"/>
                    <a:pt x="60" y="430"/>
                  </a:cubicBezTo>
                  <a:cubicBezTo>
                    <a:pt x="82" y="494"/>
                    <a:pt x="124" y="595"/>
                    <a:pt x="159" y="661"/>
                  </a:cubicBezTo>
                  <a:cubicBezTo>
                    <a:pt x="194" y="727"/>
                    <a:pt x="227" y="780"/>
                    <a:pt x="269" y="826"/>
                  </a:cubicBezTo>
                  <a:cubicBezTo>
                    <a:pt x="311" y="872"/>
                    <a:pt x="383" y="913"/>
                    <a:pt x="413" y="9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681960" y="4989600"/>
              <a:ext cx="1591920" cy="657000"/>
            </a:xfrm>
            <a:custGeom>
              <a:avLst/>
              <a:gdLst/>
              <a:ahLst/>
              <a:rect l="l" t="t" r="r" b="b"/>
              <a:pathLst>
                <a:path w="1003" h="414">
                  <a:moveTo>
                    <a:pt x="1003" y="414"/>
                  </a:moveTo>
                  <a:cubicBezTo>
                    <a:pt x="947" y="409"/>
                    <a:pt x="743" y="396"/>
                    <a:pt x="660" y="386"/>
                  </a:cubicBezTo>
                  <a:cubicBezTo>
                    <a:pt x="577" y="376"/>
                    <a:pt x="570" y="375"/>
                    <a:pt x="506" y="353"/>
                  </a:cubicBezTo>
                  <a:cubicBezTo>
                    <a:pt x="442" y="331"/>
                    <a:pt x="341" y="289"/>
                    <a:pt x="275" y="254"/>
                  </a:cubicBezTo>
                  <a:cubicBezTo>
                    <a:pt x="209" y="219"/>
                    <a:pt x="156" y="186"/>
                    <a:pt x="110" y="144"/>
                  </a:cubicBezTo>
                  <a:cubicBezTo>
                    <a:pt x="64" y="102"/>
                    <a:pt x="23" y="30"/>
                    <a:pt x="0" y="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8280" y="3916440"/>
              <a:ext cx="0" cy="223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870520" y="6073920"/>
              <a:ext cx="263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526360" y="37609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674120" y="61023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910640" y="5581800"/>
              <a:ext cx="74520" cy="7452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469200" y="4516560"/>
              <a:ext cx="74520" cy="7452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220080" y="45846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774200" y="5708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502320" y="4546440"/>
              <a:ext cx="1452600" cy="1076400"/>
            </a:xfrm>
            <a:custGeom>
              <a:avLst/>
              <a:gdLst/>
              <a:ahLst/>
              <a:rect l="l" t="t" r="r" b="b"/>
              <a:pathLst>
                <a:path w="915" h="678">
                  <a:moveTo>
                    <a:pt x="0" y="0"/>
                  </a:moveTo>
                  <a:cubicBezTo>
                    <a:pt x="16" y="52"/>
                    <a:pt x="33" y="105"/>
                    <a:pt x="48" y="144"/>
                  </a:cubicBezTo>
                  <a:cubicBezTo>
                    <a:pt x="63" y="183"/>
                    <a:pt x="74" y="206"/>
                    <a:pt x="90" y="237"/>
                  </a:cubicBezTo>
                  <a:cubicBezTo>
                    <a:pt x="106" y="268"/>
                    <a:pt x="122" y="298"/>
                    <a:pt x="147" y="330"/>
                  </a:cubicBezTo>
                  <a:cubicBezTo>
                    <a:pt x="172" y="362"/>
                    <a:pt x="207" y="401"/>
                    <a:pt x="240" y="432"/>
                  </a:cubicBezTo>
                  <a:cubicBezTo>
                    <a:pt x="273" y="463"/>
                    <a:pt x="313" y="493"/>
                    <a:pt x="348" y="516"/>
                  </a:cubicBezTo>
                  <a:cubicBezTo>
                    <a:pt x="383" y="539"/>
                    <a:pt x="416" y="553"/>
                    <a:pt x="453" y="570"/>
                  </a:cubicBezTo>
                  <a:cubicBezTo>
                    <a:pt x="490" y="587"/>
                    <a:pt x="518" y="602"/>
                    <a:pt x="570" y="618"/>
                  </a:cubicBezTo>
                  <a:cubicBezTo>
                    <a:pt x="622" y="634"/>
                    <a:pt x="721" y="656"/>
                    <a:pt x="768" y="666"/>
                  </a:cubicBezTo>
                  <a:cubicBezTo>
                    <a:pt x="815" y="676"/>
                    <a:pt x="828" y="673"/>
                    <a:pt x="852" y="675"/>
                  </a:cubicBezTo>
                  <a:cubicBezTo>
                    <a:pt x="876" y="677"/>
                    <a:pt x="902" y="678"/>
                    <a:pt x="915" y="678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837560" y="5619600"/>
              <a:ext cx="79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445800" y="3778200"/>
              <a:ext cx="119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=consta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506520" y="1190520"/>
            <a:ext cx="8427960" cy="15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45000"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pose V &amp; p change but T doesn’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ork is done (dW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pdV)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at must enter to keep T constant: dQ = dU+dW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ecial case, ideal ga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an ideal gas, if dT = 0, then dU = 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160640" y="2568600"/>
          <a:ext cx="3822480" cy="68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0640" y="2568600"/>
                    <a:ext cx="382248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1162080" y="4635360"/>
          <a:ext cx="3670200" cy="155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62080" y="4635360"/>
                    <a:ext cx="3670200" cy="15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393880" y="2736720"/>
            <a:ext cx="3449880" cy="39852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emember: This holds for </a:t>
            </a: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quasi-static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processes, in which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system remains near thermal equilibrium at all time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93400" y="58320"/>
            <a:ext cx="8559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53680" y="1269720"/>
            <a:ext cx="8348760" cy="39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The entropy of a gas increases during a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si-static isothermal expansion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tropy of the environme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Consider instead the ‘free’ expansion (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ot quasi-stat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of a gas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total entropy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during this proces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2701800" y="5432400"/>
            <a:ext cx="3048120" cy="797040"/>
            <a:chOff x="2701800" y="5432400"/>
            <a:chExt cx="3048120" cy="797040"/>
          </a:xfrm>
        </p:grpSpPr>
        <p:sp>
          <p:nvSpPr>
            <p:cNvPr id="85" name=""/>
            <p:cNvSpPr/>
            <p:nvPr/>
          </p:nvSpPr>
          <p:spPr>
            <a:xfrm>
              <a:off x="2701800" y="5437080"/>
              <a:ext cx="1117800" cy="51120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403520" y="5511600"/>
              <a:ext cx="89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vacuu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710080" y="5432400"/>
              <a:ext cx="3039840" cy="5094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043440" y="5983200"/>
              <a:ext cx="1657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Remove the barri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27520" y="5438520"/>
              <a:ext cx="0" cy="501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000240" y="551808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53680" y="1269720"/>
            <a:ext cx="8348760" cy="39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The entropy of a gas increases during a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si-static isothermal expansion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tropy of the environme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Consider instead the ‘free’ expansion (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ot quasi-stat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of a gas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total entropy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during this proces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293400" y="58320"/>
            <a:ext cx="8559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2701800" y="5432400"/>
            <a:ext cx="3048120" cy="797040"/>
            <a:chOff x="2701800" y="5432400"/>
            <a:chExt cx="3048120" cy="797040"/>
          </a:xfrm>
        </p:grpSpPr>
        <p:sp>
          <p:nvSpPr>
            <p:cNvPr id="94" name=""/>
            <p:cNvSpPr/>
            <p:nvPr/>
          </p:nvSpPr>
          <p:spPr>
            <a:xfrm>
              <a:off x="2701800" y="5437080"/>
              <a:ext cx="1117800" cy="51120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403520" y="5511600"/>
              <a:ext cx="89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vacuu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710080" y="5432400"/>
              <a:ext cx="3039840" cy="5094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043440" y="5983200"/>
              <a:ext cx="1657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Remove the barri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27520" y="5438520"/>
              <a:ext cx="0" cy="501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000240" y="551808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846720" y="2835360"/>
            <a:ext cx="65710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nergy (heat) leaves the environment, so its entropy decreases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n fact, since the environment and gas have the same T, 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two entropy changes cancel: 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0.  This is a reversible proces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488960" y="2265480"/>
            <a:ext cx="1521000" cy="4460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553680" y="1269720"/>
            <a:ext cx="8348760" cy="39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The entropy of a gas increases during a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si-static isothermal expansion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tropy of the environme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Consider instead the ‘free’ expansion (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ot quasi-stat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of a gas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total entropy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during this proces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293400" y="58320"/>
            <a:ext cx="8559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46720" y="2835360"/>
            <a:ext cx="65710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nergy (heat) leaves the environment, so its entropy decreases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n fact, since the environment and gas have the same T, 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two entropy changes cancel: 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0.  This is a reversible proces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88960" y="2265480"/>
            <a:ext cx="1521000" cy="4460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42040" y="5122800"/>
            <a:ext cx="7485120" cy="11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re is no work or heat flow, so U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gas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is constant.  </a:t>
            </a: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T is constant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However, because the volume increases, so does the number of available states,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and therefore S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gas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increases.  Nothing is happening to the environment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refore 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&gt; 0.  This is not a reversible proces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05520" y="4562640"/>
            <a:ext cx="1520640" cy="4460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98240" y="1386000"/>
            <a:ext cx="6406920" cy="448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 =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definition of an adiabatic proces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 and T both change as the applied pressure chang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example, if p increases (compress the system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 decreases, and the associated S also decreases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increases, and the associated S also increa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se two effects must exactly cancel !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y?  Becau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a reversible process, so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 other entropy is changing.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Q = 0, and W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ust moves the piston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a quasi-static adiabatic process,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 =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e: We did not assume that the system is an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deal gas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general resul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157320" y="45720"/>
            <a:ext cx="885024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Quasi-static Adiabatic Proces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7174080" y="2076480"/>
            <a:ext cx="1425240" cy="2185920"/>
            <a:chOff x="7174080" y="2076480"/>
            <a:chExt cx="1425240" cy="2185920"/>
          </a:xfrm>
        </p:grpSpPr>
        <p:sp>
          <p:nvSpPr>
            <p:cNvPr id="111" name=""/>
            <p:cNvSpPr/>
            <p:nvPr/>
          </p:nvSpPr>
          <p:spPr>
            <a:xfrm>
              <a:off x="7286760" y="2198520"/>
              <a:ext cx="787320" cy="841680"/>
            </a:xfrm>
            <a:prstGeom prst="rect">
              <a:avLst/>
            </a:prstGeom>
            <a:noFill/>
            <a:ln w="648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174080" y="2076480"/>
              <a:ext cx="1415880" cy="18255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505640" y="2373480"/>
              <a:ext cx="777960" cy="11617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509600" y="3130560"/>
              <a:ext cx="74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00960" y="2867040"/>
              <a:ext cx="792000" cy="745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891560" y="2408400"/>
              <a:ext cx="0" cy="4539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99280" y="3940200"/>
              <a:ext cx="14000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285840" indent="-285840"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sulated w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7494480" y="2774880"/>
              <a:ext cx="800280" cy="762120"/>
              <a:chOff x="7494480" y="2774880"/>
              <a:chExt cx="800280" cy="762120"/>
            </a:xfrm>
          </p:grpSpPr>
          <p:sp>
            <p:nvSpPr>
              <p:cNvPr id="119" name=""/>
              <p:cNvSpPr/>
              <p:nvPr/>
            </p:nvSpPr>
            <p:spPr>
              <a:xfrm>
                <a:off x="7504200" y="2774880"/>
                <a:ext cx="0" cy="76212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294760" y="2774880"/>
                <a:ext cx="0" cy="76212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494480" y="3537000"/>
                <a:ext cx="800280" cy="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2" name=""/>
          <p:cNvGrpSpPr/>
          <p:nvPr/>
        </p:nvGrpSpPr>
        <p:grpSpPr>
          <a:xfrm>
            <a:off x="6459480" y="4371840"/>
            <a:ext cx="2061720" cy="2091240"/>
            <a:chOff x="6459480" y="4371840"/>
            <a:chExt cx="2061720" cy="2091240"/>
          </a:xfrm>
        </p:grpSpPr>
        <p:sp>
          <p:nvSpPr>
            <p:cNvPr id="123" name=""/>
            <p:cNvSpPr/>
            <p:nvPr/>
          </p:nvSpPr>
          <p:spPr>
            <a:xfrm rot="490800">
              <a:off x="6816240" y="5235480"/>
              <a:ext cx="1184400" cy="473040"/>
            </a:xfrm>
            <a:custGeom>
              <a:avLst/>
              <a:gdLst/>
              <a:ahLst/>
              <a:rect l="l" t="t" r="r" b="b"/>
              <a:pathLst>
                <a:path w="1003" h="414">
                  <a:moveTo>
                    <a:pt x="1003" y="414"/>
                  </a:moveTo>
                  <a:cubicBezTo>
                    <a:pt x="947" y="409"/>
                    <a:pt x="743" y="396"/>
                    <a:pt x="660" y="386"/>
                  </a:cubicBezTo>
                  <a:cubicBezTo>
                    <a:pt x="577" y="376"/>
                    <a:pt x="570" y="375"/>
                    <a:pt x="506" y="353"/>
                  </a:cubicBezTo>
                  <a:cubicBezTo>
                    <a:pt x="442" y="331"/>
                    <a:pt x="341" y="289"/>
                    <a:pt x="275" y="254"/>
                  </a:cubicBezTo>
                  <a:cubicBezTo>
                    <a:pt x="209" y="219"/>
                    <a:pt x="156" y="186"/>
                    <a:pt x="110" y="144"/>
                  </a:cubicBezTo>
                  <a:cubicBezTo>
                    <a:pt x="64" y="102"/>
                    <a:pt x="23" y="30"/>
                    <a:pt x="0" y="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789000">
              <a:off x="6835680" y="4805280"/>
              <a:ext cx="1184400" cy="473040"/>
            </a:xfrm>
            <a:custGeom>
              <a:avLst/>
              <a:gdLst/>
              <a:ahLst/>
              <a:rect l="l" t="t" r="r" b="b"/>
              <a:pathLst>
                <a:path w="1003" h="414">
                  <a:moveTo>
                    <a:pt x="1003" y="414"/>
                  </a:moveTo>
                  <a:cubicBezTo>
                    <a:pt x="947" y="409"/>
                    <a:pt x="743" y="396"/>
                    <a:pt x="660" y="386"/>
                  </a:cubicBezTo>
                  <a:cubicBezTo>
                    <a:pt x="577" y="376"/>
                    <a:pt x="570" y="375"/>
                    <a:pt x="506" y="353"/>
                  </a:cubicBezTo>
                  <a:cubicBezTo>
                    <a:pt x="442" y="331"/>
                    <a:pt x="341" y="289"/>
                    <a:pt x="275" y="254"/>
                  </a:cubicBezTo>
                  <a:cubicBezTo>
                    <a:pt x="209" y="219"/>
                    <a:pt x="156" y="186"/>
                    <a:pt x="110" y="144"/>
                  </a:cubicBezTo>
                  <a:cubicBezTo>
                    <a:pt x="64" y="102"/>
                    <a:pt x="23" y="30"/>
                    <a:pt x="0" y="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518160" y="4535640"/>
              <a:ext cx="0" cy="1608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459480" y="6086520"/>
              <a:ext cx="1962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486480" y="43718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171280" y="606420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981840" y="4878360"/>
              <a:ext cx="55440" cy="540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53160" y="5672160"/>
              <a:ext cx="55800" cy="540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013520" y="4718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458120" y="57373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702600">
              <a:off x="6927480" y="4962240"/>
              <a:ext cx="731880" cy="677880"/>
            </a:xfrm>
            <a:custGeom>
              <a:avLst/>
              <a:gdLst/>
              <a:ahLst/>
              <a:rect l="l" t="t" r="r" b="b"/>
              <a:pathLst>
                <a:path w="915" h="678">
                  <a:moveTo>
                    <a:pt x="0" y="0"/>
                  </a:moveTo>
                  <a:cubicBezTo>
                    <a:pt x="16" y="52"/>
                    <a:pt x="33" y="105"/>
                    <a:pt x="48" y="144"/>
                  </a:cubicBezTo>
                  <a:cubicBezTo>
                    <a:pt x="63" y="183"/>
                    <a:pt x="74" y="206"/>
                    <a:pt x="90" y="237"/>
                  </a:cubicBezTo>
                  <a:cubicBezTo>
                    <a:pt x="106" y="268"/>
                    <a:pt x="122" y="298"/>
                    <a:pt x="147" y="330"/>
                  </a:cubicBezTo>
                  <a:cubicBezTo>
                    <a:pt x="172" y="362"/>
                    <a:pt x="207" y="401"/>
                    <a:pt x="240" y="432"/>
                  </a:cubicBezTo>
                  <a:cubicBezTo>
                    <a:pt x="273" y="463"/>
                    <a:pt x="313" y="493"/>
                    <a:pt x="348" y="516"/>
                  </a:cubicBezTo>
                  <a:cubicBezTo>
                    <a:pt x="383" y="539"/>
                    <a:pt x="416" y="553"/>
                    <a:pt x="453" y="570"/>
                  </a:cubicBezTo>
                  <a:cubicBezTo>
                    <a:pt x="490" y="587"/>
                    <a:pt x="518" y="602"/>
                    <a:pt x="570" y="618"/>
                  </a:cubicBezTo>
                  <a:cubicBezTo>
                    <a:pt x="622" y="634"/>
                    <a:pt x="721" y="656"/>
                    <a:pt x="768" y="666"/>
                  </a:cubicBezTo>
                  <a:cubicBezTo>
                    <a:pt x="815" y="676"/>
                    <a:pt x="828" y="673"/>
                    <a:pt x="852" y="675"/>
                  </a:cubicBezTo>
                  <a:cubicBezTo>
                    <a:pt x="876" y="677"/>
                    <a:pt x="902" y="678"/>
                    <a:pt x="915" y="678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 flipV="1">
              <a:off x="7013160" y="5113440"/>
              <a:ext cx="34920" cy="1238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923600" y="5226120"/>
              <a:ext cx="389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38000" y="5638680"/>
              <a:ext cx="389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4557600" y="4819680"/>
            <a:ext cx="1173240" cy="425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650960" y="641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15880" y="1012680"/>
            <a:ext cx="8153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tropy-increasing processes are irreversibl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ecause the reverse processes would reduce entrop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ree-expansion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actually, any particle flow between regions of different density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at flow between two systems with different temperature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2760" y="5688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Irreversible Proces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06520" y="2859120"/>
            <a:ext cx="8157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the four processes of interest he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thermal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Heat flow but no T differenc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versibl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iabatic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Q = 0.  No heat flow at all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versi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chori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amp;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bari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 Heat flow between different T’s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rreversi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Assuming that there are only two reservoirs.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630360" y="4664160"/>
            <a:ext cx="7562880" cy="1580040"/>
            <a:chOff x="630360" y="4664160"/>
            <a:chExt cx="7562880" cy="1580040"/>
          </a:xfrm>
        </p:grpSpPr>
        <p:sp>
          <p:nvSpPr>
            <p:cNvPr id="143" name=""/>
            <p:cNvSpPr/>
            <p:nvPr/>
          </p:nvSpPr>
          <p:spPr>
            <a:xfrm>
              <a:off x="1013400" y="5875920"/>
              <a:ext cx="70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reversible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 reversible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  irreversible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    irreversib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630360" y="4664160"/>
              <a:ext cx="1855800" cy="1329120"/>
              <a:chOff x="630360" y="4664160"/>
              <a:chExt cx="1855800" cy="1329120"/>
            </a:xfrm>
          </p:grpSpPr>
          <p:sp>
            <p:nvSpPr>
              <p:cNvPr id="145" name=""/>
              <p:cNvSpPr/>
              <p:nvPr/>
            </p:nvSpPr>
            <p:spPr>
              <a:xfrm>
                <a:off x="2169720" y="565596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V="1">
                <a:off x="923760" y="4798800"/>
                <a:ext cx="0" cy="879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V="1">
                <a:off x="923760" y="5677920"/>
                <a:ext cx="1454400" cy="6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0360" y="46641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278000" y="4771800"/>
                <a:ext cx="93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sotherm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114560" y="4719600"/>
                <a:ext cx="663480" cy="723240"/>
              </a:xfrm>
              <a:custGeom>
                <a:avLst/>
                <a:gdLst/>
                <a:ahLst/>
                <a:rect l="l" t="t" r="r" b="b"/>
                <a:pathLst>
                  <a:path w="619" h="576">
                    <a:moveTo>
                      <a:pt x="0" y="0"/>
                    </a:moveTo>
                    <a:cubicBezTo>
                      <a:pt x="36" y="115"/>
                      <a:pt x="73" y="231"/>
                      <a:pt x="176" y="327"/>
                    </a:cubicBezTo>
                    <a:cubicBezTo>
                      <a:pt x="279" y="423"/>
                      <a:pt x="449" y="499"/>
                      <a:pt x="619" y="576"/>
                    </a:cubicBezTo>
                  </a:path>
                </a:pathLst>
              </a:custGeom>
              <a:noFill/>
              <a:ln w="38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2579760" y="4664160"/>
              <a:ext cx="1822680" cy="1337040"/>
              <a:chOff x="2579760" y="4664160"/>
              <a:chExt cx="1822680" cy="1337040"/>
            </a:xfrm>
          </p:grpSpPr>
          <p:sp>
            <p:nvSpPr>
              <p:cNvPr id="152" name=""/>
              <p:cNvSpPr/>
              <p:nvPr/>
            </p:nvSpPr>
            <p:spPr>
              <a:xfrm>
                <a:off x="3122640" y="4763880"/>
                <a:ext cx="493560" cy="747360"/>
              </a:xfrm>
              <a:custGeom>
                <a:avLst/>
                <a:gdLst/>
                <a:ahLst/>
                <a:rect l="l" t="t" r="r" b="b"/>
                <a:pathLst>
                  <a:path w="588" h="533">
                    <a:moveTo>
                      <a:pt x="0" y="0"/>
                    </a:moveTo>
                    <a:cubicBezTo>
                      <a:pt x="57" y="113"/>
                      <a:pt x="114" y="226"/>
                      <a:pt x="212" y="315"/>
                    </a:cubicBezTo>
                    <a:cubicBezTo>
                      <a:pt x="310" y="404"/>
                      <a:pt x="449" y="468"/>
                      <a:pt x="588" y="533"/>
                    </a:cubicBezTo>
                  </a:path>
                </a:pathLst>
              </a:custGeom>
              <a:noFill/>
              <a:ln w="38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V="1">
                <a:off x="2846520" y="4798800"/>
                <a:ext cx="0" cy="879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2846520" y="5677920"/>
                <a:ext cx="1454040" cy="6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87880" y="4770360"/>
                <a:ext cx="927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diaba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086000" y="56638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579760" y="46641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438800" y="4686120"/>
              <a:ext cx="2083320" cy="1322640"/>
              <a:chOff x="4438800" y="4686120"/>
              <a:chExt cx="2083320" cy="1322640"/>
            </a:xfrm>
          </p:grpSpPr>
          <p:sp>
            <p:nvSpPr>
              <p:cNvPr id="159" name=""/>
              <p:cNvSpPr/>
              <p:nvPr/>
            </p:nvSpPr>
            <p:spPr>
              <a:xfrm flipV="1">
                <a:off x="4711680" y="4817520"/>
                <a:ext cx="0" cy="88056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711680" y="5698440"/>
                <a:ext cx="147636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5283360" y="4876200"/>
                <a:ext cx="0" cy="5392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114520" y="4790160"/>
                <a:ext cx="1407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isocho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970240" y="56714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438800" y="46861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6392880" y="4701960"/>
              <a:ext cx="1800360" cy="1279800"/>
              <a:chOff x="6392880" y="4701960"/>
              <a:chExt cx="1800360" cy="1279800"/>
            </a:xfrm>
          </p:grpSpPr>
          <p:sp>
            <p:nvSpPr>
              <p:cNvPr id="166" name=""/>
              <p:cNvSpPr/>
              <p:nvPr/>
            </p:nvSpPr>
            <p:spPr>
              <a:xfrm flipV="1">
                <a:off x="6664320" y="4839840"/>
                <a:ext cx="0" cy="8330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6664320" y="5673240"/>
                <a:ext cx="1428840" cy="576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032600" y="5146200"/>
                <a:ext cx="65232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859440" y="4771080"/>
                <a:ext cx="1305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isoba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876800" y="56444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392880" y="47019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4-02-20T04:00:17Z</dcterms:modified>
  <cp:revision>270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