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3018240" y="9145440"/>
            <a:ext cx="128052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983385F5-A171-4DAC-A207-A71D19602D9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ldImg"/>
          </p:nvPr>
        </p:nvSpPr>
        <p:spPr>
          <a:xfrm>
            <a:off x="1265400" y="726840"/>
            <a:ext cx="4782960" cy="3585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4680" rIns="94680" tIns="47520" bIns="4752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3044160" y="287280"/>
            <a:ext cx="1245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ecture 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2960" cy="358596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often ~simplify this to n_T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1/deltaV (the size of the ‘bin’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sible illustrations include coins, dice, roulette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2960" cy="35859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2960" cy="358596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play the histogram during the ACT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2960" cy="358596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mega(A) is the multiplicity of microstates leading to macrostate 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5"/>
          <p:cNvSpPr/>
          <p:nvPr/>
        </p:nvSpPr>
        <p:spPr>
          <a:xfrm>
            <a:off x="7610400" y="6632640"/>
            <a:ext cx="203040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7, p </a:t>
            </a:r>
            <a:fld id="{BF985013-ECCB-4A31-968A-D1340DDB123F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Rectangle 5"/>
          <p:cNvSpPr/>
          <p:nvPr/>
        </p:nvSpPr>
        <p:spPr>
          <a:xfrm>
            <a:off x="7610400" y="6632640"/>
            <a:ext cx="203040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7, p </a:t>
            </a:r>
            <a:fld id="{C8E7B32D-AD06-47E0-8FD0-BB67D0A1E3EB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2"/>
          <p:cNvSpPr/>
          <p:nvPr/>
        </p:nvSpPr>
        <p:spPr>
          <a:xfrm>
            <a:off x="7540560" y="6632640"/>
            <a:ext cx="21002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 algn="r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Lecture 10, p </a:t>
            </a:r>
            <a:fld id="{634A3665-D8CF-4BC9-9F7B-E89D5BE67EF0}" type="slidenum"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20520" y="61560"/>
            <a:ext cx="7305480" cy="134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cture 7</a:t>
            </a:r>
            <a:r>
              <a:rPr b="0" lang="en-US" sz="1600" spc="-1" strike="noStrike">
                <a:solidFill>
                  <a:srgbClr val="ff9966"/>
                </a:solidFill>
                <a:latin typeface="Arial"/>
              </a:rPr>
              <a:t> </a:t>
            </a:r>
            <a:br>
              <a:rPr sz="1600"/>
            </a:br>
            <a:br>
              <a:rPr sz="1600"/>
            </a:br>
            <a:r>
              <a:rPr b="0" lang="en-US" sz="2800" spc="-1" strike="noStrike">
                <a:solidFill>
                  <a:srgbClr val="ff9966"/>
                </a:solidFill>
                <a:latin typeface="Arial"/>
              </a:rPr>
              <a:t>Entropy and Exchange between Systems </a:t>
            </a:r>
            <a:br>
              <a:rPr sz="1400"/>
            </a:b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288040"/>
            <a:ext cx="3735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ference for this Lectur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ements Ch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5174280" y="5297400"/>
            <a:ext cx="2926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ference for Lecture 8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ements Ch 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Text Box 12"/>
          <p:cNvSpPr/>
          <p:nvPr/>
        </p:nvSpPr>
        <p:spPr>
          <a:xfrm>
            <a:off x="833400" y="2321280"/>
            <a:ext cx="742968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unting microstates of combined syste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olume exchange between syste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finition of Entropy and its role in equilibriu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Box 1"/>
          <p:cNvSpPr/>
          <p:nvPr/>
        </p:nvSpPr>
        <p:spPr>
          <a:xfrm>
            <a:off x="2641320" y="150840"/>
            <a:ext cx="386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ns in the gas probl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Box 2"/>
          <p:cNvSpPr/>
          <p:nvPr/>
        </p:nvSpPr>
        <p:spPr>
          <a:xfrm>
            <a:off x="457560" y="743040"/>
            <a:ext cx="499032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ocation in 3-spa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elocity in 3-spa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pin either up or dow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ther (rotational angular momentum stat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31400" y="60480"/>
            <a:ext cx="886932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Counting Arrangements of Object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63320" y="1122480"/>
            <a:ext cx="8204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0000"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blem 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stinct objects in bins with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unlimited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ccupanc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ow many ways can you arrange 2 distinct objects (A and B) in 3 bins?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# arrangements (# microstates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uppose we throw the 2 objects up and let them land randoml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hat is the probability of getting a specified microstate?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 =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ow many microstates for N different objects in M bins?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Find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for two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dentical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bjects (A and A) in 3 bins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Rectangle 60"/>
          <p:cNvSpPr/>
          <p:nvPr/>
        </p:nvSpPr>
        <p:spPr>
          <a:xfrm>
            <a:off x="7772400" y="5638680"/>
            <a:ext cx="914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8" name="Group 85"/>
          <p:cNvGrpSpPr/>
          <p:nvPr/>
        </p:nvGrpSpPr>
        <p:grpSpPr>
          <a:xfrm>
            <a:off x="1001520" y="2065320"/>
            <a:ext cx="7021800" cy="1174320"/>
            <a:chOff x="1001520" y="2065320"/>
            <a:chExt cx="7021800" cy="1174320"/>
          </a:xfrm>
        </p:grpSpPr>
        <p:grpSp>
          <p:nvGrpSpPr>
            <p:cNvPr id="159" name="Group 82"/>
            <p:cNvGrpSpPr/>
            <p:nvPr/>
          </p:nvGrpSpPr>
          <p:grpSpPr>
            <a:xfrm>
              <a:off x="1033560" y="2143080"/>
              <a:ext cx="6989760" cy="1096560"/>
              <a:chOff x="1033560" y="2143080"/>
              <a:chExt cx="6989760" cy="1096560"/>
            </a:xfrm>
          </p:grpSpPr>
          <p:grpSp>
            <p:nvGrpSpPr>
              <p:cNvPr id="160" name="Group 4"/>
              <p:cNvGrpSpPr/>
              <p:nvPr/>
            </p:nvGrpSpPr>
            <p:grpSpPr>
              <a:xfrm>
                <a:off x="1033560" y="2145960"/>
                <a:ext cx="5282640" cy="1093680"/>
                <a:chOff x="1033560" y="2145960"/>
                <a:chExt cx="5282640" cy="1093680"/>
              </a:xfrm>
            </p:grpSpPr>
            <p:grpSp>
              <p:nvGrpSpPr>
                <p:cNvPr id="161" name="Group 5"/>
                <p:cNvGrpSpPr/>
                <p:nvPr/>
              </p:nvGrpSpPr>
              <p:grpSpPr>
                <a:xfrm>
                  <a:off x="3014640" y="2571120"/>
                  <a:ext cx="1386720" cy="243000"/>
                  <a:chOff x="3014640" y="2571120"/>
                  <a:chExt cx="1386720" cy="243000"/>
                </a:xfrm>
              </p:grpSpPr>
              <p:sp>
                <p:nvSpPr>
                  <p:cNvPr id="162" name="Line 6"/>
                  <p:cNvSpPr/>
                  <p:nvPr/>
                </p:nvSpPr>
                <p:spPr>
                  <a:xfrm>
                    <a:off x="3014640" y="2814120"/>
                    <a:ext cx="138672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" name="Line 7"/>
                  <p:cNvSpPr/>
                  <p:nvPr/>
                </p:nvSpPr>
                <p:spPr>
                  <a:xfrm>
                    <a:off x="301464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Line 8"/>
                  <p:cNvSpPr/>
                  <p:nvPr/>
                </p:nvSpPr>
                <p:spPr>
                  <a:xfrm>
                    <a:off x="440136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" name="Line 9"/>
                  <p:cNvSpPr/>
                  <p:nvPr/>
                </p:nvSpPr>
                <p:spPr>
                  <a:xfrm>
                    <a:off x="347688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" name="Line 10"/>
                  <p:cNvSpPr/>
                  <p:nvPr/>
                </p:nvSpPr>
                <p:spPr>
                  <a:xfrm>
                    <a:off x="393876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7" name="Group 11"/>
                <p:cNvGrpSpPr/>
                <p:nvPr/>
              </p:nvGrpSpPr>
              <p:grpSpPr>
                <a:xfrm>
                  <a:off x="4929480" y="2571120"/>
                  <a:ext cx="1386720" cy="243000"/>
                  <a:chOff x="4929480" y="2571120"/>
                  <a:chExt cx="1386720" cy="243000"/>
                </a:xfrm>
              </p:grpSpPr>
              <p:sp>
                <p:nvSpPr>
                  <p:cNvPr id="168" name="Line 12"/>
                  <p:cNvSpPr/>
                  <p:nvPr/>
                </p:nvSpPr>
                <p:spPr>
                  <a:xfrm>
                    <a:off x="4929480" y="2814120"/>
                    <a:ext cx="138672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9" name="Line 13"/>
                  <p:cNvSpPr/>
                  <p:nvPr/>
                </p:nvSpPr>
                <p:spPr>
                  <a:xfrm>
                    <a:off x="492948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" name="Line 14"/>
                  <p:cNvSpPr/>
                  <p:nvPr/>
                </p:nvSpPr>
                <p:spPr>
                  <a:xfrm>
                    <a:off x="631620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Line 15"/>
                  <p:cNvSpPr/>
                  <p:nvPr/>
                </p:nvSpPr>
                <p:spPr>
                  <a:xfrm>
                    <a:off x="539172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Line 16"/>
                  <p:cNvSpPr/>
                  <p:nvPr/>
                </p:nvSpPr>
                <p:spPr>
                  <a:xfrm>
                    <a:off x="585360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3" name="Group 17"/>
                <p:cNvGrpSpPr/>
                <p:nvPr/>
              </p:nvGrpSpPr>
              <p:grpSpPr>
                <a:xfrm>
                  <a:off x="1033560" y="2571120"/>
                  <a:ext cx="1386720" cy="243000"/>
                  <a:chOff x="1033560" y="2571120"/>
                  <a:chExt cx="1386720" cy="243000"/>
                </a:xfrm>
              </p:grpSpPr>
              <p:sp>
                <p:nvSpPr>
                  <p:cNvPr id="174" name="Line 18"/>
                  <p:cNvSpPr/>
                  <p:nvPr/>
                </p:nvSpPr>
                <p:spPr>
                  <a:xfrm>
                    <a:off x="1033560" y="2814120"/>
                    <a:ext cx="138672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5" name="Line 19"/>
                  <p:cNvSpPr/>
                  <p:nvPr/>
                </p:nvSpPr>
                <p:spPr>
                  <a:xfrm>
                    <a:off x="103356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" name="Line 20"/>
                  <p:cNvSpPr/>
                  <p:nvPr/>
                </p:nvSpPr>
                <p:spPr>
                  <a:xfrm>
                    <a:off x="242028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" name="Line 21"/>
                  <p:cNvSpPr/>
                  <p:nvPr/>
                </p:nvSpPr>
                <p:spPr>
                  <a:xfrm>
                    <a:off x="149580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8" name="Line 22"/>
                  <p:cNvSpPr/>
                  <p:nvPr/>
                </p:nvSpPr>
                <p:spPr>
                  <a:xfrm>
                    <a:off x="195768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9" name="Group 23"/>
                <p:cNvGrpSpPr/>
                <p:nvPr/>
              </p:nvGrpSpPr>
              <p:grpSpPr>
                <a:xfrm>
                  <a:off x="3014640" y="2996640"/>
                  <a:ext cx="1386720" cy="243000"/>
                  <a:chOff x="3014640" y="2996640"/>
                  <a:chExt cx="1386720" cy="243000"/>
                </a:xfrm>
              </p:grpSpPr>
              <p:sp>
                <p:nvSpPr>
                  <p:cNvPr id="180" name="Line 24"/>
                  <p:cNvSpPr/>
                  <p:nvPr/>
                </p:nvSpPr>
                <p:spPr>
                  <a:xfrm>
                    <a:off x="3014640" y="3239640"/>
                    <a:ext cx="138672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1" name="Line 25"/>
                  <p:cNvSpPr/>
                  <p:nvPr/>
                </p:nvSpPr>
                <p:spPr>
                  <a:xfrm>
                    <a:off x="301464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2" name="Line 26"/>
                  <p:cNvSpPr/>
                  <p:nvPr/>
                </p:nvSpPr>
                <p:spPr>
                  <a:xfrm>
                    <a:off x="440136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3" name="Line 27"/>
                  <p:cNvSpPr/>
                  <p:nvPr/>
                </p:nvSpPr>
                <p:spPr>
                  <a:xfrm>
                    <a:off x="347688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Line 28"/>
                  <p:cNvSpPr/>
                  <p:nvPr/>
                </p:nvSpPr>
                <p:spPr>
                  <a:xfrm>
                    <a:off x="393876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Group 29"/>
                <p:cNvGrpSpPr/>
                <p:nvPr/>
              </p:nvGrpSpPr>
              <p:grpSpPr>
                <a:xfrm>
                  <a:off x="4929480" y="2996640"/>
                  <a:ext cx="1386720" cy="243000"/>
                  <a:chOff x="4929480" y="2996640"/>
                  <a:chExt cx="1386720" cy="243000"/>
                </a:xfrm>
              </p:grpSpPr>
              <p:sp>
                <p:nvSpPr>
                  <p:cNvPr id="186" name="Line 30"/>
                  <p:cNvSpPr/>
                  <p:nvPr/>
                </p:nvSpPr>
                <p:spPr>
                  <a:xfrm>
                    <a:off x="4929480" y="3239640"/>
                    <a:ext cx="138672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7" name="Line 31"/>
                  <p:cNvSpPr/>
                  <p:nvPr/>
                </p:nvSpPr>
                <p:spPr>
                  <a:xfrm>
                    <a:off x="492948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" name="Line 32"/>
                  <p:cNvSpPr/>
                  <p:nvPr/>
                </p:nvSpPr>
                <p:spPr>
                  <a:xfrm>
                    <a:off x="631620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" name="Line 33"/>
                  <p:cNvSpPr/>
                  <p:nvPr/>
                </p:nvSpPr>
                <p:spPr>
                  <a:xfrm>
                    <a:off x="539172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" name="Line 34"/>
                  <p:cNvSpPr/>
                  <p:nvPr/>
                </p:nvSpPr>
                <p:spPr>
                  <a:xfrm>
                    <a:off x="585360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1" name="Group 35"/>
                <p:cNvGrpSpPr/>
                <p:nvPr/>
              </p:nvGrpSpPr>
              <p:grpSpPr>
                <a:xfrm>
                  <a:off x="1033560" y="2996640"/>
                  <a:ext cx="1386720" cy="243000"/>
                  <a:chOff x="1033560" y="2996640"/>
                  <a:chExt cx="1386720" cy="243000"/>
                </a:xfrm>
              </p:grpSpPr>
              <p:sp>
                <p:nvSpPr>
                  <p:cNvPr id="192" name="Line 36"/>
                  <p:cNvSpPr/>
                  <p:nvPr/>
                </p:nvSpPr>
                <p:spPr>
                  <a:xfrm>
                    <a:off x="1033560" y="3239640"/>
                    <a:ext cx="138672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3" name="Line 37"/>
                  <p:cNvSpPr/>
                  <p:nvPr/>
                </p:nvSpPr>
                <p:spPr>
                  <a:xfrm>
                    <a:off x="103356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4" name="Line 38"/>
                  <p:cNvSpPr/>
                  <p:nvPr/>
                </p:nvSpPr>
                <p:spPr>
                  <a:xfrm>
                    <a:off x="242028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5" name="Line 39"/>
                  <p:cNvSpPr/>
                  <p:nvPr/>
                </p:nvSpPr>
                <p:spPr>
                  <a:xfrm>
                    <a:off x="149580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" name="Line 40"/>
                  <p:cNvSpPr/>
                  <p:nvPr/>
                </p:nvSpPr>
                <p:spPr>
                  <a:xfrm>
                    <a:off x="195768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7" name="Group 41"/>
                <p:cNvGrpSpPr/>
                <p:nvPr/>
              </p:nvGrpSpPr>
              <p:grpSpPr>
                <a:xfrm>
                  <a:off x="1033560" y="2145960"/>
                  <a:ext cx="5282640" cy="242640"/>
                  <a:chOff x="1033560" y="2145960"/>
                  <a:chExt cx="5282640" cy="242640"/>
                </a:xfrm>
              </p:grpSpPr>
              <p:grpSp>
                <p:nvGrpSpPr>
                  <p:cNvPr id="198" name="Group 42"/>
                  <p:cNvGrpSpPr/>
                  <p:nvPr/>
                </p:nvGrpSpPr>
                <p:grpSpPr>
                  <a:xfrm>
                    <a:off x="3014640" y="2145960"/>
                    <a:ext cx="1386720" cy="242640"/>
                    <a:chOff x="3014640" y="2145960"/>
                    <a:chExt cx="1386720" cy="242640"/>
                  </a:xfrm>
                </p:grpSpPr>
                <p:sp>
                  <p:nvSpPr>
                    <p:cNvPr id="199" name="Line 43"/>
                    <p:cNvSpPr/>
                    <p:nvPr/>
                  </p:nvSpPr>
                  <p:spPr>
                    <a:xfrm>
                      <a:off x="3014640" y="2388600"/>
                      <a:ext cx="1386720" cy="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Line 44"/>
                    <p:cNvSpPr/>
                    <p:nvPr/>
                  </p:nvSpPr>
                  <p:spPr>
                    <a:xfrm>
                      <a:off x="301464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1" name="Line 45"/>
                    <p:cNvSpPr/>
                    <p:nvPr/>
                  </p:nvSpPr>
                  <p:spPr>
                    <a:xfrm>
                      <a:off x="440136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2" name="Line 46"/>
                    <p:cNvSpPr/>
                    <p:nvPr/>
                  </p:nvSpPr>
                  <p:spPr>
                    <a:xfrm>
                      <a:off x="347688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Line 47"/>
                    <p:cNvSpPr/>
                    <p:nvPr/>
                  </p:nvSpPr>
                  <p:spPr>
                    <a:xfrm>
                      <a:off x="393876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Group 48"/>
                  <p:cNvGrpSpPr/>
                  <p:nvPr/>
                </p:nvGrpSpPr>
                <p:grpSpPr>
                  <a:xfrm>
                    <a:off x="4929480" y="2145960"/>
                    <a:ext cx="1386720" cy="242640"/>
                    <a:chOff x="4929480" y="2145960"/>
                    <a:chExt cx="1386720" cy="242640"/>
                  </a:xfrm>
                </p:grpSpPr>
                <p:sp>
                  <p:nvSpPr>
                    <p:cNvPr id="205" name="Line 49"/>
                    <p:cNvSpPr/>
                    <p:nvPr/>
                  </p:nvSpPr>
                  <p:spPr>
                    <a:xfrm>
                      <a:off x="4929480" y="2388600"/>
                      <a:ext cx="1386720" cy="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Line 50"/>
                    <p:cNvSpPr/>
                    <p:nvPr/>
                  </p:nvSpPr>
                  <p:spPr>
                    <a:xfrm>
                      <a:off x="492948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7" name="Line 51"/>
                    <p:cNvSpPr/>
                    <p:nvPr/>
                  </p:nvSpPr>
                  <p:spPr>
                    <a:xfrm>
                      <a:off x="631620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8" name="Line 52"/>
                    <p:cNvSpPr/>
                    <p:nvPr/>
                  </p:nvSpPr>
                  <p:spPr>
                    <a:xfrm>
                      <a:off x="539172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Line 53"/>
                    <p:cNvSpPr/>
                    <p:nvPr/>
                  </p:nvSpPr>
                  <p:spPr>
                    <a:xfrm>
                      <a:off x="585360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Group 54"/>
                  <p:cNvGrpSpPr/>
                  <p:nvPr/>
                </p:nvGrpSpPr>
                <p:grpSpPr>
                  <a:xfrm>
                    <a:off x="1033560" y="2145960"/>
                    <a:ext cx="1386720" cy="242640"/>
                    <a:chOff x="1033560" y="2145960"/>
                    <a:chExt cx="1386720" cy="242640"/>
                  </a:xfrm>
                </p:grpSpPr>
                <p:sp>
                  <p:nvSpPr>
                    <p:cNvPr id="211" name="Line 55"/>
                    <p:cNvSpPr/>
                    <p:nvPr/>
                  </p:nvSpPr>
                  <p:spPr>
                    <a:xfrm>
                      <a:off x="1033560" y="2388600"/>
                      <a:ext cx="1386720" cy="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Line 56"/>
                    <p:cNvSpPr/>
                    <p:nvPr/>
                  </p:nvSpPr>
                  <p:spPr>
                    <a:xfrm>
                      <a:off x="103356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3" name="Line 57"/>
                    <p:cNvSpPr/>
                    <p:nvPr/>
                  </p:nvSpPr>
                  <p:spPr>
                    <a:xfrm>
                      <a:off x="242028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4" name="Line 58"/>
                    <p:cNvSpPr/>
                    <p:nvPr/>
                  </p:nvSpPr>
                  <p:spPr>
                    <a:xfrm>
                      <a:off x="149580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Line 59"/>
                    <p:cNvSpPr/>
                    <p:nvPr/>
                  </p:nvSpPr>
                  <p:spPr>
                    <a:xfrm>
                      <a:off x="195768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16" name="Group 63"/>
              <p:cNvGrpSpPr/>
              <p:nvPr/>
            </p:nvGrpSpPr>
            <p:grpSpPr>
              <a:xfrm>
                <a:off x="6635880" y="2143080"/>
                <a:ext cx="1387440" cy="1093320"/>
                <a:chOff x="6635880" y="2143080"/>
                <a:chExt cx="1387440" cy="1093320"/>
              </a:xfrm>
            </p:grpSpPr>
            <p:grpSp>
              <p:nvGrpSpPr>
                <p:cNvPr id="217" name="Group 64"/>
                <p:cNvGrpSpPr/>
                <p:nvPr/>
              </p:nvGrpSpPr>
              <p:grpSpPr>
                <a:xfrm>
                  <a:off x="6635880" y="2568240"/>
                  <a:ext cx="1387440" cy="242640"/>
                  <a:chOff x="6635880" y="2568240"/>
                  <a:chExt cx="1387440" cy="242640"/>
                </a:xfrm>
              </p:grpSpPr>
              <p:sp>
                <p:nvSpPr>
                  <p:cNvPr id="218" name="Line 65"/>
                  <p:cNvSpPr/>
                  <p:nvPr/>
                </p:nvSpPr>
                <p:spPr>
                  <a:xfrm>
                    <a:off x="6635880" y="2810880"/>
                    <a:ext cx="138744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9" name="Line 66"/>
                  <p:cNvSpPr/>
                  <p:nvPr/>
                </p:nvSpPr>
                <p:spPr>
                  <a:xfrm>
                    <a:off x="6635880" y="256824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0" name="Line 67"/>
                  <p:cNvSpPr/>
                  <p:nvPr/>
                </p:nvSpPr>
                <p:spPr>
                  <a:xfrm>
                    <a:off x="8023320" y="256824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Line 68"/>
                  <p:cNvSpPr/>
                  <p:nvPr/>
                </p:nvSpPr>
                <p:spPr>
                  <a:xfrm>
                    <a:off x="7098480" y="256824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Line 69"/>
                  <p:cNvSpPr/>
                  <p:nvPr/>
                </p:nvSpPr>
                <p:spPr>
                  <a:xfrm>
                    <a:off x="7560720" y="256824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3" name="Group 70"/>
                <p:cNvGrpSpPr/>
                <p:nvPr/>
              </p:nvGrpSpPr>
              <p:grpSpPr>
                <a:xfrm>
                  <a:off x="6635880" y="2993760"/>
                  <a:ext cx="1387440" cy="242640"/>
                  <a:chOff x="6635880" y="2993760"/>
                  <a:chExt cx="1387440" cy="242640"/>
                </a:xfrm>
              </p:grpSpPr>
              <p:sp>
                <p:nvSpPr>
                  <p:cNvPr id="224" name="Line 71"/>
                  <p:cNvSpPr/>
                  <p:nvPr/>
                </p:nvSpPr>
                <p:spPr>
                  <a:xfrm>
                    <a:off x="6635880" y="3236400"/>
                    <a:ext cx="138744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" name="Line 72"/>
                  <p:cNvSpPr/>
                  <p:nvPr/>
                </p:nvSpPr>
                <p:spPr>
                  <a:xfrm>
                    <a:off x="6635880" y="299376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6" name="Line 73"/>
                  <p:cNvSpPr/>
                  <p:nvPr/>
                </p:nvSpPr>
                <p:spPr>
                  <a:xfrm>
                    <a:off x="8023320" y="299376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7" name="Line 74"/>
                  <p:cNvSpPr/>
                  <p:nvPr/>
                </p:nvSpPr>
                <p:spPr>
                  <a:xfrm>
                    <a:off x="7098480" y="299376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" name="Line 75"/>
                  <p:cNvSpPr/>
                  <p:nvPr/>
                </p:nvSpPr>
                <p:spPr>
                  <a:xfrm>
                    <a:off x="7560720" y="299376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9" name="Group 76"/>
                <p:cNvGrpSpPr/>
                <p:nvPr/>
              </p:nvGrpSpPr>
              <p:grpSpPr>
                <a:xfrm>
                  <a:off x="6635880" y="2143080"/>
                  <a:ext cx="1387440" cy="242640"/>
                  <a:chOff x="6635880" y="2143080"/>
                  <a:chExt cx="1387440" cy="242640"/>
                </a:xfrm>
              </p:grpSpPr>
              <p:sp>
                <p:nvSpPr>
                  <p:cNvPr id="230" name="Line 77"/>
                  <p:cNvSpPr/>
                  <p:nvPr/>
                </p:nvSpPr>
                <p:spPr>
                  <a:xfrm>
                    <a:off x="6635880" y="2385720"/>
                    <a:ext cx="138744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Line 78"/>
                  <p:cNvSpPr/>
                  <p:nvPr/>
                </p:nvSpPr>
                <p:spPr>
                  <a:xfrm>
                    <a:off x="6635880" y="214308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2" name="Line 79"/>
                  <p:cNvSpPr/>
                  <p:nvPr/>
                </p:nvSpPr>
                <p:spPr>
                  <a:xfrm>
                    <a:off x="8023320" y="214308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Line 80"/>
                  <p:cNvSpPr/>
                  <p:nvPr/>
                </p:nvSpPr>
                <p:spPr>
                  <a:xfrm>
                    <a:off x="7098480" y="214308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4" name="Line 81"/>
                  <p:cNvSpPr/>
                  <p:nvPr/>
                </p:nvSpPr>
                <p:spPr>
                  <a:xfrm>
                    <a:off x="7560720" y="214308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235" name="Rectangle 84"/>
            <p:cNvSpPr/>
            <p:nvPr/>
          </p:nvSpPr>
          <p:spPr>
            <a:xfrm>
              <a:off x="1001520" y="2065320"/>
              <a:ext cx="50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A B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6" name="Group 88"/>
          <p:cNvGrpSpPr/>
          <p:nvPr/>
        </p:nvGrpSpPr>
        <p:grpSpPr>
          <a:xfrm>
            <a:off x="2470320" y="5964120"/>
            <a:ext cx="3404520" cy="723600"/>
            <a:chOff x="2470320" y="5964120"/>
            <a:chExt cx="3404520" cy="723600"/>
          </a:xfrm>
        </p:grpSpPr>
        <p:sp>
          <p:nvSpPr>
            <p:cNvPr id="237" name="Text Box 86"/>
            <p:cNvSpPr/>
            <p:nvPr/>
          </p:nvSpPr>
          <p:spPr>
            <a:xfrm>
              <a:off x="3161160" y="6167520"/>
              <a:ext cx="2713680" cy="52020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dentical </a:t>
              </a:r>
              <a:r>
                <a:rPr b="0" i="1" lang="en-US" sz="1400" spc="-1" strike="noStrike">
                  <a:solidFill>
                    <a:srgbClr val="ffffff"/>
                  </a:solidFill>
                  <a:latin typeface="Arial"/>
                </a:rPr>
                <a:t>vs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distinct </a:t>
              </a:r>
              <a:br>
                <a:rPr sz="1400"/>
              </a:b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(or distinguishable) is important!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Arc 87"/>
            <p:cNvSpPr/>
            <p:nvPr/>
          </p:nvSpPr>
          <p:spPr>
            <a:xfrm flipH="1" flipV="1">
              <a:off x="2470320" y="5964120"/>
              <a:ext cx="606240" cy="48744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3240">
              <a:solidFill>
                <a:srgbClr val="ffffff"/>
              </a:solidFill>
              <a:round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31400" y="60480"/>
            <a:ext cx="886932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63320" y="1122480"/>
            <a:ext cx="8204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5000"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376280"/>
                <a:tab algn="l" pos="18288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blem 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stinct object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n bins with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nlimited occupanc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376280"/>
                <a:tab algn="l" pos="18288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ow many ways can you arrange 2 distinct objects (A and B) in 3 bins?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376280"/>
                <a:tab algn="l" pos="18288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376280"/>
                <a:tab algn="l" pos="18288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376280"/>
                <a:tab algn="l" pos="18288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376280"/>
                <a:tab algn="l" pos="18288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376280"/>
                <a:tab algn="l" pos="18288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376280"/>
                <a:tab algn="l" pos="18288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376280"/>
                <a:tab algn="l" pos="18288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# arrangements (# microstates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376280"/>
                <a:tab algn="l" pos="18288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376280"/>
                <a:tab algn="l" pos="18288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w throw the 2 objects up and let them land randoml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376280"/>
                <a:tab algn="l" pos="18288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hat is the probability of getting a specified microstate?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 =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/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376280"/>
                <a:tab algn="l" pos="18288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ow many microstates for N different objects in M bins?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M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376280"/>
                <a:tab algn="l" pos="18288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376280"/>
                <a:tab algn="l" pos="18288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Find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for two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dentical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bjects (A and A) in 3 bins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??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Rectangle 60"/>
          <p:cNvSpPr/>
          <p:nvPr/>
        </p:nvSpPr>
        <p:spPr>
          <a:xfrm>
            <a:off x="7772400" y="5638680"/>
            <a:ext cx="914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2" name="Group 99"/>
          <p:cNvGrpSpPr/>
          <p:nvPr/>
        </p:nvGrpSpPr>
        <p:grpSpPr>
          <a:xfrm>
            <a:off x="1001520" y="2035080"/>
            <a:ext cx="7021800" cy="1237680"/>
            <a:chOff x="1001520" y="2035080"/>
            <a:chExt cx="7021800" cy="1237680"/>
          </a:xfrm>
        </p:grpSpPr>
        <p:grpSp>
          <p:nvGrpSpPr>
            <p:cNvPr id="243" name="Group 97"/>
            <p:cNvGrpSpPr/>
            <p:nvPr/>
          </p:nvGrpSpPr>
          <p:grpSpPr>
            <a:xfrm>
              <a:off x="1001520" y="2035080"/>
              <a:ext cx="7021800" cy="1237680"/>
              <a:chOff x="1001520" y="2035080"/>
              <a:chExt cx="7021800" cy="1237680"/>
            </a:xfrm>
          </p:grpSpPr>
          <p:grpSp>
            <p:nvGrpSpPr>
              <p:cNvPr id="244" name="Group 6"/>
              <p:cNvGrpSpPr/>
              <p:nvPr/>
            </p:nvGrpSpPr>
            <p:grpSpPr>
              <a:xfrm>
                <a:off x="1033560" y="2143080"/>
                <a:ext cx="6989760" cy="1096560"/>
                <a:chOff x="1033560" y="2143080"/>
                <a:chExt cx="6989760" cy="1096560"/>
              </a:xfrm>
            </p:grpSpPr>
            <p:grpSp>
              <p:nvGrpSpPr>
                <p:cNvPr id="245" name="Group 4"/>
                <p:cNvGrpSpPr/>
                <p:nvPr/>
              </p:nvGrpSpPr>
              <p:grpSpPr>
                <a:xfrm>
                  <a:off x="1033560" y="2145960"/>
                  <a:ext cx="5282640" cy="1093680"/>
                  <a:chOff x="1033560" y="2145960"/>
                  <a:chExt cx="5282640" cy="1093680"/>
                </a:xfrm>
              </p:grpSpPr>
              <p:grpSp>
                <p:nvGrpSpPr>
                  <p:cNvPr id="246" name="Group 5"/>
                  <p:cNvGrpSpPr/>
                  <p:nvPr/>
                </p:nvGrpSpPr>
                <p:grpSpPr>
                  <a:xfrm>
                    <a:off x="3014640" y="2571120"/>
                    <a:ext cx="1386720" cy="243000"/>
                    <a:chOff x="3014640" y="2571120"/>
                    <a:chExt cx="1386720" cy="243000"/>
                  </a:xfrm>
                </p:grpSpPr>
                <p:sp>
                  <p:nvSpPr>
                    <p:cNvPr id="247" name="Line 6"/>
                    <p:cNvSpPr/>
                    <p:nvPr/>
                  </p:nvSpPr>
                  <p:spPr>
                    <a:xfrm>
                      <a:off x="3014640" y="2814120"/>
                      <a:ext cx="1386720" cy="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Line 7"/>
                    <p:cNvSpPr/>
                    <p:nvPr/>
                  </p:nvSpPr>
                  <p:spPr>
                    <a:xfrm>
                      <a:off x="3014640" y="257112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9" name="Line 8"/>
                    <p:cNvSpPr/>
                    <p:nvPr/>
                  </p:nvSpPr>
                  <p:spPr>
                    <a:xfrm>
                      <a:off x="4401360" y="257112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0" name="Line 9"/>
                    <p:cNvSpPr/>
                    <p:nvPr/>
                  </p:nvSpPr>
                  <p:spPr>
                    <a:xfrm>
                      <a:off x="3476880" y="257112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1" name="Line 10"/>
                    <p:cNvSpPr/>
                    <p:nvPr/>
                  </p:nvSpPr>
                  <p:spPr>
                    <a:xfrm>
                      <a:off x="3938760" y="257112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2" name="Group 11"/>
                  <p:cNvGrpSpPr/>
                  <p:nvPr/>
                </p:nvGrpSpPr>
                <p:grpSpPr>
                  <a:xfrm>
                    <a:off x="4929480" y="2571120"/>
                    <a:ext cx="1386720" cy="243000"/>
                    <a:chOff x="4929480" y="2571120"/>
                    <a:chExt cx="1386720" cy="243000"/>
                  </a:xfrm>
                </p:grpSpPr>
                <p:sp>
                  <p:nvSpPr>
                    <p:cNvPr id="253" name="Line 12"/>
                    <p:cNvSpPr/>
                    <p:nvPr/>
                  </p:nvSpPr>
                  <p:spPr>
                    <a:xfrm>
                      <a:off x="4929480" y="2814120"/>
                      <a:ext cx="1386720" cy="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4" name="Line 13"/>
                    <p:cNvSpPr/>
                    <p:nvPr/>
                  </p:nvSpPr>
                  <p:spPr>
                    <a:xfrm>
                      <a:off x="4929480" y="257112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5" name="Line 14"/>
                    <p:cNvSpPr/>
                    <p:nvPr/>
                  </p:nvSpPr>
                  <p:spPr>
                    <a:xfrm>
                      <a:off x="6316200" y="257112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Line 15"/>
                    <p:cNvSpPr/>
                    <p:nvPr/>
                  </p:nvSpPr>
                  <p:spPr>
                    <a:xfrm>
                      <a:off x="5391720" y="257112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7" name="Line 16"/>
                    <p:cNvSpPr/>
                    <p:nvPr/>
                  </p:nvSpPr>
                  <p:spPr>
                    <a:xfrm>
                      <a:off x="5853600" y="257112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8" name="Group 17"/>
                  <p:cNvGrpSpPr/>
                  <p:nvPr/>
                </p:nvGrpSpPr>
                <p:grpSpPr>
                  <a:xfrm>
                    <a:off x="1033560" y="2571120"/>
                    <a:ext cx="1386720" cy="243000"/>
                    <a:chOff x="1033560" y="2571120"/>
                    <a:chExt cx="1386720" cy="243000"/>
                  </a:xfrm>
                </p:grpSpPr>
                <p:sp>
                  <p:nvSpPr>
                    <p:cNvPr id="259" name="Line 18"/>
                    <p:cNvSpPr/>
                    <p:nvPr/>
                  </p:nvSpPr>
                  <p:spPr>
                    <a:xfrm>
                      <a:off x="1033560" y="2814120"/>
                      <a:ext cx="1386720" cy="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0" name="Line 19"/>
                    <p:cNvSpPr/>
                    <p:nvPr/>
                  </p:nvSpPr>
                  <p:spPr>
                    <a:xfrm>
                      <a:off x="1033560" y="257112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1" name="Line 20"/>
                    <p:cNvSpPr/>
                    <p:nvPr/>
                  </p:nvSpPr>
                  <p:spPr>
                    <a:xfrm>
                      <a:off x="2420280" y="257112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Line 21"/>
                    <p:cNvSpPr/>
                    <p:nvPr/>
                  </p:nvSpPr>
                  <p:spPr>
                    <a:xfrm>
                      <a:off x="1495800" y="257112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3" name="Line 22"/>
                    <p:cNvSpPr/>
                    <p:nvPr/>
                  </p:nvSpPr>
                  <p:spPr>
                    <a:xfrm>
                      <a:off x="1957680" y="257112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4" name="Group 23"/>
                  <p:cNvGrpSpPr/>
                  <p:nvPr/>
                </p:nvGrpSpPr>
                <p:grpSpPr>
                  <a:xfrm>
                    <a:off x="3014640" y="2996640"/>
                    <a:ext cx="1386720" cy="243000"/>
                    <a:chOff x="3014640" y="2996640"/>
                    <a:chExt cx="1386720" cy="243000"/>
                  </a:xfrm>
                </p:grpSpPr>
                <p:sp>
                  <p:nvSpPr>
                    <p:cNvPr id="265" name="Line 24"/>
                    <p:cNvSpPr/>
                    <p:nvPr/>
                  </p:nvSpPr>
                  <p:spPr>
                    <a:xfrm>
                      <a:off x="3014640" y="3239640"/>
                      <a:ext cx="1386720" cy="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6" name="Line 25"/>
                    <p:cNvSpPr/>
                    <p:nvPr/>
                  </p:nvSpPr>
                  <p:spPr>
                    <a:xfrm>
                      <a:off x="3014640" y="299664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7" name="Line 26"/>
                    <p:cNvSpPr/>
                    <p:nvPr/>
                  </p:nvSpPr>
                  <p:spPr>
                    <a:xfrm>
                      <a:off x="4401360" y="299664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Line 27"/>
                    <p:cNvSpPr/>
                    <p:nvPr/>
                  </p:nvSpPr>
                  <p:spPr>
                    <a:xfrm>
                      <a:off x="3476880" y="299664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9" name="Line 28"/>
                    <p:cNvSpPr/>
                    <p:nvPr/>
                  </p:nvSpPr>
                  <p:spPr>
                    <a:xfrm>
                      <a:off x="3938760" y="299664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0" name="Group 29"/>
                  <p:cNvGrpSpPr/>
                  <p:nvPr/>
                </p:nvGrpSpPr>
                <p:grpSpPr>
                  <a:xfrm>
                    <a:off x="4929480" y="2996640"/>
                    <a:ext cx="1386720" cy="243000"/>
                    <a:chOff x="4929480" y="2996640"/>
                    <a:chExt cx="1386720" cy="243000"/>
                  </a:xfrm>
                </p:grpSpPr>
                <p:sp>
                  <p:nvSpPr>
                    <p:cNvPr id="271" name="Line 30"/>
                    <p:cNvSpPr/>
                    <p:nvPr/>
                  </p:nvSpPr>
                  <p:spPr>
                    <a:xfrm>
                      <a:off x="4929480" y="3239640"/>
                      <a:ext cx="1386720" cy="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2" name="Line 31"/>
                    <p:cNvSpPr/>
                    <p:nvPr/>
                  </p:nvSpPr>
                  <p:spPr>
                    <a:xfrm>
                      <a:off x="4929480" y="299664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3" name="Line 32"/>
                    <p:cNvSpPr/>
                    <p:nvPr/>
                  </p:nvSpPr>
                  <p:spPr>
                    <a:xfrm>
                      <a:off x="6316200" y="299664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Line 33"/>
                    <p:cNvSpPr/>
                    <p:nvPr/>
                  </p:nvSpPr>
                  <p:spPr>
                    <a:xfrm>
                      <a:off x="5391720" y="299664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5" name="Line 34"/>
                    <p:cNvSpPr/>
                    <p:nvPr/>
                  </p:nvSpPr>
                  <p:spPr>
                    <a:xfrm>
                      <a:off x="5853600" y="299664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6" name="Group 35"/>
                  <p:cNvGrpSpPr/>
                  <p:nvPr/>
                </p:nvGrpSpPr>
                <p:grpSpPr>
                  <a:xfrm>
                    <a:off x="1033560" y="2996640"/>
                    <a:ext cx="1386720" cy="243000"/>
                    <a:chOff x="1033560" y="2996640"/>
                    <a:chExt cx="1386720" cy="243000"/>
                  </a:xfrm>
                </p:grpSpPr>
                <p:sp>
                  <p:nvSpPr>
                    <p:cNvPr id="277" name="Line 36"/>
                    <p:cNvSpPr/>
                    <p:nvPr/>
                  </p:nvSpPr>
                  <p:spPr>
                    <a:xfrm>
                      <a:off x="1033560" y="3239640"/>
                      <a:ext cx="1386720" cy="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8" name="Line 37"/>
                    <p:cNvSpPr/>
                    <p:nvPr/>
                  </p:nvSpPr>
                  <p:spPr>
                    <a:xfrm>
                      <a:off x="1033560" y="299664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9" name="Line 38"/>
                    <p:cNvSpPr/>
                    <p:nvPr/>
                  </p:nvSpPr>
                  <p:spPr>
                    <a:xfrm>
                      <a:off x="2420280" y="299664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Line 39"/>
                    <p:cNvSpPr/>
                    <p:nvPr/>
                  </p:nvSpPr>
                  <p:spPr>
                    <a:xfrm>
                      <a:off x="1495800" y="299664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1" name="Line 40"/>
                    <p:cNvSpPr/>
                    <p:nvPr/>
                  </p:nvSpPr>
                  <p:spPr>
                    <a:xfrm>
                      <a:off x="1957680" y="299664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2" name="Group 41"/>
                  <p:cNvGrpSpPr/>
                  <p:nvPr/>
                </p:nvGrpSpPr>
                <p:grpSpPr>
                  <a:xfrm>
                    <a:off x="1033560" y="2145960"/>
                    <a:ext cx="5282640" cy="242640"/>
                    <a:chOff x="1033560" y="2145960"/>
                    <a:chExt cx="5282640" cy="242640"/>
                  </a:xfrm>
                </p:grpSpPr>
                <p:grpSp>
                  <p:nvGrpSpPr>
                    <p:cNvPr id="283" name="Group 42"/>
                    <p:cNvGrpSpPr/>
                    <p:nvPr/>
                  </p:nvGrpSpPr>
                  <p:grpSpPr>
                    <a:xfrm>
                      <a:off x="3014640" y="2145960"/>
                      <a:ext cx="1386720" cy="242640"/>
                      <a:chOff x="3014640" y="2145960"/>
                      <a:chExt cx="1386720" cy="242640"/>
                    </a:xfrm>
                  </p:grpSpPr>
                  <p:sp>
                    <p:nvSpPr>
                      <p:cNvPr id="284" name="Line 43"/>
                      <p:cNvSpPr/>
                      <p:nvPr/>
                    </p:nvSpPr>
                    <p:spPr>
                      <a:xfrm>
                        <a:off x="3014640" y="2388600"/>
                        <a:ext cx="1386720" cy="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85" name="Line 44"/>
                      <p:cNvSpPr/>
                      <p:nvPr/>
                    </p:nvSpPr>
                    <p:spPr>
                      <a:xfrm>
                        <a:off x="3014640" y="2145960"/>
                        <a:ext cx="0" cy="24264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86" name="Line 45"/>
                      <p:cNvSpPr/>
                      <p:nvPr/>
                    </p:nvSpPr>
                    <p:spPr>
                      <a:xfrm>
                        <a:off x="4401360" y="2145960"/>
                        <a:ext cx="0" cy="24264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87" name="Line 46"/>
                      <p:cNvSpPr/>
                      <p:nvPr/>
                    </p:nvSpPr>
                    <p:spPr>
                      <a:xfrm>
                        <a:off x="3476880" y="2145960"/>
                        <a:ext cx="0" cy="24264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88" name="Line 47"/>
                      <p:cNvSpPr/>
                      <p:nvPr/>
                    </p:nvSpPr>
                    <p:spPr>
                      <a:xfrm>
                        <a:off x="3938760" y="2145960"/>
                        <a:ext cx="0" cy="24264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289" name="Group 48"/>
                    <p:cNvGrpSpPr/>
                    <p:nvPr/>
                  </p:nvGrpSpPr>
                  <p:grpSpPr>
                    <a:xfrm>
                      <a:off x="4929480" y="2145960"/>
                      <a:ext cx="1386720" cy="242640"/>
                      <a:chOff x="4929480" y="2145960"/>
                      <a:chExt cx="1386720" cy="242640"/>
                    </a:xfrm>
                  </p:grpSpPr>
                  <p:sp>
                    <p:nvSpPr>
                      <p:cNvPr id="290" name="Line 49"/>
                      <p:cNvSpPr/>
                      <p:nvPr/>
                    </p:nvSpPr>
                    <p:spPr>
                      <a:xfrm>
                        <a:off x="4929480" y="2388600"/>
                        <a:ext cx="1386720" cy="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91" name="Line 50"/>
                      <p:cNvSpPr/>
                      <p:nvPr/>
                    </p:nvSpPr>
                    <p:spPr>
                      <a:xfrm>
                        <a:off x="4929480" y="2145960"/>
                        <a:ext cx="0" cy="24264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92" name="Line 51"/>
                      <p:cNvSpPr/>
                      <p:nvPr/>
                    </p:nvSpPr>
                    <p:spPr>
                      <a:xfrm>
                        <a:off x="6316200" y="2145960"/>
                        <a:ext cx="0" cy="24264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93" name="Line 52"/>
                      <p:cNvSpPr/>
                      <p:nvPr/>
                    </p:nvSpPr>
                    <p:spPr>
                      <a:xfrm>
                        <a:off x="5391720" y="2145960"/>
                        <a:ext cx="0" cy="24264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94" name="Line 53"/>
                      <p:cNvSpPr/>
                      <p:nvPr/>
                    </p:nvSpPr>
                    <p:spPr>
                      <a:xfrm>
                        <a:off x="5853600" y="2145960"/>
                        <a:ext cx="0" cy="24264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295" name="Group 54"/>
                    <p:cNvGrpSpPr/>
                    <p:nvPr/>
                  </p:nvGrpSpPr>
                  <p:grpSpPr>
                    <a:xfrm>
                      <a:off x="1033560" y="2145960"/>
                      <a:ext cx="1386720" cy="242640"/>
                      <a:chOff x="1033560" y="2145960"/>
                      <a:chExt cx="1386720" cy="242640"/>
                    </a:xfrm>
                  </p:grpSpPr>
                  <p:sp>
                    <p:nvSpPr>
                      <p:cNvPr id="296" name="Line 55"/>
                      <p:cNvSpPr/>
                      <p:nvPr/>
                    </p:nvSpPr>
                    <p:spPr>
                      <a:xfrm>
                        <a:off x="1033560" y="2388600"/>
                        <a:ext cx="1386720" cy="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97" name="Line 56"/>
                      <p:cNvSpPr/>
                      <p:nvPr/>
                    </p:nvSpPr>
                    <p:spPr>
                      <a:xfrm>
                        <a:off x="1033560" y="2145960"/>
                        <a:ext cx="0" cy="24264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98" name="Line 57"/>
                      <p:cNvSpPr/>
                      <p:nvPr/>
                    </p:nvSpPr>
                    <p:spPr>
                      <a:xfrm>
                        <a:off x="2420280" y="2145960"/>
                        <a:ext cx="0" cy="24264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99" name="Line 58"/>
                      <p:cNvSpPr/>
                      <p:nvPr/>
                    </p:nvSpPr>
                    <p:spPr>
                      <a:xfrm>
                        <a:off x="1495800" y="2145960"/>
                        <a:ext cx="0" cy="24264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00" name="Line 59"/>
                      <p:cNvSpPr/>
                      <p:nvPr/>
                    </p:nvSpPr>
                    <p:spPr>
                      <a:xfrm>
                        <a:off x="1957680" y="2145960"/>
                        <a:ext cx="0" cy="24264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301" name="Group 63"/>
                <p:cNvGrpSpPr/>
                <p:nvPr/>
              </p:nvGrpSpPr>
              <p:grpSpPr>
                <a:xfrm>
                  <a:off x="6635880" y="2143080"/>
                  <a:ext cx="1387440" cy="1093320"/>
                  <a:chOff x="6635880" y="2143080"/>
                  <a:chExt cx="1387440" cy="1093320"/>
                </a:xfrm>
              </p:grpSpPr>
              <p:grpSp>
                <p:nvGrpSpPr>
                  <p:cNvPr id="302" name="Group 64"/>
                  <p:cNvGrpSpPr/>
                  <p:nvPr/>
                </p:nvGrpSpPr>
                <p:grpSpPr>
                  <a:xfrm>
                    <a:off x="6635880" y="2568240"/>
                    <a:ext cx="1387440" cy="242640"/>
                    <a:chOff x="6635880" y="2568240"/>
                    <a:chExt cx="1387440" cy="242640"/>
                  </a:xfrm>
                </p:grpSpPr>
                <p:sp>
                  <p:nvSpPr>
                    <p:cNvPr id="303" name="Line 65"/>
                    <p:cNvSpPr/>
                    <p:nvPr/>
                  </p:nvSpPr>
                  <p:spPr>
                    <a:xfrm>
                      <a:off x="6635880" y="2810880"/>
                      <a:ext cx="1387440" cy="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4" name="Line 66"/>
                    <p:cNvSpPr/>
                    <p:nvPr/>
                  </p:nvSpPr>
                  <p:spPr>
                    <a:xfrm>
                      <a:off x="6635880" y="256824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5" name="Line 67"/>
                    <p:cNvSpPr/>
                    <p:nvPr/>
                  </p:nvSpPr>
                  <p:spPr>
                    <a:xfrm>
                      <a:off x="8023320" y="256824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6" name="Line 68"/>
                    <p:cNvSpPr/>
                    <p:nvPr/>
                  </p:nvSpPr>
                  <p:spPr>
                    <a:xfrm>
                      <a:off x="7098480" y="256824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7" name="Line 69"/>
                    <p:cNvSpPr/>
                    <p:nvPr/>
                  </p:nvSpPr>
                  <p:spPr>
                    <a:xfrm>
                      <a:off x="7560720" y="256824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8" name="Group 70"/>
                  <p:cNvGrpSpPr/>
                  <p:nvPr/>
                </p:nvGrpSpPr>
                <p:grpSpPr>
                  <a:xfrm>
                    <a:off x="6635880" y="2993760"/>
                    <a:ext cx="1387440" cy="242640"/>
                    <a:chOff x="6635880" y="2993760"/>
                    <a:chExt cx="1387440" cy="242640"/>
                  </a:xfrm>
                </p:grpSpPr>
                <p:sp>
                  <p:nvSpPr>
                    <p:cNvPr id="309" name="Line 71"/>
                    <p:cNvSpPr/>
                    <p:nvPr/>
                  </p:nvSpPr>
                  <p:spPr>
                    <a:xfrm>
                      <a:off x="6635880" y="3236400"/>
                      <a:ext cx="1387440" cy="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0" name="Line 72"/>
                    <p:cNvSpPr/>
                    <p:nvPr/>
                  </p:nvSpPr>
                  <p:spPr>
                    <a:xfrm>
                      <a:off x="6635880" y="29937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1" name="Line 73"/>
                    <p:cNvSpPr/>
                    <p:nvPr/>
                  </p:nvSpPr>
                  <p:spPr>
                    <a:xfrm>
                      <a:off x="8023320" y="29937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2" name="Line 74"/>
                    <p:cNvSpPr/>
                    <p:nvPr/>
                  </p:nvSpPr>
                  <p:spPr>
                    <a:xfrm>
                      <a:off x="7098480" y="29937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3" name="Line 75"/>
                    <p:cNvSpPr/>
                    <p:nvPr/>
                  </p:nvSpPr>
                  <p:spPr>
                    <a:xfrm>
                      <a:off x="7560720" y="29937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4" name="Group 76"/>
                  <p:cNvGrpSpPr/>
                  <p:nvPr/>
                </p:nvGrpSpPr>
                <p:grpSpPr>
                  <a:xfrm>
                    <a:off x="6635880" y="2143080"/>
                    <a:ext cx="1387440" cy="242640"/>
                    <a:chOff x="6635880" y="2143080"/>
                    <a:chExt cx="1387440" cy="242640"/>
                  </a:xfrm>
                </p:grpSpPr>
                <p:sp>
                  <p:nvSpPr>
                    <p:cNvPr id="315" name="Line 77"/>
                    <p:cNvSpPr/>
                    <p:nvPr/>
                  </p:nvSpPr>
                  <p:spPr>
                    <a:xfrm>
                      <a:off x="6635880" y="2385720"/>
                      <a:ext cx="1387440" cy="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6" name="Line 78"/>
                    <p:cNvSpPr/>
                    <p:nvPr/>
                  </p:nvSpPr>
                  <p:spPr>
                    <a:xfrm>
                      <a:off x="6635880" y="214308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7" name="Line 79"/>
                    <p:cNvSpPr/>
                    <p:nvPr/>
                  </p:nvSpPr>
                  <p:spPr>
                    <a:xfrm>
                      <a:off x="8023320" y="214308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8" name="Line 80"/>
                    <p:cNvSpPr/>
                    <p:nvPr/>
                  </p:nvSpPr>
                  <p:spPr>
                    <a:xfrm>
                      <a:off x="7098480" y="214308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9" name="Line 81"/>
                    <p:cNvSpPr/>
                    <p:nvPr/>
                  </p:nvSpPr>
                  <p:spPr>
                    <a:xfrm>
                      <a:off x="7560720" y="214308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320" name="Rectangle 82"/>
              <p:cNvSpPr/>
              <p:nvPr/>
            </p:nvSpPr>
            <p:spPr>
              <a:xfrm>
                <a:off x="1001520" y="2065320"/>
                <a:ext cx="508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A B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Rectangle 83"/>
              <p:cNvSpPr/>
              <p:nvPr/>
            </p:nvSpPr>
            <p:spPr>
              <a:xfrm>
                <a:off x="3452760" y="2490840"/>
                <a:ext cx="508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A B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Rectangle 84"/>
              <p:cNvSpPr/>
              <p:nvPr/>
            </p:nvSpPr>
            <p:spPr>
              <a:xfrm>
                <a:off x="5827680" y="2935440"/>
                <a:ext cx="508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A B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Rectangle 85"/>
              <p:cNvSpPr/>
              <p:nvPr/>
            </p:nvSpPr>
            <p:spPr>
              <a:xfrm>
                <a:off x="1110960" y="249084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A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Rectangle 86"/>
              <p:cNvSpPr/>
              <p:nvPr/>
            </p:nvSpPr>
            <p:spPr>
              <a:xfrm>
                <a:off x="1133280" y="287640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A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Rectangle 87"/>
              <p:cNvSpPr/>
              <p:nvPr/>
            </p:nvSpPr>
            <p:spPr>
              <a:xfrm>
                <a:off x="3536640" y="289080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A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Rectangle 88"/>
              <p:cNvSpPr/>
              <p:nvPr/>
            </p:nvSpPr>
            <p:spPr>
              <a:xfrm>
                <a:off x="3546000" y="204480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A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Rectangle 89"/>
              <p:cNvSpPr/>
              <p:nvPr/>
            </p:nvSpPr>
            <p:spPr>
              <a:xfrm>
                <a:off x="5920920" y="204480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A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Rectangle 90"/>
              <p:cNvSpPr/>
              <p:nvPr/>
            </p:nvSpPr>
            <p:spPr>
              <a:xfrm>
                <a:off x="5920920" y="247968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A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Rectangle 91"/>
              <p:cNvSpPr/>
              <p:nvPr/>
            </p:nvSpPr>
            <p:spPr>
              <a:xfrm>
                <a:off x="1553760" y="246384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B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Rectangle 93"/>
              <p:cNvSpPr/>
              <p:nvPr/>
            </p:nvSpPr>
            <p:spPr>
              <a:xfrm>
                <a:off x="2006280" y="289872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B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Rectangle 94"/>
              <p:cNvSpPr/>
              <p:nvPr/>
            </p:nvSpPr>
            <p:spPr>
              <a:xfrm>
                <a:off x="3072960" y="203508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B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Rectangle 95"/>
              <p:cNvSpPr/>
              <p:nvPr/>
            </p:nvSpPr>
            <p:spPr>
              <a:xfrm>
                <a:off x="4987440" y="204480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B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Rectangle 96"/>
              <p:cNvSpPr/>
              <p:nvPr/>
            </p:nvSpPr>
            <p:spPr>
              <a:xfrm>
                <a:off x="5449680" y="247176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B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34" name="Rectangle 98"/>
            <p:cNvSpPr/>
            <p:nvPr/>
          </p:nvSpPr>
          <p:spPr>
            <a:xfrm>
              <a:off x="4014360" y="290052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5" name="Group 100"/>
          <p:cNvGrpSpPr/>
          <p:nvPr/>
        </p:nvGrpSpPr>
        <p:grpSpPr>
          <a:xfrm>
            <a:off x="2470320" y="5964120"/>
            <a:ext cx="3404520" cy="723600"/>
            <a:chOff x="2470320" y="5964120"/>
            <a:chExt cx="3404520" cy="723600"/>
          </a:xfrm>
        </p:grpSpPr>
        <p:sp>
          <p:nvSpPr>
            <p:cNvPr id="336" name="Text Box 101"/>
            <p:cNvSpPr/>
            <p:nvPr/>
          </p:nvSpPr>
          <p:spPr>
            <a:xfrm>
              <a:off x="3161160" y="6167520"/>
              <a:ext cx="2713680" cy="52020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dentical </a:t>
              </a:r>
              <a:r>
                <a:rPr b="0" i="1" lang="en-US" sz="1400" spc="-1" strike="noStrike">
                  <a:solidFill>
                    <a:srgbClr val="ffffff"/>
                  </a:solidFill>
                  <a:latin typeface="Arial"/>
                </a:rPr>
                <a:t>vs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distinct </a:t>
              </a:r>
              <a:br>
                <a:rPr sz="1400"/>
              </a:b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(or distinguishable) is important!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Arc 102"/>
            <p:cNvSpPr/>
            <p:nvPr/>
          </p:nvSpPr>
          <p:spPr>
            <a:xfrm flipH="1" flipV="1">
              <a:off x="2470320" y="5964120"/>
              <a:ext cx="606240" cy="48744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3240">
              <a:solidFill>
                <a:srgbClr val="ffffff"/>
              </a:solidFill>
              <a:round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38" name="Rectangle 1"/>
          <p:cNvSpPr/>
          <p:nvPr/>
        </p:nvSpPr>
        <p:spPr>
          <a:xfrm>
            <a:off x="934920" y="2003400"/>
            <a:ext cx="5454720" cy="1320840"/>
          </a:xfrm>
          <a:prstGeom prst="rect">
            <a:avLst/>
          </a:pr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24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24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24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24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2"/>
          <p:cNvSpPr/>
          <p:nvPr/>
        </p:nvSpPr>
        <p:spPr>
          <a:xfrm>
            <a:off x="227160" y="106200"/>
            <a:ext cx="8688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ACT 2: Effect of Indistinguishabilit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Rectangle 3"/>
          <p:cNvSpPr/>
          <p:nvPr/>
        </p:nvSpPr>
        <p:spPr>
          <a:xfrm>
            <a:off x="658800" y="1103400"/>
            <a:ext cx="7645320" cy="13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2 particles in a box with two bins (multiple occupancy allowed).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ompare the total number of microstates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f the particles are distinguishable,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it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the total number of microstates if the particles are identical (indistinguishable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Text Box 4"/>
          <p:cNvSpPr/>
          <p:nvPr/>
        </p:nvSpPr>
        <p:spPr>
          <a:xfrm>
            <a:off x="1228680" y="2624040"/>
            <a:ext cx="6773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lt;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gt;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2"/>
          <p:cNvSpPr/>
          <p:nvPr/>
        </p:nvSpPr>
        <p:spPr>
          <a:xfrm>
            <a:off x="227160" y="106200"/>
            <a:ext cx="8688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Rectangle 3"/>
          <p:cNvSpPr/>
          <p:nvPr/>
        </p:nvSpPr>
        <p:spPr>
          <a:xfrm>
            <a:off x="658800" y="1103400"/>
            <a:ext cx="7645320" cy="13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2 particles in a box with two bins (multiple occupancy allowed).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ompare the total number of microstates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f the particles are distinguishable,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it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the total number of microstates if the particles are identical (indistinguishable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Text Box 4"/>
          <p:cNvSpPr/>
          <p:nvPr/>
        </p:nvSpPr>
        <p:spPr>
          <a:xfrm>
            <a:off x="1228680" y="2624040"/>
            <a:ext cx="6773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lt;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gt;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Rectangle 5"/>
          <p:cNvSpPr/>
          <p:nvPr/>
        </p:nvSpPr>
        <p:spPr>
          <a:xfrm>
            <a:off x="652320" y="3621240"/>
            <a:ext cx="63532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61880"/>
                <a:tab algn="l" pos="1598760"/>
                <a:tab algn="l" pos="2743200"/>
                <a:tab algn="l" pos="3375000"/>
                <a:tab algn="l" pos="3887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For distinguishable particles (“a” and “b”), the states ar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461880"/>
                <a:tab algn="l" pos="1598760"/>
                <a:tab algn="l" pos="2743200"/>
                <a:tab algn="l" pos="3375000"/>
                <a:tab algn="l" pos="3887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b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b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1598760"/>
                <a:tab algn="l" pos="2743200"/>
                <a:tab algn="l" pos="3375000"/>
                <a:tab algn="l" pos="3887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1598760"/>
                <a:tab algn="l" pos="2743200"/>
                <a:tab algn="l" pos="3375000"/>
                <a:tab algn="l" pos="3887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For indistinguishable particles (“a” and “a”), the states ar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61880"/>
                <a:tab algn="l" pos="1598760"/>
                <a:tab algn="l" pos="2743200"/>
                <a:tab algn="l" pos="3375000"/>
                <a:tab algn="l" pos="3887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a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a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1598760"/>
                <a:tab algn="l" pos="2743200"/>
                <a:tab algn="l" pos="3375000"/>
                <a:tab algn="l" pos="3887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1598760"/>
                <a:tab algn="l" pos="2743200"/>
                <a:tab algn="l" pos="3375000"/>
                <a:tab algn="l" pos="3887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is is a general result – indistinguishable particles    have fewer microstat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Rectangle 8"/>
          <p:cNvSpPr/>
          <p:nvPr/>
        </p:nvSpPr>
        <p:spPr>
          <a:xfrm>
            <a:off x="1170000" y="2597040"/>
            <a:ext cx="1436760" cy="5130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AutoShape 9"/>
          <p:cNvSpPr/>
          <p:nvPr/>
        </p:nvSpPr>
        <p:spPr>
          <a:xfrm rot="5400000">
            <a:off x="4172400" y="3833280"/>
            <a:ext cx="244440" cy="1563480"/>
          </a:xfrm>
          <a:custGeom>
            <a:avLst/>
            <a:gdLst>
              <a:gd name="textAreaLeft" fmla="*/ 0 w 244440"/>
              <a:gd name="textAreaRight" fmla="*/ 88200 w 244440"/>
              <a:gd name="textAreaTop" fmla="*/ 40680 h 1563480"/>
              <a:gd name="textAreaBottom" fmla="*/ 1522800 h 1563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8877"/>
                </a:lnTo>
                <a:cubicBezTo>
                  <a:pt x="10800" y="9777"/>
                  <a:pt x="16200" y="10677"/>
                  <a:pt x="21600" y="10677"/>
                </a:cubicBezTo>
                <a:cubicBezTo>
                  <a:pt x="16200" y="10677"/>
                  <a:pt x="10800" y="11577"/>
                  <a:pt x="10800" y="12477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Rectangle 10"/>
          <p:cNvSpPr/>
          <p:nvPr/>
        </p:nvSpPr>
        <p:spPr>
          <a:xfrm>
            <a:off x="673200" y="6056280"/>
            <a:ext cx="6103800" cy="6159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035000" y="72720"/>
            <a:ext cx="705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Why Do We Consider Identical Particles?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50" name="Text Box 3"/>
          <p:cNvSpPr/>
          <p:nvPr/>
        </p:nvSpPr>
        <p:spPr>
          <a:xfrm>
            <a:off x="469800" y="1784520"/>
            <a:ext cx="8516880" cy="41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ny microscopic objects are identical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ll elementary particles of a given type are identical (indistinguishable)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lectrons, protons, neutrons, et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ll atoms of a given type are identical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.g., 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35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U, 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1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ll molecules of a given type are identical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E.g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O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H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, C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ype” includes isotope and any other internal structure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croscopic objects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e.g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baseballs)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e never identical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because their internal structure is too complicated ever to be exactly the sam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3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3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998640" y="61560"/>
            <a:ext cx="716256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ingle occupancy (1)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352" name="Group 4"/>
          <p:cNvGrpSpPr/>
          <p:nvPr/>
        </p:nvGrpSpPr>
        <p:grpSpPr>
          <a:xfrm>
            <a:off x="1262160" y="2991960"/>
            <a:ext cx="5898600" cy="167040"/>
            <a:chOff x="1262160" y="2991960"/>
            <a:chExt cx="5898600" cy="167040"/>
          </a:xfrm>
        </p:grpSpPr>
        <p:grpSp>
          <p:nvGrpSpPr>
            <p:cNvPr id="353" name="Group 5"/>
            <p:cNvGrpSpPr/>
            <p:nvPr/>
          </p:nvGrpSpPr>
          <p:grpSpPr>
            <a:xfrm>
              <a:off x="2800800" y="2991960"/>
              <a:ext cx="1282320" cy="167040"/>
              <a:chOff x="2800800" y="2991960"/>
              <a:chExt cx="1282320" cy="167040"/>
            </a:xfrm>
          </p:grpSpPr>
          <p:sp>
            <p:nvSpPr>
              <p:cNvPr id="354" name="Line 6"/>
              <p:cNvSpPr/>
              <p:nvPr/>
            </p:nvSpPr>
            <p:spPr>
              <a:xfrm>
                <a:off x="2800800" y="3159000"/>
                <a:ext cx="1282320" cy="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" name="Line 7"/>
              <p:cNvSpPr/>
              <p:nvPr/>
            </p:nvSpPr>
            <p:spPr>
              <a:xfrm flipV="1">
                <a:off x="312120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" name="Line 8"/>
              <p:cNvSpPr/>
              <p:nvPr/>
            </p:nvSpPr>
            <p:spPr>
              <a:xfrm flipV="1">
                <a:off x="408312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" name="Line 9"/>
              <p:cNvSpPr/>
              <p:nvPr/>
            </p:nvSpPr>
            <p:spPr>
              <a:xfrm flipV="1">
                <a:off x="280080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" name="Line 10"/>
              <p:cNvSpPr/>
              <p:nvPr/>
            </p:nvSpPr>
            <p:spPr>
              <a:xfrm flipV="1">
                <a:off x="344160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" name="Line 11"/>
              <p:cNvSpPr/>
              <p:nvPr/>
            </p:nvSpPr>
            <p:spPr>
              <a:xfrm flipV="1">
                <a:off x="376236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60" name="Group 12"/>
            <p:cNvGrpSpPr/>
            <p:nvPr/>
          </p:nvGrpSpPr>
          <p:grpSpPr>
            <a:xfrm>
              <a:off x="4339800" y="2991960"/>
              <a:ext cx="1282320" cy="167040"/>
              <a:chOff x="4339800" y="2991960"/>
              <a:chExt cx="1282320" cy="167040"/>
            </a:xfrm>
          </p:grpSpPr>
          <p:sp>
            <p:nvSpPr>
              <p:cNvPr id="361" name="Line 13"/>
              <p:cNvSpPr/>
              <p:nvPr/>
            </p:nvSpPr>
            <p:spPr>
              <a:xfrm>
                <a:off x="4339800" y="3159000"/>
                <a:ext cx="1282320" cy="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" name="Line 14"/>
              <p:cNvSpPr/>
              <p:nvPr/>
            </p:nvSpPr>
            <p:spPr>
              <a:xfrm flipV="1">
                <a:off x="466020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" name="Line 15"/>
              <p:cNvSpPr/>
              <p:nvPr/>
            </p:nvSpPr>
            <p:spPr>
              <a:xfrm flipV="1">
                <a:off x="562212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" name="Line 16"/>
              <p:cNvSpPr/>
              <p:nvPr/>
            </p:nvSpPr>
            <p:spPr>
              <a:xfrm flipV="1">
                <a:off x="433980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" name="Line 17"/>
              <p:cNvSpPr/>
              <p:nvPr/>
            </p:nvSpPr>
            <p:spPr>
              <a:xfrm flipV="1">
                <a:off x="498060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" name="Line 18"/>
              <p:cNvSpPr/>
              <p:nvPr/>
            </p:nvSpPr>
            <p:spPr>
              <a:xfrm flipV="1">
                <a:off x="530136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67" name="Group 19"/>
            <p:cNvGrpSpPr/>
            <p:nvPr/>
          </p:nvGrpSpPr>
          <p:grpSpPr>
            <a:xfrm>
              <a:off x="5878440" y="2991960"/>
              <a:ext cx="1282320" cy="167040"/>
              <a:chOff x="5878440" y="2991960"/>
              <a:chExt cx="1282320" cy="167040"/>
            </a:xfrm>
          </p:grpSpPr>
          <p:sp>
            <p:nvSpPr>
              <p:cNvPr id="368" name="Line 20"/>
              <p:cNvSpPr/>
              <p:nvPr/>
            </p:nvSpPr>
            <p:spPr>
              <a:xfrm>
                <a:off x="5878440" y="3159000"/>
                <a:ext cx="1282320" cy="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" name="Line 21"/>
              <p:cNvSpPr/>
              <p:nvPr/>
            </p:nvSpPr>
            <p:spPr>
              <a:xfrm flipV="1">
                <a:off x="619884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" name="Line 22"/>
              <p:cNvSpPr/>
              <p:nvPr/>
            </p:nvSpPr>
            <p:spPr>
              <a:xfrm flipV="1">
                <a:off x="716076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" name="Line 23"/>
              <p:cNvSpPr/>
              <p:nvPr/>
            </p:nvSpPr>
            <p:spPr>
              <a:xfrm flipV="1">
                <a:off x="587844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" name="Line 24"/>
              <p:cNvSpPr/>
              <p:nvPr/>
            </p:nvSpPr>
            <p:spPr>
              <a:xfrm flipV="1">
                <a:off x="651924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" name="Line 25"/>
              <p:cNvSpPr/>
              <p:nvPr/>
            </p:nvSpPr>
            <p:spPr>
              <a:xfrm flipV="1">
                <a:off x="684000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74" name="Group 26"/>
            <p:cNvGrpSpPr/>
            <p:nvPr/>
          </p:nvGrpSpPr>
          <p:grpSpPr>
            <a:xfrm>
              <a:off x="1262160" y="2991960"/>
              <a:ext cx="1282320" cy="167040"/>
              <a:chOff x="1262160" y="2991960"/>
              <a:chExt cx="1282320" cy="167040"/>
            </a:xfrm>
          </p:grpSpPr>
          <p:sp>
            <p:nvSpPr>
              <p:cNvPr id="375" name="Line 27"/>
              <p:cNvSpPr/>
              <p:nvPr/>
            </p:nvSpPr>
            <p:spPr>
              <a:xfrm>
                <a:off x="1262160" y="3159000"/>
                <a:ext cx="1282320" cy="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" name="Line 28"/>
              <p:cNvSpPr/>
              <p:nvPr/>
            </p:nvSpPr>
            <p:spPr>
              <a:xfrm flipV="1">
                <a:off x="158256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" name="Line 29"/>
              <p:cNvSpPr/>
              <p:nvPr/>
            </p:nvSpPr>
            <p:spPr>
              <a:xfrm flipV="1">
                <a:off x="254448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" name="Line 30"/>
              <p:cNvSpPr/>
              <p:nvPr/>
            </p:nvSpPr>
            <p:spPr>
              <a:xfrm flipV="1">
                <a:off x="126216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" name="Line 31"/>
              <p:cNvSpPr/>
              <p:nvPr/>
            </p:nvSpPr>
            <p:spPr>
              <a:xfrm flipV="1">
                <a:off x="190296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" name="Line 32"/>
              <p:cNvSpPr/>
              <p:nvPr/>
            </p:nvSpPr>
            <p:spPr>
              <a:xfrm flipV="1">
                <a:off x="222372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81" name="Text Box 34"/>
          <p:cNvSpPr/>
          <p:nvPr/>
        </p:nvSpPr>
        <p:spPr>
          <a:xfrm>
            <a:off x="1036800" y="101448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Text Box 35"/>
          <p:cNvSpPr/>
          <p:nvPr/>
        </p:nvSpPr>
        <p:spPr>
          <a:xfrm>
            <a:off x="690480" y="1306440"/>
            <a:ext cx="77108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many situations, each bin can only hold a single objec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blem #2: Distinct objects in single-occupancy bins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ow many ways can you arrange 2 distinct objects (A,B) in 4 bin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998640" y="61560"/>
            <a:ext cx="716256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84" name="Text Box 32"/>
          <p:cNvSpPr/>
          <p:nvPr/>
        </p:nvSpPr>
        <p:spPr>
          <a:xfrm>
            <a:off x="1036800" y="101448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Text Box 33"/>
          <p:cNvSpPr/>
          <p:nvPr/>
        </p:nvSpPr>
        <p:spPr>
          <a:xfrm>
            <a:off x="690480" y="1306440"/>
            <a:ext cx="77108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many situations, each bin can only hold a single objec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blem #2: Distinct objects in single-occupancy bins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ow many ways can you arrange 2 distinct objects (A,B) in 4 bin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6" name="Group 35"/>
          <p:cNvGrpSpPr/>
          <p:nvPr/>
        </p:nvGrpSpPr>
        <p:grpSpPr>
          <a:xfrm>
            <a:off x="1257480" y="2808360"/>
            <a:ext cx="6259320" cy="398880"/>
            <a:chOff x="1257480" y="2808360"/>
            <a:chExt cx="6259320" cy="398880"/>
          </a:xfrm>
        </p:grpSpPr>
        <p:grpSp>
          <p:nvGrpSpPr>
            <p:cNvPr id="387" name="Group 4"/>
            <p:cNvGrpSpPr/>
            <p:nvPr/>
          </p:nvGrpSpPr>
          <p:grpSpPr>
            <a:xfrm>
              <a:off x="1262160" y="2984400"/>
              <a:ext cx="5898600" cy="166320"/>
              <a:chOff x="1262160" y="2984400"/>
              <a:chExt cx="5898600" cy="166320"/>
            </a:xfrm>
          </p:grpSpPr>
          <p:grpSp>
            <p:nvGrpSpPr>
              <p:cNvPr id="388" name="Group 5"/>
              <p:cNvGrpSpPr/>
              <p:nvPr/>
            </p:nvGrpSpPr>
            <p:grpSpPr>
              <a:xfrm>
                <a:off x="2800800" y="2984400"/>
                <a:ext cx="1282320" cy="166320"/>
                <a:chOff x="2800800" y="2984400"/>
                <a:chExt cx="1282320" cy="166320"/>
              </a:xfrm>
            </p:grpSpPr>
            <p:sp>
              <p:nvSpPr>
                <p:cNvPr id="389" name="Line 6"/>
                <p:cNvSpPr/>
                <p:nvPr/>
              </p:nvSpPr>
              <p:spPr>
                <a:xfrm>
                  <a:off x="2800800" y="3150720"/>
                  <a:ext cx="1282320" cy="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0" name="Line 7"/>
                <p:cNvSpPr/>
                <p:nvPr/>
              </p:nvSpPr>
              <p:spPr>
                <a:xfrm flipV="1">
                  <a:off x="312120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1" name="Line 8"/>
                <p:cNvSpPr/>
                <p:nvPr/>
              </p:nvSpPr>
              <p:spPr>
                <a:xfrm flipV="1">
                  <a:off x="408312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2" name="Line 9"/>
                <p:cNvSpPr/>
                <p:nvPr/>
              </p:nvSpPr>
              <p:spPr>
                <a:xfrm flipV="1">
                  <a:off x="280080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3" name="Line 10"/>
                <p:cNvSpPr/>
                <p:nvPr/>
              </p:nvSpPr>
              <p:spPr>
                <a:xfrm flipV="1">
                  <a:off x="344160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4" name="Line 11"/>
                <p:cNvSpPr/>
                <p:nvPr/>
              </p:nvSpPr>
              <p:spPr>
                <a:xfrm flipV="1">
                  <a:off x="376236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5" name="Group 12"/>
              <p:cNvGrpSpPr/>
              <p:nvPr/>
            </p:nvGrpSpPr>
            <p:grpSpPr>
              <a:xfrm>
                <a:off x="4339800" y="2984400"/>
                <a:ext cx="1282320" cy="166320"/>
                <a:chOff x="4339800" y="2984400"/>
                <a:chExt cx="1282320" cy="166320"/>
              </a:xfrm>
            </p:grpSpPr>
            <p:sp>
              <p:nvSpPr>
                <p:cNvPr id="396" name="Line 13"/>
                <p:cNvSpPr/>
                <p:nvPr/>
              </p:nvSpPr>
              <p:spPr>
                <a:xfrm>
                  <a:off x="4339800" y="3150720"/>
                  <a:ext cx="1282320" cy="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7" name="Line 14"/>
                <p:cNvSpPr/>
                <p:nvPr/>
              </p:nvSpPr>
              <p:spPr>
                <a:xfrm flipV="1">
                  <a:off x="466020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8" name="Line 15"/>
                <p:cNvSpPr/>
                <p:nvPr/>
              </p:nvSpPr>
              <p:spPr>
                <a:xfrm flipV="1">
                  <a:off x="562212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9" name="Line 16"/>
                <p:cNvSpPr/>
                <p:nvPr/>
              </p:nvSpPr>
              <p:spPr>
                <a:xfrm flipV="1">
                  <a:off x="433980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0" name="Line 17"/>
                <p:cNvSpPr/>
                <p:nvPr/>
              </p:nvSpPr>
              <p:spPr>
                <a:xfrm flipV="1">
                  <a:off x="498060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1" name="Line 18"/>
                <p:cNvSpPr/>
                <p:nvPr/>
              </p:nvSpPr>
              <p:spPr>
                <a:xfrm flipV="1">
                  <a:off x="530136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2" name="Group 19"/>
              <p:cNvGrpSpPr/>
              <p:nvPr/>
            </p:nvGrpSpPr>
            <p:grpSpPr>
              <a:xfrm>
                <a:off x="5878440" y="2984400"/>
                <a:ext cx="1282320" cy="166320"/>
                <a:chOff x="5878440" y="2984400"/>
                <a:chExt cx="1282320" cy="166320"/>
              </a:xfrm>
            </p:grpSpPr>
            <p:sp>
              <p:nvSpPr>
                <p:cNvPr id="403" name="Line 20"/>
                <p:cNvSpPr/>
                <p:nvPr/>
              </p:nvSpPr>
              <p:spPr>
                <a:xfrm>
                  <a:off x="5878440" y="3150720"/>
                  <a:ext cx="1282320" cy="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4" name="Line 21"/>
                <p:cNvSpPr/>
                <p:nvPr/>
              </p:nvSpPr>
              <p:spPr>
                <a:xfrm flipV="1">
                  <a:off x="619884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5" name="Line 22"/>
                <p:cNvSpPr/>
                <p:nvPr/>
              </p:nvSpPr>
              <p:spPr>
                <a:xfrm flipV="1">
                  <a:off x="716076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6" name="Line 23"/>
                <p:cNvSpPr/>
                <p:nvPr/>
              </p:nvSpPr>
              <p:spPr>
                <a:xfrm flipV="1">
                  <a:off x="587844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7" name="Line 24"/>
                <p:cNvSpPr/>
                <p:nvPr/>
              </p:nvSpPr>
              <p:spPr>
                <a:xfrm flipV="1">
                  <a:off x="651924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8" name="Line 25"/>
                <p:cNvSpPr/>
                <p:nvPr/>
              </p:nvSpPr>
              <p:spPr>
                <a:xfrm flipV="1">
                  <a:off x="684000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9" name="Group 26"/>
              <p:cNvGrpSpPr/>
              <p:nvPr/>
            </p:nvGrpSpPr>
            <p:grpSpPr>
              <a:xfrm>
                <a:off x="1262160" y="2984400"/>
                <a:ext cx="1282320" cy="166320"/>
                <a:chOff x="1262160" y="2984400"/>
                <a:chExt cx="1282320" cy="166320"/>
              </a:xfrm>
            </p:grpSpPr>
            <p:sp>
              <p:nvSpPr>
                <p:cNvPr id="410" name="Line 27"/>
                <p:cNvSpPr/>
                <p:nvPr/>
              </p:nvSpPr>
              <p:spPr>
                <a:xfrm>
                  <a:off x="1262160" y="3150720"/>
                  <a:ext cx="1282320" cy="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1" name="Line 28"/>
                <p:cNvSpPr/>
                <p:nvPr/>
              </p:nvSpPr>
              <p:spPr>
                <a:xfrm flipV="1">
                  <a:off x="158256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2" name="Line 29"/>
                <p:cNvSpPr/>
                <p:nvPr/>
              </p:nvSpPr>
              <p:spPr>
                <a:xfrm flipV="1">
                  <a:off x="254448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3" name="Line 30"/>
                <p:cNvSpPr/>
                <p:nvPr/>
              </p:nvSpPr>
              <p:spPr>
                <a:xfrm flipV="1">
                  <a:off x="126216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4" name="Line 31"/>
                <p:cNvSpPr/>
                <p:nvPr/>
              </p:nvSpPr>
              <p:spPr>
                <a:xfrm flipV="1">
                  <a:off x="190296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5" name="Line 32"/>
                <p:cNvSpPr/>
                <p:nvPr/>
              </p:nvSpPr>
              <p:spPr>
                <a:xfrm flipV="1">
                  <a:off x="222372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16" name="Text Box 34"/>
            <p:cNvSpPr/>
            <p:nvPr/>
          </p:nvSpPr>
          <p:spPr>
            <a:xfrm>
              <a:off x="1257480" y="2808360"/>
              <a:ext cx="625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1828800"/>
                  <a:tab algn="l" pos="3718080"/>
                  <a:tab algn="l" pos="55468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A</a:t>
              </a: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A</a:t>
              </a: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A</a:t>
              </a: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A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17" name="Text Box 36"/>
          <p:cNvSpPr/>
          <p:nvPr/>
        </p:nvSpPr>
        <p:spPr>
          <a:xfrm>
            <a:off x="738360" y="3492360"/>
            <a:ext cx="69274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re are 4 ways to put A in. (A has 4 possible states.)  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For each of these, there are 3 states for B.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refore, the total number of microstates is: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4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3 = 12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What if we have 3 particles (A,B,C)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For each (A,B) microstate, C has 2 states (empty bins).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refore,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4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2 = 24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For N distinguishable objects in M single-occupancy bin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= M! / (M-N)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Rectangle 37"/>
          <p:cNvSpPr/>
          <p:nvPr/>
        </p:nvSpPr>
        <p:spPr>
          <a:xfrm>
            <a:off x="1708200" y="6302520"/>
            <a:ext cx="1846080" cy="3459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4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4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4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4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2"/>
          <p:cNvSpPr/>
          <p:nvPr/>
        </p:nvSpPr>
        <p:spPr>
          <a:xfrm>
            <a:off x="998640" y="61920"/>
            <a:ext cx="71625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ingle occupancy (2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Text Box 51"/>
          <p:cNvSpPr/>
          <p:nvPr/>
        </p:nvSpPr>
        <p:spPr>
          <a:xfrm>
            <a:off x="453960" y="1306440"/>
            <a:ext cx="790452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at happens if the particles are identical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blem #3: Identical objects in single-occupancy bins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irst, look at a specific distinct particle problem 4 particles in 10 bin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= M! / (M-N)! = 10! / 6! = 504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Look at a particular microstat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f the particles are all identical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have over counted the microstates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y what factor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wapping “A”s doesn’t give a new microstate, so we must divide by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number of permutations of A particles, namely 4! = 24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number of microstates for identical particles is: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M! / (M-N)!N!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10! / 6!4! = 2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1" name="Group 74"/>
          <p:cNvGrpSpPr/>
          <p:nvPr/>
        </p:nvGrpSpPr>
        <p:grpSpPr>
          <a:xfrm>
            <a:off x="5067360" y="2860560"/>
            <a:ext cx="3809880" cy="398880"/>
            <a:chOff x="5067360" y="2860560"/>
            <a:chExt cx="3809880" cy="398880"/>
          </a:xfrm>
        </p:grpSpPr>
        <p:grpSp>
          <p:nvGrpSpPr>
            <p:cNvPr id="422" name="Group 4"/>
            <p:cNvGrpSpPr/>
            <p:nvPr/>
          </p:nvGrpSpPr>
          <p:grpSpPr>
            <a:xfrm>
              <a:off x="5067360" y="2920680"/>
              <a:ext cx="3809880" cy="305280"/>
              <a:chOff x="5067360" y="2920680"/>
              <a:chExt cx="3809880" cy="305280"/>
            </a:xfrm>
          </p:grpSpPr>
          <p:grpSp>
            <p:nvGrpSpPr>
              <p:cNvPr id="423" name="Group 5"/>
              <p:cNvGrpSpPr/>
              <p:nvPr/>
            </p:nvGrpSpPr>
            <p:grpSpPr>
              <a:xfrm>
                <a:off x="6591240" y="2921040"/>
                <a:ext cx="1523520" cy="304560"/>
                <a:chOff x="6591240" y="2921040"/>
                <a:chExt cx="1523520" cy="304560"/>
              </a:xfrm>
            </p:grpSpPr>
            <p:sp>
              <p:nvSpPr>
                <p:cNvPr id="424" name="Line 6"/>
                <p:cNvSpPr/>
                <p:nvPr/>
              </p:nvSpPr>
              <p:spPr>
                <a:xfrm>
                  <a:off x="6591240" y="3225600"/>
                  <a:ext cx="1523520" cy="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5" name="Line 7"/>
                <p:cNvSpPr/>
                <p:nvPr/>
              </p:nvSpPr>
              <p:spPr>
                <a:xfrm flipV="1">
                  <a:off x="6971760" y="292104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6" name="Line 8"/>
                <p:cNvSpPr/>
                <p:nvPr/>
              </p:nvSpPr>
              <p:spPr>
                <a:xfrm flipV="1">
                  <a:off x="8114760" y="292104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7" name="Line 9"/>
                <p:cNvSpPr/>
                <p:nvPr/>
              </p:nvSpPr>
              <p:spPr>
                <a:xfrm flipV="1">
                  <a:off x="6591240" y="292104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8" name="Line 10"/>
                <p:cNvSpPr/>
                <p:nvPr/>
              </p:nvSpPr>
              <p:spPr>
                <a:xfrm flipV="1">
                  <a:off x="7352640" y="292104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9" name="Line 11"/>
                <p:cNvSpPr/>
                <p:nvPr/>
              </p:nvSpPr>
              <p:spPr>
                <a:xfrm flipV="1">
                  <a:off x="7733880" y="292104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430" name="Line 12"/>
              <p:cNvSpPr/>
              <p:nvPr/>
            </p:nvSpPr>
            <p:spPr>
              <a:xfrm>
                <a:off x="8115120" y="3225960"/>
                <a:ext cx="761760" cy="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1" name="Line 13"/>
              <p:cNvSpPr/>
              <p:nvPr/>
            </p:nvSpPr>
            <p:spPr>
              <a:xfrm flipV="1">
                <a:off x="8496000" y="2920680"/>
                <a:ext cx="0" cy="30492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" name="Line 14"/>
              <p:cNvSpPr/>
              <p:nvPr/>
            </p:nvSpPr>
            <p:spPr>
              <a:xfrm flipV="1">
                <a:off x="8877240" y="2920680"/>
                <a:ext cx="0" cy="30492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33" name="Group 15"/>
              <p:cNvGrpSpPr/>
              <p:nvPr/>
            </p:nvGrpSpPr>
            <p:grpSpPr>
              <a:xfrm>
                <a:off x="5067360" y="2921040"/>
                <a:ext cx="1523880" cy="304560"/>
                <a:chOff x="5067360" y="2921040"/>
                <a:chExt cx="1523880" cy="304560"/>
              </a:xfrm>
            </p:grpSpPr>
            <p:sp>
              <p:nvSpPr>
                <p:cNvPr id="434" name="Line 16"/>
                <p:cNvSpPr/>
                <p:nvPr/>
              </p:nvSpPr>
              <p:spPr>
                <a:xfrm>
                  <a:off x="5067360" y="3225600"/>
                  <a:ext cx="1523880" cy="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5" name="Line 17"/>
                <p:cNvSpPr/>
                <p:nvPr/>
              </p:nvSpPr>
              <p:spPr>
                <a:xfrm flipV="1">
                  <a:off x="5448240" y="292104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6" name="Line 18"/>
                <p:cNvSpPr/>
                <p:nvPr/>
              </p:nvSpPr>
              <p:spPr>
                <a:xfrm flipV="1">
                  <a:off x="6591240" y="292104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7" name="Line 19"/>
                <p:cNvSpPr/>
                <p:nvPr/>
              </p:nvSpPr>
              <p:spPr>
                <a:xfrm flipV="1">
                  <a:off x="5067360" y="292104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8" name="Line 20"/>
                <p:cNvSpPr/>
                <p:nvPr/>
              </p:nvSpPr>
              <p:spPr>
                <a:xfrm flipV="1">
                  <a:off x="5829120" y="292104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9" name="Line 21"/>
                <p:cNvSpPr/>
                <p:nvPr/>
              </p:nvSpPr>
              <p:spPr>
                <a:xfrm flipV="1">
                  <a:off x="6210360" y="292104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40" name="Text Box 52"/>
            <p:cNvSpPr/>
            <p:nvPr/>
          </p:nvSpPr>
          <p:spPr>
            <a:xfrm>
              <a:off x="5092560" y="2860560"/>
              <a:ext cx="3450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739800"/>
                  <a:tab algn="l" pos="2228760"/>
                  <a:tab algn="l" pos="263052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41" name="Group 97"/>
          <p:cNvGrpSpPr/>
          <p:nvPr/>
        </p:nvGrpSpPr>
        <p:grpSpPr>
          <a:xfrm>
            <a:off x="5067360" y="3701880"/>
            <a:ext cx="3809880" cy="823320"/>
            <a:chOff x="5067360" y="3701880"/>
            <a:chExt cx="3809880" cy="823320"/>
          </a:xfrm>
        </p:grpSpPr>
        <p:grpSp>
          <p:nvGrpSpPr>
            <p:cNvPr id="442" name="Group 75"/>
            <p:cNvGrpSpPr/>
            <p:nvPr/>
          </p:nvGrpSpPr>
          <p:grpSpPr>
            <a:xfrm>
              <a:off x="5067360" y="3701880"/>
              <a:ext cx="3809880" cy="398880"/>
              <a:chOff x="5067360" y="3701880"/>
              <a:chExt cx="3809880" cy="398880"/>
            </a:xfrm>
          </p:grpSpPr>
          <p:grpSp>
            <p:nvGrpSpPr>
              <p:cNvPr id="443" name="Group 4"/>
              <p:cNvGrpSpPr/>
              <p:nvPr/>
            </p:nvGrpSpPr>
            <p:grpSpPr>
              <a:xfrm>
                <a:off x="5067360" y="3762000"/>
                <a:ext cx="3809880" cy="305280"/>
                <a:chOff x="5067360" y="3762000"/>
                <a:chExt cx="3809880" cy="305280"/>
              </a:xfrm>
            </p:grpSpPr>
            <p:grpSp>
              <p:nvGrpSpPr>
                <p:cNvPr id="444" name="Group 5"/>
                <p:cNvGrpSpPr/>
                <p:nvPr/>
              </p:nvGrpSpPr>
              <p:grpSpPr>
                <a:xfrm>
                  <a:off x="6591240" y="3762360"/>
                  <a:ext cx="1523520" cy="304560"/>
                  <a:chOff x="6591240" y="3762360"/>
                  <a:chExt cx="1523520" cy="304560"/>
                </a:xfrm>
              </p:grpSpPr>
              <p:sp>
                <p:nvSpPr>
                  <p:cNvPr id="445" name="Line 6"/>
                  <p:cNvSpPr/>
                  <p:nvPr/>
                </p:nvSpPr>
                <p:spPr>
                  <a:xfrm>
                    <a:off x="6591240" y="4066920"/>
                    <a:ext cx="152352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6" name="Line 7"/>
                  <p:cNvSpPr/>
                  <p:nvPr/>
                </p:nvSpPr>
                <p:spPr>
                  <a:xfrm flipV="1">
                    <a:off x="6971760" y="3762360"/>
                    <a:ext cx="0" cy="30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7" name="Line 8"/>
                  <p:cNvSpPr/>
                  <p:nvPr/>
                </p:nvSpPr>
                <p:spPr>
                  <a:xfrm flipV="1">
                    <a:off x="8114760" y="3762360"/>
                    <a:ext cx="0" cy="30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8" name="Line 9"/>
                  <p:cNvSpPr/>
                  <p:nvPr/>
                </p:nvSpPr>
                <p:spPr>
                  <a:xfrm flipV="1">
                    <a:off x="6591240" y="3762360"/>
                    <a:ext cx="0" cy="30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9" name="Line 10"/>
                  <p:cNvSpPr/>
                  <p:nvPr/>
                </p:nvSpPr>
                <p:spPr>
                  <a:xfrm flipV="1">
                    <a:off x="7352640" y="3762360"/>
                    <a:ext cx="0" cy="30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0" name="Line 11"/>
                  <p:cNvSpPr/>
                  <p:nvPr/>
                </p:nvSpPr>
                <p:spPr>
                  <a:xfrm flipV="1">
                    <a:off x="7733880" y="3762360"/>
                    <a:ext cx="0" cy="30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51" name="Line 12"/>
                <p:cNvSpPr/>
                <p:nvPr/>
              </p:nvSpPr>
              <p:spPr>
                <a:xfrm>
                  <a:off x="8115120" y="4067280"/>
                  <a:ext cx="761760" cy="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2" name="Line 13"/>
                <p:cNvSpPr/>
                <p:nvPr/>
              </p:nvSpPr>
              <p:spPr>
                <a:xfrm flipV="1">
                  <a:off x="8496000" y="3762000"/>
                  <a:ext cx="0" cy="3049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3" name="Line 14"/>
                <p:cNvSpPr/>
                <p:nvPr/>
              </p:nvSpPr>
              <p:spPr>
                <a:xfrm flipV="1">
                  <a:off x="8877240" y="3762000"/>
                  <a:ext cx="0" cy="3049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54" name="Group 15"/>
                <p:cNvGrpSpPr/>
                <p:nvPr/>
              </p:nvGrpSpPr>
              <p:grpSpPr>
                <a:xfrm>
                  <a:off x="5067360" y="3762360"/>
                  <a:ext cx="1523880" cy="304560"/>
                  <a:chOff x="5067360" y="3762360"/>
                  <a:chExt cx="1523880" cy="304560"/>
                </a:xfrm>
              </p:grpSpPr>
              <p:sp>
                <p:nvSpPr>
                  <p:cNvPr id="455" name="Line 16"/>
                  <p:cNvSpPr/>
                  <p:nvPr/>
                </p:nvSpPr>
                <p:spPr>
                  <a:xfrm>
                    <a:off x="5067360" y="4066920"/>
                    <a:ext cx="152388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6" name="Line 17"/>
                  <p:cNvSpPr/>
                  <p:nvPr/>
                </p:nvSpPr>
                <p:spPr>
                  <a:xfrm flipV="1">
                    <a:off x="5448240" y="3762360"/>
                    <a:ext cx="0" cy="30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7" name="Line 18"/>
                  <p:cNvSpPr/>
                  <p:nvPr/>
                </p:nvSpPr>
                <p:spPr>
                  <a:xfrm flipV="1">
                    <a:off x="6591240" y="3762360"/>
                    <a:ext cx="0" cy="30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8" name="Line 19"/>
                  <p:cNvSpPr/>
                  <p:nvPr/>
                </p:nvSpPr>
                <p:spPr>
                  <a:xfrm flipV="1">
                    <a:off x="5067360" y="3762360"/>
                    <a:ext cx="0" cy="30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9" name="Line 20"/>
                  <p:cNvSpPr/>
                  <p:nvPr/>
                </p:nvSpPr>
                <p:spPr>
                  <a:xfrm flipV="1">
                    <a:off x="5829120" y="3762360"/>
                    <a:ext cx="0" cy="30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0" name="Line 21"/>
                  <p:cNvSpPr/>
                  <p:nvPr/>
                </p:nvSpPr>
                <p:spPr>
                  <a:xfrm flipV="1">
                    <a:off x="6210360" y="3762360"/>
                    <a:ext cx="0" cy="30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61" name="Text Box 94"/>
              <p:cNvSpPr/>
              <p:nvPr/>
            </p:nvSpPr>
            <p:spPr>
              <a:xfrm>
                <a:off x="5092560" y="3701880"/>
                <a:ext cx="3450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739800"/>
                    <a:tab algn="l" pos="2228760"/>
                    <a:tab algn="l" pos="263052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62" name="Arc 95"/>
            <p:cNvSpPr/>
            <p:nvPr/>
          </p:nvSpPr>
          <p:spPr>
            <a:xfrm flipV="1">
              <a:off x="5248440" y="3998160"/>
              <a:ext cx="768240" cy="314280"/>
            </a:xfrm>
            <a:custGeom>
              <a:avLst/>
              <a:gdLst/>
              <a:ahLst/>
              <a:rect l="l" t="t" r="r" b="b"/>
              <a:pathLst>
                <a:path fill="none" w="37995" h="21600">
                  <a:moveTo>
                    <a:pt x="0" y="11457"/>
                  </a:moveTo>
                  <a:cubicBezTo>
                    <a:pt x="3750" y="4406"/>
                    <a:pt x="11084" y="-1"/>
                    <a:pt x="19071" y="0"/>
                  </a:cubicBezTo>
                  <a:cubicBezTo>
                    <a:pt x="26946" y="0"/>
                    <a:pt x="34197" y="4286"/>
                    <a:pt x="37994" y="11186"/>
                  </a:cubicBezTo>
                </a:path>
                <a:path stroke="0" w="37995" h="21600">
                  <a:moveTo>
                    <a:pt x="0" y="11457"/>
                  </a:moveTo>
                  <a:cubicBezTo>
                    <a:pt x="3750" y="4406"/>
                    <a:pt x="11084" y="-1"/>
                    <a:pt x="19071" y="0"/>
                  </a:cubicBezTo>
                  <a:cubicBezTo>
                    <a:pt x="26946" y="0"/>
                    <a:pt x="34197" y="4286"/>
                    <a:pt x="37994" y="11186"/>
                  </a:cubicBezTo>
                  <a:lnTo>
                    <a:pt x="19071" y="21600"/>
                  </a:lnTo>
                  <a:lnTo>
                    <a:pt x="0" y="11457"/>
                  </a:lnTo>
                  <a:close/>
                </a:path>
              </a:pathLst>
            </a:custGeom>
            <a:noFill/>
            <a:ln w="3240">
              <a:solidFill>
                <a:srgbClr val="ff0000"/>
              </a:solidFill>
              <a:round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Text Box 96"/>
            <p:cNvSpPr/>
            <p:nvPr/>
          </p:nvSpPr>
          <p:spPr>
            <a:xfrm>
              <a:off x="5412600" y="4294080"/>
              <a:ext cx="4489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swap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007640" y="58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mmary of Bin Occupancy and Particle Typ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65200" y="1565280"/>
            <a:ext cx="8354880" cy="495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possible occupancy rules for bin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unlimited occupanc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ingle occupanc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possible particle types a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istinc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distinguishabl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dentical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indistinguishabl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 N &lt;&lt; M, the occupancy rule doesn’t matter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ecause multiple occupancies are rare.  (Remember: N objects and M bin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ampl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mpare M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with M!/(M-N)! when M = 30 and N = 2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Multiple occupancy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30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     = 90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single occupanc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ingle occupancy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30!/28! = 87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requirement loses 30 microstat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Text Box 10"/>
          <p:cNvSpPr/>
          <p:nvPr/>
        </p:nvSpPr>
        <p:spPr>
          <a:xfrm>
            <a:off x="5119560" y="2480400"/>
            <a:ext cx="171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4 ca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AutoShape 12"/>
          <p:cNvSpPr/>
          <p:nvPr/>
        </p:nvSpPr>
        <p:spPr>
          <a:xfrm>
            <a:off x="5016600" y="1646280"/>
            <a:ext cx="162000" cy="2050920"/>
          </a:xfrm>
          <a:custGeom>
            <a:avLst/>
            <a:gdLst>
              <a:gd name="textAreaLeft" fmla="*/ 0 w 162000"/>
              <a:gd name="textAreaRight" fmla="*/ 58320 w 162000"/>
              <a:gd name="textAreaTop" fmla="*/ 53280 h 2050920"/>
              <a:gd name="textAreaBottom" fmla="*/ 1997640 h 2050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AutoShape 13"/>
          <p:cNvSpPr/>
          <p:nvPr/>
        </p:nvSpPr>
        <p:spPr>
          <a:xfrm>
            <a:off x="4357800" y="5497560"/>
            <a:ext cx="196560" cy="504720"/>
          </a:xfrm>
          <a:custGeom>
            <a:avLst/>
            <a:gdLst>
              <a:gd name="textAreaLeft" fmla="*/ 0 w 196560"/>
              <a:gd name="textAreaRight" fmla="*/ 70920 w 19656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1120" y="50760"/>
            <a:ext cx="7772400" cy="88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213 Midterm coming up…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139400" y="1090080"/>
            <a:ext cx="7412040" cy="3805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W 2 due this Thursday, 8am. Extra office hours on Wed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idterm: Monday Apr. 13 @ 7 pm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(conflict exam @ 5:15pm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ver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Lectures 1-12 (not including thermal radiatio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HW 1-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Discussion 1-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Labs 1-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view Sessio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nday Apr. 12, time to be determined, 141 Loom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W 4 is not due until Thursday, Apr. 16 at 8 am, but some of the problems are relevant for the exa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2"/>
          <p:cNvSpPr/>
          <p:nvPr/>
        </p:nvSpPr>
        <p:spPr>
          <a:xfrm>
            <a:off x="1008000" y="58680"/>
            <a:ext cx="716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mmary of Bin Count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Text Box 14"/>
          <p:cNvSpPr/>
          <p:nvPr/>
        </p:nvSpPr>
        <p:spPr>
          <a:xfrm>
            <a:off x="585720" y="1363680"/>
            <a:ext cx="6858000" cy="22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umber of microstates for N objects in M bin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nlimited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ingle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 &lt;&lt; 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ccupancy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ccupancy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lute ga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stinguishable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dentic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71" name="Object 3"/>
          <p:cNvGraphicFramePr/>
          <p:nvPr/>
        </p:nvGraphicFramePr>
        <p:xfrm>
          <a:off x="2592360" y="2276640"/>
          <a:ext cx="3875040" cy="144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2360" y="2276640"/>
                    <a:ext cx="3875040" cy="14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3" name="Rectangle 15"/>
          <p:cNvSpPr/>
          <p:nvPr/>
        </p:nvSpPr>
        <p:spPr>
          <a:xfrm>
            <a:off x="2317680" y="2262240"/>
            <a:ext cx="4443480" cy="16063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AutoShape 16"/>
          <p:cNvSpPr/>
          <p:nvPr/>
        </p:nvSpPr>
        <p:spPr>
          <a:xfrm rot="16200000">
            <a:off x="3847320" y="2610720"/>
            <a:ext cx="419040" cy="2906640"/>
          </a:xfrm>
          <a:custGeom>
            <a:avLst/>
            <a:gdLst>
              <a:gd name="textAreaLeft" fmla="*/ 267840 w 419040"/>
              <a:gd name="textAreaRight" fmla="*/ 419400 w 419040"/>
              <a:gd name="textAreaTop" fmla="*/ 75600 h 2906640"/>
              <a:gd name="textAreaBottom" fmla="*/ 2831040 h 2906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Text Box 17"/>
          <p:cNvSpPr/>
          <p:nvPr/>
        </p:nvSpPr>
        <p:spPr>
          <a:xfrm>
            <a:off x="2978640" y="4230720"/>
            <a:ext cx="2146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eeded at high densities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liquids and solids)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K for gases, too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AutoShape 20"/>
          <p:cNvSpPr/>
          <p:nvPr/>
        </p:nvSpPr>
        <p:spPr>
          <a:xfrm rot="16200000">
            <a:off x="6068880" y="3728880"/>
            <a:ext cx="419040" cy="701640"/>
          </a:xfrm>
          <a:custGeom>
            <a:avLst/>
            <a:gdLst>
              <a:gd name="textAreaLeft" fmla="*/ 267840 w 419040"/>
              <a:gd name="textAreaRight" fmla="*/ 419400 w 419040"/>
              <a:gd name="textAreaTop" fmla="*/ 18000 h 701640"/>
              <a:gd name="textAreaBottom" fmla="*/ 683640 h 701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Text Box 21"/>
          <p:cNvSpPr/>
          <p:nvPr/>
        </p:nvSpPr>
        <p:spPr>
          <a:xfrm>
            <a:off x="5414400" y="4286160"/>
            <a:ext cx="171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K at low densities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gases only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8" name="Group 25"/>
          <p:cNvGrpSpPr/>
          <p:nvPr/>
        </p:nvGrpSpPr>
        <p:grpSpPr>
          <a:xfrm>
            <a:off x="103320" y="4290840"/>
            <a:ext cx="2238120" cy="1127160"/>
            <a:chOff x="103320" y="4290840"/>
            <a:chExt cx="2238120" cy="1127160"/>
          </a:xfrm>
        </p:grpSpPr>
        <p:sp>
          <p:nvSpPr>
            <p:cNvPr id="479" name="Text Box 22"/>
            <p:cNvSpPr/>
            <p:nvPr/>
          </p:nvSpPr>
          <p:spPr>
            <a:xfrm>
              <a:off x="249840" y="4567320"/>
              <a:ext cx="19425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This one is derived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in the Appendix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0" name="Oval 23"/>
            <p:cNvSpPr/>
            <p:nvPr/>
          </p:nvSpPr>
          <p:spPr>
            <a:xfrm>
              <a:off x="103320" y="4290840"/>
              <a:ext cx="2238120" cy="1127160"/>
            </a:xfrm>
            <a:prstGeom prst="ellipse">
              <a:avLst/>
            </a:prstGeom>
            <a:noFill/>
            <a:ln w="32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81" name="Line 24"/>
          <p:cNvSpPr/>
          <p:nvPr/>
        </p:nvSpPr>
        <p:spPr>
          <a:xfrm flipV="1">
            <a:off x="1819440" y="3639600"/>
            <a:ext cx="744480" cy="752760"/>
          </a:xfrm>
          <a:prstGeom prst="line">
            <a:avLst/>
          </a:prstGeom>
          <a:ln w="324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20280" y="10800"/>
            <a:ext cx="789012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ample: Gas Molecul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83" name="Text Box 4"/>
          <p:cNvSpPr/>
          <p:nvPr/>
        </p:nvSpPr>
        <p:spPr>
          <a:xfrm>
            <a:off x="166680" y="671400"/>
            <a:ext cx="8088480" cy="57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46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is a “real world” problem.  Consider gas molecules in a container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are going to count the microstates and use the result to determine the condition for equilibrium when two containers are in contac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46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 each volum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the number of  states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available to a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article is proportional to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as you would expect.  Write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 = 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46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s the proportionality constant.  The subscript reminds us that,  because particles with different velocities are in different states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depends on temperatur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46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will be working in the dilute gas limit, i.e.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&gt;&gt;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For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indistinguishabl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articles, the number of microstates is given by: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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N!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If we are dealing with problems where the number of particles is fixed, the factor of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!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rops out. (it’s buried in the math.) Therefore, we can simplify the math by using the result for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istinguishabl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particles: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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46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 realistic problems, the number of microstates is going to be enormou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 Suppose that M = 100, and that we have a mole of gas.  Th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876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46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=M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~ 10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1400" spc="-1" strike="noStrike" baseline="60000">
                <a:solidFill>
                  <a:srgbClr val="ffffff"/>
                </a:solidFill>
                <a:latin typeface="Arial"/>
              </a:rPr>
              <a:t>24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This is an incredibly large number  I would say “astronomical”,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but astronomical numbers are puny in comparison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4" name="Group 19"/>
          <p:cNvGrpSpPr/>
          <p:nvPr/>
        </p:nvGrpSpPr>
        <p:grpSpPr>
          <a:xfrm>
            <a:off x="7486560" y="1279440"/>
            <a:ext cx="1371600" cy="1143360"/>
            <a:chOff x="7486560" y="1279440"/>
            <a:chExt cx="1371600" cy="1143360"/>
          </a:xfrm>
        </p:grpSpPr>
        <p:sp>
          <p:nvSpPr>
            <p:cNvPr id="485" name="Rectangle 8"/>
            <p:cNvSpPr/>
            <p:nvPr/>
          </p:nvSpPr>
          <p:spPr>
            <a:xfrm>
              <a:off x="7486560" y="1536840"/>
              <a:ext cx="1371600" cy="609480"/>
            </a:xfrm>
            <a:prstGeom prst="rect">
              <a:avLst/>
            </a:prstGeom>
            <a:noFill/>
            <a:ln w="1908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6" name="Text Box 9"/>
            <p:cNvSpPr/>
            <p:nvPr/>
          </p:nvSpPr>
          <p:spPr>
            <a:xfrm>
              <a:off x="7632360" y="2146320"/>
              <a:ext cx="1149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Volume V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7" name="Oval 10"/>
            <p:cNvSpPr/>
            <p:nvPr/>
          </p:nvSpPr>
          <p:spPr>
            <a:xfrm>
              <a:off x="7959600" y="1695240"/>
              <a:ext cx="45720" cy="4608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pPr marL="285840" indent="-2858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8" name="Text Box 9"/>
            <p:cNvSpPr/>
            <p:nvPr/>
          </p:nvSpPr>
          <p:spPr>
            <a:xfrm>
              <a:off x="7534080" y="1695240"/>
              <a:ext cx="901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molecule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9" name="Text Box 9"/>
            <p:cNvSpPr/>
            <p:nvPr/>
          </p:nvSpPr>
          <p:spPr>
            <a:xfrm>
              <a:off x="7596000" y="1279440"/>
              <a:ext cx="1149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Container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0" name="Text Box 23"/>
          <p:cNvSpPr/>
          <p:nvPr/>
        </p:nvSpPr>
        <p:spPr>
          <a:xfrm>
            <a:off x="368280" y="6216480"/>
            <a:ext cx="83278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*Why not an uncountable infinity of states? Quantum mechanics!(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 &gt;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ћ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4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4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4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2"/>
          <p:cNvSpPr/>
          <p:nvPr/>
        </p:nvSpPr>
        <p:spPr>
          <a:xfrm>
            <a:off x="1001880" y="58680"/>
            <a:ext cx="7165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3: Counting stat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Rectangle 8"/>
          <p:cNvSpPr/>
          <p:nvPr/>
        </p:nvSpPr>
        <p:spPr>
          <a:xfrm>
            <a:off x="625320" y="1004760"/>
            <a:ext cx="71996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N particles in a box of volume V.   It has a total number of states (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i.e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bins) M, and a total number of microstates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M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If we double the volume (2V), 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what is the new number of microstates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’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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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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</a:t>
            </a:r>
            <a:r>
              <a:rPr b="0" lang="en-US" sz="2000" spc="-1" strike="noStrike" baseline="30000">
                <a:solidFill>
                  <a:srgbClr val="00ffcc"/>
                </a:solidFill>
                <a:latin typeface="Symbol"/>
                <a:ea typeface="Symbol"/>
              </a:rPr>
              <a:t>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2"/>
          <p:cNvSpPr/>
          <p:nvPr/>
        </p:nvSpPr>
        <p:spPr>
          <a:xfrm>
            <a:off x="1001880" y="58680"/>
            <a:ext cx="7165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Rectangle 8"/>
          <p:cNvSpPr/>
          <p:nvPr/>
        </p:nvSpPr>
        <p:spPr>
          <a:xfrm>
            <a:off x="625320" y="1004760"/>
            <a:ext cx="71996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N particles in a box of volume V.   It has a total number of states (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i.e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cells) M, and a total number of microstates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M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If we double the volume (2V), 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what is the new number of microstates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’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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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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</a:t>
            </a:r>
            <a:r>
              <a:rPr b="0" lang="en-US" sz="2000" spc="-1" strike="noStrike" baseline="30000">
                <a:solidFill>
                  <a:srgbClr val="00ffcc"/>
                </a:solidFill>
                <a:latin typeface="Symbol"/>
                <a:ea typeface="Symbol"/>
              </a:rPr>
              <a:t>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Rectangle 5"/>
          <p:cNvSpPr/>
          <p:nvPr/>
        </p:nvSpPr>
        <p:spPr>
          <a:xfrm>
            <a:off x="739800" y="3432240"/>
            <a:ext cx="6972120" cy="25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If you double the volume, M doubles. 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’ = (2M)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= 2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= 2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 get a feeling for how rapidly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varies with volume, suppose the volume increases by 0.1%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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’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= (1.001 M)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N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= 1.001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N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f N = 10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4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(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e.g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gas in a room), this increase in the number of states is enormous:  (1.001)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will overflow your calculator.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Rectangle 5"/>
          <p:cNvSpPr/>
          <p:nvPr/>
        </p:nvSpPr>
        <p:spPr>
          <a:xfrm>
            <a:off x="4281480" y="2452680"/>
            <a:ext cx="1503360" cy="5731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74840" y="69480"/>
            <a:ext cx="8175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Counting States: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wo Interacting System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98" name="Text Box 2051"/>
          <p:cNvSpPr/>
          <p:nvPr/>
        </p:nvSpPr>
        <p:spPr>
          <a:xfrm>
            <a:off x="289080" y="1700280"/>
            <a:ext cx="8727840" cy="464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61880"/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ivide a box of volume V into two parts, volumes V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nd V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 = V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+ V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ut 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particles in V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nd 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particles in V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 = 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+ 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partition can move.  Its position (the value of V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describes the macrostat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total number of microstates depends on the position of the partition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i,.e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on V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nd V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61880"/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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.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(n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)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600" spc="-1" strike="noStrike" baseline="20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(n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)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600" spc="-1" strike="noStrike" baseline="20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= (n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)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N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600" spc="-1" strike="noStrike" baseline="20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600" spc="-1" strike="noStrike" baseline="20000">
                <a:solidFill>
                  <a:srgbClr val="fafd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61880"/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is the product, because microstates in 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are independent of microstates in 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9" name="Group 19"/>
          <p:cNvGrpSpPr/>
          <p:nvPr/>
        </p:nvGrpSpPr>
        <p:grpSpPr>
          <a:xfrm>
            <a:off x="2114640" y="3009960"/>
            <a:ext cx="5136840" cy="1553400"/>
            <a:chOff x="2114640" y="3009960"/>
            <a:chExt cx="5136840" cy="1553400"/>
          </a:xfrm>
        </p:grpSpPr>
        <p:grpSp>
          <p:nvGrpSpPr>
            <p:cNvPr id="500" name="Group 16"/>
            <p:cNvGrpSpPr/>
            <p:nvPr/>
          </p:nvGrpSpPr>
          <p:grpSpPr>
            <a:xfrm>
              <a:off x="2114640" y="3009960"/>
              <a:ext cx="5136840" cy="1220400"/>
              <a:chOff x="2114640" y="3009960"/>
              <a:chExt cx="5136840" cy="1220400"/>
            </a:xfrm>
          </p:grpSpPr>
          <p:sp>
            <p:nvSpPr>
              <p:cNvPr id="501" name="Line 2054"/>
              <p:cNvSpPr/>
              <p:nvPr/>
            </p:nvSpPr>
            <p:spPr>
              <a:xfrm>
                <a:off x="2978280" y="3009960"/>
                <a:ext cx="0" cy="1218960"/>
              </a:xfrm>
              <a:prstGeom prst="line">
                <a:avLst/>
              </a:prstGeom>
              <a:ln w="3816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02" name="Group 15"/>
              <p:cNvGrpSpPr/>
              <p:nvPr/>
            </p:nvGrpSpPr>
            <p:grpSpPr>
              <a:xfrm>
                <a:off x="2114640" y="3011400"/>
                <a:ext cx="5136840" cy="1218960"/>
                <a:chOff x="2114640" y="3011400"/>
                <a:chExt cx="5136840" cy="1218960"/>
              </a:xfrm>
            </p:grpSpPr>
            <p:sp>
              <p:nvSpPr>
                <p:cNvPr id="503" name="Rectangle 2053"/>
                <p:cNvSpPr/>
                <p:nvPr/>
              </p:nvSpPr>
              <p:spPr>
                <a:xfrm>
                  <a:off x="2114640" y="3011400"/>
                  <a:ext cx="3276360" cy="1218960"/>
                </a:xfrm>
                <a:prstGeom prst="rect">
                  <a:avLst/>
                </a:prstGeom>
                <a:noFill/>
                <a:ln w="1260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4" name="Text Box 2056"/>
                <p:cNvSpPr/>
                <p:nvPr/>
              </p:nvSpPr>
              <p:spPr>
                <a:xfrm>
                  <a:off x="2374920" y="3165480"/>
                  <a:ext cx="4876560" cy="82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876"/>
                    </a:spcBef>
                    <a:tabLst>
                      <a:tab algn="l" pos="0"/>
                      <a:tab algn="l" pos="1085760"/>
                      <a:tab algn="l" pos="320508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V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	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V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2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 = V - V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	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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 = (n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T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V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)</a:t>
                  </a:r>
                  <a:r>
                    <a:rPr b="0" lang="en-US" sz="1800" spc="-1" strike="noStrike" baseline="30000">
                      <a:solidFill>
                        <a:srgbClr val="ffffff"/>
                      </a:solidFill>
                      <a:latin typeface="Arial"/>
                    </a:rPr>
                    <a:t>N</a:t>
                  </a:r>
                  <a:r>
                    <a:rPr b="0" lang="en-US" sz="1400" spc="-1" strike="noStrike" baseline="20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spcBef>
                      <a:spcPts val="876"/>
                    </a:spcBef>
                    <a:tabLst>
                      <a:tab algn="l" pos="0"/>
                      <a:tab algn="l" pos="1085760"/>
                      <a:tab algn="l" pos="320508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N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	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N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2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 =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 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N - N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	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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2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 = (n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T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V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2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)</a:t>
                  </a:r>
                  <a:r>
                    <a:rPr b="0" lang="en-US" sz="1800" spc="-1" strike="noStrike" baseline="30000">
                      <a:solidFill>
                        <a:srgbClr val="ffffff"/>
                      </a:solidFill>
                      <a:latin typeface="Arial"/>
                    </a:rPr>
                    <a:t>N</a:t>
                  </a:r>
                  <a:r>
                    <a:rPr b="0" lang="en-US" sz="1400" spc="-1" strike="noStrike" baseline="20000">
                      <a:solidFill>
                        <a:srgbClr val="ffffff"/>
                      </a:solidFill>
                      <a:latin typeface="Arial"/>
                    </a:rPr>
                    <a:t>2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5" name="Line 17"/>
            <p:cNvSpPr/>
            <p:nvPr/>
          </p:nvSpPr>
          <p:spPr>
            <a:xfrm>
              <a:off x="2666880" y="4336920"/>
              <a:ext cx="614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6" name="Text Box 18"/>
            <p:cNvSpPr/>
            <p:nvPr/>
          </p:nvSpPr>
          <p:spPr>
            <a:xfrm>
              <a:off x="2384280" y="4332240"/>
              <a:ext cx="11210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moveable partition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07" name="Rectangle 20"/>
          <p:cNvSpPr/>
          <p:nvPr/>
        </p:nvSpPr>
        <p:spPr>
          <a:xfrm>
            <a:off x="276120" y="5742000"/>
            <a:ext cx="8599680" cy="3776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08040" y="61920"/>
            <a:ext cx="7905600" cy="722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quilibrium of Volume Exchang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09" name="Text Box 3"/>
          <p:cNvSpPr/>
          <p:nvPr/>
        </p:nvSpPr>
        <p:spPr>
          <a:xfrm>
            <a:off x="453960" y="1143000"/>
            <a:ext cx="8053560" cy="464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partition can move, so let’s ask: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What is the most probable macrostate?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the most likely V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lutio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Find the value of V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hat maximizes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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(n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)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400" spc="-1" strike="noStrike" baseline="20000">
                <a:solidFill>
                  <a:srgbClr val="fafd00"/>
                </a:solidFill>
                <a:latin typeface="Arial"/>
              </a:rPr>
              <a:t>1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400" spc="-1" strike="noStrike" baseline="20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constant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1800" spc="-1" strike="noStrike" baseline="30000">
                <a:solidFill>
                  <a:srgbClr val="fafd00"/>
                </a:solidFill>
                <a:latin typeface="Arial"/>
              </a:rPr>
              <a:t>.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400" spc="-1" strike="noStrike" baseline="20000">
                <a:solidFill>
                  <a:srgbClr val="fafd00"/>
                </a:solidFill>
                <a:latin typeface="Arial"/>
              </a:rPr>
              <a:t>1 </a:t>
            </a:r>
            <a:r>
              <a:rPr b="1" lang="en-US" sz="1800" spc="-1" strike="noStrike" baseline="30000">
                <a:solidFill>
                  <a:srgbClr val="fafd00"/>
                </a:solidFill>
                <a:latin typeface="Arial"/>
              </a:rPr>
              <a:t>.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400" spc="-1" strike="noStrike" baseline="20000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400" spc="-1" strike="noStrike" baseline="20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constant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1800" spc="-1" strike="noStrike" baseline="30000">
                <a:solidFill>
                  <a:srgbClr val="fafd00"/>
                </a:solidFill>
                <a:latin typeface="Arial"/>
              </a:rPr>
              <a:t>.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400" spc="-1" strike="noStrike" baseline="20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(V-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)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400" spc="-1" strike="noStrike" baseline="20000">
                <a:solidFill>
                  <a:srgbClr val="fafd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t is simpler to maximize the logarithm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ln(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) = constant + N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ln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+ N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ln(V-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Remember that we have defined this to be the entropy: 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ln(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.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 we will be maximizing the entropy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10" name="Group 17"/>
          <p:cNvGrpSpPr/>
          <p:nvPr/>
        </p:nvGrpSpPr>
        <p:grpSpPr>
          <a:xfrm>
            <a:off x="5303880" y="1344600"/>
            <a:ext cx="2895480" cy="762120"/>
            <a:chOff x="5303880" y="1344600"/>
            <a:chExt cx="2895480" cy="762120"/>
          </a:xfrm>
        </p:grpSpPr>
        <p:grpSp>
          <p:nvGrpSpPr>
            <p:cNvPr id="511" name="Group 4"/>
            <p:cNvGrpSpPr/>
            <p:nvPr/>
          </p:nvGrpSpPr>
          <p:grpSpPr>
            <a:xfrm>
              <a:off x="5303880" y="1344600"/>
              <a:ext cx="2895480" cy="762120"/>
              <a:chOff x="5303880" y="1344600"/>
              <a:chExt cx="2895480" cy="762120"/>
            </a:xfrm>
          </p:grpSpPr>
          <p:sp>
            <p:nvSpPr>
              <p:cNvPr id="512" name="Rectangle 5"/>
              <p:cNvSpPr/>
              <p:nvPr/>
            </p:nvSpPr>
            <p:spPr>
              <a:xfrm>
                <a:off x="5303880" y="1344600"/>
                <a:ext cx="2895480" cy="762120"/>
              </a:xfrm>
              <a:prstGeom prst="rect">
                <a:avLst/>
              </a:prstGeom>
              <a:noFill/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3" name="Line 6"/>
              <p:cNvSpPr/>
              <p:nvPr/>
            </p:nvSpPr>
            <p:spPr>
              <a:xfrm>
                <a:off x="6141960" y="1344600"/>
                <a:ext cx="0" cy="762120"/>
              </a:xfrm>
              <a:prstGeom prst="line">
                <a:avLst/>
              </a:prstGeom>
              <a:ln w="3816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" name="Line 7"/>
              <p:cNvSpPr/>
              <p:nvPr/>
            </p:nvSpPr>
            <p:spPr>
              <a:xfrm>
                <a:off x="5989320" y="1725840"/>
                <a:ext cx="38088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" name="Line 8"/>
              <p:cNvSpPr/>
              <p:nvPr/>
            </p:nvSpPr>
            <p:spPr>
              <a:xfrm flipH="1">
                <a:off x="5913000" y="1725840"/>
                <a:ext cx="30420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6" name="Text Box 13"/>
            <p:cNvSpPr/>
            <p:nvPr/>
          </p:nvSpPr>
          <p:spPr>
            <a:xfrm>
              <a:off x="5367240" y="1508400"/>
              <a:ext cx="22654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V</a:t>
              </a:r>
              <a:r>
                <a:rPr b="0" lang="en-US" sz="1800" spc="-1" strike="noStrike" baseline="-25000">
                  <a:solidFill>
                    <a:srgbClr val="00ffff"/>
                  </a:solidFill>
                  <a:latin typeface="Arial"/>
                </a:rPr>
                <a:t>1 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                V - V</a:t>
              </a:r>
              <a:r>
                <a:rPr b="0" lang="en-US" sz="1800" spc="-1" strike="noStrike" baseline="-25000">
                  <a:solidFill>
                    <a:srgbClr val="00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517" name="Object 18"/>
          <p:cNvGraphicFramePr/>
          <p:nvPr/>
        </p:nvGraphicFramePr>
        <p:xfrm>
          <a:off x="1116000" y="5313240"/>
          <a:ext cx="2708280" cy="90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8" name="Object 1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5313240"/>
                    <a:ext cx="2708280" cy="90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9" name="Line 19"/>
          <p:cNvSpPr/>
          <p:nvPr/>
        </p:nvSpPr>
        <p:spPr>
          <a:xfrm flipH="1">
            <a:off x="4059000" y="5776920"/>
            <a:ext cx="70956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Text Box 20"/>
          <p:cNvSpPr/>
          <p:nvPr/>
        </p:nvSpPr>
        <p:spPr>
          <a:xfrm>
            <a:off x="5796000" y="555156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Text Box 21"/>
          <p:cNvSpPr/>
          <p:nvPr/>
        </p:nvSpPr>
        <p:spPr>
          <a:xfrm>
            <a:off x="4802400" y="5448240"/>
            <a:ext cx="3044160" cy="6426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condition for equilibrium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when volume is exchange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Rectangle 22"/>
          <p:cNvSpPr/>
          <p:nvPr/>
        </p:nvSpPr>
        <p:spPr>
          <a:xfrm>
            <a:off x="1000080" y="5256360"/>
            <a:ext cx="2871720" cy="10332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998640" y="61920"/>
            <a:ext cx="7162560" cy="744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Volume Equilibrium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24" name="Line 6"/>
          <p:cNvSpPr/>
          <p:nvPr/>
        </p:nvSpPr>
        <p:spPr>
          <a:xfrm flipH="1">
            <a:off x="3124080" y="4673520"/>
            <a:ext cx="6098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Rectangle 7"/>
          <p:cNvSpPr/>
          <p:nvPr/>
        </p:nvSpPr>
        <p:spPr>
          <a:xfrm>
            <a:off x="1600200" y="4368960"/>
            <a:ext cx="12193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Text Box 11"/>
          <p:cNvSpPr/>
          <p:nvPr/>
        </p:nvSpPr>
        <p:spPr>
          <a:xfrm>
            <a:off x="716040" y="1166760"/>
            <a:ext cx="7602480" cy="534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et’s solve the problem.  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is the ideal gas law result. The ideal gas law is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 equilibrium, the pressures will be equal, and we assumed that th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emperatures were equal (same 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, so the densities will be equal as wel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important general resul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here is that when volume is exchanged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etween two systems, the equilibrium condition 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 similar relation will hold when any quantity is exchanged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Just replace V with the exchanged quantity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27" name="Object 2"/>
          <p:cNvGraphicFramePr/>
          <p:nvPr/>
        </p:nvGraphicFramePr>
        <p:xfrm>
          <a:off x="981000" y="1787400"/>
          <a:ext cx="5823000" cy="120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81000" y="1787400"/>
                    <a:ext cx="5823000" cy="120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9" name="Object 12"/>
          <p:cNvGraphicFramePr/>
          <p:nvPr/>
        </p:nvGraphicFramePr>
        <p:xfrm>
          <a:off x="3884760" y="1055520"/>
          <a:ext cx="1116000" cy="606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30" name="Object 1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84760" y="1055520"/>
                    <a:ext cx="1116000" cy="60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1" name="Object 13"/>
          <p:cNvGraphicFramePr/>
          <p:nvPr/>
        </p:nvGraphicFramePr>
        <p:xfrm>
          <a:off x="6151680" y="2970360"/>
          <a:ext cx="915840" cy="555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32" name="Object 1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151680" y="2970360"/>
                    <a:ext cx="915840" cy="55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3" name="Object 14"/>
          <p:cNvGraphicFramePr/>
          <p:nvPr/>
        </p:nvGraphicFramePr>
        <p:xfrm>
          <a:off x="2495520" y="4992840"/>
          <a:ext cx="3417840" cy="679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34" name="Object 1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495520" y="4992840"/>
                    <a:ext cx="3417840" cy="67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982800" y="61920"/>
            <a:ext cx="7162560" cy="67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ntropy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36" name="Rectangle 4"/>
          <p:cNvSpPr/>
          <p:nvPr/>
        </p:nvSpPr>
        <p:spPr>
          <a:xfrm>
            <a:off x="706320" y="1263600"/>
            <a:ext cx="7315200" cy="525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have defined entropy to be the natural log of the number of accessible microstat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= ln </a:t>
            </a:r>
            <a:r>
              <a:rPr b="0" lang="en-US" sz="36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y is this useful?  Why not just use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ntropy is additiv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ln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ln(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=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ceptually simpler.  Simplifies the math as wel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numbers are much more manageable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mpare 2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10</a:t>
            </a:r>
            <a:r>
              <a:rPr b="0" lang="en-US" sz="1400" spc="-1" strike="noStrike" baseline="70000">
                <a:solidFill>
                  <a:srgbClr val="00ffcc"/>
                </a:solidFill>
                <a:latin typeface="Arial"/>
              </a:rPr>
              <a:t>2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with 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ln2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te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and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are state functions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If you know the macrostate of a system you can, in principle, calculate the number of corresponding microstat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Line 10"/>
          <p:cNvSpPr/>
          <p:nvPr/>
        </p:nvSpPr>
        <p:spPr>
          <a:xfrm flipH="1">
            <a:off x="6583320" y="3567240"/>
            <a:ext cx="246240" cy="176040"/>
          </a:xfrm>
          <a:prstGeom prst="line">
            <a:avLst/>
          </a:prstGeom>
          <a:ln w="324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Line 10"/>
          <p:cNvSpPr/>
          <p:nvPr/>
        </p:nvSpPr>
        <p:spPr>
          <a:xfrm flipH="1">
            <a:off x="6173640" y="3294000"/>
            <a:ext cx="657360" cy="449280"/>
          </a:xfrm>
          <a:prstGeom prst="line">
            <a:avLst/>
          </a:prstGeom>
          <a:ln w="324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Text Box 14"/>
          <p:cNvSpPr/>
          <p:nvPr/>
        </p:nvSpPr>
        <p:spPr>
          <a:xfrm>
            <a:off x="6799320" y="3127320"/>
            <a:ext cx="1447200" cy="55080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A property of system 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A property of system 2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Rectangle 15"/>
          <p:cNvSpPr/>
          <p:nvPr/>
        </p:nvSpPr>
        <p:spPr>
          <a:xfrm>
            <a:off x="2855880" y="2141640"/>
            <a:ext cx="2230560" cy="8017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1001880" y="65160"/>
            <a:ext cx="7162560" cy="550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mmary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291960" y="1082520"/>
            <a:ext cx="8677440" cy="418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 fontScale="76000"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total entropy of an isolated system is maximum in equilibriu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o if two parts (1 and 2) can exchange V, equilibrium requir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is is a general equilibrium condition.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 similar relation holds for any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xchanged quantity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tropy of an ideal ga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N distinguishable particles in volume V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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i="1" lang="en-US" sz="2000" spc="-1" strike="noStrike" baseline="30000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c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+ con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You can’t calculate the constant (that requires quantum mechanics)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ut it drops out of problems where one only needs the entropy change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example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the temperature is constan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-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f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-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(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/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ext lecture, you’ll learn about the temperature dependence of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43" name="Object 4"/>
          <p:cNvGraphicFramePr/>
          <p:nvPr/>
        </p:nvGraphicFramePr>
        <p:xfrm>
          <a:off x="1577880" y="2006640"/>
          <a:ext cx="1946520" cy="1182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2006640"/>
                    <a:ext cx="1946520" cy="118260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001880" y="65160"/>
            <a:ext cx="7162560" cy="550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Next Lectur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46" name="Text Box 3"/>
          <p:cNvSpPr/>
          <p:nvPr/>
        </p:nvSpPr>
        <p:spPr>
          <a:xfrm>
            <a:off x="1889280" y="1530360"/>
            <a:ext cx="5554440" cy="41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econd Law of Thermodynamic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ergy exchan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neral definition of temperature</a:t>
            </a:r>
            <a:br>
              <a:rPr sz="2400"/>
            </a:b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(not just ideal gas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y heat flows from hot to col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30320" y="7920"/>
            <a:ext cx="7045200" cy="581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Review: Some definitions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37920" y="544320"/>
            <a:ext cx="8505720" cy="5290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7000"/>
          </a:bodyPr>
          <a:p>
            <a:pPr marL="2484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at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of a molecule/atom/electron (depending on situation):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details of a particular particl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e.g.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what volume bin it is in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the orientation of its spin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its velocity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4840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484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icrostat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of many-body system: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distinguishable or indistinguishable)</a:t>
            </a:r>
            <a:br>
              <a:rPr sz="18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configuration of states for a set of particle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.g.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which bin each particle is in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the velocities of all the particles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the orientation of all the spins  --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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4840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484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acrostat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of many-body system: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collection of all microstates that correspond to a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articular macroscopic property of the syste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e.g.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all the particles on the left side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A box of gas has a particular P, V, and T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1/3 of the particles with their spins “up”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no particles as a gas: all as liqu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2"/>
          <p:cNvSpPr/>
          <p:nvPr/>
        </p:nvSpPr>
        <p:spPr>
          <a:xfrm>
            <a:off x="307800" y="58680"/>
            <a:ext cx="8598240" cy="74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ppendix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Rectangle 14"/>
          <p:cNvSpPr/>
          <p:nvPr/>
        </p:nvSpPr>
        <p:spPr>
          <a:xfrm>
            <a:off x="219240" y="1201680"/>
            <a:ext cx="870732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icrostate Counting for Identical Particles in Multiple-Occupancy Bi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 picture is worth 1000 words.  Here’s one microstat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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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||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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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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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this example, there ar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=22 particl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(the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and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=8 bin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re are M-1=7 internal walls (th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ote that in this microstate, the 4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bin is empt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f everything were distinguishable, there would be (N+M-1)! arrangements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f particles and internal walls.  However, we must divide by N!, the number of particle permutations, and by (M-1)!, the number of wall permutations (because walls are also indistinguishable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us,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(N+M-1)! / (M-1)!N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2"/>
          <p:cNvSpPr/>
          <p:nvPr/>
        </p:nvSpPr>
        <p:spPr>
          <a:xfrm>
            <a:off x="985680" y="58680"/>
            <a:ext cx="716616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: Microstat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3"/>
          <p:cNvSpPr/>
          <p:nvPr/>
        </p:nvSpPr>
        <p:spPr>
          <a:xfrm>
            <a:off x="966960" y="936720"/>
            <a:ext cx="69706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10 coin flips.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ich sequence is least likel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 H H H H H H H H 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 H H H H T T T T 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 T H T H T H T H 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 H T H T T T H H H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e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 T H T H H H T T 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2"/>
          <p:cNvSpPr/>
          <p:nvPr/>
        </p:nvSpPr>
        <p:spPr>
          <a:xfrm>
            <a:off x="985680" y="58680"/>
            <a:ext cx="716616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: Solu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Rectangle 3"/>
          <p:cNvSpPr/>
          <p:nvPr/>
        </p:nvSpPr>
        <p:spPr>
          <a:xfrm>
            <a:off x="966960" y="936720"/>
            <a:ext cx="65768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10 coin flips.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ich sequence is least likel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 H H H H H H H H 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 H H H H T T T T 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 T H T H T H T H 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 H T H T T T H H H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e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 T H T H H H T T 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Rectangle 4"/>
          <p:cNvSpPr/>
          <p:nvPr/>
        </p:nvSpPr>
        <p:spPr>
          <a:xfrm>
            <a:off x="5024520" y="2101680"/>
            <a:ext cx="1299960" cy="8128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Rectangle 5"/>
          <p:cNvSpPr/>
          <p:nvPr/>
        </p:nvSpPr>
        <p:spPr>
          <a:xfrm>
            <a:off x="930240" y="3290760"/>
            <a:ext cx="697248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ach sequence is equally likely!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Now, imagine that the coins are being flipped by random thermal motion.  Each sequence is a microstate of the 10-coin system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n thermal equilibrium, every microstate is equally likely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Rectangle 7"/>
          <p:cNvSpPr/>
          <p:nvPr/>
        </p:nvSpPr>
        <p:spPr>
          <a:xfrm>
            <a:off x="963720" y="4800600"/>
            <a:ext cx="5897520" cy="3938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Rectangle 9"/>
          <p:cNvSpPr/>
          <p:nvPr/>
        </p:nvSpPr>
        <p:spPr>
          <a:xfrm>
            <a:off x="804960" y="5472000"/>
            <a:ext cx="7367400" cy="10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f instead we ask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ich </a:t>
            </a:r>
            <a:r>
              <a:rPr b="1" lang="en-US" sz="2000" spc="-1" strike="noStrike">
                <a:solidFill>
                  <a:srgbClr val="ff6161"/>
                </a:solidFill>
                <a:latin typeface="Arial"/>
              </a:rPr>
              <a:t>macrostat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is least likely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, it is the one with all the coins ‘heads’ (or ‘tails’)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y? Because there is only one corresponding microstat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2"/>
          <p:cNvSpPr/>
          <p:nvPr/>
        </p:nvSpPr>
        <p:spPr>
          <a:xfrm>
            <a:off x="985680" y="58680"/>
            <a:ext cx="716616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’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914400" y="665280"/>
            <a:ext cx="65768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10 coin flips, and 50 coin flips.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Are you more likely to see 4/10 heads, or 20/50 head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4 out 10 is more likel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0 out of 50 is more likel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4/10 is as likely as 20/5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2"/>
          <p:cNvSpPr/>
          <p:nvPr/>
        </p:nvSpPr>
        <p:spPr>
          <a:xfrm>
            <a:off x="985680" y="58680"/>
            <a:ext cx="716616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’: Solu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914400" y="665280"/>
            <a:ext cx="65768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10 coin flips, and 50 coin flips.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Are you more likely to see 4/10 heads, or 20/50 head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4 out 10 is more likel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0 out of 50 is more likel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4/10 is as likely as 20/5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Rectangle 4"/>
          <p:cNvSpPr/>
          <p:nvPr/>
        </p:nvSpPr>
        <p:spPr>
          <a:xfrm>
            <a:off x="954000" y="1560600"/>
            <a:ext cx="3083040" cy="4539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Rectangle 5"/>
          <p:cNvSpPr/>
          <p:nvPr/>
        </p:nvSpPr>
        <p:spPr>
          <a:xfrm>
            <a:off x="852480" y="2658960"/>
            <a:ext cx="697248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lthough in both cases it’s 40% heads, the two distributions look very different. The uncertainty in the average number of heads is proportional to the sqrt(average number of heads). Here it’s the 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relative uncertainty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that’s important, that varies as 1/sqrt(N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heads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Rectangle 9"/>
          <p:cNvSpPr/>
          <p:nvPr/>
        </p:nvSpPr>
        <p:spPr>
          <a:xfrm>
            <a:off x="703440" y="6184800"/>
            <a:ext cx="736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usual case in thermal systems – they are big enough that the distribution is VERY narrowly peaked about the most likely macrostat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Picture 7" descr=""/>
          <p:cNvPicPr/>
          <p:nvPr/>
        </p:nvPicPr>
        <p:blipFill>
          <a:blip r:embed="rId1"/>
          <a:stretch/>
        </p:blipFill>
        <p:spPr>
          <a:xfrm>
            <a:off x="750960" y="3835440"/>
            <a:ext cx="3611520" cy="21700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8" descr=""/>
          <p:cNvPicPr/>
          <p:nvPr/>
        </p:nvPicPr>
        <p:blipFill>
          <a:blip r:embed="rId2"/>
          <a:stretch/>
        </p:blipFill>
        <p:spPr>
          <a:xfrm>
            <a:off x="4646520" y="3841920"/>
            <a:ext cx="3672000" cy="218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66960" y="61560"/>
            <a:ext cx="7162560" cy="655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 New Defini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14160" y="830160"/>
            <a:ext cx="8334360" cy="4469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7000"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In an isolated system in thermal equilibrium, each microstate is equally likely.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’ll learn later why the system must be isolated. (Energy is conserved…)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probability that you find some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macr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s just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fraction of all the microstates that correspond to A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(A)=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A)/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total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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 keep track of the large numbers of states,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we define entrop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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A)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ln(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A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(A)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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e</a:t>
            </a:r>
            <a:r>
              <a:rPr b="0" lang="en-US" sz="1800" spc="-1" strike="noStrike" baseline="30000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(A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 thermal equilibrium,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most likely macrostate is the one with the biggest entropy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call that the “equilibrium state” even though there are really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fluctuations around it.  If the system is big (many particles), th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relative size of these fluctuations is negligib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Rectangle 4"/>
          <p:cNvSpPr/>
          <p:nvPr/>
        </p:nvSpPr>
        <p:spPr>
          <a:xfrm>
            <a:off x="1521000" y="4170240"/>
            <a:ext cx="2085840" cy="8463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Rectangle 5"/>
          <p:cNvSpPr/>
          <p:nvPr/>
        </p:nvSpPr>
        <p:spPr>
          <a:xfrm>
            <a:off x="1905120" y="2673360"/>
            <a:ext cx="1855800" cy="4096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6"/>
          <p:cNvSpPr/>
          <p:nvPr/>
        </p:nvSpPr>
        <p:spPr>
          <a:xfrm>
            <a:off x="5302080" y="3747960"/>
            <a:ext cx="3545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Entropy is the logarithm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of the number of microstate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Oval 7"/>
          <p:cNvSpPr/>
          <p:nvPr/>
        </p:nvSpPr>
        <p:spPr>
          <a:xfrm>
            <a:off x="5254560" y="3440160"/>
            <a:ext cx="3694320" cy="1403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Box 1"/>
          <p:cNvSpPr/>
          <p:nvPr/>
        </p:nvSpPr>
        <p:spPr>
          <a:xfrm>
            <a:off x="3901320" y="2689200"/>
            <a:ext cx="173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’s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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Box 2"/>
          <p:cNvSpPr/>
          <p:nvPr/>
        </p:nvSpPr>
        <p:spPr>
          <a:xfrm>
            <a:off x="5616720" y="2381400"/>
            <a:ext cx="1882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t’s number of microstates that give 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1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1320" y="1088640"/>
            <a:ext cx="7980120" cy="348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61880"/>
                <a:tab algn="l" pos="1376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st week we considered binomial (two-state) systems:</a:t>
            </a:r>
            <a:br>
              <a:rPr sz="2000"/>
            </a:br>
            <a:br>
              <a:rPr sz="20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ins land with either heads or tails, electronic spins have magnetic moments m pointing either with or against an applied field, and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1-dimensional drunks can step a distance either left or right.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defined the terms “microstate” and “macrostate” to describ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ach of these systems: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System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One particular microstate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Macrostate (what we measure)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Spins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U D D U D U U U D U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Total magnetic moment = </a:t>
            </a:r>
            <a:r>
              <a:rPr b="0" lang="en-US" sz="1400" spc="-1" strike="noStrike">
                <a:solidFill>
                  <a:srgbClr val="00ff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(N</a:t>
            </a:r>
            <a:r>
              <a:rPr b="0" lang="en-US" sz="1400" spc="-1" strike="noStrike" baseline="-25000">
                <a:solidFill>
                  <a:srgbClr val="00ffcc"/>
                </a:solidFill>
                <a:latin typeface="Arial"/>
              </a:rPr>
              <a:t>up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 - N</a:t>
            </a:r>
            <a:r>
              <a:rPr b="0" lang="en-US" sz="1400" spc="-1" strike="noStrike" baseline="-25000">
                <a:solidFill>
                  <a:srgbClr val="00ffcc"/>
                </a:solidFill>
                <a:latin typeface="Arial"/>
              </a:rPr>
              <a:t>down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)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Coins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H T T  H T H H H T H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4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 - N</a:t>
            </a:r>
            <a:r>
              <a:rPr b="0" lang="en-US" sz="1400" spc="-1" strike="noStrike" baseline="-25000">
                <a:solidFill>
                  <a:srgbClr val="00ffcc"/>
                </a:solidFill>
                <a:latin typeface="Arial"/>
              </a:rPr>
              <a:t>T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Steps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R L L  R L R R R  L R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Net displacement = </a:t>
            </a:r>
            <a:r>
              <a:rPr b="0" lang="en-US" sz="1400" spc="-1" strike="noStrike">
                <a:solidFill>
                  <a:srgbClr val="00ffcc"/>
                </a:solidFill>
                <a:latin typeface="MT Extra"/>
                <a:ea typeface="MT Extra"/>
              </a:rPr>
              <a:t>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(N</a:t>
            </a:r>
            <a:r>
              <a:rPr b="0" lang="en-US" sz="1400" spc="-1" strike="noStrike" baseline="-25000">
                <a:solidFill>
                  <a:srgbClr val="00ffcc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 - N</a:t>
            </a:r>
            <a:r>
              <a:rPr b="0" lang="en-US" sz="1400" spc="-1" strike="noStrike" baseline="-25000">
                <a:solidFill>
                  <a:srgbClr val="00ffcc"/>
                </a:solidFill>
                <a:latin typeface="Arial"/>
              </a:rPr>
              <a:t>L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)</a:t>
            </a:r>
            <a:endParaRPr b="1" lang="en-US" sz="1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0" name="Rectangle 10"/>
          <p:cNvSpPr/>
          <p:nvPr/>
        </p:nvSpPr>
        <p:spPr>
          <a:xfrm>
            <a:off x="517680" y="58680"/>
            <a:ext cx="81039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Counting Microstates (revisited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Line 11"/>
          <p:cNvSpPr/>
          <p:nvPr/>
        </p:nvSpPr>
        <p:spPr>
          <a:xfrm>
            <a:off x="1098720" y="3632040"/>
            <a:ext cx="5680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Box 1"/>
          <p:cNvSpPr/>
          <p:nvPr/>
        </p:nvSpPr>
        <p:spPr>
          <a:xfrm>
            <a:off x="599760" y="4743360"/>
            <a:ext cx="702792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w we will study systems that have more than two states: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ach particle can be placed in any of many bins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“bin problem” is directly related to particles in gases and solid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7T16:36:54Z</dcterms:created>
  <dc:creator>j-wolfe</dc:creator>
  <dc:description/>
  <dc:language>en-US</dc:language>
  <cp:lastModifiedBy>kwiat</cp:lastModifiedBy>
  <cp:lastPrinted>2014-10-29T16:22:06Z</cp:lastPrinted>
  <dcterms:modified xsi:type="dcterms:W3CDTF">2015-03-30T13:59:06Z</dcterms:modified>
  <cp:revision>379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