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EDDCBD-696B-461C-A063-9C7B6252C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BCA19326-C4BB-40E3-8F66-221448A624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33116912-4859-4506-ABEA-08F26DEA74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1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2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3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4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5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6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0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1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4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5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6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9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0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2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3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66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67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8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9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0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1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72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75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6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8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314" name="Object 6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7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8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24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5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26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8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9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1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2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3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9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1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2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4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5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8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1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2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3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5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6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7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8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9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60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61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2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28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29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1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2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3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6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7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8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9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69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0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4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76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77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0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5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8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9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0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Text Box 13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194" name="Object 14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5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9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7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29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1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Jim Eckstein</cp:lastModifiedBy>
  <cp:lastPrinted>1997-01-30T13:11:51Z</cp:lastPrinted>
  <dcterms:modified xsi:type="dcterms:W3CDTF">2015-01-20T22:24:35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