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0178E55-D72A-4494-9655-06AEAC5463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D692A55F-8414-45BB-91AB-7C1F42870B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5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48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1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1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1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2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6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9" name="Group 24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0" name="Text Box 25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26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55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56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60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21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74" name="Text Box 22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24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77" name="Group 25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78" name="Object 26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9" name="Object 27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0" name="Object 28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81" name="Rectangle 29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6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7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0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0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4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4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67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8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81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88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89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92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95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98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401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404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407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410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413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416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422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26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29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30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1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2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37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47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8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0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459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61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3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64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realistic system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514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7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5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27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1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2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4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1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1581120" y="1298520"/>
            <a:ext cx="7327800" cy="23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2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00920" y="407880"/>
            <a:ext cx="7753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Work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at the states when the single oscillator, n, has one quantum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the other three are sharing 3 qua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3191040" y="1652760"/>
            <a:ext cx="2743200" cy="4514760"/>
            <a:chOff x="3191040" y="1652760"/>
            <a:chExt cx="2743200" cy="4514760"/>
          </a:xfrm>
        </p:grpSpPr>
        <p:sp>
          <p:nvSpPr>
            <p:cNvPr id="135" name="Straight Connector 3"/>
            <p:cNvSpPr/>
            <p:nvPr/>
          </p:nvSpPr>
          <p:spPr>
            <a:xfrm>
              <a:off x="3191040" y="204336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Straight Connector 4"/>
            <p:cNvSpPr/>
            <p:nvPr/>
          </p:nvSpPr>
          <p:spPr>
            <a:xfrm>
              <a:off x="4102200" y="204984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Straight Connector 5"/>
            <p:cNvSpPr/>
            <p:nvPr/>
          </p:nvSpPr>
          <p:spPr>
            <a:xfrm>
              <a:off x="5013360" y="204660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Straight Connector 6"/>
            <p:cNvSpPr/>
            <p:nvPr/>
          </p:nvSpPr>
          <p:spPr>
            <a:xfrm>
              <a:off x="5934240" y="205308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7"/>
            <p:cNvSpPr/>
            <p:nvPr/>
          </p:nvSpPr>
          <p:spPr>
            <a:xfrm>
              <a:off x="3513600" y="1672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Box 8"/>
            <p:cNvSpPr/>
            <p:nvPr/>
          </p:nvSpPr>
          <p:spPr>
            <a:xfrm>
              <a:off x="4438080" y="16527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ush Script MT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5307840" y="16722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Straight Connector 10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56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7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78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9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14:47:48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