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8682BB-7220-4862-B0BD-398FDC6FA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9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0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1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work through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ay if you don’t get to this in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ay if you don’t get to this in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55BB263D-152B-4A45-AD1A-3C566A6F7F7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7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8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3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4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6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7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9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00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6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1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2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3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9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30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2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3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6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1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2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7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3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4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5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70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71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3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4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7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3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8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9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90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6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7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9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10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2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3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9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4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51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8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9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3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4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5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8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9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30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1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2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5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6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7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2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3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4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5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6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7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8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9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wo systems that are allowed to exchange energy will do so until the total entropy is maximiz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5132520" y="3355920"/>
          <a:ext cx="16873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2520" y="3355920"/>
                    <a:ext cx="1687320" cy="939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6273720" y="2127240"/>
          <a:ext cx="15462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3720" y="2127240"/>
                    <a:ext cx="15462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1027080" y="2070000"/>
          <a:ext cx="419724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7080" y="2070000"/>
                    <a:ext cx="41972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"/>
          <p:cNvSpPr/>
          <p:nvPr/>
        </p:nvSpPr>
        <p:spPr>
          <a:xfrm>
            <a:off x="1225440" y="3564000"/>
            <a:ext cx="457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36680" y="4646520"/>
            <a:ext cx="750240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this definition, out of equilibrium, heat flows from hot to col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 equipartition of energy: U = ½kT for each energy mod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6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0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77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92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93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94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95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9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0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1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2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14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15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16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17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18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26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3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34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42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49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4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58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63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64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5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66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0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7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8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9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0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1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2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3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84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85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86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87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88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89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97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4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805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2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813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20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4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5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-360" y="63000"/>
            <a:ext cx="896940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28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9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0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1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2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35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38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39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0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1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2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43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44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6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47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49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50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51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52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7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8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9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0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1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2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3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4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5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6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7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8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09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910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1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913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4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16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7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4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5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6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7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4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1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2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3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4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5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6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7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8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9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00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101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2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3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4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11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2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4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5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6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7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8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5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2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9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6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5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7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3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5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6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8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9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6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3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90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7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3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6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7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8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4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21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2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30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6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7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9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40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41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2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9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3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5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6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8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9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60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3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4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6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7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5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3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4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5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6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7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4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6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7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7:50:02Z</dcterms:modified>
  <cp:revision>37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