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96D8C38-295D-4DE5-86C3-9E0F4C745D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5E40FDD2-6B6A-45C7-8590-DA885626F78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57160" y="3339000"/>
            <a:ext cx="8286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8-10 AM, Friday, Dec.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Wednesday, Dec. 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10 at  8 am. (NO late turn-i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87480" y="735120"/>
            <a:ext cx="3309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2658960"/>
            <a:ext cx="720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2040" y="1136520"/>
            <a:ext cx="819792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2/3 in the lungs (wher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19 atm).  That is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mpirically,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/3, so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235480" y="2004840"/>
          <a:ext cx="16923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2004840"/>
                    <a:ext cx="16923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719520" y="2970360"/>
          <a:ext cx="110664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9520" y="2970360"/>
                    <a:ext cx="11066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05120" y="3656160"/>
          <a:ext cx="197172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5120" y="3656160"/>
                    <a:ext cx="19717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42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43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85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87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26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27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5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6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7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7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5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386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406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408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6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417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8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8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9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4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8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9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1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1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2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3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4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4-08-17T18:34:34Z</dcterms:modified>
  <cp:revision>36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