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15DB41C-E3A5-41B8-981A-E0EAB77AE9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36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5400" y="727200"/>
            <a:ext cx="4781520" cy="3585960"/>
          </a:xfrm>
          <a:prstGeom prst="rect">
            <a:avLst/>
          </a:prstGeom>
          <a:ln w="0">
            <a:noFill/>
          </a:ln>
        </p:spPr>
      </p:sp>
      <p:sp>
        <p:nvSpPr>
          <p:cNvPr id="48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9B22C827-073F-4BC9-9469-4AD30D66AD7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25T16:21:23Z</dcterms:modified>
  <cp:revision>50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