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4E3DEEB-1345-40D6-8D86-7B864A6C81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– it’s probably okay if this gets shifted into Lect. 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lie Cube De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how black  [~10.1], aluminum (not anodized) [~2.8], and mirror [0.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 Discussion probl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92CE7319-969B-4D08-AED1-4217B288FEA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rl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286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08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17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42040" y="5122800"/>
            <a:ext cx="7485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no work or heat flow, so U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s constant.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T is consta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owever, because the volume increases, so does the number of available states,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nd therefore 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ncreases.  Nothing is happening to the environme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&gt; 0.  This is not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05520" y="4562640"/>
            <a:ext cx="152064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334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342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346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366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368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375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382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389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398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3200040" y="62640"/>
            <a:ext cx="27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408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4" name="Text Box 14"/>
          <p:cNvSpPr/>
          <p:nvPr/>
        </p:nvSpPr>
        <p:spPr>
          <a:xfrm>
            <a:off x="223560" y="6404040"/>
            <a:ext cx="5241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because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94000" y="3384720"/>
            <a:ext cx="1468440" cy="536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550800" y="4035600"/>
            <a:ext cx="75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his is an irreversible process, so there must be a net increase in entropy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Let’s calculat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544840" y="4433760"/>
          <a:ext cx="40482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433760"/>
                    <a:ext cx="40482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5578920" y="507672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ositive term is slight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gger than the negative ter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424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34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6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437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67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470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482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484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1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836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lackbody Radiation</a:t>
            </a:r>
            <a:br>
              <a:rPr sz="4000"/>
            </a:b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920880"/>
            <a:ext cx="74772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nck law gives the spectrum of electromagnetic energy contained in modes with frequencies between f and f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grating over all frequencies giv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radiated energy per unit surface are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wer radiated per unit surface area by a perfect radiator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power radiated = J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a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62320" y="5310360"/>
            <a:ext cx="50022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fan-Boltzmann Law of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.67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 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Stefan-Boltzmann consta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181160" y="1631880"/>
          <a:ext cx="199692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631880"/>
                    <a:ext cx="19969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5753160" y="1333440"/>
            <a:ext cx="3155400" cy="1942560"/>
            <a:chOff x="5753160" y="1333440"/>
            <a:chExt cx="3155400" cy="1942560"/>
          </a:xfrm>
        </p:grpSpPr>
        <p:sp>
          <p:nvSpPr>
            <p:cNvPr id="52" name=""/>
            <p:cNvSpPr/>
            <p:nvPr/>
          </p:nvSpPr>
          <p:spPr>
            <a:xfrm flipV="1">
              <a:off x="5760720" y="139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62520" y="2959200"/>
              <a:ext cx="253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49840" y="28497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157800" y="2970360"/>
              <a:ext cx="105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87920" y="1449360"/>
              <a:ext cx="241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Planck Radiation Law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65960" y="2692440"/>
              <a:ext cx="642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/k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60720" y="186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53160" y="1333440"/>
              <a:ext cx="4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02080" y="2338560"/>
              <a:ext cx="738000" cy="59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478280" y="2632320"/>
              <a:ext cx="374400" cy="29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37160" y="1940040"/>
              <a:ext cx="1218600" cy="10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19440" y="2044800"/>
              <a:ext cx="1112760" cy="90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59320" y="2185920"/>
              <a:ext cx="91404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68800" y="2808360"/>
              <a:ext cx="163080" cy="14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71760" y="2689200"/>
              <a:ext cx="290160" cy="24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54560" y="2525760"/>
              <a:ext cx="52668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48440" y="2830680"/>
              <a:ext cx="1393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33360" y="3639960"/>
            <a:ext cx="5981760" cy="1110600"/>
            <a:chOff x="1233360" y="3639960"/>
            <a:chExt cx="5981760" cy="1110600"/>
          </a:xfrm>
        </p:grpSpPr>
        <p:graphicFrame>
          <p:nvGraphicFramePr>
            <p:cNvPr id="70" name=""/>
            <p:cNvGraphicFramePr/>
            <p:nvPr/>
          </p:nvGraphicFramePr>
          <p:xfrm>
            <a:off x="1233360" y="3639960"/>
            <a:ext cx="5981760" cy="85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3360" y="3639960"/>
                      <a:ext cx="5981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4770360" y="3681360"/>
              <a:ext cx="1144800" cy="8776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4640" y="4519440"/>
              <a:ext cx="123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Just a number: </a:t>
              </a:r>
              <a:r>
                <a:rPr b="0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/15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4" name=""/>
          <p:cNvGraphicFramePr/>
          <p:nvPr/>
        </p:nvGraphicFramePr>
        <p:xfrm>
          <a:off x="1239840" y="5359320"/>
          <a:ext cx="136836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9840" y="5359320"/>
                    <a:ext cx="1368360" cy="4906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519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533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534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35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536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4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6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7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569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571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4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585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586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87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622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647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652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671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672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695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696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17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22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71360" y="326376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 1 is obvious, since we’re heating the 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isothermal expansion (process 2), although the temperature is kept consta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till have to put heat in to do the work from the expan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66680" y="2297160"/>
            <a:ext cx="11620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741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742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63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68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784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799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9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816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819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831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834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1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2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848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otal work done by the gas is the sum of steps 2 and 4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Efficiency of Stirling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861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96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0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get work out of the eng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5" name="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7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910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945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7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9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3240" y="5724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t all Bodies are Blac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95520" y="4732200"/>
          <a:ext cx="17906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4732200"/>
                    <a:ext cx="1790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809640" y="4051440"/>
            <a:ext cx="310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dified Stefan-Boltzman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w of Radi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29160" y="3795840"/>
            <a:ext cx="34844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ypical emissivities (300 K)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, polis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, anodiz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pap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8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c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3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n (!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640" y="1463040"/>
            <a:ext cx="82882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l materials are not truly “black”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y don’t completely absorb all wavelengths).  The fraction absorbed is call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ban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ich is equa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to i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vity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, 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 dimensionless number 0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 that depends on the properties of the surfa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an ideal emitter (an ide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bod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bsorbe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omething that doesn’t emit (or absorb) at all, i.e., a perf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ct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0320" y="6192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is equality didn’t hold, we wouldn’t have thermal equilibriu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52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4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273K (ice wa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011240" y="516996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We’ll see next time that this is NOT the maximum possible efficiency, which is determined solely by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law of thermodynamic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2920" y="65160"/>
            <a:ext cx="8675640" cy="13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lication: 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Earth’s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4960" y="4543560"/>
            <a:ext cx="7748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Earth’s temperature remains approximately constant, because the thermal radiation it receives from the Sun is balanced by the thermal radiation it emi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works because, although the Sun is much hotter (and therefore emits much more energy), the Earth only receives a small fra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138120" y="1294200"/>
            <a:ext cx="516240" cy="573840"/>
            <a:chOff x="3138120" y="1294200"/>
            <a:chExt cx="516240" cy="573840"/>
          </a:xfrm>
        </p:grpSpPr>
        <p:grpSp>
          <p:nvGrpSpPr>
            <p:cNvPr id="87" name=""/>
            <p:cNvGrpSpPr/>
            <p:nvPr/>
          </p:nvGrpSpPr>
          <p:grpSpPr>
            <a:xfrm>
              <a:off x="3138120" y="1294200"/>
              <a:ext cx="516240" cy="573840"/>
              <a:chOff x="3138120" y="1294200"/>
              <a:chExt cx="516240" cy="573840"/>
            </a:xfrm>
          </p:grpSpPr>
          <p:sp>
            <p:nvSpPr>
              <p:cNvPr id="88" name=""/>
              <p:cNvSpPr/>
              <p:nvPr/>
            </p:nvSpPr>
            <p:spPr>
              <a:xfrm>
                <a:off x="3280320" y="1446120"/>
                <a:ext cx="232200" cy="26820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03720" y="1516320"/>
                <a:ext cx="18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3138120" y="1558080"/>
                <a:ext cx="126360" cy="39960"/>
                <a:chOff x="3138120" y="1558080"/>
                <a:chExt cx="126360" cy="39960"/>
              </a:xfrm>
            </p:grpSpPr>
            <p:sp>
              <p:nvSpPr>
                <p:cNvPr id="91" name=""/>
                <p:cNvSpPr/>
                <p:nvPr/>
              </p:nvSpPr>
              <p:spPr>
                <a:xfrm flipH="1">
                  <a:off x="3154320" y="1558080"/>
                  <a:ext cx="11016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3138120" y="1578600"/>
                  <a:ext cx="26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3379320" y="1294200"/>
                <a:ext cx="36720" cy="135720"/>
                <a:chOff x="3379320" y="1294200"/>
                <a:chExt cx="36720" cy="135720"/>
              </a:xfrm>
            </p:grpSpPr>
            <p:sp>
              <p:nvSpPr>
                <p:cNvPr id="94" name=""/>
                <p:cNvSpPr/>
                <p:nvPr/>
              </p:nvSpPr>
              <p:spPr>
                <a:xfrm rot="16200000">
                  <a:off x="3338280" y="1352160"/>
                  <a:ext cx="118440" cy="367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3398040" y="1294200"/>
                  <a:ext cx="0" cy="28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369600" y="1729800"/>
                <a:ext cx="38880" cy="138240"/>
                <a:chOff x="3369600" y="1729800"/>
                <a:chExt cx="38880" cy="138240"/>
              </a:xfrm>
            </p:grpSpPr>
            <p:sp>
              <p:nvSpPr>
                <p:cNvPr id="97" name=""/>
                <p:cNvSpPr/>
                <p:nvPr/>
              </p:nvSpPr>
              <p:spPr>
                <a:xfrm rot="5400000">
                  <a:off x="3328560" y="17704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388680" y="1838880"/>
                  <a:ext cx="0" cy="2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200400" y="1664640"/>
                <a:ext cx="110880" cy="110160"/>
                <a:chOff x="3200400" y="1664640"/>
                <a:chExt cx="110880" cy="110160"/>
              </a:xfrm>
            </p:grpSpPr>
            <p:sp>
              <p:nvSpPr>
                <p:cNvPr id="100" name=""/>
                <p:cNvSpPr/>
                <p:nvPr/>
              </p:nvSpPr>
              <p:spPr>
                <a:xfrm rot="8123400">
                  <a:off x="3197520" y="1699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3201840" y="175248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520800" y="1560240"/>
                <a:ext cx="133560" cy="39960"/>
                <a:chOff x="3520800" y="1560240"/>
                <a:chExt cx="133560" cy="399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520800" y="156024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626280" y="1580760"/>
                  <a:ext cx="2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211200" y="1375560"/>
                <a:ext cx="112320" cy="113040"/>
                <a:chOff x="3211200" y="1375560"/>
                <a:chExt cx="112320" cy="113040"/>
              </a:xfrm>
            </p:grpSpPr>
            <p:sp>
              <p:nvSpPr>
                <p:cNvPr id="106" name=""/>
                <p:cNvSpPr/>
                <p:nvPr/>
              </p:nvSpPr>
              <p:spPr>
                <a:xfrm rot="13523400">
                  <a:off x="3206880" y="14122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flipV="1">
                  <a:off x="3213000" y="137628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3474720" y="1376640"/>
                <a:ext cx="110880" cy="110160"/>
                <a:chOff x="3474720" y="1376640"/>
                <a:chExt cx="110880" cy="110160"/>
              </a:xfrm>
            </p:grpSpPr>
            <p:sp>
              <p:nvSpPr>
                <p:cNvPr id="109" name=""/>
                <p:cNvSpPr/>
                <p:nvPr/>
              </p:nvSpPr>
              <p:spPr>
                <a:xfrm rot="18923400">
                  <a:off x="3471840" y="1411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3564000" y="137916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474000" y="1667520"/>
                <a:ext cx="112320" cy="113040"/>
                <a:chOff x="3474000" y="1667520"/>
                <a:chExt cx="112320" cy="113040"/>
              </a:xfrm>
            </p:grpSpPr>
            <p:sp>
              <p:nvSpPr>
                <p:cNvPr id="112" name=""/>
                <p:cNvSpPr/>
                <p:nvPr/>
              </p:nvSpPr>
              <p:spPr>
                <a:xfrm rot="2723400">
                  <a:off x="3469680" y="170460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564000" y="175932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272040" y="1441080"/>
              <a:ext cx="281880" cy="2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192240" y="1638720"/>
            <a:ext cx="1536120" cy="1651320"/>
            <a:chOff x="192240" y="1638720"/>
            <a:chExt cx="1536120" cy="1651320"/>
          </a:xfrm>
        </p:grpSpPr>
        <p:grpSp>
          <p:nvGrpSpPr>
            <p:cNvPr id="116" name=""/>
            <p:cNvGrpSpPr/>
            <p:nvPr/>
          </p:nvGrpSpPr>
          <p:grpSpPr>
            <a:xfrm>
              <a:off x="192240" y="1638720"/>
              <a:ext cx="1536120" cy="1651320"/>
              <a:chOff x="192240" y="1638720"/>
              <a:chExt cx="1536120" cy="1651320"/>
            </a:xfrm>
          </p:grpSpPr>
          <p:sp>
            <p:nvSpPr>
              <p:cNvPr id="117" name=""/>
              <p:cNvSpPr/>
              <p:nvPr/>
            </p:nvSpPr>
            <p:spPr>
              <a:xfrm>
                <a:off x="614520" y="2076120"/>
                <a:ext cx="691920" cy="771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16120" y="2276280"/>
                <a:ext cx="29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192240" y="2398320"/>
                <a:ext cx="375840" cy="115560"/>
                <a:chOff x="192240" y="2398320"/>
                <a:chExt cx="375840" cy="115560"/>
              </a:xfrm>
            </p:grpSpPr>
            <p:sp>
              <p:nvSpPr>
                <p:cNvPr id="120" name=""/>
                <p:cNvSpPr/>
                <p:nvPr/>
              </p:nvSpPr>
              <p:spPr>
                <a:xfrm flipH="1">
                  <a:off x="240480" y="2398320"/>
                  <a:ext cx="32760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192240" y="2457720"/>
                  <a:ext cx="79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909720" y="1638720"/>
                <a:ext cx="109440" cy="391320"/>
                <a:chOff x="909720" y="1638720"/>
                <a:chExt cx="109440" cy="391320"/>
              </a:xfrm>
            </p:grpSpPr>
            <p:sp>
              <p:nvSpPr>
                <p:cNvPr id="123" name=""/>
                <p:cNvSpPr/>
                <p:nvPr/>
              </p:nvSpPr>
              <p:spPr>
                <a:xfrm rot="16200000">
                  <a:off x="793800" y="1804680"/>
                  <a:ext cx="341280" cy="10944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965880" y="163872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881280" y="2892240"/>
                <a:ext cx="115920" cy="397800"/>
                <a:chOff x="881280" y="2892240"/>
                <a:chExt cx="115920" cy="397800"/>
              </a:xfrm>
            </p:grpSpPr>
            <p:sp>
              <p:nvSpPr>
                <p:cNvPr id="126" name=""/>
                <p:cNvSpPr/>
                <p:nvPr/>
              </p:nvSpPr>
              <p:spPr>
                <a:xfrm rot="5400000">
                  <a:off x="765720" y="300744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37800" y="3206160"/>
                  <a:ext cx="0" cy="8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80520" y="2700360"/>
                <a:ext cx="327960" cy="325800"/>
                <a:chOff x="380520" y="2700360"/>
                <a:chExt cx="327960" cy="325800"/>
              </a:xfrm>
            </p:grpSpPr>
            <p:sp>
              <p:nvSpPr>
                <p:cNvPr id="129" name=""/>
                <p:cNvSpPr/>
                <p:nvPr/>
              </p:nvSpPr>
              <p:spPr>
                <a:xfrm rot="8123400">
                  <a:off x="371160" y="280548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383760" y="2960640"/>
                  <a:ext cx="5940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330560" y="2404800"/>
                <a:ext cx="397800" cy="115560"/>
                <a:chOff x="1330560" y="2404800"/>
                <a:chExt cx="397800" cy="1155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330560" y="240480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644480" y="246420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13280" y="1872360"/>
                <a:ext cx="325800" cy="328320"/>
                <a:chOff x="413280" y="1872360"/>
                <a:chExt cx="325800" cy="328320"/>
              </a:xfrm>
            </p:grpSpPr>
            <p:sp>
              <p:nvSpPr>
                <p:cNvPr id="135" name=""/>
                <p:cNvSpPr/>
                <p:nvPr/>
              </p:nvSpPr>
              <p:spPr>
                <a:xfrm rot="13523400">
                  <a:off x="402480" y="197856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419400" y="18756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194840" y="1872720"/>
                <a:ext cx="328320" cy="326160"/>
                <a:chOff x="1194840" y="1872720"/>
                <a:chExt cx="328320" cy="326160"/>
              </a:xfrm>
            </p:grpSpPr>
            <p:sp>
              <p:nvSpPr>
                <p:cNvPr id="138" name=""/>
                <p:cNvSpPr/>
                <p:nvPr/>
              </p:nvSpPr>
              <p:spPr>
                <a:xfrm rot="18923400">
                  <a:off x="1185120" y="1977840"/>
                  <a:ext cx="34704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1460160" y="1879200"/>
                  <a:ext cx="5976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1196280" y="2711880"/>
                <a:ext cx="325800" cy="328320"/>
                <a:chOff x="1196280" y="2711880"/>
                <a:chExt cx="325800" cy="328320"/>
              </a:xfrm>
            </p:grpSpPr>
            <p:sp>
              <p:nvSpPr>
                <p:cNvPr id="141" name=""/>
                <p:cNvSpPr/>
                <p:nvPr/>
              </p:nvSpPr>
              <p:spPr>
                <a:xfrm rot="2723400">
                  <a:off x="1185840" y="281772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456920" y="29772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" name=""/>
            <p:cNvSpPr/>
            <p:nvPr/>
          </p:nvSpPr>
          <p:spPr>
            <a:xfrm>
              <a:off x="590400" y="2079720"/>
              <a:ext cx="783720" cy="78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70280" y="1297080"/>
            <a:ext cx="4229280" cy="2493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624560" y="38671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magnitude of the Earth curve has been magnified 500,000 tim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881440"/>
            <a:ext cx="9375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 the energy flow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wer absorbed from sun = Power radiated by earth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80 K (~room temperature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52960" y="1260360"/>
            <a:ext cx="927000" cy="986040"/>
          </a:xfrm>
          <a:prstGeom prst="ellipse">
            <a:avLst/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47800" y="1560600"/>
            <a:ext cx="287280" cy="28872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2160" y="741240"/>
            <a:ext cx="241200" cy="1917720"/>
          </a:xfrm>
          <a:custGeom>
            <a:avLst/>
            <a:gdLst/>
            <a:ahLst/>
            <a:rect l="l" t="t" r="r" b="b"/>
            <a:pathLst>
              <a:path w="152" h="1208">
                <a:moveTo>
                  <a:pt x="151" y="1207"/>
                </a:moveTo>
                <a:lnTo>
                  <a:pt x="123" y="1131"/>
                </a:lnTo>
                <a:lnTo>
                  <a:pt x="96" y="1059"/>
                </a:lnTo>
                <a:lnTo>
                  <a:pt x="71" y="983"/>
                </a:lnTo>
                <a:lnTo>
                  <a:pt x="48" y="908"/>
                </a:lnTo>
                <a:lnTo>
                  <a:pt x="29" y="832"/>
                </a:lnTo>
                <a:lnTo>
                  <a:pt x="20" y="796"/>
                </a:lnTo>
                <a:lnTo>
                  <a:pt x="14" y="759"/>
                </a:lnTo>
                <a:lnTo>
                  <a:pt x="8" y="720"/>
                </a:lnTo>
                <a:lnTo>
                  <a:pt x="4" y="684"/>
                </a:lnTo>
                <a:lnTo>
                  <a:pt x="2" y="645"/>
                </a:lnTo>
                <a:lnTo>
                  <a:pt x="0" y="608"/>
                </a:lnTo>
                <a:lnTo>
                  <a:pt x="2" y="569"/>
                </a:lnTo>
                <a:lnTo>
                  <a:pt x="4" y="530"/>
                </a:lnTo>
                <a:lnTo>
                  <a:pt x="10" y="487"/>
                </a:lnTo>
                <a:lnTo>
                  <a:pt x="18" y="442"/>
                </a:lnTo>
                <a:lnTo>
                  <a:pt x="26" y="400"/>
                </a:lnTo>
                <a:lnTo>
                  <a:pt x="36" y="354"/>
                </a:lnTo>
                <a:lnTo>
                  <a:pt x="59" y="267"/>
                </a:lnTo>
                <a:lnTo>
                  <a:pt x="82" y="185"/>
                </a:lnTo>
                <a:lnTo>
                  <a:pt x="105" y="109"/>
                </a:lnTo>
                <a:lnTo>
                  <a:pt x="115" y="76"/>
                </a:lnTo>
                <a:lnTo>
                  <a:pt x="123" y="49"/>
                </a:lnTo>
                <a:lnTo>
                  <a:pt x="131" y="22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1196640" y="901800"/>
            <a:ext cx="2513160" cy="8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592440" y="1298520"/>
            <a:ext cx="106560" cy="442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95400" y="861840"/>
            <a:ext cx="20098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5520" y="1378080"/>
            <a:ext cx="51444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280" y="65160"/>
            <a:ext cx="8675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arth’s Temperature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01320" y="105264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32480" y="1852560"/>
            <a:ext cx="431136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the Earth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R)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rth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4320" y="752400"/>
            <a:ext cx="158472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 = 1.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800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1120" y="3605040"/>
            <a:ext cx="79772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wait! We did not account for the fact that about 30% of the sun’s radiation reflects off our atmosphere!  (The planet’s “albedo”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0% less input from the sun means about 8% lower temperature becau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/4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This factor reduces our best estimate of the Earth’s temperature by about 30 K.  Now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50 K, or 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.  Brrr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fact the average surface temperature of the Earth is about 290 K, or about 6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, just right for Earthly life.  (coincidence? I think not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xtra 60° F of warming is mainly due to the “greenhouse effect”, the fact that some of the radiation from the Earth is reflected back by the atmosphere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exactly is the “greenhouse effect”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member Molecular vibrations: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49360" y="12189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lyatomic molecul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, C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ave rotational and vibrational modes that correspond to photon wavelengths (energies) in the infrared.  These molecules absorb (and emit) IR radiation much more effectively than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absorption is in the middle of the Earth’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spectrum, but in the tail of the Sun’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ult is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ur atmosphere lets most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the sunlight through, but absorbs a larger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raction of the radiation that the Earth em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76920" y="3052800"/>
            <a:ext cx="28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ong absorption in the infrared. (rotational and vibrational motio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10360" y="2281320"/>
            <a:ext cx="1540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91160" y="2711520"/>
            <a:ext cx="1558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26320" y="2271600"/>
            <a:ext cx="154080" cy="1638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3351600">
            <a:off x="6258240" y="2509200"/>
            <a:ext cx="328680" cy="1681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8787800">
            <a:off x="6563520" y="2507040"/>
            <a:ext cx="361800" cy="1825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6200" y="4181400"/>
            <a:ext cx="5311800" cy="2476080"/>
            <a:chOff x="376200" y="4181400"/>
            <a:chExt cx="5311800" cy="2476080"/>
          </a:xfrm>
        </p:grpSpPr>
        <p:sp>
          <p:nvSpPr>
            <p:cNvPr id="168" name=""/>
            <p:cNvSpPr/>
            <p:nvPr/>
          </p:nvSpPr>
          <p:spPr>
            <a:xfrm flipV="1">
              <a:off x="986040" y="4411440"/>
              <a:ext cx="0" cy="134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82800" y="4394160"/>
              <a:ext cx="3624120" cy="1361880"/>
            </a:xfrm>
            <a:custGeom>
              <a:avLst/>
              <a:gdLst/>
              <a:ahLst/>
              <a:rect l="l" t="t" r="r" b="b"/>
              <a:pathLst>
                <a:path w="2283" h="858">
                  <a:moveTo>
                    <a:pt x="0" y="857"/>
                  </a:moveTo>
                  <a:lnTo>
                    <a:pt x="81" y="708"/>
                  </a:lnTo>
                  <a:lnTo>
                    <a:pt x="163" y="563"/>
                  </a:lnTo>
                  <a:lnTo>
                    <a:pt x="204" y="494"/>
                  </a:lnTo>
                  <a:lnTo>
                    <a:pt x="245" y="427"/>
                  </a:lnTo>
                  <a:lnTo>
                    <a:pt x="286" y="363"/>
                  </a:lnTo>
                  <a:lnTo>
                    <a:pt x="327" y="305"/>
                  </a:lnTo>
                  <a:lnTo>
                    <a:pt x="374" y="246"/>
                  </a:lnTo>
                  <a:lnTo>
                    <a:pt x="415" y="195"/>
                  </a:lnTo>
                  <a:lnTo>
                    <a:pt x="463" y="147"/>
                  </a:lnTo>
                  <a:lnTo>
                    <a:pt x="504" y="107"/>
                  </a:lnTo>
                  <a:lnTo>
                    <a:pt x="552" y="72"/>
                  </a:lnTo>
                  <a:lnTo>
                    <a:pt x="599" y="43"/>
                  </a:lnTo>
                  <a:lnTo>
                    <a:pt x="654" y="19"/>
                  </a:lnTo>
                  <a:lnTo>
                    <a:pt x="701" y="6"/>
                  </a:lnTo>
                  <a:lnTo>
                    <a:pt x="729" y="3"/>
                  </a:lnTo>
                  <a:lnTo>
                    <a:pt x="756" y="0"/>
                  </a:lnTo>
                  <a:lnTo>
                    <a:pt x="810" y="6"/>
                  </a:lnTo>
                  <a:lnTo>
                    <a:pt x="872" y="22"/>
                  </a:lnTo>
                  <a:lnTo>
                    <a:pt x="933" y="43"/>
                  </a:lnTo>
                  <a:lnTo>
                    <a:pt x="994" y="72"/>
                  </a:lnTo>
                  <a:lnTo>
                    <a:pt x="1063" y="110"/>
                  </a:lnTo>
                  <a:lnTo>
                    <a:pt x="1124" y="147"/>
                  </a:lnTo>
                  <a:lnTo>
                    <a:pt x="1192" y="192"/>
                  </a:lnTo>
                  <a:lnTo>
                    <a:pt x="1321" y="283"/>
                  </a:lnTo>
                  <a:lnTo>
                    <a:pt x="1444" y="374"/>
                  </a:lnTo>
                  <a:lnTo>
                    <a:pt x="1505" y="417"/>
                  </a:lnTo>
                  <a:lnTo>
                    <a:pt x="1560" y="454"/>
                  </a:lnTo>
                  <a:lnTo>
                    <a:pt x="1614" y="489"/>
                  </a:lnTo>
                  <a:lnTo>
                    <a:pt x="1669" y="515"/>
                  </a:lnTo>
                  <a:lnTo>
                    <a:pt x="1764" y="561"/>
                  </a:lnTo>
                  <a:lnTo>
                    <a:pt x="1846" y="601"/>
                  </a:lnTo>
                  <a:lnTo>
                    <a:pt x="1928" y="635"/>
                  </a:lnTo>
                  <a:lnTo>
                    <a:pt x="2009" y="668"/>
                  </a:lnTo>
                  <a:lnTo>
                    <a:pt x="2078" y="697"/>
                  </a:lnTo>
                  <a:lnTo>
                    <a:pt x="2146" y="724"/>
                  </a:lnTo>
                  <a:lnTo>
                    <a:pt x="2282" y="772"/>
                  </a:lnTo>
                </a:path>
              </a:pathLst>
            </a:cu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87480" y="5754600"/>
              <a:ext cx="3724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6200" y="468612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49640" y="56656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27440" y="57769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52920" y="4181400"/>
              <a:ext cx="23097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nck Radiation Law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to scale: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u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~ 20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Earth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24520" y="5806800"/>
              <a:ext cx="156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= photon ener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17720" y="5583240"/>
              <a:ext cx="528480" cy="15696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0" y="98"/>
                  </a:moveTo>
                  <a:lnTo>
                    <a:pt x="23" y="64"/>
                  </a:lnTo>
                  <a:lnTo>
                    <a:pt x="49" y="34"/>
                  </a:lnTo>
                  <a:lnTo>
                    <a:pt x="60" y="21"/>
                  </a:lnTo>
                  <a:lnTo>
                    <a:pt x="75" y="10"/>
                  </a:lnTo>
                  <a:lnTo>
                    <a:pt x="86" y="2"/>
                  </a:lnTo>
                  <a:lnTo>
                    <a:pt x="101" y="0"/>
                  </a:lnTo>
                  <a:lnTo>
                    <a:pt x="116" y="0"/>
                  </a:lnTo>
                  <a:lnTo>
                    <a:pt x="134" y="2"/>
                  </a:lnTo>
                  <a:lnTo>
                    <a:pt x="153" y="10"/>
                  </a:lnTo>
                  <a:lnTo>
                    <a:pt x="172" y="21"/>
                  </a:lnTo>
                  <a:lnTo>
                    <a:pt x="209" y="42"/>
                  </a:lnTo>
                  <a:lnTo>
                    <a:pt x="228" y="50"/>
                  </a:lnTo>
                  <a:lnTo>
                    <a:pt x="243" y="58"/>
                  </a:lnTo>
                  <a:lnTo>
                    <a:pt x="269" y="69"/>
                  </a:lnTo>
                  <a:lnTo>
                    <a:pt x="291" y="77"/>
                  </a:lnTo>
                  <a:lnTo>
                    <a:pt x="332" y="87"/>
                  </a:lnTo>
                </a:path>
              </a:pathLst>
            </a:custGeom>
            <a:noFill/>
            <a:ln cap="rnd"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1040" y="57625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00240" y="565920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81240" y="5403600"/>
              <a:ext cx="70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art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21160" y="4730760"/>
              <a:ext cx="61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u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25800" y="6033960"/>
              <a:ext cx="0" cy="19044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9200" y="6127560"/>
              <a:ext cx="276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298160" y="6129000"/>
              <a:ext cx="287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77960" y="6138720"/>
              <a:ext cx="2394000" cy="518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Greenhouse gas absorption</a:t>
              </a:r>
              <a:br>
                <a:rPr sz="1400"/>
              </a:b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Infrared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7324560" y="2187720"/>
            <a:ext cx="92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  or H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185520" y="4210200"/>
            <a:ext cx="1830240" cy="1745640"/>
            <a:chOff x="6185520" y="4210200"/>
            <a:chExt cx="1830240" cy="1745640"/>
          </a:xfrm>
        </p:grpSpPr>
        <p:sp>
          <p:nvSpPr>
            <p:cNvPr id="187" name=""/>
            <p:cNvSpPr/>
            <p:nvPr/>
          </p:nvSpPr>
          <p:spPr>
            <a:xfrm>
              <a:off x="6939000" y="550872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9000" y="46530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39000" y="421020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39000" y="50958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9000" y="589104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16560" y="5835600"/>
              <a:ext cx="120960" cy="120240"/>
            </a:xfrm>
            <a:prstGeom prst="ellipse">
              <a:avLst/>
            </a:prstGeom>
            <a:solidFill>
              <a:srgbClr val="fafd00"/>
            </a:solidFill>
            <a:ln w="1908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84960" y="5443560"/>
              <a:ext cx="120600" cy="120240"/>
            </a:xfrm>
            <a:prstGeom prst="ellipse">
              <a:avLst/>
            </a:prstGeom>
            <a:noFill/>
            <a:ln w="2844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18280" y="56275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54" y="129"/>
                  </a:moveTo>
                  <a:cubicBezTo>
                    <a:pt x="28" y="98"/>
                    <a:pt x="2" y="67"/>
                    <a:pt x="1" y="46"/>
                  </a:cubicBezTo>
                  <a:cubicBezTo>
                    <a:pt x="0" y="25"/>
                    <a:pt x="23" y="12"/>
                    <a:pt x="46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216560" y="5533560"/>
              <a:ext cx="60480" cy="47160"/>
            </a:xfrm>
            <a:prstGeom prst="line">
              <a:avLst/>
            </a:prstGeom>
            <a:ln w="19080">
              <a:solidFill>
                <a:srgbClr val="fafd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85520" y="5577480"/>
              <a:ext cx="123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03760" y="555624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= h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Absorption Spectra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69760" y="1179360"/>
            <a:ext cx="6210360" cy="5167080"/>
            <a:chOff x="869760" y="1179360"/>
            <a:chExt cx="6210360" cy="5167080"/>
          </a:xfrm>
        </p:grpSpPr>
        <p:pic>
          <p:nvPicPr>
            <p:cNvPr id="200" name="" descr="Infrared absorption spectra for various gases"/>
            <p:cNvPicPr/>
            <p:nvPr/>
          </p:nvPicPr>
          <p:blipFill>
            <a:blip r:embed="rId1"/>
            <a:stretch/>
          </p:blipFill>
          <p:spPr>
            <a:xfrm>
              <a:off x="1179720" y="1179360"/>
              <a:ext cx="5576760" cy="45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2757600" y="1371600"/>
              <a:ext cx="379440" cy="39686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989600" y="1347840"/>
              <a:ext cx="0" cy="4875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13640" y="5826240"/>
              <a:ext cx="216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arth’s thermal spectru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909880" y="1372680"/>
              <a:ext cx="0" cy="48754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9760" y="5797440"/>
              <a:ext cx="205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n’s thermal spectru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749280" y="45594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ter is the mos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ant greenhouse ga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8560" y="63360"/>
            <a:ext cx="71629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Greenhouse Effec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3772080"/>
            <a:ext cx="79880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radiation from the earth (infrared) is absorbed by certain gases in our atmosphere (such as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redirected back to eart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se ‘greenhouse gases’ provide additional warming to our planet - essential for life as we know i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adiation from the sun is not affected much by the greenhouse gases because it has a much different frequency spectru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rs has a thin atmosphere with few greenhouse gases:  7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in the day and -13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at night.  Venus has lots of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:  T = 800° 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3240" y="1406520"/>
            <a:ext cx="1612800" cy="161136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05360" y="1995480"/>
            <a:ext cx="8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146400" y="1119240"/>
            <a:ext cx="2330640" cy="2214000"/>
            <a:chOff x="3146400" y="1119240"/>
            <a:chExt cx="2330640" cy="2214000"/>
          </a:xfrm>
        </p:grpSpPr>
        <p:sp>
          <p:nvSpPr>
            <p:cNvPr id="212" name=""/>
            <p:cNvSpPr/>
            <p:nvPr/>
          </p:nvSpPr>
          <p:spPr>
            <a:xfrm>
              <a:off x="3152880" y="1949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79920" y="1126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71960" y="31683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68760" y="30906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98840" y="32446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24440" y="28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24360" y="3152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21440" y="2550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37000" y="233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00560" y="206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78440" y="1119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19680" y="1450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13240" y="2822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16560" y="13032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10040" y="1298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97600" y="16318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73640" y="16999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3072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44840" y="1400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32040" y="15397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3680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02040" y="132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67000" y="16081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95520" y="19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7080" y="21891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46400" y="2354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91120" y="3000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70320" y="24825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88120" y="20700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51120" y="28000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27520" y="29397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65640" y="276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603680" y="3058920"/>
              <a:ext cx="90720" cy="8064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210280" y="220176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373280" y="933120"/>
            <a:ext cx="1116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960800" y="1302840"/>
            <a:ext cx="405000" cy="31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339800" y="3057480"/>
            <a:ext cx="1800" cy="3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62680" y="2679840"/>
            <a:ext cx="393480" cy="35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3532320" y="1165320"/>
            <a:ext cx="31248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98800" y="2171880"/>
            <a:ext cx="504720" cy="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319200" y="2720880"/>
            <a:ext cx="3603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089680" y="1814400"/>
            <a:ext cx="304560" cy="181080"/>
            <a:chOff x="5089680" y="1814400"/>
            <a:chExt cx="304560" cy="181080"/>
          </a:xfrm>
        </p:grpSpPr>
        <p:sp>
          <p:nvSpPr>
            <p:cNvPr id="254" name=""/>
            <p:cNvSpPr/>
            <p:nvPr/>
          </p:nvSpPr>
          <p:spPr>
            <a:xfrm>
              <a:off x="5089680" y="1814400"/>
              <a:ext cx="304560" cy="18108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0" y="41"/>
                  </a:moveTo>
                  <a:lnTo>
                    <a:pt x="44" y="27"/>
                  </a:lnTo>
                  <a:lnTo>
                    <a:pt x="82" y="13"/>
                  </a:lnTo>
                  <a:lnTo>
                    <a:pt x="120" y="4"/>
                  </a:lnTo>
                  <a:lnTo>
                    <a:pt x="147" y="0"/>
                  </a:lnTo>
                  <a:lnTo>
                    <a:pt x="169" y="2"/>
                  </a:lnTo>
                  <a:lnTo>
                    <a:pt x="180" y="9"/>
                  </a:lnTo>
                  <a:lnTo>
                    <a:pt x="191" y="20"/>
                  </a:lnTo>
                  <a:lnTo>
                    <a:pt x="191" y="31"/>
                  </a:lnTo>
                  <a:lnTo>
                    <a:pt x="191" y="43"/>
                  </a:lnTo>
                  <a:lnTo>
                    <a:pt x="185" y="59"/>
                  </a:lnTo>
                  <a:lnTo>
                    <a:pt x="174" y="72"/>
                  </a:lnTo>
                  <a:lnTo>
                    <a:pt x="163" y="86"/>
                  </a:lnTo>
                  <a:lnTo>
                    <a:pt x="131" y="99"/>
                  </a:lnTo>
                  <a:lnTo>
                    <a:pt x="93" y="1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245200" y="1957320"/>
              <a:ext cx="7128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875040" y="2997360"/>
            <a:ext cx="217440" cy="266400"/>
            <a:chOff x="3875040" y="2997360"/>
            <a:chExt cx="217440" cy="266400"/>
          </a:xfrm>
        </p:grpSpPr>
        <p:sp>
          <p:nvSpPr>
            <p:cNvPr id="257" name=""/>
            <p:cNvSpPr/>
            <p:nvPr/>
          </p:nvSpPr>
          <p:spPr>
            <a:xfrm>
              <a:off x="3875040" y="2997360"/>
              <a:ext cx="217440" cy="266400"/>
            </a:xfrm>
            <a:custGeom>
              <a:avLst/>
              <a:gdLst/>
              <a:ahLst/>
              <a:rect l="l" t="t" r="r" b="b"/>
              <a:pathLst>
                <a:path w="137" h="168">
                  <a:moveTo>
                    <a:pt x="136" y="0"/>
                  </a:moveTo>
                  <a:lnTo>
                    <a:pt x="120" y="46"/>
                  </a:lnTo>
                  <a:lnTo>
                    <a:pt x="99" y="85"/>
                  </a:lnTo>
                  <a:lnTo>
                    <a:pt x="82" y="121"/>
                  </a:lnTo>
                  <a:lnTo>
                    <a:pt x="66" y="146"/>
                  </a:lnTo>
                  <a:lnTo>
                    <a:pt x="49" y="160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12" y="163"/>
                  </a:lnTo>
                  <a:lnTo>
                    <a:pt x="8" y="153"/>
                  </a:lnTo>
                  <a:lnTo>
                    <a:pt x="4" y="138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12" y="67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890880" y="3052080"/>
              <a:ext cx="23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386160" y="1581120"/>
            <a:ext cx="214200" cy="241200"/>
            <a:chOff x="3386160" y="1581120"/>
            <a:chExt cx="214200" cy="241200"/>
          </a:xfrm>
        </p:grpSpPr>
        <p:sp>
          <p:nvSpPr>
            <p:cNvPr id="260" name=""/>
            <p:cNvSpPr/>
            <p:nvPr/>
          </p:nvSpPr>
          <p:spPr>
            <a:xfrm>
              <a:off x="3386160" y="1581120"/>
              <a:ext cx="214200" cy="24120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134" y="151"/>
                  </a:moveTo>
                  <a:lnTo>
                    <a:pt x="98" y="130"/>
                  </a:lnTo>
                  <a:lnTo>
                    <a:pt x="61" y="107"/>
                  </a:lnTo>
                  <a:lnTo>
                    <a:pt x="32" y="88"/>
                  </a:lnTo>
                  <a:lnTo>
                    <a:pt x="11" y="69"/>
                  </a:lnTo>
                  <a:lnTo>
                    <a:pt x="0" y="53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7" y="15"/>
                  </a:lnTo>
                  <a:lnTo>
                    <a:pt x="18" y="7"/>
                  </a:lnTo>
                  <a:lnTo>
                    <a:pt x="32" y="3"/>
                  </a:lnTo>
                  <a:lnTo>
                    <a:pt x="51" y="0"/>
                  </a:lnTo>
                  <a:lnTo>
                    <a:pt x="65" y="3"/>
                  </a:lnTo>
                  <a:lnTo>
                    <a:pt x="83" y="7"/>
                  </a:lnTo>
                  <a:lnTo>
                    <a:pt x="98" y="13"/>
                  </a:lnTo>
                  <a:lnTo>
                    <a:pt x="116" y="23"/>
                  </a:lnTo>
                  <a:lnTo>
                    <a:pt x="130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17920" y="1598400"/>
              <a:ext cx="6660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H="1">
            <a:off x="6279840" y="156384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325920" y="217188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286320" y="1843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341760" y="2500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348240" y="3098880"/>
            <a:ext cx="88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345000" y="279396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20040" y="2055960"/>
            <a:ext cx="73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8T16:34:34Z</dcterms:modified>
  <cp:revision>27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