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2BA356-5B2B-4107-B301-3ECBD536E84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9591854D-2BD6-448A-9272-4D1065F897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9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9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0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20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05" name="Object 15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06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20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20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20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217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218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219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1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2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227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228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2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3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36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37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38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0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1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2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46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47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0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1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2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55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56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57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65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66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8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74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75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76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1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84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85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6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3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4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5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6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Rectangle 112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Rectangle 113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Text Box 114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0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1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2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3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4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2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3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1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2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39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1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7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48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49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50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51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59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60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68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69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76" name="Object 37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77" name="Object 38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3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81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82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83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84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85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1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93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94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402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403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411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412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413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421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422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430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431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7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39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40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41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7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49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50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58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59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6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67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68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69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77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78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86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87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95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96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97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3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505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506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514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515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523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524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525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533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534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42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43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0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51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2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3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4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5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6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7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8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9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0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61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2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3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4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5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6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7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68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9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0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571" name="Text Box 404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2" name="Text Box 405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3" name="Text Box 406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4" name="Text Box 407"/>
          <p:cNvSpPr/>
          <p:nvPr/>
        </p:nvSpPr>
        <p:spPr>
          <a:xfrm>
            <a:off x="7376040" y="391644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78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79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80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1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2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3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84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587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88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9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0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1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2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3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4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5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96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60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1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61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1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61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2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3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63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3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5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5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5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5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5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6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6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6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67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0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3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4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86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8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9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0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49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2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3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2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5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6" name="Object 19"/>
          <p:cNvGraphicFramePr/>
          <p:nvPr/>
        </p:nvGraphicFramePr>
        <p:xfrm>
          <a:off x="770256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0256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94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97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98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99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700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5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6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7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8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709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710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12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25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26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27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8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9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30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2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4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40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4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4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Rectangle 13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0" name="Object 17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4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55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56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58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59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1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65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6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70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71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72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3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8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8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8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8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8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9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9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9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0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05" name="Rectangle 31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10" name="Rectangle 30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11" name="Group 31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81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81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1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1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81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82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2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2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2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3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84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4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4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4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4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84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9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60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61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4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5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5208480" y="187200"/>
          <a:ext cx="1343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187200"/>
                    <a:ext cx="134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4"/>
          <p:cNvGraphicFramePr/>
          <p:nvPr/>
        </p:nvGraphicFramePr>
        <p:xfrm>
          <a:off x="6058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8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9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0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2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97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98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99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0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1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6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2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3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24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25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34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38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48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3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55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57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7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5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6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7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8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9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0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1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3-31T18:40:22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