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EED40C91-EB54-4D85-86B1-4BFE200B8A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first part as an exercise, and only the second as a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ca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+ 68 kcal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86 kJ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=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ballo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:  4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  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elta_E per He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4.5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H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.7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m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_E /g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.03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kg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+ 2 e --&gt;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+ 2 neutrinos + 6 ph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released in each separate reaction has been measured. The net energy release is 26 MeV (corresponds to 4.1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/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to ponder:  </a:t>
            </a:r>
            <a:r>
              <a:rPr b="0" lang="en-US" sz="1200" spc="-1" strike="noStrike">
                <a:solidFill>
                  <a:srgbClr val="00ae00"/>
                </a:solidFill>
                <a:latin typeface="Arial"/>
              </a:rPr>
              <a:t>Why don’t the tables of free energy mention T_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2574DF64-E4C8-4525-B069-AE3B338DCC1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8" name="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199" name="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" name="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0 w 493560"/>
                  <a:gd name="textAreaRight" fmla="*/ 493920 w 4935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2560" y="3357720"/>
            <a:ext cx="75358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it costs energy to create an interstitial-vacancy pair, at low temperature the decrease in F due to entropy gain (increasing the number of available sites) will be smaller than the increase in F due to the energy cost.  Therefore, the free energy will be minimized by “staying at home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- 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1520" y="2505240"/>
            <a:ext cx="1134720" cy="49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527200" y="5160600"/>
            <a:ext cx="0" cy="41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13960" y="5611680"/>
            <a:ext cx="22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As T 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0, the TS term 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becomes unimpor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82720" y="4554360"/>
            <a:ext cx="16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terstitial-vacancy pa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59" name="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63" name="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8" name="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0" name="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0 w 493560"/>
                    <a:gd name="textAreaRight" fmla="*/ 493920 w 49356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lnTo>
                        <a:pt x="0" y="12160"/>
                      </a:lnTo>
                      <a:arcTo wR="12427" hR="9260" stAng="10800000" swAng="5400000"/>
                      <a:lnTo>
                        <a:pt x="15100" y="2900"/>
                      </a:lnTo>
                      <a:lnTo>
                        <a:pt x="15100" y="0"/>
                      </a:lnTo>
                      <a:lnTo>
                        <a:pt x="21600" y="6079"/>
                      </a:lnTo>
                      <a:lnTo>
                        <a:pt x="15100" y="12158"/>
                      </a:lnTo>
                      <a:lnTo>
                        <a:pt x="15100" y="9258"/>
                      </a:lnTo>
                      <a:lnTo>
                        <a:pt x="12427" y="9258"/>
                      </a:lnTo>
                      <a:arcTo wR="6069" hR="2902" stAng="16200000" swAng="-5400000"/>
                      <a:lnTo>
                        <a:pt x="6358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1" name="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2400" y="254160"/>
            <a:ext cx="84963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call: 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7520" y="6454800"/>
            <a:ext cx="61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</a:rPr>
              <a:t>This is not Robert Stirling (“Stirling engine”) but James Stirling, Scottish mathematicia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540560" y="5299200"/>
            <a:ext cx="12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rivative is only defined for large 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66840" y="5316480"/>
          <a:ext cx="70167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5316480"/>
                    <a:ext cx="7016760" cy="617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473040" y="5095800"/>
            <a:ext cx="1028880" cy="1015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541920" y="5187960"/>
            <a:ext cx="81936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6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8" name="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70400" y="5372280"/>
            <a:ext cx="2117520" cy="387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9440" y="5811840"/>
            <a:ext cx="844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2 in the Boltzman factor came from the fact that the vacancy sites and interstitial locations were independent. If instead their locations are correlated, the allowable temperature will essentially dou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7" name="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78" name="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79" name="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9" name="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8" name="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418" name="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8" name="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58" name="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 flipV="1">
            <a:off x="3656880" y="4888800"/>
            <a:ext cx="1695960" cy="97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3" y="5657"/>
                </a:moveTo>
                <a:arcTo wR="10800" hR="10800" stAng="-9093663" swAng="7311620"/>
                <a:lnTo>
                  <a:pt x="10800" y="10800"/>
                </a:lnTo>
                <a:close/>
              </a:path>
              <a:path fill="none" w="21600" h="21600">
                <a:moveTo>
                  <a:pt x="1303" y="5657"/>
                </a:moveTo>
                <a:arcTo wR="10800" hR="10800" stAng="-9093663" swAng="7311620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414360" y="797040"/>
            <a:ext cx="7610400" cy="56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Equilibrium corresponds to maximum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=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+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small system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aw that minimizing F is equivalent to maximizing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but with the advantage that we don’t have to deal explicitly with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reservoir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now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wo small systems in equilibrium with a reservoir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(not shown) at temperature T.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quilibrium at temperature           T is given by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minimizing total fre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F = 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e derivative of free energy with respect to particle number i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o important that we define a special name and symbol for i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15552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7201800" y="4183920"/>
            <a:ext cx="1962360" cy="983160"/>
            <a:chOff x="7201800" y="4183920"/>
            <a:chExt cx="1962360" cy="983160"/>
          </a:xfrm>
        </p:grpSpPr>
        <p:grpSp>
          <p:nvGrpSpPr>
            <p:cNvPr id="467" name=""/>
            <p:cNvGrpSpPr/>
            <p:nvPr/>
          </p:nvGrpSpPr>
          <p:grpSpPr>
            <a:xfrm>
              <a:off x="8430840" y="4438440"/>
              <a:ext cx="733320" cy="263160"/>
              <a:chOff x="8430840" y="4438440"/>
              <a:chExt cx="733320" cy="263160"/>
            </a:xfrm>
          </p:grpSpPr>
          <p:sp>
            <p:nvSpPr>
              <p:cNvPr id="468" name=""/>
              <p:cNvSpPr/>
              <p:nvPr/>
            </p:nvSpPr>
            <p:spPr>
              <a:xfrm>
                <a:off x="8539920" y="457956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430840" y="443844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7765920" y="4579920"/>
              <a:ext cx="675000" cy="447480"/>
            </a:xfrm>
            <a:custGeom>
              <a:avLst/>
              <a:gdLst/>
              <a:ahLst/>
              <a:rect l="l" t="t" r="r" b="b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01800" y="418392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486560" y="433692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96280" y="4527360"/>
              <a:ext cx="118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7303320" y="2903400"/>
            <a:ext cx="1702440" cy="843840"/>
            <a:chOff x="7303320" y="2903400"/>
            <a:chExt cx="1702440" cy="843840"/>
          </a:xfrm>
        </p:grpSpPr>
        <p:grpSp>
          <p:nvGrpSpPr>
            <p:cNvPr id="475" name=""/>
            <p:cNvGrpSpPr/>
            <p:nvPr/>
          </p:nvGrpSpPr>
          <p:grpSpPr>
            <a:xfrm>
              <a:off x="7303320" y="2903400"/>
              <a:ext cx="1702440" cy="843840"/>
              <a:chOff x="7303320" y="2903400"/>
              <a:chExt cx="1702440" cy="84384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7303320" y="3549240"/>
                <a:ext cx="740160" cy="188280"/>
                <a:chOff x="7303320" y="3549240"/>
                <a:chExt cx="740160" cy="18828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7303320" y="354924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414560" y="361548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267040" y="3558600"/>
                <a:ext cx="738720" cy="188640"/>
                <a:chOff x="8267040" y="3558600"/>
                <a:chExt cx="738720" cy="18864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8267040" y="35586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376840" y="362520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7327800" y="2903400"/>
                <a:ext cx="1523520" cy="570960"/>
                <a:chOff x="7327800" y="2903400"/>
                <a:chExt cx="1523520" cy="570960"/>
              </a:xfrm>
            </p:grpSpPr>
            <p:grpSp>
              <p:nvGrpSpPr>
                <p:cNvPr id="483" name=""/>
                <p:cNvGrpSpPr/>
                <p:nvPr/>
              </p:nvGrpSpPr>
              <p:grpSpPr>
                <a:xfrm>
                  <a:off x="7327800" y="2903400"/>
                  <a:ext cx="1523520" cy="570960"/>
                  <a:chOff x="7327800" y="2903400"/>
                  <a:chExt cx="1523520" cy="57096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>
                    <a:off x="7327800" y="290340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7327800" y="290340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6" name=""/>
                  <p:cNvGrpSpPr/>
                  <p:nvPr/>
                </p:nvGrpSpPr>
                <p:grpSpPr>
                  <a:xfrm>
                    <a:off x="8051400" y="2903400"/>
                    <a:ext cx="1440" cy="570600"/>
                    <a:chOff x="8051400" y="2903400"/>
                    <a:chExt cx="1440" cy="570600"/>
                  </a:xfrm>
                </p:grpSpPr>
                <p:sp>
                  <p:nvSpPr>
                    <p:cNvPr id="487" name=""/>
                    <p:cNvSpPr/>
                    <p:nvPr/>
                  </p:nvSpPr>
                  <p:spPr>
                    <a:xfrm>
                      <a:off x="8051400" y="290340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>
                      <a:off x="8051400" y="324576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9" name=""/>
                  <p:cNvSpPr/>
                  <p:nvPr/>
                </p:nvSpPr>
                <p:spPr>
                  <a:xfrm>
                    <a:off x="7340400" y="346176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8051400" y="314460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8051400" y="32457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92" name=""/>
                  <p:cNvGrpSpPr/>
                  <p:nvPr/>
                </p:nvGrpSpPr>
                <p:grpSpPr>
                  <a:xfrm>
                    <a:off x="8470440" y="2903400"/>
                    <a:ext cx="1440" cy="570600"/>
                    <a:chOff x="8470440" y="2903400"/>
                    <a:chExt cx="1440" cy="570600"/>
                  </a:xfrm>
                </p:grpSpPr>
                <p:sp>
                  <p:nvSpPr>
                    <p:cNvPr id="493" name=""/>
                    <p:cNvSpPr/>
                    <p:nvPr/>
                  </p:nvSpPr>
                  <p:spPr>
                    <a:xfrm>
                      <a:off x="8470440" y="290340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>
                      <a:off x="8470440" y="324576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95" name=""/>
                  <p:cNvSpPr/>
                  <p:nvPr/>
                </p:nvSpPr>
                <p:spPr>
                  <a:xfrm>
                    <a:off x="8470440" y="290340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8484840" y="346176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8838720" y="290340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8" name=""/>
                <p:cNvSpPr/>
                <p:nvPr/>
              </p:nvSpPr>
              <p:spPr>
                <a:xfrm>
                  <a:off x="7543440" y="316980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695720" y="332208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353000" y="329652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708680" y="303012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518240" y="296676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7860960" y="323316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8675280" y="300492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546760" y="314460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8686440" y="33346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7" name=""/>
            <p:cNvSpPr/>
            <p:nvPr/>
          </p:nvSpPr>
          <p:spPr>
            <a:xfrm flipV="1">
              <a:off x="8129520" y="304452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604800" y="5499000"/>
            <a:ext cx="5294520" cy="633240"/>
            <a:chOff x="604800" y="5499000"/>
            <a:chExt cx="5294520" cy="633240"/>
          </a:xfrm>
        </p:grpSpPr>
        <p:grpSp>
          <p:nvGrpSpPr>
            <p:cNvPr id="509" name=""/>
            <p:cNvGrpSpPr/>
            <p:nvPr/>
          </p:nvGrpSpPr>
          <p:grpSpPr>
            <a:xfrm>
              <a:off x="695520" y="5520960"/>
              <a:ext cx="5203800" cy="600120"/>
              <a:chOff x="695520" y="5520960"/>
              <a:chExt cx="5203800" cy="600120"/>
            </a:xfrm>
          </p:grpSpPr>
          <p:sp>
            <p:nvSpPr>
              <p:cNvPr id="510" name=""/>
              <p:cNvSpPr/>
              <p:nvPr/>
            </p:nvSpPr>
            <p:spPr>
              <a:xfrm>
                <a:off x="1369080" y="5700600"/>
                <a:ext cx="4530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The chemical potential of subsystem “i”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511" name=""/>
              <p:cNvGraphicFramePr/>
              <p:nvPr/>
            </p:nvGraphicFramePr>
            <p:xfrm>
              <a:off x="695520" y="5520960"/>
              <a:ext cx="833400" cy="600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1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95520" y="5520960"/>
                        <a:ext cx="833400" cy="600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513" name=""/>
            <p:cNvSpPr/>
            <p:nvPr/>
          </p:nvSpPr>
          <p:spPr>
            <a:xfrm>
              <a:off x="604800" y="5499000"/>
              <a:ext cx="5046840" cy="6332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0" y="4245120"/>
            <a:ext cx="8031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43720" indent="-2437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515960" y="4068720"/>
          <a:ext cx="2773440" cy="7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5960" y="4068720"/>
                    <a:ext cx="2773440" cy="76824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17" name=""/>
          <p:cNvGraphicFramePr/>
          <p:nvPr/>
        </p:nvGraphicFramePr>
        <p:xfrm>
          <a:off x="3570120" y="6253200"/>
          <a:ext cx="259272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0120" y="6253200"/>
                    <a:ext cx="2592720" cy="39528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9" name=""/>
          <p:cNvSpPr/>
          <p:nvPr/>
        </p:nvSpPr>
        <p:spPr>
          <a:xfrm>
            <a:off x="912960" y="6245280"/>
            <a:ext cx="25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condi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3080" y="0"/>
            <a:ext cx="6248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reviously…Maximize entropy to find equilibrium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357120" y="2603520"/>
            <a:ext cx="830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Group 4"/>
          <p:cNvGrpSpPr/>
          <p:nvPr/>
        </p:nvGrpSpPr>
        <p:grpSpPr>
          <a:xfrm>
            <a:off x="3079800" y="1047600"/>
            <a:ext cx="2987640" cy="1130400"/>
            <a:chOff x="3079800" y="1047600"/>
            <a:chExt cx="2987640" cy="1130400"/>
          </a:xfrm>
        </p:grpSpPr>
        <p:sp>
          <p:nvSpPr>
            <p:cNvPr id="72" name="Rectangle 5"/>
            <p:cNvSpPr/>
            <p:nvPr/>
          </p:nvSpPr>
          <p:spPr>
            <a:xfrm>
              <a:off x="3079800" y="1047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Rectangle 6"/>
            <p:cNvSpPr/>
            <p:nvPr/>
          </p:nvSpPr>
          <p:spPr>
            <a:xfrm>
              <a:off x="4910040" y="1052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Line 7"/>
            <p:cNvSpPr/>
            <p:nvPr/>
          </p:nvSpPr>
          <p:spPr>
            <a:xfrm>
              <a:off x="4187880" y="1601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Text Box 8"/>
            <p:cNvSpPr/>
            <p:nvPr/>
          </p:nvSpPr>
          <p:spPr>
            <a:xfrm>
              <a:off x="316368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Text Box 9"/>
            <p:cNvSpPr/>
            <p:nvPr/>
          </p:nvSpPr>
          <p:spPr>
            <a:xfrm>
              <a:off x="498420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Line 10"/>
          <p:cNvSpPr/>
          <p:nvPr/>
        </p:nvSpPr>
        <p:spPr>
          <a:xfrm flipV="1">
            <a:off x="4548240" y="1663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3384720" y="2690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 or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12"/>
          <p:cNvGraphicFramePr/>
          <p:nvPr/>
        </p:nvGraphicFramePr>
        <p:xfrm>
          <a:off x="1847880" y="3470400"/>
          <a:ext cx="623232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3470400"/>
                    <a:ext cx="62323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2"/>
          <p:cNvGraphicFramePr/>
          <p:nvPr/>
        </p:nvGraphicFramePr>
        <p:xfrm>
          <a:off x="1909800" y="4473720"/>
          <a:ext cx="509112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9800" y="4473720"/>
                    <a:ext cx="50911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3"/>
          <p:cNvSpPr/>
          <p:nvPr/>
        </p:nvSpPr>
        <p:spPr>
          <a:xfrm>
            <a:off x="420840" y="5638680"/>
            <a:ext cx="83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Now: Allow particle numbers to change, e.g., swap between systems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87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4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95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04720" y="4611600"/>
            <a:ext cx="8018640" cy="22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–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very small, the energy term dominates, and F is minimized by having all particles in the system with the lowest energy, e.g., system 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very big, the entropy term dominates, and F is minimized by allowing the particles to be in both systems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microstate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about for intermediate values of T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3680" y="4076640"/>
            <a:ext cx="3319200" cy="493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81160" y="695160"/>
            <a:ext cx="83088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107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10" name="Object 10"/>
          <p:cNvGraphicFramePr/>
          <p:nvPr/>
        </p:nvGraphicFramePr>
        <p:xfrm>
          <a:off x="461880" y="3624120"/>
          <a:ext cx="347976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624120"/>
                    <a:ext cx="34797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113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114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6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121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122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123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126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129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130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2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33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5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8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39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3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Rectangle 55"/>
          <p:cNvSpPr/>
          <p:nvPr/>
        </p:nvSpPr>
        <p:spPr>
          <a:xfrm>
            <a:off x="3570120" y="5418000"/>
            <a:ext cx="4278600" cy="274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The chemical potential of subsystem “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5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7" name="Object 58"/>
          <p:cNvGraphicFramePr/>
          <p:nvPr/>
        </p:nvGraphicFramePr>
        <p:xfrm>
          <a:off x="6910560" y="5904000"/>
          <a:ext cx="104904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10560" y="5904000"/>
                    <a:ext cx="1049040" cy="4842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62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Group 6"/>
          <p:cNvGrpSpPr/>
          <p:nvPr/>
        </p:nvGrpSpPr>
        <p:grpSpPr>
          <a:xfrm>
            <a:off x="6708600" y="5135400"/>
            <a:ext cx="1737000" cy="479520"/>
            <a:chOff x="6708600" y="5135400"/>
            <a:chExt cx="1737000" cy="479520"/>
          </a:xfrm>
        </p:grpSpPr>
        <p:sp>
          <p:nvSpPr>
            <p:cNvPr id="181" name="Rectangle 7"/>
            <p:cNvSpPr/>
            <p:nvPr/>
          </p:nvSpPr>
          <p:spPr>
            <a:xfrm>
              <a:off x="6708600" y="514008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Rectangle 8"/>
            <p:cNvSpPr/>
            <p:nvPr/>
          </p:nvSpPr>
          <p:spPr>
            <a:xfrm>
              <a:off x="7856640" y="513540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Line 9"/>
            <p:cNvSpPr/>
            <p:nvPr/>
          </p:nvSpPr>
          <p:spPr>
            <a:xfrm>
              <a:off x="7315200" y="5360760"/>
              <a:ext cx="53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Text Box 10"/>
            <p:cNvSpPr/>
            <p:nvPr/>
          </p:nvSpPr>
          <p:spPr>
            <a:xfrm>
              <a:off x="7313040" y="51940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nergy </a:t>
              </a:r>
              <a:br>
                <a:rPr sz="800"/>
              </a:b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articl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8016480" y="5236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Text Box 12"/>
            <p:cNvSpPr/>
            <p:nvPr/>
          </p:nvSpPr>
          <p:spPr>
            <a:xfrm>
              <a:off x="6859080" y="5238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7" name="Arc 13"/>
          <p:cNvSpPr/>
          <p:nvPr/>
        </p:nvSpPr>
        <p:spPr>
          <a:xfrm flipV="1">
            <a:off x="7058160" y="6091200"/>
            <a:ext cx="1052280" cy="230400"/>
          </a:xfrm>
          <a:custGeom>
            <a:avLst/>
            <a:gdLst>
              <a:gd name="textAreaLeft" fmla="*/ 0 w 1052280"/>
              <a:gd name="textAreaRight" fmla="*/ 1052640 w 1052280"/>
              <a:gd name="textAreaTop" fmla="*/ 360 h 230400"/>
              <a:gd name="textAreaBottom" fmla="*/ 231120 h 230400"/>
            </a:gdLst>
            <a:ahLst/>
            <a:rect l="textAreaLeft" t="textAreaTop" r="textAreaRight" b="textAreaBottom"/>
            <a:pathLst>
              <a:path fill="none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</a:path>
              <a:path stroke="0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  <a:lnTo>
                  <a:pt x="19315" y="21600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14"/>
          <p:cNvSpPr/>
          <p:nvPr/>
        </p:nvSpPr>
        <p:spPr>
          <a:xfrm>
            <a:off x="6858000" y="5864400"/>
            <a:ext cx="0" cy="70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5"/>
          <p:cNvSpPr/>
          <p:nvPr/>
        </p:nvSpPr>
        <p:spPr>
          <a:xfrm>
            <a:off x="6858000" y="6559560"/>
            <a:ext cx="145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8140680" y="6343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6820200" y="57722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2-16T22:38:26Z</dcterms:modified>
  <cp:revision>56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