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04FB9E7-C642-41C2-82F0-14981C3D851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187280" y="703440"/>
            <a:ext cx="4631040" cy="347328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7280" y="703440"/>
            <a:ext cx="4631040" cy="347328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7280" y="703440"/>
            <a:ext cx="4631040" cy="347328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5840" y="703440"/>
            <a:ext cx="4630680" cy="347328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5840" y="703440"/>
            <a:ext cx="4630680" cy="347328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5840" y="703440"/>
            <a:ext cx="4630680" cy="347328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C818D62B-07F3-4F1A-BE43-B76CAF39D16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7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7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7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7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8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84"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85" name=""/>
          <p:cNvGraphicFramePr/>
          <p:nvPr/>
        </p:nvGraphicFramePr>
        <p:xfrm>
          <a:off x="2108160" y="4533840"/>
          <a:ext cx="4216320" cy="1836720"/>
        </p:xfrm>
        <a:graphic>
          <a:graphicData uri="http://schemas.openxmlformats.org/presentationml/2006/ole">
            <p:oleObj r:id="rId1" spid="">
              <p:embed/>
              <p:pic>
                <p:nvPicPr>
                  <p:cNvPr id="386"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7"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8T16:33:11Z</dcterms:modified>
  <cp:revision>27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