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2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5.png" ContentType="image/png"/>
  <Override PartName="/ppt/media/image8.wmf" ContentType="image/x-wmf"/>
  <Override PartName="/ppt/media/image11.wmf" ContentType="image/x-wmf"/>
  <Override PartName="/ppt/media/image7.png" ContentType="image/png"/>
  <Override PartName="/ppt/media/image10.wmf" ContentType="image/x-wmf"/>
  <Override PartName="/ppt/media/image6.png" ContentType="image/png"/>
  <Override PartName="/ppt/media/image4.wmf" ContentType="image/x-wmf"/>
  <Override PartName="/ppt/media/image3.wmf" ContentType="image/x-wmf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png" ContentType="image/png"/>
  <Override PartName="/ppt/media/image1.wmf" ContentType="image/x-wmf"/>
  <Override PartName="/ppt/media/image24.wmf" ContentType="image/x-wmf"/>
  <Override PartName="/ppt/media/image25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018240" y="9145440"/>
            <a:ext cx="12805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A4558E6D-CA1B-4BB1-9205-9F97F978DA5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2654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"/>
          <p:cNvSpPr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irling (hand held) - no time for the other Stirling eng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molectric powered f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eam eng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Because number of states ~V^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ill show this explicitly in HW for an ideal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Stirling demo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– it’s probably okay if this gets shifted into Lect. 1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lie Cube Dem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show black  [~10.1], aluminum (not anodized) [~2.8], and mirror [0.7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nt:  You will get the best efficiency for the largest deltaT, and for the largest “compression ratio, 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sldImg"/>
          </p:nvPr>
        </p:nvSpPr>
        <p:spPr>
          <a:xfrm>
            <a:off x="126216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now a Discussion problem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3, p </a:t>
            </a:r>
            <a:fld id="{634AE6C2-8316-47ED-ADA3-F1FADA0AA9D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53920" y="54000"/>
            <a:ext cx="7452000" cy="85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t">
            <a:noAutofit/>
          </a:bodyPr>
          <a:p>
            <a:pPr indent="0" algn="ctr">
              <a:lnSpc>
                <a:spcPct val="120000"/>
              </a:lnSpc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3</a:t>
            </a:r>
            <a:br>
              <a:rPr sz="40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Heat Engines</a:t>
            </a:r>
            <a:br>
              <a:rPr sz="4000"/>
            </a:b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6360" y="2139840"/>
            <a:ext cx="6135840" cy="24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processes and entr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cy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racting work from h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do we define engine efficienc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irling cy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2200" y="5149800"/>
            <a:ext cx="34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4D-E, 10A-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2320" y="58680"/>
            <a:ext cx="83502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 in Quasi-static Heat Flow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30000" y="1093320"/>
            <a:ext cx="8064360" cy="191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V is constant: </a:t>
            </a:r>
            <a:r>
              <a:rPr b="0" lang="en-US" sz="2000" spc="-1" strike="noStrike">
                <a:solidFill>
                  <a:srgbClr val="ffff00"/>
                </a:solidFill>
                <a:latin typeface="Arial Unicode MS"/>
              </a:rPr>
              <a:t>d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ffff00"/>
                </a:solidFill>
                <a:latin typeface="Arial Unicode MS"/>
              </a:rPr>
              <a:t> dU/T = dQ/T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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Arial Unicode MS"/>
                <a:ea typeface="Arial Unicode MS"/>
              </a:rPr>
              <a:t>W = 0, so dU = dQ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 fact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S = dQ/T during any reversibl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quasi-static)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ces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ven if V changes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reason: In a reversible process, 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system plus environment) doesn’t chang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1389240" y="3076560"/>
          <a:ext cx="1806480" cy="179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9240" y="3076560"/>
                    <a:ext cx="1806480" cy="17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Rectangle 9"/>
          <p:cNvSpPr/>
          <p:nvPr/>
        </p:nvSpPr>
        <p:spPr>
          <a:xfrm>
            <a:off x="5118120" y="5506920"/>
            <a:ext cx="2911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for any reversible proc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736560" y="5219640"/>
          <a:ext cx="3987720" cy="88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6560" y="5219640"/>
                    <a:ext cx="3987720" cy="8841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82" name=""/>
          <p:cNvSpPr/>
          <p:nvPr/>
        </p:nvSpPr>
        <p:spPr>
          <a:xfrm>
            <a:off x="3159000" y="3089160"/>
            <a:ext cx="5546880" cy="18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 if process is reversi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servoir is supplying (or absorbing) hea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servoir’s energy gain is the system’s heat los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at’s how they interac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72880" y="57240"/>
            <a:ext cx="85932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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 in Isothermal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35200" y="3922560"/>
            <a:ext cx="68864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fff01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5526360" y="3760920"/>
            <a:ext cx="2982600" cy="2709720"/>
            <a:chOff x="5526360" y="3760920"/>
            <a:chExt cx="2982600" cy="2709720"/>
          </a:xfrm>
        </p:grpSpPr>
        <p:sp>
          <p:nvSpPr>
            <p:cNvPr id="286" name=""/>
            <p:cNvSpPr/>
            <p:nvPr/>
          </p:nvSpPr>
          <p:spPr>
            <a:xfrm>
              <a:off x="6404040" y="3881520"/>
              <a:ext cx="655560" cy="1485720"/>
            </a:xfrm>
            <a:custGeom>
              <a:avLst/>
              <a:gdLst/>
              <a:ahLst/>
              <a:rect l="l" t="t" r="r" b="b"/>
              <a:pathLst>
                <a:path w="413" h="936">
                  <a:moveTo>
                    <a:pt x="0" y="0"/>
                  </a:moveTo>
                  <a:cubicBezTo>
                    <a:pt x="4" y="45"/>
                    <a:pt x="17" y="204"/>
                    <a:pt x="27" y="276"/>
                  </a:cubicBezTo>
                  <a:cubicBezTo>
                    <a:pt x="37" y="348"/>
                    <a:pt x="38" y="366"/>
                    <a:pt x="60" y="430"/>
                  </a:cubicBezTo>
                  <a:cubicBezTo>
                    <a:pt x="82" y="494"/>
                    <a:pt x="124" y="595"/>
                    <a:pt x="159" y="661"/>
                  </a:cubicBezTo>
                  <a:cubicBezTo>
                    <a:pt x="194" y="727"/>
                    <a:pt x="227" y="780"/>
                    <a:pt x="269" y="826"/>
                  </a:cubicBezTo>
                  <a:cubicBezTo>
                    <a:pt x="311" y="872"/>
                    <a:pt x="383" y="913"/>
                    <a:pt x="413" y="9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681960" y="4989600"/>
              <a:ext cx="1591920" cy="65700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948280" y="3916440"/>
              <a:ext cx="0" cy="22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870520" y="6073920"/>
              <a:ext cx="263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526360" y="37609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674120" y="61023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910640" y="5581800"/>
              <a:ext cx="74520" cy="7452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469200" y="4516560"/>
              <a:ext cx="74520" cy="7452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220080" y="45846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774200" y="5708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502320" y="4546440"/>
              <a:ext cx="1452600" cy="1076400"/>
            </a:xfrm>
            <a:custGeom>
              <a:avLst/>
              <a:gdLst/>
              <a:ahLst/>
              <a:rect l="l" t="t" r="r" b="b"/>
              <a:pathLst>
                <a:path w="915" h="678">
                  <a:moveTo>
                    <a:pt x="0" y="0"/>
                  </a:moveTo>
                  <a:cubicBezTo>
                    <a:pt x="16" y="52"/>
                    <a:pt x="33" y="105"/>
                    <a:pt x="48" y="144"/>
                  </a:cubicBezTo>
                  <a:cubicBezTo>
                    <a:pt x="63" y="183"/>
                    <a:pt x="74" y="206"/>
                    <a:pt x="90" y="237"/>
                  </a:cubicBezTo>
                  <a:cubicBezTo>
                    <a:pt x="106" y="268"/>
                    <a:pt x="122" y="298"/>
                    <a:pt x="147" y="330"/>
                  </a:cubicBezTo>
                  <a:cubicBezTo>
                    <a:pt x="172" y="362"/>
                    <a:pt x="207" y="401"/>
                    <a:pt x="240" y="432"/>
                  </a:cubicBezTo>
                  <a:cubicBezTo>
                    <a:pt x="273" y="463"/>
                    <a:pt x="313" y="493"/>
                    <a:pt x="348" y="516"/>
                  </a:cubicBezTo>
                  <a:cubicBezTo>
                    <a:pt x="383" y="539"/>
                    <a:pt x="416" y="553"/>
                    <a:pt x="453" y="570"/>
                  </a:cubicBezTo>
                  <a:cubicBezTo>
                    <a:pt x="490" y="587"/>
                    <a:pt x="518" y="602"/>
                    <a:pt x="570" y="618"/>
                  </a:cubicBezTo>
                  <a:cubicBezTo>
                    <a:pt x="622" y="634"/>
                    <a:pt x="721" y="656"/>
                    <a:pt x="768" y="666"/>
                  </a:cubicBezTo>
                  <a:cubicBezTo>
                    <a:pt x="815" y="676"/>
                    <a:pt x="828" y="673"/>
                    <a:pt x="852" y="675"/>
                  </a:cubicBezTo>
                  <a:cubicBezTo>
                    <a:pt x="876" y="677"/>
                    <a:pt x="902" y="678"/>
                    <a:pt x="915" y="678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837560" y="5619600"/>
              <a:ext cx="79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445800" y="3778200"/>
              <a:ext cx="119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=consta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506520" y="1190520"/>
            <a:ext cx="8427960" cy="15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45000"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pose V &amp; p change but T doesn’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ork is done (d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dV)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at must enter to keep T constant: dQ = dU+d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cial case, ideal ga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an ideal gas, if dT = 0, then dU = 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1160640" y="2568600"/>
          <a:ext cx="3822480" cy="68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0640" y="2568600"/>
                    <a:ext cx="382248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"/>
          <p:cNvGraphicFramePr/>
          <p:nvPr/>
        </p:nvGraphicFramePr>
        <p:xfrm>
          <a:off x="1162080" y="4635360"/>
          <a:ext cx="3670200" cy="155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62080" y="4635360"/>
                    <a:ext cx="3670200" cy="15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"/>
          <p:cNvSpPr/>
          <p:nvPr/>
        </p:nvSpPr>
        <p:spPr>
          <a:xfrm>
            <a:off x="5393880" y="2736720"/>
            <a:ext cx="3449880" cy="39852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emember: This holds for </a:t>
            </a: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quasi-static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processes, in which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system remains near thermal equilibrium at all time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93400" y="58320"/>
            <a:ext cx="8559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53680" y="1269720"/>
            <a:ext cx="8348760" cy="39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The entropy of a gas increases during a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si-static isothermal expansion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tropy of the environme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Consider instead the ‘free’ expansion 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ot quasi-stat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of a gas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total entrop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during this proces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2701800" y="5432400"/>
            <a:ext cx="3048120" cy="797040"/>
            <a:chOff x="2701800" y="5432400"/>
            <a:chExt cx="3048120" cy="797040"/>
          </a:xfrm>
        </p:grpSpPr>
        <p:sp>
          <p:nvSpPr>
            <p:cNvPr id="308" name=""/>
            <p:cNvSpPr/>
            <p:nvPr/>
          </p:nvSpPr>
          <p:spPr>
            <a:xfrm>
              <a:off x="2701800" y="5437080"/>
              <a:ext cx="1117800" cy="51120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403520" y="5511600"/>
              <a:ext cx="89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vacuu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710080" y="5432400"/>
              <a:ext cx="3039840" cy="5094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043440" y="5983200"/>
              <a:ext cx="1657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Remove the barri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827520" y="5438520"/>
              <a:ext cx="0" cy="501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000240" y="551808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553680" y="1269720"/>
            <a:ext cx="8348760" cy="39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The entropy of a gas increases during a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si-static isothermal expansion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tropy of the environme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Consider instead the ‘free’ expansion 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ot quasi-stat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of a gas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total entrop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during this proces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293400" y="58320"/>
            <a:ext cx="8559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2701800" y="5432400"/>
            <a:ext cx="3048120" cy="797040"/>
            <a:chOff x="2701800" y="5432400"/>
            <a:chExt cx="3048120" cy="797040"/>
          </a:xfrm>
        </p:grpSpPr>
        <p:sp>
          <p:nvSpPr>
            <p:cNvPr id="317" name=""/>
            <p:cNvSpPr/>
            <p:nvPr/>
          </p:nvSpPr>
          <p:spPr>
            <a:xfrm>
              <a:off x="2701800" y="5437080"/>
              <a:ext cx="1117800" cy="51120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403520" y="5511600"/>
              <a:ext cx="89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vacuu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710080" y="5432400"/>
              <a:ext cx="3039840" cy="5094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043440" y="5983200"/>
              <a:ext cx="1657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Remove the barri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827520" y="5438520"/>
              <a:ext cx="0" cy="501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000240" y="551808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846720" y="2835360"/>
            <a:ext cx="65710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nergy (heat) leaves the environment, so its entropy decreases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n fact, since the environment and gas have the same T, 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two entropy changes cancel: 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0.  This is a reversible proces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88960" y="2265480"/>
            <a:ext cx="1521000" cy="446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553680" y="1269720"/>
            <a:ext cx="8348760" cy="39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The entropy of a gas increases during a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si-static isothermal expansion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tropy of the environme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Consider instead the ‘free’ expansion 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ot quasi-stat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of a gas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total entrop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during this proces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title"/>
          </p:nvPr>
        </p:nvSpPr>
        <p:spPr>
          <a:xfrm>
            <a:off x="293400" y="58320"/>
            <a:ext cx="8559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846720" y="2835360"/>
            <a:ext cx="65710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nergy (heat) leaves the environment, so its entropy decreases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n fact, since the environment and gas have the same T, 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two entropy changes cancel: 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0.  This is a reversible proces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488960" y="2265480"/>
            <a:ext cx="1521000" cy="446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42040" y="5122800"/>
            <a:ext cx="7485120" cy="11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re is no work or heat flow, so U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gas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is constant.  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T is constant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However, because the volume increases, so does the number of available states,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and therefore S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gas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increases.  Nothing is happening to the environment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refore 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&gt; 0.  This is not a reversible proces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105520" y="4562640"/>
            <a:ext cx="1520640" cy="446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498240" y="1386000"/>
            <a:ext cx="6406920" cy="448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 =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definition of an adiabatic proces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and T both change as the applied pressure chang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example, if p increases (compress the system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decreases, and the associated S also decreases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increases, and the associated S also increa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se two effects must exactly cancel !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y?  Becau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a reversible process, so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 other entropy is changing.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Q = 0, and 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ust moves the piston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a quasi-static adiabatic process,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 =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e: We did not assume that the system is an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deal ga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general resul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157320" y="45720"/>
            <a:ext cx="885024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Quasi-static Adiabatic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7174080" y="2076480"/>
            <a:ext cx="1425240" cy="2185920"/>
            <a:chOff x="7174080" y="2076480"/>
            <a:chExt cx="1425240" cy="2185920"/>
          </a:xfrm>
        </p:grpSpPr>
        <p:sp>
          <p:nvSpPr>
            <p:cNvPr id="334" name=""/>
            <p:cNvSpPr/>
            <p:nvPr/>
          </p:nvSpPr>
          <p:spPr>
            <a:xfrm>
              <a:off x="7286760" y="2198520"/>
              <a:ext cx="787320" cy="841680"/>
            </a:xfrm>
            <a:prstGeom prst="rect">
              <a:avLst/>
            </a:prstGeom>
            <a:noFill/>
            <a:ln w="648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174080" y="2076480"/>
              <a:ext cx="1415880" cy="1825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505640" y="2373480"/>
              <a:ext cx="777960" cy="1161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509600" y="3130560"/>
              <a:ext cx="7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500960" y="2867040"/>
              <a:ext cx="792000" cy="745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891560" y="2408400"/>
              <a:ext cx="0" cy="4539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199280" y="3940200"/>
              <a:ext cx="14000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285840" indent="-285840"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sulated w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1" name=""/>
            <p:cNvGrpSpPr/>
            <p:nvPr/>
          </p:nvGrpSpPr>
          <p:grpSpPr>
            <a:xfrm>
              <a:off x="7494480" y="2774880"/>
              <a:ext cx="800280" cy="762120"/>
              <a:chOff x="7494480" y="2774880"/>
              <a:chExt cx="800280" cy="762120"/>
            </a:xfrm>
          </p:grpSpPr>
          <p:sp>
            <p:nvSpPr>
              <p:cNvPr id="342" name=""/>
              <p:cNvSpPr/>
              <p:nvPr/>
            </p:nvSpPr>
            <p:spPr>
              <a:xfrm>
                <a:off x="7504200" y="2774880"/>
                <a:ext cx="0" cy="76212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8294760" y="2774880"/>
                <a:ext cx="0" cy="76212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7494480" y="3537000"/>
                <a:ext cx="80028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5" name=""/>
          <p:cNvGrpSpPr/>
          <p:nvPr/>
        </p:nvGrpSpPr>
        <p:grpSpPr>
          <a:xfrm>
            <a:off x="6459480" y="4371840"/>
            <a:ext cx="2061720" cy="2091240"/>
            <a:chOff x="6459480" y="4371840"/>
            <a:chExt cx="2061720" cy="2091240"/>
          </a:xfrm>
        </p:grpSpPr>
        <p:sp>
          <p:nvSpPr>
            <p:cNvPr id="346" name=""/>
            <p:cNvSpPr/>
            <p:nvPr/>
          </p:nvSpPr>
          <p:spPr>
            <a:xfrm rot="490800">
              <a:off x="6816240" y="5235480"/>
              <a:ext cx="1184400" cy="47304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rot="789000">
              <a:off x="6835680" y="4805280"/>
              <a:ext cx="1184400" cy="47304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518160" y="4535640"/>
              <a:ext cx="0" cy="1608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459480" y="6086520"/>
              <a:ext cx="1962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486480" y="43718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171280" y="60642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981840" y="4878360"/>
              <a:ext cx="55440" cy="540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553160" y="5672160"/>
              <a:ext cx="55800" cy="540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013520" y="4718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458120" y="57373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rot="702600">
              <a:off x="6927480" y="4962240"/>
              <a:ext cx="731880" cy="677880"/>
            </a:xfrm>
            <a:custGeom>
              <a:avLst/>
              <a:gdLst/>
              <a:ahLst/>
              <a:rect l="l" t="t" r="r" b="b"/>
              <a:pathLst>
                <a:path w="915" h="678">
                  <a:moveTo>
                    <a:pt x="0" y="0"/>
                  </a:moveTo>
                  <a:cubicBezTo>
                    <a:pt x="16" y="52"/>
                    <a:pt x="33" y="105"/>
                    <a:pt x="48" y="144"/>
                  </a:cubicBezTo>
                  <a:cubicBezTo>
                    <a:pt x="63" y="183"/>
                    <a:pt x="74" y="206"/>
                    <a:pt x="90" y="237"/>
                  </a:cubicBezTo>
                  <a:cubicBezTo>
                    <a:pt x="106" y="268"/>
                    <a:pt x="122" y="298"/>
                    <a:pt x="147" y="330"/>
                  </a:cubicBezTo>
                  <a:cubicBezTo>
                    <a:pt x="172" y="362"/>
                    <a:pt x="207" y="401"/>
                    <a:pt x="240" y="432"/>
                  </a:cubicBezTo>
                  <a:cubicBezTo>
                    <a:pt x="273" y="463"/>
                    <a:pt x="313" y="493"/>
                    <a:pt x="348" y="516"/>
                  </a:cubicBezTo>
                  <a:cubicBezTo>
                    <a:pt x="383" y="539"/>
                    <a:pt x="416" y="553"/>
                    <a:pt x="453" y="570"/>
                  </a:cubicBezTo>
                  <a:cubicBezTo>
                    <a:pt x="490" y="587"/>
                    <a:pt x="518" y="602"/>
                    <a:pt x="570" y="618"/>
                  </a:cubicBezTo>
                  <a:cubicBezTo>
                    <a:pt x="622" y="634"/>
                    <a:pt x="721" y="656"/>
                    <a:pt x="768" y="666"/>
                  </a:cubicBezTo>
                  <a:cubicBezTo>
                    <a:pt x="815" y="676"/>
                    <a:pt x="828" y="673"/>
                    <a:pt x="852" y="675"/>
                  </a:cubicBezTo>
                  <a:cubicBezTo>
                    <a:pt x="876" y="677"/>
                    <a:pt x="902" y="678"/>
                    <a:pt x="915" y="678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 flipV="1">
              <a:off x="7013160" y="5113440"/>
              <a:ext cx="34920" cy="1238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923600" y="5226120"/>
              <a:ext cx="389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938000" y="5638680"/>
              <a:ext cx="389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4557600" y="4819680"/>
            <a:ext cx="1173240" cy="425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1650960" y="641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15880" y="1012680"/>
            <a:ext cx="8153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tropy-increasing processes are irreversibl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ecause the reverse processes would reduce entrop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ree-expansion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actually, any particle flow between regions of different density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at flow between two systems with different temperature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72760" y="5688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Irreversible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06520" y="2859120"/>
            <a:ext cx="8157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the four processes of interest he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thermal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Heat flow but no T differenc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versibl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iabatic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Q = 0.  No heat flow at all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versi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chor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amp;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bar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Heat flow between different T’s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rreversi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Assuming that there are only two reservoirs.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630360" y="4664160"/>
            <a:ext cx="7562880" cy="1580040"/>
            <a:chOff x="630360" y="4664160"/>
            <a:chExt cx="7562880" cy="1580040"/>
          </a:xfrm>
        </p:grpSpPr>
        <p:sp>
          <p:nvSpPr>
            <p:cNvPr id="366" name=""/>
            <p:cNvSpPr/>
            <p:nvPr/>
          </p:nvSpPr>
          <p:spPr>
            <a:xfrm>
              <a:off x="1013400" y="5875920"/>
              <a:ext cx="70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reversible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reversible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 irreversible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   irreversib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67" name=""/>
            <p:cNvGrpSpPr/>
            <p:nvPr/>
          </p:nvGrpSpPr>
          <p:grpSpPr>
            <a:xfrm>
              <a:off x="630360" y="4664160"/>
              <a:ext cx="1855800" cy="1329120"/>
              <a:chOff x="630360" y="4664160"/>
              <a:chExt cx="1855800" cy="1329120"/>
            </a:xfrm>
          </p:grpSpPr>
          <p:sp>
            <p:nvSpPr>
              <p:cNvPr id="368" name=""/>
              <p:cNvSpPr/>
              <p:nvPr/>
            </p:nvSpPr>
            <p:spPr>
              <a:xfrm>
                <a:off x="2169720" y="56559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V="1">
                <a:off x="923760" y="4798800"/>
                <a:ext cx="0" cy="879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V="1">
                <a:off x="923760" y="5677920"/>
                <a:ext cx="1454400" cy="6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30360" y="46641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278000" y="4771800"/>
                <a:ext cx="93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sotherm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114560" y="4719600"/>
                <a:ext cx="663480" cy="723240"/>
              </a:xfrm>
              <a:custGeom>
                <a:avLst/>
                <a:gdLst/>
                <a:ahLst/>
                <a:rect l="l" t="t" r="r" b="b"/>
                <a:pathLst>
                  <a:path w="619" h="576">
                    <a:moveTo>
                      <a:pt x="0" y="0"/>
                    </a:moveTo>
                    <a:cubicBezTo>
                      <a:pt x="36" y="115"/>
                      <a:pt x="73" y="231"/>
                      <a:pt x="176" y="327"/>
                    </a:cubicBezTo>
                    <a:cubicBezTo>
                      <a:pt x="279" y="423"/>
                      <a:pt x="449" y="499"/>
                      <a:pt x="619" y="576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2579760" y="4664160"/>
              <a:ext cx="1822680" cy="1337040"/>
              <a:chOff x="2579760" y="4664160"/>
              <a:chExt cx="1822680" cy="1337040"/>
            </a:xfrm>
          </p:grpSpPr>
          <p:sp>
            <p:nvSpPr>
              <p:cNvPr id="375" name=""/>
              <p:cNvSpPr/>
              <p:nvPr/>
            </p:nvSpPr>
            <p:spPr>
              <a:xfrm>
                <a:off x="3122640" y="4763880"/>
                <a:ext cx="493560" cy="747360"/>
              </a:xfrm>
              <a:custGeom>
                <a:avLst/>
                <a:gdLst/>
                <a:ahLst/>
                <a:rect l="l" t="t" r="r" b="b"/>
                <a:pathLst>
                  <a:path w="588" h="533">
                    <a:moveTo>
                      <a:pt x="0" y="0"/>
                    </a:moveTo>
                    <a:cubicBezTo>
                      <a:pt x="57" y="113"/>
                      <a:pt x="114" y="226"/>
                      <a:pt x="212" y="315"/>
                    </a:cubicBezTo>
                    <a:cubicBezTo>
                      <a:pt x="310" y="404"/>
                      <a:pt x="449" y="468"/>
                      <a:pt x="588" y="533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V="1">
                <a:off x="2846520" y="4798800"/>
                <a:ext cx="0" cy="879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V="1">
                <a:off x="2846520" y="5677920"/>
                <a:ext cx="1454040" cy="6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287880" y="4770360"/>
                <a:ext cx="927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diaba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086000" y="56638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579760" y="46641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4438800" y="4686120"/>
              <a:ext cx="2083320" cy="1322640"/>
              <a:chOff x="4438800" y="4686120"/>
              <a:chExt cx="2083320" cy="1322640"/>
            </a:xfrm>
          </p:grpSpPr>
          <p:sp>
            <p:nvSpPr>
              <p:cNvPr id="382" name=""/>
              <p:cNvSpPr/>
              <p:nvPr/>
            </p:nvSpPr>
            <p:spPr>
              <a:xfrm flipV="1">
                <a:off x="4711680" y="4817520"/>
                <a:ext cx="0" cy="88056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711680" y="5698440"/>
                <a:ext cx="147636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V="1">
                <a:off x="5283360" y="4876200"/>
                <a:ext cx="0" cy="5392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5114520" y="4790160"/>
                <a:ext cx="1407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socho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5970240" y="56714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438800" y="46861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8" name=""/>
            <p:cNvGrpSpPr/>
            <p:nvPr/>
          </p:nvGrpSpPr>
          <p:grpSpPr>
            <a:xfrm>
              <a:off x="6392880" y="4701960"/>
              <a:ext cx="1800360" cy="1279800"/>
              <a:chOff x="6392880" y="4701960"/>
              <a:chExt cx="1800360" cy="1279800"/>
            </a:xfrm>
          </p:grpSpPr>
          <p:sp>
            <p:nvSpPr>
              <p:cNvPr id="389" name=""/>
              <p:cNvSpPr/>
              <p:nvPr/>
            </p:nvSpPr>
            <p:spPr>
              <a:xfrm flipV="1">
                <a:off x="6664320" y="4839840"/>
                <a:ext cx="0" cy="8330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V="1">
                <a:off x="6664320" y="5673240"/>
                <a:ext cx="1428840" cy="576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032600" y="5146200"/>
                <a:ext cx="65232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859440" y="4771080"/>
                <a:ext cx="1305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soba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876800" y="56444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392880" y="47019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23880" y="1262160"/>
            <a:ext cx="5106960" cy="255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blocks, each with heat capacity*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 = 1 J/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initially at differen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emperature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50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350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are then placed into contact, and eventually reach a final temperature of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0 K. (Why?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can you say abou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otal change in entropy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lt;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 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6" name="Text Box 12"/>
          <p:cNvSpPr/>
          <p:nvPr/>
        </p:nvSpPr>
        <p:spPr>
          <a:xfrm>
            <a:off x="3508560" y="62640"/>
            <a:ext cx="210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  <a:ea typeface="MS PGothic"/>
              </a:rPr>
              <a:t>ACT 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5429520" y="1363320"/>
            <a:ext cx="3331800" cy="2293560"/>
            <a:chOff x="5429520" y="1363320"/>
            <a:chExt cx="3331800" cy="2293560"/>
          </a:xfrm>
        </p:grpSpPr>
        <p:sp>
          <p:nvSpPr>
            <p:cNvPr id="398" name="Text Box 4"/>
            <p:cNvSpPr/>
            <p:nvPr/>
          </p:nvSpPr>
          <p:spPr>
            <a:xfrm>
              <a:off x="5429520" y="1448280"/>
              <a:ext cx="9903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Text Box 5"/>
            <p:cNvSpPr/>
            <p:nvPr/>
          </p:nvSpPr>
          <p:spPr>
            <a:xfrm>
              <a:off x="6494760" y="1449720"/>
              <a:ext cx="9903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Text Box 6"/>
            <p:cNvSpPr/>
            <p:nvPr/>
          </p:nvSpPr>
          <p:spPr>
            <a:xfrm>
              <a:off x="5793840" y="2269080"/>
              <a:ext cx="9489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Text Box 7"/>
            <p:cNvSpPr/>
            <p:nvPr/>
          </p:nvSpPr>
          <p:spPr>
            <a:xfrm>
              <a:off x="6210000" y="2269080"/>
              <a:ext cx="9489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Text Box 8"/>
            <p:cNvSpPr/>
            <p:nvPr/>
          </p:nvSpPr>
          <p:spPr>
            <a:xfrm>
              <a:off x="7335720" y="1363320"/>
              <a:ext cx="1425600" cy="13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250K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350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  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f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300 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Text Box 13"/>
            <p:cNvSpPr/>
            <p:nvPr/>
          </p:nvSpPr>
          <p:spPr>
            <a:xfrm>
              <a:off x="6391440" y="2832840"/>
              <a:ext cx="2226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wo masses each with heat capacity </a:t>
              </a:r>
              <a:br>
                <a:rPr sz="1600"/>
              </a:br>
              <a:r>
                <a:rPr b="0" lang="en-US" sz="16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C = 1J/K*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4" name="Text Box 14"/>
          <p:cNvSpPr/>
          <p:nvPr/>
        </p:nvSpPr>
        <p:spPr>
          <a:xfrm>
            <a:off x="211680" y="6404040"/>
            <a:ext cx="52556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cc"/>
                </a:solidFill>
                <a:latin typeface="Arial"/>
                <a:ea typeface="MS PGothic"/>
              </a:rPr>
              <a:t>*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For a solid, C = C</a:t>
            </a:r>
            <a:r>
              <a:rPr b="1" lang="en-US" sz="1200" spc="-1" strike="noStrike" baseline="-25000">
                <a:solidFill>
                  <a:srgbClr val="00ffcc"/>
                </a:solidFill>
                <a:latin typeface="Arial"/>
                <a:ea typeface="MS PGothic"/>
              </a:rPr>
              <a:t>V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 = C</a:t>
            </a:r>
            <a:r>
              <a:rPr b="1" lang="en-US" sz="1200" spc="-1" strike="noStrike" baseline="-25000">
                <a:solidFill>
                  <a:srgbClr val="00ffcc"/>
                </a:solidFill>
                <a:latin typeface="Arial"/>
                <a:ea typeface="MS PGothic"/>
              </a:rPr>
              <a:t>p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, to good approximation, since </a:t>
            </a:r>
            <a:r>
              <a:rPr b="1" lang="en-US" sz="12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V </a:t>
            </a:r>
            <a:r>
              <a:rPr b="1" lang="en-US" sz="1200" spc="-1" strike="noStrike">
                <a:solidFill>
                  <a:srgbClr val="00ffcc"/>
                </a:solidFill>
                <a:latin typeface="Symbol"/>
                <a:ea typeface="Symbol"/>
              </a:rPr>
              <a:t>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 0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3880" y="1262160"/>
            <a:ext cx="5106960" cy="255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blocks, each with heat capacity*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 = 1 J/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initially at differen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emperature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50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350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are then placed into contact, and eventually reach a final temperature of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0 K. (Why?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can you say abou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otal change in entropy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lt;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 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6" name="Text Box 12"/>
          <p:cNvSpPr/>
          <p:nvPr/>
        </p:nvSpPr>
        <p:spPr>
          <a:xfrm>
            <a:off x="3200040" y="62640"/>
            <a:ext cx="271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  <a:ea typeface="MS PGothic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29520" y="1363320"/>
            <a:ext cx="3331800" cy="2293560"/>
            <a:chOff x="5429520" y="1363320"/>
            <a:chExt cx="3331800" cy="2293560"/>
          </a:xfrm>
        </p:grpSpPr>
        <p:sp>
          <p:nvSpPr>
            <p:cNvPr id="408" name="Text Box 4"/>
            <p:cNvSpPr/>
            <p:nvPr/>
          </p:nvSpPr>
          <p:spPr>
            <a:xfrm>
              <a:off x="5429520" y="1448280"/>
              <a:ext cx="9903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Text Box 5"/>
            <p:cNvSpPr/>
            <p:nvPr/>
          </p:nvSpPr>
          <p:spPr>
            <a:xfrm>
              <a:off x="6494760" y="1449720"/>
              <a:ext cx="9903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Text Box 6"/>
            <p:cNvSpPr/>
            <p:nvPr/>
          </p:nvSpPr>
          <p:spPr>
            <a:xfrm>
              <a:off x="5793840" y="2269080"/>
              <a:ext cx="9489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Text Box 7"/>
            <p:cNvSpPr/>
            <p:nvPr/>
          </p:nvSpPr>
          <p:spPr>
            <a:xfrm>
              <a:off x="6210000" y="2269080"/>
              <a:ext cx="9489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Text Box 8"/>
            <p:cNvSpPr/>
            <p:nvPr/>
          </p:nvSpPr>
          <p:spPr>
            <a:xfrm>
              <a:off x="7335720" y="1363320"/>
              <a:ext cx="1425600" cy="13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250K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350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  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f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300 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Text Box 13"/>
            <p:cNvSpPr/>
            <p:nvPr/>
          </p:nvSpPr>
          <p:spPr>
            <a:xfrm>
              <a:off x="6391440" y="2832840"/>
              <a:ext cx="2226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wo masses each with heat capacity </a:t>
              </a:r>
              <a:br>
                <a:rPr sz="1600"/>
              </a:br>
              <a:r>
                <a:rPr b="0" lang="en-US" sz="16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C = 1J/K*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4" name="Text Box 14"/>
          <p:cNvSpPr/>
          <p:nvPr/>
        </p:nvSpPr>
        <p:spPr>
          <a:xfrm>
            <a:off x="223560" y="6404040"/>
            <a:ext cx="52412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  <a:ea typeface="MS PGothic"/>
              </a:rPr>
              <a:t>*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For a solid, C = C</a:t>
            </a:r>
            <a:r>
              <a:rPr b="0" lang="en-US" sz="1200" spc="-1" strike="noStrike" baseline="-25000">
                <a:solidFill>
                  <a:srgbClr val="00ffcc"/>
                </a:solidFill>
                <a:latin typeface="Arial"/>
                <a:ea typeface="MS PGothic"/>
              </a:rPr>
              <a:t>V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 = C</a:t>
            </a:r>
            <a:r>
              <a:rPr b="0" lang="en-US" sz="1200" spc="-1" strike="noStrike" baseline="-25000">
                <a:solidFill>
                  <a:srgbClr val="00ffcc"/>
                </a:solidFill>
                <a:latin typeface="Arial"/>
                <a:ea typeface="MS PGothic"/>
              </a:rPr>
              <a:t>p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, to good approximation, because </a:t>
            </a:r>
            <a:r>
              <a:rPr b="0" lang="en-US" sz="12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V </a:t>
            </a:r>
            <a:r>
              <a:rPr b="0" lang="en-US" sz="1200" spc="-1" strike="noStrike">
                <a:solidFill>
                  <a:srgbClr val="00ffcc"/>
                </a:solidFill>
                <a:latin typeface="Symbol"/>
                <a:ea typeface="Symbol"/>
              </a:rPr>
              <a:t>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 0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194000" y="3384720"/>
            <a:ext cx="1468440" cy="5364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Text Box 9"/>
          <p:cNvSpPr/>
          <p:nvPr/>
        </p:nvSpPr>
        <p:spPr>
          <a:xfrm>
            <a:off x="550800" y="4035600"/>
            <a:ext cx="752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MS PGothic"/>
              </a:rPr>
              <a:t>This is an irreversible process, so there must be a net increase in entropy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MS PGothic"/>
              </a:rPr>
              <a:t>Let’s calculate 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MS PGothic"/>
              </a:rPr>
              <a:t>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17" name=""/>
          <p:cNvGraphicFramePr/>
          <p:nvPr/>
        </p:nvGraphicFramePr>
        <p:xfrm>
          <a:off x="2544840" y="4433760"/>
          <a:ext cx="4048200" cy="178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4840" y="4433760"/>
                    <a:ext cx="4048200" cy="17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9" name=""/>
          <p:cNvSpPr/>
          <p:nvPr/>
        </p:nvSpPr>
        <p:spPr>
          <a:xfrm>
            <a:off x="5578920" y="5076720"/>
            <a:ext cx="255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positive term is slightly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gger than the negative term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1650960" y="641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08840" y="1994040"/>
            <a:ext cx="329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chor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volum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88800" y="55080"/>
            <a:ext cx="838224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A Review of Some Thermodynamic Processes of an Ideal Ga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4902120" y="2227320"/>
            <a:ext cx="2030400" cy="1703880"/>
            <a:chOff x="4902120" y="2227320"/>
            <a:chExt cx="2030400" cy="1703880"/>
          </a:xfrm>
        </p:grpSpPr>
        <p:sp>
          <p:nvSpPr>
            <p:cNvPr id="424" name=""/>
            <p:cNvSpPr/>
            <p:nvPr/>
          </p:nvSpPr>
          <p:spPr>
            <a:xfrm>
              <a:off x="5999400" y="353232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5311800" y="2227320"/>
              <a:ext cx="0" cy="1239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5311800" y="3455640"/>
              <a:ext cx="1620720" cy="11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902120" y="268452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6067440" y="2816280"/>
              <a:ext cx="0" cy="3888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6067440" y="2552760"/>
              <a:ext cx="0" cy="326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135840" y="3124440"/>
              <a:ext cx="25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148440" y="2344680"/>
              <a:ext cx="19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997600" y="2422440"/>
              <a:ext cx="138240" cy="1270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997600" y="3205080"/>
              <a:ext cx="138240" cy="1270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434" name=""/>
          <p:cNvGraphicFramePr/>
          <p:nvPr/>
        </p:nvGraphicFramePr>
        <p:xfrm>
          <a:off x="1187280" y="2517840"/>
          <a:ext cx="2587680" cy="12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517840"/>
                    <a:ext cx="2587680" cy="12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6" name=""/>
          <p:cNvGrpSpPr/>
          <p:nvPr/>
        </p:nvGrpSpPr>
        <p:grpSpPr>
          <a:xfrm>
            <a:off x="7088040" y="2463840"/>
            <a:ext cx="1432080" cy="1385280"/>
            <a:chOff x="7088040" y="2463840"/>
            <a:chExt cx="1432080" cy="1385280"/>
          </a:xfrm>
        </p:grpSpPr>
        <p:grpSp>
          <p:nvGrpSpPr>
            <p:cNvPr id="437" name=""/>
            <p:cNvGrpSpPr/>
            <p:nvPr/>
          </p:nvGrpSpPr>
          <p:grpSpPr>
            <a:xfrm>
              <a:off x="7601040" y="2463840"/>
              <a:ext cx="641160" cy="881640"/>
              <a:chOff x="7601040" y="2463840"/>
              <a:chExt cx="641160" cy="881640"/>
            </a:xfrm>
          </p:grpSpPr>
          <p:grpSp>
            <p:nvGrpSpPr>
              <p:cNvPr id="438" name=""/>
              <p:cNvGrpSpPr/>
              <p:nvPr/>
            </p:nvGrpSpPr>
            <p:grpSpPr>
              <a:xfrm>
                <a:off x="7601040" y="2463840"/>
                <a:ext cx="641160" cy="881640"/>
                <a:chOff x="7601040" y="2463840"/>
                <a:chExt cx="641160" cy="881640"/>
              </a:xfrm>
            </p:grpSpPr>
            <p:grpSp>
              <p:nvGrpSpPr>
                <p:cNvPr id="439" name=""/>
                <p:cNvGrpSpPr/>
                <p:nvPr/>
              </p:nvGrpSpPr>
              <p:grpSpPr>
                <a:xfrm>
                  <a:off x="7601040" y="2463840"/>
                  <a:ext cx="641160" cy="615960"/>
                  <a:chOff x="7601040" y="2463840"/>
                  <a:chExt cx="641160" cy="615960"/>
                </a:xfrm>
              </p:grpSpPr>
              <p:sp>
                <p:nvSpPr>
                  <p:cNvPr id="440" name=""/>
                  <p:cNvSpPr/>
                  <p:nvPr/>
                </p:nvSpPr>
                <p:spPr>
                  <a:xfrm>
                    <a:off x="7763040" y="2744640"/>
                    <a:ext cx="2844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7978680" y="27464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8070840" y="29574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789156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7601040" y="2468520"/>
                    <a:ext cx="120600" cy="58716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8129520" y="2463840"/>
                    <a:ext cx="112680" cy="59508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7604280" y="3043080"/>
                    <a:ext cx="634680" cy="36720"/>
                  </a:xfrm>
                  <a:prstGeom prst="rect">
                    <a:avLst/>
                  </a:prstGeom>
                  <a:solidFill>
                    <a:srgbClr val="cc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7866000" y="2744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>
                    <a:off x="8069400" y="2744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>
                    <a:off x="7738920" y="2849400"/>
                    <a:ext cx="2556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7738920" y="2952720"/>
                    <a:ext cx="2556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>
                    <a:off x="7967520" y="2977920"/>
                    <a:ext cx="27000" cy="241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>
                    <a:off x="799308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7815240" y="27972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7891560" y="2977920"/>
                    <a:ext cx="27000" cy="241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7942320" y="29001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7942320" y="27972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7815240" y="28749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8043840" y="29001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>
                    <a:off x="806940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>
                    <a:off x="8029440" y="2798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>
                    <a:off x="7866000" y="292572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>
                    <a:off x="7707240" y="2498760"/>
                    <a:ext cx="84240" cy="104760"/>
                  </a:xfrm>
                  <a:prstGeom prst="rect">
                    <a:avLst/>
                  </a:prstGeom>
                  <a:solidFill>
                    <a:srgbClr val="cc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7718400" y="2600280"/>
                    <a:ext cx="411120" cy="101520"/>
                  </a:xfrm>
                  <a:prstGeom prst="rect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4" name=""/>
                <p:cNvGrpSpPr/>
                <p:nvPr/>
              </p:nvGrpSpPr>
              <p:grpSpPr>
                <a:xfrm>
                  <a:off x="7770960" y="2900160"/>
                  <a:ext cx="369720" cy="445320"/>
                  <a:chOff x="7770960" y="2900160"/>
                  <a:chExt cx="369720" cy="445320"/>
                </a:xfrm>
              </p:grpSpPr>
              <p:sp>
                <p:nvSpPr>
                  <p:cNvPr id="465" name=""/>
                  <p:cNvSpPr/>
                  <p:nvPr/>
                </p:nvSpPr>
                <p:spPr>
                  <a:xfrm>
                    <a:off x="7770960" y="3155760"/>
                    <a:ext cx="369720" cy="18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28440" bIns="28440" anchor="t">
                    <a:spAutoFit/>
                  </a:bodyPr>
                  <a:p>
                    <a:pPr>
                      <a:lnSpc>
                        <a:spcPct val="87000"/>
                      </a:lnSpc>
                      <a:tabLst>
                        <a:tab algn="l" pos="0"/>
                        <a:tab algn="l" pos="1028880"/>
                        <a:tab algn="l" pos="2057400"/>
                        <a:tab algn="l" pos="3086280"/>
                        <a:tab algn="l" pos="4114800"/>
                        <a:tab algn="l" pos="5143680"/>
                        <a:tab algn="l" pos="6172200"/>
                        <a:tab algn="l" pos="7201080"/>
                        <a:tab algn="l" pos="8229600"/>
                        <a:tab algn="l" pos="9258480"/>
                        <a:tab algn="l" pos="10287000"/>
                      </a:tabLst>
                    </a:pPr>
                    <a:r>
                      <a:rPr b="1" i="1" lang="en-US" sz="1000" spc="-1" strike="noStrike">
                        <a:solidFill>
                          <a:srgbClr val="ff0000"/>
                        </a:solidFill>
                        <a:latin typeface="Comic Sans MS"/>
                      </a:rPr>
                      <a:t>Q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 flipH="1" flipV="1">
                    <a:off x="7913160" y="2900160"/>
                    <a:ext cx="8280" cy="270000"/>
                  </a:xfrm>
                  <a:prstGeom prst="line">
                    <a:avLst/>
                  </a:prstGeom>
                  <a:ln w="19080">
                    <a:solidFill>
                      <a:srgbClr val="00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67" name=""/>
              <p:cNvSpPr/>
              <p:nvPr/>
            </p:nvSpPr>
            <p:spPr>
              <a:xfrm>
                <a:off x="8062920" y="2502000"/>
                <a:ext cx="84240" cy="1047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68" name=""/>
            <p:cNvSpPr/>
            <p:nvPr/>
          </p:nvSpPr>
          <p:spPr>
            <a:xfrm>
              <a:off x="7088040" y="3390120"/>
              <a:ext cx="1432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emperature chang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4964040" y="4772160"/>
            <a:ext cx="2098800" cy="1622880"/>
            <a:chOff x="4964040" y="4772160"/>
            <a:chExt cx="2098800" cy="1622880"/>
          </a:xfrm>
        </p:grpSpPr>
        <p:sp>
          <p:nvSpPr>
            <p:cNvPr id="470" name=""/>
            <p:cNvSpPr/>
            <p:nvPr/>
          </p:nvSpPr>
          <p:spPr>
            <a:xfrm>
              <a:off x="6183720" y="59961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721480" y="5180040"/>
              <a:ext cx="947520" cy="701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5369040" y="4772160"/>
              <a:ext cx="0" cy="11095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369040" y="5889600"/>
              <a:ext cx="1693800" cy="32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964040" y="518004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788080" y="5180040"/>
              <a:ext cx="47448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195960" y="5180040"/>
              <a:ext cx="4064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584680" y="4830840"/>
              <a:ext cx="25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534000" y="4830840"/>
              <a:ext cx="19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602400" y="5122800"/>
              <a:ext cx="135000" cy="1126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653080" y="5122800"/>
              <a:ext cx="135000" cy="1126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6962760" y="4619880"/>
            <a:ext cx="1782720" cy="1818000"/>
            <a:chOff x="6962760" y="4619880"/>
            <a:chExt cx="1782720" cy="1818000"/>
          </a:xfrm>
        </p:grpSpPr>
        <p:grpSp>
          <p:nvGrpSpPr>
            <p:cNvPr id="482" name=""/>
            <p:cNvGrpSpPr/>
            <p:nvPr/>
          </p:nvGrpSpPr>
          <p:grpSpPr>
            <a:xfrm>
              <a:off x="7448400" y="4619880"/>
              <a:ext cx="860760" cy="1264680"/>
              <a:chOff x="7448400" y="4619880"/>
              <a:chExt cx="860760" cy="1264680"/>
            </a:xfrm>
          </p:grpSpPr>
          <p:grpSp>
            <p:nvGrpSpPr>
              <p:cNvPr id="483" name=""/>
              <p:cNvGrpSpPr/>
              <p:nvPr/>
            </p:nvGrpSpPr>
            <p:grpSpPr>
              <a:xfrm>
                <a:off x="7621560" y="5003280"/>
                <a:ext cx="641520" cy="881280"/>
                <a:chOff x="7621560" y="5003280"/>
                <a:chExt cx="641520" cy="881280"/>
              </a:xfrm>
            </p:grpSpPr>
            <p:grpSp>
              <p:nvGrpSpPr>
                <p:cNvPr id="484" name=""/>
                <p:cNvGrpSpPr/>
                <p:nvPr/>
              </p:nvGrpSpPr>
              <p:grpSpPr>
                <a:xfrm>
                  <a:off x="7621560" y="5003280"/>
                  <a:ext cx="641520" cy="615240"/>
                  <a:chOff x="7621560" y="5003280"/>
                  <a:chExt cx="641520" cy="615240"/>
                </a:xfrm>
              </p:grpSpPr>
              <p:sp>
                <p:nvSpPr>
                  <p:cNvPr id="485" name=""/>
                  <p:cNvSpPr/>
                  <p:nvPr/>
                </p:nvSpPr>
                <p:spPr>
                  <a:xfrm>
                    <a:off x="7783560" y="5284080"/>
                    <a:ext cx="2844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>
                    <a:off x="7999560" y="528552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>
                    <a:off x="8091360" y="549684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>
                    <a:off x="791208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>
                    <a:off x="7621560" y="5007960"/>
                    <a:ext cx="120600" cy="58680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8150400" y="5003280"/>
                    <a:ext cx="112680" cy="59508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>
                    <a:off x="7624800" y="5582520"/>
                    <a:ext cx="635040" cy="36000"/>
                  </a:xfrm>
                  <a:prstGeom prst="rect">
                    <a:avLst/>
                  </a:prstGeom>
                  <a:solidFill>
                    <a:srgbClr val="cc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>
                    <a:off x="7886880" y="5284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>
                    <a:off x="8089920" y="5284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>
                    <a:off x="7759800" y="5388840"/>
                    <a:ext cx="252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>
                    <a:off x="7759800" y="5492160"/>
                    <a:ext cx="252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>
                    <a:off x="7988400" y="55173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>
                    <a:off x="801360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>
                    <a:off x="7835760" y="533628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" name=""/>
                  <p:cNvSpPr/>
                  <p:nvPr/>
                </p:nvSpPr>
                <p:spPr>
                  <a:xfrm>
                    <a:off x="7912080" y="55173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>
                    <a:off x="7962840" y="54396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>
                    <a:off x="7962840" y="533628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>
                    <a:off x="7835760" y="54144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>
                    <a:off x="8064360" y="54396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>
                    <a:off x="808992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>
                    <a:off x="8050320" y="5338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" name=""/>
                  <p:cNvSpPr/>
                  <p:nvPr/>
                </p:nvSpPr>
                <p:spPr>
                  <a:xfrm>
                    <a:off x="7886880" y="54651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>
                    <a:off x="7738920" y="5139720"/>
                    <a:ext cx="411480" cy="101160"/>
                  </a:xfrm>
                  <a:prstGeom prst="rect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8" name=""/>
                <p:cNvGrpSpPr/>
                <p:nvPr/>
              </p:nvGrpSpPr>
              <p:grpSpPr>
                <a:xfrm>
                  <a:off x="7791480" y="5439240"/>
                  <a:ext cx="369720" cy="445320"/>
                  <a:chOff x="7791480" y="5439240"/>
                  <a:chExt cx="369720" cy="445320"/>
                </a:xfrm>
              </p:grpSpPr>
              <p:sp>
                <p:nvSpPr>
                  <p:cNvPr id="509" name=""/>
                  <p:cNvSpPr/>
                  <p:nvPr/>
                </p:nvSpPr>
                <p:spPr>
                  <a:xfrm>
                    <a:off x="7791480" y="5694840"/>
                    <a:ext cx="369720" cy="18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28440" bIns="28440" anchor="t">
                    <a:spAutoFit/>
                  </a:bodyPr>
                  <a:p>
                    <a:pPr>
                      <a:lnSpc>
                        <a:spcPct val="87000"/>
                      </a:lnSpc>
                      <a:tabLst>
                        <a:tab algn="l" pos="0"/>
                        <a:tab algn="l" pos="1028880"/>
                        <a:tab algn="l" pos="2057400"/>
                        <a:tab algn="l" pos="3086280"/>
                        <a:tab algn="l" pos="4114800"/>
                        <a:tab algn="l" pos="5143680"/>
                        <a:tab algn="l" pos="6172200"/>
                        <a:tab algn="l" pos="7201080"/>
                        <a:tab algn="l" pos="8229600"/>
                        <a:tab algn="l" pos="9258480"/>
                        <a:tab algn="l" pos="10287000"/>
                      </a:tabLst>
                    </a:pPr>
                    <a:r>
                      <a:rPr b="1" i="1" lang="en-US" sz="1000" spc="-1" strike="noStrike">
                        <a:solidFill>
                          <a:srgbClr val="ff0000"/>
                        </a:solidFill>
                        <a:latin typeface="Comic Sans MS"/>
                      </a:rPr>
                      <a:t>Q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 flipH="1" flipV="1">
                    <a:off x="7933680" y="5439240"/>
                    <a:ext cx="8280" cy="269640"/>
                  </a:xfrm>
                  <a:prstGeom prst="line">
                    <a:avLst/>
                  </a:prstGeom>
                  <a:ln w="19080">
                    <a:solidFill>
                      <a:srgbClr val="00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11" name=""/>
              <p:cNvSpPr/>
              <p:nvPr/>
            </p:nvSpPr>
            <p:spPr>
              <a:xfrm>
                <a:off x="7950240" y="4863600"/>
                <a:ext cx="0" cy="255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7448400" y="4619880"/>
                <a:ext cx="860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13" name=""/>
            <p:cNvSpPr/>
            <p:nvPr/>
          </p:nvSpPr>
          <p:spPr>
            <a:xfrm>
              <a:off x="6962760" y="5978880"/>
              <a:ext cx="1782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emperature and volume chan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762840" y="4259160"/>
            <a:ext cx="334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bar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pressur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15" name=""/>
          <p:cNvGraphicFramePr/>
          <p:nvPr/>
        </p:nvGraphicFramePr>
        <p:xfrm>
          <a:off x="1150920" y="4908600"/>
          <a:ext cx="3370320" cy="133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50920" y="4908600"/>
                    <a:ext cx="3370320" cy="13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7" name=""/>
          <p:cNvSpPr/>
          <p:nvPr/>
        </p:nvSpPr>
        <p:spPr>
          <a:xfrm>
            <a:off x="641520" y="1268280"/>
            <a:ext cx="5712840" cy="58068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 will assume ideal gases in our treatment of heat engines,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cause that simplifies the calculation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66600"/>
            <a:ext cx="88362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Blackbody Radiation</a:t>
            </a:r>
            <a:br>
              <a:rPr sz="4000"/>
            </a:b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920880"/>
            <a:ext cx="7477200" cy="55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Planck law gives the spectrum of electromagnetic energy contained in modes with frequencies between f and f +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tegrating over all frequencies gives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otal radiated energy per unit surface are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power radiated per unit surface area by a perfect radiator i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total power radiated = J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rea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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62320" y="5310360"/>
            <a:ext cx="500220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efan-Boltzmann Law of Radi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B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5.67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-8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 m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-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K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Stefan-Boltzmann consta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181160" y="1631880"/>
          <a:ext cx="1996920" cy="85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1160" y="1631880"/>
                    <a:ext cx="199692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" name=""/>
          <p:cNvGrpSpPr/>
          <p:nvPr/>
        </p:nvGrpSpPr>
        <p:grpSpPr>
          <a:xfrm>
            <a:off x="5753160" y="1333440"/>
            <a:ext cx="3155400" cy="1942560"/>
            <a:chOff x="5753160" y="1333440"/>
            <a:chExt cx="3155400" cy="1942560"/>
          </a:xfrm>
        </p:grpSpPr>
        <p:sp>
          <p:nvSpPr>
            <p:cNvPr id="52" name=""/>
            <p:cNvSpPr/>
            <p:nvPr/>
          </p:nvSpPr>
          <p:spPr>
            <a:xfrm flipV="1">
              <a:off x="5760720" y="1395360"/>
              <a:ext cx="0" cy="156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762520" y="2959200"/>
              <a:ext cx="2539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549840" y="2849760"/>
              <a:ext cx="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157800" y="2970360"/>
              <a:ext cx="1050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487920" y="1449360"/>
              <a:ext cx="24156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Planck Radiation Law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265960" y="2692440"/>
              <a:ext cx="6426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f/k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760720" y="1863720"/>
              <a:ext cx="2482560" cy="1095480"/>
            </a:xfrm>
            <a:custGeom>
              <a:avLst/>
              <a:gdLst/>
              <a:ahLst/>
              <a:rect l="l" t="t" r="r" b="b"/>
              <a:pathLst>
                <a:path w="1360" h="470">
                  <a:moveTo>
                    <a:pt x="0" y="470"/>
                  </a:moveTo>
                  <a:cubicBezTo>
                    <a:pt x="37" y="454"/>
                    <a:pt x="74" y="438"/>
                    <a:pt x="143" y="361"/>
                  </a:cubicBezTo>
                  <a:cubicBezTo>
                    <a:pt x="212" y="284"/>
                    <a:pt x="279" y="14"/>
                    <a:pt x="412" y="7"/>
                  </a:cubicBezTo>
                  <a:cubicBezTo>
                    <a:pt x="545" y="0"/>
                    <a:pt x="785" y="245"/>
                    <a:pt x="943" y="316"/>
                  </a:cubicBezTo>
                  <a:cubicBezTo>
                    <a:pt x="1101" y="387"/>
                    <a:pt x="1230" y="411"/>
                    <a:pt x="1360" y="4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753160" y="1333440"/>
              <a:ext cx="49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(f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02080" y="2338560"/>
              <a:ext cx="738000" cy="598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478280" y="2632320"/>
              <a:ext cx="374400" cy="293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437160" y="1940040"/>
              <a:ext cx="1218600" cy="100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319440" y="2044800"/>
              <a:ext cx="1112760" cy="90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259320" y="2185920"/>
              <a:ext cx="914040" cy="77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68800" y="2808360"/>
              <a:ext cx="163080" cy="141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071760" y="2689200"/>
              <a:ext cx="290160" cy="244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154560" y="2525760"/>
              <a:ext cx="526680" cy="433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48440" y="2830680"/>
              <a:ext cx="139320" cy="11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1233360" y="3639960"/>
            <a:ext cx="5981760" cy="1110600"/>
            <a:chOff x="1233360" y="3639960"/>
            <a:chExt cx="5981760" cy="1110600"/>
          </a:xfrm>
        </p:grpSpPr>
        <p:graphicFrame>
          <p:nvGraphicFramePr>
            <p:cNvPr id="70" name=""/>
            <p:cNvGraphicFramePr/>
            <p:nvPr/>
          </p:nvGraphicFramePr>
          <p:xfrm>
            <a:off x="1233360" y="3639960"/>
            <a:ext cx="5981760" cy="857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233360" y="3639960"/>
                      <a:ext cx="5981760" cy="85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2" name=""/>
            <p:cNvSpPr/>
            <p:nvPr/>
          </p:nvSpPr>
          <p:spPr>
            <a:xfrm>
              <a:off x="4770360" y="3681360"/>
              <a:ext cx="1144800" cy="87768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24640" y="4519440"/>
              <a:ext cx="1232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Just a number: </a:t>
              </a:r>
              <a:r>
                <a:rPr b="0" lang="en-US" sz="9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900" spc="-1" strike="noStrike" baseline="30000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/15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74" name=""/>
          <p:cNvGraphicFramePr/>
          <p:nvPr/>
        </p:nvGraphicFramePr>
        <p:xfrm>
          <a:off x="1239840" y="5359320"/>
          <a:ext cx="1368360" cy="490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39840" y="5359320"/>
                    <a:ext cx="1368360" cy="49068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"/>
          <p:cNvGrpSpPr/>
          <p:nvPr/>
        </p:nvGrpSpPr>
        <p:grpSpPr>
          <a:xfrm>
            <a:off x="4976640" y="1365120"/>
            <a:ext cx="2065320" cy="1819800"/>
            <a:chOff x="4976640" y="1365120"/>
            <a:chExt cx="2065320" cy="1819800"/>
          </a:xfrm>
        </p:grpSpPr>
        <p:sp>
          <p:nvSpPr>
            <p:cNvPr id="519" name=""/>
            <p:cNvSpPr/>
            <p:nvPr/>
          </p:nvSpPr>
          <p:spPr>
            <a:xfrm>
              <a:off x="5704560" y="1840680"/>
              <a:ext cx="911880" cy="883080"/>
            </a:xfrm>
            <a:custGeom>
              <a:avLst/>
              <a:gdLst/>
              <a:ahLst/>
              <a:rect l="l" t="t" r="r" b="b"/>
              <a:pathLst>
                <a:path w="720" h="624">
                  <a:moveTo>
                    <a:pt x="0" y="624"/>
                  </a:moveTo>
                  <a:lnTo>
                    <a:pt x="0" y="0"/>
                  </a:lnTo>
                  <a:cubicBezTo>
                    <a:pt x="2" y="5"/>
                    <a:pt x="3" y="10"/>
                    <a:pt x="5" y="15"/>
                  </a:cubicBezTo>
                  <a:cubicBezTo>
                    <a:pt x="7" y="24"/>
                    <a:pt x="11" y="26"/>
                    <a:pt x="18" y="33"/>
                  </a:cubicBezTo>
                  <a:cubicBezTo>
                    <a:pt x="32" y="47"/>
                    <a:pt x="43" y="65"/>
                    <a:pt x="59" y="78"/>
                  </a:cubicBezTo>
                  <a:cubicBezTo>
                    <a:pt x="66" y="89"/>
                    <a:pt x="73" y="98"/>
                    <a:pt x="86" y="99"/>
                  </a:cubicBezTo>
                  <a:cubicBezTo>
                    <a:pt x="101" y="118"/>
                    <a:pt x="118" y="119"/>
                    <a:pt x="137" y="132"/>
                  </a:cubicBezTo>
                  <a:cubicBezTo>
                    <a:pt x="152" y="157"/>
                    <a:pt x="201" y="182"/>
                    <a:pt x="228" y="194"/>
                  </a:cubicBezTo>
                  <a:cubicBezTo>
                    <a:pt x="239" y="199"/>
                    <a:pt x="249" y="208"/>
                    <a:pt x="261" y="210"/>
                  </a:cubicBezTo>
                  <a:cubicBezTo>
                    <a:pt x="269" y="214"/>
                    <a:pt x="275" y="218"/>
                    <a:pt x="284" y="219"/>
                  </a:cubicBezTo>
                  <a:cubicBezTo>
                    <a:pt x="296" y="225"/>
                    <a:pt x="290" y="223"/>
                    <a:pt x="299" y="225"/>
                  </a:cubicBezTo>
                  <a:cubicBezTo>
                    <a:pt x="308" y="229"/>
                    <a:pt x="319" y="232"/>
                    <a:pt x="329" y="234"/>
                  </a:cubicBezTo>
                  <a:cubicBezTo>
                    <a:pt x="340" y="239"/>
                    <a:pt x="348" y="242"/>
                    <a:pt x="360" y="243"/>
                  </a:cubicBezTo>
                  <a:cubicBezTo>
                    <a:pt x="368" y="246"/>
                    <a:pt x="375" y="251"/>
                    <a:pt x="384" y="252"/>
                  </a:cubicBezTo>
                  <a:cubicBezTo>
                    <a:pt x="395" y="256"/>
                    <a:pt x="408" y="259"/>
                    <a:pt x="419" y="261"/>
                  </a:cubicBezTo>
                  <a:cubicBezTo>
                    <a:pt x="425" y="264"/>
                    <a:pt x="430" y="266"/>
                    <a:pt x="437" y="267"/>
                  </a:cubicBezTo>
                  <a:cubicBezTo>
                    <a:pt x="446" y="271"/>
                    <a:pt x="458" y="270"/>
                    <a:pt x="468" y="272"/>
                  </a:cubicBezTo>
                  <a:cubicBezTo>
                    <a:pt x="475" y="276"/>
                    <a:pt x="483" y="278"/>
                    <a:pt x="491" y="279"/>
                  </a:cubicBezTo>
                  <a:cubicBezTo>
                    <a:pt x="497" y="282"/>
                    <a:pt x="502" y="284"/>
                    <a:pt x="509" y="285"/>
                  </a:cubicBezTo>
                  <a:cubicBezTo>
                    <a:pt x="515" y="288"/>
                    <a:pt x="523" y="290"/>
                    <a:pt x="530" y="291"/>
                  </a:cubicBezTo>
                  <a:cubicBezTo>
                    <a:pt x="542" y="297"/>
                    <a:pt x="556" y="295"/>
                    <a:pt x="569" y="297"/>
                  </a:cubicBezTo>
                  <a:cubicBezTo>
                    <a:pt x="586" y="306"/>
                    <a:pt x="607" y="307"/>
                    <a:pt x="626" y="308"/>
                  </a:cubicBezTo>
                  <a:cubicBezTo>
                    <a:pt x="639" y="310"/>
                    <a:pt x="655" y="316"/>
                    <a:pt x="668" y="320"/>
                  </a:cubicBezTo>
                  <a:cubicBezTo>
                    <a:pt x="676" y="326"/>
                    <a:pt x="689" y="325"/>
                    <a:pt x="698" y="326"/>
                  </a:cubicBezTo>
                  <a:cubicBezTo>
                    <a:pt x="704" y="326"/>
                    <a:pt x="716" y="327"/>
                    <a:pt x="716" y="327"/>
                  </a:cubicBezTo>
                  <a:lnTo>
                    <a:pt x="720" y="624"/>
                  </a:lnTo>
                  <a:lnTo>
                    <a:pt x="0" y="62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V="1">
              <a:off x="5400360" y="1432800"/>
              <a:ext cx="0" cy="1290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976640" y="18748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132960" y="278604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582880" y="1365120"/>
              <a:ext cx="25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516720" y="1839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008760" y="2112480"/>
              <a:ext cx="182160" cy="6804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704560" y="1840680"/>
              <a:ext cx="0" cy="88308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616800" y="2316240"/>
              <a:ext cx="0" cy="40752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400360" y="2723760"/>
              <a:ext cx="1641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700600" y="1861920"/>
              <a:ext cx="901800" cy="429840"/>
            </a:xfrm>
            <a:custGeom>
              <a:avLst/>
              <a:gdLst/>
              <a:ahLst/>
              <a:rect l="l" t="t" r="r" b="b"/>
              <a:pathLst>
                <a:path w="528" h="240">
                  <a:moveTo>
                    <a:pt x="0" y="0"/>
                  </a:moveTo>
                  <a:cubicBezTo>
                    <a:pt x="52" y="52"/>
                    <a:pt x="104" y="104"/>
                    <a:pt x="192" y="144"/>
                  </a:cubicBezTo>
                  <a:cubicBezTo>
                    <a:pt x="280" y="184"/>
                    <a:pt x="404" y="212"/>
                    <a:pt x="528" y="240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632200" y="1785600"/>
              <a:ext cx="145440" cy="16272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533280" y="2205720"/>
              <a:ext cx="145440" cy="16272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6993000" y="888840"/>
            <a:ext cx="1861920" cy="2822400"/>
            <a:chOff x="6993000" y="888840"/>
            <a:chExt cx="1861920" cy="2822400"/>
          </a:xfrm>
        </p:grpSpPr>
        <p:grpSp>
          <p:nvGrpSpPr>
            <p:cNvPr id="533" name=""/>
            <p:cNvGrpSpPr/>
            <p:nvPr/>
          </p:nvGrpSpPr>
          <p:grpSpPr>
            <a:xfrm>
              <a:off x="6993000" y="888840"/>
              <a:ext cx="1861920" cy="2254320"/>
              <a:chOff x="6993000" y="888840"/>
              <a:chExt cx="1861920" cy="2254320"/>
            </a:xfrm>
          </p:grpSpPr>
          <mc:AlternateContent>
            <mc:Choice xmlns:a14="http://schemas.microsoft.com/office/drawing/2010/main" Requires="a14">
              <p:sp>
                <p:nvSpPr>
                  <p:cNvPr id="534" name=""/>
                  <p:cNvSpPr txBox="1"/>
                  <p:nvPr/>
                </p:nvSpPr>
                <p:spPr>
                  <a:xfrm>
                    <a:off x="7670880" y="888840"/>
                    <a:ext cx="455400" cy="427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∝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535" name=""/>
              <p:cNvGrpSpPr/>
              <p:nvPr/>
            </p:nvGrpSpPr>
            <p:grpSpPr>
              <a:xfrm>
                <a:off x="6993000" y="1352520"/>
                <a:ext cx="1861920" cy="1790640"/>
                <a:chOff x="6993000" y="1352520"/>
                <a:chExt cx="1861920" cy="1790640"/>
              </a:xfrm>
            </p:grpSpPr>
            <p:grpSp>
              <p:nvGrpSpPr>
                <p:cNvPr id="536" name=""/>
                <p:cNvGrpSpPr/>
                <p:nvPr/>
              </p:nvGrpSpPr>
              <p:grpSpPr>
                <a:xfrm>
                  <a:off x="6993000" y="1492200"/>
                  <a:ext cx="1861920" cy="1650960"/>
                  <a:chOff x="6993000" y="1492200"/>
                  <a:chExt cx="1861920" cy="1650960"/>
                </a:xfrm>
              </p:grpSpPr>
              <p:grpSp>
                <p:nvGrpSpPr>
                  <p:cNvPr id="537" name=""/>
                  <p:cNvGrpSpPr/>
                  <p:nvPr/>
                </p:nvGrpSpPr>
                <p:grpSpPr>
                  <a:xfrm>
                    <a:off x="7562880" y="1492200"/>
                    <a:ext cx="640800" cy="615960"/>
                    <a:chOff x="7562880" y="1492200"/>
                    <a:chExt cx="640800" cy="615960"/>
                  </a:xfrm>
                </p:grpSpPr>
                <p:sp>
                  <p:nvSpPr>
                    <p:cNvPr id="538" name=""/>
                    <p:cNvSpPr/>
                    <p:nvPr/>
                  </p:nvSpPr>
                  <p:spPr>
                    <a:xfrm>
                      <a:off x="7724520" y="1773360"/>
                      <a:ext cx="2808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9" name=""/>
                    <p:cNvSpPr/>
                    <p:nvPr/>
                  </p:nvSpPr>
                  <p:spPr>
                    <a:xfrm>
                      <a:off x="7940520" y="177480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0" name=""/>
                    <p:cNvSpPr/>
                    <p:nvPr/>
                  </p:nvSpPr>
                  <p:spPr>
                    <a:xfrm>
                      <a:off x="8032320" y="198612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1" name=""/>
                    <p:cNvSpPr/>
                    <p:nvPr/>
                  </p:nvSpPr>
                  <p:spPr>
                    <a:xfrm>
                      <a:off x="785304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2" name=""/>
                    <p:cNvSpPr/>
                    <p:nvPr/>
                  </p:nvSpPr>
                  <p:spPr>
                    <a:xfrm>
                      <a:off x="7562880" y="1497240"/>
                      <a:ext cx="120240" cy="58716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17640">
                      <a:solidFill>
                        <a:srgbClr val="00004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3" name=""/>
                    <p:cNvSpPr/>
                    <p:nvPr/>
                  </p:nvSpPr>
                  <p:spPr>
                    <a:xfrm>
                      <a:off x="8091360" y="1492200"/>
                      <a:ext cx="112320" cy="59544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17640">
                      <a:solidFill>
                        <a:srgbClr val="00004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4" name=""/>
                    <p:cNvSpPr/>
                    <p:nvPr/>
                  </p:nvSpPr>
                  <p:spPr>
                    <a:xfrm>
                      <a:off x="7565760" y="2071800"/>
                      <a:ext cx="634680" cy="3636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5" name=""/>
                    <p:cNvSpPr/>
                    <p:nvPr/>
                  </p:nvSpPr>
                  <p:spPr>
                    <a:xfrm>
                      <a:off x="7827840" y="1773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6" name=""/>
                    <p:cNvSpPr/>
                    <p:nvPr/>
                  </p:nvSpPr>
                  <p:spPr>
                    <a:xfrm>
                      <a:off x="8030880" y="1773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7" name=""/>
                    <p:cNvSpPr/>
                    <p:nvPr/>
                  </p:nvSpPr>
                  <p:spPr>
                    <a:xfrm>
                      <a:off x="7700760" y="1878120"/>
                      <a:ext cx="248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8" name=""/>
                    <p:cNvSpPr/>
                    <p:nvPr/>
                  </p:nvSpPr>
                  <p:spPr>
                    <a:xfrm>
                      <a:off x="7700760" y="1981440"/>
                      <a:ext cx="248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9" name=""/>
                    <p:cNvSpPr/>
                    <p:nvPr/>
                  </p:nvSpPr>
                  <p:spPr>
                    <a:xfrm>
                      <a:off x="7929360" y="20066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0" name=""/>
                    <p:cNvSpPr/>
                    <p:nvPr/>
                  </p:nvSpPr>
                  <p:spPr>
                    <a:xfrm>
                      <a:off x="795456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1" name=""/>
                    <p:cNvSpPr/>
                    <p:nvPr/>
                  </p:nvSpPr>
                  <p:spPr>
                    <a:xfrm>
                      <a:off x="7776720" y="182556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2" name=""/>
                    <p:cNvSpPr/>
                    <p:nvPr/>
                  </p:nvSpPr>
                  <p:spPr>
                    <a:xfrm>
                      <a:off x="7853040" y="20066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3" name=""/>
                    <p:cNvSpPr/>
                    <p:nvPr/>
                  </p:nvSpPr>
                  <p:spPr>
                    <a:xfrm>
                      <a:off x="7903800" y="19288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4" name=""/>
                    <p:cNvSpPr/>
                    <p:nvPr/>
                  </p:nvSpPr>
                  <p:spPr>
                    <a:xfrm>
                      <a:off x="7903800" y="182556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5" name=""/>
                    <p:cNvSpPr/>
                    <p:nvPr/>
                  </p:nvSpPr>
                  <p:spPr>
                    <a:xfrm>
                      <a:off x="7776720" y="19036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6" name=""/>
                    <p:cNvSpPr/>
                    <p:nvPr/>
                  </p:nvSpPr>
                  <p:spPr>
                    <a:xfrm>
                      <a:off x="8005320" y="19288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7" name=""/>
                    <p:cNvSpPr/>
                    <p:nvPr/>
                  </p:nvSpPr>
                  <p:spPr>
                    <a:xfrm>
                      <a:off x="803088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8" name=""/>
                    <p:cNvSpPr/>
                    <p:nvPr/>
                  </p:nvSpPr>
                  <p:spPr>
                    <a:xfrm>
                      <a:off x="7991280" y="1827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9" name=""/>
                    <p:cNvSpPr/>
                    <p:nvPr/>
                  </p:nvSpPr>
                  <p:spPr>
                    <a:xfrm>
                      <a:off x="7827840" y="19544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0" name=""/>
                    <p:cNvSpPr/>
                    <p:nvPr/>
                  </p:nvSpPr>
                  <p:spPr>
                    <a:xfrm>
                      <a:off x="7679880" y="1629000"/>
                      <a:ext cx="411120" cy="101520"/>
                    </a:xfrm>
                    <a:prstGeom prst="rect">
                      <a:avLst/>
                    </a:prstGeom>
                    <a:solidFill>
                      <a:srgbClr val="fafd00"/>
                    </a:solidFill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61" name=""/>
                  <p:cNvGrpSpPr/>
                  <p:nvPr/>
                </p:nvGrpSpPr>
                <p:grpSpPr>
                  <a:xfrm>
                    <a:off x="7732800" y="1928880"/>
                    <a:ext cx="369720" cy="445320"/>
                    <a:chOff x="7732800" y="1928880"/>
                    <a:chExt cx="369720" cy="445320"/>
                  </a:xfrm>
                </p:grpSpPr>
                <p:sp>
                  <p:nvSpPr>
                    <p:cNvPr id="562" name=""/>
                    <p:cNvSpPr/>
                    <p:nvPr/>
                  </p:nvSpPr>
                  <p:spPr>
                    <a:xfrm>
                      <a:off x="7732800" y="2184480"/>
                      <a:ext cx="369720" cy="18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28440" bIns="28440" anchor="t">
                      <a:sp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Q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3" name=""/>
                    <p:cNvSpPr/>
                    <p:nvPr/>
                  </p:nvSpPr>
                  <p:spPr>
                    <a:xfrm flipH="1" flipV="1">
                      <a:off x="7875000" y="1928880"/>
                      <a:ext cx="8280" cy="270000"/>
                    </a:xfrm>
                    <a:prstGeom prst="line">
                      <a:avLst/>
                    </a:prstGeom>
                    <a:ln w="19080">
                      <a:solidFill>
                        <a:srgbClr val="00ff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64" name=""/>
                  <p:cNvSpPr/>
                  <p:nvPr/>
                </p:nvSpPr>
                <p:spPr>
                  <a:xfrm>
                    <a:off x="7335720" y="2147760"/>
                    <a:ext cx="1201680" cy="995400"/>
                  </a:xfrm>
                  <a:prstGeom prst="rect">
                    <a:avLst/>
                  </a:prstGeom>
                  <a:solidFill>
                    <a:srgbClr val="990099">
                      <a:alpha val="50000"/>
                    </a:srgbClr>
                  </a:solidFill>
                  <a:ln w="3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>
                    <a:off x="6993000" y="2552400"/>
                    <a:ext cx="1861920" cy="570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marL="285840" indent="-285840" algn="ctr"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Thermal Reservoir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marL="285840" indent="-285840" algn="ctr"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T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66" name=""/>
                <p:cNvSpPr/>
                <p:nvPr/>
              </p:nvSpPr>
              <p:spPr>
                <a:xfrm>
                  <a:off x="7891560" y="1352520"/>
                  <a:ext cx="0" cy="255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67" name=""/>
            <p:cNvSpPr/>
            <p:nvPr/>
          </p:nvSpPr>
          <p:spPr>
            <a:xfrm>
              <a:off x="7020000" y="3252240"/>
              <a:ext cx="1782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 and pressure chan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8" name=""/>
          <p:cNvGrpSpPr/>
          <p:nvPr/>
        </p:nvGrpSpPr>
        <p:grpSpPr>
          <a:xfrm>
            <a:off x="5015160" y="4435560"/>
            <a:ext cx="2165040" cy="1625760"/>
            <a:chOff x="5015160" y="4435560"/>
            <a:chExt cx="2165040" cy="1625760"/>
          </a:xfrm>
        </p:grpSpPr>
        <p:sp>
          <p:nvSpPr>
            <p:cNvPr id="569" name=""/>
            <p:cNvSpPr/>
            <p:nvPr/>
          </p:nvSpPr>
          <p:spPr>
            <a:xfrm>
              <a:off x="5015160" y="493380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70" name=""/>
            <p:cNvGrpSpPr/>
            <p:nvPr/>
          </p:nvGrpSpPr>
          <p:grpSpPr>
            <a:xfrm>
              <a:off x="5440320" y="4435560"/>
              <a:ext cx="1739880" cy="1625760"/>
              <a:chOff x="5440320" y="4435560"/>
              <a:chExt cx="1739880" cy="1625760"/>
            </a:xfrm>
          </p:grpSpPr>
          <p:sp>
            <p:nvSpPr>
              <p:cNvPr id="571" name=""/>
              <p:cNvSpPr/>
              <p:nvPr/>
            </p:nvSpPr>
            <p:spPr>
              <a:xfrm>
                <a:off x="5762160" y="4728960"/>
                <a:ext cx="966600" cy="586080"/>
              </a:xfrm>
              <a:custGeom>
                <a:avLst/>
                <a:gdLst/>
                <a:ahLst/>
                <a:rect l="l" t="t" r="r" b="b"/>
                <a:pathLst>
                  <a:path w="720" h="480">
                    <a:moveTo>
                      <a:pt x="0" y="0"/>
                    </a:moveTo>
                    <a:lnTo>
                      <a:pt x="0" y="480"/>
                    </a:lnTo>
                    <a:lnTo>
                      <a:pt x="720" y="480"/>
                    </a:lnTo>
                    <a:cubicBezTo>
                      <a:pt x="672" y="464"/>
                      <a:pt x="625" y="443"/>
                      <a:pt x="576" y="432"/>
                    </a:cubicBezTo>
                    <a:cubicBezTo>
                      <a:pt x="569" y="431"/>
                      <a:pt x="583" y="444"/>
                      <a:pt x="585" y="450"/>
                    </a:cubicBezTo>
                    <a:cubicBezTo>
                      <a:pt x="586" y="453"/>
                      <a:pt x="579" y="447"/>
                      <a:pt x="576" y="446"/>
                    </a:cubicBezTo>
                    <a:cubicBezTo>
                      <a:pt x="571" y="444"/>
                      <a:pt x="567" y="443"/>
                      <a:pt x="563" y="440"/>
                    </a:cubicBezTo>
                    <a:cubicBezTo>
                      <a:pt x="568" y="434"/>
                      <a:pt x="570" y="435"/>
                      <a:pt x="576" y="432"/>
                    </a:cubicBezTo>
                    <a:cubicBezTo>
                      <a:pt x="566" y="425"/>
                      <a:pt x="548" y="418"/>
                      <a:pt x="536" y="416"/>
                    </a:cubicBezTo>
                    <a:cubicBezTo>
                      <a:pt x="529" y="413"/>
                      <a:pt x="521" y="411"/>
                      <a:pt x="513" y="410"/>
                    </a:cubicBezTo>
                    <a:cubicBezTo>
                      <a:pt x="507" y="407"/>
                      <a:pt x="501" y="405"/>
                      <a:pt x="495" y="404"/>
                    </a:cubicBezTo>
                    <a:cubicBezTo>
                      <a:pt x="488" y="399"/>
                      <a:pt x="479" y="394"/>
                      <a:pt x="471" y="392"/>
                    </a:cubicBezTo>
                    <a:cubicBezTo>
                      <a:pt x="462" y="385"/>
                      <a:pt x="430" y="376"/>
                      <a:pt x="419" y="374"/>
                    </a:cubicBezTo>
                    <a:cubicBezTo>
                      <a:pt x="384" y="362"/>
                      <a:pt x="352" y="330"/>
                      <a:pt x="315" y="326"/>
                    </a:cubicBezTo>
                    <a:cubicBezTo>
                      <a:pt x="307" y="320"/>
                      <a:pt x="296" y="314"/>
                      <a:pt x="287" y="309"/>
                    </a:cubicBezTo>
                    <a:cubicBezTo>
                      <a:pt x="279" y="298"/>
                      <a:pt x="266" y="297"/>
                      <a:pt x="255" y="291"/>
                    </a:cubicBezTo>
                    <a:cubicBezTo>
                      <a:pt x="247" y="286"/>
                      <a:pt x="241" y="279"/>
                      <a:pt x="233" y="273"/>
                    </a:cubicBezTo>
                    <a:cubicBezTo>
                      <a:pt x="222" y="265"/>
                      <a:pt x="209" y="258"/>
                      <a:pt x="198" y="249"/>
                    </a:cubicBezTo>
                    <a:cubicBezTo>
                      <a:pt x="195" y="239"/>
                      <a:pt x="194" y="239"/>
                      <a:pt x="186" y="234"/>
                    </a:cubicBezTo>
                    <a:cubicBezTo>
                      <a:pt x="182" y="228"/>
                      <a:pt x="174" y="223"/>
                      <a:pt x="168" y="219"/>
                    </a:cubicBezTo>
                    <a:cubicBezTo>
                      <a:pt x="163" y="212"/>
                      <a:pt x="157" y="207"/>
                      <a:pt x="150" y="203"/>
                    </a:cubicBezTo>
                    <a:cubicBezTo>
                      <a:pt x="142" y="193"/>
                      <a:pt x="134" y="182"/>
                      <a:pt x="123" y="176"/>
                    </a:cubicBezTo>
                    <a:cubicBezTo>
                      <a:pt x="103" y="147"/>
                      <a:pt x="72" y="123"/>
                      <a:pt x="57" y="90"/>
                    </a:cubicBezTo>
                    <a:cubicBezTo>
                      <a:pt x="56" y="83"/>
                      <a:pt x="52" y="80"/>
                      <a:pt x="48" y="74"/>
                    </a:cubicBezTo>
                    <a:cubicBezTo>
                      <a:pt x="45" y="66"/>
                      <a:pt x="46" y="61"/>
                      <a:pt x="39" y="57"/>
                    </a:cubicBezTo>
                    <a:cubicBezTo>
                      <a:pt x="35" y="49"/>
                      <a:pt x="29" y="45"/>
                      <a:pt x="24" y="38"/>
                    </a:cubicBezTo>
                    <a:cubicBezTo>
                      <a:pt x="21" y="33"/>
                      <a:pt x="14" y="24"/>
                      <a:pt x="14" y="24"/>
                    </a:cubicBezTo>
                    <a:cubicBezTo>
                      <a:pt x="12" y="15"/>
                      <a:pt x="11" y="11"/>
                      <a:pt x="3" y="6"/>
                    </a:cubicBezTo>
                    <a:cubicBezTo>
                      <a:pt x="0" y="1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762160" y="4963320"/>
                <a:ext cx="966600" cy="645120"/>
              </a:xfrm>
              <a:custGeom>
                <a:avLst/>
                <a:gdLst/>
                <a:ahLst/>
                <a:rect l="l" t="t" r="r" b="b"/>
                <a:pathLst>
                  <a:path w="720" h="624">
                    <a:moveTo>
                      <a:pt x="0" y="624"/>
                    </a:moveTo>
                    <a:lnTo>
                      <a:pt x="0" y="0"/>
                    </a:lnTo>
                    <a:cubicBezTo>
                      <a:pt x="2" y="5"/>
                      <a:pt x="3" y="10"/>
                      <a:pt x="5" y="15"/>
                    </a:cubicBezTo>
                    <a:cubicBezTo>
                      <a:pt x="7" y="24"/>
                      <a:pt x="11" y="26"/>
                      <a:pt x="18" y="33"/>
                    </a:cubicBezTo>
                    <a:cubicBezTo>
                      <a:pt x="32" y="47"/>
                      <a:pt x="43" y="65"/>
                      <a:pt x="59" y="78"/>
                    </a:cubicBezTo>
                    <a:cubicBezTo>
                      <a:pt x="66" y="89"/>
                      <a:pt x="73" y="98"/>
                      <a:pt x="86" y="99"/>
                    </a:cubicBezTo>
                    <a:cubicBezTo>
                      <a:pt x="101" y="118"/>
                      <a:pt x="118" y="119"/>
                      <a:pt x="137" y="132"/>
                    </a:cubicBezTo>
                    <a:cubicBezTo>
                      <a:pt x="152" y="157"/>
                      <a:pt x="201" y="182"/>
                      <a:pt x="228" y="194"/>
                    </a:cubicBezTo>
                    <a:cubicBezTo>
                      <a:pt x="239" y="199"/>
                      <a:pt x="249" y="208"/>
                      <a:pt x="261" y="210"/>
                    </a:cubicBezTo>
                    <a:cubicBezTo>
                      <a:pt x="269" y="214"/>
                      <a:pt x="275" y="218"/>
                      <a:pt x="284" y="219"/>
                    </a:cubicBezTo>
                    <a:cubicBezTo>
                      <a:pt x="296" y="225"/>
                      <a:pt x="290" y="223"/>
                      <a:pt x="299" y="225"/>
                    </a:cubicBezTo>
                    <a:cubicBezTo>
                      <a:pt x="308" y="229"/>
                      <a:pt x="319" y="232"/>
                      <a:pt x="329" y="234"/>
                    </a:cubicBezTo>
                    <a:cubicBezTo>
                      <a:pt x="340" y="239"/>
                      <a:pt x="348" y="242"/>
                      <a:pt x="360" y="243"/>
                    </a:cubicBezTo>
                    <a:cubicBezTo>
                      <a:pt x="368" y="246"/>
                      <a:pt x="375" y="251"/>
                      <a:pt x="384" y="252"/>
                    </a:cubicBezTo>
                    <a:cubicBezTo>
                      <a:pt x="395" y="256"/>
                      <a:pt x="408" y="259"/>
                      <a:pt x="419" y="261"/>
                    </a:cubicBezTo>
                    <a:cubicBezTo>
                      <a:pt x="425" y="264"/>
                      <a:pt x="430" y="266"/>
                      <a:pt x="437" y="267"/>
                    </a:cubicBezTo>
                    <a:cubicBezTo>
                      <a:pt x="446" y="271"/>
                      <a:pt x="458" y="270"/>
                      <a:pt x="468" y="272"/>
                    </a:cubicBezTo>
                    <a:cubicBezTo>
                      <a:pt x="475" y="276"/>
                      <a:pt x="483" y="278"/>
                      <a:pt x="491" y="279"/>
                    </a:cubicBezTo>
                    <a:cubicBezTo>
                      <a:pt x="497" y="282"/>
                      <a:pt x="502" y="284"/>
                      <a:pt x="509" y="285"/>
                    </a:cubicBezTo>
                    <a:cubicBezTo>
                      <a:pt x="515" y="288"/>
                      <a:pt x="523" y="290"/>
                      <a:pt x="530" y="291"/>
                    </a:cubicBezTo>
                    <a:cubicBezTo>
                      <a:pt x="542" y="297"/>
                      <a:pt x="556" y="295"/>
                      <a:pt x="569" y="297"/>
                    </a:cubicBezTo>
                    <a:cubicBezTo>
                      <a:pt x="586" y="306"/>
                      <a:pt x="607" y="307"/>
                      <a:pt x="626" y="308"/>
                    </a:cubicBezTo>
                    <a:cubicBezTo>
                      <a:pt x="639" y="310"/>
                      <a:pt x="655" y="316"/>
                      <a:pt x="668" y="320"/>
                    </a:cubicBezTo>
                    <a:cubicBezTo>
                      <a:pt x="676" y="326"/>
                      <a:pt x="689" y="325"/>
                      <a:pt x="698" y="326"/>
                    </a:cubicBezTo>
                    <a:cubicBezTo>
                      <a:pt x="704" y="326"/>
                      <a:pt x="716" y="327"/>
                      <a:pt x="716" y="327"/>
                    </a:cubicBezTo>
                    <a:lnTo>
                      <a:pt x="720" y="624"/>
                    </a:lnTo>
                    <a:lnTo>
                      <a:pt x="0" y="624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V="1">
                <a:off x="5440320" y="4493880"/>
                <a:ext cx="0" cy="1114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6215760" y="566244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635800" y="4435560"/>
                <a:ext cx="266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622920" y="48470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041520" y="5036760"/>
                <a:ext cx="257760" cy="13932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5762160" y="4728960"/>
                <a:ext cx="0" cy="87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6728760" y="5256720"/>
                <a:ext cx="0" cy="35172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440320" y="5608440"/>
                <a:ext cx="17398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762160" y="4731120"/>
                <a:ext cx="966600" cy="586440"/>
              </a:xfrm>
              <a:custGeom>
                <a:avLst/>
                <a:gdLst/>
                <a:ahLst/>
                <a:rect l="l" t="t" r="r" b="b"/>
                <a:pathLst>
                  <a:path w="528" h="240">
                    <a:moveTo>
                      <a:pt x="0" y="0"/>
                    </a:moveTo>
                    <a:cubicBezTo>
                      <a:pt x="52" y="52"/>
                      <a:pt x="104" y="104"/>
                      <a:pt x="192" y="144"/>
                    </a:cubicBezTo>
                    <a:cubicBezTo>
                      <a:pt x="280" y="184"/>
                      <a:pt x="404" y="212"/>
                      <a:pt x="528" y="240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5681520" y="4669920"/>
                <a:ext cx="154440" cy="140400"/>
              </a:xfrm>
              <a:prstGeom prst="ellipse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648120" y="5231880"/>
                <a:ext cx="154440" cy="140760"/>
              </a:xfrm>
              <a:prstGeom prst="ellipse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4" name=""/>
          <p:cNvGrpSpPr/>
          <p:nvPr/>
        </p:nvGrpSpPr>
        <p:grpSpPr>
          <a:xfrm>
            <a:off x="7088040" y="4222800"/>
            <a:ext cx="1783080" cy="1731240"/>
            <a:chOff x="7088040" y="4222800"/>
            <a:chExt cx="1783080" cy="1731240"/>
          </a:xfrm>
        </p:grpSpPr>
        <p:grpSp>
          <p:nvGrpSpPr>
            <p:cNvPr id="585" name=""/>
            <p:cNvGrpSpPr/>
            <p:nvPr/>
          </p:nvGrpSpPr>
          <p:grpSpPr>
            <a:xfrm>
              <a:off x="7645320" y="4222800"/>
              <a:ext cx="677880" cy="1177920"/>
              <a:chOff x="7645320" y="4222800"/>
              <a:chExt cx="677880" cy="1177920"/>
            </a:xfrm>
          </p:grpSpPr>
          <mc:AlternateContent>
            <mc:Choice xmlns:a14="http://schemas.microsoft.com/office/drawing/2010/main" Requires="a14">
              <p:sp>
                <p:nvSpPr>
                  <p:cNvPr id="586" name=""/>
                  <p:cNvSpPr txBox="1"/>
                  <p:nvPr/>
                </p:nvSpPr>
                <p:spPr>
                  <a:xfrm>
                    <a:off x="7723080" y="4222800"/>
                    <a:ext cx="600120" cy="442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∝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γ</m:t>
                                </m:r>
                              </m:sup>
                            </m:sSup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587" name=""/>
              <p:cNvGrpSpPr/>
              <p:nvPr/>
            </p:nvGrpSpPr>
            <p:grpSpPr>
              <a:xfrm>
                <a:off x="7645320" y="4784760"/>
                <a:ext cx="641520" cy="615960"/>
                <a:chOff x="7645320" y="4784760"/>
                <a:chExt cx="641520" cy="615960"/>
              </a:xfrm>
            </p:grpSpPr>
            <p:sp>
              <p:nvSpPr>
                <p:cNvPr id="588" name=""/>
                <p:cNvSpPr/>
                <p:nvPr/>
              </p:nvSpPr>
              <p:spPr>
                <a:xfrm>
                  <a:off x="7807320" y="5065920"/>
                  <a:ext cx="2844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8023320" y="506736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8115120" y="527868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793584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7645320" y="4789800"/>
                  <a:ext cx="120600" cy="587160"/>
                </a:xfrm>
                <a:prstGeom prst="rect">
                  <a:avLst/>
                </a:prstGeom>
                <a:solidFill>
                  <a:srgbClr val="cc6600"/>
                </a:solidFill>
                <a:ln w="1764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8174160" y="4784760"/>
                  <a:ext cx="112680" cy="595440"/>
                </a:xfrm>
                <a:prstGeom prst="rect">
                  <a:avLst/>
                </a:prstGeom>
                <a:solidFill>
                  <a:srgbClr val="cc6600"/>
                </a:solidFill>
                <a:ln w="1764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7648560" y="5364360"/>
                  <a:ext cx="635040" cy="36360"/>
                </a:xfrm>
                <a:prstGeom prst="rect">
                  <a:avLst/>
                </a:prstGeom>
                <a:solidFill>
                  <a:srgbClr val="cc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7910640" y="5065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8113680" y="5065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7783560" y="5170680"/>
                  <a:ext cx="252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7783560" y="5274000"/>
                  <a:ext cx="252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8012160" y="52992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803736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7859520" y="511812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7935840" y="52992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7986600" y="52214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7986600" y="511812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7859520" y="51962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8088120" y="52214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811368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8074080" y="5119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7910640" y="52470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7762680" y="4921560"/>
                  <a:ext cx="411480" cy="101520"/>
                </a:xfrm>
                <a:prstGeom prst="rect">
                  <a:avLst/>
                </a:prstGeom>
                <a:solidFill>
                  <a:srgbClr val="fafd00"/>
                </a:solidFill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1" name=""/>
              <p:cNvSpPr/>
              <p:nvPr/>
            </p:nvSpPr>
            <p:spPr>
              <a:xfrm>
                <a:off x="7974000" y="4645080"/>
                <a:ext cx="0" cy="255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12" name=""/>
            <p:cNvSpPr/>
            <p:nvPr/>
          </p:nvSpPr>
          <p:spPr>
            <a:xfrm>
              <a:off x="7088040" y="5495040"/>
              <a:ext cx="1783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, pressure and temperature chan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727920" y="1260360"/>
            <a:ext cx="40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thermal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temperatur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14" name=""/>
          <p:cNvGraphicFramePr/>
          <p:nvPr/>
        </p:nvGraphicFramePr>
        <p:xfrm>
          <a:off x="704880" y="1820880"/>
          <a:ext cx="421812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1820880"/>
                    <a:ext cx="42181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6" name=""/>
          <p:cNvSpPr/>
          <p:nvPr/>
        </p:nvSpPr>
        <p:spPr>
          <a:xfrm>
            <a:off x="388800" y="55440"/>
            <a:ext cx="83822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Review (2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33680" y="4043520"/>
            <a:ext cx="284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iabat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no heat flow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18" name=""/>
          <p:cNvGraphicFramePr/>
          <p:nvPr/>
        </p:nvGraphicFramePr>
        <p:xfrm>
          <a:off x="793800" y="4719600"/>
          <a:ext cx="3846600" cy="117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3800" y="4719600"/>
                    <a:ext cx="3846600" cy="11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788760" y="55440"/>
            <a:ext cx="7575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losed Thermodynamic Cycl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995400" y="2386080"/>
            <a:ext cx="2994840" cy="2040480"/>
            <a:chOff x="995400" y="2386080"/>
            <a:chExt cx="2994840" cy="2040480"/>
          </a:xfrm>
        </p:grpSpPr>
        <p:sp>
          <p:nvSpPr>
            <p:cNvPr id="622" name=""/>
            <p:cNvSpPr/>
            <p:nvPr/>
          </p:nvSpPr>
          <p:spPr>
            <a:xfrm flipV="1">
              <a:off x="1344600" y="2544480"/>
              <a:ext cx="0" cy="1523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640320" y="40276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995400" y="2386080"/>
              <a:ext cx="36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620720" y="3456000"/>
              <a:ext cx="307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614240" y="27352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344600" y="4068720"/>
              <a:ext cx="2549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396960" y="3062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947600" y="2913120"/>
              <a:ext cx="1398240" cy="709560"/>
            </a:xfrm>
            <a:custGeom>
              <a:avLst/>
              <a:gdLst/>
              <a:ahLst/>
              <a:rect l="l" t="t" r="r" b="b"/>
              <a:pathLst>
                <a:path w="576" h="336">
                  <a:moveTo>
                    <a:pt x="0" y="336"/>
                  </a:moveTo>
                  <a:lnTo>
                    <a:pt x="0" y="0"/>
                  </a:lnTo>
                  <a:lnTo>
                    <a:pt x="576" y="144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1947600" y="3136680"/>
              <a:ext cx="0" cy="7596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358720" y="3003480"/>
              <a:ext cx="328320" cy="6192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2462040" y="3375000"/>
              <a:ext cx="328320" cy="10008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65160" y="2836800"/>
              <a:ext cx="1648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263760" y="3141720"/>
              <a:ext cx="1630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65160" y="3541680"/>
              <a:ext cx="1648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6" name=""/>
          <p:cNvSpPr/>
          <p:nvPr/>
        </p:nvSpPr>
        <p:spPr>
          <a:xfrm>
            <a:off x="654120" y="1722600"/>
            <a:ext cx="800100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 closed cycle is one in which the system returns to the initial state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same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and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 For exampl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is a state function.  Therefo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net work is the enclosed are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is conserved (1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aw):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182960" y="1003320"/>
            <a:ext cx="65588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osed cycles will form the basis of our heat engine discuss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38" name=""/>
          <p:cNvGraphicFramePr/>
          <p:nvPr/>
        </p:nvGraphicFramePr>
        <p:xfrm>
          <a:off x="4446720" y="4464000"/>
          <a:ext cx="1658880" cy="92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720" y="4464000"/>
                    <a:ext cx="165888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0" name=""/>
          <p:cNvSpPr/>
          <p:nvPr/>
        </p:nvSpPr>
        <p:spPr>
          <a:xfrm>
            <a:off x="6126120" y="4794120"/>
            <a:ext cx="185760" cy="590760"/>
          </a:xfrm>
          <a:custGeom>
            <a:avLst/>
            <a:gdLst>
              <a:gd name="textAreaLeft" fmla="*/ 0 w 185760"/>
              <a:gd name="textAreaRight" fmla="*/ 66960 w 185760"/>
              <a:gd name="textAreaTop" fmla="*/ 15120 h 590760"/>
              <a:gd name="textAreaBottom" fmla="*/ 575640 h 59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438960" y="4730760"/>
            <a:ext cx="2705040" cy="8240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the reason that neither W nor Q is a state function.  It makes no sense to talk about a state having a certain amount of W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55560" y="5757840"/>
            <a:ext cx="5537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ough of course we could use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curves to make a closed cycle, here we will consid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sochoric, isobaric, isothermal, and adiabatic process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51000" y="58680"/>
            <a:ext cx="84326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Introduction to Heat Engin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582120" y="972720"/>
            <a:ext cx="82407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ne of the primary applications of thermodynamics is to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urn heat into wor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standard heat engine works on a cyclic proces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xtract h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rom a hot reservoir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erform wor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using some of the extracted heat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ump unused h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to a cold reservoir (often the environment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rep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ver and over.   We represent this process with a diagra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688000" y="3327480"/>
            <a:ext cx="3133800" cy="73332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 “reservoir” is a large body whose temperature doesn’t change when it absorbs or gives up hea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1225440" y="3333600"/>
            <a:ext cx="3962520" cy="2261520"/>
            <a:chOff x="1225440" y="3333600"/>
            <a:chExt cx="3962520" cy="2261520"/>
          </a:xfrm>
        </p:grpSpPr>
        <p:sp>
          <p:nvSpPr>
            <p:cNvPr id="647" name=""/>
            <p:cNvSpPr/>
            <p:nvPr/>
          </p:nvSpPr>
          <p:spPr>
            <a:xfrm>
              <a:off x="4649760" y="4361040"/>
              <a:ext cx="538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147760" y="4152960"/>
              <a:ext cx="1567080" cy="723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67040" y="3333600"/>
              <a:ext cx="2406600" cy="41148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Hot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419200" y="3754440"/>
              <a:ext cx="0" cy="1461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51" name=""/>
            <p:cNvGrpSpPr/>
            <p:nvPr/>
          </p:nvGrpSpPr>
          <p:grpSpPr>
            <a:xfrm>
              <a:off x="3151080" y="3754440"/>
              <a:ext cx="1086120" cy="1450440"/>
              <a:chOff x="3151080" y="3754440"/>
              <a:chExt cx="1086120" cy="1450440"/>
            </a:xfrm>
          </p:grpSpPr>
          <p:sp>
            <p:nvSpPr>
              <p:cNvPr id="652" name=""/>
              <p:cNvSpPr/>
              <p:nvPr/>
            </p:nvSpPr>
            <p:spPr>
              <a:xfrm>
                <a:off x="3151080" y="4468680"/>
                <a:ext cx="0" cy="7362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3164040" y="4468680"/>
                <a:ext cx="423720" cy="22176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3460680" y="3754440"/>
                <a:ext cx="0" cy="49176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460680" y="4233600"/>
                <a:ext cx="381240" cy="17424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3801960" y="4397040"/>
                <a:ext cx="4352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3575160" y="4678200"/>
                <a:ext cx="6476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flipV="1">
                <a:off x="4237200" y="4397040"/>
                <a:ext cx="0" cy="2808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59" name=""/>
            <p:cNvSpPr/>
            <p:nvPr/>
          </p:nvSpPr>
          <p:spPr>
            <a:xfrm>
              <a:off x="1225440" y="4327560"/>
              <a:ext cx="101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ngine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3930120" y="4535640"/>
              <a:ext cx="739800" cy="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V="1">
              <a:off x="2655720" y="3752640"/>
              <a:ext cx="0" cy="431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624040" y="3773520"/>
              <a:ext cx="4683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994040" y="518940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old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V="1">
              <a:off x="2681280" y="4787640"/>
              <a:ext cx="0" cy="38412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665440" y="4853160"/>
              <a:ext cx="663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1274760" y="5935680"/>
            <a:ext cx="4089240" cy="382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4000"/>
          </a:bodyPr>
          <a:p>
            <a:pPr marL="268560" indent="-2685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Energy is conserved: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+ W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667480" y="4681440"/>
            <a:ext cx="3049560" cy="57852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For heat engines 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we will define Q</a:t>
            </a:r>
            <a:r>
              <a:rPr b="0" lang="en-US" sz="1400" spc="-1" strike="noStrike" baseline="-25000">
                <a:solidFill>
                  <a:srgbClr val="fafd00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 , Q</a:t>
            </a:r>
            <a:r>
              <a:rPr b="0" lang="en-US" sz="1400" spc="-1" strike="noStrike" baseline="-25000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 , and W</a:t>
            </a:r>
            <a:r>
              <a:rPr b="0" lang="en-US" sz="14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 as positive.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9760" y="52560"/>
            <a:ext cx="79232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Simple Heat Engine:</a:t>
            </a:r>
            <a:br>
              <a:rPr sz="1800"/>
            </a:br>
            <a:br>
              <a:rPr sz="18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the Stirling Cycle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844200" y="5119560"/>
            <a:ext cx="65602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wo reservoir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 processes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isotherms and two isoch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net work during one cycle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rea of the “parallelogram”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2262240" y="-92880"/>
            <a:ext cx="4855680" cy="4942080"/>
            <a:chOff x="2262240" y="-92880"/>
            <a:chExt cx="4855680" cy="4942080"/>
          </a:xfrm>
        </p:grpSpPr>
        <p:grpSp>
          <p:nvGrpSpPr>
            <p:cNvPr id="671" name=""/>
            <p:cNvGrpSpPr/>
            <p:nvPr/>
          </p:nvGrpSpPr>
          <p:grpSpPr>
            <a:xfrm>
              <a:off x="2262240" y="-92880"/>
              <a:ext cx="4855680" cy="4942080"/>
              <a:chOff x="2262240" y="-92880"/>
              <a:chExt cx="4855680" cy="4942080"/>
            </a:xfrm>
          </p:grpSpPr>
          <p:sp>
            <p:nvSpPr>
              <p:cNvPr id="672" name=""/>
              <p:cNvSpPr/>
              <p:nvPr/>
            </p:nvSpPr>
            <p:spPr>
              <a:xfrm>
                <a:off x="5538600" y="446400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V="1">
                <a:off x="2585880" y="1747800"/>
                <a:ext cx="0" cy="2733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2598480" y="4481640"/>
                <a:ext cx="346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4733640" y="3990960"/>
                <a:ext cx="470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4417920" y="3433680"/>
                <a:ext cx="94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471840" y="4478400"/>
                <a:ext cx="396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4238640" y="4478400"/>
                <a:ext cx="622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2262240" y="15778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3384360" y="-81720"/>
                <a:ext cx="3733560" cy="3738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959" y="21220"/>
                    </a:moveTo>
                    <a:arcTo wR="10800" hR="10800" stAng="6315115" swAng="34984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959" y="21220"/>
                    </a:moveTo>
                    <a:arcTo wR="10800" hR="10800" stAng="6315115" swAng="3498494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952000" y="418680"/>
                <a:ext cx="3735360" cy="373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305" y="21589"/>
                    </a:moveTo>
                    <a:arcTo wR="10800" hR="10800" stAng="5557570" swAng="387726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305" y="21589"/>
                    </a:moveTo>
                    <a:arcTo wR="10800" hR="10800" stAng="5557570" swAng="3877261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3376080" y="-92880"/>
                <a:ext cx="3734280" cy="3737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586" y="20258"/>
                    </a:moveTo>
                    <a:arcTo wR="10800" hR="10800" stAng="7131970" swAng="174534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586" y="20258"/>
                    </a:moveTo>
                    <a:arcTo wR="10800" hR="10800" stAng="7131970" swAng="1745341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2946960" y="412560"/>
                <a:ext cx="3732120" cy="373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283" y="21303"/>
                    </a:moveTo>
                    <a:arcTo wR="10800" hR="10800" stAng="6208640" swAng="14614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283" y="21303"/>
                    </a:moveTo>
                    <a:arcTo wR="10800" hR="10800" stAng="6208640" swAng="1461478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flipV="1">
                <a:off x="3632040" y="2784600"/>
                <a:ext cx="0" cy="94608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4367160" y="3430440"/>
                <a:ext cx="0" cy="64620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3632040" y="3722760"/>
                <a:ext cx="0" cy="78408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4367160" y="4084560"/>
                <a:ext cx="0" cy="44460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88" name=""/>
            <p:cNvSpPr/>
            <p:nvPr/>
          </p:nvSpPr>
          <p:spPr>
            <a:xfrm>
              <a:off x="3381120" y="3116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881160" y="28875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341600" y="3630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870000" y="3954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/>
          <p:nvPr/>
        </p:nvSpPr>
        <p:spPr>
          <a:xfrm>
            <a:off x="162360" y="1160640"/>
            <a:ext cx="450288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ich processes in a Stirling cycl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rrespond to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heat flow diagram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 and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 and 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14160" y="583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5247000" y="1116720"/>
            <a:ext cx="4855680" cy="4942080"/>
            <a:chOff x="5247000" y="1116720"/>
            <a:chExt cx="4855680" cy="4942080"/>
          </a:xfrm>
        </p:grpSpPr>
        <p:grpSp>
          <p:nvGrpSpPr>
            <p:cNvPr id="695" name=""/>
            <p:cNvGrpSpPr/>
            <p:nvPr/>
          </p:nvGrpSpPr>
          <p:grpSpPr>
            <a:xfrm>
              <a:off x="5247000" y="1116720"/>
              <a:ext cx="4855680" cy="4942080"/>
              <a:chOff x="5247000" y="1116720"/>
              <a:chExt cx="4855680" cy="4942080"/>
            </a:xfrm>
          </p:grpSpPr>
          <p:sp>
            <p:nvSpPr>
              <p:cNvPr id="696" name=""/>
              <p:cNvSpPr/>
              <p:nvPr/>
            </p:nvSpPr>
            <p:spPr>
              <a:xfrm>
                <a:off x="8523360" y="567360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V="1">
                <a:off x="5570640" y="2957400"/>
                <a:ext cx="0" cy="2733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5583240" y="5691240"/>
                <a:ext cx="346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718400" y="5200560"/>
                <a:ext cx="470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402680" y="4643280"/>
                <a:ext cx="94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6456600" y="5688000"/>
                <a:ext cx="396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223400" y="5688000"/>
                <a:ext cx="622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5247000" y="27874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6369120" y="1127880"/>
                <a:ext cx="3733560" cy="3738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959" y="21220"/>
                    </a:moveTo>
                    <a:arcTo wR="10800" hR="10800" stAng="6315115" swAng="34984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959" y="21220"/>
                    </a:moveTo>
                    <a:arcTo wR="10800" hR="10800" stAng="6315115" swAng="3498494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5936760" y="1628280"/>
                <a:ext cx="3735360" cy="373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305" y="21589"/>
                    </a:moveTo>
                    <a:arcTo wR="10800" hR="10800" stAng="5557570" swAng="387726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305" y="21589"/>
                    </a:moveTo>
                    <a:arcTo wR="10800" hR="10800" stAng="5557570" swAng="3877261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6360840" y="1116720"/>
                <a:ext cx="3734280" cy="3737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586" y="20258"/>
                    </a:moveTo>
                    <a:arcTo wR="10800" hR="10800" stAng="7131970" swAng="174534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586" y="20258"/>
                    </a:moveTo>
                    <a:arcTo wR="10800" hR="10800" stAng="7131970" swAng="1745341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931720" y="1622160"/>
                <a:ext cx="3732120" cy="373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283" y="21303"/>
                    </a:moveTo>
                    <a:arcTo wR="10800" hR="10800" stAng="6208640" swAng="14614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283" y="21303"/>
                    </a:moveTo>
                    <a:arcTo wR="10800" hR="10800" stAng="6208640" swAng="1461478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V="1">
                <a:off x="6616800" y="3994200"/>
                <a:ext cx="0" cy="94608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7351920" y="4640040"/>
                <a:ext cx="0" cy="64620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6616800" y="4932360"/>
                <a:ext cx="0" cy="78408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7351920" y="5294160"/>
                <a:ext cx="0" cy="44460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12" name=""/>
            <p:cNvSpPr/>
            <p:nvPr/>
          </p:nvSpPr>
          <p:spPr>
            <a:xfrm>
              <a:off x="6365160" y="43257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865200" y="4097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325640" y="48402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854040" y="51642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5000760" y="560520"/>
            <a:ext cx="3961800" cy="2261520"/>
            <a:chOff x="5000760" y="560520"/>
            <a:chExt cx="3961800" cy="2261520"/>
          </a:xfrm>
        </p:grpSpPr>
        <p:sp>
          <p:nvSpPr>
            <p:cNvPr id="717" name=""/>
            <p:cNvSpPr/>
            <p:nvPr/>
          </p:nvSpPr>
          <p:spPr>
            <a:xfrm>
              <a:off x="8424720" y="1587960"/>
              <a:ext cx="53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922720" y="1379880"/>
              <a:ext cx="1566720" cy="723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742000" y="560520"/>
              <a:ext cx="2406240" cy="41148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Hot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194160" y="981360"/>
              <a:ext cx="0" cy="1461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21" name=""/>
            <p:cNvGrpSpPr/>
            <p:nvPr/>
          </p:nvGrpSpPr>
          <p:grpSpPr>
            <a:xfrm>
              <a:off x="6926040" y="981360"/>
              <a:ext cx="1085760" cy="1450440"/>
              <a:chOff x="6926040" y="981360"/>
              <a:chExt cx="1085760" cy="1450440"/>
            </a:xfrm>
          </p:grpSpPr>
          <p:sp>
            <p:nvSpPr>
              <p:cNvPr id="722" name=""/>
              <p:cNvSpPr/>
              <p:nvPr/>
            </p:nvSpPr>
            <p:spPr>
              <a:xfrm>
                <a:off x="6926040" y="1695600"/>
                <a:ext cx="0" cy="7362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6938640" y="1695600"/>
                <a:ext cx="423360" cy="22176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235280" y="981360"/>
                <a:ext cx="0" cy="49176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235280" y="1460520"/>
                <a:ext cx="380880" cy="17424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7576560" y="1623960"/>
                <a:ext cx="43488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7349760" y="1905120"/>
                <a:ext cx="64728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V="1">
                <a:off x="8011800" y="1623960"/>
                <a:ext cx="0" cy="2808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29" name=""/>
            <p:cNvSpPr/>
            <p:nvPr/>
          </p:nvSpPr>
          <p:spPr>
            <a:xfrm>
              <a:off x="5000760" y="155448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ngine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>
              <a:off x="7705440" y="1762560"/>
              <a:ext cx="739440" cy="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V="1">
              <a:off x="6430680" y="979560"/>
              <a:ext cx="0" cy="431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399000" y="1000440"/>
              <a:ext cx="468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769000" y="2416320"/>
              <a:ext cx="242676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old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V="1">
              <a:off x="6456240" y="2014560"/>
              <a:ext cx="0" cy="38412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440400" y="2080080"/>
              <a:ext cx="663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/>
          <p:nvPr/>
        </p:nvSpPr>
        <p:spPr>
          <a:xfrm>
            <a:off x="162360" y="1160640"/>
            <a:ext cx="450288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ich processes in a Stirling cycl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rrespond to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heat flow diagram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 and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 and 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14160" y="583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71360" y="3263760"/>
            <a:ext cx="526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rocess 1 is obvious, since we’re heating the ga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the isothermal expansion (process 2), although the temperature is kept constan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still have to put heat in to do the work from the expans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66680" y="2297160"/>
            <a:ext cx="1162080" cy="2667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5247000" y="1116720"/>
            <a:ext cx="4855680" cy="4942080"/>
            <a:chOff x="5247000" y="1116720"/>
            <a:chExt cx="4855680" cy="4942080"/>
          </a:xfrm>
        </p:grpSpPr>
        <p:grpSp>
          <p:nvGrpSpPr>
            <p:cNvPr id="741" name=""/>
            <p:cNvGrpSpPr/>
            <p:nvPr/>
          </p:nvGrpSpPr>
          <p:grpSpPr>
            <a:xfrm>
              <a:off x="5247000" y="1116720"/>
              <a:ext cx="4855680" cy="4942080"/>
              <a:chOff x="5247000" y="1116720"/>
              <a:chExt cx="4855680" cy="4942080"/>
            </a:xfrm>
          </p:grpSpPr>
          <p:sp>
            <p:nvSpPr>
              <p:cNvPr id="742" name=""/>
              <p:cNvSpPr/>
              <p:nvPr/>
            </p:nvSpPr>
            <p:spPr>
              <a:xfrm>
                <a:off x="8523360" y="567360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V="1">
                <a:off x="5570640" y="2957400"/>
                <a:ext cx="0" cy="2733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5583240" y="5691240"/>
                <a:ext cx="346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7718400" y="5200560"/>
                <a:ext cx="470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402680" y="4643280"/>
                <a:ext cx="94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6456600" y="5688000"/>
                <a:ext cx="396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223400" y="5688000"/>
                <a:ext cx="622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5247000" y="27874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6369120" y="1127880"/>
                <a:ext cx="3733560" cy="3738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959" y="21220"/>
                    </a:moveTo>
                    <a:arcTo wR="10800" hR="10800" stAng="6315115" swAng="34984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959" y="21220"/>
                    </a:moveTo>
                    <a:arcTo wR="10800" hR="10800" stAng="6315115" swAng="3498494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5936760" y="1628280"/>
                <a:ext cx="3735360" cy="373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305" y="21589"/>
                    </a:moveTo>
                    <a:arcTo wR="10800" hR="10800" stAng="5557570" swAng="387726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305" y="21589"/>
                    </a:moveTo>
                    <a:arcTo wR="10800" hR="10800" stAng="5557570" swAng="3877261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6360840" y="1116720"/>
                <a:ext cx="3734280" cy="3737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586" y="20258"/>
                    </a:moveTo>
                    <a:arcTo wR="10800" hR="10800" stAng="7131970" swAng="174534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586" y="20258"/>
                    </a:moveTo>
                    <a:arcTo wR="10800" hR="10800" stAng="7131970" swAng="1745341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5931720" y="1622160"/>
                <a:ext cx="3732120" cy="373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283" y="21303"/>
                    </a:moveTo>
                    <a:arcTo wR="10800" hR="10800" stAng="6208640" swAng="14614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283" y="21303"/>
                    </a:moveTo>
                    <a:arcTo wR="10800" hR="10800" stAng="6208640" swAng="1461478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flipV="1">
                <a:off x="6616800" y="3994200"/>
                <a:ext cx="0" cy="94608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7351920" y="4640040"/>
                <a:ext cx="0" cy="64620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6616800" y="4932360"/>
                <a:ext cx="0" cy="78408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7351920" y="5294160"/>
                <a:ext cx="0" cy="44460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58" name=""/>
            <p:cNvSpPr/>
            <p:nvPr/>
          </p:nvSpPr>
          <p:spPr>
            <a:xfrm>
              <a:off x="6365160" y="43257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865200" y="4097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325640" y="48402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854040" y="51642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62" name=""/>
          <p:cNvGrpSpPr/>
          <p:nvPr/>
        </p:nvGrpSpPr>
        <p:grpSpPr>
          <a:xfrm>
            <a:off x="5000760" y="560520"/>
            <a:ext cx="3961800" cy="2261520"/>
            <a:chOff x="5000760" y="560520"/>
            <a:chExt cx="3961800" cy="2261520"/>
          </a:xfrm>
        </p:grpSpPr>
        <p:sp>
          <p:nvSpPr>
            <p:cNvPr id="763" name=""/>
            <p:cNvSpPr/>
            <p:nvPr/>
          </p:nvSpPr>
          <p:spPr>
            <a:xfrm>
              <a:off x="8424720" y="1587960"/>
              <a:ext cx="53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922720" y="1379880"/>
              <a:ext cx="1566720" cy="723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742000" y="560520"/>
              <a:ext cx="2406240" cy="41148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Hot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194160" y="981360"/>
              <a:ext cx="0" cy="1461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67" name=""/>
            <p:cNvGrpSpPr/>
            <p:nvPr/>
          </p:nvGrpSpPr>
          <p:grpSpPr>
            <a:xfrm>
              <a:off x="6926040" y="981360"/>
              <a:ext cx="1085760" cy="1450440"/>
              <a:chOff x="6926040" y="981360"/>
              <a:chExt cx="1085760" cy="1450440"/>
            </a:xfrm>
          </p:grpSpPr>
          <p:sp>
            <p:nvSpPr>
              <p:cNvPr id="768" name=""/>
              <p:cNvSpPr/>
              <p:nvPr/>
            </p:nvSpPr>
            <p:spPr>
              <a:xfrm>
                <a:off x="6926040" y="1695600"/>
                <a:ext cx="0" cy="7362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6938640" y="1695600"/>
                <a:ext cx="423360" cy="22176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7235280" y="981360"/>
                <a:ext cx="0" cy="49176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235280" y="1460520"/>
                <a:ext cx="380880" cy="17424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7576560" y="1623960"/>
                <a:ext cx="43488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7349760" y="1905120"/>
                <a:ext cx="64728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flipV="1">
                <a:off x="8011800" y="1623960"/>
                <a:ext cx="0" cy="2808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5" name=""/>
            <p:cNvSpPr/>
            <p:nvPr/>
          </p:nvSpPr>
          <p:spPr>
            <a:xfrm>
              <a:off x="5000760" y="155448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ngine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H="1">
              <a:off x="7705440" y="1762560"/>
              <a:ext cx="739440" cy="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V="1">
              <a:off x="6430680" y="979560"/>
              <a:ext cx="0" cy="431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399000" y="1000440"/>
              <a:ext cx="468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769000" y="2416320"/>
              <a:ext cx="242676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old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6456240" y="2014560"/>
              <a:ext cx="0" cy="38412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440400" y="2080080"/>
              <a:ext cx="663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99760" y="52560"/>
            <a:ext cx="79232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Stirling Cycle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5442120" y="4095720"/>
            <a:ext cx="2436480" cy="2269440"/>
            <a:chOff x="5442120" y="4095720"/>
            <a:chExt cx="2436480" cy="2269440"/>
          </a:xfrm>
        </p:grpSpPr>
        <p:sp>
          <p:nvSpPr>
            <p:cNvPr id="784" name=""/>
            <p:cNvSpPr/>
            <p:nvPr/>
          </p:nvSpPr>
          <p:spPr>
            <a:xfrm>
              <a:off x="5442120" y="473400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451480" y="595944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463360" y="4095720"/>
              <a:ext cx="23446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3) Isochor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temperature decrease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t constant volume (piston can’t move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7" name=""/>
            <p:cNvGrpSpPr/>
            <p:nvPr/>
          </p:nvGrpSpPr>
          <p:grpSpPr>
            <a:xfrm>
              <a:off x="5781600" y="5595840"/>
              <a:ext cx="1677600" cy="331920"/>
              <a:chOff x="5781600" y="5595840"/>
              <a:chExt cx="1677600" cy="331920"/>
            </a:xfrm>
          </p:grpSpPr>
          <p:grpSp>
            <p:nvGrpSpPr>
              <p:cNvPr id="788" name=""/>
              <p:cNvGrpSpPr/>
              <p:nvPr/>
            </p:nvGrpSpPr>
            <p:grpSpPr>
              <a:xfrm>
                <a:off x="5781600" y="5599080"/>
                <a:ext cx="1573200" cy="328680"/>
                <a:chOff x="5781600" y="5599080"/>
                <a:chExt cx="1573200" cy="328680"/>
              </a:xfrm>
            </p:grpSpPr>
            <p:sp>
              <p:nvSpPr>
                <p:cNvPr id="789" name=""/>
                <p:cNvSpPr/>
                <p:nvPr/>
              </p:nvSpPr>
              <p:spPr>
                <a:xfrm>
                  <a:off x="5792760" y="592776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5792760" y="55990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 flipV="1">
                  <a:off x="5781600" y="560232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2" name=""/>
              <p:cNvGrpSpPr/>
              <p:nvPr/>
            </p:nvGrpSpPr>
            <p:grpSpPr>
              <a:xfrm>
                <a:off x="6786720" y="5595840"/>
                <a:ext cx="672480" cy="331560"/>
                <a:chOff x="6786720" y="5595840"/>
                <a:chExt cx="672480" cy="331560"/>
              </a:xfrm>
            </p:grpSpPr>
            <p:sp>
              <p:nvSpPr>
                <p:cNvPr id="793" name=""/>
                <p:cNvSpPr/>
                <p:nvPr/>
              </p:nvSpPr>
              <p:spPr>
                <a:xfrm>
                  <a:off x="6786720" y="559584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 flipV="1">
                  <a:off x="6788160" y="5760360"/>
                  <a:ext cx="67104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5" name=""/>
              <p:cNvSpPr/>
              <p:nvPr/>
            </p:nvSpPr>
            <p:spPr>
              <a:xfrm>
                <a:off x="5797440" y="5613480"/>
                <a:ext cx="98136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96" name=""/>
            <p:cNvSpPr/>
            <p:nvPr/>
          </p:nvSpPr>
          <p:spPr>
            <a:xfrm>
              <a:off x="5973840" y="575928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556240" y="590724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c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701640" y="4246560"/>
            <a:ext cx="2525760" cy="2118600"/>
            <a:chOff x="701640" y="4246560"/>
            <a:chExt cx="2525760" cy="2118600"/>
          </a:xfrm>
        </p:grpSpPr>
        <p:sp>
          <p:nvSpPr>
            <p:cNvPr id="799" name=""/>
            <p:cNvSpPr/>
            <p:nvPr/>
          </p:nvSpPr>
          <p:spPr>
            <a:xfrm>
              <a:off x="708120" y="473400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17480" y="5959440"/>
              <a:ext cx="242748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01" name=""/>
            <p:cNvGrpSpPr/>
            <p:nvPr/>
          </p:nvGrpSpPr>
          <p:grpSpPr>
            <a:xfrm>
              <a:off x="1084320" y="5602320"/>
              <a:ext cx="1573200" cy="331560"/>
              <a:chOff x="1084320" y="5602320"/>
              <a:chExt cx="1573200" cy="331560"/>
            </a:xfrm>
          </p:grpSpPr>
          <p:grpSp>
            <p:nvGrpSpPr>
              <p:cNvPr id="802" name=""/>
              <p:cNvGrpSpPr/>
              <p:nvPr/>
            </p:nvGrpSpPr>
            <p:grpSpPr>
              <a:xfrm>
                <a:off x="1084320" y="5605200"/>
                <a:ext cx="1573200" cy="328680"/>
                <a:chOff x="1084320" y="5605200"/>
                <a:chExt cx="1573200" cy="328680"/>
              </a:xfrm>
            </p:grpSpPr>
            <p:sp>
              <p:nvSpPr>
                <p:cNvPr id="803" name=""/>
                <p:cNvSpPr/>
                <p:nvPr/>
              </p:nvSpPr>
              <p:spPr>
                <a:xfrm>
                  <a:off x="1095480" y="59338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1095480" y="560520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 flipV="1">
                  <a:off x="1084320" y="560844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6" name=""/>
              <p:cNvGrpSpPr/>
              <p:nvPr/>
            </p:nvGrpSpPr>
            <p:grpSpPr>
              <a:xfrm>
                <a:off x="1620720" y="5602320"/>
                <a:ext cx="673200" cy="331560"/>
                <a:chOff x="1620720" y="5602320"/>
                <a:chExt cx="673200" cy="331560"/>
              </a:xfrm>
            </p:grpSpPr>
            <p:sp>
              <p:nvSpPr>
                <p:cNvPr id="807" name=""/>
                <p:cNvSpPr/>
                <p:nvPr/>
              </p:nvSpPr>
              <p:spPr>
                <a:xfrm>
                  <a:off x="1620720" y="560232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 flipV="1">
                  <a:off x="1622520" y="5766840"/>
                  <a:ext cx="67140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9" name=""/>
              <p:cNvSpPr/>
              <p:nvPr/>
            </p:nvSpPr>
            <p:spPr>
              <a:xfrm>
                <a:off x="1100160" y="5619600"/>
                <a:ext cx="50328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10" name=""/>
            <p:cNvSpPr/>
            <p:nvPr/>
          </p:nvSpPr>
          <p:spPr>
            <a:xfrm>
              <a:off x="731520" y="4246560"/>
              <a:ext cx="2069280" cy="48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4) Isotherm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is compressed at constant T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H="1">
              <a:off x="2390760" y="5769000"/>
              <a:ext cx="7603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820960" y="5423040"/>
              <a:ext cx="406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143000" y="578952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01640" y="5913360"/>
              <a:ext cx="460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c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5" name=""/>
          <p:cNvGrpSpPr/>
          <p:nvPr/>
        </p:nvGrpSpPr>
        <p:grpSpPr>
          <a:xfrm>
            <a:off x="708120" y="1000080"/>
            <a:ext cx="2436840" cy="2221920"/>
            <a:chOff x="708120" y="1000080"/>
            <a:chExt cx="2436840" cy="2221920"/>
          </a:xfrm>
        </p:grpSpPr>
        <p:sp>
          <p:nvSpPr>
            <p:cNvPr id="816" name=""/>
            <p:cNvSpPr/>
            <p:nvPr/>
          </p:nvSpPr>
          <p:spPr>
            <a:xfrm>
              <a:off x="708120" y="159084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17480" y="2816280"/>
              <a:ext cx="242748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18" name=""/>
            <p:cNvGrpSpPr/>
            <p:nvPr/>
          </p:nvGrpSpPr>
          <p:grpSpPr>
            <a:xfrm>
              <a:off x="1084320" y="2030400"/>
              <a:ext cx="1573200" cy="331560"/>
              <a:chOff x="1084320" y="2030400"/>
              <a:chExt cx="1573200" cy="331560"/>
            </a:xfrm>
          </p:grpSpPr>
          <p:grpSp>
            <p:nvGrpSpPr>
              <p:cNvPr id="819" name=""/>
              <p:cNvGrpSpPr/>
              <p:nvPr/>
            </p:nvGrpSpPr>
            <p:grpSpPr>
              <a:xfrm>
                <a:off x="1084320" y="2033280"/>
                <a:ext cx="1573200" cy="328680"/>
                <a:chOff x="1084320" y="2033280"/>
                <a:chExt cx="1573200" cy="328680"/>
              </a:xfrm>
            </p:grpSpPr>
            <p:sp>
              <p:nvSpPr>
                <p:cNvPr id="820" name=""/>
                <p:cNvSpPr/>
                <p:nvPr/>
              </p:nvSpPr>
              <p:spPr>
                <a:xfrm>
                  <a:off x="1095480" y="236196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1095480" y="20332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 flipV="1">
                  <a:off x="1084320" y="203652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3" name=""/>
              <p:cNvGrpSpPr/>
              <p:nvPr/>
            </p:nvGrpSpPr>
            <p:grpSpPr>
              <a:xfrm>
                <a:off x="1620720" y="2030400"/>
                <a:ext cx="673200" cy="331560"/>
                <a:chOff x="1620720" y="2030400"/>
                <a:chExt cx="673200" cy="331560"/>
              </a:xfrm>
            </p:grpSpPr>
            <p:sp>
              <p:nvSpPr>
                <p:cNvPr id="824" name=""/>
                <p:cNvSpPr/>
                <p:nvPr/>
              </p:nvSpPr>
              <p:spPr>
                <a:xfrm>
                  <a:off x="1620720" y="203040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 flipV="1">
                  <a:off x="1622520" y="2194920"/>
                  <a:ext cx="67140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6" name=""/>
              <p:cNvSpPr/>
              <p:nvPr/>
            </p:nvSpPr>
            <p:spPr>
              <a:xfrm>
                <a:off x="1100160" y="2047680"/>
                <a:ext cx="50328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27" name=""/>
            <p:cNvSpPr/>
            <p:nvPr/>
          </p:nvSpPr>
          <p:spPr>
            <a:xfrm>
              <a:off x="729360" y="1000080"/>
              <a:ext cx="23446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1) Isochoric</a:t>
              </a:r>
              <a:br>
                <a:rPr sz="14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temperature increase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t constant volume (piston can’t move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360440" y="177156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987480" y="167940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h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0" name=""/>
          <p:cNvGrpSpPr/>
          <p:nvPr/>
        </p:nvGrpSpPr>
        <p:grpSpPr>
          <a:xfrm>
            <a:off x="5442120" y="1103400"/>
            <a:ext cx="2952720" cy="2118600"/>
            <a:chOff x="5442120" y="1103400"/>
            <a:chExt cx="2952720" cy="2118600"/>
          </a:xfrm>
        </p:grpSpPr>
        <p:sp>
          <p:nvSpPr>
            <p:cNvPr id="831" name=""/>
            <p:cNvSpPr/>
            <p:nvPr/>
          </p:nvSpPr>
          <p:spPr>
            <a:xfrm>
              <a:off x="5442120" y="159084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451480" y="281628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33" name=""/>
            <p:cNvGrpSpPr/>
            <p:nvPr/>
          </p:nvGrpSpPr>
          <p:grpSpPr>
            <a:xfrm>
              <a:off x="5818320" y="2030400"/>
              <a:ext cx="1677600" cy="331920"/>
              <a:chOff x="5818320" y="2030400"/>
              <a:chExt cx="1677600" cy="331920"/>
            </a:xfrm>
          </p:grpSpPr>
          <p:grpSp>
            <p:nvGrpSpPr>
              <p:cNvPr id="834" name=""/>
              <p:cNvGrpSpPr/>
              <p:nvPr/>
            </p:nvGrpSpPr>
            <p:grpSpPr>
              <a:xfrm>
                <a:off x="5818320" y="2033640"/>
                <a:ext cx="1573200" cy="328680"/>
                <a:chOff x="5818320" y="2033640"/>
                <a:chExt cx="1573200" cy="328680"/>
              </a:xfrm>
            </p:grpSpPr>
            <p:sp>
              <p:nvSpPr>
                <p:cNvPr id="835" name=""/>
                <p:cNvSpPr/>
                <p:nvPr/>
              </p:nvSpPr>
              <p:spPr>
                <a:xfrm>
                  <a:off x="5829480" y="236232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5829480" y="203364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 flipV="1">
                  <a:off x="5818320" y="203688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8" name=""/>
              <p:cNvGrpSpPr/>
              <p:nvPr/>
            </p:nvGrpSpPr>
            <p:grpSpPr>
              <a:xfrm>
                <a:off x="6823440" y="2030400"/>
                <a:ext cx="672480" cy="331560"/>
                <a:chOff x="6823440" y="2030400"/>
                <a:chExt cx="672480" cy="331560"/>
              </a:xfrm>
            </p:grpSpPr>
            <p:sp>
              <p:nvSpPr>
                <p:cNvPr id="839" name=""/>
                <p:cNvSpPr/>
                <p:nvPr/>
              </p:nvSpPr>
              <p:spPr>
                <a:xfrm>
                  <a:off x="6823440" y="203040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 flipV="1">
                  <a:off x="6824880" y="2194920"/>
                  <a:ext cx="67104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1" name=""/>
              <p:cNvSpPr/>
              <p:nvPr/>
            </p:nvSpPr>
            <p:spPr>
              <a:xfrm>
                <a:off x="5834160" y="2048040"/>
                <a:ext cx="98136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42" name=""/>
            <p:cNvSpPr/>
            <p:nvPr/>
          </p:nvSpPr>
          <p:spPr>
            <a:xfrm>
              <a:off x="5464800" y="1103400"/>
              <a:ext cx="1735200" cy="48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2) Isotherm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expands at constant T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634160" y="2189160"/>
              <a:ext cx="7606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967520" y="2190600"/>
              <a:ext cx="406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058080" y="177156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68920" y="167940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h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3071520" y="2345400"/>
            <a:ext cx="2491560" cy="2510280"/>
            <a:chOff x="3071520" y="2345400"/>
            <a:chExt cx="2491560" cy="2510280"/>
          </a:xfrm>
        </p:grpSpPr>
        <p:sp>
          <p:nvSpPr>
            <p:cNvPr id="848" name=""/>
            <p:cNvSpPr/>
            <p:nvPr/>
          </p:nvSpPr>
          <p:spPr>
            <a:xfrm flipH="1" flipV="1" rot="3079200">
              <a:off x="3406680" y="2743560"/>
              <a:ext cx="1828080" cy="171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rot="3079200">
              <a:off x="3402000" y="2745360"/>
              <a:ext cx="1828080" cy="171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 flipV="1" rot="19279200">
              <a:off x="3453840" y="2681640"/>
              <a:ext cx="171864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 flipV="1" rot="8479200">
              <a:off x="3460680" y="2686320"/>
              <a:ext cx="171864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2" name=""/>
          <p:cNvSpPr/>
          <p:nvPr/>
        </p:nvSpPr>
        <p:spPr>
          <a:xfrm>
            <a:off x="3332160" y="2860560"/>
            <a:ext cx="201132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cycle goes            around like this.</a:t>
            </a: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We don’t describe the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mechanical parts that move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gas cylinder back and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forth between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reservoirs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3" name="" descr=""/>
          <p:cNvPicPr/>
          <p:nvPr/>
        </p:nvPicPr>
        <p:blipFill>
          <a:blip r:embed="rId1"/>
          <a:stretch/>
        </p:blipFill>
        <p:spPr>
          <a:xfrm>
            <a:off x="3251160" y="4708440"/>
            <a:ext cx="2389320" cy="198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14160" y="583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Does this Engine Do Work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582120" y="1125360"/>
            <a:ext cx="7695360" cy="49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ok at the two isothermal processes (2 and 4) on the previous sli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ocess 2: expanding gas does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 the piston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as it expands  from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o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ocess 4: contracting gas is don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by the piston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as it contracts from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o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f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&gt;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the net work is positive.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is true, because the contracting gas is colder (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lower pressure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uring one cycle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hot reservoir has lost some energy (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=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1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+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cold reservoir has gained some energy (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=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3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+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4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engine (the gas cylinder) has neither gained nor lost energy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energy to do work comes from the hot reservoir, not from the engine itself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net work done by the engine i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c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Not all of the energy taken from the hot reservoir becomes useful work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me is lost into the cold reservoir.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 would like to make 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as small as possibl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415880" y="4773600"/>
            <a:ext cx="3795840" cy="4539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555480" y="353052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Total work done by the gas is the sum of steps 2 and 4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447840" y="65160"/>
            <a:ext cx="82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Example: Efficiency of Stirling Cyc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2995560" y="1176480"/>
            <a:ext cx="3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60" name=""/>
          <p:cNvGrpSpPr/>
          <p:nvPr/>
        </p:nvGrpSpPr>
        <p:grpSpPr>
          <a:xfrm>
            <a:off x="3295800" y="1306440"/>
            <a:ext cx="2669040" cy="2093760"/>
            <a:chOff x="3295800" y="1306440"/>
            <a:chExt cx="2669040" cy="2093760"/>
          </a:xfrm>
        </p:grpSpPr>
        <p:sp>
          <p:nvSpPr>
            <p:cNvPr id="861" name=""/>
            <p:cNvSpPr/>
            <p:nvPr/>
          </p:nvSpPr>
          <p:spPr>
            <a:xfrm flipV="1">
              <a:off x="4273560" y="2423880"/>
              <a:ext cx="76320" cy="75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V="1">
              <a:off x="4273560" y="2386080"/>
              <a:ext cx="6336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V="1">
              <a:off x="4273560" y="2424240"/>
              <a:ext cx="7632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017680" y="2962440"/>
              <a:ext cx="88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V="1">
              <a:off x="3295800" y="1306440"/>
              <a:ext cx="0" cy="168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308400" y="2995560"/>
              <a:ext cx="1981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587760" y="170028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803760" y="137016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149800" y="2602080"/>
              <a:ext cx="469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046120" y="2290680"/>
              <a:ext cx="918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99420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841920" y="306396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61628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464000" y="3063960"/>
              <a:ext cx="622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V="1">
              <a:off x="3994200" y="1687680"/>
              <a:ext cx="0" cy="5968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994200" y="1674720"/>
              <a:ext cx="622080" cy="520920"/>
            </a:xfrm>
            <a:custGeom>
              <a:avLst/>
              <a:gdLst/>
              <a:ahLst/>
              <a:rect l="l" t="t" r="r" b="b"/>
              <a:pathLst>
                <a:path w="392" h="328">
                  <a:moveTo>
                    <a:pt x="0" y="0"/>
                  </a:moveTo>
                  <a:cubicBezTo>
                    <a:pt x="67" y="88"/>
                    <a:pt x="135" y="177"/>
                    <a:pt x="200" y="232"/>
                  </a:cubicBezTo>
                  <a:cubicBezTo>
                    <a:pt x="265" y="287"/>
                    <a:pt x="359" y="311"/>
                    <a:pt x="392" y="328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714840" y="1712880"/>
              <a:ext cx="40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248000" y="1712880"/>
              <a:ext cx="4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4629240" y="232236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603680" y="2208240"/>
              <a:ext cx="0" cy="4064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994200" y="2309760"/>
              <a:ext cx="609480" cy="304920"/>
            </a:xfrm>
            <a:custGeom>
              <a:avLst/>
              <a:gdLst/>
              <a:ahLst/>
              <a:rect l="l" t="t" r="r" b="b"/>
              <a:pathLst>
                <a:path w="384" h="192">
                  <a:moveTo>
                    <a:pt x="384" y="192"/>
                  </a:moveTo>
                  <a:cubicBezTo>
                    <a:pt x="292" y="160"/>
                    <a:pt x="200" y="128"/>
                    <a:pt x="136" y="96"/>
                  </a:cubicBezTo>
                  <a:cubicBezTo>
                    <a:pt x="72" y="64"/>
                    <a:pt x="21" y="16"/>
                    <a:pt x="0" y="0"/>
                  </a:cubicBezTo>
                </a:path>
              </a:pathLst>
            </a:custGeom>
            <a:noFill/>
            <a:ln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4095720" y="255096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V="1">
              <a:off x="3994200" y="2004840"/>
              <a:ext cx="0" cy="292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994200" y="1687680"/>
              <a:ext cx="304920" cy="355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616280" y="2208240"/>
              <a:ext cx="0" cy="253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 flipV="1">
              <a:off x="4222800" y="2475000"/>
              <a:ext cx="380880" cy="1396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324320" y="2055960"/>
              <a:ext cx="291960" cy="1522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603680" y="2449440"/>
              <a:ext cx="0" cy="1652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flipH="1" flipV="1">
              <a:off x="3993840" y="1687320"/>
              <a:ext cx="12600" cy="3301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V="1">
              <a:off x="4044960" y="1878120"/>
              <a:ext cx="63360" cy="633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V="1">
              <a:off x="4044960" y="2042640"/>
              <a:ext cx="165240" cy="1652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flipV="1">
              <a:off x="4146480" y="2131920"/>
              <a:ext cx="216000" cy="2160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flipV="1">
              <a:off x="4299120" y="2195640"/>
              <a:ext cx="241200" cy="2412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V="1">
              <a:off x="4476600" y="2423880"/>
              <a:ext cx="76320" cy="75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95" name=""/>
            <p:cNvGrpSpPr/>
            <p:nvPr/>
          </p:nvGrpSpPr>
          <p:grpSpPr>
            <a:xfrm>
              <a:off x="4324320" y="1914480"/>
              <a:ext cx="1612440" cy="382680"/>
              <a:chOff x="4324320" y="1914480"/>
              <a:chExt cx="1612440" cy="382680"/>
            </a:xfrm>
          </p:grpSpPr>
          <p:sp>
            <p:nvSpPr>
              <p:cNvPr id="896" name=""/>
              <p:cNvSpPr/>
              <p:nvPr/>
            </p:nvSpPr>
            <p:spPr>
              <a:xfrm>
                <a:off x="4374720" y="1914480"/>
                <a:ext cx="1562040" cy="344520"/>
              </a:xfrm>
              <a:custGeom>
                <a:avLst/>
                <a:gdLst/>
                <a:ahLst/>
                <a:rect l="l" t="t" r="r" b="b"/>
                <a:pathLst>
                  <a:path w="1096" h="217">
                    <a:moveTo>
                      <a:pt x="0" y="217"/>
                    </a:moveTo>
                    <a:cubicBezTo>
                      <a:pt x="96" y="141"/>
                      <a:pt x="193" y="66"/>
                      <a:pt x="376" y="33"/>
                    </a:cubicBezTo>
                    <a:cubicBezTo>
                      <a:pt x="559" y="0"/>
                      <a:pt x="976" y="20"/>
                      <a:pt x="1096" y="17"/>
                    </a:cubicBezTo>
                  </a:path>
                </a:pathLst>
              </a:custGeom>
              <a:noFill/>
              <a:ln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flipH="1">
                <a:off x="4324320" y="2208240"/>
                <a:ext cx="126720" cy="88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98" name=""/>
          <p:cNvSpPr/>
          <p:nvPr/>
        </p:nvSpPr>
        <p:spPr>
          <a:xfrm>
            <a:off x="6029280" y="1684440"/>
            <a:ext cx="1629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Area enclosed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9" name=""/>
              <p:cNvSpPr txBox="1"/>
              <p:nvPr/>
            </p:nvSpPr>
            <p:spPr>
              <a:xfrm>
                <a:off x="6127920" y="1957320"/>
                <a:ext cx="1338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y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00" name=""/>
          <p:cNvSpPr/>
          <p:nvPr/>
        </p:nvSpPr>
        <p:spPr>
          <a:xfrm>
            <a:off x="5970600" y="1565280"/>
            <a:ext cx="159084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1981080" y="3936960"/>
          <a:ext cx="4002120" cy="226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936960"/>
                    <a:ext cx="4002120" cy="22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3" name=""/>
          <p:cNvSpPr/>
          <p:nvPr/>
        </p:nvSpPr>
        <p:spPr>
          <a:xfrm>
            <a:off x="6036840" y="5497560"/>
            <a:ext cx="2288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We need a temperature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difference if we want to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get work out of the engin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"/>
          <p:cNvSpPr/>
          <p:nvPr/>
        </p:nvSpPr>
        <p:spPr>
          <a:xfrm>
            <a:off x="290520" y="3662280"/>
            <a:ext cx="848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Heat extracted from the hot reservoir, exhausted to cold reservoi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05" name=""/>
          <p:cNvGraphicFramePr/>
          <p:nvPr/>
        </p:nvGraphicFramePr>
        <p:xfrm>
          <a:off x="1879560" y="4175280"/>
          <a:ext cx="4673520" cy="15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9560" y="4175280"/>
                    <a:ext cx="4673520" cy="15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7" name=""/>
          <p:cNvSpPr/>
          <p:nvPr/>
        </p:nvSpPr>
        <p:spPr>
          <a:xfrm>
            <a:off x="447840" y="65160"/>
            <a:ext cx="82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2995560" y="1176480"/>
            <a:ext cx="3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9" name=""/>
          <p:cNvGrpSpPr/>
          <p:nvPr/>
        </p:nvGrpSpPr>
        <p:grpSpPr>
          <a:xfrm>
            <a:off x="3295800" y="1306440"/>
            <a:ext cx="2669040" cy="2093760"/>
            <a:chOff x="3295800" y="1306440"/>
            <a:chExt cx="2669040" cy="2093760"/>
          </a:xfrm>
        </p:grpSpPr>
        <p:sp>
          <p:nvSpPr>
            <p:cNvPr id="910" name=""/>
            <p:cNvSpPr/>
            <p:nvPr/>
          </p:nvSpPr>
          <p:spPr>
            <a:xfrm flipV="1">
              <a:off x="4273560" y="2423880"/>
              <a:ext cx="76320" cy="75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V="1">
              <a:off x="4273560" y="2386080"/>
              <a:ext cx="6336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V="1">
              <a:off x="4273560" y="2424240"/>
              <a:ext cx="7632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5017680" y="2962440"/>
              <a:ext cx="88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V="1">
              <a:off x="3295800" y="1306440"/>
              <a:ext cx="0" cy="168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308400" y="2995560"/>
              <a:ext cx="1981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587760" y="170028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803760" y="137016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149800" y="2602080"/>
              <a:ext cx="469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046120" y="2290680"/>
              <a:ext cx="918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99420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841920" y="306396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61628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464000" y="3063960"/>
              <a:ext cx="622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V="1">
              <a:off x="3994200" y="1687680"/>
              <a:ext cx="0" cy="5968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994200" y="1674720"/>
              <a:ext cx="622080" cy="520920"/>
            </a:xfrm>
            <a:custGeom>
              <a:avLst/>
              <a:gdLst/>
              <a:ahLst/>
              <a:rect l="l" t="t" r="r" b="b"/>
              <a:pathLst>
                <a:path w="392" h="328">
                  <a:moveTo>
                    <a:pt x="0" y="0"/>
                  </a:moveTo>
                  <a:cubicBezTo>
                    <a:pt x="67" y="88"/>
                    <a:pt x="135" y="177"/>
                    <a:pt x="200" y="232"/>
                  </a:cubicBezTo>
                  <a:cubicBezTo>
                    <a:pt x="265" y="287"/>
                    <a:pt x="359" y="311"/>
                    <a:pt x="392" y="328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714840" y="1712880"/>
              <a:ext cx="40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248000" y="1712880"/>
              <a:ext cx="4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4629240" y="232236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4603680" y="2208240"/>
              <a:ext cx="0" cy="4064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994200" y="2309760"/>
              <a:ext cx="609480" cy="304920"/>
            </a:xfrm>
            <a:custGeom>
              <a:avLst/>
              <a:gdLst/>
              <a:ahLst/>
              <a:rect l="l" t="t" r="r" b="b"/>
              <a:pathLst>
                <a:path w="384" h="192">
                  <a:moveTo>
                    <a:pt x="384" y="192"/>
                  </a:moveTo>
                  <a:cubicBezTo>
                    <a:pt x="292" y="160"/>
                    <a:pt x="200" y="128"/>
                    <a:pt x="136" y="96"/>
                  </a:cubicBezTo>
                  <a:cubicBezTo>
                    <a:pt x="72" y="64"/>
                    <a:pt x="21" y="16"/>
                    <a:pt x="0" y="0"/>
                  </a:cubicBezTo>
                </a:path>
              </a:pathLst>
            </a:custGeom>
            <a:noFill/>
            <a:ln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095720" y="255096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V="1">
              <a:off x="3994200" y="2004840"/>
              <a:ext cx="0" cy="292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994200" y="1687680"/>
              <a:ext cx="304920" cy="355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4616280" y="2208240"/>
              <a:ext cx="0" cy="253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flipH="1" flipV="1">
              <a:off x="4222800" y="2475000"/>
              <a:ext cx="380880" cy="1396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4324320" y="2055960"/>
              <a:ext cx="291960" cy="1522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603680" y="2449440"/>
              <a:ext cx="0" cy="1652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H="1" flipV="1">
              <a:off x="3993840" y="1687320"/>
              <a:ext cx="12600" cy="3301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 flipV="1">
              <a:off x="4044960" y="1878120"/>
              <a:ext cx="63360" cy="633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V="1">
              <a:off x="4044960" y="2042640"/>
              <a:ext cx="165240" cy="1652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 flipV="1">
              <a:off x="4146480" y="2131920"/>
              <a:ext cx="216000" cy="2160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 flipV="1">
              <a:off x="4299120" y="2195640"/>
              <a:ext cx="241200" cy="2412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 flipV="1">
              <a:off x="4476600" y="2423880"/>
              <a:ext cx="76320" cy="75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44" name=""/>
            <p:cNvGrpSpPr/>
            <p:nvPr/>
          </p:nvGrpSpPr>
          <p:grpSpPr>
            <a:xfrm>
              <a:off x="4324320" y="1914480"/>
              <a:ext cx="1612440" cy="382680"/>
              <a:chOff x="4324320" y="1914480"/>
              <a:chExt cx="1612440" cy="382680"/>
            </a:xfrm>
          </p:grpSpPr>
          <p:sp>
            <p:nvSpPr>
              <p:cNvPr id="945" name=""/>
              <p:cNvSpPr/>
              <p:nvPr/>
            </p:nvSpPr>
            <p:spPr>
              <a:xfrm>
                <a:off x="4374720" y="1914480"/>
                <a:ext cx="1562040" cy="344520"/>
              </a:xfrm>
              <a:custGeom>
                <a:avLst/>
                <a:gdLst/>
                <a:ahLst/>
                <a:rect l="l" t="t" r="r" b="b"/>
                <a:pathLst>
                  <a:path w="1096" h="217">
                    <a:moveTo>
                      <a:pt x="0" y="217"/>
                    </a:moveTo>
                    <a:cubicBezTo>
                      <a:pt x="96" y="141"/>
                      <a:pt x="193" y="66"/>
                      <a:pt x="376" y="33"/>
                    </a:cubicBezTo>
                    <a:cubicBezTo>
                      <a:pt x="559" y="0"/>
                      <a:pt x="976" y="20"/>
                      <a:pt x="1096" y="17"/>
                    </a:cubicBezTo>
                  </a:path>
                </a:pathLst>
              </a:custGeom>
              <a:noFill/>
              <a:ln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 flipH="1">
                <a:off x="4324320" y="2208240"/>
                <a:ext cx="126720" cy="88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47" name=""/>
          <p:cNvSpPr/>
          <p:nvPr/>
        </p:nvSpPr>
        <p:spPr>
          <a:xfrm>
            <a:off x="6029280" y="1684440"/>
            <a:ext cx="1629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Area enclosed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8" name=""/>
              <p:cNvSpPr txBox="1"/>
              <p:nvPr/>
            </p:nvSpPr>
            <p:spPr>
              <a:xfrm>
                <a:off x="6127920" y="1957320"/>
                <a:ext cx="1338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y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49" name=""/>
          <p:cNvSpPr/>
          <p:nvPr/>
        </p:nvSpPr>
        <p:spPr>
          <a:xfrm>
            <a:off x="5970600" y="1565280"/>
            <a:ext cx="159084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3240" y="57240"/>
            <a:ext cx="716292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ot all Bodies are Blac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05320" y="1600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595520" y="4732200"/>
          <a:ext cx="1790640" cy="60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5520" y="4732200"/>
                    <a:ext cx="179064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809640" y="4051440"/>
            <a:ext cx="310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odified Stefan-Boltzman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aw of Radiati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29160" y="3795840"/>
            <a:ext cx="348444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afd00"/>
                </a:solidFill>
                <a:uFillTx/>
                <a:latin typeface="Arial"/>
              </a:rPr>
              <a:t>Typical emissivities (300 K):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old, polish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02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uminum, anodize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55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te pape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68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rick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93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95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kin (!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9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47640" y="1463040"/>
            <a:ext cx="8288280" cy="19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l materials are not truly “black”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y don’t completely absorb all wavelengths).  The fraction absorbed is calle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orbanc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ich is equal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 to i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missivity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, 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 dimensionless number 0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1 that depends on the properties of the surfac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an ideal emitter (an ideal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lackbod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bsorber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something that doesn’t emit (or absorb) at all, i.e., a perfec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flect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0320" y="6192720"/>
            <a:ext cx="66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is equality didn’t hold, we wouldn’t have thermal equilibriu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50" name=""/>
              <p:cNvSpPr txBox="1"/>
              <p:nvPr/>
            </p:nvSpPr>
            <p:spPr>
              <a:xfrm>
                <a:off x="4483080" y="3244680"/>
                <a:ext cx="176400" cy="3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1" name=""/>
              <p:cNvSpPr txBox="1"/>
              <p:nvPr/>
            </p:nvSpPr>
            <p:spPr>
              <a:xfrm>
                <a:off x="4483080" y="3244680"/>
                <a:ext cx="176400" cy="3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952" name=""/>
          <p:cNvGraphicFramePr/>
          <p:nvPr/>
        </p:nvGraphicFramePr>
        <p:xfrm>
          <a:off x="1519200" y="2840040"/>
          <a:ext cx="4799160" cy="189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2840040"/>
                    <a:ext cx="4799160" cy="18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4" name=""/>
          <p:cNvSpPr/>
          <p:nvPr/>
        </p:nvSpPr>
        <p:spPr>
          <a:xfrm>
            <a:off x="1450800" y="1138320"/>
            <a:ext cx="4515120" cy="15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Let’s put in some number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MS PGothic"/>
              </a:rPr>
              <a:t>b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= 2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MS PGothic"/>
              </a:rPr>
              <a:t>a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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= 3/2   (monatomic gas)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MS PGothic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= 373K (boiling water)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MS PGothic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= 273K (ice wate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1011240" y="5169960"/>
            <a:ext cx="726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We’ll see next time that this is NOT the maximum possible efficiency, which is determined solely by the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MS PGothic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 law of thermodynamic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47840" y="65160"/>
            <a:ext cx="82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990720" y="53640"/>
            <a:ext cx="716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58" name="Rectangle 2"/>
          <p:cNvSpPr/>
          <p:nvPr/>
        </p:nvSpPr>
        <p:spPr>
          <a:xfrm>
            <a:off x="1954080" y="2039760"/>
            <a:ext cx="4945320" cy="21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not Engine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rigerators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Pumps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32920" y="65160"/>
            <a:ext cx="8675640" cy="133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pplication: </a:t>
            </a:r>
            <a:br>
              <a:rPr sz="40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The Earth’s Temperature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4960" y="4543560"/>
            <a:ext cx="774864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Earth’s temperature remains approximately constant, because the thermal radiation it receives from the Sun is balanced by the thermal radiation it emi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is works because, although the Sun is much hotter (and therefore emits much more energy), the Earth only receives a small frac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3138120" y="1294200"/>
            <a:ext cx="516240" cy="573840"/>
            <a:chOff x="3138120" y="1294200"/>
            <a:chExt cx="516240" cy="573840"/>
          </a:xfrm>
        </p:grpSpPr>
        <p:grpSp>
          <p:nvGrpSpPr>
            <p:cNvPr id="87" name=""/>
            <p:cNvGrpSpPr/>
            <p:nvPr/>
          </p:nvGrpSpPr>
          <p:grpSpPr>
            <a:xfrm>
              <a:off x="3138120" y="1294200"/>
              <a:ext cx="516240" cy="573840"/>
              <a:chOff x="3138120" y="1294200"/>
              <a:chExt cx="516240" cy="573840"/>
            </a:xfrm>
          </p:grpSpPr>
          <p:sp>
            <p:nvSpPr>
              <p:cNvPr id="88" name=""/>
              <p:cNvSpPr/>
              <p:nvPr/>
            </p:nvSpPr>
            <p:spPr>
              <a:xfrm>
                <a:off x="3280320" y="1446120"/>
                <a:ext cx="232200" cy="268200"/>
              </a:xfrm>
              <a:prstGeom prst="ellipse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303720" y="1516320"/>
                <a:ext cx="183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90" name=""/>
              <p:cNvGrpSpPr/>
              <p:nvPr/>
            </p:nvGrpSpPr>
            <p:grpSpPr>
              <a:xfrm>
                <a:off x="3138120" y="1558080"/>
                <a:ext cx="126360" cy="39960"/>
                <a:chOff x="3138120" y="1558080"/>
                <a:chExt cx="126360" cy="39960"/>
              </a:xfrm>
            </p:grpSpPr>
            <p:sp>
              <p:nvSpPr>
                <p:cNvPr id="91" name=""/>
                <p:cNvSpPr/>
                <p:nvPr/>
              </p:nvSpPr>
              <p:spPr>
                <a:xfrm flipH="1">
                  <a:off x="3154320" y="1558080"/>
                  <a:ext cx="110160" cy="399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 flipH="1">
                  <a:off x="3138120" y="1578600"/>
                  <a:ext cx="26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3379320" y="1294200"/>
                <a:ext cx="36720" cy="135720"/>
                <a:chOff x="3379320" y="1294200"/>
                <a:chExt cx="36720" cy="135720"/>
              </a:xfrm>
            </p:grpSpPr>
            <p:sp>
              <p:nvSpPr>
                <p:cNvPr id="94" name=""/>
                <p:cNvSpPr/>
                <p:nvPr/>
              </p:nvSpPr>
              <p:spPr>
                <a:xfrm rot="16200000">
                  <a:off x="3338280" y="1352160"/>
                  <a:ext cx="118440" cy="3672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 flipV="1">
                  <a:off x="3398040" y="1294200"/>
                  <a:ext cx="0" cy="28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3369600" y="1729800"/>
                <a:ext cx="38880" cy="138240"/>
                <a:chOff x="3369600" y="1729800"/>
                <a:chExt cx="38880" cy="138240"/>
              </a:xfrm>
            </p:grpSpPr>
            <p:sp>
              <p:nvSpPr>
                <p:cNvPr id="97" name=""/>
                <p:cNvSpPr/>
                <p:nvPr/>
              </p:nvSpPr>
              <p:spPr>
                <a:xfrm rot="5400000">
                  <a:off x="3328560" y="1770480"/>
                  <a:ext cx="120600" cy="3888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3388680" y="1838880"/>
                  <a:ext cx="0" cy="2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3200400" y="1664640"/>
                <a:ext cx="110880" cy="110160"/>
                <a:chOff x="3200400" y="1664640"/>
                <a:chExt cx="110880" cy="110160"/>
              </a:xfrm>
            </p:grpSpPr>
            <p:sp>
              <p:nvSpPr>
                <p:cNvPr id="100" name=""/>
                <p:cNvSpPr/>
                <p:nvPr/>
              </p:nvSpPr>
              <p:spPr>
                <a:xfrm rot="8123400">
                  <a:off x="3197520" y="1699560"/>
                  <a:ext cx="116280" cy="399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 flipH="1">
                  <a:off x="3201840" y="1752480"/>
                  <a:ext cx="20160" cy="19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3520800" y="1560240"/>
                <a:ext cx="133560" cy="39960"/>
                <a:chOff x="3520800" y="1560240"/>
                <a:chExt cx="133560" cy="3996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3520800" y="1560240"/>
                  <a:ext cx="116280" cy="399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3626280" y="1580760"/>
                  <a:ext cx="28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" name=""/>
              <p:cNvGrpSpPr/>
              <p:nvPr/>
            </p:nvGrpSpPr>
            <p:grpSpPr>
              <a:xfrm>
                <a:off x="3211200" y="1375560"/>
                <a:ext cx="112320" cy="113040"/>
                <a:chOff x="3211200" y="1375560"/>
                <a:chExt cx="112320" cy="113040"/>
              </a:xfrm>
            </p:grpSpPr>
            <p:sp>
              <p:nvSpPr>
                <p:cNvPr id="106" name=""/>
                <p:cNvSpPr/>
                <p:nvPr/>
              </p:nvSpPr>
              <p:spPr>
                <a:xfrm rot="13523400">
                  <a:off x="3206880" y="1412280"/>
                  <a:ext cx="120600" cy="3888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 flipH="1" flipV="1">
                  <a:off x="3213000" y="1376280"/>
                  <a:ext cx="20520" cy="20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3474720" y="1376640"/>
                <a:ext cx="110880" cy="110160"/>
                <a:chOff x="3474720" y="1376640"/>
                <a:chExt cx="110880" cy="110160"/>
              </a:xfrm>
            </p:grpSpPr>
            <p:sp>
              <p:nvSpPr>
                <p:cNvPr id="109" name=""/>
                <p:cNvSpPr/>
                <p:nvPr/>
              </p:nvSpPr>
              <p:spPr>
                <a:xfrm rot="18923400">
                  <a:off x="3471840" y="1411560"/>
                  <a:ext cx="116280" cy="399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 flipV="1">
                  <a:off x="3564000" y="1379160"/>
                  <a:ext cx="20160" cy="19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3474000" y="1667520"/>
                <a:ext cx="112320" cy="113040"/>
                <a:chOff x="3474000" y="1667520"/>
                <a:chExt cx="112320" cy="113040"/>
              </a:xfrm>
            </p:grpSpPr>
            <p:sp>
              <p:nvSpPr>
                <p:cNvPr id="112" name=""/>
                <p:cNvSpPr/>
                <p:nvPr/>
              </p:nvSpPr>
              <p:spPr>
                <a:xfrm rot="2723400">
                  <a:off x="3469680" y="1704600"/>
                  <a:ext cx="120600" cy="3888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3564000" y="1759320"/>
                  <a:ext cx="20520" cy="20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272040" y="1441080"/>
              <a:ext cx="281880" cy="282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5" name=""/>
          <p:cNvGrpSpPr/>
          <p:nvPr/>
        </p:nvGrpSpPr>
        <p:grpSpPr>
          <a:xfrm>
            <a:off x="192240" y="1638720"/>
            <a:ext cx="1536120" cy="1651320"/>
            <a:chOff x="192240" y="1638720"/>
            <a:chExt cx="1536120" cy="1651320"/>
          </a:xfrm>
        </p:grpSpPr>
        <p:grpSp>
          <p:nvGrpSpPr>
            <p:cNvPr id="116" name=""/>
            <p:cNvGrpSpPr/>
            <p:nvPr/>
          </p:nvGrpSpPr>
          <p:grpSpPr>
            <a:xfrm>
              <a:off x="192240" y="1638720"/>
              <a:ext cx="1536120" cy="1651320"/>
              <a:chOff x="192240" y="1638720"/>
              <a:chExt cx="1536120" cy="1651320"/>
            </a:xfrm>
          </p:grpSpPr>
          <p:sp>
            <p:nvSpPr>
              <p:cNvPr id="117" name=""/>
              <p:cNvSpPr/>
              <p:nvPr/>
            </p:nvSpPr>
            <p:spPr>
              <a:xfrm>
                <a:off x="614520" y="2076120"/>
                <a:ext cx="691920" cy="771120"/>
              </a:xfrm>
              <a:prstGeom prst="ellipse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816120" y="2276280"/>
                <a:ext cx="290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9" name=""/>
              <p:cNvGrpSpPr/>
              <p:nvPr/>
            </p:nvGrpSpPr>
            <p:grpSpPr>
              <a:xfrm>
                <a:off x="192240" y="2398320"/>
                <a:ext cx="375840" cy="115560"/>
                <a:chOff x="192240" y="2398320"/>
                <a:chExt cx="375840" cy="115560"/>
              </a:xfrm>
            </p:grpSpPr>
            <p:sp>
              <p:nvSpPr>
                <p:cNvPr id="120" name=""/>
                <p:cNvSpPr/>
                <p:nvPr/>
              </p:nvSpPr>
              <p:spPr>
                <a:xfrm flipH="1">
                  <a:off x="240480" y="2398320"/>
                  <a:ext cx="327600" cy="1155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 flipH="1">
                  <a:off x="192240" y="2457720"/>
                  <a:ext cx="79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909720" y="1638720"/>
                <a:ext cx="109440" cy="391320"/>
                <a:chOff x="909720" y="1638720"/>
                <a:chExt cx="109440" cy="391320"/>
              </a:xfrm>
            </p:grpSpPr>
            <p:sp>
              <p:nvSpPr>
                <p:cNvPr id="123" name=""/>
                <p:cNvSpPr/>
                <p:nvPr/>
              </p:nvSpPr>
              <p:spPr>
                <a:xfrm rot="16200000">
                  <a:off x="793800" y="1804680"/>
                  <a:ext cx="341280" cy="10944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 flipV="1">
                  <a:off x="965880" y="1638720"/>
                  <a:ext cx="0" cy="82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881280" y="2892240"/>
                <a:ext cx="115920" cy="397800"/>
                <a:chOff x="881280" y="2892240"/>
                <a:chExt cx="115920" cy="397800"/>
              </a:xfrm>
            </p:grpSpPr>
            <p:sp>
              <p:nvSpPr>
                <p:cNvPr id="126" name=""/>
                <p:cNvSpPr/>
                <p:nvPr/>
              </p:nvSpPr>
              <p:spPr>
                <a:xfrm rot="5400000">
                  <a:off x="765720" y="3007440"/>
                  <a:ext cx="346680" cy="11592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937800" y="3206160"/>
                  <a:ext cx="0" cy="83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380520" y="2700360"/>
                <a:ext cx="327960" cy="325800"/>
                <a:chOff x="380520" y="2700360"/>
                <a:chExt cx="327960" cy="325800"/>
              </a:xfrm>
            </p:grpSpPr>
            <p:sp>
              <p:nvSpPr>
                <p:cNvPr id="129" name=""/>
                <p:cNvSpPr/>
                <p:nvPr/>
              </p:nvSpPr>
              <p:spPr>
                <a:xfrm rot="8123400">
                  <a:off x="371160" y="2805480"/>
                  <a:ext cx="346680" cy="1155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flipH="1">
                  <a:off x="383760" y="2960640"/>
                  <a:ext cx="59400" cy="590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330560" y="2404800"/>
                <a:ext cx="397800" cy="115560"/>
                <a:chOff x="1330560" y="2404800"/>
                <a:chExt cx="397800" cy="11556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1330560" y="2404800"/>
                  <a:ext cx="346680" cy="1155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644480" y="2464200"/>
                  <a:ext cx="838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413280" y="1872360"/>
                <a:ext cx="325800" cy="328320"/>
                <a:chOff x="413280" y="1872360"/>
                <a:chExt cx="325800" cy="328320"/>
              </a:xfrm>
            </p:grpSpPr>
            <p:sp>
              <p:nvSpPr>
                <p:cNvPr id="135" name=""/>
                <p:cNvSpPr/>
                <p:nvPr/>
              </p:nvSpPr>
              <p:spPr>
                <a:xfrm rot="13523400">
                  <a:off x="402480" y="1978560"/>
                  <a:ext cx="346680" cy="11592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 flipH="1" flipV="1">
                  <a:off x="419400" y="1875600"/>
                  <a:ext cx="59040" cy="59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1194840" y="1872720"/>
                <a:ext cx="328320" cy="326160"/>
                <a:chOff x="1194840" y="1872720"/>
                <a:chExt cx="328320" cy="326160"/>
              </a:xfrm>
            </p:grpSpPr>
            <p:sp>
              <p:nvSpPr>
                <p:cNvPr id="138" name=""/>
                <p:cNvSpPr/>
                <p:nvPr/>
              </p:nvSpPr>
              <p:spPr>
                <a:xfrm rot="18923400">
                  <a:off x="1185120" y="1977840"/>
                  <a:ext cx="347040" cy="1155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1460160" y="1879200"/>
                  <a:ext cx="59760" cy="590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1196280" y="2711880"/>
                <a:ext cx="325800" cy="328320"/>
                <a:chOff x="1196280" y="2711880"/>
                <a:chExt cx="325800" cy="328320"/>
              </a:xfrm>
            </p:grpSpPr>
            <p:sp>
              <p:nvSpPr>
                <p:cNvPr id="141" name=""/>
                <p:cNvSpPr/>
                <p:nvPr/>
              </p:nvSpPr>
              <p:spPr>
                <a:xfrm rot="2723400">
                  <a:off x="1185840" y="2817720"/>
                  <a:ext cx="346680" cy="11592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1456920" y="2977200"/>
                  <a:ext cx="59040" cy="59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3" name=""/>
            <p:cNvSpPr/>
            <p:nvPr/>
          </p:nvSpPr>
          <p:spPr>
            <a:xfrm>
              <a:off x="590400" y="2079720"/>
              <a:ext cx="783720" cy="7840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670280" y="1297080"/>
            <a:ext cx="4229280" cy="24937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624560" y="3867120"/>
            <a:ext cx="420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 The magnitude of the Earth curve has been magnified 500,000 tim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2881440"/>
            <a:ext cx="93758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lance the energy flow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ower absorbed from sun = Power radiated by earth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80 K (~room temperature!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52960" y="1260360"/>
            <a:ext cx="927000" cy="986040"/>
          </a:xfrm>
          <a:prstGeom prst="ellipse">
            <a:avLst/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47800" y="1560600"/>
            <a:ext cx="287280" cy="288720"/>
          </a:xfrm>
          <a:prstGeom prst="ellipse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92160" y="741240"/>
            <a:ext cx="241200" cy="1917720"/>
          </a:xfrm>
          <a:custGeom>
            <a:avLst/>
            <a:gdLst/>
            <a:ahLst/>
            <a:rect l="l" t="t" r="r" b="b"/>
            <a:pathLst>
              <a:path w="152" h="1208">
                <a:moveTo>
                  <a:pt x="151" y="1207"/>
                </a:moveTo>
                <a:lnTo>
                  <a:pt x="123" y="1131"/>
                </a:lnTo>
                <a:lnTo>
                  <a:pt x="96" y="1059"/>
                </a:lnTo>
                <a:lnTo>
                  <a:pt x="71" y="983"/>
                </a:lnTo>
                <a:lnTo>
                  <a:pt x="48" y="908"/>
                </a:lnTo>
                <a:lnTo>
                  <a:pt x="29" y="832"/>
                </a:lnTo>
                <a:lnTo>
                  <a:pt x="20" y="796"/>
                </a:lnTo>
                <a:lnTo>
                  <a:pt x="14" y="759"/>
                </a:lnTo>
                <a:lnTo>
                  <a:pt x="8" y="720"/>
                </a:lnTo>
                <a:lnTo>
                  <a:pt x="4" y="684"/>
                </a:lnTo>
                <a:lnTo>
                  <a:pt x="2" y="645"/>
                </a:lnTo>
                <a:lnTo>
                  <a:pt x="0" y="608"/>
                </a:lnTo>
                <a:lnTo>
                  <a:pt x="2" y="569"/>
                </a:lnTo>
                <a:lnTo>
                  <a:pt x="4" y="530"/>
                </a:lnTo>
                <a:lnTo>
                  <a:pt x="10" y="487"/>
                </a:lnTo>
                <a:lnTo>
                  <a:pt x="18" y="442"/>
                </a:lnTo>
                <a:lnTo>
                  <a:pt x="26" y="400"/>
                </a:lnTo>
                <a:lnTo>
                  <a:pt x="36" y="354"/>
                </a:lnTo>
                <a:lnTo>
                  <a:pt x="59" y="267"/>
                </a:lnTo>
                <a:lnTo>
                  <a:pt x="82" y="185"/>
                </a:lnTo>
                <a:lnTo>
                  <a:pt x="105" y="109"/>
                </a:lnTo>
                <a:lnTo>
                  <a:pt x="115" y="76"/>
                </a:lnTo>
                <a:lnTo>
                  <a:pt x="123" y="49"/>
                </a:lnTo>
                <a:lnTo>
                  <a:pt x="131" y="22"/>
                </a:lnTo>
                <a:lnTo>
                  <a:pt x="136" y="0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1196640" y="901800"/>
            <a:ext cx="2513160" cy="8524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3592440" y="1298520"/>
            <a:ext cx="106560" cy="442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895400" y="861840"/>
            <a:ext cx="200988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R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5520" y="1378080"/>
            <a:ext cx="514440" cy="3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33280" y="65160"/>
            <a:ext cx="867564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Earth’s Temperature (2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01320" y="1052640"/>
            <a:ext cx="363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632480" y="1852560"/>
            <a:ext cx="4311360" cy="11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n’s flux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at its surface =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n’s flux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at the Earth =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/R)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arth’s flux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at its surface =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954320" y="752400"/>
            <a:ext cx="1584720" cy="10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7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 = 1.5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5800 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1120" y="3605040"/>
            <a:ext cx="797724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ut wait! We did not account for the fact that about 30% of the sun’s radiation reflects off our atmosphere!  (The planet’s “albedo”.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0% less input from the sun means about 8% lower temperature becaus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1/4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This factor reduces our best estimate of the Earth’s temperature by about 30 K.  Now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50 K, or 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 Unicode MS"/>
                <a:ea typeface="Arial Unicode MS"/>
              </a:rPr>
              <a:t>°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.  Brrr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fact the average surface temperature of the Earth is about 290 K, or about 60°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, just right for Earthly life.  (coincidence? I think not.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xtra 60° F of warming is mainly due to the “greenhouse effect”, the fact that some of the radiation from the Earth is reflected back by the atmosphere.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exactly is the “greenhouse effect”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47280" y="58320"/>
            <a:ext cx="786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member Molecular vibrations: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49360" y="1218960"/>
            <a:ext cx="808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olyatomic molecules (e.g., C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, C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have rotational and vibrational modes that correspond to photon wavelengths (energies) in the infrared.  These molecules absorb (and emit) IR radiation much more effectively than 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absorption is in the middle of the Earth’s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mal spectrum, but in the tail of the Sun’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sult is th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our atmosphere lets most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of the sunlight through, but absorbs a larger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fraction of the radiation that the Earth emi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776920" y="3052800"/>
            <a:ext cx="28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ong absorption in the infrared. (rotational and vibrational motion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210360" y="2281320"/>
            <a:ext cx="154080" cy="16344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91160" y="2711520"/>
            <a:ext cx="155880" cy="16344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26320" y="2271600"/>
            <a:ext cx="154080" cy="16380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3351600">
            <a:off x="6258240" y="2509200"/>
            <a:ext cx="328680" cy="168120"/>
          </a:xfrm>
          <a:custGeom>
            <a:avLst/>
            <a:gdLst/>
            <a:ahLst/>
            <a:rect l="l" t="t" r="r" b="b"/>
            <a:pathLst>
              <a:path w="258" h="158">
                <a:moveTo>
                  <a:pt x="0" y="70"/>
                </a:moveTo>
                <a:cubicBezTo>
                  <a:pt x="22" y="42"/>
                  <a:pt x="45" y="15"/>
                  <a:pt x="61" y="24"/>
                </a:cubicBezTo>
                <a:cubicBezTo>
                  <a:pt x="77" y="33"/>
                  <a:pt x="101" y="107"/>
                  <a:pt x="99" y="123"/>
                </a:cubicBezTo>
                <a:cubicBezTo>
                  <a:pt x="97" y="139"/>
                  <a:pt x="39" y="142"/>
                  <a:pt x="46" y="123"/>
                </a:cubicBezTo>
                <a:cubicBezTo>
                  <a:pt x="53" y="104"/>
                  <a:pt x="119" y="7"/>
                  <a:pt x="144" y="9"/>
                </a:cubicBezTo>
                <a:cubicBezTo>
                  <a:pt x="169" y="11"/>
                  <a:pt x="198" y="118"/>
                  <a:pt x="198" y="138"/>
                </a:cubicBezTo>
                <a:cubicBezTo>
                  <a:pt x="198" y="158"/>
                  <a:pt x="139" y="151"/>
                  <a:pt x="144" y="130"/>
                </a:cubicBezTo>
                <a:cubicBezTo>
                  <a:pt x="149" y="109"/>
                  <a:pt x="209" y="18"/>
                  <a:pt x="228" y="9"/>
                </a:cubicBezTo>
                <a:cubicBezTo>
                  <a:pt x="247" y="0"/>
                  <a:pt x="252" y="38"/>
                  <a:pt x="258" y="77"/>
                </a:cubicBezTo>
              </a:path>
            </a:pathLst>
          </a:custGeom>
          <a:noFill/>
          <a:ln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rot="18787800">
            <a:off x="6563520" y="2507040"/>
            <a:ext cx="361800" cy="182520"/>
          </a:xfrm>
          <a:custGeom>
            <a:avLst/>
            <a:gdLst/>
            <a:ahLst/>
            <a:rect l="l" t="t" r="r" b="b"/>
            <a:pathLst>
              <a:path w="258" h="158">
                <a:moveTo>
                  <a:pt x="0" y="70"/>
                </a:moveTo>
                <a:cubicBezTo>
                  <a:pt x="22" y="42"/>
                  <a:pt x="45" y="15"/>
                  <a:pt x="61" y="24"/>
                </a:cubicBezTo>
                <a:cubicBezTo>
                  <a:pt x="77" y="33"/>
                  <a:pt x="101" y="107"/>
                  <a:pt x="99" y="123"/>
                </a:cubicBezTo>
                <a:cubicBezTo>
                  <a:pt x="97" y="139"/>
                  <a:pt x="39" y="142"/>
                  <a:pt x="46" y="123"/>
                </a:cubicBezTo>
                <a:cubicBezTo>
                  <a:pt x="53" y="104"/>
                  <a:pt x="119" y="7"/>
                  <a:pt x="144" y="9"/>
                </a:cubicBezTo>
                <a:cubicBezTo>
                  <a:pt x="169" y="11"/>
                  <a:pt x="198" y="118"/>
                  <a:pt x="198" y="138"/>
                </a:cubicBezTo>
                <a:cubicBezTo>
                  <a:pt x="198" y="158"/>
                  <a:pt x="139" y="151"/>
                  <a:pt x="144" y="130"/>
                </a:cubicBezTo>
                <a:cubicBezTo>
                  <a:pt x="149" y="109"/>
                  <a:pt x="209" y="18"/>
                  <a:pt x="228" y="9"/>
                </a:cubicBezTo>
                <a:cubicBezTo>
                  <a:pt x="247" y="0"/>
                  <a:pt x="252" y="38"/>
                  <a:pt x="258" y="77"/>
                </a:cubicBezTo>
              </a:path>
            </a:pathLst>
          </a:custGeom>
          <a:noFill/>
          <a:ln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76200" y="4181400"/>
            <a:ext cx="5311800" cy="2476080"/>
            <a:chOff x="376200" y="4181400"/>
            <a:chExt cx="5311800" cy="2476080"/>
          </a:xfrm>
        </p:grpSpPr>
        <p:sp>
          <p:nvSpPr>
            <p:cNvPr id="168" name=""/>
            <p:cNvSpPr/>
            <p:nvPr/>
          </p:nvSpPr>
          <p:spPr>
            <a:xfrm flipV="1">
              <a:off x="986040" y="4411440"/>
              <a:ext cx="0" cy="1341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982800" y="4394160"/>
              <a:ext cx="3624120" cy="1361880"/>
            </a:xfrm>
            <a:custGeom>
              <a:avLst/>
              <a:gdLst/>
              <a:ahLst/>
              <a:rect l="l" t="t" r="r" b="b"/>
              <a:pathLst>
                <a:path w="2283" h="858">
                  <a:moveTo>
                    <a:pt x="0" y="857"/>
                  </a:moveTo>
                  <a:lnTo>
                    <a:pt x="81" y="708"/>
                  </a:lnTo>
                  <a:lnTo>
                    <a:pt x="163" y="563"/>
                  </a:lnTo>
                  <a:lnTo>
                    <a:pt x="204" y="494"/>
                  </a:lnTo>
                  <a:lnTo>
                    <a:pt x="245" y="427"/>
                  </a:lnTo>
                  <a:lnTo>
                    <a:pt x="286" y="363"/>
                  </a:lnTo>
                  <a:lnTo>
                    <a:pt x="327" y="305"/>
                  </a:lnTo>
                  <a:lnTo>
                    <a:pt x="374" y="246"/>
                  </a:lnTo>
                  <a:lnTo>
                    <a:pt x="415" y="195"/>
                  </a:lnTo>
                  <a:lnTo>
                    <a:pt x="463" y="147"/>
                  </a:lnTo>
                  <a:lnTo>
                    <a:pt x="504" y="107"/>
                  </a:lnTo>
                  <a:lnTo>
                    <a:pt x="552" y="72"/>
                  </a:lnTo>
                  <a:lnTo>
                    <a:pt x="599" y="43"/>
                  </a:lnTo>
                  <a:lnTo>
                    <a:pt x="654" y="19"/>
                  </a:lnTo>
                  <a:lnTo>
                    <a:pt x="701" y="6"/>
                  </a:lnTo>
                  <a:lnTo>
                    <a:pt x="729" y="3"/>
                  </a:lnTo>
                  <a:lnTo>
                    <a:pt x="756" y="0"/>
                  </a:lnTo>
                  <a:lnTo>
                    <a:pt x="810" y="6"/>
                  </a:lnTo>
                  <a:lnTo>
                    <a:pt x="872" y="22"/>
                  </a:lnTo>
                  <a:lnTo>
                    <a:pt x="933" y="43"/>
                  </a:lnTo>
                  <a:lnTo>
                    <a:pt x="994" y="72"/>
                  </a:lnTo>
                  <a:lnTo>
                    <a:pt x="1063" y="110"/>
                  </a:lnTo>
                  <a:lnTo>
                    <a:pt x="1124" y="147"/>
                  </a:lnTo>
                  <a:lnTo>
                    <a:pt x="1192" y="192"/>
                  </a:lnTo>
                  <a:lnTo>
                    <a:pt x="1321" y="283"/>
                  </a:lnTo>
                  <a:lnTo>
                    <a:pt x="1444" y="374"/>
                  </a:lnTo>
                  <a:lnTo>
                    <a:pt x="1505" y="417"/>
                  </a:lnTo>
                  <a:lnTo>
                    <a:pt x="1560" y="454"/>
                  </a:lnTo>
                  <a:lnTo>
                    <a:pt x="1614" y="489"/>
                  </a:lnTo>
                  <a:lnTo>
                    <a:pt x="1669" y="515"/>
                  </a:lnTo>
                  <a:lnTo>
                    <a:pt x="1764" y="561"/>
                  </a:lnTo>
                  <a:lnTo>
                    <a:pt x="1846" y="601"/>
                  </a:lnTo>
                  <a:lnTo>
                    <a:pt x="1928" y="635"/>
                  </a:lnTo>
                  <a:lnTo>
                    <a:pt x="2009" y="668"/>
                  </a:lnTo>
                  <a:lnTo>
                    <a:pt x="2078" y="697"/>
                  </a:lnTo>
                  <a:lnTo>
                    <a:pt x="2146" y="724"/>
                  </a:lnTo>
                  <a:lnTo>
                    <a:pt x="2282" y="772"/>
                  </a:lnTo>
                </a:path>
              </a:pathLst>
            </a:custGeom>
            <a:noFill/>
            <a:ln cap="rnd"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987480" y="5754600"/>
              <a:ext cx="37242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76200" y="4686120"/>
              <a:ext cx="609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f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49640" y="5665680"/>
              <a:ext cx="0" cy="15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927440" y="5776920"/>
              <a:ext cx="105876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.8 k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752920" y="4181400"/>
              <a:ext cx="230976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lanck Radiation Law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not to scale: 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Sun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~ 20 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Earth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124520" y="5806800"/>
              <a:ext cx="1563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f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= photon energy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17720" y="5583240"/>
              <a:ext cx="528480" cy="156960"/>
            </a:xfrm>
            <a:custGeom>
              <a:avLst/>
              <a:gdLst/>
              <a:ahLst/>
              <a:rect l="l" t="t" r="r" b="b"/>
              <a:pathLst>
                <a:path w="333" h="99">
                  <a:moveTo>
                    <a:pt x="0" y="98"/>
                  </a:moveTo>
                  <a:lnTo>
                    <a:pt x="23" y="64"/>
                  </a:lnTo>
                  <a:lnTo>
                    <a:pt x="49" y="34"/>
                  </a:lnTo>
                  <a:lnTo>
                    <a:pt x="60" y="21"/>
                  </a:lnTo>
                  <a:lnTo>
                    <a:pt x="75" y="10"/>
                  </a:lnTo>
                  <a:lnTo>
                    <a:pt x="86" y="2"/>
                  </a:lnTo>
                  <a:lnTo>
                    <a:pt x="101" y="0"/>
                  </a:lnTo>
                  <a:lnTo>
                    <a:pt x="116" y="0"/>
                  </a:lnTo>
                  <a:lnTo>
                    <a:pt x="134" y="2"/>
                  </a:lnTo>
                  <a:lnTo>
                    <a:pt x="153" y="10"/>
                  </a:lnTo>
                  <a:lnTo>
                    <a:pt x="172" y="21"/>
                  </a:lnTo>
                  <a:lnTo>
                    <a:pt x="209" y="42"/>
                  </a:lnTo>
                  <a:lnTo>
                    <a:pt x="228" y="50"/>
                  </a:lnTo>
                  <a:lnTo>
                    <a:pt x="243" y="58"/>
                  </a:lnTo>
                  <a:lnTo>
                    <a:pt x="269" y="69"/>
                  </a:lnTo>
                  <a:lnTo>
                    <a:pt x="291" y="77"/>
                  </a:lnTo>
                  <a:lnTo>
                    <a:pt x="332" y="87"/>
                  </a:lnTo>
                </a:path>
              </a:pathLst>
            </a:custGeom>
            <a:noFill/>
            <a:ln cap="rnd" w="284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51040" y="5762520"/>
              <a:ext cx="105876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.8 k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200240" y="5659200"/>
              <a:ext cx="0" cy="15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281240" y="5403600"/>
              <a:ext cx="703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arth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621160" y="4730760"/>
              <a:ext cx="614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Su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225800" y="6033960"/>
              <a:ext cx="0" cy="190440"/>
            </a:xfrm>
            <a:prstGeom prst="line">
              <a:avLst/>
            </a:prstGeom>
            <a:ln w="7632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89200" y="6127560"/>
              <a:ext cx="2761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1298160" y="6129000"/>
              <a:ext cx="2876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677960" y="6138720"/>
              <a:ext cx="2394000" cy="5187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Greenhouse gas absorption</a:t>
              </a:r>
              <a:br>
                <a:rPr sz="1400"/>
              </a:b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Infrared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7324560" y="2187720"/>
            <a:ext cx="927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Arial"/>
              </a:rPr>
              <a:t>CO</a:t>
            </a:r>
            <a:r>
              <a:rPr b="0" lang="en-US" sz="16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00"/>
                </a:solidFill>
                <a:latin typeface="Arial"/>
              </a:rPr>
              <a:t>  or H</a:t>
            </a:r>
            <a:r>
              <a:rPr b="0" lang="en-US" sz="16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6185520" y="4210200"/>
            <a:ext cx="1830240" cy="1745640"/>
            <a:chOff x="6185520" y="4210200"/>
            <a:chExt cx="1830240" cy="1745640"/>
          </a:xfrm>
        </p:grpSpPr>
        <p:sp>
          <p:nvSpPr>
            <p:cNvPr id="187" name=""/>
            <p:cNvSpPr/>
            <p:nvPr/>
          </p:nvSpPr>
          <p:spPr>
            <a:xfrm>
              <a:off x="6939000" y="5508720"/>
              <a:ext cx="6332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939000" y="4653000"/>
              <a:ext cx="6332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939000" y="4210200"/>
              <a:ext cx="63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939000" y="5095800"/>
              <a:ext cx="6332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939000" y="5891040"/>
              <a:ext cx="63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216560" y="5835600"/>
              <a:ext cx="120960" cy="120240"/>
            </a:xfrm>
            <a:prstGeom prst="ellipse">
              <a:avLst/>
            </a:prstGeom>
            <a:solidFill>
              <a:srgbClr val="fafd00"/>
            </a:solidFill>
            <a:ln w="19080">
              <a:solidFill>
                <a:srgbClr val="fafd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284960" y="5443560"/>
              <a:ext cx="120600" cy="120240"/>
            </a:xfrm>
            <a:prstGeom prst="ellipse">
              <a:avLst/>
            </a:prstGeom>
            <a:noFill/>
            <a:ln w="28440">
              <a:solidFill>
                <a:srgbClr val="fafd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118280" y="5627520"/>
              <a:ext cx="85680" cy="204480"/>
            </a:xfrm>
            <a:custGeom>
              <a:avLst/>
              <a:gdLst/>
              <a:ahLst/>
              <a:rect l="l" t="t" r="r" b="b"/>
              <a:pathLst>
                <a:path w="54" h="129">
                  <a:moveTo>
                    <a:pt x="54" y="129"/>
                  </a:moveTo>
                  <a:cubicBezTo>
                    <a:pt x="28" y="98"/>
                    <a:pt x="2" y="67"/>
                    <a:pt x="1" y="46"/>
                  </a:cubicBezTo>
                  <a:cubicBezTo>
                    <a:pt x="0" y="25"/>
                    <a:pt x="23" y="12"/>
                    <a:pt x="46" y="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7216560" y="5533560"/>
              <a:ext cx="60480" cy="47160"/>
            </a:xfrm>
            <a:prstGeom prst="line">
              <a:avLst/>
            </a:prstGeom>
            <a:ln w="19080">
              <a:solidFill>
                <a:srgbClr val="fafd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185520" y="5577480"/>
              <a:ext cx="1238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403760" y="5556240"/>
              <a:ext cx="61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= hf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47280" y="58320"/>
            <a:ext cx="786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me Absorption Spectra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869760" y="1179360"/>
            <a:ext cx="6210360" cy="5167080"/>
            <a:chOff x="869760" y="1179360"/>
            <a:chExt cx="6210360" cy="5167080"/>
          </a:xfrm>
        </p:grpSpPr>
        <p:pic>
          <p:nvPicPr>
            <p:cNvPr id="200" name="" descr="Infrared absorption spectra for various gases"/>
            <p:cNvPicPr/>
            <p:nvPr/>
          </p:nvPicPr>
          <p:blipFill>
            <a:blip r:embed="rId1"/>
            <a:stretch/>
          </p:blipFill>
          <p:spPr>
            <a:xfrm>
              <a:off x="1179720" y="1179360"/>
              <a:ext cx="5576760" cy="456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2757600" y="1371600"/>
              <a:ext cx="379440" cy="396864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4989600" y="1347840"/>
              <a:ext cx="0" cy="487512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913640" y="5826240"/>
              <a:ext cx="2166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eak wavelength of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arth’s thermal spectru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909880" y="1372680"/>
              <a:ext cx="0" cy="487548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69760" y="5797440"/>
              <a:ext cx="205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eak wavelength of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un’s thermal spectru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6749280" y="4559400"/>
            <a:ext cx="230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ater is the most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mportant greenhouse ga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88560" y="63360"/>
            <a:ext cx="7162920" cy="67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Greenhouse Effec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06520" y="3772080"/>
            <a:ext cx="7988040" cy="27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mal radiation from the earth (infrared) is absorbed by certain gases in our atmosphere (such as C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nd redirected back to earth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se ‘greenhouse gases’ provide additional warming to our planet - essential for life as we know i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adiation from the sun is not affected much by the greenhouse gases because it has a much different frequency spectru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ars has a thin atmosphere with few greenhouse gases:  7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 Unicode MS"/>
                <a:ea typeface="Arial Unicode MS"/>
              </a:rPr>
              <a:t>°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 in the day and -130°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 at night.  Venus has lots of C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:  T = 800° 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13240" y="1406520"/>
            <a:ext cx="1612800" cy="1611360"/>
          </a:xfrm>
          <a:prstGeom prst="ellipse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005360" y="1995480"/>
            <a:ext cx="806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art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3146400" y="1119240"/>
            <a:ext cx="2330640" cy="2214000"/>
            <a:chOff x="3146400" y="1119240"/>
            <a:chExt cx="2330640" cy="2214000"/>
          </a:xfrm>
        </p:grpSpPr>
        <p:sp>
          <p:nvSpPr>
            <p:cNvPr id="212" name=""/>
            <p:cNvSpPr/>
            <p:nvPr/>
          </p:nvSpPr>
          <p:spPr>
            <a:xfrm>
              <a:off x="3152880" y="19494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579920" y="11268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071960" y="31683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668760" y="30906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98840" y="324468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924440" y="28303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824360" y="31525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221440" y="25509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337000" y="233028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200560" y="206028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078440" y="111924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819680" y="14508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313240" y="28224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516560" y="13032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910040" y="12985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097600" y="163188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273640" y="16999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230720" y="12715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444840" y="140004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632040" y="15397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736800" y="12715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902040" y="13269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267000" y="16081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395520" y="19303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367080" y="21891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46400" y="235404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091120" y="300024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370320" y="24825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388120" y="20700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651120" y="280008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827520" y="29397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65640" y="27669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4603680" y="3058920"/>
              <a:ext cx="90720" cy="8064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5210280" y="2201760"/>
            <a:ext cx="5140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4373280" y="933120"/>
            <a:ext cx="1116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4960800" y="1302840"/>
            <a:ext cx="405000" cy="3114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4339800" y="3057480"/>
            <a:ext cx="1800" cy="395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062680" y="2679840"/>
            <a:ext cx="393480" cy="358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3532320" y="1165320"/>
            <a:ext cx="312480" cy="3823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2998800" y="2171880"/>
            <a:ext cx="504720" cy="9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3319200" y="2720880"/>
            <a:ext cx="360360" cy="335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089680" y="1814400"/>
            <a:ext cx="304560" cy="181080"/>
            <a:chOff x="5089680" y="1814400"/>
            <a:chExt cx="304560" cy="181080"/>
          </a:xfrm>
        </p:grpSpPr>
        <p:sp>
          <p:nvSpPr>
            <p:cNvPr id="254" name=""/>
            <p:cNvSpPr/>
            <p:nvPr/>
          </p:nvSpPr>
          <p:spPr>
            <a:xfrm>
              <a:off x="5089680" y="1814400"/>
              <a:ext cx="304560" cy="181080"/>
            </a:xfrm>
            <a:custGeom>
              <a:avLst/>
              <a:gdLst/>
              <a:ahLst/>
              <a:rect l="l" t="t" r="r" b="b"/>
              <a:pathLst>
                <a:path w="192" h="114">
                  <a:moveTo>
                    <a:pt x="0" y="41"/>
                  </a:moveTo>
                  <a:lnTo>
                    <a:pt x="44" y="27"/>
                  </a:lnTo>
                  <a:lnTo>
                    <a:pt x="82" y="13"/>
                  </a:lnTo>
                  <a:lnTo>
                    <a:pt x="120" y="4"/>
                  </a:lnTo>
                  <a:lnTo>
                    <a:pt x="147" y="0"/>
                  </a:lnTo>
                  <a:lnTo>
                    <a:pt x="169" y="2"/>
                  </a:lnTo>
                  <a:lnTo>
                    <a:pt x="180" y="9"/>
                  </a:lnTo>
                  <a:lnTo>
                    <a:pt x="191" y="20"/>
                  </a:lnTo>
                  <a:lnTo>
                    <a:pt x="191" y="31"/>
                  </a:lnTo>
                  <a:lnTo>
                    <a:pt x="191" y="43"/>
                  </a:lnTo>
                  <a:lnTo>
                    <a:pt x="185" y="59"/>
                  </a:lnTo>
                  <a:lnTo>
                    <a:pt x="174" y="72"/>
                  </a:lnTo>
                  <a:lnTo>
                    <a:pt x="163" y="86"/>
                  </a:lnTo>
                  <a:lnTo>
                    <a:pt x="131" y="99"/>
                  </a:lnTo>
                  <a:lnTo>
                    <a:pt x="93" y="113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5245200" y="1957320"/>
              <a:ext cx="7128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3875040" y="2997360"/>
            <a:ext cx="217440" cy="266400"/>
            <a:chOff x="3875040" y="2997360"/>
            <a:chExt cx="217440" cy="266400"/>
          </a:xfrm>
        </p:grpSpPr>
        <p:sp>
          <p:nvSpPr>
            <p:cNvPr id="257" name=""/>
            <p:cNvSpPr/>
            <p:nvPr/>
          </p:nvSpPr>
          <p:spPr>
            <a:xfrm>
              <a:off x="3875040" y="2997360"/>
              <a:ext cx="217440" cy="266400"/>
            </a:xfrm>
            <a:custGeom>
              <a:avLst/>
              <a:gdLst/>
              <a:ahLst/>
              <a:rect l="l" t="t" r="r" b="b"/>
              <a:pathLst>
                <a:path w="137" h="168">
                  <a:moveTo>
                    <a:pt x="136" y="0"/>
                  </a:moveTo>
                  <a:lnTo>
                    <a:pt x="120" y="46"/>
                  </a:lnTo>
                  <a:lnTo>
                    <a:pt x="99" y="85"/>
                  </a:lnTo>
                  <a:lnTo>
                    <a:pt x="82" y="121"/>
                  </a:lnTo>
                  <a:lnTo>
                    <a:pt x="66" y="146"/>
                  </a:lnTo>
                  <a:lnTo>
                    <a:pt x="49" y="160"/>
                  </a:lnTo>
                  <a:lnTo>
                    <a:pt x="37" y="167"/>
                  </a:lnTo>
                  <a:lnTo>
                    <a:pt x="25" y="167"/>
                  </a:lnTo>
                  <a:lnTo>
                    <a:pt x="12" y="163"/>
                  </a:lnTo>
                  <a:lnTo>
                    <a:pt x="8" y="153"/>
                  </a:lnTo>
                  <a:lnTo>
                    <a:pt x="4" y="138"/>
                  </a:lnTo>
                  <a:lnTo>
                    <a:pt x="0" y="121"/>
                  </a:lnTo>
                  <a:lnTo>
                    <a:pt x="0" y="103"/>
                  </a:lnTo>
                  <a:lnTo>
                    <a:pt x="12" y="67"/>
                  </a:lnTo>
                  <a:lnTo>
                    <a:pt x="29" y="2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3890880" y="3052080"/>
              <a:ext cx="2376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3386160" y="1581120"/>
            <a:ext cx="214200" cy="241200"/>
            <a:chOff x="3386160" y="1581120"/>
            <a:chExt cx="214200" cy="241200"/>
          </a:xfrm>
        </p:grpSpPr>
        <p:sp>
          <p:nvSpPr>
            <p:cNvPr id="260" name=""/>
            <p:cNvSpPr/>
            <p:nvPr/>
          </p:nvSpPr>
          <p:spPr>
            <a:xfrm>
              <a:off x="3386160" y="1581120"/>
              <a:ext cx="214200" cy="241200"/>
            </a:xfrm>
            <a:custGeom>
              <a:avLst/>
              <a:gdLst/>
              <a:ahLst/>
              <a:rect l="l" t="t" r="r" b="b"/>
              <a:pathLst>
                <a:path w="135" h="152">
                  <a:moveTo>
                    <a:pt x="134" y="151"/>
                  </a:moveTo>
                  <a:lnTo>
                    <a:pt x="98" y="130"/>
                  </a:lnTo>
                  <a:lnTo>
                    <a:pt x="61" y="107"/>
                  </a:lnTo>
                  <a:lnTo>
                    <a:pt x="32" y="88"/>
                  </a:lnTo>
                  <a:lnTo>
                    <a:pt x="11" y="69"/>
                  </a:lnTo>
                  <a:lnTo>
                    <a:pt x="0" y="53"/>
                  </a:lnTo>
                  <a:lnTo>
                    <a:pt x="0" y="38"/>
                  </a:lnTo>
                  <a:lnTo>
                    <a:pt x="3" y="26"/>
                  </a:lnTo>
                  <a:lnTo>
                    <a:pt x="7" y="15"/>
                  </a:lnTo>
                  <a:lnTo>
                    <a:pt x="18" y="7"/>
                  </a:lnTo>
                  <a:lnTo>
                    <a:pt x="32" y="3"/>
                  </a:lnTo>
                  <a:lnTo>
                    <a:pt x="51" y="0"/>
                  </a:lnTo>
                  <a:lnTo>
                    <a:pt x="65" y="3"/>
                  </a:lnTo>
                  <a:lnTo>
                    <a:pt x="83" y="7"/>
                  </a:lnTo>
                  <a:lnTo>
                    <a:pt x="98" y="13"/>
                  </a:lnTo>
                  <a:lnTo>
                    <a:pt x="116" y="23"/>
                  </a:lnTo>
                  <a:lnTo>
                    <a:pt x="130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517920" y="1598400"/>
              <a:ext cx="6660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 flipH="1">
            <a:off x="6279840" y="1563840"/>
            <a:ext cx="888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6325920" y="2171880"/>
            <a:ext cx="888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6286320" y="1843200"/>
            <a:ext cx="888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6341760" y="2500200"/>
            <a:ext cx="888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6348240" y="3098880"/>
            <a:ext cx="889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6345000" y="2793960"/>
            <a:ext cx="888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520040" y="2055960"/>
            <a:ext cx="733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u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37680" y="58320"/>
            <a:ext cx="84646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view</a:t>
            </a:r>
            <a:br>
              <a:rPr sz="1800"/>
            </a:br>
            <a:br>
              <a:rPr sz="18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Entropy in Macroscopic System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80600" y="1569600"/>
            <a:ext cx="82026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raditional thermodynamic entropy: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 = k ln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= k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want to calculate S from macrostate information (p, V, T, U, N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)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tart with the definition of temperature in terms of entrop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entropy changes when T chang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 (We’re keeping V and N fixed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C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constan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1809720" y="4389480"/>
          <a:ext cx="568980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9720" y="4389480"/>
                    <a:ext cx="5689800" cy="1847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73" name=""/>
          <p:cNvGraphicFramePr/>
          <p:nvPr/>
        </p:nvGraphicFramePr>
        <p:xfrm>
          <a:off x="2513160" y="2779560"/>
          <a:ext cx="3490920" cy="74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3160" y="2779560"/>
                    <a:ext cx="3490920" cy="749520"/>
                  </a:xfrm>
                  <a:prstGeom prst="rect">
                    <a:avLst/>
                  </a:prstGeom>
                  <a:ln w="32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4-08-18T16:34:34Z</dcterms:modified>
  <cp:revision>274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