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D49A246-A084-45E0-A3B4-FD25C237F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chalk dust –floats; erasers don’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with He: show that v goes like 1/sqrt(m).  And v_sound ~ v.  So, if we blow into a pipe with He (4) instead of N2 (28), we expect a higher pitch [by sqrt(28/4), though it doesn’t work out precisely that wa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0B899A3C-2ACD-48F4-B621-F5E0367DA24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2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D9297232-DD00-414F-8623-AFE82FF0593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75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1" name="Group 67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2" name="Oval 40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3" name="Rectangle 41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4" name="Rectangle 42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5" name="Rectangle 43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6" name="Rectangle 44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7" name="Oval 45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8" name="Oval 46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9" name="Oval 47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0" name="Oval 48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1" name="Oval 49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2" name="Oval 50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3" name="Oval 51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4" name="Oval 52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5" name="Oval 53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6" name="Oval 54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7" name="Oval 55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8" name="Oval 56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9" name="Oval 57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0" name="Oval 58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1" name="Oval 59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2" name="Oval 60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3" name="Oval 61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4" name="Oval 62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105" name="Group 66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06" name="Line 63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07" name="Line 64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08" name="Line 65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" name="Group 74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0" name="Group 70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1" name="Rectangle 68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12" name="Rectangle 69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Line 71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14" name="Line 72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15" name="Line 73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6" name="Object 79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83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19" name="Rectangle 86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0" name="Rectangle 89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Object 2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Rectangle 3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Object 2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Rectangle 3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660240" y="4175280"/>
            <a:ext cx="7296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an ideal gas, the molecules are  non-interacting except for occasional elastic collisions, so the motion of an individual molecule does not depend on the other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otal collision rate is proportional to N, but the rate per molecule is independent of N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3168000" y="66600"/>
            <a:ext cx="2721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584280" y="3317760"/>
            <a:ext cx="866520" cy="4622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47" name="Object 6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Rectangle 7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50" name="Object 8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14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55" name="Rectangle 30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57" name="Object 5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9" name="Rectangle 6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60" name="Object 8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2" name="Group 43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63" name="Oval 11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4" name="Oval 9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5" name="Line 10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pSp>
        <p:nvGrpSpPr>
          <p:cNvPr id="266" name="Group 32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67" name="Oval 16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8" name="Oval 17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69" name="Oval 18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70" name="Line 20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71" name="Line 21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aphicFrame>
        <p:nvGraphicFramePr>
          <p:cNvPr id="272" name="Object 25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4" name="Text Box 46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75" name="Object 47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6" name="Object 4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582840" y="2678040"/>
            <a:ext cx="128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5"/>
              <p:cNvSpPr txBox="1"/>
              <p:nvPr/>
            </p:nvSpPr>
            <p:spPr>
              <a:xfrm>
                <a:off x="3352680" y="3059280"/>
                <a:ext cx="4006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Rectangle 6"/>
          <p:cNvSpPr/>
          <p:nvPr/>
        </p:nvSpPr>
        <p:spPr>
          <a:xfrm>
            <a:off x="6224760" y="3056040"/>
            <a:ext cx="1144440" cy="3841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7"/>
              <p:cNvSpPr txBox="1"/>
              <p:nvPr/>
            </p:nvSpPr>
            <p:spPr>
              <a:xfrm>
                <a:off x="1403280" y="2978280"/>
                <a:ext cx="18925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Rectangle 8"/>
          <p:cNvSpPr/>
          <p:nvPr/>
        </p:nvSpPr>
        <p:spPr>
          <a:xfrm>
            <a:off x="941760" y="4019400"/>
            <a:ext cx="30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s is a LOT of energy!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91" name="Object 5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6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Rectangle 7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99" name="Object 5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6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7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2371680" y="5513400"/>
            <a:ext cx="1535040" cy="458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2577960" y="5986440"/>
            <a:ext cx="5637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we have defined it thus far, the temperature depends only on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ranslational kinetic energ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876240" y="60912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V = NkT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01560" y="1064880"/>
            <a:ext cx="825048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166680" y="65160"/>
            <a:ext cx="880416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1" name="Object 4"/>
          <p:cNvGraphicFramePr/>
          <p:nvPr/>
        </p:nvGraphicFramePr>
        <p:xfrm>
          <a:off x="939960" y="2205000"/>
          <a:ext cx="6497640" cy="8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205000"/>
                    <a:ext cx="64976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5"/>
          <p:cNvSpPr/>
          <p:nvPr/>
        </p:nvSpPr>
        <p:spPr>
          <a:xfrm>
            <a:off x="5465880" y="2417760"/>
            <a:ext cx="1990440" cy="351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314" name="Object 6"/>
          <p:cNvGraphicFramePr/>
          <p:nvPr/>
        </p:nvGraphicFramePr>
        <p:xfrm>
          <a:off x="1011240" y="5032440"/>
          <a:ext cx="593712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5032440"/>
                    <a:ext cx="59371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7"/>
          <p:cNvGraphicFramePr/>
          <p:nvPr/>
        </p:nvGraphicFramePr>
        <p:xfrm>
          <a:off x="934920" y="3670200"/>
          <a:ext cx="7132680" cy="4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3670200"/>
                    <a:ext cx="7132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8"/>
          <p:cNvSpPr/>
          <p:nvPr/>
        </p:nvSpPr>
        <p:spPr>
          <a:xfrm>
            <a:off x="7081920" y="3656160"/>
            <a:ext cx="915840" cy="39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6054840" y="5713560"/>
            <a:ext cx="936360" cy="366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2" name="Rectangle 42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3" name="Text Box 44"/>
          <p:cNvSpPr/>
          <p:nvPr/>
        </p:nvSpPr>
        <p:spPr>
          <a:xfrm>
            <a:off x="630360" y="5759280"/>
            <a:ext cx="870732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324" name="Group 54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325" name="Rectangle 6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326" name="Group 50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327" name="Rectangle 5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28" name="Rectangle 7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29" name="Rectangle 8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49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331" name="Oval 4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2" name="Oval 9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3" name="Oval 10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4" name="Oval 11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5" name="Oval 12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6" name="Oval 13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7" name="Oval 14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8" name="Oval 15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39" name="Oval 16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0" name="Oval 17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1" name="Oval 18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2" name="Oval 19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3" name="Oval 20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4" name="Oval 21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5" name="Oval 22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6" name="Oval 23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7" name="Oval 24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8" name="Oval 25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49" name="Oval 26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48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51" name="Line 29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52" name="Line 30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53" name="Line 31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sp>
          <p:nvSpPr>
            <p:cNvPr id="354" name="Rectangle 34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5" name="Line 36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6" name="Line 37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7" name="Line 38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8" name="Text Box 45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59" name="Text Box 52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60" name="Rectangle 53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361" name="Text Box 55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2" name="Line 56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1" name="Line 14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2" name="Line 15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3" name="Text Box 16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6920" y="1294920"/>
            <a:ext cx="67453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Volum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Pressur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Temperatur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Thermal Energ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27" name="Group 6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28" name="Oval 7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29" name="Oval 8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0" name="Line 9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131" name="Rectangle 12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132" name="Group 60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3" name="Oval 11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4" name="Line 13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pSp>
        <p:nvGrpSpPr>
          <p:cNvPr id="136" name="Group 63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37" name="Rectangle 19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8" name="Rectangle 24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9" name="Line 25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0" name="Line 26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2" name="Line 28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3" name="Line 29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4" name="Line 30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5" name="Line 31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6" name="Line 32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7" name="Line 33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8" name="Line 34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9" name="Line 35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0" name="Rectangle 36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1" name="Rectangle 37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2" name="Rectangle 38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4" name="Rectangle 43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5" name="Line 45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6" name="Line 46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7" name="Line 47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8" name="Line 48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9" name="Line 49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0" name="Line 50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1" name="Line 51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2" name="Line 52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3" name="Line 53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4" name="Line 54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5" name="Line 55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6" name="Rectangle 56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7" name="Rectangle 57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8" name="Text Box 58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169" name="Rectangle 59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70" name="Rectangle 64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intro.chem.okstate.edu/1314F00/Laboratory/GLP.htm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4" name="Line 5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75" name="Oval 6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176" name="Group 7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77" name="Line 8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78" name="Line 9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79" name="Line 10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0" name="Line 11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1" name="Line 12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Solution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4" name="Group 4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5" name="Line 5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86" name="Oval 6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187" name="Group 7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8" name="Line 8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9" name="Line 9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90" name="Line 10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91" name="Line 11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Text Box 13"/>
          <p:cNvSpPr/>
          <p:nvPr/>
        </p:nvSpPr>
        <p:spPr>
          <a:xfrm>
            <a:off x="1776240" y="1878120"/>
            <a:ext cx="59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enter of mass velocity of this “large particle” is given by the Equipartition Theorem: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194" name="Object 14"/>
          <p:cNvGraphicFramePr/>
          <p:nvPr/>
        </p:nvGraphicFramePr>
        <p:xfrm>
          <a:off x="5662440" y="2300400"/>
          <a:ext cx="190980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2440" y="2300400"/>
                    <a:ext cx="190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15"/>
          <p:cNvGraphicFramePr/>
          <p:nvPr/>
        </p:nvGraphicFramePr>
        <p:xfrm>
          <a:off x="1955880" y="4249800"/>
          <a:ext cx="5894280" cy="15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5880" y="4249800"/>
                    <a:ext cx="58942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3585600" y="698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69880" y="3092400"/>
            <a:ext cx="827892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of translational kinetic energy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rotational energy of nitrogen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ecules is not important here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4/28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lium doesn’t form molecules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28/4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.6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 = mv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 so the speed ratio is the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verse square root of the mass ratio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of sound speed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ould be approximat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ctual ratio of sound speeds is 2.76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as this ratio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5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9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5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6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19" name="Object 8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9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5" name="Line 14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6" name="Line 15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7" name="Line 16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28" name="Group 20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29" name="Oval 17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31" name="Oval 19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Jim Eckstein</cp:lastModifiedBy>
  <cp:lastPrinted>1997-01-30T13:11:51Z</cp:lastPrinted>
  <dcterms:modified xsi:type="dcterms:W3CDTF">2015-01-20T22:24:35Z</dcterms:modified>
  <cp:revision>34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