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D7D82CD-9726-4CF4-B7EA-63A283AFAA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5092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529720" y="219240"/>
            <a:ext cx="1766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2E870BBF-97DD-4388-9792-502F4E12DB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96800" y="3701880"/>
            <a:ext cx="875664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Monday, Dec.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Friday, Dec. 19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9 at  8 am. (NO late turn-in, no 80%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hsc0168l"/>
          <p:cNvPicPr/>
          <p:nvPr/>
        </p:nvPicPr>
        <p:blipFill>
          <a:blip r:embed="rId1"/>
          <a:stretch/>
        </p:blipFill>
        <p:spPr>
          <a:xfrm>
            <a:off x="2908440" y="871560"/>
            <a:ext cx="3309840" cy="2583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94920" y="457668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Use the grade book to sign up for which one you w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19000" y="64231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sciencedump.com/content/check-out-crazy-vortex-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 Box 5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Object 9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48720" y="2701800"/>
            <a:ext cx="73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 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8"/>
          <p:cNvGraphicFramePr/>
          <p:nvPr/>
        </p:nvGraphicFramePr>
        <p:xfrm>
          <a:off x="2786040" y="330660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30660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83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84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46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326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Group 48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328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87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67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68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106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"/>
          <p:cNvSpPr/>
          <p:nvPr/>
        </p:nvSpPr>
        <p:spPr>
          <a:xfrm>
            <a:off x="1649520" y="5956200"/>
            <a:ext cx="59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hem.purdue.edu/gchelp/liquids/vpre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remain the same or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7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98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408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Group 24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418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421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42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44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44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45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47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50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51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3" name="Group 1"/>
          <p:cNvGrpSpPr/>
          <p:nvPr/>
        </p:nvGrpSpPr>
        <p:grpSpPr>
          <a:xfrm>
            <a:off x="392040" y="792000"/>
            <a:ext cx="8197920" cy="4001760"/>
            <a:chOff x="392040" y="792000"/>
            <a:chExt cx="8197920" cy="4001760"/>
          </a:xfrm>
        </p:grpSpPr>
        <p:sp>
          <p:nvSpPr>
            <p:cNvPr id="484" name="Text Box 5"/>
            <p:cNvSpPr/>
            <p:nvPr/>
          </p:nvSpPr>
          <p:spPr>
            <a:xfrm>
              <a:off x="1546200" y="17614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7"/>
            <p:cNvSpPr/>
            <p:nvPr/>
          </p:nvSpPr>
          <p:spPr>
            <a:xfrm>
              <a:off x="392040" y="792000"/>
              <a:ext cx="8197920" cy="40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First look at the lungs.  Ignore the effect of the oxygen on the myoglobin to which it binds, so it’s just like the problem of adsorption by surface sites.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quilibrium is described by: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gas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bou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The fraction of occupied myoglobin sites is:</a:t>
              </a:r>
              <a:br>
                <a:rPr sz="1800"/>
              </a:b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can’t calculat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but we know empirically that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f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2/3 in the lungs     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(where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O2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=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lungs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0.19 atm).  That is,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hat happens in the tissue?  p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s the same. 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mpirically, f </a:t>
              </a: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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1/3, so                                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2973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bout 1/3 of the myoglobin sites are used to transport oxygen to the tissues.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ansport will occur as long as the O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pressure in the tissue is less than that in the lung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6" name="Object 5"/>
            <p:cNvGraphicFramePr/>
            <p:nvPr/>
          </p:nvGraphicFramePr>
          <p:xfrm>
            <a:off x="5235480" y="1660320"/>
            <a:ext cx="169236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35480" y="1660320"/>
                      <a:ext cx="169236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Object 6"/>
            <p:cNvGraphicFramePr/>
            <p:nvPr/>
          </p:nvGraphicFramePr>
          <p:xfrm>
            <a:off x="4504680" y="2604240"/>
            <a:ext cx="1106280" cy="34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04680" y="2604240"/>
                      <a:ext cx="11062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Object 7"/>
            <p:cNvGraphicFramePr/>
            <p:nvPr/>
          </p:nvGraphicFramePr>
          <p:xfrm>
            <a:off x="2837160" y="3300840"/>
            <a:ext cx="1971720" cy="350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1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37160" y="3300840"/>
                      <a:ext cx="1971720" cy="35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6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80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81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3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440" y="217080"/>
            <a:ext cx="809460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5000" y="87012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speed up chemical reactions, equilibrium is not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Object 2"/>
          <p:cNvGraphicFramePr/>
          <p:nvPr/>
        </p:nvGraphicFramePr>
        <p:xfrm>
          <a:off x="847800" y="4289400"/>
          <a:ext cx="489276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4289400"/>
                    <a:ext cx="48927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Group 6"/>
          <p:cNvGrpSpPr/>
          <p:nvPr/>
        </p:nvGrpSpPr>
        <p:grpSpPr>
          <a:xfrm>
            <a:off x="708120" y="5711760"/>
            <a:ext cx="3592440" cy="965160"/>
            <a:chOff x="708120" y="5711760"/>
            <a:chExt cx="3592440" cy="965160"/>
          </a:xfrm>
        </p:grpSpPr>
        <p:graphicFrame>
          <p:nvGraphicFramePr>
            <p:cNvPr id="116" name="Object 5"/>
            <p:cNvGraphicFramePr/>
            <p:nvPr/>
          </p:nvGraphicFramePr>
          <p:xfrm>
            <a:off x="2517840" y="6167520"/>
            <a:ext cx="178272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7840" y="6167520"/>
                      <a:ext cx="17827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Text Box 8"/>
            <p:cNvSpPr/>
            <p:nvPr/>
          </p:nvSpPr>
          <p:spPr>
            <a:xfrm>
              <a:off x="70812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9" name="Object 6"/>
            <p:cNvGraphicFramePr/>
            <p:nvPr/>
          </p:nvGraphicFramePr>
          <p:xfrm>
            <a:off x="865080" y="6037200"/>
            <a:ext cx="1633680" cy="63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5080" y="6037200"/>
                      <a:ext cx="16336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1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122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123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31"/>
          <p:cNvSpPr/>
          <p:nvPr/>
        </p:nvSpPr>
        <p:spPr>
          <a:xfrm flipH="1">
            <a:off x="5044680" y="2360520"/>
            <a:ext cx="490680" cy="258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693720" y="386856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3"/>
          <p:cNvGrpSpPr/>
          <p:nvPr/>
        </p:nvGrpSpPr>
        <p:grpSpPr>
          <a:xfrm>
            <a:off x="3046320" y="3354480"/>
            <a:ext cx="2382840" cy="391680"/>
            <a:chOff x="3046320" y="3354480"/>
            <a:chExt cx="2382840" cy="391680"/>
          </a:xfrm>
        </p:grpSpPr>
        <p:sp>
          <p:nvSpPr>
            <p:cNvPr id="145" name="Text Box 34"/>
            <p:cNvSpPr/>
            <p:nvPr/>
          </p:nvSpPr>
          <p:spPr>
            <a:xfrm>
              <a:off x="3046320" y="335448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4"/>
                <p:cNvSpPr txBox="1"/>
                <p:nvPr/>
              </p:nvSpPr>
              <p:spPr>
                <a:xfrm>
                  <a:off x="4651200" y="3379680"/>
                  <a:ext cx="77796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" name="Text Box 36"/>
          <p:cNvSpPr/>
          <p:nvPr/>
        </p:nvSpPr>
        <p:spPr>
          <a:xfrm>
            <a:off x="5192640" y="201312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6591240" y="4125960"/>
            <a:ext cx="22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130880" y="4603680"/>
          <a:ext cx="121464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30880" y="460368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1"/>
          <p:cNvGraphicFramePr/>
          <p:nvPr/>
        </p:nvGraphicFramePr>
        <p:xfrm>
          <a:off x="3747960" y="3911760"/>
          <a:ext cx="2828880" cy="27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7960" y="3911760"/>
                    <a:ext cx="282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Group 5"/>
          <p:cNvGrpSpPr/>
          <p:nvPr/>
        </p:nvGrpSpPr>
        <p:grpSpPr>
          <a:xfrm>
            <a:off x="6141960" y="2657520"/>
            <a:ext cx="2916360" cy="1333440"/>
            <a:chOff x="6141960" y="2657520"/>
            <a:chExt cx="2916360" cy="1333440"/>
          </a:xfrm>
        </p:grpSpPr>
        <p:sp>
          <p:nvSpPr>
            <p:cNvPr id="155" name="TextBox 3"/>
            <p:cNvSpPr/>
            <p:nvPr/>
          </p:nvSpPr>
          <p:spPr>
            <a:xfrm>
              <a:off x="6141960" y="2657520"/>
              <a:ext cx="29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or monatomic ideal gas Sacker-Tetrode eqn say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Object 4"/>
            <p:cNvGraphicFramePr/>
            <p:nvPr/>
          </p:nvGraphicFramePr>
          <p:xfrm>
            <a:off x="6442920" y="3259440"/>
            <a:ext cx="2117520" cy="731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2920" y="3259440"/>
                      <a:ext cx="2117520" cy="73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63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6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6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6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6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7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7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7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7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8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8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8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8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9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9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9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9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custGeom>
                    <a:avLst/>
                    <a:gdLst>
                      <a:gd name="textAreaLeft" fmla="*/ 0 w 84600"/>
                      <a:gd name="textAreaRight" fmla="*/ 84960 w 8460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5" name="Object 3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4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Object 8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ltzmann factor.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Object 37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3" name="Group 39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22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5488200" y="4307040"/>
              <a:ext cx="1282680" cy="13334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5489640" y="4292640"/>
              <a:ext cx="2793960" cy="1333440"/>
            </a:xfrm>
            <a:custGeom>
              <a:avLst/>
              <a:gdLst>
                <a:gd name="textAreaLeft" fmla="*/ 0 w 2793960"/>
                <a:gd name="textAreaRight" fmla="*/ 2794320 w 27939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5500800" y="4622760"/>
              <a:ext cx="2679840" cy="10159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220" h="1600">
                  <a:moveTo>
                    <a:pt x="0" y="1600"/>
                  </a:moveTo>
                  <a:cubicBezTo>
                    <a:pt x="561" y="1253"/>
                    <a:pt x="1123" y="907"/>
                    <a:pt x="1600" y="680"/>
                  </a:cubicBezTo>
                  <a:cubicBezTo>
                    <a:pt x="2077" y="453"/>
                    <a:pt x="2423" y="353"/>
                    <a:pt x="2860" y="240"/>
                  </a:cubicBezTo>
                  <a:cubicBezTo>
                    <a:pt x="3297" y="127"/>
                    <a:pt x="3758" y="63"/>
                    <a:pt x="42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38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2-01T14:47:04Z</cp:lastPrinted>
  <dcterms:modified xsi:type="dcterms:W3CDTF">2015-02-19T23:04:26Z</dcterms:modified>
  <cp:revision>37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