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35.jpeg" ContentType="image/jpeg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11.wmf" ContentType="image/x-wmf"/>
  <Override PartName="/ppt/media/image36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38.jpeg" ContentType="image/jpeg"/>
  <Override PartName="/ppt/media/image1.wmf" ContentType="image/x-wmf"/>
  <Override PartName="/ppt/media/image24.wmf" ContentType="image/x-wmf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796120" y="8710560"/>
            <a:ext cx="12675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3560" bIns="43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F576B81-88FA-4A9E-884C-0A519E595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47680" y="691920"/>
            <a:ext cx="455472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640" rIns="89640" tIns="45000" bIns="45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Otherwise S could increase by exchanging particles, but in equilibrium S is already a m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first part as an exercise, and only the second as a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~ 25 kJ/g (similar to ethan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~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ng 15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44 kJ/g = 1254 kcal/mole of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ca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+ 68 kcal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86 kJ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=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ding ballo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:  4H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  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elta_E per He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4.5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H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.7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mo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_E /g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0.03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(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kg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+ 2 e --&gt;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+ 2 neutrinos + 6 ph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energy released in each separate reaction has been measured. The net energy release is 26 MeV (corresponds to 4.1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/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to ponder:  </a:t>
            </a:r>
            <a:r>
              <a:rPr b="0" lang="en-US" sz="1200" spc="-1" strike="noStrike">
                <a:solidFill>
                  <a:srgbClr val="00ae00"/>
                </a:solidFill>
                <a:latin typeface="Arial"/>
              </a:rPr>
              <a:t>Why don’t the tables of free energy mention T_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CFA9-C4EE-4FCF-BE2B-D1858288015E}" type="slidenum">
              <a:rPr b="0" lang="en-US" sz="1800" spc="-1" strike="noStrike">
                <a:solidFill>
                  <a:srgbClr val="00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6715-F773-4DEF-B3E2-E0AEB84DB57B}" type="slidenum">
              <a:rPr b="0" lang="en-US" sz="1800" spc="-1" strike="noStrike">
                <a:solidFill>
                  <a:srgbClr val="00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en.wikipedia.org/wiki/Internal_combustion_engine#Energy_efficiency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AF5E3B71-D4BC-47D4-9288-61A7B9CD68C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6480" y="70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6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quilibrium and Chemical Potential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640160" y="2594880"/>
            <a:ext cx="585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 Energy and Chemical Potential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defects in solid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103400" y="5423040"/>
            <a:ext cx="31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lemen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 11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712800" y="5262480"/>
            <a:ext cx="3970440" cy="1055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5" name="Group 12"/>
          <p:cNvGrpSpPr/>
          <p:nvPr/>
        </p:nvGrpSpPr>
        <p:grpSpPr>
          <a:xfrm>
            <a:off x="4957920" y="5264280"/>
            <a:ext cx="3404880" cy="1054080"/>
            <a:chOff x="4957920" y="5264280"/>
            <a:chExt cx="3404880" cy="1054080"/>
          </a:xfrm>
        </p:grpSpPr>
        <p:sp>
          <p:nvSpPr>
            <p:cNvPr id="46" name="Text Box 8"/>
            <p:cNvSpPr/>
            <p:nvPr/>
          </p:nvSpPr>
          <p:spPr>
            <a:xfrm>
              <a:off x="5130720" y="5442120"/>
              <a:ext cx="306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Reference for Lecture 17: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lements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 1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7" name="AutoShape 9"/>
            <p:cNvSpPr/>
            <p:nvPr/>
          </p:nvSpPr>
          <p:spPr>
            <a:xfrm>
              <a:off x="4957920" y="5264280"/>
              <a:ext cx="3404880" cy="1054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52440" y="1053720"/>
            <a:ext cx="8089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the situation when systems can exchange energy.  The definition of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emperature: 1/T = dS/dU (holding V and N fixed) tells us that temperatures are equal in thermal equilibrium.  Otherwise we could increase S by exchanging so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lso know what happens when the systems are out of equilibrium (unequal T).  Because high T means a small derivative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ergy flows from the hot system to the cold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look at the situation when we have particle ex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om the definition of chemical potential, we have alread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en that in thermal and particle equilibrium, the chemical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tentials are equal: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t of equilibrium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arg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ystem has a larger dF/dN, so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 flow from hig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low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minimize F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 that d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dN (= d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/dN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ust be positiv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r equilibrium isn’t st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87200" y="61920"/>
            <a:ext cx="875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Equilibrium and Chemical Potential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87" name="Object 4"/>
          <p:cNvGraphicFramePr/>
          <p:nvPr/>
        </p:nvGraphicFramePr>
        <p:xfrm>
          <a:off x="6880320" y="4021200"/>
          <a:ext cx="115704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0320" y="4021200"/>
                    <a:ext cx="11570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Text Box 5"/>
          <p:cNvSpPr/>
          <p:nvPr/>
        </p:nvSpPr>
        <p:spPr>
          <a:xfrm>
            <a:off x="1809720" y="5645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90" name="Group 1"/>
          <p:cNvGrpSpPr/>
          <p:nvPr/>
        </p:nvGrpSpPr>
        <p:grpSpPr>
          <a:xfrm>
            <a:off x="6708600" y="5135400"/>
            <a:ext cx="1737000" cy="1484640"/>
            <a:chOff x="6708600" y="5135400"/>
            <a:chExt cx="1737000" cy="1484640"/>
          </a:xfrm>
        </p:grpSpPr>
        <p:grpSp>
          <p:nvGrpSpPr>
            <p:cNvPr id="191" name="Group 6"/>
            <p:cNvGrpSpPr/>
            <p:nvPr/>
          </p:nvGrpSpPr>
          <p:grpSpPr>
            <a:xfrm>
              <a:off x="6708600" y="5135400"/>
              <a:ext cx="1737000" cy="479520"/>
              <a:chOff x="6708600" y="5135400"/>
              <a:chExt cx="1737000" cy="479520"/>
            </a:xfrm>
          </p:grpSpPr>
          <p:sp>
            <p:nvSpPr>
              <p:cNvPr id="192" name="Rectangle 7"/>
              <p:cNvSpPr/>
              <p:nvPr/>
            </p:nvSpPr>
            <p:spPr>
              <a:xfrm>
                <a:off x="6708600" y="5140080"/>
                <a:ext cx="588960" cy="4748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3" name="Rectangle 8"/>
              <p:cNvSpPr/>
              <p:nvPr/>
            </p:nvSpPr>
            <p:spPr>
              <a:xfrm>
                <a:off x="7856640" y="5135400"/>
                <a:ext cx="588960" cy="4748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4" name="Line 9"/>
              <p:cNvSpPr/>
              <p:nvPr/>
            </p:nvSpPr>
            <p:spPr>
              <a:xfrm>
                <a:off x="7315200" y="5360760"/>
                <a:ext cx="536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5" name="Text Box 10"/>
              <p:cNvSpPr/>
              <p:nvPr/>
            </p:nvSpPr>
            <p:spPr>
              <a:xfrm>
                <a:off x="7313040" y="5194080"/>
                <a:ext cx="561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energy 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articles</a:t>
                </a:r>
                <a:endParaRPr b="0" lang="en-US" sz="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6" name="Text Box 11"/>
              <p:cNvSpPr/>
              <p:nvPr/>
            </p:nvSpPr>
            <p:spPr>
              <a:xfrm>
                <a:off x="8016480" y="52369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7" name="Text Box 12"/>
              <p:cNvSpPr/>
              <p:nvPr/>
            </p:nvSpPr>
            <p:spPr>
              <a:xfrm>
                <a:off x="6859080" y="52387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98" name="Arc 13"/>
            <p:cNvSpPr/>
            <p:nvPr/>
          </p:nvSpPr>
          <p:spPr>
            <a:xfrm flipV="1">
              <a:off x="7057800" y="6090480"/>
              <a:ext cx="1052640" cy="230040"/>
            </a:xfrm>
            <a:custGeom>
              <a:avLst/>
              <a:gdLst>
                <a:gd name="textAreaLeft" fmla="*/ 0 w 1052640"/>
                <a:gd name="textAreaRight" fmla="*/ 1053000 w 1052640"/>
                <a:gd name="textAreaTop" fmla="*/ -360 h 230040"/>
                <a:gd name="textAreaBottom" fmla="*/ 230040 h 230040"/>
              </a:gdLst>
              <a:ahLst/>
              <a:rect l="textAreaLeft" t="textAreaTop" r="textAreaRight" b="textAreaBottom"/>
              <a:pathLst>
                <a:path fill="none" w="39145" h="21600">
                  <a:moveTo>
                    <a:pt x="-1" y="11931"/>
                  </a:moveTo>
                  <a:cubicBezTo>
                    <a:pt x="3660" y="4618"/>
                    <a:pt x="11136" y="-1"/>
                    <a:pt x="19315" y="0"/>
                  </a:cubicBezTo>
                  <a:cubicBezTo>
                    <a:pt x="27934" y="0"/>
                    <a:pt x="35728" y="5124"/>
                    <a:pt x="39145" y="13036"/>
                  </a:cubicBezTo>
                </a:path>
                <a:path stroke="0" w="39145" h="21600">
                  <a:moveTo>
                    <a:pt x="-1" y="11931"/>
                  </a:moveTo>
                  <a:cubicBezTo>
                    <a:pt x="3660" y="4618"/>
                    <a:pt x="11136" y="-1"/>
                    <a:pt x="19315" y="0"/>
                  </a:cubicBezTo>
                  <a:cubicBezTo>
                    <a:pt x="27934" y="0"/>
                    <a:pt x="35728" y="5124"/>
                    <a:pt x="39145" y="13036"/>
                  </a:cubicBezTo>
                  <a:lnTo>
                    <a:pt x="19315" y="21600"/>
                  </a:lnTo>
                  <a:lnTo>
                    <a:pt x="-1" y="11931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9" name="Line 14"/>
            <p:cNvSpPr/>
            <p:nvPr/>
          </p:nvSpPr>
          <p:spPr>
            <a:xfrm>
              <a:off x="6857640" y="5864040"/>
              <a:ext cx="0" cy="703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0" name="Line 15"/>
            <p:cNvSpPr/>
            <p:nvPr/>
          </p:nvSpPr>
          <p:spPr>
            <a:xfrm>
              <a:off x="6857640" y="6559560"/>
              <a:ext cx="1459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1" name="Text Box 16"/>
            <p:cNvSpPr/>
            <p:nvPr/>
          </p:nvSpPr>
          <p:spPr>
            <a:xfrm>
              <a:off x="8140680" y="63435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N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2" name="Text Box 17"/>
            <p:cNvSpPr/>
            <p:nvPr/>
          </p:nvSpPr>
          <p:spPr>
            <a:xfrm>
              <a:off x="6819840" y="577188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80960" y="61560"/>
            <a:ext cx="82216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ath Ahead..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82760" y="1243080"/>
            <a:ext cx="819288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Having considered thermal equilibrium when volume and energy exchang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we’ll consider systems in which particles can be exchanged (or “created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mization of total free energy will allow us to understand a wide variety of different physical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examp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move from place to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combine into new types (</a:t>
            </a:r>
            <a:r>
              <a:rPr b="0" i="1" lang="en-US" sz="1800" spc="-1" strike="noStrike">
                <a:solidFill>
                  <a:srgbClr val="66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chemical reaction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is will lead to the concept of “chemical equilibrium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nd lots and lots of application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Let’s start with a concrete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61640" y="2859120"/>
            <a:ext cx="8731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In a perfect crystal at low temperatures, the atoms are arranged on a lattice like the one shown at the left.  Consider M atoms on lattice sites, where M is a very large number, about 10</a:t>
            </a:r>
            <a:r>
              <a:rPr b="0" lang="en-US" sz="1900" spc="-1" strike="noStrike" baseline="30000">
                <a:solidFill>
                  <a:srgbClr val="66ffcc"/>
                </a:solidFill>
                <a:latin typeface="Arial"/>
              </a:rPr>
              <a:t>22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for a mm-sized cryst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As the crystal is heated up the atoms jiggle around, and some atoms will jump to “interstitial” sites, leaving a “vacancy” behind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There is an energy cos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to form each interstitial-vacancy pair (“I-V pair”) like the one shown above, i.e., there is an energy difference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between an I-V pair and a normally occupied si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By minimizing the Free energy of N ‘I-V pairs’, we will calculate the average number of defects that form at a temperature T.</a:t>
            </a:r>
            <a:r>
              <a:rPr b="1" lang="en-US" sz="1900" spc="-1" strike="noStrike">
                <a:solidFill>
                  <a:srgbClr val="66ffcc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6882120" y="139860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stitial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7" name="Line 4"/>
          <p:cNvSpPr/>
          <p:nvPr/>
        </p:nvSpPr>
        <p:spPr>
          <a:xfrm flipH="1">
            <a:off x="6006960" y="1565280"/>
            <a:ext cx="914400" cy="21744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8" name="Line 5"/>
          <p:cNvSpPr/>
          <p:nvPr/>
        </p:nvSpPr>
        <p:spPr>
          <a:xfrm flipH="1" flipV="1">
            <a:off x="5165280" y="2101320"/>
            <a:ext cx="1639800" cy="34956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09" name="Group 6"/>
          <p:cNvGrpSpPr/>
          <p:nvPr/>
        </p:nvGrpSpPr>
        <p:grpSpPr>
          <a:xfrm>
            <a:off x="1289160" y="995400"/>
            <a:ext cx="4863960" cy="1595520"/>
            <a:chOff x="1289160" y="995400"/>
            <a:chExt cx="4863960" cy="1595520"/>
          </a:xfrm>
        </p:grpSpPr>
        <p:sp>
          <p:nvSpPr>
            <p:cNvPr id="210" name="AutoShape 7"/>
            <p:cNvSpPr/>
            <p:nvPr/>
          </p:nvSpPr>
          <p:spPr>
            <a:xfrm>
              <a:off x="3089520" y="1739880"/>
              <a:ext cx="1292040" cy="304920"/>
            </a:xfrm>
            <a:prstGeom prst="rightArrow">
              <a:avLst>
                <a:gd name="adj1" fmla="val 50000"/>
                <a:gd name="adj2" fmla="val 105933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11" name="Group 8"/>
            <p:cNvGrpSpPr/>
            <p:nvPr/>
          </p:nvGrpSpPr>
          <p:grpSpPr>
            <a:xfrm>
              <a:off x="1289160" y="1017720"/>
              <a:ext cx="1668600" cy="1573200"/>
              <a:chOff x="1289160" y="1017720"/>
              <a:chExt cx="1668600" cy="1573200"/>
            </a:xfrm>
          </p:grpSpPr>
          <p:grpSp>
            <p:nvGrpSpPr>
              <p:cNvPr id="212" name="Group 9"/>
              <p:cNvGrpSpPr/>
              <p:nvPr/>
            </p:nvGrpSpPr>
            <p:grpSpPr>
              <a:xfrm>
                <a:off x="1289160" y="1458720"/>
                <a:ext cx="1663560" cy="1132200"/>
                <a:chOff x="1289160" y="1458720"/>
                <a:chExt cx="1663560" cy="1132200"/>
              </a:xfrm>
            </p:grpSpPr>
            <p:sp>
              <p:nvSpPr>
                <p:cNvPr id="213" name="Oval 10"/>
                <p:cNvSpPr/>
                <p:nvPr/>
              </p:nvSpPr>
              <p:spPr>
                <a:xfrm>
                  <a:off x="1289160" y="1506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4" name="Oval 11"/>
                <p:cNvSpPr/>
                <p:nvPr/>
              </p:nvSpPr>
              <p:spPr>
                <a:xfrm>
                  <a:off x="129708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5" name="Oval 12"/>
                <p:cNvSpPr/>
                <p:nvPr/>
              </p:nvSpPr>
              <p:spPr>
                <a:xfrm>
                  <a:off x="1305000" y="23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6" name="Oval 13"/>
                <p:cNvSpPr/>
                <p:nvPr/>
              </p:nvSpPr>
              <p:spPr>
                <a:xfrm>
                  <a:off x="1760760" y="15001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7" name="Oval 14"/>
                <p:cNvSpPr/>
                <p:nvPr/>
              </p:nvSpPr>
              <p:spPr>
                <a:xfrm>
                  <a:off x="176868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8" name="Oval 15"/>
                <p:cNvSpPr/>
                <p:nvPr/>
              </p:nvSpPr>
              <p:spPr>
                <a:xfrm>
                  <a:off x="1774800" y="235584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9" name="Oval 16"/>
                <p:cNvSpPr/>
                <p:nvPr/>
              </p:nvSpPr>
              <p:spPr>
                <a:xfrm>
                  <a:off x="2246400" y="1479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0" name="Oval 17"/>
                <p:cNvSpPr/>
                <p:nvPr/>
              </p:nvSpPr>
              <p:spPr>
                <a:xfrm>
                  <a:off x="2732400" y="14587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" name="Oval 18"/>
                <p:cNvSpPr/>
                <p:nvPr/>
              </p:nvSpPr>
              <p:spPr>
                <a:xfrm>
                  <a:off x="225432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" name="Oval 19"/>
                <p:cNvSpPr/>
                <p:nvPr/>
              </p:nvSpPr>
              <p:spPr>
                <a:xfrm>
                  <a:off x="2725920" y="1909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3" name="Oval 20"/>
                <p:cNvSpPr/>
                <p:nvPr/>
              </p:nvSpPr>
              <p:spPr>
                <a:xfrm>
                  <a:off x="2248200" y="2349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4" name="Oval 21"/>
                <p:cNvSpPr/>
                <p:nvPr/>
              </p:nvSpPr>
              <p:spPr>
                <a:xfrm>
                  <a:off x="2735280" y="23731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5" name="Oval 22"/>
              <p:cNvSpPr/>
              <p:nvPr/>
            </p:nvSpPr>
            <p:spPr>
              <a:xfrm>
                <a:off x="1297080" y="1065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6" name="Oval 23"/>
              <p:cNvSpPr/>
              <p:nvPr/>
            </p:nvSpPr>
            <p:spPr>
              <a:xfrm>
                <a:off x="1768680" y="105876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7" name="Oval 24"/>
              <p:cNvSpPr/>
              <p:nvPr/>
            </p:nvSpPr>
            <p:spPr>
              <a:xfrm>
                <a:off x="2254320" y="1038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8" name="Oval 25"/>
              <p:cNvSpPr/>
              <p:nvPr/>
            </p:nvSpPr>
            <p:spPr>
              <a:xfrm>
                <a:off x="2740320" y="1017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26"/>
            <p:cNvGrpSpPr/>
            <p:nvPr/>
          </p:nvGrpSpPr>
          <p:grpSpPr>
            <a:xfrm>
              <a:off x="4469040" y="995400"/>
              <a:ext cx="1684080" cy="1558800"/>
              <a:chOff x="4469040" y="995400"/>
              <a:chExt cx="1684080" cy="1558800"/>
            </a:xfrm>
          </p:grpSpPr>
          <p:grpSp>
            <p:nvGrpSpPr>
              <p:cNvPr id="230" name="Group 27"/>
              <p:cNvGrpSpPr/>
              <p:nvPr/>
            </p:nvGrpSpPr>
            <p:grpSpPr>
              <a:xfrm>
                <a:off x="4469040" y="995400"/>
                <a:ext cx="1684080" cy="1558800"/>
                <a:chOff x="4469040" y="995400"/>
                <a:chExt cx="1684080" cy="1558800"/>
              </a:xfrm>
            </p:grpSpPr>
            <p:sp>
              <p:nvSpPr>
                <p:cNvPr id="231" name="Oval 28"/>
                <p:cNvSpPr/>
                <p:nvPr/>
              </p:nvSpPr>
              <p:spPr>
                <a:xfrm>
                  <a:off x="4489560" y="1469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" name="Oval 29"/>
                <p:cNvSpPr/>
                <p:nvPr/>
              </p:nvSpPr>
              <p:spPr>
                <a:xfrm>
                  <a:off x="449748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" name="Oval 30"/>
                <p:cNvSpPr/>
                <p:nvPr/>
              </p:nvSpPr>
              <p:spPr>
                <a:xfrm>
                  <a:off x="4505400" y="2327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4" name="Oval 31"/>
                <p:cNvSpPr/>
                <p:nvPr/>
              </p:nvSpPr>
              <p:spPr>
                <a:xfrm>
                  <a:off x="4961160" y="14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5" name="Oval 32"/>
                <p:cNvSpPr/>
                <p:nvPr/>
              </p:nvSpPr>
              <p:spPr>
                <a:xfrm>
                  <a:off x="5681880" y="17175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6" name="Oval 33"/>
                <p:cNvSpPr/>
                <p:nvPr/>
              </p:nvSpPr>
              <p:spPr>
                <a:xfrm>
                  <a:off x="4975200" y="23191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7" name="Oval 34"/>
                <p:cNvSpPr/>
                <p:nvPr/>
              </p:nvSpPr>
              <p:spPr>
                <a:xfrm>
                  <a:off x="5446800" y="1442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8" name="Oval 35"/>
                <p:cNvSpPr/>
                <p:nvPr/>
              </p:nvSpPr>
              <p:spPr>
                <a:xfrm>
                  <a:off x="5932800" y="1422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" name="Oval 36"/>
                <p:cNvSpPr/>
                <p:nvPr/>
              </p:nvSpPr>
              <p:spPr>
                <a:xfrm>
                  <a:off x="545472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0" name="Oval 37"/>
                <p:cNvSpPr/>
                <p:nvPr/>
              </p:nvSpPr>
              <p:spPr>
                <a:xfrm>
                  <a:off x="5926320" y="1873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" name="Oval 38"/>
                <p:cNvSpPr/>
                <p:nvPr/>
              </p:nvSpPr>
              <p:spPr>
                <a:xfrm>
                  <a:off x="5448600" y="2313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2" name="Oval 39"/>
                <p:cNvSpPr/>
                <p:nvPr/>
              </p:nvSpPr>
              <p:spPr>
                <a:xfrm>
                  <a:off x="5935680" y="2336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" name="Oval 40"/>
                <p:cNvSpPr/>
                <p:nvPr/>
              </p:nvSpPr>
              <p:spPr>
                <a:xfrm>
                  <a:off x="4469040" y="1042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" name="Oval 41"/>
                <p:cNvSpPr/>
                <p:nvPr/>
              </p:nvSpPr>
              <p:spPr>
                <a:xfrm>
                  <a:off x="4940280" y="103644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" name="Oval 42"/>
                <p:cNvSpPr/>
                <p:nvPr/>
              </p:nvSpPr>
              <p:spPr>
                <a:xfrm>
                  <a:off x="5426280" y="1015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6" name="Oval 43"/>
                <p:cNvSpPr/>
                <p:nvPr/>
              </p:nvSpPr>
              <p:spPr>
                <a:xfrm>
                  <a:off x="5911920" y="9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AutoShape 44"/>
              <p:cNvSpPr/>
              <p:nvPr/>
            </p:nvSpPr>
            <p:spPr>
              <a:xfrm>
                <a:off x="5078520" y="1710000"/>
                <a:ext cx="493560" cy="260280"/>
              </a:xfrm>
              <a:custGeom>
                <a:avLst/>
                <a:gdLst>
                  <a:gd name="textAreaLeft" fmla="*/ 284040 w 493560"/>
                  <a:gd name="textAreaRight" fmla="*/ 415800 w 493560"/>
                  <a:gd name="textAreaTop" fmla="*/ 34920 h 260280"/>
                  <a:gd name="textAreaBottom" fmla="*/ 11124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5126" y="0"/>
                    </a:lnTo>
                    <a:lnTo>
                      <a:pt x="15126" y="2912"/>
                    </a:lnTo>
                    <a:lnTo>
                      <a:pt x="12427" y="2912"/>
                    </a:lnTo>
                    <a:cubicBezTo>
                      <a:pt x="5564" y="2912"/>
                      <a:pt x="0" y="7052"/>
                      <a:pt x="0" y="12158"/>
                    </a:cubicBezTo>
                    <a:lnTo>
                      <a:pt x="0" y="21600"/>
                    </a:lnTo>
                    <a:lnTo>
                      <a:pt x="6474" y="21600"/>
                    </a:lnTo>
                    <a:lnTo>
                      <a:pt x="6474" y="12158"/>
                    </a:lnTo>
                    <a:cubicBezTo>
                      <a:pt x="6474" y="10550"/>
                      <a:pt x="9139" y="9246"/>
                      <a:pt x="12427" y="9246"/>
                    </a:cubicBezTo>
                    <a:lnTo>
                      <a:pt x="15126" y="9246"/>
                    </a:lnTo>
                    <a:lnTo>
                      <a:pt x="15126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1442520" y="1011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9" name="Text Box 46"/>
          <p:cNvSpPr/>
          <p:nvPr/>
        </p:nvSpPr>
        <p:spPr>
          <a:xfrm>
            <a:off x="6864840" y="228924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cancy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0" name="Text Box 47"/>
          <p:cNvSpPr/>
          <p:nvPr/>
        </p:nvSpPr>
        <p:spPr>
          <a:xfrm>
            <a:off x="0" y="7632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-minimum 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682560" y="3357720"/>
            <a:ext cx="75358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it costs energy to create an interstitial-vacancy pair, at low temperature the decrease in F due to entropy gain (increasing the number of available sites) will be smaller than the increase in F due to the energy cost.  Therefore, the free energy will be minimized by “staying at home”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= U - T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641520" y="2505240"/>
            <a:ext cx="1134720" cy="49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7" name="Line 7"/>
          <p:cNvSpPr/>
          <p:nvPr/>
        </p:nvSpPr>
        <p:spPr>
          <a:xfrm flipV="1">
            <a:off x="2527200" y="5160600"/>
            <a:ext cx="0" cy="41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1713960" y="5611680"/>
            <a:ext cx="221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As T 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0, the TS term 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becomes unimportant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87120" y="61560"/>
            <a:ext cx="788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07600" y="1095120"/>
            <a:ext cx="8201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uppose we ha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vacancy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interstitial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(essentially one per atom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ant to know N, the number of interstitial-vacancy pairs at temperatur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want to minimize F(N) as a function of N.  Call F(0)=0 for conveni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1" name="Object 4"/>
          <p:cNvGraphicFramePr/>
          <p:nvPr/>
        </p:nvGraphicFramePr>
        <p:xfrm>
          <a:off x="2790720" y="2873520"/>
          <a:ext cx="29480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0720" y="2873520"/>
                    <a:ext cx="29480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Line 9"/>
          <p:cNvSpPr/>
          <p:nvPr/>
        </p:nvSpPr>
        <p:spPr>
          <a:xfrm flipV="1">
            <a:off x="2389320" y="3762360"/>
            <a:ext cx="4680" cy="836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1782720" y="4554360"/>
            <a:ext cx="163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 energ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each interstitial-vacancy pair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5" name="Text Box 39"/>
          <p:cNvSpPr/>
          <p:nvPr/>
        </p:nvSpPr>
        <p:spPr>
          <a:xfrm>
            <a:off x="3913200" y="3881520"/>
            <a:ext cx="2577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calculate S(N) 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6" name="Rectangle 41"/>
          <p:cNvSpPr/>
          <p:nvPr/>
        </p:nvSpPr>
        <p:spPr>
          <a:xfrm>
            <a:off x="3925800" y="4484520"/>
            <a:ext cx="355608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ssume the crystal’s vibrational entropy is not much changed by making an interstitial. S is then due to the number of places each vacancy could be, and the number of places each interstitial could b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67" name="Object 42"/>
          <p:cNvGraphicFramePr/>
          <p:nvPr/>
        </p:nvGraphicFramePr>
        <p:xfrm>
          <a:off x="957240" y="3416400"/>
          <a:ext cx="164772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7240" y="3416400"/>
                    <a:ext cx="16477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2"/>
          <p:cNvGrpSpPr/>
          <p:nvPr/>
        </p:nvGrpSpPr>
        <p:grpSpPr>
          <a:xfrm>
            <a:off x="1339920" y="878040"/>
            <a:ext cx="6816960" cy="2030040"/>
            <a:chOff x="1339920" y="878040"/>
            <a:chExt cx="6816960" cy="2030040"/>
          </a:xfrm>
        </p:grpSpPr>
        <p:sp>
          <p:nvSpPr>
            <p:cNvPr id="270" name="Text Box 3"/>
            <p:cNvSpPr/>
            <p:nvPr/>
          </p:nvSpPr>
          <p:spPr>
            <a:xfrm>
              <a:off x="7013160" y="164916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stitial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71" name="Line 4"/>
            <p:cNvSpPr/>
            <p:nvPr/>
          </p:nvSpPr>
          <p:spPr>
            <a:xfrm flipH="1">
              <a:off x="6135840" y="1839600"/>
              <a:ext cx="914400" cy="2174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72" name="Line 5"/>
            <p:cNvSpPr/>
            <p:nvPr/>
          </p:nvSpPr>
          <p:spPr>
            <a:xfrm flipH="1" flipV="1">
              <a:off x="5294160" y="2376000"/>
              <a:ext cx="1640160" cy="3488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73" name="Group 6"/>
            <p:cNvGrpSpPr/>
            <p:nvPr/>
          </p:nvGrpSpPr>
          <p:grpSpPr>
            <a:xfrm>
              <a:off x="1417680" y="1269720"/>
              <a:ext cx="4863960" cy="1594080"/>
              <a:chOff x="1417680" y="1269720"/>
              <a:chExt cx="4863960" cy="1594080"/>
            </a:xfrm>
          </p:grpSpPr>
          <p:sp>
            <p:nvSpPr>
              <p:cNvPr id="274" name="AutoShape 7"/>
              <p:cNvSpPr/>
              <p:nvPr/>
            </p:nvSpPr>
            <p:spPr>
              <a:xfrm>
                <a:off x="3218040" y="2013840"/>
                <a:ext cx="1292040" cy="304560"/>
              </a:xfrm>
              <a:prstGeom prst="rightArrow">
                <a:avLst>
                  <a:gd name="adj1" fmla="val 50000"/>
                  <a:gd name="adj2" fmla="val 106058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75" name="Group 8"/>
              <p:cNvGrpSpPr/>
              <p:nvPr/>
            </p:nvGrpSpPr>
            <p:grpSpPr>
              <a:xfrm>
                <a:off x="1417680" y="1291680"/>
                <a:ext cx="1668600" cy="1572120"/>
                <a:chOff x="1417680" y="1291680"/>
                <a:chExt cx="1668600" cy="1572120"/>
              </a:xfrm>
            </p:grpSpPr>
            <p:grpSp>
              <p:nvGrpSpPr>
                <p:cNvPr id="276" name="Group 9"/>
                <p:cNvGrpSpPr/>
                <p:nvPr/>
              </p:nvGrpSpPr>
              <p:grpSpPr>
                <a:xfrm>
                  <a:off x="1417680" y="1732320"/>
                  <a:ext cx="1663560" cy="1131480"/>
                  <a:chOff x="1417680" y="1732320"/>
                  <a:chExt cx="1663560" cy="1131480"/>
                </a:xfrm>
              </p:grpSpPr>
              <p:sp>
                <p:nvSpPr>
                  <p:cNvPr id="277" name="Oval 10"/>
                  <p:cNvSpPr/>
                  <p:nvPr/>
                </p:nvSpPr>
                <p:spPr>
                  <a:xfrm>
                    <a:off x="1417680" y="1779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Oval 11"/>
                  <p:cNvSpPr/>
                  <p:nvPr/>
                </p:nvSpPr>
                <p:spPr>
                  <a:xfrm>
                    <a:off x="142560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Oval 12"/>
                  <p:cNvSpPr/>
                  <p:nvPr/>
                </p:nvSpPr>
                <p:spPr>
                  <a:xfrm>
                    <a:off x="1433520" y="26370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Oval 13"/>
                  <p:cNvSpPr/>
                  <p:nvPr/>
                </p:nvSpPr>
                <p:spPr>
                  <a:xfrm>
                    <a:off x="1889280" y="177336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Oval 14"/>
                  <p:cNvSpPr/>
                  <p:nvPr/>
                </p:nvSpPr>
                <p:spPr>
                  <a:xfrm>
                    <a:off x="1897200" y="220032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Oval 15"/>
                  <p:cNvSpPr/>
                  <p:nvPr/>
                </p:nvSpPr>
                <p:spPr>
                  <a:xfrm>
                    <a:off x="1903320" y="2629080"/>
                    <a:ext cx="21780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Oval 16"/>
                  <p:cNvSpPr/>
                  <p:nvPr/>
                </p:nvSpPr>
                <p:spPr>
                  <a:xfrm>
                    <a:off x="2374920" y="1752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Oval 17"/>
                  <p:cNvSpPr/>
                  <p:nvPr/>
                </p:nvSpPr>
                <p:spPr>
                  <a:xfrm>
                    <a:off x="2860920" y="1732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Oval 18"/>
                  <p:cNvSpPr/>
                  <p:nvPr/>
                </p:nvSpPr>
                <p:spPr>
                  <a:xfrm>
                    <a:off x="238284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Oval 19"/>
                  <p:cNvSpPr/>
                  <p:nvPr/>
                </p:nvSpPr>
                <p:spPr>
                  <a:xfrm>
                    <a:off x="2854440" y="21830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Oval 20"/>
                  <p:cNvSpPr/>
                  <p:nvPr/>
                </p:nvSpPr>
                <p:spPr>
                  <a:xfrm>
                    <a:off x="2376720" y="26226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Oval 21"/>
                  <p:cNvSpPr/>
                  <p:nvPr/>
                </p:nvSpPr>
                <p:spPr>
                  <a:xfrm>
                    <a:off x="2863800" y="26463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9" name="Oval 22"/>
                <p:cNvSpPr/>
                <p:nvPr/>
              </p:nvSpPr>
              <p:spPr>
                <a:xfrm>
                  <a:off x="1425600" y="1338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0" name="Oval 23"/>
                <p:cNvSpPr/>
                <p:nvPr/>
              </p:nvSpPr>
              <p:spPr>
                <a:xfrm>
                  <a:off x="1897200" y="133236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1" name="Oval 24"/>
                <p:cNvSpPr/>
                <p:nvPr/>
              </p:nvSpPr>
              <p:spPr>
                <a:xfrm>
                  <a:off x="2382840" y="1311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2" name="Oval 25"/>
                <p:cNvSpPr/>
                <p:nvPr/>
              </p:nvSpPr>
              <p:spPr>
                <a:xfrm>
                  <a:off x="2868840" y="129168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Group 26"/>
              <p:cNvGrpSpPr/>
              <p:nvPr/>
            </p:nvGrpSpPr>
            <p:grpSpPr>
              <a:xfrm>
                <a:off x="4597560" y="1269720"/>
                <a:ext cx="1684080" cy="1558800"/>
                <a:chOff x="4597560" y="1269720"/>
                <a:chExt cx="1684080" cy="1558800"/>
              </a:xfrm>
            </p:grpSpPr>
            <p:grpSp>
              <p:nvGrpSpPr>
                <p:cNvPr id="294" name="Group 27"/>
                <p:cNvGrpSpPr/>
                <p:nvPr/>
              </p:nvGrpSpPr>
              <p:grpSpPr>
                <a:xfrm>
                  <a:off x="4597560" y="1269720"/>
                  <a:ext cx="1684080" cy="1558800"/>
                  <a:chOff x="4597560" y="1269720"/>
                  <a:chExt cx="1684080" cy="1558800"/>
                </a:xfrm>
              </p:grpSpPr>
              <p:sp>
                <p:nvSpPr>
                  <p:cNvPr id="295" name="Oval 28"/>
                  <p:cNvSpPr/>
                  <p:nvPr/>
                </p:nvSpPr>
                <p:spPr>
                  <a:xfrm>
                    <a:off x="4618080" y="1744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Oval 29"/>
                  <p:cNvSpPr/>
                  <p:nvPr/>
                </p:nvSpPr>
                <p:spPr>
                  <a:xfrm>
                    <a:off x="462600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Oval 30"/>
                  <p:cNvSpPr/>
                  <p:nvPr/>
                </p:nvSpPr>
                <p:spPr>
                  <a:xfrm>
                    <a:off x="4633920" y="2601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Oval 31"/>
                  <p:cNvSpPr/>
                  <p:nvPr/>
                </p:nvSpPr>
                <p:spPr>
                  <a:xfrm>
                    <a:off x="5089680" y="1738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Oval 32"/>
                  <p:cNvSpPr/>
                  <p:nvPr/>
                </p:nvSpPr>
                <p:spPr>
                  <a:xfrm>
                    <a:off x="5810400" y="19918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Oval 33"/>
                  <p:cNvSpPr/>
                  <p:nvPr/>
                </p:nvSpPr>
                <p:spPr>
                  <a:xfrm>
                    <a:off x="5103720" y="259344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Oval 34"/>
                  <p:cNvSpPr/>
                  <p:nvPr/>
                </p:nvSpPr>
                <p:spPr>
                  <a:xfrm>
                    <a:off x="5575320" y="1717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Oval 35"/>
                  <p:cNvSpPr/>
                  <p:nvPr/>
                </p:nvSpPr>
                <p:spPr>
                  <a:xfrm>
                    <a:off x="6061320" y="16966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Oval 36"/>
                  <p:cNvSpPr/>
                  <p:nvPr/>
                </p:nvSpPr>
                <p:spPr>
                  <a:xfrm>
                    <a:off x="558324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Oval 37"/>
                  <p:cNvSpPr/>
                  <p:nvPr/>
                </p:nvSpPr>
                <p:spPr>
                  <a:xfrm>
                    <a:off x="6054840" y="21474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Oval 38"/>
                  <p:cNvSpPr/>
                  <p:nvPr/>
                </p:nvSpPr>
                <p:spPr>
                  <a:xfrm>
                    <a:off x="5577120" y="2587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Oval 39"/>
                  <p:cNvSpPr/>
                  <p:nvPr/>
                </p:nvSpPr>
                <p:spPr>
                  <a:xfrm>
                    <a:off x="6064200" y="2611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Oval 40"/>
                  <p:cNvSpPr/>
                  <p:nvPr/>
                </p:nvSpPr>
                <p:spPr>
                  <a:xfrm>
                    <a:off x="4597560" y="1317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Oval 41"/>
                  <p:cNvSpPr/>
                  <p:nvPr/>
                </p:nvSpPr>
                <p:spPr>
                  <a:xfrm>
                    <a:off x="5068800" y="131076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Oval 42"/>
                  <p:cNvSpPr/>
                  <p:nvPr/>
                </p:nvSpPr>
                <p:spPr>
                  <a:xfrm>
                    <a:off x="5554800" y="1290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Oval 43"/>
                  <p:cNvSpPr/>
                  <p:nvPr/>
                </p:nvSpPr>
                <p:spPr>
                  <a:xfrm>
                    <a:off x="6040440" y="1269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1" name="AutoShape 44"/>
                <p:cNvSpPr/>
                <p:nvPr/>
              </p:nvSpPr>
              <p:spPr>
                <a:xfrm>
                  <a:off x="5207040" y="1983960"/>
                  <a:ext cx="493560" cy="259920"/>
                </a:xfrm>
                <a:custGeom>
                  <a:avLst/>
                  <a:gdLst>
                    <a:gd name="textAreaLeft" fmla="*/ 284040 w 493560"/>
                    <a:gd name="textAreaRight" fmla="*/ 415800 w 493560"/>
                    <a:gd name="textAreaTop" fmla="*/ 34920 h 259920"/>
                    <a:gd name="textAreaBottom" fmla="*/ 110880 h 259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6079"/>
                      </a:moveTo>
                      <a:lnTo>
                        <a:pt x="15126" y="0"/>
                      </a:lnTo>
                      <a:lnTo>
                        <a:pt x="15126" y="2912"/>
                      </a:lnTo>
                      <a:lnTo>
                        <a:pt x="12427" y="2912"/>
                      </a:lnTo>
                      <a:cubicBezTo>
                        <a:pt x="5564" y="2912"/>
                        <a:pt x="0" y="7052"/>
                        <a:pt x="0" y="12158"/>
                      </a:cubicBezTo>
                      <a:lnTo>
                        <a:pt x="0" y="21600"/>
                      </a:lnTo>
                      <a:lnTo>
                        <a:pt x="6474" y="21600"/>
                      </a:lnTo>
                      <a:lnTo>
                        <a:pt x="6474" y="12158"/>
                      </a:lnTo>
                      <a:cubicBezTo>
                        <a:pt x="6474" y="10550"/>
                        <a:pt x="9139" y="9246"/>
                        <a:pt x="12427" y="9246"/>
                      </a:cubicBezTo>
                      <a:lnTo>
                        <a:pt x="15126" y="9246"/>
                      </a:lnTo>
                      <a:lnTo>
                        <a:pt x="15126" y="12158"/>
                      </a:lnTo>
                      <a:lnTo>
                        <a:pt x="21600" y="607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2" name="Text Box 45"/>
            <p:cNvSpPr/>
            <p:nvPr/>
          </p:nvSpPr>
          <p:spPr>
            <a:xfrm>
              <a:off x="6995520" y="253980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cancy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3" name="Rectangle 46"/>
            <p:cNvSpPr/>
            <p:nvPr/>
          </p:nvSpPr>
          <p:spPr>
            <a:xfrm>
              <a:off x="1339920" y="878040"/>
              <a:ext cx="58752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cc"/>
                  </a:solidFill>
                  <a:latin typeface="Arial"/>
                </a:rPr>
                <a:t>Perfect lattice                     Lattice with a Defect 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61800" y="14256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efects in Crystal Lattices (3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5" name="Text Box 48"/>
          <p:cNvSpPr/>
          <p:nvPr/>
        </p:nvSpPr>
        <p:spPr>
          <a:xfrm>
            <a:off x="270000" y="3532320"/>
            <a:ext cx="86580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ways to put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 particles in M cells =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 (single occupancy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lute limit)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there is no correlation between the position of a vacancy and the position of an interstitial.  Therefore, the total number of accessible state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(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16" name="Object 51"/>
          <p:cNvGraphicFramePr/>
          <p:nvPr/>
        </p:nvGraphicFramePr>
        <p:xfrm>
          <a:off x="1994040" y="5587920"/>
          <a:ext cx="5287680" cy="4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040" y="5587920"/>
                    <a:ext cx="5287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Object 52"/>
          <p:cNvGraphicFramePr/>
          <p:nvPr/>
        </p:nvGraphicFramePr>
        <p:xfrm>
          <a:off x="1947960" y="4641840"/>
          <a:ext cx="511956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Object 5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7960" y="4641840"/>
                    <a:ext cx="5119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Object 53"/>
          <p:cNvGraphicFramePr/>
          <p:nvPr/>
        </p:nvGraphicFramePr>
        <p:xfrm>
          <a:off x="2174760" y="3057480"/>
          <a:ext cx="442296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1" name="Object 5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74760" y="3057480"/>
                    <a:ext cx="44229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Text Box 54"/>
          <p:cNvSpPr/>
          <p:nvPr/>
        </p:nvSpPr>
        <p:spPr>
          <a:xfrm>
            <a:off x="173160" y="4835520"/>
            <a:ext cx="1860480" cy="16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Free energy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23" name="Object 55"/>
          <p:cNvGraphicFramePr/>
          <p:nvPr/>
        </p:nvGraphicFramePr>
        <p:xfrm>
          <a:off x="3519360" y="6202440"/>
          <a:ext cx="1209960" cy="6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4" name="Object 5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19360" y="6202440"/>
                    <a:ext cx="1209960" cy="6555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5" name="Rectangle 56"/>
          <p:cNvSpPr/>
          <p:nvPr/>
        </p:nvSpPr>
        <p:spPr>
          <a:xfrm>
            <a:off x="1749600" y="63007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n equilibrium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12400" y="254160"/>
            <a:ext cx="84963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call: Stirling’s Approxima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843120" y="2665440"/>
            <a:ext cx="4827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some number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ln N!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Symbol"/>
                <a:ea typeface="Symbol"/>
              </a:rPr>
              <a:t>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 ln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-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5.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3.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3.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8.5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95.6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5.6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?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6908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908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804960" y="1142640"/>
            <a:ext cx="707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will often be necessary to calculate d(ln N!)/dN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’ll use a well known approximation for N!, known a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tirling’s Approximatio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2567160" y="2101680"/>
            <a:ext cx="209340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 N!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 lnN - N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30" name="Group 1"/>
          <p:cNvGrpSpPr/>
          <p:nvPr/>
        </p:nvGrpSpPr>
        <p:grpSpPr>
          <a:xfrm>
            <a:off x="366840" y="5095800"/>
            <a:ext cx="8385120" cy="1635480"/>
            <a:chOff x="366840" y="5095800"/>
            <a:chExt cx="8385120" cy="1635480"/>
          </a:xfrm>
        </p:grpSpPr>
        <p:sp>
          <p:nvSpPr>
            <p:cNvPr id="331" name="Text Box 8"/>
            <p:cNvSpPr/>
            <p:nvPr/>
          </p:nvSpPr>
          <p:spPr>
            <a:xfrm>
              <a:off x="587160" y="6454800"/>
              <a:ext cx="618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*</a:t>
              </a: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This is not Robert Stirling (“Stirling engine”) but James Stirling, Scottish mathematician.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2" name="Text Box 13"/>
            <p:cNvSpPr/>
            <p:nvPr/>
          </p:nvSpPr>
          <p:spPr>
            <a:xfrm>
              <a:off x="7540920" y="5298840"/>
              <a:ext cx="12110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e derivative is only defined for large N.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aphicFrame>
          <p:nvGraphicFramePr>
            <p:cNvPr id="333" name="Object 15"/>
            <p:cNvGraphicFramePr/>
            <p:nvPr/>
          </p:nvGraphicFramePr>
          <p:xfrm>
            <a:off x="366840" y="5316480"/>
            <a:ext cx="7016760" cy="617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4" name="Object 1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6840" y="5316480"/>
                      <a:ext cx="7016760" cy="61740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35" name="Oval 16"/>
            <p:cNvSpPr/>
            <p:nvPr/>
          </p:nvSpPr>
          <p:spPr>
            <a:xfrm>
              <a:off x="473040" y="5095800"/>
              <a:ext cx="1028520" cy="1016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6" name="Oval 17"/>
            <p:cNvSpPr/>
            <p:nvPr/>
          </p:nvSpPr>
          <p:spPr>
            <a:xfrm>
              <a:off x="6542280" y="5187600"/>
              <a:ext cx="819000" cy="865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811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Defects in Crystal Lattices (4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30200" y="727200"/>
            <a:ext cx="8075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By minimizing the Free energy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interstitial-vacancy pair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we determine the average number of defects that form at temperature T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49"/>
          <p:cNvSpPr/>
          <p:nvPr/>
        </p:nvSpPr>
        <p:spPr>
          <a:xfrm>
            <a:off x="182520" y="2319480"/>
            <a:ext cx="26211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Minimize F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Solve for the fraction N/M =  # defects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÷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lattice sites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40" name="Object 50"/>
          <p:cNvGraphicFramePr/>
          <p:nvPr/>
        </p:nvGraphicFramePr>
        <p:xfrm>
          <a:off x="2525760" y="2155680"/>
          <a:ext cx="54658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5760" y="2155680"/>
                    <a:ext cx="546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51"/>
          <p:cNvGraphicFramePr/>
          <p:nvPr/>
        </p:nvGraphicFramePr>
        <p:xfrm>
          <a:off x="2135160" y="1514520"/>
          <a:ext cx="527220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Object 5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1514520"/>
                    <a:ext cx="5272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52"/>
          <p:cNvGraphicFramePr/>
          <p:nvPr/>
        </p:nvGraphicFramePr>
        <p:xfrm>
          <a:off x="5497560" y="3056040"/>
          <a:ext cx="1363680" cy="67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" name="Object 5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7560" y="3056040"/>
                    <a:ext cx="1363680" cy="67932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6" name="Text Box 53"/>
          <p:cNvSpPr/>
          <p:nvPr/>
        </p:nvSpPr>
        <p:spPr>
          <a:xfrm>
            <a:off x="5451480" y="4975200"/>
            <a:ext cx="356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otice the 2 in the Boltzmann factor.  It came from squaring the (M</a:t>
            </a:r>
            <a:r>
              <a:rPr b="0" lang="en-US" sz="14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/N!) number of positional states, because there are 2 movable objects, vacancy and interstitial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7" name="Text Box 54"/>
          <p:cNvSpPr/>
          <p:nvPr/>
        </p:nvSpPr>
        <p:spPr>
          <a:xfrm>
            <a:off x="522360" y="1504800"/>
            <a:ext cx="13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from a previous slide)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8" name="Line 56"/>
          <p:cNvSpPr/>
          <p:nvPr/>
        </p:nvSpPr>
        <p:spPr>
          <a:xfrm flipH="1" flipV="1">
            <a:off x="6518160" y="4384440"/>
            <a:ext cx="8280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49" name="Object 57"/>
          <p:cNvGraphicFramePr/>
          <p:nvPr/>
        </p:nvGraphicFramePr>
        <p:xfrm>
          <a:off x="3191040" y="3040200"/>
          <a:ext cx="168588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0" name="Object 5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91040" y="3040200"/>
                    <a:ext cx="168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59"/>
          <p:cNvGraphicFramePr/>
          <p:nvPr/>
        </p:nvGraphicFramePr>
        <p:xfrm>
          <a:off x="5499000" y="4030560"/>
          <a:ext cx="1403280" cy="72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2" name="Object 5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99000" y="4030560"/>
                    <a:ext cx="1403280" cy="72396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3" name="Text Box 61"/>
          <p:cNvSpPr/>
          <p:nvPr/>
        </p:nvSpPr>
        <p:spPr>
          <a:xfrm>
            <a:off x="6915240" y="42559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54" name="Object 62"/>
          <p:cNvGraphicFramePr/>
          <p:nvPr/>
        </p:nvGraphicFramePr>
        <p:xfrm>
          <a:off x="7437600" y="4010040"/>
          <a:ext cx="1706400" cy="94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5" name="Object 6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37600" y="4010040"/>
                    <a:ext cx="17064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Text Box 63"/>
          <p:cNvSpPr/>
          <p:nvPr/>
        </p:nvSpPr>
        <p:spPr>
          <a:xfrm>
            <a:off x="6926400" y="2916360"/>
            <a:ext cx="221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is looks like a Boltzmann factor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n exponential temperature dependence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7" name="Text Box 64"/>
          <p:cNvSpPr/>
          <p:nvPr/>
        </p:nvSpPr>
        <p:spPr>
          <a:xfrm>
            <a:off x="800280" y="4335480"/>
            <a:ext cx="43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we predicted before, as T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 the fraction of interstitial-vacancy pairs is exponentially suppress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60" name="Object 10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920" y="61560"/>
            <a:ext cx="8866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Chemical Fuels in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98080" y="1164960"/>
            <a:ext cx="8705880" cy="305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table of free energy for some fuels: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what you get when you burn th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blem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f you could convert the free energy of gas perfectly into work, how many mile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r gallon would your car achieve?  (Wow, can we really do this problem?  Sure: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ut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need to know how much work it takes to drive the car 1 mile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bviously that depends on a number of factors: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peed, tire friction, wind , etc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ctually a simple experiment can give us the answ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termine the decelerating force!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Work = force x dista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292400" y="1644840"/>
            <a:ext cx="2771640" cy="1110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ue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ree Energy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M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18 MJ / liter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24 MJ / liter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Gasoline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35 MJ / liter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1" name="Object 5"/>
          <p:cNvGraphicFramePr/>
          <p:nvPr/>
        </p:nvGraphicFramePr>
        <p:xfrm>
          <a:off x="2473200" y="317988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17988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3" name="Group 7"/>
          <p:cNvGrpSpPr/>
          <p:nvPr/>
        </p:nvGrpSpPr>
        <p:grpSpPr>
          <a:xfrm>
            <a:off x="2452680" y="6098400"/>
            <a:ext cx="3011400" cy="368280"/>
            <a:chOff x="2452680" y="6098400"/>
            <a:chExt cx="3011400" cy="368280"/>
          </a:xfrm>
        </p:grpSpPr>
        <p:sp>
          <p:nvSpPr>
            <p:cNvPr id="54" name="Line 8"/>
            <p:cNvSpPr/>
            <p:nvPr/>
          </p:nvSpPr>
          <p:spPr>
            <a:xfrm flipH="1">
              <a:off x="3681360" y="6301080"/>
              <a:ext cx="709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55" name="Group 9"/>
            <p:cNvGrpSpPr/>
            <p:nvPr/>
          </p:nvGrpSpPr>
          <p:grpSpPr>
            <a:xfrm>
              <a:off x="2452680" y="6098400"/>
              <a:ext cx="3011400" cy="368280"/>
              <a:chOff x="2452680" y="6098400"/>
              <a:chExt cx="3011400" cy="368280"/>
            </a:xfrm>
          </p:grpSpPr>
          <p:graphicFrame>
            <p:nvGraphicFramePr>
              <p:cNvPr id="56" name="Object 9"/>
              <p:cNvGraphicFramePr/>
              <p:nvPr/>
            </p:nvGraphicFramePr>
            <p:xfrm>
              <a:off x="2452680" y="6118200"/>
              <a:ext cx="1143000" cy="309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7" name="Object 9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452680" y="6118200"/>
                        <a:ext cx="1143000" cy="30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8" name="Text Box 11"/>
              <p:cNvSpPr/>
              <p:nvPr/>
            </p:nvSpPr>
            <p:spPr>
              <a:xfrm>
                <a:off x="4128120" y="6098400"/>
                <a:ext cx="133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orce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59" name="Text Box 11"/>
          <p:cNvSpPr/>
          <p:nvPr/>
        </p:nvSpPr>
        <p:spPr>
          <a:xfrm>
            <a:off x="4923000" y="1616040"/>
            <a:ext cx="37256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http://en.wikipedia.org/wiki/Alcohol_fuel#Methanol_and_ethano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Ethanol has less free energ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er liter than gasoline does.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 You’ll get worse mileage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64" name="Object 5"/>
          <p:cNvGraphicFramePr/>
          <p:nvPr/>
        </p:nvGraphicFramePr>
        <p:xfrm>
          <a:off x="239760" y="3137040"/>
          <a:ext cx="595152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3137040"/>
                    <a:ext cx="59515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Rectangle 6"/>
          <p:cNvSpPr/>
          <p:nvPr/>
        </p:nvSpPr>
        <p:spPr>
          <a:xfrm>
            <a:off x="3467160" y="2744640"/>
            <a:ext cx="1247760" cy="387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7" name="Text Box 7"/>
          <p:cNvSpPr/>
          <p:nvPr/>
        </p:nvSpPr>
        <p:spPr>
          <a:xfrm>
            <a:off x="6415200" y="3249720"/>
            <a:ext cx="24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pretation: As we raise the temperature higher, the material is literally coming apar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68" name="Object 11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72" name="Object 5"/>
          <p:cNvGraphicFramePr/>
          <p:nvPr/>
        </p:nvGraphicFramePr>
        <p:xfrm>
          <a:off x="239760" y="3137040"/>
          <a:ext cx="595152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3137040"/>
                    <a:ext cx="59515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Rectangle 6"/>
          <p:cNvSpPr/>
          <p:nvPr/>
        </p:nvSpPr>
        <p:spPr>
          <a:xfrm>
            <a:off x="3467160" y="2744640"/>
            <a:ext cx="1247760" cy="387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6415200" y="3249720"/>
            <a:ext cx="24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pretation: As we raise the temperature higher, the material is literally coming apar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6" name="Rectangle 8"/>
          <p:cNvSpPr/>
          <p:nvPr/>
        </p:nvSpPr>
        <p:spPr>
          <a:xfrm>
            <a:off x="3470400" y="5372280"/>
            <a:ext cx="2117520" cy="387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379440" y="5811840"/>
            <a:ext cx="844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2 in the Boltzman factor came from the fact that the vacancy sites and interstitial locations were independent. If instead their locations are correlated, the allowable temperature will essentially dou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78" name="Object 11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9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47360" y="84240"/>
            <a:ext cx="7613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lated Example: Solid “Solutions”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30080" y="2303640"/>
            <a:ext cx="8118720" cy="35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equilibrium, some A atoms are in the B crystal and vice ver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u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are M “A” sites, N of which are occupied by “B” atoms.  N &lt;&lt; 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only entropy is due to site counting (ignore vibra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tc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energy increase when a “B” goes to an “A” site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l the chemical potential of the B atoms in their own crystal 0, by choosing a convenient zero for energy. Then, in equilibrium, the chemical potential of the B’s in A must also be zer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2" name="Object 4"/>
          <p:cNvGraphicFramePr/>
          <p:nvPr/>
        </p:nvGraphicFramePr>
        <p:xfrm>
          <a:off x="1174680" y="5003640"/>
          <a:ext cx="68454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5003640"/>
                    <a:ext cx="68454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Text Box 5"/>
          <p:cNvSpPr/>
          <p:nvPr/>
        </p:nvSpPr>
        <p:spPr>
          <a:xfrm>
            <a:off x="495720" y="1371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5100840" y="147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6" name="Text Box 7"/>
          <p:cNvSpPr/>
          <p:nvPr/>
        </p:nvSpPr>
        <p:spPr>
          <a:xfrm>
            <a:off x="5604840" y="1384200"/>
            <a:ext cx="24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ortant for real devices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 silicon-gold, tin-lea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87" name="Object 8"/>
          <p:cNvGraphicFramePr/>
          <p:nvPr/>
        </p:nvGraphicFramePr>
        <p:xfrm>
          <a:off x="3691080" y="5989680"/>
          <a:ext cx="153036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1080" y="5989680"/>
                    <a:ext cx="1530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9" name="Group 9"/>
          <p:cNvGrpSpPr/>
          <p:nvPr/>
        </p:nvGrpSpPr>
        <p:grpSpPr>
          <a:xfrm>
            <a:off x="835200" y="1042920"/>
            <a:ext cx="4329000" cy="1152360"/>
            <a:chOff x="835200" y="1042920"/>
            <a:chExt cx="4329000" cy="1152360"/>
          </a:xfrm>
        </p:grpSpPr>
        <p:grpSp>
          <p:nvGrpSpPr>
            <p:cNvPr id="390" name="Group 10"/>
            <p:cNvGrpSpPr/>
            <p:nvPr/>
          </p:nvGrpSpPr>
          <p:grpSpPr>
            <a:xfrm>
              <a:off x="835200" y="1042920"/>
              <a:ext cx="4329000" cy="1152360"/>
              <a:chOff x="835200" y="1042920"/>
              <a:chExt cx="4329000" cy="1152360"/>
            </a:xfrm>
          </p:grpSpPr>
          <p:grpSp>
            <p:nvGrpSpPr>
              <p:cNvPr id="391" name="Group 11"/>
              <p:cNvGrpSpPr/>
              <p:nvPr/>
            </p:nvGrpSpPr>
            <p:grpSpPr>
              <a:xfrm>
                <a:off x="835200" y="1042920"/>
                <a:ext cx="2122200" cy="267840"/>
                <a:chOff x="835200" y="1042920"/>
                <a:chExt cx="2122200" cy="267840"/>
              </a:xfrm>
            </p:grpSpPr>
            <p:sp>
              <p:nvSpPr>
                <p:cNvPr id="392" name="Oval 12"/>
                <p:cNvSpPr/>
                <p:nvPr/>
              </p:nvSpPr>
              <p:spPr>
                <a:xfrm>
                  <a:off x="835200" y="1042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3" name="Oval 13"/>
                <p:cNvSpPr/>
                <p:nvPr/>
              </p:nvSpPr>
              <p:spPr>
                <a:xfrm>
                  <a:off x="1073160" y="10490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4" name="Oval 14"/>
                <p:cNvSpPr/>
                <p:nvPr/>
              </p:nvSpPr>
              <p:spPr>
                <a:xfrm>
                  <a:off x="1311120" y="10555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5" name="Oval 15"/>
                <p:cNvSpPr/>
                <p:nvPr/>
              </p:nvSpPr>
              <p:spPr>
                <a:xfrm>
                  <a:off x="1549440" y="10616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6" name="Oval 16"/>
                <p:cNvSpPr/>
                <p:nvPr/>
              </p:nvSpPr>
              <p:spPr>
                <a:xfrm>
                  <a:off x="1787400" y="10681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7" name="Oval 17"/>
                <p:cNvSpPr/>
                <p:nvPr/>
              </p:nvSpPr>
              <p:spPr>
                <a:xfrm>
                  <a:off x="2025720" y="10746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8" name="Oval 18"/>
                <p:cNvSpPr/>
                <p:nvPr/>
              </p:nvSpPr>
              <p:spPr>
                <a:xfrm>
                  <a:off x="2263680" y="10807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9" name="Oval 19"/>
                <p:cNvSpPr/>
                <p:nvPr/>
              </p:nvSpPr>
              <p:spPr>
                <a:xfrm>
                  <a:off x="2502000" y="10872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0" name="Oval 20"/>
                <p:cNvSpPr/>
                <p:nvPr/>
              </p:nvSpPr>
              <p:spPr>
                <a:xfrm>
                  <a:off x="2739960" y="1093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1" name="Oval 21"/>
              <p:cNvSpPr/>
              <p:nvPr/>
            </p:nvSpPr>
            <p:spPr>
              <a:xfrm>
                <a:off x="843120" y="13255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02" name="Oval 22"/>
              <p:cNvSpPr/>
              <p:nvPr/>
            </p:nvSpPr>
            <p:spPr>
              <a:xfrm>
                <a:off x="1081440" y="13316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03" name="Oval 23"/>
              <p:cNvSpPr/>
              <p:nvPr/>
            </p:nvSpPr>
            <p:spPr>
              <a:xfrm>
                <a:off x="1319400" y="13381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04" name="Oval 24"/>
              <p:cNvSpPr/>
              <p:nvPr/>
            </p:nvSpPr>
            <p:spPr>
              <a:xfrm>
                <a:off x="1557720" y="134460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05" name="Oval 25"/>
              <p:cNvSpPr/>
              <p:nvPr/>
            </p:nvSpPr>
            <p:spPr>
              <a:xfrm>
                <a:off x="1795680" y="1350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06" name="Oval 26"/>
              <p:cNvSpPr/>
              <p:nvPr/>
            </p:nvSpPr>
            <p:spPr>
              <a:xfrm>
                <a:off x="2033640" y="1357200"/>
                <a:ext cx="217800" cy="21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07" name="Oval 27"/>
              <p:cNvSpPr/>
              <p:nvPr/>
            </p:nvSpPr>
            <p:spPr>
              <a:xfrm>
                <a:off x="2271960" y="13636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08" name="Oval 28"/>
              <p:cNvSpPr/>
              <p:nvPr/>
            </p:nvSpPr>
            <p:spPr>
              <a:xfrm>
                <a:off x="2509920" y="1369800"/>
                <a:ext cx="21780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09" name="Oval 29"/>
              <p:cNvSpPr/>
              <p:nvPr/>
            </p:nvSpPr>
            <p:spPr>
              <a:xfrm>
                <a:off x="2748240" y="13762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410" name="Group 30"/>
              <p:cNvGrpSpPr/>
              <p:nvPr/>
            </p:nvGrpSpPr>
            <p:grpSpPr>
              <a:xfrm>
                <a:off x="878040" y="1608120"/>
                <a:ext cx="2122200" cy="267840"/>
                <a:chOff x="878040" y="1608120"/>
                <a:chExt cx="2122200" cy="267840"/>
              </a:xfrm>
            </p:grpSpPr>
            <p:sp>
              <p:nvSpPr>
                <p:cNvPr id="411" name="Oval 31"/>
                <p:cNvSpPr/>
                <p:nvPr/>
              </p:nvSpPr>
              <p:spPr>
                <a:xfrm>
                  <a:off x="878040" y="16081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2" name="Oval 32"/>
                <p:cNvSpPr/>
                <p:nvPr/>
              </p:nvSpPr>
              <p:spPr>
                <a:xfrm>
                  <a:off x="1116000" y="16142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3" name="Oval 33"/>
                <p:cNvSpPr/>
                <p:nvPr/>
              </p:nvSpPr>
              <p:spPr>
                <a:xfrm>
                  <a:off x="1353960" y="16207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4" name="Oval 34"/>
                <p:cNvSpPr/>
                <p:nvPr/>
              </p:nvSpPr>
              <p:spPr>
                <a:xfrm>
                  <a:off x="1592280" y="1626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5" name="Oval 35"/>
                <p:cNvSpPr/>
                <p:nvPr/>
              </p:nvSpPr>
              <p:spPr>
                <a:xfrm>
                  <a:off x="1830240" y="16333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6" name="Oval 36"/>
                <p:cNvSpPr/>
                <p:nvPr/>
              </p:nvSpPr>
              <p:spPr>
                <a:xfrm>
                  <a:off x="2068560" y="16398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7" name="Oval 37"/>
                <p:cNvSpPr/>
                <p:nvPr/>
              </p:nvSpPr>
              <p:spPr>
                <a:xfrm>
                  <a:off x="2306520" y="1645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8" name="Oval 38"/>
                <p:cNvSpPr/>
                <p:nvPr/>
              </p:nvSpPr>
              <p:spPr>
                <a:xfrm>
                  <a:off x="2544840" y="16524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9" name="Oval 39"/>
                <p:cNvSpPr/>
                <p:nvPr/>
              </p:nvSpPr>
              <p:spPr>
                <a:xfrm>
                  <a:off x="2782800" y="16585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0" name="Group 40"/>
              <p:cNvGrpSpPr/>
              <p:nvPr/>
            </p:nvGrpSpPr>
            <p:grpSpPr>
              <a:xfrm>
                <a:off x="914760" y="1876320"/>
                <a:ext cx="2122200" cy="268200"/>
                <a:chOff x="914760" y="1876320"/>
                <a:chExt cx="2122200" cy="268200"/>
              </a:xfrm>
            </p:grpSpPr>
            <p:sp>
              <p:nvSpPr>
                <p:cNvPr id="421" name="Oval 41"/>
                <p:cNvSpPr/>
                <p:nvPr/>
              </p:nvSpPr>
              <p:spPr>
                <a:xfrm>
                  <a:off x="914760" y="1876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2" name="Oval 42"/>
                <p:cNvSpPr/>
                <p:nvPr/>
              </p:nvSpPr>
              <p:spPr>
                <a:xfrm>
                  <a:off x="1152720" y="1882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3" name="Oval 43"/>
                <p:cNvSpPr/>
                <p:nvPr/>
              </p:nvSpPr>
              <p:spPr>
                <a:xfrm>
                  <a:off x="1629000" y="18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4" name="Oval 44"/>
                <p:cNvSpPr/>
                <p:nvPr/>
              </p:nvSpPr>
              <p:spPr>
                <a:xfrm>
                  <a:off x="1866960" y="19015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5" name="Oval 45"/>
                <p:cNvSpPr/>
                <p:nvPr/>
              </p:nvSpPr>
              <p:spPr>
                <a:xfrm>
                  <a:off x="2105280" y="1908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6" name="Oval 46"/>
                <p:cNvSpPr/>
                <p:nvPr/>
              </p:nvSpPr>
              <p:spPr>
                <a:xfrm>
                  <a:off x="2343240" y="191448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7" name="Oval 47"/>
                <p:cNvSpPr/>
                <p:nvPr/>
              </p:nvSpPr>
              <p:spPr>
                <a:xfrm>
                  <a:off x="2581560" y="1920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8" name="Oval 48"/>
                <p:cNvSpPr/>
                <p:nvPr/>
              </p:nvSpPr>
              <p:spPr>
                <a:xfrm>
                  <a:off x="281952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9" name="Group 49"/>
              <p:cNvGrpSpPr/>
              <p:nvPr/>
            </p:nvGrpSpPr>
            <p:grpSpPr>
              <a:xfrm>
                <a:off x="2962440" y="1093680"/>
                <a:ext cx="2201760" cy="1101600"/>
                <a:chOff x="2962440" y="1093680"/>
                <a:chExt cx="2201760" cy="1101600"/>
              </a:xfrm>
            </p:grpSpPr>
            <p:grpSp>
              <p:nvGrpSpPr>
                <p:cNvPr id="430" name="Group 50"/>
                <p:cNvGrpSpPr/>
                <p:nvPr/>
              </p:nvGrpSpPr>
              <p:grpSpPr>
                <a:xfrm>
                  <a:off x="2962440" y="1093680"/>
                  <a:ext cx="2122560" cy="268200"/>
                  <a:chOff x="2962440" y="1093680"/>
                  <a:chExt cx="2122560" cy="268200"/>
                </a:xfrm>
              </p:grpSpPr>
              <p:sp>
                <p:nvSpPr>
                  <p:cNvPr id="431" name="Oval 51"/>
                  <p:cNvSpPr/>
                  <p:nvPr/>
                </p:nvSpPr>
                <p:spPr>
                  <a:xfrm>
                    <a:off x="2962440" y="1093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Oval 52"/>
                  <p:cNvSpPr/>
                  <p:nvPr/>
                </p:nvSpPr>
                <p:spPr>
                  <a:xfrm>
                    <a:off x="3200760" y="1100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Oval 53"/>
                  <p:cNvSpPr/>
                  <p:nvPr/>
                </p:nvSpPr>
                <p:spPr>
                  <a:xfrm>
                    <a:off x="3438720" y="110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Oval 54"/>
                  <p:cNvSpPr/>
                  <p:nvPr/>
                </p:nvSpPr>
                <p:spPr>
                  <a:xfrm>
                    <a:off x="3677040" y="1112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Oval 55"/>
                  <p:cNvSpPr/>
                  <p:nvPr/>
                </p:nvSpPr>
                <p:spPr>
                  <a:xfrm>
                    <a:off x="3915000" y="11188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Oval 56"/>
                  <p:cNvSpPr/>
                  <p:nvPr/>
                </p:nvSpPr>
                <p:spPr>
                  <a:xfrm>
                    <a:off x="4152960" y="11253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Oval 57"/>
                  <p:cNvSpPr/>
                  <p:nvPr/>
                </p:nvSpPr>
                <p:spPr>
                  <a:xfrm>
                    <a:off x="4391280" y="1131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Oval 58"/>
                  <p:cNvSpPr/>
                  <p:nvPr/>
                </p:nvSpPr>
                <p:spPr>
                  <a:xfrm>
                    <a:off x="4629240" y="1137960"/>
                    <a:ext cx="21780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Oval 59"/>
                  <p:cNvSpPr/>
                  <p:nvPr/>
                </p:nvSpPr>
                <p:spPr>
                  <a:xfrm>
                    <a:off x="4867560" y="114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Group 60"/>
                <p:cNvGrpSpPr/>
                <p:nvPr/>
              </p:nvGrpSpPr>
              <p:grpSpPr>
                <a:xfrm>
                  <a:off x="2970360" y="1376280"/>
                  <a:ext cx="2122560" cy="268200"/>
                  <a:chOff x="2970360" y="1376280"/>
                  <a:chExt cx="2122560" cy="268200"/>
                </a:xfrm>
              </p:grpSpPr>
              <p:sp>
                <p:nvSpPr>
                  <p:cNvPr id="441" name="Oval 61"/>
                  <p:cNvSpPr/>
                  <p:nvPr/>
                </p:nvSpPr>
                <p:spPr>
                  <a:xfrm>
                    <a:off x="2970360" y="137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Oval 62"/>
                  <p:cNvSpPr/>
                  <p:nvPr/>
                </p:nvSpPr>
                <p:spPr>
                  <a:xfrm>
                    <a:off x="3208680" y="13824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Oval 63"/>
                  <p:cNvSpPr/>
                  <p:nvPr/>
                </p:nvSpPr>
                <p:spPr>
                  <a:xfrm>
                    <a:off x="3446640" y="138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Oval 64"/>
                  <p:cNvSpPr/>
                  <p:nvPr/>
                </p:nvSpPr>
                <p:spPr>
                  <a:xfrm>
                    <a:off x="3684960" y="13953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Oval 65"/>
                  <p:cNvSpPr/>
                  <p:nvPr/>
                </p:nvSpPr>
                <p:spPr>
                  <a:xfrm>
                    <a:off x="3922920" y="14014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Oval 66"/>
                  <p:cNvSpPr/>
                  <p:nvPr/>
                </p:nvSpPr>
                <p:spPr>
                  <a:xfrm>
                    <a:off x="4161240" y="140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Oval 67"/>
                  <p:cNvSpPr/>
                  <p:nvPr/>
                </p:nvSpPr>
                <p:spPr>
                  <a:xfrm>
                    <a:off x="4399200" y="141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Oval 68"/>
                  <p:cNvSpPr/>
                  <p:nvPr/>
                </p:nvSpPr>
                <p:spPr>
                  <a:xfrm>
                    <a:off x="4637160" y="14205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Oval 69"/>
                  <p:cNvSpPr/>
                  <p:nvPr/>
                </p:nvSpPr>
                <p:spPr>
                  <a:xfrm>
                    <a:off x="4875480" y="142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0" name="Group 70"/>
                <p:cNvGrpSpPr/>
                <p:nvPr/>
              </p:nvGrpSpPr>
              <p:grpSpPr>
                <a:xfrm>
                  <a:off x="3005280" y="1658880"/>
                  <a:ext cx="2122560" cy="268200"/>
                  <a:chOff x="3005280" y="1658880"/>
                  <a:chExt cx="2122560" cy="268200"/>
                </a:xfrm>
              </p:grpSpPr>
              <p:sp>
                <p:nvSpPr>
                  <p:cNvPr id="451" name="Oval 71"/>
                  <p:cNvSpPr/>
                  <p:nvPr/>
                </p:nvSpPr>
                <p:spPr>
                  <a:xfrm>
                    <a:off x="3005280" y="165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Oval 72"/>
                  <p:cNvSpPr/>
                  <p:nvPr/>
                </p:nvSpPr>
                <p:spPr>
                  <a:xfrm>
                    <a:off x="3243600" y="16650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Oval 73"/>
                  <p:cNvSpPr/>
                  <p:nvPr/>
                </p:nvSpPr>
                <p:spPr>
                  <a:xfrm>
                    <a:off x="3481560" y="16714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Oval 74"/>
                  <p:cNvSpPr/>
                  <p:nvPr/>
                </p:nvSpPr>
                <p:spPr>
                  <a:xfrm>
                    <a:off x="3719880" y="167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Oval 75"/>
                  <p:cNvSpPr/>
                  <p:nvPr/>
                </p:nvSpPr>
                <p:spPr>
                  <a:xfrm>
                    <a:off x="3957840" y="1684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Oval 76"/>
                  <p:cNvSpPr/>
                  <p:nvPr/>
                </p:nvSpPr>
                <p:spPr>
                  <a:xfrm>
                    <a:off x="4196160" y="1690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Oval 77"/>
                  <p:cNvSpPr/>
                  <p:nvPr/>
                </p:nvSpPr>
                <p:spPr>
                  <a:xfrm>
                    <a:off x="4434120" y="169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Oval 78"/>
                  <p:cNvSpPr/>
                  <p:nvPr/>
                </p:nvSpPr>
                <p:spPr>
                  <a:xfrm>
                    <a:off x="4672080" y="17031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Oval 79"/>
                  <p:cNvSpPr/>
                  <p:nvPr/>
                </p:nvSpPr>
                <p:spPr>
                  <a:xfrm>
                    <a:off x="4910400" y="17096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0" name="Group 80"/>
                <p:cNvGrpSpPr/>
                <p:nvPr/>
              </p:nvGrpSpPr>
              <p:grpSpPr>
                <a:xfrm>
                  <a:off x="3042000" y="1927080"/>
                  <a:ext cx="2122200" cy="268200"/>
                  <a:chOff x="3042000" y="1927080"/>
                  <a:chExt cx="2122200" cy="268200"/>
                </a:xfrm>
              </p:grpSpPr>
              <p:sp>
                <p:nvSpPr>
                  <p:cNvPr id="461" name="Oval 81"/>
                  <p:cNvSpPr/>
                  <p:nvPr/>
                </p:nvSpPr>
                <p:spPr>
                  <a:xfrm>
                    <a:off x="3042000" y="1927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Oval 82"/>
                  <p:cNvSpPr/>
                  <p:nvPr/>
                </p:nvSpPr>
                <p:spPr>
                  <a:xfrm>
                    <a:off x="3279960" y="1933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Oval 83"/>
                  <p:cNvSpPr/>
                  <p:nvPr/>
                </p:nvSpPr>
                <p:spPr>
                  <a:xfrm>
                    <a:off x="3518280" y="1939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Oval 84"/>
                  <p:cNvSpPr/>
                  <p:nvPr/>
                </p:nvSpPr>
                <p:spPr>
                  <a:xfrm>
                    <a:off x="3756240" y="1946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Oval 85"/>
                  <p:cNvSpPr/>
                  <p:nvPr/>
                </p:nvSpPr>
                <p:spPr>
                  <a:xfrm>
                    <a:off x="3994200" y="19526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Oval 86"/>
                  <p:cNvSpPr/>
                  <p:nvPr/>
                </p:nvSpPr>
                <p:spPr>
                  <a:xfrm>
                    <a:off x="4232520" y="1958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Oval 87"/>
                  <p:cNvSpPr/>
                  <p:nvPr/>
                </p:nvSpPr>
                <p:spPr>
                  <a:xfrm>
                    <a:off x="4470480" y="19652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Oval 88"/>
                  <p:cNvSpPr/>
                  <p:nvPr/>
                </p:nvSpPr>
                <p:spPr>
                  <a:xfrm>
                    <a:off x="4708800" y="197136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Oval 89"/>
                  <p:cNvSpPr/>
                  <p:nvPr/>
                </p:nvSpPr>
                <p:spPr>
                  <a:xfrm>
                    <a:off x="4946760" y="1977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70" name="Oval 90"/>
            <p:cNvSpPr/>
            <p:nvPr/>
          </p:nvSpPr>
          <p:spPr>
            <a:xfrm>
              <a:off x="1397160" y="1911240"/>
              <a:ext cx="217440" cy="21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471" name="Arc 91"/>
          <p:cNvSpPr/>
          <p:nvPr/>
        </p:nvSpPr>
        <p:spPr>
          <a:xfrm flipV="1">
            <a:off x="3759120" y="5378400"/>
            <a:ext cx="1482840" cy="488880"/>
          </a:xfrm>
          <a:custGeom>
            <a:avLst/>
            <a:gdLst/>
            <a:ahLst/>
            <a:rect l="l" t="t" r="r" b="b"/>
            <a:pathLst>
              <a:path fill="none" w="37755" h="21600">
                <a:moveTo>
                  <a:pt x="-1" y="11313"/>
                </a:moveTo>
                <a:cubicBezTo>
                  <a:pt x="3774" y="4342"/>
                  <a:pt x="11065" y="-1"/>
                  <a:pt x="18993" y="0"/>
                </a:cubicBezTo>
                <a:cubicBezTo>
                  <a:pt x="26750" y="0"/>
                  <a:pt x="33911" y="4159"/>
                  <a:pt x="37755" y="10897"/>
                </a:cubicBezTo>
              </a:path>
              <a:path stroke="0" w="37755" h="21600">
                <a:moveTo>
                  <a:pt x="-1" y="11313"/>
                </a:moveTo>
                <a:cubicBezTo>
                  <a:pt x="3774" y="4342"/>
                  <a:pt x="11065" y="-1"/>
                  <a:pt x="18993" y="0"/>
                </a:cubicBezTo>
                <a:cubicBezTo>
                  <a:pt x="26750" y="0"/>
                  <a:pt x="33911" y="4159"/>
                  <a:pt x="37755" y="10897"/>
                </a:cubicBezTo>
                <a:lnTo>
                  <a:pt x="18993" y="21600"/>
                </a:lnTo>
                <a:lnTo>
                  <a:pt x="-1" y="11313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prstDash val="dash"/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2" name="TextBox 1"/>
          <p:cNvSpPr/>
          <p:nvPr/>
        </p:nvSpPr>
        <p:spPr>
          <a:xfrm>
            <a:off x="5715000" y="60958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473" name="Object 2"/>
          <p:cNvGraphicFramePr/>
          <p:nvPr/>
        </p:nvGraphicFramePr>
        <p:xfrm>
          <a:off x="6529320" y="5945040"/>
          <a:ext cx="1457280" cy="64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4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29320" y="5945040"/>
                    <a:ext cx="1457280" cy="6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" descr="cropped 403-d"/>
          <p:cNvPicPr/>
          <p:nvPr/>
        </p:nvPicPr>
        <p:blipFill>
          <a:blip r:embed="rId1"/>
          <a:stretch/>
        </p:blipFill>
        <p:spPr>
          <a:xfrm>
            <a:off x="457200" y="378000"/>
            <a:ext cx="8199360" cy="526068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3"/>
          <p:cNvSpPr/>
          <p:nvPr/>
        </p:nvSpPr>
        <p:spPr>
          <a:xfrm>
            <a:off x="304920" y="579132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99"/>
                </a:solidFill>
                <a:latin typeface="Paramount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7" name="Line 4"/>
          <p:cNvSpPr/>
          <p:nvPr/>
        </p:nvSpPr>
        <p:spPr>
          <a:xfrm>
            <a:off x="457200" y="640080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478" name="Picture 5" descr="UILogoCL4L C"/>
          <p:cNvPicPr/>
          <p:nvPr/>
        </p:nvPicPr>
        <p:blipFill>
          <a:blip r:embed="rId2"/>
          <a:stretch/>
        </p:blipFill>
        <p:spPr>
          <a:xfrm>
            <a:off x="8381880" y="5867280"/>
            <a:ext cx="454320" cy="76212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6"/>
          <p:cNvSpPr/>
          <p:nvPr/>
        </p:nvSpPr>
        <p:spPr>
          <a:xfrm>
            <a:off x="6019920" y="640080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Paramount"/>
              </a:rPr>
              <a:t>University of Illinoi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0" name="TextBox 1"/>
          <p:cNvSpPr/>
          <p:nvPr/>
        </p:nvSpPr>
        <p:spPr>
          <a:xfrm>
            <a:off x="24120" y="5867280"/>
            <a:ext cx="29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ltra High Vacuum:  Ozon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1" name="TextBox 7"/>
          <p:cNvSpPr/>
          <p:nvPr/>
        </p:nvSpPr>
        <p:spPr>
          <a:xfrm>
            <a:off x="2902320" y="5867280"/>
            <a:ext cx="33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bstrate Heater:  0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000 C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2" name="TextBox 8"/>
          <p:cNvSpPr/>
          <p:nvPr/>
        </p:nvSpPr>
        <p:spPr>
          <a:xfrm>
            <a:off x="6262920" y="58672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HEED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3" name="TextBox 9"/>
          <p:cNvSpPr/>
          <p:nvPr/>
        </p:nvSpPr>
        <p:spPr>
          <a:xfrm>
            <a:off x="7380360" y="58672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omic Sans MS"/>
              </a:rPr>
              <a:t>Evaporation source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eam flux controlled by source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emperature measured by thermocouple and then power supplied to keep temperature const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mputer controlled beam shutter opens and closes to turn beam on and of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table source means composition uniformity – that’s goo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6" name="Picture 4" descr=""/>
          <p:cNvPicPr/>
          <p:nvPr/>
        </p:nvPicPr>
        <p:blipFill>
          <a:blip r:embed="rId1"/>
          <a:stretch/>
        </p:blipFill>
        <p:spPr>
          <a:xfrm>
            <a:off x="5257800" y="3657600"/>
            <a:ext cx="3656160" cy="249408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5" descr="VaporPress2b_large"/>
          <p:cNvPicPr/>
          <p:nvPr/>
        </p:nvPicPr>
        <p:blipFill>
          <a:blip r:embed="rId2"/>
          <a:stretch/>
        </p:blipFill>
        <p:spPr>
          <a:xfrm>
            <a:off x="104760" y="3429000"/>
            <a:ext cx="501804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Box 1"/>
          <p:cNvSpPr/>
          <p:nvPr/>
        </p:nvSpPr>
        <p:spPr>
          <a:xfrm>
            <a:off x="952200" y="590400"/>
            <a:ext cx="724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many atoms come out of the end of the effusion cell per secon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89" name="Group 4"/>
          <p:cNvGrpSpPr/>
          <p:nvPr/>
        </p:nvGrpSpPr>
        <p:grpSpPr>
          <a:xfrm>
            <a:off x="2766960" y="2348280"/>
            <a:ext cx="1182600" cy="835920"/>
            <a:chOff x="2766960" y="2348280"/>
            <a:chExt cx="1182600" cy="835920"/>
          </a:xfrm>
        </p:grpSpPr>
        <p:sp>
          <p:nvSpPr>
            <p:cNvPr id="490" name="Isosceles Triangle 2"/>
            <p:cNvSpPr/>
            <p:nvPr/>
          </p:nvSpPr>
          <p:spPr>
            <a:xfrm rot="14821800">
              <a:off x="3136680" y="2217600"/>
              <a:ext cx="442800" cy="10969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91" name="Freeform 3"/>
            <p:cNvSpPr/>
            <p:nvPr/>
          </p:nvSpPr>
          <p:spPr>
            <a:xfrm rot="5400000">
              <a:off x="3121920" y="2683800"/>
              <a:ext cx="182880" cy="237240"/>
            </a:xfrm>
            <a:custGeom>
              <a:avLst/>
              <a:gdLst/>
              <a:ahLst/>
              <a:rect l="l" t="t" r="r" b="b"/>
              <a:pathLst>
                <a:path w="284178" h="368709">
                  <a:moveTo>
                    <a:pt x="62952" y="103238"/>
                  </a:moveTo>
                  <a:cubicBezTo>
                    <a:pt x="48204" y="135193"/>
                    <a:pt x="-37062" y="188172"/>
                    <a:pt x="18707" y="235974"/>
                  </a:cubicBezTo>
                  <a:cubicBezTo>
                    <a:pt x="42314" y="256209"/>
                    <a:pt x="107197" y="265471"/>
                    <a:pt x="107197" y="265471"/>
                  </a:cubicBezTo>
                  <a:cubicBezTo>
                    <a:pt x="116913" y="294619"/>
                    <a:pt x="125450" y="333168"/>
                    <a:pt x="151442" y="353961"/>
                  </a:cubicBezTo>
                  <a:cubicBezTo>
                    <a:pt x="163581" y="363672"/>
                    <a:pt x="180939" y="363793"/>
                    <a:pt x="195687" y="368709"/>
                  </a:cubicBezTo>
                  <a:cubicBezTo>
                    <a:pt x="205519" y="353961"/>
                    <a:pt x="217257" y="340318"/>
                    <a:pt x="225184" y="324464"/>
                  </a:cubicBezTo>
                  <a:cubicBezTo>
                    <a:pt x="232137" y="310559"/>
                    <a:pt x="230221" y="292358"/>
                    <a:pt x="239933" y="280219"/>
                  </a:cubicBezTo>
                  <a:cubicBezTo>
                    <a:pt x="251006" y="266378"/>
                    <a:pt x="269430" y="260554"/>
                    <a:pt x="284178" y="250722"/>
                  </a:cubicBezTo>
                  <a:cubicBezTo>
                    <a:pt x="280411" y="209282"/>
                    <a:pt x="283053" y="100989"/>
                    <a:pt x="254681" y="44245"/>
                  </a:cubicBezTo>
                  <a:cubicBezTo>
                    <a:pt x="246754" y="28391"/>
                    <a:pt x="235016" y="14748"/>
                    <a:pt x="225184" y="0"/>
                  </a:cubicBezTo>
                  <a:cubicBezTo>
                    <a:pt x="193079" y="6421"/>
                    <a:pt x="130567" y="9189"/>
                    <a:pt x="107197" y="44245"/>
                  </a:cubicBezTo>
                  <a:cubicBezTo>
                    <a:pt x="46246" y="135672"/>
                    <a:pt x="77700" y="71283"/>
                    <a:pt x="62952" y="103238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cxnSp>
        <p:nvCxnSpPr>
          <p:cNvPr id="492" name="Straight Arrow Connector 6"/>
          <p:cNvCxnSpPr/>
          <p:nvPr/>
        </p:nvCxnSpPr>
        <p:spPr>
          <a:xfrm flipV="1">
            <a:off x="3949560" y="1945800"/>
            <a:ext cx="627840" cy="403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493" name="Straight Arrow Connector 8"/>
          <p:cNvCxnSpPr/>
          <p:nvPr/>
        </p:nvCxnSpPr>
        <p:spPr>
          <a:xfrm flipV="1">
            <a:off x="4100040" y="2505960"/>
            <a:ext cx="693000" cy="205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494" name="Straight Arrow Connector 10"/>
          <p:cNvCxnSpPr/>
          <p:nvPr/>
        </p:nvCxnSpPr>
        <p:spPr>
          <a:xfrm flipV="1">
            <a:off x="4100040" y="2147040"/>
            <a:ext cx="693000" cy="359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95" name="TextBox 11"/>
          <p:cNvSpPr/>
          <p:nvPr/>
        </p:nvSpPr>
        <p:spPr>
          <a:xfrm>
            <a:off x="4979160" y="19461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lux of atom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6" name="TextBox 12"/>
          <p:cNvSpPr/>
          <p:nvPr/>
        </p:nvSpPr>
        <p:spPr>
          <a:xfrm>
            <a:off x="3682440" y="3540240"/>
            <a:ext cx="476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hunk of crystals held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ourc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2529000" y="2021040"/>
            <a:ext cx="45352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of free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w of atmospheres, revisi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71520" y="146844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tunately for us, Professor Kwiat did the experi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find that when I depress the clutch at 65 mph, my car slows to 55 mph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10 seconds.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5 m/s)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ce of wind and friction = m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V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 = (2000 kg)(5 m/s)/(10 sec) = 1000 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ork to drive 1 mile =  (1000 N)(1600 m) = 1.6 MJ (megajoul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free energy of gas were converted perfectly into work, he would n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.6 MJ / (33 MJ / liter) = 0.048 liters = 0.011 gallons of fue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efore,</a:t>
            </a: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his car were powered by a perfect Carnot engine,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 could expect  ~90 miles per gall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ypical gasoline engine achieves about half of the ideal Carnot efficiency </a:t>
            </a:r>
            <a:br>
              <a:rPr sz="10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is is not a bad estimate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n.wikipedia.org/wiki/Internal_combustion_engine#Energy_efficienc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This calculation is pretty crude.  The purpose is to demonstrate that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ee Energy applies to physics, chemistry and engineering.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" name="Object 3"/>
          <p:cNvGraphicFramePr/>
          <p:nvPr/>
        </p:nvGraphicFramePr>
        <p:xfrm>
          <a:off x="954000" y="22212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22212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4"/>
          <p:cNvGraphicFramePr/>
          <p:nvPr/>
        </p:nvGraphicFramePr>
        <p:xfrm>
          <a:off x="7102440" y="307800"/>
          <a:ext cx="114300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2440" y="30780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Text Box 7"/>
          <p:cNvSpPr/>
          <p:nvPr/>
        </p:nvSpPr>
        <p:spPr>
          <a:xfrm>
            <a:off x="3232800" y="2161080"/>
            <a:ext cx="2137680" cy="3070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1 mph = 0.45 m/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142920" y="61920"/>
            <a:ext cx="886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as Mileage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33080" y="0"/>
            <a:ext cx="6248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reviously…Maximize entropy to find equilibrium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357120" y="2603520"/>
            <a:ext cx="830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9" name="Group 4"/>
          <p:cNvGrpSpPr/>
          <p:nvPr/>
        </p:nvGrpSpPr>
        <p:grpSpPr>
          <a:xfrm>
            <a:off x="3079800" y="1047600"/>
            <a:ext cx="2987640" cy="1130400"/>
            <a:chOff x="3079800" y="1047600"/>
            <a:chExt cx="2987640" cy="1130400"/>
          </a:xfrm>
        </p:grpSpPr>
        <p:sp>
          <p:nvSpPr>
            <p:cNvPr id="70" name="Rectangle 5"/>
            <p:cNvSpPr/>
            <p:nvPr/>
          </p:nvSpPr>
          <p:spPr>
            <a:xfrm>
              <a:off x="3079800" y="1047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" name="Rectangle 6"/>
            <p:cNvSpPr/>
            <p:nvPr/>
          </p:nvSpPr>
          <p:spPr>
            <a:xfrm>
              <a:off x="4910040" y="1052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2" name="Line 7"/>
            <p:cNvSpPr/>
            <p:nvPr/>
          </p:nvSpPr>
          <p:spPr>
            <a:xfrm>
              <a:off x="4187880" y="1601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" name="Text Box 8"/>
            <p:cNvSpPr/>
            <p:nvPr/>
          </p:nvSpPr>
          <p:spPr>
            <a:xfrm>
              <a:off x="316368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4" name="Text Box 9"/>
            <p:cNvSpPr/>
            <p:nvPr/>
          </p:nvSpPr>
          <p:spPr>
            <a:xfrm>
              <a:off x="498420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75" name="Line 10"/>
          <p:cNvSpPr/>
          <p:nvPr/>
        </p:nvSpPr>
        <p:spPr>
          <a:xfrm flipV="1">
            <a:off x="4548240" y="1663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3384720" y="2690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 or energy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77" name="Object 12"/>
          <p:cNvGraphicFramePr/>
          <p:nvPr/>
        </p:nvGraphicFramePr>
        <p:xfrm>
          <a:off x="1847880" y="3470400"/>
          <a:ext cx="6232320" cy="72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3470400"/>
                    <a:ext cx="62323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12"/>
          <p:cNvGraphicFramePr/>
          <p:nvPr/>
        </p:nvGraphicFramePr>
        <p:xfrm>
          <a:off x="1909800" y="4473720"/>
          <a:ext cx="509112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9800" y="4473720"/>
                    <a:ext cx="50911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3"/>
          <p:cNvSpPr/>
          <p:nvPr/>
        </p:nvSpPr>
        <p:spPr>
          <a:xfrm>
            <a:off x="420840" y="5638680"/>
            <a:ext cx="83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Now: Allow particle numbers to change, e.g., swap between systems…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4" name="Group 4"/>
          <p:cNvGrpSpPr/>
          <p:nvPr/>
        </p:nvGrpSpPr>
        <p:grpSpPr>
          <a:xfrm>
            <a:off x="5759280" y="1085760"/>
            <a:ext cx="2987640" cy="1130400"/>
            <a:chOff x="5759280" y="1085760"/>
            <a:chExt cx="2987640" cy="1130400"/>
          </a:xfrm>
        </p:grpSpPr>
        <p:sp>
          <p:nvSpPr>
            <p:cNvPr id="85" name="Rectangle 5"/>
            <p:cNvSpPr/>
            <p:nvPr/>
          </p:nvSpPr>
          <p:spPr>
            <a:xfrm>
              <a:off x="5759280" y="108576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" name="Rectangle 6"/>
            <p:cNvSpPr/>
            <p:nvPr/>
          </p:nvSpPr>
          <p:spPr>
            <a:xfrm>
              <a:off x="7589520" y="109044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" name="Line 7"/>
            <p:cNvSpPr/>
            <p:nvPr/>
          </p:nvSpPr>
          <p:spPr>
            <a:xfrm>
              <a:off x="6867360" y="163980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" name="Text Box 8"/>
            <p:cNvSpPr/>
            <p:nvPr/>
          </p:nvSpPr>
          <p:spPr>
            <a:xfrm>
              <a:off x="584316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" name="Text Box 9"/>
            <p:cNvSpPr/>
            <p:nvPr/>
          </p:nvSpPr>
          <p:spPr>
            <a:xfrm>
              <a:off x="766368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6689880" y="557280"/>
            <a:ext cx="1129680" cy="2987640"/>
            <a:chOff x="6689880" y="557280"/>
            <a:chExt cx="1129680" cy="2987640"/>
          </a:xfrm>
        </p:grpSpPr>
        <p:sp>
          <p:nvSpPr>
            <p:cNvPr id="93" name="Rectangle 5"/>
            <p:cNvSpPr/>
            <p:nvPr/>
          </p:nvSpPr>
          <p:spPr>
            <a:xfrm rot="16200000">
              <a:off x="6689880" y="2419560"/>
              <a:ext cx="1125360" cy="11253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4" name="Rectangle 6"/>
            <p:cNvSpPr/>
            <p:nvPr/>
          </p:nvSpPr>
          <p:spPr>
            <a:xfrm rot="16200000">
              <a:off x="6693840" y="588960"/>
              <a:ext cx="1125720" cy="11253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5" name="Line 7"/>
            <p:cNvSpPr/>
            <p:nvPr/>
          </p:nvSpPr>
          <p:spPr>
            <a:xfrm flipV="1">
              <a:off x="7243560" y="1716120"/>
              <a:ext cx="0" cy="720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6" name="Text Box 8"/>
            <p:cNvSpPr/>
            <p:nvPr/>
          </p:nvSpPr>
          <p:spPr>
            <a:xfrm rot="16200000">
              <a:off x="6886080" y="258912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7" name="Text Box 9"/>
            <p:cNvSpPr/>
            <p:nvPr/>
          </p:nvSpPr>
          <p:spPr>
            <a:xfrm rot="16200000">
              <a:off x="6886080" y="76860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cxnSp>
        <p:nvCxnSpPr>
          <p:cNvPr id="98" name="Straight Arrow Connector 2"/>
          <p:cNvCxnSpPr/>
          <p:nvPr/>
        </p:nvCxnSpPr>
        <p:spPr>
          <a:xfrm>
            <a:off x="8218080" y="1593720"/>
            <a:ext cx="1080" cy="9151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99" name="TextBox 3"/>
          <p:cNvSpPr/>
          <p:nvPr/>
        </p:nvSpPr>
        <p:spPr>
          <a:xfrm>
            <a:off x="8305560" y="18763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ravit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504720" y="4611600"/>
            <a:ext cx="8018640" cy="22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call: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= U –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very small, the energy term dominates, and F is minimized by having all particles in the system with the lowest energy, e.g., system 1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very big, the entropy term dominates, and F is minimized by allowing the particles to be in both systems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ore microstates!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about for intermediate values of T…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463680" y="4076640"/>
            <a:ext cx="3319200" cy="493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04" name="Group 4"/>
          <p:cNvGrpSpPr/>
          <p:nvPr/>
        </p:nvGrpSpPr>
        <p:grpSpPr>
          <a:xfrm>
            <a:off x="6689880" y="557280"/>
            <a:ext cx="1129680" cy="2987640"/>
            <a:chOff x="6689880" y="557280"/>
            <a:chExt cx="1129680" cy="2987640"/>
          </a:xfrm>
        </p:grpSpPr>
        <p:sp>
          <p:nvSpPr>
            <p:cNvPr id="105" name="Rectangle 5"/>
            <p:cNvSpPr/>
            <p:nvPr/>
          </p:nvSpPr>
          <p:spPr>
            <a:xfrm rot="16200000">
              <a:off x="6689880" y="2419560"/>
              <a:ext cx="1125360" cy="11253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6" name="Rectangle 6"/>
            <p:cNvSpPr/>
            <p:nvPr/>
          </p:nvSpPr>
          <p:spPr>
            <a:xfrm rot="16200000">
              <a:off x="6693840" y="588960"/>
              <a:ext cx="1125720" cy="11253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7" name="Line 7"/>
            <p:cNvSpPr/>
            <p:nvPr/>
          </p:nvSpPr>
          <p:spPr>
            <a:xfrm flipV="1">
              <a:off x="7243560" y="1716120"/>
              <a:ext cx="0" cy="720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8" name="Text Box 8"/>
            <p:cNvSpPr/>
            <p:nvPr/>
          </p:nvSpPr>
          <p:spPr>
            <a:xfrm rot="16200000">
              <a:off x="6886080" y="258912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9" name="Text Box 9"/>
            <p:cNvSpPr/>
            <p:nvPr/>
          </p:nvSpPr>
          <p:spPr>
            <a:xfrm rot="16200000">
              <a:off x="6886080" y="76860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cxnSp>
        <p:nvCxnSpPr>
          <p:cNvPr id="110" name="Straight Arrow Connector 17"/>
          <p:cNvCxnSpPr/>
          <p:nvPr/>
        </p:nvCxnSpPr>
        <p:spPr>
          <a:xfrm>
            <a:off x="8218080" y="1593720"/>
            <a:ext cx="1080" cy="9151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11" name="TextBox 18"/>
          <p:cNvSpPr/>
          <p:nvPr/>
        </p:nvSpPr>
        <p:spPr>
          <a:xfrm>
            <a:off x="8305560" y="18763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ravit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291960" y="695160"/>
            <a:ext cx="830916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Equilibrium corresponds to maximum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+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small system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When we calculate </a:t>
            </a:r>
            <a:r>
              <a:rPr b="0" lang="en-US" sz="16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, we only need to know the temperature of the reservoir.  In minimizing F (equivalent to maximizing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) we don’t have to deal explicitly with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 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Consider exchange of material (particles) between two containers.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se are two small systems in equilibrium with a reservoir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(not shown) at temperature T.  In equilibrium, dF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/dN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0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 derivative of free energy with respect to particle number is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o important that we define a special name and symbol for it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For two subsystems exchanging particles, the equilibrium condition is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16" name="Group 6"/>
          <p:cNvGrpSpPr/>
          <p:nvPr/>
        </p:nvGrpSpPr>
        <p:grpSpPr>
          <a:xfrm>
            <a:off x="102240" y="6444720"/>
            <a:ext cx="8326800" cy="337320"/>
            <a:chOff x="102240" y="6444720"/>
            <a:chExt cx="8326800" cy="337320"/>
          </a:xfrm>
        </p:grpSpPr>
        <p:sp>
          <p:nvSpPr>
            <p:cNvPr id="117" name="Text Box 7"/>
            <p:cNvSpPr/>
            <p:nvPr/>
          </p:nvSpPr>
          <p:spPr>
            <a:xfrm>
              <a:off x="102240" y="6444720"/>
              <a:ext cx="832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  <a:ea typeface="MS PGothic"/>
                </a:rPr>
                <a:t>Maximum Total Entropy           Minimum Free Energy         Equal chemical potential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18" name="Line 8"/>
            <p:cNvSpPr/>
            <p:nvPr/>
          </p:nvSpPr>
          <p:spPr>
            <a:xfrm>
              <a:off x="2727360" y="662292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>
              <a:off x="5375520" y="663264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aphicFrame>
        <p:nvGraphicFramePr>
          <p:cNvPr id="120" name="Object 10"/>
          <p:cNvGraphicFramePr/>
          <p:nvPr/>
        </p:nvGraphicFramePr>
        <p:xfrm>
          <a:off x="461880" y="3624120"/>
          <a:ext cx="347976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624120"/>
                    <a:ext cx="347976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2" name="Group 11"/>
          <p:cNvGrpSpPr/>
          <p:nvPr/>
        </p:nvGrpSpPr>
        <p:grpSpPr>
          <a:xfrm>
            <a:off x="6757200" y="3815640"/>
            <a:ext cx="1961640" cy="983160"/>
            <a:chOff x="6757200" y="3815640"/>
            <a:chExt cx="1961640" cy="983160"/>
          </a:xfrm>
        </p:grpSpPr>
        <p:grpSp>
          <p:nvGrpSpPr>
            <p:cNvPr id="123" name="Group 12"/>
            <p:cNvGrpSpPr/>
            <p:nvPr/>
          </p:nvGrpSpPr>
          <p:grpSpPr>
            <a:xfrm>
              <a:off x="7985880" y="4070160"/>
              <a:ext cx="732960" cy="263160"/>
              <a:chOff x="7985880" y="4070160"/>
              <a:chExt cx="732960" cy="263160"/>
            </a:xfrm>
          </p:grpSpPr>
          <p:sp>
            <p:nvSpPr>
              <p:cNvPr id="124" name="Rectangle 13"/>
              <p:cNvSpPr/>
              <p:nvPr/>
            </p:nvSpPr>
            <p:spPr>
              <a:xfrm>
                <a:off x="8094600" y="421128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  <a:ea typeface="MS PGothic"/>
                  </a:rPr>
                  <a:t>1</a:t>
                </a:r>
                <a:endParaRPr b="0" lang="en-US" sz="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7985880" y="407016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N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26" name="Freeform 15"/>
            <p:cNvSpPr/>
            <p:nvPr/>
          </p:nvSpPr>
          <p:spPr>
            <a:xfrm>
              <a:off x="7321320" y="4211640"/>
              <a:ext cx="674640" cy="44748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27" name="Text Box 16"/>
            <p:cNvSpPr/>
            <p:nvPr/>
          </p:nvSpPr>
          <p:spPr>
            <a:xfrm>
              <a:off x="6757200" y="381564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28" name="Line 17"/>
            <p:cNvSpPr/>
            <p:nvPr/>
          </p:nvSpPr>
          <p:spPr>
            <a:xfrm flipV="1">
              <a:off x="7041960" y="396864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29" name="Line 18"/>
            <p:cNvSpPr/>
            <p:nvPr/>
          </p:nvSpPr>
          <p:spPr>
            <a:xfrm>
              <a:off x="7051680" y="4159080"/>
              <a:ext cx="118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30" name="Group 19"/>
          <p:cNvGrpSpPr/>
          <p:nvPr/>
        </p:nvGrpSpPr>
        <p:grpSpPr>
          <a:xfrm>
            <a:off x="6820920" y="2700360"/>
            <a:ext cx="1702440" cy="843840"/>
            <a:chOff x="6820920" y="2700360"/>
            <a:chExt cx="1702440" cy="843840"/>
          </a:xfrm>
        </p:grpSpPr>
        <p:grpSp>
          <p:nvGrpSpPr>
            <p:cNvPr id="131" name="Group 20"/>
            <p:cNvGrpSpPr/>
            <p:nvPr/>
          </p:nvGrpSpPr>
          <p:grpSpPr>
            <a:xfrm>
              <a:off x="6820920" y="2700360"/>
              <a:ext cx="1702440" cy="843840"/>
              <a:chOff x="6820920" y="2700360"/>
              <a:chExt cx="1702440" cy="843840"/>
            </a:xfrm>
          </p:grpSpPr>
          <p:grpSp>
            <p:nvGrpSpPr>
              <p:cNvPr id="132" name="Group 21"/>
              <p:cNvGrpSpPr/>
              <p:nvPr/>
            </p:nvGrpSpPr>
            <p:grpSpPr>
              <a:xfrm>
                <a:off x="6820920" y="3346200"/>
                <a:ext cx="740160" cy="188280"/>
                <a:chOff x="6820920" y="3346200"/>
                <a:chExt cx="740160" cy="188280"/>
              </a:xfrm>
            </p:grpSpPr>
            <p:sp>
              <p:nvSpPr>
                <p:cNvPr id="133" name="Rectangle 22"/>
                <p:cNvSpPr/>
                <p:nvPr/>
              </p:nvSpPr>
              <p:spPr>
                <a:xfrm>
                  <a:off x="6820920" y="33462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23"/>
                <p:cNvSpPr/>
                <p:nvPr/>
              </p:nvSpPr>
              <p:spPr>
                <a:xfrm>
                  <a:off x="6932160" y="341244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1</a:t>
                  </a:r>
                  <a:endParaRPr b="0" lang="en-US" sz="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Group 24"/>
              <p:cNvGrpSpPr/>
              <p:nvPr/>
            </p:nvGrpSpPr>
            <p:grpSpPr>
              <a:xfrm>
                <a:off x="7784640" y="3355560"/>
                <a:ext cx="738720" cy="188640"/>
                <a:chOff x="7784640" y="3355560"/>
                <a:chExt cx="738720" cy="188640"/>
              </a:xfrm>
            </p:grpSpPr>
            <p:sp>
              <p:nvSpPr>
                <p:cNvPr id="136" name="Rectangle 25"/>
                <p:cNvSpPr/>
                <p:nvPr/>
              </p:nvSpPr>
              <p:spPr>
                <a:xfrm>
                  <a:off x="7784640" y="335556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26"/>
                <p:cNvSpPr/>
                <p:nvPr/>
              </p:nvSpPr>
              <p:spPr>
                <a:xfrm>
                  <a:off x="7894440" y="342216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2</a:t>
                  </a:r>
                  <a:endParaRPr b="0" lang="en-US" sz="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Group 27"/>
              <p:cNvGrpSpPr/>
              <p:nvPr/>
            </p:nvGrpSpPr>
            <p:grpSpPr>
              <a:xfrm>
                <a:off x="6845400" y="2700360"/>
                <a:ext cx="1523520" cy="570960"/>
                <a:chOff x="6845400" y="2700360"/>
                <a:chExt cx="1523520" cy="570960"/>
              </a:xfrm>
            </p:grpSpPr>
            <p:grpSp>
              <p:nvGrpSpPr>
                <p:cNvPr id="139" name="Group 28"/>
                <p:cNvGrpSpPr/>
                <p:nvPr/>
              </p:nvGrpSpPr>
              <p:grpSpPr>
                <a:xfrm>
                  <a:off x="6845400" y="2700360"/>
                  <a:ext cx="1523520" cy="570960"/>
                  <a:chOff x="6845400" y="2700360"/>
                  <a:chExt cx="1523520" cy="570960"/>
                </a:xfrm>
              </p:grpSpPr>
              <p:sp>
                <p:nvSpPr>
                  <p:cNvPr id="140" name="Line 29"/>
                  <p:cNvSpPr/>
                  <p:nvPr/>
                </p:nvSpPr>
                <p:spPr>
                  <a:xfrm>
                    <a:off x="6845400" y="270036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Line 30"/>
                  <p:cNvSpPr/>
                  <p:nvPr/>
                </p:nvSpPr>
                <p:spPr>
                  <a:xfrm>
                    <a:off x="684540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2" name="Group 31"/>
                  <p:cNvGrpSpPr/>
                  <p:nvPr/>
                </p:nvGrpSpPr>
                <p:grpSpPr>
                  <a:xfrm>
                    <a:off x="7569000" y="2700360"/>
                    <a:ext cx="1440" cy="570600"/>
                    <a:chOff x="7569000" y="2700360"/>
                    <a:chExt cx="1440" cy="570600"/>
                  </a:xfrm>
                </p:grpSpPr>
                <p:sp>
                  <p:nvSpPr>
                    <p:cNvPr id="143" name="Line 32"/>
                    <p:cNvSpPr/>
                    <p:nvPr/>
                  </p:nvSpPr>
                  <p:spPr>
                    <a:xfrm>
                      <a:off x="756900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Line 33"/>
                    <p:cNvSpPr/>
                    <p:nvPr/>
                  </p:nvSpPr>
                  <p:spPr>
                    <a:xfrm>
                      <a:off x="756900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5" name="Line 34"/>
                  <p:cNvSpPr/>
                  <p:nvPr/>
                </p:nvSpPr>
                <p:spPr>
                  <a:xfrm>
                    <a:off x="6858000" y="325872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Line 35"/>
                  <p:cNvSpPr/>
                  <p:nvPr/>
                </p:nvSpPr>
                <p:spPr>
                  <a:xfrm>
                    <a:off x="7569000" y="29415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Line 36"/>
                  <p:cNvSpPr/>
                  <p:nvPr/>
                </p:nvSpPr>
                <p:spPr>
                  <a:xfrm>
                    <a:off x="7569000" y="304272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8" name="Group 37"/>
                  <p:cNvGrpSpPr/>
                  <p:nvPr/>
                </p:nvGrpSpPr>
                <p:grpSpPr>
                  <a:xfrm>
                    <a:off x="7988040" y="2700360"/>
                    <a:ext cx="1440" cy="570600"/>
                    <a:chOff x="7988040" y="2700360"/>
                    <a:chExt cx="1440" cy="570600"/>
                  </a:xfrm>
                </p:grpSpPr>
                <p:sp>
                  <p:nvSpPr>
                    <p:cNvPr id="149" name="Line 38"/>
                    <p:cNvSpPr/>
                    <p:nvPr/>
                  </p:nvSpPr>
                  <p:spPr>
                    <a:xfrm>
                      <a:off x="798804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Line 39"/>
                    <p:cNvSpPr/>
                    <p:nvPr/>
                  </p:nvSpPr>
                  <p:spPr>
                    <a:xfrm>
                      <a:off x="798804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1" name="Line 40"/>
                  <p:cNvSpPr/>
                  <p:nvPr/>
                </p:nvSpPr>
                <p:spPr>
                  <a:xfrm>
                    <a:off x="7988040" y="270036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Line 41"/>
                  <p:cNvSpPr/>
                  <p:nvPr/>
                </p:nvSpPr>
                <p:spPr>
                  <a:xfrm>
                    <a:off x="8002440" y="325872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Line 42"/>
                  <p:cNvSpPr/>
                  <p:nvPr/>
                </p:nvSpPr>
                <p:spPr>
                  <a:xfrm>
                    <a:off x="835632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Oval 43"/>
                <p:cNvSpPr/>
                <p:nvPr/>
              </p:nvSpPr>
              <p:spPr>
                <a:xfrm>
                  <a:off x="7061040" y="296676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5" name="Oval 44"/>
                <p:cNvSpPr/>
                <p:nvPr/>
              </p:nvSpPr>
              <p:spPr>
                <a:xfrm>
                  <a:off x="7213320" y="311904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6" name="Oval 45"/>
                <p:cNvSpPr/>
                <p:nvPr/>
              </p:nvSpPr>
              <p:spPr>
                <a:xfrm>
                  <a:off x="6870600" y="30934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" name="Oval 46"/>
                <p:cNvSpPr/>
                <p:nvPr/>
              </p:nvSpPr>
              <p:spPr>
                <a:xfrm>
                  <a:off x="7226280" y="282708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8" name="Oval 47"/>
                <p:cNvSpPr/>
                <p:nvPr/>
              </p:nvSpPr>
              <p:spPr>
                <a:xfrm>
                  <a:off x="7035840" y="276372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9" name="Oval 48"/>
                <p:cNvSpPr/>
                <p:nvPr/>
              </p:nvSpPr>
              <p:spPr>
                <a:xfrm>
                  <a:off x="7378560" y="303012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0" name="Oval 49"/>
                <p:cNvSpPr/>
                <p:nvPr/>
              </p:nvSpPr>
              <p:spPr>
                <a:xfrm>
                  <a:off x="8192880" y="280188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1" name="Oval 50"/>
                <p:cNvSpPr/>
                <p:nvPr/>
              </p:nvSpPr>
              <p:spPr>
                <a:xfrm>
                  <a:off x="8064360" y="294156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2" name="Oval 51"/>
                <p:cNvSpPr/>
                <p:nvPr/>
              </p:nvSpPr>
              <p:spPr>
                <a:xfrm>
                  <a:off x="8204040" y="313164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3" name="Line 52"/>
            <p:cNvSpPr/>
            <p:nvPr/>
          </p:nvSpPr>
          <p:spPr>
            <a:xfrm flipV="1">
              <a:off x="7647120" y="284148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aphicFrame>
        <p:nvGraphicFramePr>
          <p:cNvPr id="164" name="Object 56"/>
          <p:cNvGraphicFramePr/>
          <p:nvPr/>
        </p:nvGraphicFramePr>
        <p:xfrm>
          <a:off x="2468520" y="5295960"/>
          <a:ext cx="83340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8520" y="5295960"/>
                    <a:ext cx="833400" cy="600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Object 58"/>
          <p:cNvGraphicFramePr/>
          <p:nvPr/>
        </p:nvGraphicFramePr>
        <p:xfrm>
          <a:off x="6724800" y="5864400"/>
          <a:ext cx="1049040" cy="48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Object 5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24800" y="5864400"/>
                    <a:ext cx="1049040" cy="4838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8" name="TextBox 1"/>
          <p:cNvSpPr/>
          <p:nvPr/>
        </p:nvSpPr>
        <p:spPr>
          <a:xfrm>
            <a:off x="3501360" y="5410080"/>
            <a:ext cx="40622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chemical potential of sub-system i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Why Bother with Yet Another Definition?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81160" y="1295280"/>
            <a:ext cx="83088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Answe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It makes the various equilibrium conditions look the sam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artic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Why does the last equation use dF/dN, instead of d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/dN?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Remember that there is a thermal reservoir (not shown). When particles are exchanged, the reservoir’s entropy might change.  (It might gain or lose energy.)  That’s what F takes care of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1" name="Group 4"/>
          <p:cNvGrpSpPr/>
          <p:nvPr/>
        </p:nvGrpSpPr>
        <p:grpSpPr>
          <a:xfrm>
            <a:off x="5645160" y="2406600"/>
            <a:ext cx="2955960" cy="1130400"/>
            <a:chOff x="5645160" y="2406600"/>
            <a:chExt cx="2955960" cy="1130400"/>
          </a:xfrm>
        </p:grpSpPr>
        <p:sp>
          <p:nvSpPr>
            <p:cNvPr id="172" name="Rectangle 5"/>
            <p:cNvSpPr/>
            <p:nvPr/>
          </p:nvSpPr>
          <p:spPr>
            <a:xfrm>
              <a:off x="5645160" y="2406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3" name="Rectangle 6"/>
            <p:cNvSpPr/>
            <p:nvPr/>
          </p:nvSpPr>
          <p:spPr>
            <a:xfrm>
              <a:off x="7475400" y="2411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4" name="Line 7"/>
            <p:cNvSpPr/>
            <p:nvPr/>
          </p:nvSpPr>
          <p:spPr>
            <a:xfrm>
              <a:off x="6753240" y="2960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572688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754776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77" name="Line 10"/>
          <p:cNvSpPr/>
          <p:nvPr/>
        </p:nvSpPr>
        <p:spPr>
          <a:xfrm flipV="1">
            <a:off x="7113600" y="3022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5950080" y="4049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, energy, or particles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79" name="Object 12"/>
          <p:cNvGraphicFramePr/>
          <p:nvPr/>
        </p:nvGraphicFramePr>
        <p:xfrm>
          <a:off x="1735200" y="2530440"/>
          <a:ext cx="122544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5200" y="2530440"/>
                    <a:ext cx="122544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13"/>
          <p:cNvGraphicFramePr/>
          <p:nvPr/>
        </p:nvGraphicFramePr>
        <p:xfrm>
          <a:off x="1727280" y="3351240"/>
          <a:ext cx="1245960" cy="7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7280" y="3351240"/>
                    <a:ext cx="124596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14"/>
          <p:cNvGraphicFramePr/>
          <p:nvPr/>
        </p:nvGraphicFramePr>
        <p:xfrm>
          <a:off x="1736640" y="4179960"/>
          <a:ext cx="1225800" cy="72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36640" y="4179960"/>
                    <a:ext cx="12258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Jim Eckstein</cp:lastModifiedBy>
  <cp:lastPrinted>2014-11-17T14:41:41Z</cp:lastPrinted>
  <dcterms:modified xsi:type="dcterms:W3CDTF">2015-02-19T22:33:18Z</dcterms:modified>
  <cp:revision>57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