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534420-6DB6-4F75-B8C2-80BF28B68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7170DBF0-416D-4D14-8256-D6ACD2D5AA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0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85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86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8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0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9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0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09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8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4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35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42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43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4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45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47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61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67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68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9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70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77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84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91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5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6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0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410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16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26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7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8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36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8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39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40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41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42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67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70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71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72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3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4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5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6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7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8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79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0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1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82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83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84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85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86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87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511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3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15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16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17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521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4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5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34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35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36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7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38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39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40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64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6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8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9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70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71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2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73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5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6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7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8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9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0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1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2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3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5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87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88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89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90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14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5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6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20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23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24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38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40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4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5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6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6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7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7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9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9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9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1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1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2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2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3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743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744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765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70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5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86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89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90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91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95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7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98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99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00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801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03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804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805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809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12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17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818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20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821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822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5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826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8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29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32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833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836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837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841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4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849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850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54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855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7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58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2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63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7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98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9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2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3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4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907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11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912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3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4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5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6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7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8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9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0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1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2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3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4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5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6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7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8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9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0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1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2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3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4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5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6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7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8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9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0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1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2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3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4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45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46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947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8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949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1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011240" y="51699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We’ll see next time that this is NOT the maximum possible efficiency, which is determined solely by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MS PGothic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law of thermodynamic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7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88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0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1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4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7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0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3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6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09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2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4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6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8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19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0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3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6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29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2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5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38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1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4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68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5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7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8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9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0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6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2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5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7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3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4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57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9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0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2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3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4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4-09T19:16:21Z</dcterms:modified>
  <cp:revision>28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