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18.png" ContentType="image/png"/>
  <Override PartName="/ppt/media/image30.wmf" ContentType="image/x-wmf"/>
  <Override PartName="/ppt/media/image5.wmf" ContentType="image/x-wmf"/>
  <Override PartName="/ppt/media/image37.jpeg" ContentType="image/jpeg"/>
  <Override PartName="/ppt/media/image28.wmf" ContentType="image/x-wmf"/>
  <Override PartName="/ppt/media/image39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35.jpeg" ContentType="image/jpeg"/>
  <Override PartName="/ppt/media/image45.wmf" ContentType="image/x-wmf"/>
  <Override PartName="/ppt/media/image46.wmf" ContentType="image/x-wmf"/>
  <Override PartName="/ppt/media/image42.wmf" ContentType="image/x-wmf"/>
  <Override PartName="/ppt/media/image9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20.png" ContentType="image/png"/>
  <Override PartName="/ppt/media/image36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C9D617E-1089-4235-A750-807B42934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4F296736-EFBD-4984-8BE9-669BCE72FC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3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4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5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6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6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8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8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03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04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06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23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5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332" name="Group 7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333" name="Oval 8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335" name="Oval 10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Oval 11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Oval 12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Oval 13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4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Oval 15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16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Oval 17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8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9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0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1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22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23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Line 24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5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Group 26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352" name="Rectangle 27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Text Box 28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54" name="Line 29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30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5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91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406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431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452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3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4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456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457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91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504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5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3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522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524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3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36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8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2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48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Group 5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555" name="Picture 6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7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Text Box 8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568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570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76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82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88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625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626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637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39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642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643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646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0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51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652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9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660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661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4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665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669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71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2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3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86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0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91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94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5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97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4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706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707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708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9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710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711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714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7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3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724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725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730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4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735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9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0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1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4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4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7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0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1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7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5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2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7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3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4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6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7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58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5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7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2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3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4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06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0" y="11160"/>
            <a:ext cx="9144000" cy="101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rivatives of Hyperbolic Func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5"/>
          <p:cNvGrpSpPr/>
          <p:nvPr/>
        </p:nvGrpSpPr>
        <p:grpSpPr>
          <a:xfrm>
            <a:off x="1000080" y="2598840"/>
            <a:ext cx="4019760" cy="2824200"/>
            <a:chOff x="1000080" y="2598840"/>
            <a:chExt cx="4019760" cy="2824200"/>
          </a:xfrm>
        </p:grpSpPr>
        <p:pic>
          <p:nvPicPr>
            <p:cNvPr id="214" name="Picture 11" descr=" \frac{d}{dx}\cosh x = \sinh x \,"/>
            <p:cNvPicPr/>
            <p:nvPr/>
          </p:nvPicPr>
          <p:blipFill>
            <a:blip r:embed="rId1"/>
            <a:stretch/>
          </p:blipFill>
          <p:spPr>
            <a:xfrm>
              <a:off x="1000080" y="3083040"/>
              <a:ext cx="14572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0" descr=" \frac{d}{dx}\tanh x = 1 - \tanh^2 x = \operatorname{sech}^2 x = 1/\cosh^2 x \,"/>
            <p:cNvPicPr/>
            <p:nvPr/>
          </p:nvPicPr>
          <p:blipFill>
            <a:blip r:embed="rId2"/>
            <a:stretch/>
          </p:blipFill>
          <p:spPr>
            <a:xfrm>
              <a:off x="1000080" y="3570480"/>
              <a:ext cx="37533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9" descr=" \frac{d}{dx}\coth x = 1 - \coth^2 x = -\operatorname{csch}^2 x = -1/\sinh^2 x \,"/>
            <p:cNvPicPr/>
            <p:nvPr/>
          </p:nvPicPr>
          <p:blipFill>
            <a:blip r:embed="rId3"/>
            <a:stretch/>
          </p:blipFill>
          <p:spPr>
            <a:xfrm>
              <a:off x="1000080" y="4057920"/>
              <a:ext cx="40197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8" descr=" \frac{d}{dx}\ \operatorname{sech}\,x = - \tanh x \ \operatorname{sech}\,x \,"/>
            <p:cNvPicPr/>
            <p:nvPr/>
          </p:nvPicPr>
          <p:blipFill>
            <a:blip r:embed="rId4"/>
            <a:stretch/>
          </p:blipFill>
          <p:spPr>
            <a:xfrm>
              <a:off x="1000080" y="4545360"/>
              <a:ext cx="2362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7" descr=" \frac{d}{dx}\ \operatorname{csch}\,x = - \coth x \ \operatorname{csch}\,x \,"/>
            <p:cNvPicPr/>
            <p:nvPr/>
          </p:nvPicPr>
          <p:blipFill>
            <a:blip r:embed="rId5"/>
            <a:stretch/>
          </p:blipFill>
          <p:spPr>
            <a:xfrm>
              <a:off x="1000080" y="5032800"/>
              <a:ext cx="23338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2" descr=" \frac{d}{dx}\sinh x = \cosh x \,"/>
            <p:cNvPicPr/>
            <p:nvPr/>
          </p:nvPicPr>
          <p:blipFill>
            <a:blip r:embed="rId6"/>
            <a:stretch/>
          </p:blipFill>
          <p:spPr>
            <a:xfrm>
              <a:off x="1000080" y="2598840"/>
              <a:ext cx="1454040" cy="38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14"/>
          <p:cNvGrpSpPr/>
          <p:nvPr/>
        </p:nvGrpSpPr>
        <p:grpSpPr>
          <a:xfrm>
            <a:off x="5572080" y="2604960"/>
            <a:ext cx="2279520" cy="3086280"/>
            <a:chOff x="5572080" y="2604960"/>
            <a:chExt cx="2279520" cy="3086280"/>
          </a:xfrm>
        </p:grpSpPr>
        <p:pic>
          <p:nvPicPr>
            <p:cNvPr id="221" name="Picture 6" descr="\frac{d}{dx}\, \operatorname{arsinh}\,x =\frac{1}{\sqrt{x^{2}+1}}"/>
            <p:cNvPicPr/>
            <p:nvPr/>
          </p:nvPicPr>
          <p:blipFill>
            <a:blip r:embed="rId7"/>
            <a:stretch/>
          </p:blipFill>
          <p:spPr>
            <a:xfrm>
              <a:off x="5572080" y="2604960"/>
              <a:ext cx="188604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\frac{d}{dx}\, \operatorname{arcosh}\,x =\frac{1}{\sqrt{x^{2}-1}}"/>
            <p:cNvPicPr/>
            <p:nvPr/>
          </p:nvPicPr>
          <p:blipFill>
            <a:blip r:embed="rId8"/>
            <a:stretch/>
          </p:blipFill>
          <p:spPr>
            <a:xfrm>
              <a:off x="5572080" y="3149640"/>
              <a:ext cx="190512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\frac{d}{dx}\, \operatorname{artanh}\,x =\frac{1}{1-x^{2}}"/>
            <p:cNvPicPr/>
            <p:nvPr/>
          </p:nvPicPr>
          <p:blipFill>
            <a:blip r:embed="rId9"/>
            <a:stretch/>
          </p:blipFill>
          <p:spPr>
            <a:xfrm>
              <a:off x="5572080" y="3694680"/>
              <a:ext cx="17715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" descr="\frac{d}{dx}\, \operatorname{arcoth}\,x =\frac{1}{1-x^{2}}"/>
            <p:cNvPicPr/>
            <p:nvPr/>
          </p:nvPicPr>
          <p:blipFill>
            <a:blip r:embed="rId10"/>
            <a:stretch/>
          </p:blipFill>
          <p:spPr>
            <a:xfrm>
              <a:off x="5572080" y="4191840"/>
              <a:ext cx="17524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" descr="\frac{d}{dx}\, \operatorname{arsech}\,x =-\frac{1}{x\sqrt{1-x^{2}}}"/>
            <p:cNvPicPr/>
            <p:nvPr/>
          </p:nvPicPr>
          <p:blipFill>
            <a:blip r:embed="rId11"/>
            <a:stretch/>
          </p:blipFill>
          <p:spPr>
            <a:xfrm>
              <a:off x="5572080" y="4689360"/>
              <a:ext cx="215280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" descr="\frac{d}{dx}\, \operatorname{arcsch}\,x =-\frac{1}{\left| x \right|\sqrt{1+x^{2}}}"/>
            <p:cNvPicPr/>
            <p:nvPr/>
          </p:nvPicPr>
          <p:blipFill>
            <a:blip r:embed="rId12"/>
            <a:stretch/>
          </p:blipFill>
          <p:spPr>
            <a:xfrm>
              <a:off x="5572080" y="5234040"/>
              <a:ext cx="22795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Straight Connector 2"/>
          <p:cNvSpPr/>
          <p:nvPr/>
        </p:nvSpPr>
        <p:spPr>
          <a:xfrm>
            <a:off x="870120" y="595440"/>
            <a:ext cx="7492680" cy="5645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Jim Eckstein</cp:lastModifiedBy>
  <cp:lastPrinted>1997-01-30T13:11:51Z</cp:lastPrinted>
  <dcterms:modified xsi:type="dcterms:W3CDTF">2015-02-16T22:27:25Z</dcterms:modified>
  <cp:revision>628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