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35852D3D-DFA0-4EDF-BC38-3194FD884B4C}"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3FA9EE06-D8D8-4EE8-B9B9-2CBABCDCF6FA}"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zing point Depression</a:t>
            </a:r>
            <a:endParaRPr b="1" lang="en-US" sz="40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s of Matter</a:t>
            </a:r>
            <a:endParaRPr b="1" lang="en-US" sz="40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8-17T18:41:04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