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4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4.wmf" ContentType="image/x-wmf"/>
  <Override PartName="/ppt/media/image34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29.wmf" ContentType="image/x-wmf"/>
  <Override PartName="/ppt/media/image17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3.jpeg" ContentType="image/jpeg"/>
  <Override PartName="/ppt/media/image25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CBF79AD-32AA-48E9-840E-F11D77E13C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almost no time on this – except qualitatively (i.e., the limi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/almost no time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BB78EE23-3355-4D2C-8117-FC8FC705B44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385000"/>
            <a:ext cx="717696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60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61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82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8160" y="597204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(with L=30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s only one micro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88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89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10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7200" y="558648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83240" y="491652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37120" y="557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y is that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47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364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397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422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466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468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328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584440" y="3811680"/>
            <a:ext cx="18478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89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96720" y="1345680"/>
            <a:ext cx="852984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84440" y="363996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96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991800" y="5891040"/>
            <a:ext cx="56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 =  (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)/(1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/K) = 6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16120" y="528624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509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4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66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67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82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83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90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91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8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99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601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4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609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611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1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13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5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626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31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34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6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37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644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645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7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1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4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55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1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62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2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6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4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1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8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36240" y="1795320"/>
            <a:ext cx="8578440" cy="2926080"/>
            <a:chOff x="336240" y="1795320"/>
            <a:chExt cx="8578440" cy="2926080"/>
          </a:xfrm>
        </p:grpSpPr>
        <p:sp>
          <p:nvSpPr>
            <p:cNvPr id="155" name="PlaceHolder 2"/>
            <p:cNvSpPr>
              <a:spLocks noGrp="1"/>
            </p:cNvSpPr>
            <p:nvPr>
              <p:ph/>
            </p:nvPr>
          </p:nvSpPr>
          <p:spPr>
            <a:xfrm>
              <a:off x="33624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1375200" y="272268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72268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8" name="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59" name="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2" name="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9" name="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4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5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6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208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219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234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243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248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53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4-08-17T18:01:20Z</dcterms:modified>
  <cp:revision>621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