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152B36E-55A0-468D-92BE-D736C463BE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04040" y="23184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B1C0CC8B-1E78-4793-8DA0-05D1607777E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Apr. 14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3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7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1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2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08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09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13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6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27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32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33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37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51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16040" y="5460840"/>
            <a:ext cx="7151760" cy="679320"/>
            <a:chOff x="716040" y="5460840"/>
            <a:chExt cx="7151760" cy="679320"/>
          </a:xfrm>
        </p:grpSpPr>
        <p:grpSp>
          <p:nvGrpSpPr>
            <p:cNvPr id="254" name=""/>
            <p:cNvGrpSpPr/>
            <p:nvPr/>
          </p:nvGrpSpPr>
          <p:grpSpPr>
            <a:xfrm>
              <a:off x="716040" y="5460840"/>
              <a:ext cx="7151760" cy="679320"/>
              <a:chOff x="716040" y="5460840"/>
              <a:chExt cx="7151760" cy="679320"/>
            </a:xfrm>
          </p:grpSpPr>
          <mc:AlternateContent>
            <mc:Choice xmlns:a14="http://schemas.microsoft.com/office/drawing/2010/main" Requires="a14">
              <p:sp>
                <p:nvSpPr>
                  <p:cNvPr id="255" name=""/>
                  <p:cNvSpPr txBox="1"/>
                  <p:nvPr/>
                </p:nvSpPr>
                <p:spPr>
                  <a:xfrm>
                    <a:off x="716040" y="5460840"/>
                    <a:ext cx="3625920" cy="67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6" name=""/>
                  <p:cNvSpPr txBox="1"/>
                  <p:nvPr/>
                </p:nvSpPr>
                <p:spPr>
                  <a:xfrm>
                    <a:off x="4124160" y="5470200"/>
                    <a:ext cx="2764080" cy="60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5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den>
                              </m:f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6280200" y="5626080"/>
                    <a:ext cx="1587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7</m:t>
                              </m:r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8" name=""/>
            <p:cNvSpPr/>
            <p:nvPr/>
          </p:nvSpPr>
          <p:spPr>
            <a:xfrm>
              <a:off x="6854760" y="5595840"/>
              <a:ext cx="687600" cy="406440"/>
            </a:xfrm>
            <a:prstGeom prst="rect">
              <a:avLst/>
            </a:prstGeom>
            <a:noFill/>
            <a:ln w="1260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6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6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8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8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99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00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2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2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9960" y="5440320"/>
            <a:ext cx="7547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T decreases, there is less chance to find the molecule with energ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because that’s the highest E. The ratio of its probability to that of every other state always decreases as T increa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55600" y="5014800"/>
            <a:ext cx="144144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3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344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358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365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366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369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372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375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378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381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384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387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390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393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5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8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399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406" name="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407" name="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8" name="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9" name="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414" name="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97000" y="2414880"/>
            <a:ext cx="70819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9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2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424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6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8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436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8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40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441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0160" y="4148280"/>
            <a:ext cx="567000" cy="36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560" y="4714920"/>
            <a:ext cx="819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very spin is stuck in the lowest-energy state, aligned with the fie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 general result: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alistic system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(even a big one)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 are only one or two ground states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s T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:  S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The third law” of thermodynam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04920" y="5794200"/>
            <a:ext cx="3560760" cy="668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87040" y="572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5040" y="2538360"/>
            <a:ext cx="6800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you take ratios of probabilities, the normalization factor cance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1096920" y="3006720"/>
          <a:ext cx="382428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3006720"/>
                    <a:ext cx="38242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1006560" y="4889520"/>
            <a:ext cx="75891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smaller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y a factor of 658, so B must be larger by that fac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= 9.9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make 150 T fields (not easily), but not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as large as the field of some neutron sta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4000" y="383688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ical MRI field ~ 2 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96720" y="1103040"/>
            <a:ext cx="8578800" cy="2925720"/>
            <a:chOff x="396720" y="1103040"/>
            <a:chExt cx="8578800" cy="2925720"/>
          </a:xfrm>
        </p:grpSpPr>
        <p:sp>
          <p:nvSpPr>
            <p:cNvPr id="491" name="PlaceHolder 2"/>
            <p:cNvSpPr>
              <a:spLocks noGrp="1"/>
            </p:cNvSpPr>
            <p:nvPr>
              <p:ph/>
            </p:nvPr>
          </p:nvSpPr>
          <p:spPr>
            <a:xfrm>
              <a:off x="396720" y="110304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92" name="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502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4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8-17T18:04:11Z</dcterms:modified>
  <cp:revision>31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