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png" ContentType="image/png"/>
  <Override PartName="/ppt/media/image16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2081EBF-6E94-406E-A396-BFD98F8B7A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1008E6FE-D494-4D91-AF47-5AA0777ECD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mal Expectation Val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5" name="Text Box 6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utoShape 7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48" name="Text Box 9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AutoShape 10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" name="Picture 18" descr="https://encrypted-tbn2.gstatic.com/images?q=tbn:ANd9GcTRRrMZUOsPH4i1mnoYZXt_ige4ywxVGHGDltOl0tYfJ0kDxmZuTg"/>
          <p:cNvPicPr/>
          <p:nvPr/>
        </p:nvPicPr>
        <p:blipFill>
          <a:blip r:embed="rId1"/>
          <a:stretch/>
        </p:blipFill>
        <p:spPr>
          <a:xfrm>
            <a:off x="6335640" y="2079720"/>
            <a:ext cx="2210040" cy="2066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6428520" y="4095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dwig Boltz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6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39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40"/>
          <p:cNvGraphicFramePr/>
          <p:nvPr/>
        </p:nvGraphicFramePr>
        <p:xfrm>
          <a:off x="574560" y="3052800"/>
          <a:ext cx="12765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560" y="3052800"/>
                    <a:ext cx="1276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43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44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45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46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7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4347000" y="4232160"/>
            <a:ext cx="459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focus o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nce reservoir &gt;&gt; sy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Text Box 65"/>
          <p:cNvSpPr/>
          <p:nvPr/>
        </p:nvSpPr>
        <p:spPr>
          <a:xfrm>
            <a:off x="822240" y="1612800"/>
            <a:ext cx="75628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It describes how the probability is partitioned among ALL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a function of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cl. all it’s descriptive parameters) and T.  Z(stuff, 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Object 66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7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68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73"/>
          <p:cNvGraphicFramePr/>
          <p:nvPr/>
        </p:nvGraphicFramePr>
        <p:xfrm>
          <a:off x="1274760" y="3689280"/>
          <a:ext cx="3807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Object 7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89280"/>
                    <a:ext cx="3807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74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14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15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9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1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2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6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5" name="Object 19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20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9" name="Group 24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0" name="Text Box 25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26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55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56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60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2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9" name="Object 19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0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21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74" name="Text Box 22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23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24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77" name="Group 25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78" name="Object 26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9" name="Object 27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80" name="Object 28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81" name="Rectangle 29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6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7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0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03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4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2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3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1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22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43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44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1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2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6" name="Group 5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67" name="Line 6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8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Line 9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" name="Object 15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8" name="Text Box 16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17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07880" y="96840"/>
            <a:ext cx="8512200" cy="65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o far, we’ve been looking at systems having a fixed amount of total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microstates with that same total energy are possible microstate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ll macrostates that have that total energy are possible, and the one with the maximum number of microstates (“multiplicity”) is the one we s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(Actually, there are many similar states with “almost” the same macro-observables that are also seen.  Remember there are fluctuation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f the energy can change a b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here does that energy come from??     A Thermal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in Thermal Equilibrium with a heat bat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ase, a microstate, n, has a probability controlled by the temperature and the microstate energy,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It’s proportional to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the Boltzmann Factor.  Unlike constant energy systems, here the probability of a microstate is not the same for all microstates.  The probability is found by normalizing the Boltzmann Factor using the partition function, Z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). 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(n) = e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-E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/k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fore only microstates with a specified total energy were possible. 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all microstates are possible, not just those with a specified total energy. 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ld: fixed energy ensemble         New: thermal ensemble –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509800" y="592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4"/>
          <p:cNvSpPr/>
          <p:nvPr/>
        </p:nvSpPr>
        <p:spPr>
          <a:xfrm>
            <a:off x="7986600" y="5165640"/>
            <a:ext cx="706680" cy="889200"/>
          </a:xfrm>
          <a:custGeom>
            <a:avLst/>
            <a:gdLst/>
            <a:ahLst/>
            <a:rect l="l" t="t" r="r" b="b"/>
            <a:pathLst>
              <a:path w="606001" h="612959">
                <a:moveTo>
                  <a:pt x="0" y="126576"/>
                </a:moveTo>
                <a:cubicBezTo>
                  <a:pt x="116732" y="61725"/>
                  <a:pt x="233464" y="-3126"/>
                  <a:pt x="330740" y="116"/>
                </a:cubicBezTo>
                <a:cubicBezTo>
                  <a:pt x="428016" y="3358"/>
                  <a:pt x="539885" y="43891"/>
                  <a:pt x="583659" y="146031"/>
                </a:cubicBezTo>
                <a:cubicBezTo>
                  <a:pt x="627433" y="248171"/>
                  <a:pt x="593387" y="612959"/>
                  <a:pt x="593387" y="612959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7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81" name="Text Box 40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43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6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88" name="Group 7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89" name="Oval 8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0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92" name="Oval 11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2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13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95" name="Oval 14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5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6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98" name="Oval 17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8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9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401" name="Oval 20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1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22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404" name="Oval 23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24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25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407" name="Oval 26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27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28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410" name="Oval 29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30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31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413" name="Oval 32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33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34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416" name="Oval 35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36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Text Box 38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9" name="Object 41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Group 46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422" name="Text Box 37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45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053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26" name="Picture 2120" descr="brain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128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1052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29" name="Group 2127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30" name="Object 2108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1" name="Object 2122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2" name="Line 2123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2124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2125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2126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2133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37" name="Line 2131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Text Box 2132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Object 19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21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AutoShape 93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97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98"/>
          <p:cNvSpPr/>
          <p:nvPr/>
        </p:nvSpPr>
        <p:spPr>
          <a:xfrm>
            <a:off x="387720" y="971640"/>
            <a:ext cx="839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for one spin, using Boltzmann factors to obtain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 for one sp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 (note one-spin probabilities,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 N give answ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111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47" name="Object 101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8" name="Object 10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9" name="Object 102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0" name="Object 10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1" name="Line 103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04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05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06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108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09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Rectangle 113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4"/>
          <p:cNvGrpSpPr/>
          <p:nvPr/>
        </p:nvGrpSpPr>
        <p:grpSpPr>
          <a:xfrm>
            <a:off x="514440" y="4400640"/>
            <a:ext cx="6815160" cy="1991160"/>
            <a:chOff x="514440" y="4400640"/>
            <a:chExt cx="6815160" cy="1991160"/>
          </a:xfrm>
        </p:grpSpPr>
        <p:sp>
          <p:nvSpPr>
            <p:cNvPr id="459" name="Rectangle 3"/>
            <p:cNvSpPr/>
            <p:nvPr/>
          </p:nvSpPr>
          <p:spPr>
            <a:xfrm>
              <a:off x="514440" y="440064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2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61" name="Object 4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63" name="Group 23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64" name="Text Box 74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70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Line 71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72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Text Box 73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Text Box 75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Line 3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Freeform 5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6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Object 13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Text Box 14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16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18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9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21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c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realistic system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8" name="Object 5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Text Box 6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396720" y="1103400"/>
            <a:ext cx="8578800" cy="2925720"/>
            <a:chOff x="396720" y="1103400"/>
            <a:chExt cx="8578800" cy="2925720"/>
          </a:xfrm>
        </p:grpSpPr>
        <p:sp>
          <p:nvSpPr>
            <p:cNvPr id="514" name="Rectangle 4"/>
            <p:cNvSpPr/>
            <p:nvPr/>
          </p:nvSpPr>
          <p:spPr>
            <a:xfrm>
              <a:off x="396720" y="110340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5" name="Object 5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7" name="Object 1"/>
          <p:cNvGraphicFramePr/>
          <p:nvPr/>
        </p:nvGraphicFramePr>
        <p:xfrm>
          <a:off x="4108320" y="499896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499896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0" descr="030_Sa063dav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0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5" name="Oval 11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3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Line 14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27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quantum state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or each part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add all the par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#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“Boltzmann factor”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Text Box 3112"/>
          <p:cNvSpPr/>
          <p:nvPr/>
        </p:nvSpPr>
        <p:spPr>
          <a:xfrm>
            <a:off x="417600" y="1058760"/>
            <a:ext cx="866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have a fixed TOTAL energy, but they can exchange energy, volume, particles, etc.  Each individual system is at a fixed temperature, no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3118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1" name="Rectangle 3113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114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3115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 Box 3117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Rectangle 3119"/>
          <p:cNvSpPr/>
          <p:nvPr/>
        </p:nvSpPr>
        <p:spPr>
          <a:xfrm>
            <a:off x="401760" y="5145120"/>
            <a:ext cx="522576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120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059360" y="3236760"/>
            <a:ext cx="373212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125280" y="4924440"/>
            <a:ext cx="901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39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2" name="Text Box 4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6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4" name="Line 7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8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9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10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11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12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4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1" name="Line 15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16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17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Line 18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Line 19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20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21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22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23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24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25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26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27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28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29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0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31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32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Text Box 36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8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Rectangle 40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2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131760" y="5183280"/>
            <a:ext cx="9018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1581120" y="1298520"/>
            <a:ext cx="7327800" cy="23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2"/>
          <p:cNvSpPr/>
          <p:nvPr/>
        </p:nvSpPr>
        <p:spPr>
          <a:xfrm>
            <a:off x="358920" y="277920"/>
            <a:ext cx="7888320" cy="5638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700920" y="407880"/>
            <a:ext cx="7753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icit Worksh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 at the states when the single oscillator, n, has one quantum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the other three are sharing 3 qua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10"/>
          <p:cNvGrpSpPr/>
          <p:nvPr/>
        </p:nvGrpSpPr>
        <p:grpSpPr>
          <a:xfrm>
            <a:off x="3191040" y="1652760"/>
            <a:ext cx="2743200" cy="4514760"/>
            <a:chOff x="3191040" y="1652760"/>
            <a:chExt cx="2743200" cy="4514760"/>
          </a:xfrm>
        </p:grpSpPr>
        <p:sp>
          <p:nvSpPr>
            <p:cNvPr id="135" name="Straight Connector 3"/>
            <p:cNvSpPr/>
            <p:nvPr/>
          </p:nvSpPr>
          <p:spPr>
            <a:xfrm>
              <a:off x="3191040" y="204336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Straight Connector 4"/>
            <p:cNvSpPr/>
            <p:nvPr/>
          </p:nvSpPr>
          <p:spPr>
            <a:xfrm>
              <a:off x="4102200" y="204984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Straight Connector 5"/>
            <p:cNvSpPr/>
            <p:nvPr/>
          </p:nvSpPr>
          <p:spPr>
            <a:xfrm>
              <a:off x="5013360" y="204660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Straight Connector 6"/>
            <p:cNvSpPr/>
            <p:nvPr/>
          </p:nvSpPr>
          <p:spPr>
            <a:xfrm>
              <a:off x="5934240" y="205308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Box 7"/>
            <p:cNvSpPr/>
            <p:nvPr/>
          </p:nvSpPr>
          <p:spPr>
            <a:xfrm>
              <a:off x="3513600" y="1672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Box 8"/>
            <p:cNvSpPr/>
            <p:nvPr/>
          </p:nvSpPr>
          <p:spPr>
            <a:xfrm>
              <a:off x="4438080" y="16527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ush Script MT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Box 9"/>
            <p:cNvSpPr/>
            <p:nvPr/>
          </p:nvSpPr>
          <p:spPr>
            <a:xfrm>
              <a:off x="5307840" y="16722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Straight Connector 10"/>
          <p:cNvSpPr/>
          <p:nvPr/>
        </p:nvSpPr>
        <p:spPr>
          <a:xfrm>
            <a:off x="358920" y="277920"/>
            <a:ext cx="7888320" cy="5638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   From befor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q) ~ q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7778880" y="1155600"/>
            <a:ext cx="7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Object 95"/>
          <p:cNvGraphicFramePr/>
          <p:nvPr/>
        </p:nvGraphicFramePr>
        <p:xfrm>
          <a:off x="7061040" y="1519200"/>
          <a:ext cx="168300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1040" y="1519200"/>
                    <a:ext cx="168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99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56" name="Line 3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6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9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10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5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8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46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47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6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97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98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5" name="Object 100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7" name="Group 1"/>
          <p:cNvGrpSpPr/>
          <p:nvPr/>
        </p:nvGrpSpPr>
        <p:grpSpPr>
          <a:xfrm>
            <a:off x="6808680" y="2581200"/>
            <a:ext cx="2230560" cy="1532160"/>
            <a:chOff x="6808680" y="2581200"/>
            <a:chExt cx="2230560" cy="1532160"/>
          </a:xfrm>
        </p:grpSpPr>
        <p:graphicFrame>
          <p:nvGraphicFramePr>
            <p:cNvPr id="178" name="Object 90"/>
            <p:cNvGraphicFramePr/>
            <p:nvPr/>
          </p:nvGraphicFramePr>
          <p:xfrm>
            <a:off x="6808680" y="2924280"/>
            <a:ext cx="2230560" cy="118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9" name="Object 9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8680" y="2924280"/>
                      <a:ext cx="223056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Text Box 38"/>
            <p:cNvSpPr/>
            <p:nvPr/>
          </p:nvSpPr>
          <p:spPr>
            <a:xfrm>
              <a:off x="7776000" y="25812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5-04-06T14:47:48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