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2B6BF02-0150-4D19-976C-D855D49D62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59FC4C77-C89C-480E-8F18-A87331215BD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9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9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63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8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1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78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58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414360" y="797040"/>
            <a:ext cx="76104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Equilibrium corresponds to maximum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=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+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small system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aw that minimizing F is equivalent to maximizing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but with the advantage that we don’t have to deal explicitly with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now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wo small systems in equilibrium with a reservoir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(not shown) at temperature T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quilibrium at temperature           T is given by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minimizing total fre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F =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e derivative of free energy with respect to particle number i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o important that we define a special name and symbol for i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15552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7201800" y="4183920"/>
            <a:ext cx="1962360" cy="983160"/>
            <a:chOff x="7201800" y="4183920"/>
            <a:chExt cx="1962360" cy="983160"/>
          </a:xfrm>
        </p:grpSpPr>
        <p:grpSp>
          <p:nvGrpSpPr>
            <p:cNvPr id="467" name=""/>
            <p:cNvGrpSpPr/>
            <p:nvPr/>
          </p:nvGrpSpPr>
          <p:grpSpPr>
            <a:xfrm>
              <a:off x="8430840" y="4438440"/>
              <a:ext cx="733320" cy="263160"/>
              <a:chOff x="8430840" y="4438440"/>
              <a:chExt cx="733320" cy="263160"/>
            </a:xfrm>
          </p:grpSpPr>
          <p:sp>
            <p:nvSpPr>
              <p:cNvPr id="468" name=""/>
              <p:cNvSpPr/>
              <p:nvPr/>
            </p:nvSpPr>
            <p:spPr>
              <a:xfrm>
                <a:off x="8539920" y="457956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430840" y="443844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7765920" y="4579920"/>
              <a:ext cx="675000" cy="447480"/>
            </a:xfrm>
            <a:custGeom>
              <a:avLst/>
              <a:gdLst/>
              <a:ahLst/>
              <a:rect l="l" t="t" r="r" b="b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01800" y="418392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486560" y="433692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96280" y="4527360"/>
              <a:ext cx="118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303320" y="2903400"/>
            <a:ext cx="1702440" cy="843840"/>
            <a:chOff x="7303320" y="2903400"/>
            <a:chExt cx="1702440" cy="843840"/>
          </a:xfrm>
        </p:grpSpPr>
        <p:grpSp>
          <p:nvGrpSpPr>
            <p:cNvPr id="475" name=""/>
            <p:cNvGrpSpPr/>
            <p:nvPr/>
          </p:nvGrpSpPr>
          <p:grpSpPr>
            <a:xfrm>
              <a:off x="7303320" y="2903400"/>
              <a:ext cx="1702440" cy="843840"/>
              <a:chOff x="7303320" y="2903400"/>
              <a:chExt cx="1702440" cy="8438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303320" y="3549240"/>
                <a:ext cx="740160" cy="188280"/>
                <a:chOff x="7303320" y="3549240"/>
                <a:chExt cx="740160" cy="1882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7303320" y="354924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414560" y="361548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267040" y="3558600"/>
                <a:ext cx="738720" cy="188640"/>
                <a:chOff x="8267040" y="3558600"/>
                <a:chExt cx="738720" cy="1886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8267040" y="35586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376840" y="362520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7327800" y="2903400"/>
                <a:ext cx="1523520" cy="570960"/>
                <a:chOff x="7327800" y="2903400"/>
                <a:chExt cx="1523520" cy="570960"/>
              </a:xfrm>
            </p:grpSpPr>
            <p:grpSp>
              <p:nvGrpSpPr>
                <p:cNvPr id="483" name=""/>
                <p:cNvGrpSpPr/>
                <p:nvPr/>
              </p:nvGrpSpPr>
              <p:grpSpPr>
                <a:xfrm>
                  <a:off x="7327800" y="2903400"/>
                  <a:ext cx="1523520" cy="570960"/>
                  <a:chOff x="7327800" y="2903400"/>
                  <a:chExt cx="1523520" cy="5709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7327800" y="290340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732780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8051400" y="2903400"/>
                    <a:ext cx="1440" cy="570600"/>
                    <a:chOff x="8051400" y="2903400"/>
                    <a:chExt cx="1440" cy="57060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805140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805140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9" name=""/>
                  <p:cNvSpPr/>
                  <p:nvPr/>
                </p:nvSpPr>
                <p:spPr>
                  <a:xfrm>
                    <a:off x="7340400" y="346176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051400" y="314460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8051400" y="32457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8470440" y="2903400"/>
                    <a:ext cx="1440" cy="570600"/>
                    <a:chOff x="8470440" y="2903400"/>
                    <a:chExt cx="1440" cy="57060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847044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847044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5" name=""/>
                  <p:cNvSpPr/>
                  <p:nvPr/>
                </p:nvSpPr>
                <p:spPr>
                  <a:xfrm>
                    <a:off x="8470440" y="290340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8484840" y="346176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883872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>
                  <a:off x="7543440" y="316980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695720" y="332208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353000" y="329652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708680" y="303012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518240" y="296676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860960" y="323316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675280" y="300492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46760" y="314460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686440" y="33346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7" name=""/>
            <p:cNvSpPr/>
            <p:nvPr/>
          </p:nvSpPr>
          <p:spPr>
            <a:xfrm flipV="1">
              <a:off x="8129520" y="304452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04800" y="5499000"/>
            <a:ext cx="5294520" cy="633240"/>
            <a:chOff x="604800" y="5499000"/>
            <a:chExt cx="5294520" cy="633240"/>
          </a:xfrm>
        </p:grpSpPr>
        <p:grpSp>
          <p:nvGrpSpPr>
            <p:cNvPr id="509" name=""/>
            <p:cNvGrpSpPr/>
            <p:nvPr/>
          </p:nvGrpSpPr>
          <p:grpSpPr>
            <a:xfrm>
              <a:off x="695520" y="5520960"/>
              <a:ext cx="5203800" cy="600120"/>
              <a:chOff x="695520" y="5520960"/>
              <a:chExt cx="5203800" cy="600120"/>
            </a:xfrm>
          </p:grpSpPr>
          <p:sp>
            <p:nvSpPr>
              <p:cNvPr id="510" name=""/>
              <p:cNvSpPr/>
              <p:nvPr/>
            </p:nvSpPr>
            <p:spPr>
              <a:xfrm>
                <a:off x="1369080" y="5700600"/>
                <a:ext cx="4530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The chemical potential of subsystem “i”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11" name=""/>
              <p:cNvGraphicFramePr/>
              <p:nvPr/>
            </p:nvGraphicFramePr>
            <p:xfrm>
              <a:off x="695520" y="5520960"/>
              <a:ext cx="833400" cy="600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5520" y="5520960"/>
                        <a:ext cx="833400" cy="60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13" name=""/>
            <p:cNvSpPr/>
            <p:nvPr/>
          </p:nvSpPr>
          <p:spPr>
            <a:xfrm>
              <a:off x="604800" y="5499000"/>
              <a:ext cx="5046840" cy="633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0" y="4245120"/>
            <a:ext cx="8031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515960" y="4068720"/>
          <a:ext cx="27734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5960" y="4068720"/>
                    <a:ext cx="2773440" cy="76824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3570120" y="6253200"/>
          <a:ext cx="25927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0120" y="6253200"/>
                    <a:ext cx="2592720" cy="39528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912960" y="6245280"/>
            <a:ext cx="25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condi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2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7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95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4720" y="4611600"/>
            <a:ext cx="801864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–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small, the energy term dominates, and F is minimized by having all particles in the system with the lowest energy, e.g., system 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big, the entropy term dominates, and F is minimized by allowing the particles to be in both systems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microstat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about for intermediate values of T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3680" y="4076640"/>
            <a:ext cx="3319200" cy="493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10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10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1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1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2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2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2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2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3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3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7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6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81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6T22:38:26Z</dcterms:modified>
  <cp:revision>5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