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18240" y="9147240"/>
            <a:ext cx="128052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7160" bIns="471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1A22002C-F09C-4806-B2E0-08ACBF38660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tomic molecul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ringy” molecul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 app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d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Hot air ball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LN2 can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Dry ice on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He/N2 whis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0128"/>
                </a:solidFill>
                <a:latin typeface="Arial"/>
              </a:rPr>
              <a:t>Fir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http://galileo.phys.virginia.edu/classes/109N/more_stuff/Applets/Piston/jarapple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intro.chem.okstate.edu/1314F00/Laboratory/GLP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This is sometimes important, when the interaction of one component of a gas depends </a:t>
            </a:r>
            <a:br>
              <a:rPr sz="1200"/>
            </a:b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only on the pressure of that compon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26828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1 liter =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1 atm =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/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14 p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 them alpha-ideal gases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77760" y="4560480"/>
            <a:ext cx="535968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gizmodo.com/gadgets/darwin-at-work/why-you-shouldnt-smash-a-can-of-wd+40-280250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.aol.com/video-detail/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v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e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n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plos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2000-fps/2303150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77760" y="4560480"/>
            <a:ext cx="535968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gizmodo.com/gadgets/darwin-at-work/why-you-shouldnt-smash-a-can-of-wd+40-280250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.aol.com/video-detail/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v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e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n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plos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2000-fps/2303150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26828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18ffd"/>
                </a:solidFill>
                <a:latin typeface="Arial"/>
              </a:rPr>
              <a:t>How cold can you get?  &lt; 100pK presen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cycle pu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re-starter demo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26828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Wilberforce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Computer demo – start with all he. Add one Neon. Although it moves more slowly, the mass makes up for it, so that the average energy is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77760" y="4560480"/>
            <a:ext cx="535968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 chalk dust –floats; erasers don’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nstration with He: show that v goes like 1/sqrt(m).  And v_sound ~ v.  So, if we blow into a pipe with He (4) instead of N2 (28), we expect a higher pitch [by sqrt(28/4), though it doesn’t work out precisely that way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0128"/>
                </a:solidFill>
                <a:latin typeface="Arial"/>
              </a:rPr>
              <a:t>http://galileo.phys.virginia.edu/classes/109N/more_stuff/Applets/Piston/jarapple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Hot air balloon: constant P, increase T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ncrease V, lower rho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ouy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N Can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Ask what’s changing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N cannon is not due to the gas heating up, but the change in state – N is chang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062920" y="6632640"/>
            <a:ext cx="108108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, p </a:t>
            </a:r>
            <a:fld id="{A9C0B119-689B-40E0-B698-CEEFAE0C348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3, p </a:t>
            </a:r>
            <a:fld id="{261A0F11-FA90-4620-8157-3F11436BE89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ntro.chem.okstate.edu/1314F00/Laboratory/GLP.htm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6280200" y="1479600"/>
            <a:ext cx="1809720" cy="2155680"/>
            <a:chOff x="6280200" y="1479600"/>
            <a:chExt cx="1809720" cy="2155680"/>
          </a:xfrm>
        </p:grpSpPr>
        <p:grpSp>
          <p:nvGrpSpPr>
            <p:cNvPr id="85" name=""/>
            <p:cNvGrpSpPr/>
            <p:nvPr/>
          </p:nvGrpSpPr>
          <p:grpSpPr>
            <a:xfrm>
              <a:off x="6513480" y="1479600"/>
              <a:ext cx="1413000" cy="1341360"/>
              <a:chOff x="6513480" y="1479600"/>
              <a:chExt cx="1413000" cy="1341360"/>
            </a:xfrm>
          </p:grpSpPr>
          <p:sp>
            <p:nvSpPr>
              <p:cNvPr id="86" name=""/>
              <p:cNvSpPr/>
              <p:nvPr/>
            </p:nvSpPr>
            <p:spPr>
              <a:xfrm>
                <a:off x="6932880" y="2435040"/>
                <a:ext cx="6984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518520" y="1579320"/>
                <a:ext cx="96840" cy="123192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645240" y="1785960"/>
                <a:ext cx="1157400" cy="187200"/>
              </a:xfrm>
              <a:prstGeom prst="rect">
                <a:avLst/>
              </a:prstGeom>
              <a:solidFill>
                <a:srgbClr val="7144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513480" y="2762280"/>
                <a:ext cx="1378080" cy="5868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829640" y="1585800"/>
                <a:ext cx="96840" cy="123192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077240" y="2538360"/>
                <a:ext cx="6984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243920" y="2355840"/>
                <a:ext cx="6840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11160" bIns="-111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932880" y="217800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077240" y="228132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243920" y="2097000"/>
                <a:ext cx="6840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11160" bIns="-111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294680" y="248760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439040" y="2590560"/>
                <a:ext cx="69840" cy="478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05720" y="2408040"/>
                <a:ext cx="68400" cy="478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11880" bIns="-1188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388280" y="220176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533000" y="230508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533000" y="204624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737400" y="2511360"/>
                <a:ext cx="6840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6882120" y="2614680"/>
                <a:ext cx="680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737400" y="2046240"/>
                <a:ext cx="6840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809040" y="2252520"/>
                <a:ext cx="6984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170840" y="2665440"/>
                <a:ext cx="69840" cy="489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677360" y="261468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026480" y="204624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9" name=""/>
              <p:cNvGrpSpPr/>
              <p:nvPr/>
            </p:nvGrpSpPr>
            <p:grpSpPr>
              <a:xfrm>
                <a:off x="7004160" y="1479600"/>
                <a:ext cx="433440" cy="309600"/>
                <a:chOff x="7004160" y="1479600"/>
                <a:chExt cx="433440" cy="30960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7221600" y="1479600"/>
                  <a:ext cx="0" cy="309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7004160" y="1479600"/>
                  <a:ext cx="0" cy="309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7437600" y="1479600"/>
                  <a:ext cx="0" cy="309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3" name=""/>
            <p:cNvGrpSpPr/>
            <p:nvPr/>
          </p:nvGrpSpPr>
          <p:grpSpPr>
            <a:xfrm>
              <a:off x="6280200" y="2835360"/>
              <a:ext cx="1809720" cy="799920"/>
              <a:chOff x="6280200" y="2835360"/>
              <a:chExt cx="1809720" cy="799920"/>
            </a:xfrm>
          </p:grpSpPr>
          <p:grpSp>
            <p:nvGrpSpPr>
              <p:cNvPr id="114" name=""/>
              <p:cNvGrpSpPr/>
              <p:nvPr/>
            </p:nvGrpSpPr>
            <p:grpSpPr>
              <a:xfrm>
                <a:off x="6280200" y="3197160"/>
                <a:ext cx="1809720" cy="438120"/>
                <a:chOff x="6280200" y="3197160"/>
                <a:chExt cx="1809720" cy="43812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6280200" y="3197160"/>
                  <a:ext cx="1809720" cy="206280"/>
                </a:xfrm>
                <a:prstGeom prst="rect">
                  <a:avLst/>
                </a:prstGeom>
                <a:solidFill>
                  <a:srgbClr val="a500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6280200" y="3251160"/>
                  <a:ext cx="1809720" cy="384120"/>
                </a:xfrm>
                <a:prstGeom prst="rect">
                  <a:avLst/>
                </a:prstGeom>
                <a:solidFill>
                  <a:srgbClr val="a500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marL="285840" indent="-285840">
                    <a:lnSpc>
                      <a:spcPct val="6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hermal reservoi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" name=""/>
              <p:cNvSpPr/>
              <p:nvPr/>
            </p:nvSpPr>
            <p:spPr>
              <a:xfrm>
                <a:off x="7221600" y="2835360"/>
                <a:ext cx="0" cy="3092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004160" y="2835360"/>
                <a:ext cx="0" cy="3092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439040" y="2835360"/>
                <a:ext cx="0" cy="3092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20" name=""/>
          <p:cNvGraphicFramePr/>
          <p:nvPr/>
        </p:nvGraphicFramePr>
        <p:xfrm>
          <a:off x="5295960" y="3848040"/>
          <a:ext cx="3287520" cy="257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95960" y="3848040"/>
                    <a:ext cx="3287520" cy="257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507960" y="1700280"/>
            <a:ext cx="4641840" cy="16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5000"/>
          </a:bodyPr>
          <a:p>
            <a:pPr marL="148320" indent="-14832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cc"/>
                </a:solidFill>
                <a:latin typeface="Arial"/>
              </a:rPr>
              <a:t>Toda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quipart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 Law of Thermodynam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Intern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He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19120" y="65160"/>
            <a:ext cx="629928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ecture 2: Ideal Gas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51000" y="6022800"/>
            <a:ext cx="46418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8600" indent="-2286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ading: Elements Ch. 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6934320" y="1295280"/>
          <a:ext cx="1350720" cy="139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1295280"/>
                    <a:ext cx="135072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638280" y="1208160"/>
            <a:ext cx="6669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fixed volume of an ideal gas. Becaus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V = NkT, if you double either T or N, p goes up by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factor of 2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you double N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many times as oft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 a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ular molecule hit the container wall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.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078560" y="66600"/>
            <a:ext cx="69030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 Ideal gas behavi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0" name=""/>
          <p:cNvGraphicFramePr/>
          <p:nvPr/>
        </p:nvGraphicFramePr>
        <p:xfrm>
          <a:off x="6934320" y="1295280"/>
          <a:ext cx="1350720" cy="139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1295280"/>
                    <a:ext cx="135072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"/>
          <p:cNvSpPr/>
          <p:nvPr/>
        </p:nvSpPr>
        <p:spPr>
          <a:xfrm>
            <a:off x="638280" y="1208160"/>
            <a:ext cx="6669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fixed volume of an ideal gas. Becaus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V = NkT, if you double either T or N, p goes up by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factor of 2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you double N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many times as oft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 a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ular molecule hit the container wall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.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60240" y="4175280"/>
            <a:ext cx="72964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n an ideal gas, the molecules are  non-interacting except for occasional elastic collisions, so the motion of an individual molecule does not depend on the other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total collision rate is proportional to N, but the rate per molecule is independent of 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168000" y="66600"/>
            <a:ext cx="27212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84280" y="3317760"/>
            <a:ext cx="866520" cy="462240"/>
          </a:xfrm>
          <a:prstGeom prst="rect">
            <a:avLst/>
          </a:prstGeom>
          <a:noFill/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264960" y="61920"/>
            <a:ext cx="859788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alton’s Law of Partial Pressures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for Ideal Gas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24160" y="1274760"/>
            <a:ext cx="8097840" cy="44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 derivation of pV=NkT, we never assumed that the molecul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re all the same.  All we used was equipartition and that they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n’t interact much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is the total number of molecules in the gas, independent of typ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p is proportional to N, if a gas has multiple components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pressure is the sum of the individual partial pressur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 where p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kT / 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ir is 78% N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by number of molecules, not by mass), so the partia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essure of the N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0.78 atmospher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58480" y="5592600"/>
            <a:ext cx="8346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: Dalton’s law does not hold for internal energy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the energy per molecule </a:t>
            </a:r>
            <a:r>
              <a:rPr b="1" i="1" lang="en-US" sz="2000" spc="-1" strike="noStrike">
                <a:solidFill>
                  <a:srgbClr val="00ffcc"/>
                </a:solidFill>
                <a:latin typeface="Arial"/>
              </a:rPr>
              <a:t>do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pend on the type.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energy per molecule is proportional to the number of energy mod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71200" y="65160"/>
            <a:ext cx="7418520" cy="1077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 Avogadro Constant, N</a:t>
            </a:r>
            <a:r>
              <a:rPr b="0" lang="en-US" sz="4000" spc="-1" strike="noStrike" baseline="-25000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 and the Gas Constant, R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64920" y="14871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6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metimes it is useful to specify the number of moles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stead of the number of atoms or molecules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ideal gas law can be written in terms of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r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pV = NkT = n(N</a:t>
            </a:r>
            <a:r>
              <a:rPr b="0" i="1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k)T = nR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R </a:t>
            </a:r>
            <a:r>
              <a:rPr b="0" i="1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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 N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the gas constant = 8.314 J/mol-K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one mole of an ideal gas at atmospheric pressure and 0º C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 = 0º C = 273 K, and p = 1 atm = 1.01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  <a:ea typeface="Arial"/>
              </a:rPr>
              <a:t>5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Pa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1359000" y="2205000"/>
          <a:ext cx="1228680" cy="72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9000" y="2205000"/>
                    <a:ext cx="122868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"/>
          <p:cNvSpPr/>
          <p:nvPr/>
        </p:nvSpPr>
        <p:spPr>
          <a:xfrm>
            <a:off x="2994480" y="2182680"/>
            <a:ext cx="414864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Arial"/>
              </a:rPr>
              <a:t>A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6.022 x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3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lecules/mo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Avogadro consta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1373040" y="5500800"/>
          <a:ext cx="5346720" cy="641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3040" y="5500800"/>
                    <a:ext cx="5346720" cy="64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"/>
          <p:cNvSpPr/>
          <p:nvPr/>
        </p:nvSpPr>
        <p:spPr>
          <a:xfrm>
            <a:off x="1130400" y="96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450720" y="1149480"/>
            <a:ext cx="82375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” means Equipartition applies: U 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kT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” means that the molecules interact very weakly (no liquids or solids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s constant over limited ranges of temperatures (cf Elements, Ch. 3C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089000" y="260280"/>
            <a:ext cx="698832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nternal Energy of a Classical Ideal G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86680" y="1910520"/>
            <a:ext cx="173664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afd00"/>
                </a:solidFill>
                <a:latin typeface="Arial"/>
              </a:rPr>
              <a:t>At room temperature, </a:t>
            </a:r>
            <a:br>
              <a:rPr sz="1200"/>
            </a:br>
            <a:r>
              <a:rPr b="1" i="1" lang="en-US" sz="1200" spc="-1" strike="noStrike">
                <a:solidFill>
                  <a:srgbClr val="fafd00"/>
                </a:solidFill>
                <a:latin typeface="Arial"/>
              </a:rPr>
              <a:t>for most gases</a:t>
            </a:r>
            <a:r>
              <a:rPr b="1" i="1" lang="en-US" sz="900" spc="-1" strike="noStrike">
                <a:solidFill>
                  <a:srgbClr val="fafd00"/>
                </a:solidFill>
                <a:latin typeface="Arial"/>
              </a:rPr>
              <a:t>: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65200" y="2538360"/>
            <a:ext cx="296640" cy="290520"/>
          </a:xfrm>
          <a:prstGeom prst="ellips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6421320" y="2527200"/>
          <a:ext cx="1138320" cy="3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1320" y="2527200"/>
                    <a:ext cx="1138320" cy="3780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63" name=""/>
          <p:cNvSpPr/>
          <p:nvPr/>
        </p:nvSpPr>
        <p:spPr>
          <a:xfrm>
            <a:off x="1472760" y="2433600"/>
            <a:ext cx="4401360" cy="43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natomic ga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He, Ne, Ar, …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translational modes (x, y, z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tomic rigid molecul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(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CO, …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translational modes (x, y, z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 2 rotational modes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n-linear rigid molecul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(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, N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…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translational modes (x, y, z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 3 rotational modes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y classical ideal ga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pends on the type of molecu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6421320" y="3511440"/>
          <a:ext cx="1089000" cy="38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21320" y="3511440"/>
                    <a:ext cx="1089000" cy="3859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66" name=""/>
          <p:cNvGrpSpPr/>
          <p:nvPr/>
        </p:nvGrpSpPr>
        <p:grpSpPr>
          <a:xfrm>
            <a:off x="398520" y="3554280"/>
            <a:ext cx="742680" cy="290520"/>
            <a:chOff x="398520" y="3554280"/>
            <a:chExt cx="742680" cy="290520"/>
          </a:xfrm>
        </p:grpSpPr>
        <p:sp>
          <p:nvSpPr>
            <p:cNvPr id="267" name=""/>
            <p:cNvSpPr/>
            <p:nvPr/>
          </p:nvSpPr>
          <p:spPr>
            <a:xfrm>
              <a:off x="398520" y="3554280"/>
              <a:ext cx="297000" cy="29052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44200" y="3554280"/>
              <a:ext cx="297000" cy="29052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5400" y="3699360"/>
              <a:ext cx="445680" cy="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425520" y="4606920"/>
            <a:ext cx="742680" cy="651960"/>
            <a:chOff x="425520" y="4606920"/>
            <a:chExt cx="742680" cy="651960"/>
          </a:xfrm>
        </p:grpSpPr>
        <p:sp>
          <p:nvSpPr>
            <p:cNvPr id="271" name=""/>
            <p:cNvSpPr/>
            <p:nvPr/>
          </p:nvSpPr>
          <p:spPr>
            <a:xfrm>
              <a:off x="425520" y="4606920"/>
              <a:ext cx="297000" cy="28980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71200" y="4606920"/>
              <a:ext cx="297000" cy="28980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48360" y="4969440"/>
              <a:ext cx="297000" cy="28944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74200" y="4752000"/>
              <a:ext cx="222840" cy="36216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797040" y="4752000"/>
              <a:ext cx="222840" cy="36216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76" name=""/>
          <p:cNvGraphicFramePr/>
          <p:nvPr/>
        </p:nvGraphicFramePr>
        <p:xfrm>
          <a:off x="6421320" y="4614840"/>
          <a:ext cx="1001880" cy="311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21320" y="4614840"/>
                    <a:ext cx="1001880" cy="3110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455760" y="6448320"/>
            <a:ext cx="731016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se relations for ideal gases only apply in some ranges of 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6423120" y="5719680"/>
          <a:ext cx="1711080" cy="355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23120" y="5719680"/>
                    <a:ext cx="1711080" cy="3556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-157680" y="484200"/>
            <a:ext cx="9301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nternal Energy of a Gas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2" name=""/>
          <p:cNvSpPr/>
          <p:nvPr/>
        </p:nvSpPr>
        <p:spPr>
          <a:xfrm>
            <a:off x="666720" y="1436760"/>
            <a:ext cx="767556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ressurized gas bottle (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V = 0.05 m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, contains helium gas at a press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p = 1x10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P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temperat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What is the internal thermal energy of this gas?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157680" y="484200"/>
            <a:ext cx="9301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4" name=""/>
          <p:cNvSpPr/>
          <p:nvPr/>
        </p:nvSpPr>
        <p:spPr>
          <a:xfrm>
            <a:off x="666720" y="1436760"/>
            <a:ext cx="767556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ressurized gas bottle (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V = 0.05 m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, contains helium gas at a press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p = 1x10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P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temperat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What is the internal thermal energy of this gas?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82840" y="2678040"/>
            <a:ext cx="1287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olutio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3352680" y="3059280"/>
                <a:ext cx="40068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Pa</m:t>
                        </m:r>
                      </m:e>
                    </m:d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7" name=""/>
          <p:cNvSpPr/>
          <p:nvPr/>
        </p:nvSpPr>
        <p:spPr>
          <a:xfrm>
            <a:off x="6224760" y="3056040"/>
            <a:ext cx="1144440" cy="3841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1403280" y="2978280"/>
                <a:ext cx="189252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p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9" name=""/>
          <p:cNvSpPr/>
          <p:nvPr/>
        </p:nvSpPr>
        <p:spPr>
          <a:xfrm>
            <a:off x="941760" y="4019400"/>
            <a:ext cx="3082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is is a LOT of energy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61960" y="65160"/>
            <a:ext cx="8212320" cy="69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: Internal Energy of a Gas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1" name=""/>
          <p:cNvSpPr/>
          <p:nvPr/>
        </p:nvSpPr>
        <p:spPr>
          <a:xfrm>
            <a:off x="579600" y="1262160"/>
            <a:ext cx="783108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tainer A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gas (a monatomic gas) at 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sure 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Container B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ydrog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a diatomic gas) a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p,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mpare the thermal energ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Compare the temperatur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403280" y="65160"/>
            <a:ext cx="6329520" cy="69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:  Solution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3" name=""/>
          <p:cNvSpPr/>
          <p:nvPr/>
        </p:nvSpPr>
        <p:spPr>
          <a:xfrm>
            <a:off x="579600" y="1262160"/>
            <a:ext cx="783108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tainer A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gas (a monatomic gas) at 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sure 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Container B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ydrog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a diatomic gas) a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p,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ssume each container contains 1 mole of gas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mpare the thermal energ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Compare the temperatur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38200" y="2755800"/>
            <a:ext cx="1535040" cy="459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1571760" y="4538520"/>
          <a:ext cx="1528560" cy="45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1760" y="4538520"/>
                    <a:ext cx="1528560" cy="4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"/>
          <p:cNvGraphicFramePr/>
          <p:nvPr/>
        </p:nvGraphicFramePr>
        <p:xfrm>
          <a:off x="5586480" y="4075200"/>
          <a:ext cx="3255840" cy="109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86480" y="4075200"/>
                    <a:ext cx="3255840" cy="10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658800" y="3306600"/>
            <a:ext cx="56372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ach quadratic degree of freedom gets kT/2.  The monatomic gas has 3 degrees of freedom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diatomic gas has 3 + 2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03280" y="65160"/>
            <a:ext cx="6329520" cy="69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:  Solution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01" name=""/>
          <p:cNvSpPr/>
          <p:nvPr/>
        </p:nvSpPr>
        <p:spPr>
          <a:xfrm>
            <a:off x="579600" y="1262160"/>
            <a:ext cx="783108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tainer A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gas (a monatomic gas) at 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sure 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Container B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ydrog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a diatomic gas) a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p,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ssume each container contains 1 mole of gas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mpare the thermal energ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Compare the temperatur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38200" y="2755800"/>
            <a:ext cx="1535040" cy="459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1571760" y="4538520"/>
          <a:ext cx="1528560" cy="45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1760" y="4538520"/>
                    <a:ext cx="1528560" cy="4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5586480" y="4075200"/>
          <a:ext cx="3255840" cy="109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86480" y="4075200"/>
                    <a:ext cx="3255840" cy="10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"/>
          <p:cNvSpPr/>
          <p:nvPr/>
        </p:nvSpPr>
        <p:spPr>
          <a:xfrm>
            <a:off x="658800" y="3306600"/>
            <a:ext cx="56372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ach quadratic degree of freedom gets kT/2.  The monatomic gas has 3 degrees of freedom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diatomic gas has 3 + 2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371680" y="5513400"/>
            <a:ext cx="1535040" cy="4586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577960" y="5986440"/>
            <a:ext cx="56372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s we have defined it thus far, the temperature depends only on the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translational kinetic energy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76240" y="6091200"/>
            <a:ext cx="124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pV = Nk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-268560" y="74520"/>
            <a:ext cx="9673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Equipartition &amp;  Absolute 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emperatu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22440" y="950760"/>
            <a:ext cx="7999200" cy="46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ne of the principal aims of this course is to gain a generally applicable definition of absolute temperature from statistical mechanics (counting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ow: absolute temperature T is proportional to the average translational kinetic energy of a particle in a ga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&lt;K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ra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&gt; = constant  x 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fact, each independent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quadrati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erm in the energy of a particle in the gas  (e.g., ½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20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½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½</a:t>
            </a:r>
            <a:r>
              <a:rPr b="0" i="1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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ut not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g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s found to have the average energ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&lt;Energy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mode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&gt; = ½ k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quipartition Theor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 = Boltzmann constant = 1.38 x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2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J/K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 independent of the particle’s properties (mass, charge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t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28800" y="5337000"/>
            <a:ext cx="531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30240" y="5770440"/>
            <a:ext cx="677088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e will show later why and when this theorem appli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46160" y="4357800"/>
            <a:ext cx="6084720" cy="4921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318960" y="65160"/>
            <a:ext cx="880452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Kinetic Energy of a G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601200" y="1065240"/>
            <a:ext cx="8101080" cy="234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3000"/>
          </a:bodyPr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small room at room temperature (T = 300 K) and atmospheric pressure measures 3.0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.4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5.2 m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) Estimate  the number of molecules in the roo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) Estimate the total translational KE associated with the molecu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)  If we assume these molecules are primarily nitrogen (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molecules, what is their average (rms) spe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601560" y="1064880"/>
            <a:ext cx="8250480" cy="436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small room at room temperature (T = 300 K) and atmospheric pressure measures 3.0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.4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5.2 m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) Estimate  the number of molecules in the roo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) Estimate the total translational KE associated with the molecu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)  If we assume these molecules are primarily nitrogen (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molecules, what is their average (rms) spe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title"/>
          </p:nvPr>
        </p:nvSpPr>
        <p:spPr>
          <a:xfrm>
            <a:off x="166680" y="65160"/>
            <a:ext cx="8804160" cy="77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939960" y="2205000"/>
          <a:ext cx="6497640" cy="86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2205000"/>
                    <a:ext cx="6497640" cy="8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"/>
          <p:cNvSpPr/>
          <p:nvPr/>
        </p:nvSpPr>
        <p:spPr>
          <a:xfrm>
            <a:off x="5465880" y="2417760"/>
            <a:ext cx="1990440" cy="351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1011240" y="5032440"/>
          <a:ext cx="5937120" cy="127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11240" y="5032440"/>
                    <a:ext cx="5937120" cy="12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0" name=""/>
          <p:cNvGraphicFramePr/>
          <p:nvPr/>
        </p:nvGraphicFramePr>
        <p:xfrm>
          <a:off x="934920" y="3670200"/>
          <a:ext cx="7132680" cy="424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34920" y="3670200"/>
                    <a:ext cx="7132680" cy="4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"/>
          <p:cNvSpPr/>
          <p:nvPr/>
        </p:nvSpPr>
        <p:spPr>
          <a:xfrm>
            <a:off x="7081920" y="3656160"/>
            <a:ext cx="915840" cy="3981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054840" y="5713560"/>
            <a:ext cx="936360" cy="3664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79280" y="175680"/>
            <a:ext cx="879480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hanging the Internal Energy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25" name=""/>
          <p:cNvSpPr/>
          <p:nvPr/>
        </p:nvSpPr>
        <p:spPr>
          <a:xfrm>
            <a:off x="3059280" y="2892600"/>
            <a:ext cx="572904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is a “state” function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t depends only on the stat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system (that is, on N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p, V,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, etc.) </a:t>
            </a:r>
            <a:br>
              <a:rPr sz="1800"/>
            </a:b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does not depend on the history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 and Q are “process” energies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They only tell you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bout the flow of energy, not how much there is.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 and Q depend on the history of the system,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 it evolves from one state to anoth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10840" y="1081080"/>
            <a:ext cx="759492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 are two simple ways to change th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nternal energy (U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a system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 the environment do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ork (W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n the system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at (Q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low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o the syste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the environmen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30360" y="5759280"/>
            <a:ext cx="8707320" cy="12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menclature: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One can also talk about work don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the system on the environment: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- 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n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 Be careful about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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sign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s positive if the system expands; W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on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s positive if the system is compressed.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1041480" y="2311560"/>
            <a:ext cx="2035080" cy="3224160"/>
            <a:chOff x="1041480" y="2311560"/>
            <a:chExt cx="2035080" cy="3224160"/>
          </a:xfrm>
        </p:grpSpPr>
        <p:sp>
          <p:nvSpPr>
            <p:cNvPr id="329" name=""/>
            <p:cNvSpPr/>
            <p:nvPr/>
          </p:nvSpPr>
          <p:spPr>
            <a:xfrm>
              <a:off x="1290600" y="3273120"/>
              <a:ext cx="1219320" cy="276120"/>
            </a:xfrm>
            <a:prstGeom prst="rect">
              <a:avLst/>
            </a:prstGeom>
            <a:solidFill>
              <a:srgbClr val="7144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0" name=""/>
            <p:cNvGrpSpPr/>
            <p:nvPr/>
          </p:nvGrpSpPr>
          <p:grpSpPr>
            <a:xfrm>
              <a:off x="1152720" y="2968560"/>
              <a:ext cx="1487520" cy="1829520"/>
              <a:chOff x="1152720" y="2968560"/>
              <a:chExt cx="1487520" cy="1829520"/>
            </a:xfrm>
          </p:grpSpPr>
          <p:sp>
            <p:nvSpPr>
              <p:cNvPr id="331" name=""/>
              <p:cNvSpPr/>
              <p:nvPr/>
            </p:nvSpPr>
            <p:spPr>
              <a:xfrm>
                <a:off x="1157400" y="2968560"/>
                <a:ext cx="101520" cy="181584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152720" y="4711320"/>
                <a:ext cx="1450800" cy="8676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538360" y="2977560"/>
                <a:ext cx="101880" cy="181584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1387440" y="3655800"/>
              <a:ext cx="1063800" cy="986760"/>
              <a:chOff x="1387440" y="3655800"/>
              <a:chExt cx="1063800" cy="986760"/>
            </a:xfrm>
          </p:grpSpPr>
          <p:sp>
            <p:nvSpPr>
              <p:cNvPr id="335" name=""/>
              <p:cNvSpPr/>
              <p:nvPr/>
            </p:nvSpPr>
            <p:spPr>
              <a:xfrm>
                <a:off x="1594080" y="4230360"/>
                <a:ext cx="7272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746360" y="43826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920960" y="41126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5760" bIns="57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94080" y="3849120"/>
                <a:ext cx="7272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746360" y="400176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920960" y="373176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5760" bIns="57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974960" y="430632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2127240" y="445896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301840" y="418896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5760" bIns="57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073240" y="38840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225880" y="403668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225880" y="365580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387440" y="43412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40080" y="449388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387440" y="365580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463760" y="396036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844640" y="45698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378160" y="449388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692360" y="365580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1613160" y="2788920"/>
              <a:ext cx="465120" cy="456840"/>
              <a:chOff x="1613160" y="2788920"/>
              <a:chExt cx="465120" cy="456840"/>
            </a:xfrm>
          </p:grpSpPr>
          <p:sp>
            <p:nvSpPr>
              <p:cNvPr id="355" name=""/>
              <p:cNvSpPr/>
              <p:nvPr/>
            </p:nvSpPr>
            <p:spPr>
              <a:xfrm flipV="1">
                <a:off x="1844640" y="2788920"/>
                <a:ext cx="0" cy="4568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V="1">
                <a:off x="1613160" y="2788920"/>
                <a:ext cx="0" cy="4568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V="1">
                <a:off x="2078280" y="2788920"/>
                <a:ext cx="0" cy="4568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1041480" y="5297400"/>
              <a:ext cx="2035080" cy="2383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hermal reservo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913040" y="4848120"/>
              <a:ext cx="0" cy="456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684440" y="4848120"/>
              <a:ext cx="0" cy="456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141640" y="4848120"/>
              <a:ext cx="0" cy="456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077840" y="4875120"/>
              <a:ext cx="47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Q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576080" y="2311560"/>
              <a:ext cx="586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W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124000" y="36954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255960" y="3166920"/>
            <a:ext cx="84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eabl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st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038240" y="3419640"/>
            <a:ext cx="4125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2139840" y="1084320"/>
            <a:ext cx="491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ergy is conserved !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90520" y="65160"/>
            <a:ext cx="85694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 First Law of Thermodynamics 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69" name=""/>
          <p:cNvSpPr/>
          <p:nvPr/>
        </p:nvSpPr>
        <p:spPr>
          <a:xfrm>
            <a:off x="2779560" y="2004840"/>
            <a:ext cx="3710160" cy="648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U   =   Q  +  W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Arial"/>
              </a:rPr>
              <a:t>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605560" y="3198960"/>
            <a:ext cx="173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k done</a:t>
            </a:r>
            <a:br>
              <a:rPr sz="1800"/>
            </a:b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the 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486080" y="3156120"/>
            <a:ext cx="222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nge i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internal energ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774960" y="3184560"/>
            <a:ext cx="180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t added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657680" y="2676600"/>
            <a:ext cx="3240" cy="550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982960" y="4206960"/>
            <a:ext cx="332748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ternatively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U   =   Q  -  W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314880" y="2679840"/>
            <a:ext cx="2880" cy="550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916600" y="2679840"/>
            <a:ext cx="3240" cy="550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356120" y="5645160"/>
            <a:ext cx="63046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e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: For the rest of the course, unless explicitly stated, we will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gnore KE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CM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and only consider internal energy that does not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ontribute to the motion of the system as a whol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60120" y="-3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hat is Heat?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79" name=""/>
          <p:cNvSpPr/>
          <p:nvPr/>
        </p:nvSpPr>
        <p:spPr>
          <a:xfrm>
            <a:off x="404640" y="885960"/>
            <a:ext cx="85042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p to mid-1800’s heat was usually considered to be a distinct substance, caloric fluid, stored in an objects and transferred between objects.  In the 1840s Joule, Rumford, and others discovered that heat is energ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term “heat” (Q) is now used to describe thermal energy flow -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mal energy transferred into or out of a system from some other object that has thermal energy.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cf. cash transfers into and out of your bank account)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 not confuse heat (Q) with the system’s internal thermal energy (U)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t’s confusing the account balance with the deposits and withdrawal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ign convention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&gt; 0:  Thermal energy is flowing in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&lt; 0:   Thermal energy is flowing ou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36160" y="66240"/>
            <a:ext cx="865836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Next Time</a:t>
            </a:r>
            <a:br>
              <a:rPr sz="4000"/>
            </a:br>
            <a:br>
              <a:rPr sz="2000"/>
            </a:b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186920" y="2044440"/>
            <a:ext cx="6288120" cy="204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0000"/>
          </a:bodyPr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capacity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!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our principal processes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sochoric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sobaric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sothermal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adiabatic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5000" y="56880"/>
            <a:ext cx="8688600" cy="65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Equipartition of Energy: Examples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7710480" y="2733840"/>
            <a:ext cx="612720" cy="185040"/>
            <a:chOff x="7710480" y="2733840"/>
            <a:chExt cx="612720" cy="185040"/>
          </a:xfrm>
        </p:grpSpPr>
        <p:sp>
          <p:nvSpPr>
            <p:cNvPr id="132" name=""/>
            <p:cNvSpPr/>
            <p:nvPr/>
          </p:nvSpPr>
          <p:spPr>
            <a:xfrm>
              <a:off x="7710480" y="2733840"/>
              <a:ext cx="181080" cy="180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142480" y="2738160"/>
              <a:ext cx="180720" cy="180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907400" y="2832120"/>
              <a:ext cx="2300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106200" y="1113840"/>
            <a:ext cx="8869680" cy="55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ee point particle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nly translational kinetic energy 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(x, y, z component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lt;½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(½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verage energy is independent of mass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tomic molecule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ranslational and rotational kinetic energy</a:t>
            </a:r>
            <a:br>
              <a:rPr sz="1800"/>
            </a:b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(½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 normal temperatures, vibrations aren’t active in molecules.  We’ll see why lat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ss on a spring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Kinetic and potential energ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k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brations in solid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Kinetic + potential energy in 3 dimens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lt;½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+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+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+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the average thermal energy per ato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re are N atoms in the solid, the total thermal energy i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Nk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7613640" y="1723680"/>
            <a:ext cx="901440" cy="397440"/>
            <a:chOff x="7613640" y="1723680"/>
            <a:chExt cx="901440" cy="397440"/>
          </a:xfrm>
        </p:grpSpPr>
        <p:sp>
          <p:nvSpPr>
            <p:cNvPr id="137" name=""/>
            <p:cNvSpPr/>
            <p:nvPr/>
          </p:nvSpPr>
          <p:spPr>
            <a:xfrm>
              <a:off x="7613640" y="1815840"/>
              <a:ext cx="165240" cy="16164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7766280" y="1733400"/>
              <a:ext cx="312480" cy="12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630200" y="1723680"/>
              <a:ext cx="884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7253280" y="3776400"/>
            <a:ext cx="1780920" cy="1240200"/>
            <a:chOff x="7253280" y="3776400"/>
            <a:chExt cx="1780920" cy="1240200"/>
          </a:xfrm>
        </p:grpSpPr>
        <p:sp>
          <p:nvSpPr>
            <p:cNvPr id="141" name=""/>
            <p:cNvSpPr/>
            <p:nvPr/>
          </p:nvSpPr>
          <p:spPr>
            <a:xfrm>
              <a:off x="8321400" y="459432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253280" y="4334040"/>
              <a:ext cx="125388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94400" y="4684680"/>
              <a:ext cx="1303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7524720" y="4592520"/>
              <a:ext cx="633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718400" y="4592520"/>
              <a:ext cx="6480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7780320" y="4592520"/>
              <a:ext cx="6480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848360" y="4592520"/>
              <a:ext cx="6372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790884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7688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8038800" y="4684680"/>
              <a:ext cx="651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8808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765000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107200" y="4684680"/>
              <a:ext cx="1285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237520" y="4592520"/>
              <a:ext cx="258480" cy="182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262640" y="4454640"/>
              <a:ext cx="131760" cy="460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839000" y="430200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055000" y="4011480"/>
              <a:ext cx="12600" cy="9064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492320" y="3776400"/>
              <a:ext cx="1099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 </a:t>
              </a:r>
              <a:r>
                <a:rPr b="0" i="1" lang="en-US" sz="1400" spc="-1" strike="noStrike">
                  <a:solidFill>
                    <a:srgbClr val="00ffff"/>
                  </a:solidFill>
                  <a:latin typeface="Arial"/>
                </a:rPr>
                <a:t>x=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399080" y="4175280"/>
              <a:ext cx="85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7484760" y="4068720"/>
              <a:ext cx="43200" cy="106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613640" y="406872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7653240" y="4068360"/>
              <a:ext cx="4428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699320" y="4068720"/>
              <a:ext cx="410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7738920" y="406836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783200" y="4068720"/>
              <a:ext cx="4320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7824600" y="4174920"/>
              <a:ext cx="42840" cy="10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527960" y="406872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7567560" y="406836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870680" y="4175280"/>
              <a:ext cx="84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956360" y="4059360"/>
              <a:ext cx="258840" cy="182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267320" y="3930480"/>
              <a:ext cx="131760" cy="460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902360" y="3827520"/>
              <a:ext cx="113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ffcc"/>
                  </a:solidFill>
                  <a:latin typeface="Arial"/>
                </a:rPr>
                <a:t>         </a:t>
              </a:r>
              <a:r>
                <a:rPr b="0" i="1" lang="en-US" sz="900" spc="-1" strike="noStrike">
                  <a:solidFill>
                    <a:srgbClr val="00ffcc"/>
                  </a:solidFill>
                  <a:latin typeface="Arial"/>
                </a:rPr>
                <a:t>Equilibrium position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353680" y="793800"/>
            <a:ext cx="4105080" cy="335880"/>
          </a:xfrm>
          <a:prstGeom prst="rect">
            <a:avLst/>
          </a:prstGeom>
          <a:noFill/>
          <a:ln w="12600">
            <a:solidFill>
              <a:srgbClr val="ce5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½kT per quadratic degree of freed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495440" y="6583320"/>
            <a:ext cx="4237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ff"/>
                </a:solidFill>
                <a:uFillTx/>
                <a:latin typeface="Times New Roman"/>
                <a:hlinkClick r:id="rId1"/>
              </a:rPr>
              <a:t>http://intro.chem.okstate.edu/1314F00/Laboratory/GLP.ht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06400" y="60120"/>
            <a:ext cx="7532640" cy="67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Bowling Ball Puzzle   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19080" y="1235160"/>
            <a:ext cx="6359400" cy="264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y does the Bowling ball slow down?  Explain using the Equipartition Theorem. (Hint: Treat the ball as one big particle.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at’s the average speed of the bowling ball after it comes into equilibrium with the room?  Assume that M = 10 kg and T = 300 K. Neglect the motion in the z direction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584280" y="1197000"/>
            <a:ext cx="1104840" cy="4518000"/>
            <a:chOff x="584280" y="1197000"/>
            <a:chExt cx="1104840" cy="4518000"/>
          </a:xfrm>
        </p:grpSpPr>
        <p:sp>
          <p:nvSpPr>
            <p:cNvPr id="178" name=""/>
            <p:cNvSpPr/>
            <p:nvPr/>
          </p:nvSpPr>
          <p:spPr>
            <a:xfrm flipH="1">
              <a:off x="938160" y="1387440"/>
              <a:ext cx="341280" cy="360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84280" y="4967280"/>
              <a:ext cx="666720" cy="747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14400" y="1197000"/>
              <a:ext cx="774720" cy="185760"/>
              <a:chOff x="914400" y="1197000"/>
              <a:chExt cx="774720" cy="185760"/>
            </a:xfrm>
          </p:grpSpPr>
          <p:sp>
            <p:nvSpPr>
              <p:cNvPr id="181" name=""/>
              <p:cNvSpPr/>
              <p:nvPr/>
            </p:nvSpPr>
            <p:spPr>
              <a:xfrm>
                <a:off x="914400" y="1374840"/>
                <a:ext cx="774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V="1">
                <a:off x="1135080" y="119700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V="1">
                <a:off x="1327320" y="120168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V="1">
                <a:off x="1521000" y="120024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V="1">
                <a:off x="922320" y="120492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06400" y="60120"/>
            <a:ext cx="7532640" cy="67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Bowling Ball Solution   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819080" y="1235160"/>
            <a:ext cx="6359400" cy="264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y does the Bowling ball slow down?  Explain using the Equipartition Theorem. (Hint: Treat the ball as one big particle.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at’s the average speed of the bowling ball after it comes into equilibrium with the room?  Assume that M = 10 kg and T = 300 K. Neglect the motion in the z direction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584280" y="1197000"/>
            <a:ext cx="1104840" cy="4518000"/>
            <a:chOff x="584280" y="1197000"/>
            <a:chExt cx="1104840" cy="4518000"/>
          </a:xfrm>
        </p:grpSpPr>
        <p:sp>
          <p:nvSpPr>
            <p:cNvPr id="189" name=""/>
            <p:cNvSpPr/>
            <p:nvPr/>
          </p:nvSpPr>
          <p:spPr>
            <a:xfrm flipH="1">
              <a:off x="938160" y="1387440"/>
              <a:ext cx="341280" cy="360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84280" y="4967280"/>
              <a:ext cx="666720" cy="747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914400" y="1197000"/>
              <a:ext cx="774720" cy="185760"/>
              <a:chOff x="914400" y="1197000"/>
              <a:chExt cx="774720" cy="185760"/>
            </a:xfrm>
          </p:grpSpPr>
          <p:sp>
            <p:nvSpPr>
              <p:cNvPr id="192" name=""/>
              <p:cNvSpPr/>
              <p:nvPr/>
            </p:nvSpPr>
            <p:spPr>
              <a:xfrm>
                <a:off x="914400" y="1374840"/>
                <a:ext cx="774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V="1">
                <a:off x="1135080" y="119700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V="1">
                <a:off x="1327320" y="120168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V="1">
                <a:off x="1521000" y="120024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V="1">
                <a:off x="922320" y="120492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7" name=""/>
          <p:cNvSpPr/>
          <p:nvPr/>
        </p:nvSpPr>
        <p:spPr>
          <a:xfrm>
            <a:off x="1776240" y="1878120"/>
            <a:ext cx="591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center of mass velocity of this “large particle” is given by the Equipartition Theorem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5662440" y="2300400"/>
          <a:ext cx="1909800" cy="66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62440" y="2300400"/>
                    <a:ext cx="190980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1955880" y="4249800"/>
          <a:ext cx="5894280" cy="155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55880" y="4249800"/>
                    <a:ext cx="5894280" cy="15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553040" y="69840"/>
            <a:ext cx="6057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Speed of Soun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1150920"/>
            <a:ext cx="7848360" cy="15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peed of sound in a gas is roughly equal to the average speed of the particles.  Compare the speed of a typical helium atom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4 amu) to that of a typical nitrogen molecule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N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2 x 14 amu) in a gas mixture in thermal equilibrium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do you expect to be the ratio of sound speeds in pure helium and nitrogen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585600" y="69840"/>
            <a:ext cx="1965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1150920"/>
            <a:ext cx="7848360" cy="15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peed of sound in a gas is roughly equal to the average speed of the particles.  Compare the speed of a typical helium atom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4 amu) to that of a typical nitrogen molecule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N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2 x 14 amu) in a gas mixture in thermal equilibrium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do you expect to be the ratio of sound speeds in pure helium and nitrogen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69880" y="3092400"/>
            <a:ext cx="8278920" cy="32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lt;K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ra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&lt;K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ra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 baseline="-4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 baseline="-40000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quipartition of translational kinetic energy.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rotational energy of nitrogen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ecules is not important her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m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 baseline="-4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4/28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lium doesn’t form molecul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v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 baseline="-4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(28/4)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1/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.65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KE = mv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2 so the speed ratio is the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nverse square root of the mass rati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ratio of sound speeds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hould be approximatel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actual ratio of sound speeds is 2.76.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same as this rati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71600" y="61920"/>
            <a:ext cx="8208720" cy="104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From Last Lecture: </a:t>
            </a:r>
            <a:br>
              <a:rPr sz="4000"/>
            </a:b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 Ideal Gas Law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411200" y="1919160"/>
          <a:ext cx="318456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1200" y="1919160"/>
                    <a:ext cx="31845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1409760" y="3606840"/>
          <a:ext cx="5879880" cy="63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9760" y="3606840"/>
                    <a:ext cx="587988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"/>
          <p:cNvSpPr/>
          <p:nvPr/>
        </p:nvSpPr>
        <p:spPr>
          <a:xfrm>
            <a:off x="939600" y="1411200"/>
            <a:ext cx="6061680" cy="50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call that we derived this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essure-energy relatio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et’s add equipartitio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is gives us th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deal Gas Law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i="1" lang="en-US" sz="3600" spc="-1" strike="noStrike">
                <a:solidFill>
                  <a:srgbClr val="fafd00"/>
                </a:solidFill>
                <a:latin typeface="Arial"/>
              </a:rPr>
              <a:t>pV = Nk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34000" y="5118120"/>
            <a:ext cx="4154400" cy="11912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s relation is independent of the internal modes of the molecules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ut it does require that the molecules don’t interact much with each oth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789200" y="5280120"/>
            <a:ext cx="2354040" cy="7556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90440" y="4621320"/>
            <a:ext cx="36003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For an ideal gas at constant T,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p is inversely proportional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o the volume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42880" y="60480"/>
            <a:ext cx="8050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deal Gas p-V, p-T  Diagram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3951360" y="1104840"/>
          <a:ext cx="1388880" cy="9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1360" y="1104840"/>
                    <a:ext cx="1388880" cy="9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285840" y="2082960"/>
          <a:ext cx="3419280" cy="257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5840" y="2082960"/>
                    <a:ext cx="3419280" cy="25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>
            <a:off x="847800" y="5815080"/>
            <a:ext cx="6046560" cy="949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cc"/>
                </a:solidFill>
                <a:latin typeface="Arial"/>
              </a:rPr>
              <a:t>Real gases may obey more complicated equations of state, but two of these variables always determine the third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cc"/>
                </a:solidFill>
                <a:latin typeface="Arial"/>
              </a:rPr>
              <a:t>Ordinary gases are often quite close to ideal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35080" y="1735200"/>
            <a:ext cx="3682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V at various constant T’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5770440" y="2114640"/>
          <a:ext cx="3029040" cy="233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70440" y="2114640"/>
                    <a:ext cx="3029040" cy="23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4289400" y="3639960"/>
            <a:ext cx="15098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Constant Volume</a:t>
            </a:r>
            <a:br>
              <a:rPr sz="1200"/>
            </a:b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Gas Thermome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724360" y="4430880"/>
            <a:ext cx="300996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Pressure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zero as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absolute zero, because the thermal kinetic energy of the molecules vanish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713560" y="1739880"/>
            <a:ext cx="246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 at constant 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722760" y="240048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Isotherm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2338560" y="2583000"/>
            <a:ext cx="1388880" cy="74772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2560320" y="2665440"/>
            <a:ext cx="1266840" cy="92232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2822400" y="2776680"/>
            <a:ext cx="1098720" cy="103824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3836880" y="1004760"/>
            <a:ext cx="2994120" cy="5237280"/>
            <a:chOff x="3836880" y="1004760"/>
            <a:chExt cx="2994120" cy="5237280"/>
          </a:xfrm>
        </p:grpSpPr>
        <p:sp>
          <p:nvSpPr>
            <p:cNvPr id="233" name=""/>
            <p:cNvSpPr/>
            <p:nvPr/>
          </p:nvSpPr>
          <p:spPr>
            <a:xfrm>
              <a:off x="4800600" y="5732640"/>
              <a:ext cx="2030400" cy="50940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 flipV="1">
              <a:off x="4782960" y="2023920"/>
              <a:ext cx="694080" cy="3727440"/>
            </a:xfrm>
            <a:prstGeom prst="line">
              <a:avLst/>
            </a:prstGeom>
            <a:ln w="3240">
              <a:solidFill>
                <a:srgbClr val="ffff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836880" y="1004760"/>
              <a:ext cx="1625760" cy="103032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4-03-13T17:26:04Z</dcterms:modified>
  <cp:revision>339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