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75A7287-503F-4ABA-84E3-95AE782DEA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529720" y="219240"/>
            <a:ext cx="1766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BD525E5B-6B5B-4B77-80D3-0E8BBBEE47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Object 9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83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84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326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328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67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68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7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98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408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418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421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2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44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44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45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7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50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51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3" name="Group 1"/>
          <p:cNvGrpSpPr/>
          <p:nvPr/>
        </p:nvGrpSpPr>
        <p:grpSpPr>
          <a:xfrm>
            <a:off x="392040" y="792000"/>
            <a:ext cx="8197920" cy="4001760"/>
            <a:chOff x="392040" y="792000"/>
            <a:chExt cx="8197920" cy="4001760"/>
          </a:xfrm>
        </p:grpSpPr>
        <p:sp>
          <p:nvSpPr>
            <p:cNvPr id="484" name="Text Box 5"/>
            <p:cNvSpPr/>
            <p:nvPr/>
          </p:nvSpPr>
          <p:spPr>
            <a:xfrm>
              <a:off x="1546200" y="17614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392040" y="792000"/>
              <a:ext cx="8197920" cy="40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First look at the lungs.  Ignore the effect of the oxygen on the myoglobin to which it binds, so it’s just like the problem of adsorption by surface sites.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quilibrium is described by: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gas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bou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The fraction of occupied myoglobin sites is:</a:t>
              </a:r>
              <a:br>
                <a:rPr sz="1800"/>
              </a:b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can’t calculat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but we know empirically that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2/3 in the lungs     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(wher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O2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=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lungs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0.19 atm).  That is,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hat happens in the tissue? 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s the same. 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mpirically, f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1/3, so                                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bout 1/3 of the myoglobin sites are used to transport oxygen to the tissues.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ansport will occur as long as the 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pressure in the tissue is less than that in the lung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6" name="Object 5"/>
            <p:cNvGraphicFramePr/>
            <p:nvPr/>
          </p:nvGraphicFramePr>
          <p:xfrm>
            <a:off x="5235480" y="1660320"/>
            <a:ext cx="169236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35480" y="1660320"/>
                      <a:ext cx="169236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Object 6"/>
            <p:cNvGraphicFramePr/>
            <p:nvPr/>
          </p:nvGraphicFramePr>
          <p:xfrm>
            <a:off x="4504680" y="2604240"/>
            <a:ext cx="110628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4680" y="2604240"/>
                      <a:ext cx="11062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7"/>
            <p:cNvGraphicFramePr/>
            <p:nvPr/>
          </p:nvGraphicFramePr>
          <p:xfrm>
            <a:off x="2837160" y="3300840"/>
            <a:ext cx="1971720" cy="350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37160" y="3300840"/>
                      <a:ext cx="1971720" cy="35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6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80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81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3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440" y="217080"/>
            <a:ext cx="809460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5000" y="87012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speed up chemical reactions, equilibrium is not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47800" y="4289400"/>
          <a:ext cx="48927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4289400"/>
                    <a:ext cx="4892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Group 6"/>
          <p:cNvGrpSpPr/>
          <p:nvPr/>
        </p:nvGrpSpPr>
        <p:grpSpPr>
          <a:xfrm>
            <a:off x="708120" y="5711760"/>
            <a:ext cx="3592440" cy="965160"/>
            <a:chOff x="708120" y="5711760"/>
            <a:chExt cx="3592440" cy="965160"/>
          </a:xfrm>
        </p:grpSpPr>
        <p:graphicFrame>
          <p:nvGraphicFramePr>
            <p:cNvPr id="116" name="Object 5"/>
            <p:cNvGraphicFramePr/>
            <p:nvPr/>
          </p:nvGraphicFramePr>
          <p:xfrm>
            <a:off x="2517840" y="6167520"/>
            <a:ext cx="178272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840" y="6167520"/>
                      <a:ext cx="1782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8"/>
            <p:cNvSpPr/>
            <p:nvPr/>
          </p:nvSpPr>
          <p:spPr>
            <a:xfrm>
              <a:off x="70812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9" name="Object 6"/>
            <p:cNvGraphicFramePr/>
            <p:nvPr/>
          </p:nvGraphicFramePr>
          <p:xfrm>
            <a:off x="865080" y="6037200"/>
            <a:ext cx="1633680" cy="63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5080" y="6037200"/>
                      <a:ext cx="16336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122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123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H="1">
            <a:off x="5044680" y="2360520"/>
            <a:ext cx="490680" cy="25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693720" y="38685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3"/>
          <p:cNvGrpSpPr/>
          <p:nvPr/>
        </p:nvGrpSpPr>
        <p:grpSpPr>
          <a:xfrm>
            <a:off x="3046320" y="3354480"/>
            <a:ext cx="2382840" cy="391680"/>
            <a:chOff x="3046320" y="3354480"/>
            <a:chExt cx="2382840" cy="391680"/>
          </a:xfrm>
        </p:grpSpPr>
        <p:sp>
          <p:nvSpPr>
            <p:cNvPr id="145" name="Text Box 34"/>
            <p:cNvSpPr/>
            <p:nvPr/>
          </p:nvSpPr>
          <p:spPr>
            <a:xfrm>
              <a:off x="3046320" y="3354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4"/>
                <p:cNvSpPr txBox="1"/>
                <p:nvPr/>
              </p:nvSpPr>
              <p:spPr>
                <a:xfrm>
                  <a:off x="4651200" y="3379680"/>
                  <a:ext cx="7779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Text Box 36"/>
          <p:cNvSpPr/>
          <p:nvPr/>
        </p:nvSpPr>
        <p:spPr>
          <a:xfrm>
            <a:off x="5192640" y="201312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6591240" y="4125960"/>
            <a:ext cx="22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130880" y="4603680"/>
          <a:ext cx="12146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0880" y="460368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1"/>
          <p:cNvGraphicFramePr/>
          <p:nvPr/>
        </p:nvGraphicFramePr>
        <p:xfrm>
          <a:off x="3747960" y="3911760"/>
          <a:ext cx="2828880" cy="27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7960" y="3911760"/>
                    <a:ext cx="282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6141960" y="2657520"/>
            <a:ext cx="2916360" cy="1333440"/>
            <a:chOff x="6141960" y="2657520"/>
            <a:chExt cx="2916360" cy="1333440"/>
          </a:xfrm>
        </p:grpSpPr>
        <p:sp>
          <p:nvSpPr>
            <p:cNvPr id="155" name="TextBox 3"/>
            <p:cNvSpPr/>
            <p:nvPr/>
          </p:nvSpPr>
          <p:spPr>
            <a:xfrm>
              <a:off x="6141960" y="2657520"/>
              <a:ext cx="29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r monatomic ideal gas Sacker-Tetrode eqn say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Object 4"/>
            <p:cNvGraphicFramePr/>
            <p:nvPr/>
          </p:nvGraphicFramePr>
          <p:xfrm>
            <a:off x="6442920" y="3259440"/>
            <a:ext cx="2117520" cy="731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2920" y="3259440"/>
                      <a:ext cx="2117520" cy="73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6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6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6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6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7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7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7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7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8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8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8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8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9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9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9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9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5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22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2-01T14:47:04Z</cp:lastPrinted>
  <dcterms:modified xsi:type="dcterms:W3CDTF">2015-02-19T23:04:26Z</dcterms:modified>
  <cp:revision>3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