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914560" y="8856720"/>
            <a:ext cx="11844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138549-6930-46B9-9DE3-C98FB3C41F4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8AFE6DDC-E19F-4501-BCF4-E6558F4A9C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95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96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97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98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99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0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1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2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03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204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05" name="Object 15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06" name="Object 1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207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208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209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0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1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2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3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4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217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218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219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0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1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2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3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4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227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228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0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1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2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3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36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37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38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9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0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1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2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3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46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47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0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1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2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55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56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57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0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1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2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65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66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8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0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1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74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75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76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8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0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1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84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85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6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3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4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5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6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7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8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9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0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1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2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3" name="Rectangle 112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4" name="Rectangle 113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5" name="Text Box 114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9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10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1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2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3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4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2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3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1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2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8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39" name="Object 4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Text Box 29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41" name="Object 300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3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6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7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48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49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50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51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59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60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68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69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76" name="Object 37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77" name="Object 38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Text Box 3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80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81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82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83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84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85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1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93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94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402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403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0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411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412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413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421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422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8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430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431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7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39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40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41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7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49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50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6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58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59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5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6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67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68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69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77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78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4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86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87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95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96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97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3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505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506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2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514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515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1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2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523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524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525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1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533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534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42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43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0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51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2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3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4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5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6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7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8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9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560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61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2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3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4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5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6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567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68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9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0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571" name="Text Box 404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2" name="Text Box 405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3" name="Text Box 406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4" name="Text Box 407"/>
          <p:cNvSpPr/>
          <p:nvPr/>
        </p:nvSpPr>
        <p:spPr>
          <a:xfrm>
            <a:off x="7376040" y="391644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78" name="Group 56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79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80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1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2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3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584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587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88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9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0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1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2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3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4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5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596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607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8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9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12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613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14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615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6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8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624" name="Object 2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6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8" name="Line 14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33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634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5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36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7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8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9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0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1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2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3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4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5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6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8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9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0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1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2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54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55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56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57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58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custGeom>
                <a:avLst/>
                <a:gdLst>
                  <a:gd name="textAreaLeft" fmla="*/ 0 w 1523880"/>
                  <a:gd name="textAreaRight" fmla="*/ 1524240 w 152388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960" h="816">
                    <a:moveTo>
                      <a:pt x="0" y="816"/>
                    </a:moveTo>
                    <a:cubicBezTo>
                      <a:pt x="80" y="792"/>
                      <a:pt x="160" y="768"/>
                      <a:pt x="240" y="720"/>
                    </a:cubicBezTo>
                    <a:cubicBezTo>
                      <a:pt x="320" y="672"/>
                      <a:pt x="400" y="600"/>
                      <a:pt x="480" y="528"/>
                    </a:cubicBezTo>
                    <a:cubicBezTo>
                      <a:pt x="560" y="456"/>
                      <a:pt x="640" y="376"/>
                      <a:pt x="720" y="288"/>
                    </a:cubicBezTo>
                    <a:cubicBezTo>
                      <a:pt x="800" y="200"/>
                      <a:pt x="920" y="48"/>
                      <a:pt x="960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Text Box 33"/>
          <p:cNvSpPr/>
          <p:nvPr/>
        </p:nvSpPr>
        <p:spPr>
          <a:xfrm>
            <a:off x="5715000" y="3173400"/>
            <a:ext cx="3178080" cy="970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60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61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63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4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5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6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7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8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9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670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1" name="Text Box 46"/>
          <p:cNvSpPr/>
          <p:nvPr/>
        </p:nvSpPr>
        <p:spPr>
          <a:xfrm>
            <a:off x="347760" y="5451480"/>
            <a:ext cx="8447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q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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oscillators when q &gt;&gt; N (or, U &gt;&gt; Nε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2" name="Text Box 47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3" name="TextBox 1"/>
          <p:cNvSpPr/>
          <p:nvPr/>
        </p:nvSpPr>
        <p:spPr>
          <a:xfrm>
            <a:off x="668160" y="237816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4" name="TextBox 46"/>
          <p:cNvSpPr/>
          <p:nvPr/>
        </p:nvSpPr>
        <p:spPr>
          <a:xfrm>
            <a:off x="3238560" y="257508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75" name="Group 4"/>
          <p:cNvGrpSpPr/>
          <p:nvPr/>
        </p:nvGrpSpPr>
        <p:grpSpPr>
          <a:xfrm>
            <a:off x="5778360" y="2556000"/>
            <a:ext cx="2868840" cy="547560"/>
            <a:chOff x="5778360" y="2556000"/>
            <a:chExt cx="2868840" cy="547560"/>
          </a:xfrm>
        </p:grpSpPr>
        <p:graphicFrame>
          <p:nvGraphicFramePr>
            <p:cNvPr id="676" name="Object 2"/>
            <p:cNvGraphicFramePr/>
            <p:nvPr/>
          </p:nvGraphicFramePr>
          <p:xfrm>
            <a:off x="7313400" y="2556000"/>
            <a:ext cx="1333800" cy="54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3400" y="2556000"/>
                      <a:ext cx="133380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8" name="TextBox 3"/>
            <p:cNvSpPr/>
            <p:nvPr/>
          </p:nvSpPr>
          <p:spPr>
            <a:xfrm>
              <a:off x="5778360" y="2613600"/>
              <a:ext cx="155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Plug N=3 into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80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3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4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5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686" name="Object 31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8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9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0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2"/>
          <p:cNvSpPr/>
          <p:nvPr/>
        </p:nvSpPr>
        <p:spPr>
          <a:xfrm>
            <a:off x="1843200" y="1170360"/>
            <a:ext cx="5776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0" lang="en-US" sz="4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452880" y="2884320"/>
            <a:ext cx="7255440" cy="3854520"/>
            <a:chOff x="452880" y="2884320"/>
            <a:chExt cx="7255440" cy="3854520"/>
          </a:xfrm>
        </p:grpSpPr>
        <p:graphicFrame>
          <p:nvGraphicFramePr>
            <p:cNvPr id="49" name="Object 3"/>
            <p:cNvGraphicFramePr/>
            <p:nvPr/>
          </p:nvGraphicFramePr>
          <p:xfrm>
            <a:off x="2711520" y="4051440"/>
            <a:ext cx="3875400" cy="14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4051440"/>
                      <a:ext cx="3875400" cy="14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Rectangle 15"/>
            <p:cNvSpPr/>
            <p:nvPr/>
          </p:nvSpPr>
          <p:spPr>
            <a:xfrm>
              <a:off x="2436840" y="4037040"/>
              <a:ext cx="4443840" cy="1606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2" name="AutoShape 16"/>
            <p:cNvSpPr/>
            <p:nvPr/>
          </p:nvSpPr>
          <p:spPr>
            <a:xfrm rot="16200000">
              <a:off x="3966480" y="4385160"/>
              <a:ext cx="419040" cy="290700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75600 h 2907000"/>
                <a:gd name="textAreaBottom" fmla="*/ 2831400 h 290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3" name="Text Box 17"/>
            <p:cNvSpPr/>
            <p:nvPr/>
          </p:nvSpPr>
          <p:spPr>
            <a:xfrm>
              <a:off x="3097800" y="6005520"/>
              <a:ext cx="214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eded at high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liquids and solids)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for gases, too.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" name="AutoShape 20"/>
            <p:cNvSpPr/>
            <p:nvPr/>
          </p:nvSpPr>
          <p:spPr>
            <a:xfrm rot="16200000">
              <a:off x="6188400" y="5503680"/>
              <a:ext cx="419040" cy="70164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18000 h 701640"/>
                <a:gd name="textAreaBottom" fmla="*/ 68364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" name="Text Box 21"/>
            <p:cNvSpPr/>
            <p:nvPr/>
          </p:nvSpPr>
          <p:spPr>
            <a:xfrm>
              <a:off x="5533920" y="606096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at low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gases only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" name="TextBox 1"/>
            <p:cNvSpPr/>
            <p:nvPr/>
          </p:nvSpPr>
          <p:spPr>
            <a:xfrm>
              <a:off x="653040" y="410292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" name="TextBox 11"/>
            <p:cNvSpPr/>
            <p:nvPr/>
          </p:nvSpPr>
          <p:spPr>
            <a:xfrm>
              <a:off x="452880" y="4993200"/>
              <a:ext cx="186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n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" name="TextBox 2"/>
            <p:cNvSpPr/>
            <p:nvPr/>
          </p:nvSpPr>
          <p:spPr>
            <a:xfrm>
              <a:off x="238140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unlimited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" name="TextBox 13"/>
            <p:cNvSpPr/>
            <p:nvPr/>
          </p:nvSpPr>
          <p:spPr>
            <a:xfrm>
              <a:off x="423144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singl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" name="TextBox 14"/>
            <p:cNvSpPr/>
            <p:nvPr/>
          </p:nvSpPr>
          <p:spPr>
            <a:xfrm>
              <a:off x="6058800" y="3432600"/>
              <a:ext cx="6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dilu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" name="TextBox 10"/>
            <p:cNvSpPr/>
            <p:nvPr/>
          </p:nvSpPr>
          <p:spPr>
            <a:xfrm>
              <a:off x="1858680" y="2884320"/>
              <a:ext cx="58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Number of microstates for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objects in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 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bins is 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62" name="Object 15"/>
          <p:cNvGraphicFramePr/>
          <p:nvPr/>
        </p:nvGraphicFramePr>
        <p:xfrm>
          <a:off x="7505640" y="1238400"/>
          <a:ext cx="1514520" cy="11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05640" y="1238400"/>
                    <a:ext cx="151452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Freeform 16"/>
          <p:cNvSpPr/>
          <p:nvPr/>
        </p:nvSpPr>
        <p:spPr>
          <a:xfrm>
            <a:off x="968400" y="639720"/>
            <a:ext cx="1960560" cy="2843280"/>
          </a:xfrm>
          <a:custGeom>
            <a:avLst/>
            <a:gdLst/>
            <a:ahLst/>
            <a:rect l="l" t="t" r="r" b="b"/>
            <a:pathLst>
              <a:path w="1959738" h="2843616">
                <a:moveTo>
                  <a:pt x="1959738" y="524958"/>
                </a:moveTo>
                <a:cubicBezTo>
                  <a:pt x="1835459" y="353508"/>
                  <a:pt x="1711180" y="182059"/>
                  <a:pt x="1491652" y="100416"/>
                </a:cubicBezTo>
                <a:cubicBezTo>
                  <a:pt x="1272124" y="18773"/>
                  <a:pt x="869353" y="-41099"/>
                  <a:pt x="642567" y="35101"/>
                </a:cubicBezTo>
                <a:cubicBezTo>
                  <a:pt x="415781" y="111301"/>
                  <a:pt x="237981" y="336273"/>
                  <a:pt x="130938" y="557616"/>
                </a:cubicBezTo>
                <a:cubicBezTo>
                  <a:pt x="23895" y="778959"/>
                  <a:pt x="-3319" y="1132744"/>
                  <a:pt x="310" y="1363158"/>
                </a:cubicBezTo>
                <a:cubicBezTo>
                  <a:pt x="3939" y="1593572"/>
                  <a:pt x="-17833" y="1693358"/>
                  <a:pt x="152710" y="1940101"/>
                </a:cubicBezTo>
                <a:cubicBezTo>
                  <a:pt x="323253" y="2186844"/>
                  <a:pt x="673410" y="2515230"/>
                  <a:pt x="1023567" y="28436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cxnSp>
        <p:nvCxnSpPr>
          <p:cNvPr id="65" name="Straight Arrow Connector 18"/>
          <p:cNvCxnSpPr/>
          <p:nvPr/>
        </p:nvCxnSpPr>
        <p:spPr>
          <a:xfrm flipH="1">
            <a:off x="6498720" y="1833120"/>
            <a:ext cx="11217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aphicFrame>
        <p:nvGraphicFramePr>
          <p:cNvPr id="66" name="Object 19"/>
          <p:cNvGraphicFramePr/>
          <p:nvPr/>
        </p:nvGraphicFramePr>
        <p:xfrm>
          <a:off x="7702560" y="3284640"/>
          <a:ext cx="1441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02560" y="3284640"/>
                    <a:ext cx="1441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Freeform 20"/>
          <p:cNvSpPr/>
          <p:nvPr/>
        </p:nvSpPr>
        <p:spPr>
          <a:xfrm>
            <a:off x="7337520" y="2514600"/>
            <a:ext cx="892080" cy="762120"/>
          </a:xfrm>
          <a:custGeom>
            <a:avLst/>
            <a:gdLst/>
            <a:ahLst/>
            <a:rect l="l" t="t" r="r" b="b"/>
            <a:pathLst>
              <a:path w="892629" h="762000">
                <a:moveTo>
                  <a:pt x="892629" y="762000"/>
                </a:moveTo>
                <a:cubicBezTo>
                  <a:pt x="867229" y="644071"/>
                  <a:pt x="841829" y="526143"/>
                  <a:pt x="729343" y="424543"/>
                </a:cubicBezTo>
                <a:cubicBezTo>
                  <a:pt x="616857" y="322943"/>
                  <a:pt x="339272" y="223157"/>
                  <a:pt x="217715" y="152400"/>
                </a:cubicBezTo>
                <a:cubicBezTo>
                  <a:pt x="96158" y="81643"/>
                  <a:pt x="48079" y="40821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6913440" y="429084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also known as the multiplicity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94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97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98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99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700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custGeom>
                  <a:avLst/>
                  <a:gdLst>
                    <a:gd name="textAreaLeft" fmla="*/ 0 w 1665360"/>
                    <a:gd name="textAreaRight" fmla="*/ 1665720 w 1665360"/>
                    <a:gd name="textAreaTop" fmla="*/ 0 h 481320"/>
                    <a:gd name="textAreaBottom" fmla="*/ 481680 h 48132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custGeom>
                  <a:avLst/>
                  <a:gdLst>
                    <a:gd name="textAreaLeft" fmla="*/ -360 w 1665000"/>
                    <a:gd name="textAreaRight" fmla="*/ 1665000 w 1665000"/>
                    <a:gd name="textAreaTop" fmla="*/ 0 h 1224000"/>
                    <a:gd name="textAreaBottom" fmla="*/ 1224360 h 122400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4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939600"/>
                  <a:gd name="textAreaBottom" fmla="*/ 939960 h 939600"/>
                </a:gdLst>
                <a:ahLst/>
                <a:rect l="textAreaLeft" t="textAreaTop" r="textAreaRight" b="textAreaBottom"/>
                <a:pathLst>
                  <a:path w="1156" h="604">
                    <a:moveTo>
                      <a:pt x="0" y="143"/>
                    </a:moveTo>
                    <a:cubicBezTo>
                      <a:pt x="33" y="115"/>
                      <a:pt x="67" y="87"/>
                      <a:pt x="107" y="67"/>
                    </a:cubicBezTo>
                    <a:cubicBezTo>
                      <a:pt x="147" y="47"/>
                      <a:pt x="195" y="33"/>
                      <a:pt x="240" y="23"/>
                    </a:cubicBezTo>
                    <a:cubicBezTo>
                      <a:pt x="285" y="13"/>
                      <a:pt x="313" y="0"/>
                      <a:pt x="379" y="10"/>
                    </a:cubicBezTo>
                    <a:cubicBezTo>
                      <a:pt x="445" y="20"/>
                      <a:pt x="559" y="53"/>
                      <a:pt x="638" y="86"/>
                    </a:cubicBezTo>
                    <a:cubicBezTo>
                      <a:pt x="717" y="119"/>
                      <a:pt x="795" y="165"/>
                      <a:pt x="853" y="206"/>
                    </a:cubicBezTo>
                    <a:cubicBezTo>
                      <a:pt x="911" y="247"/>
                      <a:pt x="935" y="267"/>
                      <a:pt x="985" y="333"/>
                    </a:cubicBezTo>
                    <a:cubicBezTo>
                      <a:pt x="1035" y="399"/>
                      <a:pt x="1095" y="501"/>
                      <a:pt x="1156" y="60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5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6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7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8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709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710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12" name="Object 20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Rectangle 21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5" name="Text Box 22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8" name="Object 3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20" name="Object 11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4" name="Group 54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725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726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27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28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29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30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731" name="Rectangle 56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2" name="Rectangle 57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3" name="Line 58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4" name="Line 59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739" name="Group 6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740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74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4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746" name="Rectangle 13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7" name="Rectangle 14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8" name="Line 15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9" name="Line 16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50" name="Object 17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4" name="Group 33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55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56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58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59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1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2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3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65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6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70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71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72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3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6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4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80" name="Line 5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782" name="Group 7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8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8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8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8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8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8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9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9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9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80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805" name="Rectangle 31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09" name="Rectangle 28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10" name="Rectangle 30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11" name="Group 31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81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81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81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81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81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82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82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82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82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6" name="Text Box 60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39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840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41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842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43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44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45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46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pic>
        <p:nvPicPr>
          <p:cNvPr id="847" name="Picture 95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0" name="Object 4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8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Text Box 19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0" lang="en-US" sz="9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5" name="Line 20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6" name="Rectangle 21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7" name="Text Box 22"/>
          <p:cNvSpPr/>
          <p:nvPr/>
        </p:nvSpPr>
        <p:spPr>
          <a:xfrm>
            <a:off x="4524480" y="6008760"/>
            <a:ext cx="1715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8" name="Oval 23"/>
          <p:cNvSpPr/>
          <p:nvPr/>
        </p:nvSpPr>
        <p:spPr>
          <a:xfrm>
            <a:off x="4392720" y="5823000"/>
            <a:ext cx="1828800" cy="93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9" name="Line 24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60" name="Group 25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61" name="Arc 7"/>
            <p:cNvSpPr/>
            <p:nvPr/>
          </p:nvSpPr>
          <p:spPr>
            <a:xfrm flipH="1">
              <a:off x="6500880" y="5425920"/>
              <a:ext cx="2201760" cy="885600"/>
            </a:xfrm>
            <a:custGeom>
              <a:avLst/>
              <a:gdLst>
                <a:gd name="textAreaLeft" fmla="*/ 360 w 2201760"/>
                <a:gd name="textAreaRight" fmla="*/ 2202480 w 22017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fill="none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</a:path>
                <a:path stroke="0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  <a:lnTo>
                    <a:pt x="234" y="2160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2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3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4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5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8" name="Object 4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Text Box 8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71" name="Rectangle 9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30320" y="808200"/>
            <a:ext cx="889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45720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pins: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5208480" y="187200"/>
          <a:ext cx="13431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8480" y="187200"/>
                    <a:ext cx="134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4"/>
          <p:cNvGraphicFramePr/>
          <p:nvPr/>
        </p:nvGraphicFramePr>
        <p:xfrm>
          <a:off x="6058080" y="1657440"/>
          <a:ext cx="30859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8080" y="1657440"/>
                    <a:ext cx="3085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9" name="Straight Arrow Connector 6"/>
          <p:cNvCxnSpPr/>
          <p:nvPr/>
        </p:nvCxnSpPr>
        <p:spPr>
          <a:xfrm flipH="1" flipV="1">
            <a:off x="5649480" y="1515600"/>
            <a:ext cx="218160" cy="226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" name="Straight Arrow Connector 8"/>
          <p:cNvCxnSpPr/>
          <p:nvPr/>
        </p:nvCxnSpPr>
        <p:spPr>
          <a:xfrm flipH="1">
            <a:off x="4854240" y="555480"/>
            <a:ext cx="164160" cy="253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" name="Text Box 5"/>
          <p:cNvSpPr/>
          <p:nvPr/>
        </p:nvSpPr>
        <p:spPr>
          <a:xfrm>
            <a:off x="172800" y="232740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82" name="Object 1"/>
          <p:cNvGraphicFramePr/>
          <p:nvPr/>
        </p:nvGraphicFramePr>
        <p:xfrm>
          <a:off x="1938240" y="2778120"/>
          <a:ext cx="522936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8240" y="2778120"/>
                    <a:ext cx="52293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Box 2"/>
          <p:cNvSpPr/>
          <p:nvPr/>
        </p:nvSpPr>
        <p:spPr>
          <a:xfrm>
            <a:off x="150840" y="3738600"/>
            <a:ext cx="6524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not a very big number, it’s not close to 1.  What’s going on?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ar 500,000 there are also approximately 1000 macrostates ranging from 499,500 to 500,500 that are part of the peak in probability.  See lecture 6 slide 26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s within the peak are “thermal fluctuations about the average value.  The macrostate includes all of the states in the peak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6505560" y="4116240"/>
            <a:ext cx="2611440" cy="1554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7151400" y="564048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dth i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" name="Group 21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90" name="Object 3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2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96" name="Group 23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97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98" name="Group 22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99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00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101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1019160"/>
                    <a:gd name="textAreaBottom" fmla="*/ 1019160 h 1019160"/>
                  </a:gdLst>
                  <a:ahLst/>
                  <a:rect l="textAreaLeft" t="textAreaTop" r="textAreaRight" b="textAreaBottom"/>
                  <a:pathLst>
                    <a:path w="866" h="642">
                      <a:moveTo>
                        <a:pt x="0" y="642"/>
                      </a:moveTo>
                      <a:cubicBezTo>
                        <a:pt x="72" y="641"/>
                        <a:pt x="145" y="640"/>
                        <a:pt x="189" y="631"/>
                      </a:cubicBezTo>
                      <a:cubicBezTo>
                        <a:pt x="233" y="622"/>
                        <a:pt x="240" y="624"/>
                        <a:pt x="266" y="587"/>
                      </a:cubicBezTo>
                      <a:cubicBezTo>
                        <a:pt x="292" y="550"/>
                        <a:pt x="323" y="485"/>
                        <a:pt x="344" y="409"/>
                      </a:cubicBezTo>
                      <a:cubicBezTo>
                        <a:pt x="365" y="333"/>
                        <a:pt x="374" y="194"/>
                        <a:pt x="389" y="131"/>
                      </a:cubicBezTo>
                      <a:cubicBezTo>
                        <a:pt x="404" y="68"/>
                        <a:pt x="413" y="0"/>
                        <a:pt x="433" y="31"/>
                      </a:cubicBezTo>
                      <a:cubicBezTo>
                        <a:pt x="453" y="62"/>
                        <a:pt x="485" y="233"/>
                        <a:pt x="511" y="320"/>
                      </a:cubicBezTo>
                      <a:cubicBezTo>
                        <a:pt x="537" y="407"/>
                        <a:pt x="557" y="503"/>
                        <a:pt x="589" y="553"/>
                      </a:cubicBezTo>
                      <a:cubicBezTo>
                        <a:pt x="621" y="603"/>
                        <a:pt x="654" y="607"/>
                        <a:pt x="700" y="620"/>
                      </a:cubicBezTo>
                      <a:cubicBezTo>
                        <a:pt x="746" y="633"/>
                        <a:pt x="806" y="632"/>
                        <a:pt x="866" y="631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0" lang="en-US" sz="1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05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06" name="Object 4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24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6883560" y="190512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90512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5" name="Object 10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" name="Object 2"/>
          <p:cNvGraphicFramePr/>
          <p:nvPr/>
        </p:nvGraphicFramePr>
        <p:xfrm>
          <a:off x="5870520" y="3449520"/>
          <a:ext cx="32590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70520" y="3449520"/>
                    <a:ext cx="3259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34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122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123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124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125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0" lang="en-US" sz="18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custGeom>
                  <a:avLst/>
                  <a:gdLst>
                    <a:gd name="textAreaLeft" fmla="*/ 0 w 1143000"/>
                    <a:gd name="textAreaRight" fmla="*/ 1143360 w 11430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720" h="256">
                      <a:moveTo>
                        <a:pt x="720" y="104"/>
                      </a:moveTo>
                      <a:cubicBezTo>
                        <a:pt x="664" y="56"/>
                        <a:pt x="608" y="8"/>
                        <a:pt x="576" y="8"/>
                      </a:cubicBezTo>
                      <a:cubicBezTo>
                        <a:pt x="544" y="8"/>
                        <a:pt x="528" y="64"/>
                        <a:pt x="528" y="104"/>
                      </a:cubicBezTo>
                      <a:cubicBezTo>
                        <a:pt x="528" y="144"/>
                        <a:pt x="568" y="248"/>
                        <a:pt x="576" y="248"/>
                      </a:cubicBezTo>
                      <a:cubicBezTo>
                        <a:pt x="584" y="248"/>
                        <a:pt x="592" y="144"/>
                        <a:pt x="576" y="104"/>
                      </a:cubicBezTo>
                      <a:cubicBezTo>
                        <a:pt x="560" y="64"/>
                        <a:pt x="504" y="0"/>
                        <a:pt x="480" y="8"/>
                      </a:cubicBezTo>
                      <a:cubicBezTo>
                        <a:pt x="456" y="16"/>
                        <a:pt x="432" y="112"/>
                        <a:pt x="432" y="152"/>
                      </a:cubicBezTo>
                      <a:cubicBezTo>
                        <a:pt x="432" y="192"/>
                        <a:pt x="472" y="248"/>
                        <a:pt x="480" y="248"/>
                      </a:cubicBezTo>
                      <a:cubicBezTo>
                        <a:pt x="488" y="248"/>
                        <a:pt x="496" y="192"/>
                        <a:pt x="480" y="152"/>
                      </a:cubicBezTo>
                      <a:cubicBezTo>
                        <a:pt x="464" y="112"/>
                        <a:pt x="408" y="8"/>
                        <a:pt x="384" y="8"/>
                      </a:cubicBezTo>
                      <a:cubicBezTo>
                        <a:pt x="360" y="8"/>
                        <a:pt x="336" y="112"/>
                        <a:pt x="336" y="152"/>
                      </a:cubicBezTo>
                      <a:cubicBezTo>
                        <a:pt x="336" y="192"/>
                        <a:pt x="376" y="248"/>
                        <a:pt x="384" y="248"/>
                      </a:cubicBezTo>
                      <a:cubicBezTo>
                        <a:pt x="392" y="248"/>
                        <a:pt x="400" y="192"/>
                        <a:pt x="384" y="152"/>
                      </a:cubicBezTo>
                      <a:cubicBezTo>
                        <a:pt x="368" y="112"/>
                        <a:pt x="312" y="8"/>
                        <a:pt x="288" y="8"/>
                      </a:cubicBezTo>
                      <a:cubicBezTo>
                        <a:pt x="264" y="8"/>
                        <a:pt x="240" y="112"/>
                        <a:pt x="240" y="152"/>
                      </a:cubicBezTo>
                      <a:cubicBezTo>
                        <a:pt x="240" y="192"/>
                        <a:pt x="280" y="256"/>
                        <a:pt x="288" y="248"/>
                      </a:cubicBezTo>
                      <a:cubicBezTo>
                        <a:pt x="296" y="240"/>
                        <a:pt x="304" y="144"/>
                        <a:pt x="288" y="104"/>
                      </a:cubicBezTo>
                      <a:cubicBezTo>
                        <a:pt x="272" y="64"/>
                        <a:pt x="216" y="0"/>
                        <a:pt x="192" y="8"/>
                      </a:cubicBezTo>
                      <a:cubicBezTo>
                        <a:pt x="168" y="16"/>
                        <a:pt x="144" y="112"/>
                        <a:pt x="144" y="152"/>
                      </a:cubicBezTo>
                      <a:cubicBezTo>
                        <a:pt x="144" y="192"/>
                        <a:pt x="184" y="256"/>
                        <a:pt x="192" y="248"/>
                      </a:cubicBezTo>
                      <a:cubicBezTo>
                        <a:pt x="200" y="240"/>
                        <a:pt x="208" y="144"/>
                        <a:pt x="192" y="104"/>
                      </a:cubicBezTo>
                      <a:cubicBezTo>
                        <a:pt x="176" y="64"/>
                        <a:pt x="128" y="0"/>
                        <a:pt x="96" y="8"/>
                      </a:cubicBezTo>
                      <a:cubicBezTo>
                        <a:pt x="64" y="16"/>
                        <a:pt x="32" y="84"/>
                        <a:pt x="0" y="152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34" name="Object 3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" name="Text Box 31"/>
          <p:cNvSpPr/>
          <p:nvPr/>
        </p:nvSpPr>
        <p:spPr>
          <a:xfrm>
            <a:off x="752328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37" name="Group 33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38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1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2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3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4" name="Text Box 32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47" name="Group 23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48" name="Freeform 7"/>
            <p:cNvSpPr/>
            <p:nvPr/>
          </p:nvSpPr>
          <p:spPr>
            <a:xfrm>
              <a:off x="6165720" y="395100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 rot="5251200">
              <a:off x="6367680" y="4509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6858000" y="3931920"/>
              <a:ext cx="582480" cy="155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 rot="5251200">
              <a:off x="6353280" y="3420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52" name="Group 22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53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custGeom>
                <a:avLst/>
                <a:gdLst>
                  <a:gd name="textAreaLeft" fmla="*/ 0 w 856800"/>
                  <a:gd name="textAreaRight" fmla="*/ 857160 w 8568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custGeom>
                <a:avLst/>
                <a:gdLst>
                  <a:gd name="textAreaLeft" fmla="*/ 0 w 856440"/>
                  <a:gd name="textAreaRight" fmla="*/ 856800 w 8564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155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57" name="Freeform 15"/>
            <p:cNvSpPr/>
            <p:nvPr/>
          </p:nvSpPr>
          <p:spPr>
            <a:xfrm>
              <a:off x="5877000" y="19954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656856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724428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6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7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9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73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74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5" name="Object 2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6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7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8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9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1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2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3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4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7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8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9" name="Rectangle 117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0" name="Text Box 119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1" name="Text Box 120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dc:language>en-US</dc:language>
  <cp:lastModifiedBy>kwiat</cp:lastModifiedBy>
  <cp:lastPrinted>2014-10-29T13:41:25Z</cp:lastPrinted>
  <dcterms:modified xsi:type="dcterms:W3CDTF">2015-03-31T18:40:22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