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0747311-BA64-44C1-997C-182B43E234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3184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AAE4CDB1-6EDD-4916-9960-B1DD0CFE6F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1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8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27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2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3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1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54" name="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6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6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99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44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58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65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69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72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75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381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384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390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393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399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406" name="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9" name="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7000" y="2414880"/>
            <a:ext cx="70819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9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2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24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8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436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0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alistic system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87040" y="572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96720" y="1103040"/>
            <a:ext cx="8578800" cy="2925720"/>
            <a:chOff x="396720" y="1103040"/>
            <a:chExt cx="8578800" cy="2925720"/>
          </a:xfrm>
        </p:grpSpPr>
        <p:sp>
          <p:nvSpPr>
            <p:cNvPr id="491" name="PlaceHolder 2"/>
            <p:cNvSpPr>
              <a:spLocks noGrp="1"/>
            </p:cNvSpPr>
            <p:nvPr>
              <p:ph/>
            </p:nvPr>
          </p:nvSpPr>
          <p:spPr>
            <a:xfrm>
              <a:off x="396720" y="110304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92" name="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02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4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7T18:04:11Z</dcterms:modified>
  <cp:revision>31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