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3.png" ContentType="image/png"/>
  <Override PartName="/ppt/media/image16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7064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EDE66096-9DC5-43B3-AD07-877D6C2D72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68632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98779D9C-3075-4CCE-A774-B878CEEDBCF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197000" y="2161080"/>
            <a:ext cx="70819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rmal Expectation Valu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Group 12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5" name="Text Box 6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AutoShape 7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" name="Group 13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48" name="Text Box 9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AutoShape 10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0" name="Picture 18" descr="https://encrypted-tbn2.gstatic.com/images?q=tbn:ANd9GcTRRrMZUOsPH4i1mnoYZXt_ige4ywxVGHGDltOl0tYfJ0kDxmZuTg"/>
          <p:cNvPicPr/>
          <p:nvPr/>
        </p:nvPicPr>
        <p:blipFill>
          <a:blip r:embed="rId1"/>
          <a:stretch/>
        </p:blipFill>
        <p:spPr>
          <a:xfrm>
            <a:off x="6335640" y="2079720"/>
            <a:ext cx="2210040" cy="206676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6428520" y="409572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udwig Boltzman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34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35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36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7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Object 39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40"/>
          <p:cNvGraphicFramePr/>
          <p:nvPr/>
        </p:nvGraphicFramePr>
        <p:xfrm>
          <a:off x="574560" y="3052800"/>
          <a:ext cx="127656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Object 4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4560" y="3052800"/>
                    <a:ext cx="127656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43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44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Object 4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45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Object 4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Text Box 46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47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1"/>
          <p:cNvSpPr/>
          <p:nvPr/>
        </p:nvSpPr>
        <p:spPr>
          <a:xfrm>
            <a:off x="4347000" y="4232160"/>
            <a:ext cx="459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focus on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nce reservoir &gt;&gt; sy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Text Box 65"/>
          <p:cNvSpPr/>
          <p:nvPr/>
        </p:nvSpPr>
        <p:spPr>
          <a:xfrm>
            <a:off x="822240" y="1612800"/>
            <a:ext cx="75628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It describes how the probability is partitioned among ALL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a function of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cl. all it’s descriptive parameters) and T.  Z(stuff, 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Object 66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67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6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68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Object 6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73"/>
          <p:cNvGraphicFramePr/>
          <p:nvPr/>
        </p:nvGraphicFramePr>
        <p:xfrm>
          <a:off x="1274760" y="3689280"/>
          <a:ext cx="3807000" cy="92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9" name="Object 7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89280"/>
                    <a:ext cx="3807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Rectangle 74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14" name="Group 5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15" name="Line 6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7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8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9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19" name="Line 10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Text Box 11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1" name="Text Box 12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3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Text Box 14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5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Text Box 16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Text Box 17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Text Box 18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Group 4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31" name="Group 5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32" name="Line 6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Line 7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8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9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36" name="Line 10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Text Box 11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" name="Text Box 12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13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Text Box 14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15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16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17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Text Box 18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45" name="Object 19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20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9" name="Group 24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50" name="Text Box 25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26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Group 4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55" name="Group 5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56" name="Line 6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Line 7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8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9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60" name="Line 10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Text Box 11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2" name="Text Box 12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3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 Box 14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15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16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Text Box 17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18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69" name="Object 19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20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3" name="Group 21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74" name="Text Box 22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23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Group 24"/>
          <p:cNvGrpSpPr/>
          <p:nvPr/>
        </p:nvGrpSpPr>
        <p:grpSpPr>
          <a:xfrm>
            <a:off x="716040" y="5460840"/>
            <a:ext cx="7151760" cy="679320"/>
            <a:chOff x="716040" y="5460840"/>
            <a:chExt cx="7151760" cy="679320"/>
          </a:xfrm>
        </p:grpSpPr>
        <p:grpSp>
          <p:nvGrpSpPr>
            <p:cNvPr id="277" name="Group 25"/>
            <p:cNvGrpSpPr/>
            <p:nvPr/>
          </p:nvGrpSpPr>
          <p:grpSpPr>
            <a:xfrm>
              <a:off x="716040" y="5460840"/>
              <a:ext cx="7151760" cy="679320"/>
              <a:chOff x="716040" y="5460840"/>
              <a:chExt cx="7151760" cy="679320"/>
            </a:xfrm>
          </p:grpSpPr>
          <mc:AlternateContent>
            <mc:Choice xmlns:a14="http://schemas.microsoft.com/office/drawing/2010/main" Requires="a14">
              <p:sp>
                <p:nvSpPr>
                  <p:cNvPr id="278" name="Object 26"/>
                  <p:cNvSpPr txBox="1"/>
                  <p:nvPr/>
                </p:nvSpPr>
                <p:spPr>
                  <a:xfrm>
                    <a:off x="716040" y="5460840"/>
                    <a:ext cx="3625920" cy="67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9" name="Object 27"/>
                  <p:cNvSpPr txBox="1"/>
                  <p:nvPr/>
                </p:nvSpPr>
                <p:spPr>
                  <a:xfrm>
                    <a:off x="4124160" y="5470200"/>
                    <a:ext cx="2764080" cy="60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f>
                                <m:num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num>
                                <m:den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85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den>
                              </m:f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80" name="Object 28"/>
                  <p:cNvSpPr txBox="1"/>
                  <p:nvPr/>
                </p:nvSpPr>
                <p:spPr>
                  <a:xfrm>
                    <a:off x="6280200" y="5626080"/>
                    <a:ext cx="158760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7</m:t>
                              </m:r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81" name="Rectangle 29"/>
            <p:cNvSpPr/>
            <p:nvPr/>
          </p:nvSpPr>
          <p:spPr>
            <a:xfrm>
              <a:off x="6854760" y="5595840"/>
              <a:ext cx="687600" cy="406440"/>
            </a:xfrm>
            <a:prstGeom prst="rect">
              <a:avLst/>
            </a:prstGeom>
            <a:noFill/>
            <a:ln w="1260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Group 5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86" name="Group 6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87" name="Line 7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8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9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0" name="Line 10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Text Box 11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Text Box 12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3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Text Box 14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5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Text Box 16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Text Box 17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18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5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303" name="Group 6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04" name="Line 7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8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9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7" name="Line 10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Text Box 11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Text Box 12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3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Text Box 14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5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Text Box 16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Text Box 17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Text Box 18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Text Box 19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20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Group 5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322" name="Group 6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23" name="Line 7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8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9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6" name="Line 10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Text Box 11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Text Box 12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3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14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5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 Box 16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17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18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Text Box 19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20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21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22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Group 5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343" name="Group 6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44" name="Line 7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8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9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7" name="Line 10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Text Box 11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Text Box 12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3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Text Box 14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15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Text Box 16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Text Box 19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20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21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22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23"/>
          <p:cNvSpPr/>
          <p:nvPr/>
        </p:nvSpPr>
        <p:spPr>
          <a:xfrm>
            <a:off x="669960" y="5440320"/>
            <a:ext cx="75470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T decreases, there is less chance to find the molecule with energ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because that’s the highest E. The ratio of its probability to that of every other state always decreases as T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24"/>
          <p:cNvSpPr/>
          <p:nvPr/>
        </p:nvSpPr>
        <p:spPr>
          <a:xfrm>
            <a:off x="1155600" y="5014800"/>
            <a:ext cx="144144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4" name="Object 4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6" name="Group 5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367" name="Line 6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7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8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Line 9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Line 11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6" name="Object 15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8" name="Text Box 16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17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407880" y="96840"/>
            <a:ext cx="8512200" cy="65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So far, we’ve been looking at systems having a fixed amount of total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microstates with that same total energy are possible microstates of th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All macrostates that have that total energy are possible, and the one with the maximum number of microstates (“multiplicity”) is the one we s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(Actually, there are many similar states with “almost” the same macro-observables that are also seen.  Remember there are fluctuation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f the energy can change a bi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Where does that energy come from??     A Thermal Reservo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in Thermal Equilibrium with a heat bat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case, a microstate, n, has a probability controlled by the temperature and the microstate energy,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 It’s proportional to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the Boltzmann Factor.  Unlike constant energy systems, here the probability of a microstate is not the same for all microstates.  The probability is found by normalizing the Boltzmann Factor using the partition function, Z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i). 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(n) = e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-E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/k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efore only microstates with a specified total energy were possible. 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each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ow all microstates are possible, not just those with a specified total energy.  P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ld: fixed energy ensemble         New: thermal ensemble – P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5509800" y="592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Freeform 4"/>
          <p:cNvSpPr/>
          <p:nvPr/>
        </p:nvSpPr>
        <p:spPr>
          <a:xfrm>
            <a:off x="7986600" y="5165640"/>
            <a:ext cx="706680" cy="889200"/>
          </a:xfrm>
          <a:custGeom>
            <a:avLst/>
            <a:gdLst/>
            <a:ahLst/>
            <a:rect l="l" t="t" r="r" b="b"/>
            <a:pathLst>
              <a:path w="606001" h="612959">
                <a:moveTo>
                  <a:pt x="0" y="126576"/>
                </a:moveTo>
                <a:cubicBezTo>
                  <a:pt x="116732" y="61725"/>
                  <a:pt x="233464" y="-3126"/>
                  <a:pt x="330740" y="116"/>
                </a:cubicBezTo>
                <a:cubicBezTo>
                  <a:pt x="428016" y="3358"/>
                  <a:pt x="539885" y="43891"/>
                  <a:pt x="583659" y="146031"/>
                </a:cubicBezTo>
                <a:cubicBezTo>
                  <a:pt x="627433" y="248171"/>
                  <a:pt x="593387" y="612959"/>
                  <a:pt x="593387" y="612959"/>
                </a:cubicBezTo>
              </a:path>
            </a:pathLst>
          </a:custGeom>
          <a:noFill/>
          <a:ln w="19080">
            <a:solidFill>
              <a:srgbClr val="fafd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47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381" name="Text Box 40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Rectangle 43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4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6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388" name="Group 7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389" name="Oval 8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9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10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392" name="Oval 11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2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13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395" name="Oval 14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15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16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398" name="Oval 17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18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19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401" name="Oval 20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21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22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404" name="Oval 23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Line 24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25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407" name="Oval 26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27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28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410" name="Oval 29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Line 30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31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413" name="Oval 32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Line 33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34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416" name="Oval 35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Line 36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Text Box 38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9" name="Object 41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1" name="Group 46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422" name="Text Box 37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Rectangle 45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053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26" name="Picture 2120" descr="brain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2128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1052"/>
          <p:cNvGrpSpPr/>
          <p:nvPr/>
        </p:nvGrpSpPr>
        <p:grpSpPr>
          <a:xfrm>
            <a:off x="2119320" y="3604680"/>
            <a:ext cx="2779560" cy="865440"/>
            <a:chOff x="2119320" y="3604680"/>
            <a:chExt cx="2779560" cy="865440"/>
          </a:xfrm>
        </p:grpSpPr>
        <p:grpSp>
          <p:nvGrpSpPr>
            <p:cNvPr id="429" name="Group 2127"/>
            <p:cNvGrpSpPr/>
            <p:nvPr/>
          </p:nvGrpSpPr>
          <p:grpSpPr>
            <a:xfrm>
              <a:off x="2662200" y="3671640"/>
              <a:ext cx="2236680" cy="798480"/>
              <a:chOff x="2662200" y="36716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430" name="Object 2108"/>
                  <p:cNvSpPr txBox="1"/>
                  <p:nvPr/>
                </p:nvSpPr>
                <p:spPr>
                  <a:xfrm>
                    <a:off x="3844800" y="36716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31" name="Object 2122"/>
                  <p:cNvSpPr txBox="1"/>
                  <p:nvPr/>
                </p:nvSpPr>
                <p:spPr>
                  <a:xfrm>
                    <a:off x="3867120" y="41731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32" name="Line 2123"/>
              <p:cNvSpPr/>
              <p:nvPr/>
            </p:nvSpPr>
            <p:spPr>
              <a:xfrm flipH="1">
                <a:off x="2776320" y="43052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Line 2124"/>
              <p:cNvSpPr/>
              <p:nvPr/>
            </p:nvSpPr>
            <p:spPr>
              <a:xfrm flipH="1">
                <a:off x="2776320" y="37908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Line 2125"/>
              <p:cNvSpPr/>
              <p:nvPr/>
            </p:nvSpPr>
            <p:spPr>
              <a:xfrm flipV="1">
                <a:off x="2662200" y="42098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Line 2126"/>
              <p:cNvSpPr/>
              <p:nvPr/>
            </p:nvSpPr>
            <p:spPr>
              <a:xfrm>
                <a:off x="2681280" y="37144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6" name="Group 2133"/>
            <p:cNvGrpSpPr/>
            <p:nvPr/>
          </p:nvGrpSpPr>
          <p:grpSpPr>
            <a:xfrm>
              <a:off x="2119320" y="3604680"/>
              <a:ext cx="401760" cy="824040"/>
              <a:chOff x="2119320" y="3604680"/>
              <a:chExt cx="401760" cy="824040"/>
            </a:xfrm>
          </p:grpSpPr>
          <p:sp>
            <p:nvSpPr>
              <p:cNvPr id="437" name="Line 2131"/>
              <p:cNvSpPr/>
              <p:nvPr/>
            </p:nvSpPr>
            <p:spPr>
              <a:xfrm flipV="1">
                <a:off x="2489400" y="36046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Text Box 2132"/>
              <p:cNvSpPr/>
              <p:nvPr/>
            </p:nvSpPr>
            <p:spPr>
              <a:xfrm>
                <a:off x="2119320" y="38588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9" name="Object 19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21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2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AutoShape 93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97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(Nuclear) Magnetic Reson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98"/>
          <p:cNvSpPr/>
          <p:nvPr/>
        </p:nvSpPr>
        <p:spPr>
          <a:xfrm>
            <a:off x="387720" y="971640"/>
            <a:ext cx="8390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for one spin, using Boltzmann factors to obtain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 for one spi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 (note one-spin probabilities, 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nd N give answ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Group 111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447" name="Object 101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48" name="Object 10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9" name="Object 102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50" name="Object 10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1" name="Line 103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104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105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106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108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109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Rectangle 113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24"/>
          <p:cNvGrpSpPr/>
          <p:nvPr/>
        </p:nvGrpSpPr>
        <p:grpSpPr>
          <a:xfrm>
            <a:off x="514440" y="4400640"/>
            <a:ext cx="6815160" cy="1991160"/>
            <a:chOff x="514440" y="4400640"/>
            <a:chExt cx="6815160" cy="1991160"/>
          </a:xfrm>
        </p:grpSpPr>
        <p:sp>
          <p:nvSpPr>
            <p:cNvPr id="459" name="Rectangle 3"/>
            <p:cNvSpPr/>
            <p:nvPr/>
          </p:nvSpPr>
          <p:spPr>
            <a:xfrm>
              <a:off x="514440" y="440064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32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61" name="Object 4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63" name="Group 23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464" name="Text Box 74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Line 70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Line 71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72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Text Box 73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Text Box 75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0" name="Line 3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4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Freeform 5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Line 6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7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9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10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11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12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0" name="Object 13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Text Box 14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15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Oval 16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17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18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Line 19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21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(Nuclear) Magnetic Resonance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22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1" name="Rectangle 9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6"/>
          <p:cNvSpPr/>
          <p:nvPr/>
        </p:nvSpPr>
        <p:spPr>
          <a:xfrm>
            <a:off x="830160" y="4148280"/>
            <a:ext cx="567000" cy="36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655560" y="4714920"/>
            <a:ext cx="8193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very spin is stuck in the lowest-energy state, aligned with the fie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 general result: 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For </a:t>
            </a:r>
            <a:r>
              <a:rPr b="0" i="1" lang="en-US" sz="1800" spc="-1" strike="noStrike" u="sng">
                <a:solidFill>
                  <a:srgbClr val="ffc000"/>
                </a:solidFill>
                <a:uFillTx/>
                <a:latin typeface="Arial"/>
              </a:rPr>
              <a:t>any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 realistic system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even a big one)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 are only one or two ground states.  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s T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:  S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The third law” of thermodynam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8"/>
          <p:cNvSpPr/>
          <p:nvPr/>
        </p:nvSpPr>
        <p:spPr>
          <a:xfrm>
            <a:off x="1204920" y="5794200"/>
            <a:ext cx="3560760" cy="668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596240" y="57240"/>
            <a:ext cx="5953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Spin alignmen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3587040" y="572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635040" y="2538360"/>
            <a:ext cx="6800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you take ratios of probabilities, the normalization factor cance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8" name="Object 5"/>
          <p:cNvGraphicFramePr/>
          <p:nvPr/>
        </p:nvGraphicFramePr>
        <p:xfrm>
          <a:off x="1096920" y="3006720"/>
          <a:ext cx="3824280" cy="11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3006720"/>
                    <a:ext cx="38242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Text Box 6"/>
          <p:cNvSpPr/>
          <p:nvPr/>
        </p:nvSpPr>
        <p:spPr>
          <a:xfrm>
            <a:off x="1006560" y="4889520"/>
            <a:ext cx="758916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smaller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y a factor of 658, so B must be larger by that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= 9.9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make 150 T fields (not easily), but not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as large as the field of some neutron sta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4824000" y="3836880"/>
            <a:ext cx="20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ical MRI field ~ 2 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13" name="Group 3"/>
          <p:cNvGrpSpPr/>
          <p:nvPr/>
        </p:nvGrpSpPr>
        <p:grpSpPr>
          <a:xfrm>
            <a:off x="396720" y="1103400"/>
            <a:ext cx="8578800" cy="2925720"/>
            <a:chOff x="396720" y="1103400"/>
            <a:chExt cx="8578800" cy="2925720"/>
          </a:xfrm>
        </p:grpSpPr>
        <p:sp>
          <p:nvSpPr>
            <p:cNvPr id="514" name="Rectangle 4"/>
            <p:cNvSpPr/>
            <p:nvPr/>
          </p:nvSpPr>
          <p:spPr>
            <a:xfrm>
              <a:off x="396720" y="1103400"/>
              <a:ext cx="8578800" cy="29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15" name="Object 5"/>
            <p:cNvGraphicFramePr/>
            <p:nvPr/>
          </p:nvGraphicFramePr>
          <p:xfrm>
            <a:off x="1435320" y="2030400"/>
            <a:ext cx="532008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6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35320" y="2030400"/>
                      <a:ext cx="532008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17" name="Object 1"/>
          <p:cNvGraphicFramePr/>
          <p:nvPr/>
        </p:nvGraphicFramePr>
        <p:xfrm>
          <a:off x="4108320" y="499896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8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08320" y="499896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0" descr="030_Sa063dav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20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5" name="Oval 11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12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3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" name="Line 14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15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16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7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8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19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21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1366920" y="2616840"/>
            <a:ext cx="717696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see next lecture)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2" name="Object 3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6" name="Group 6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527" name="Picture 7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Text Box 8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Text Box 9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Text Box 10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Line 11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2" name="Line 12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s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v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quantum state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or each part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st add all the par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#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“Boltzmann factor”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Text Box 3112"/>
          <p:cNvSpPr/>
          <p:nvPr/>
        </p:nvSpPr>
        <p:spPr>
          <a:xfrm>
            <a:off x="417600" y="1058760"/>
            <a:ext cx="8669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have a fixed TOTAL energy, but they can exchange energy, volume, particles, etc.  Each individual system is at a fixed temperature, not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Group 3118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1" name="Rectangle 3113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3114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Line 3115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Text Box 3117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Rectangle 3119"/>
          <p:cNvSpPr/>
          <p:nvPr/>
        </p:nvSpPr>
        <p:spPr>
          <a:xfrm>
            <a:off x="401760" y="5145120"/>
            <a:ext cx="522576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120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3"/>
          <p:cNvSpPr/>
          <p:nvPr/>
        </p:nvSpPr>
        <p:spPr>
          <a:xfrm>
            <a:off x="4059360" y="3236760"/>
            <a:ext cx="373212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35"/>
          <p:cNvSpPr/>
          <p:nvPr/>
        </p:nvSpPr>
        <p:spPr>
          <a:xfrm>
            <a:off x="125280" y="4924440"/>
            <a:ext cx="901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39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2" name="Text Box 4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Group 6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4" name="Line 7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Line 8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Line 9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Line 10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Line 11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Line 12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14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1" name="Line 15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Line 16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Line 17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Line 18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Line 19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Line 20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Line 21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Line 22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Line 23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Line 24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25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26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Line 27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28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Line 29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30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31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Line 32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" name="Text Box 36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38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Rectangle 40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41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42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35"/>
          <p:cNvSpPr/>
          <p:nvPr/>
        </p:nvSpPr>
        <p:spPr>
          <a:xfrm>
            <a:off x="131760" y="5183280"/>
            <a:ext cx="901872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1581120" y="1298520"/>
            <a:ext cx="7327800" cy="23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25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6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27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28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91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traight Connector 2"/>
          <p:cNvSpPr/>
          <p:nvPr/>
        </p:nvSpPr>
        <p:spPr>
          <a:xfrm>
            <a:off x="358920" y="277920"/>
            <a:ext cx="7888320" cy="56386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700920" y="407880"/>
            <a:ext cx="77533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licit Workshe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ok at the states when the single oscillator, n, has one quantum of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 the other three are sharing 3 quan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Group 10"/>
          <p:cNvGrpSpPr/>
          <p:nvPr/>
        </p:nvGrpSpPr>
        <p:grpSpPr>
          <a:xfrm>
            <a:off x="3191040" y="1652760"/>
            <a:ext cx="2743200" cy="4514760"/>
            <a:chOff x="3191040" y="1652760"/>
            <a:chExt cx="2743200" cy="4514760"/>
          </a:xfrm>
        </p:grpSpPr>
        <p:sp>
          <p:nvSpPr>
            <p:cNvPr id="135" name="Straight Connector 3"/>
            <p:cNvSpPr/>
            <p:nvPr/>
          </p:nvSpPr>
          <p:spPr>
            <a:xfrm>
              <a:off x="3191040" y="2043360"/>
              <a:ext cx="0" cy="41144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Straight Connector 4"/>
            <p:cNvSpPr/>
            <p:nvPr/>
          </p:nvSpPr>
          <p:spPr>
            <a:xfrm>
              <a:off x="4102200" y="2049840"/>
              <a:ext cx="0" cy="41144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Straight Connector 5"/>
            <p:cNvSpPr/>
            <p:nvPr/>
          </p:nvSpPr>
          <p:spPr>
            <a:xfrm>
              <a:off x="5013360" y="2046600"/>
              <a:ext cx="0" cy="41144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Straight Connector 6"/>
            <p:cNvSpPr/>
            <p:nvPr/>
          </p:nvSpPr>
          <p:spPr>
            <a:xfrm>
              <a:off x="5934240" y="2053080"/>
              <a:ext cx="0" cy="41144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TextBox 7"/>
            <p:cNvSpPr/>
            <p:nvPr/>
          </p:nvSpPr>
          <p:spPr>
            <a:xfrm>
              <a:off x="3513600" y="16722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TextBox 8"/>
            <p:cNvSpPr/>
            <p:nvPr/>
          </p:nvSpPr>
          <p:spPr>
            <a:xfrm>
              <a:off x="4438080" y="165276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rush Script MT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Box 9"/>
            <p:cNvSpPr/>
            <p:nvPr/>
          </p:nvSpPr>
          <p:spPr>
            <a:xfrm>
              <a:off x="5307840" y="167220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Straight Connector 10"/>
          <p:cNvSpPr/>
          <p:nvPr/>
        </p:nvSpPr>
        <p:spPr>
          <a:xfrm>
            <a:off x="358920" y="277920"/>
            <a:ext cx="7888320" cy="56386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   From befor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q) ~ q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8"/>
          <p:cNvSpPr/>
          <p:nvPr/>
        </p:nvSpPr>
        <p:spPr>
          <a:xfrm>
            <a:off x="7778880" y="1155600"/>
            <a:ext cx="74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23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25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26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27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28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91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Object 95"/>
          <p:cNvGraphicFramePr/>
          <p:nvPr/>
        </p:nvGraphicFramePr>
        <p:xfrm>
          <a:off x="7061040" y="1519200"/>
          <a:ext cx="168300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9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1040" y="1519200"/>
                    <a:ext cx="16830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" name="Group 99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56" name="Line 3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5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Text Box 6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7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8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9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10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5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8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46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Text Box 47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96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97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98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75" name="Object 100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Object 10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77" name="Group 1"/>
          <p:cNvGrpSpPr/>
          <p:nvPr/>
        </p:nvGrpSpPr>
        <p:grpSpPr>
          <a:xfrm>
            <a:off x="6808680" y="2581200"/>
            <a:ext cx="2230560" cy="1532160"/>
            <a:chOff x="6808680" y="2581200"/>
            <a:chExt cx="2230560" cy="1532160"/>
          </a:xfrm>
        </p:grpSpPr>
        <p:graphicFrame>
          <p:nvGraphicFramePr>
            <p:cNvPr id="178" name="Object 90"/>
            <p:cNvGraphicFramePr/>
            <p:nvPr/>
          </p:nvGraphicFramePr>
          <p:xfrm>
            <a:off x="6808680" y="2924280"/>
            <a:ext cx="2230560" cy="118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9" name="Object 9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08680" y="2924280"/>
                      <a:ext cx="2230560" cy="118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0" name="Text Box 38"/>
            <p:cNvSpPr/>
            <p:nvPr/>
          </p:nvSpPr>
          <p:spPr>
            <a:xfrm>
              <a:off x="7776000" y="258120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 = 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5-04-06T14:47:48Z</dcterms:modified>
  <cp:revision>33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