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4.jpeg" ContentType="image/jpe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4.wmf" ContentType="image/x-wmf"/>
  <Override PartName="/ppt/media/image34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29.wmf" ContentType="image/x-wmf"/>
  <Override PartName="/ppt/media/image17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3.jpeg" ContentType="image/jpeg"/>
  <Override PartName="/ppt/media/image25.wmf" ContentType="image/x-wmf"/>
  <Override PartName="/ppt/media/image31.wmf" ContentType="image/x-wmf"/>
  <Override PartName="/ppt/media/image7.jpeg" ContentType="image/jpeg"/>
  <Override PartName="/ppt/media/image1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9.png" ContentType="image/pn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8580E22-4CE8-4D56-879C-CA9F23703F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lmost no time on this – except qualitatively (i.e., the limi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no/almost no time on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3024B89F-7909-43FB-B932-6BC42CA636C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jnorth/images/graphics/m/Muscle_RubberBand2.jpg&amp;imgrefurl=http://www.learner.org/jnorth/tm/spring/Muscles.html&amp;h=480&amp;w=640&amp;sz=177&amp;tbnid=PIMZn_rYvU4J:&amp;tbnh=101&amp;tbnw=135&amp;start=1&amp;prev=/images%3Fq%3Drubber%2Bband%26hl%3Den%26lr%3D%26sa%3D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66920" y="2385000"/>
            <a:ext cx="7176960" cy="24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60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61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82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8400" y="3406680"/>
            <a:ext cx="52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microstates or arrangements of the lin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8160" y="597204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(with L=30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s only one micro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88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89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7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10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725400" y="295416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7200" y="558648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83240" y="491652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37120" y="557064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y is that ?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444600" y="1212480"/>
            <a:ext cx="79660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4840" y="4608360"/>
            <a:ext cx="56368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349960" y="280368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960" y="280368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47" name="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819000" y="3349800"/>
          <a:ext cx="409608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3349800"/>
                    <a:ext cx="40960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sp>
          <p:nvSpPr>
            <p:cNvPr id="364" name=""/>
            <p:cNvSpPr/>
            <p:nvPr/>
          </p:nvSpPr>
          <p:spPr>
            <a:xfrm>
              <a:off x="5311800" y="53658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11800" y="500688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11800" y="464652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11800" y="42879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11800" y="39276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78400" y="3935520"/>
              <a:ext cx="90360" cy="17906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00880" y="3954600"/>
              <a:ext cx="91800" cy="17715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23000" y="3973680"/>
              <a:ext cx="92160" cy="17524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45120" y="3987720"/>
              <a:ext cx="92160" cy="17384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269040" y="4006800"/>
              <a:ext cx="92160" cy="17193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91160" y="4025880"/>
              <a:ext cx="98640" cy="17002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21560" y="4038480"/>
              <a:ext cx="90360" cy="16876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11800" y="3927600"/>
              <a:ext cx="0" cy="1798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11800" y="57261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5357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57578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5979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20388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4263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654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8785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710100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73231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75452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77691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83000" y="4746600"/>
              <a:ext cx="6422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=100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59320" y="3780000"/>
              <a:ext cx="860400" cy="21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0.0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257440" y="5735520"/>
              <a:ext cx="258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 1   2  3   4 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943680" y="4059360"/>
              <a:ext cx="92160" cy="16668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65800" y="4071960"/>
              <a:ext cx="92160" cy="1654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88280" y="4091040"/>
              <a:ext cx="92160" cy="163512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12200" y="4111560"/>
              <a:ext cx="90360" cy="16146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784760" y="1643040"/>
            <a:ext cx="2908800" cy="1832760"/>
            <a:chOff x="4784760" y="1643040"/>
            <a:chExt cx="2908800" cy="1832760"/>
          </a:xfrm>
        </p:grpSpPr>
        <p:sp>
          <p:nvSpPr>
            <p:cNvPr id="397" name=""/>
            <p:cNvSpPr/>
            <p:nvPr/>
          </p:nvSpPr>
          <p:spPr>
            <a:xfrm>
              <a:off x="525888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78476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9596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9596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5320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272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7368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9292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0244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1196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9596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9596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55054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57164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9356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1452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63547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564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6773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983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72025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7412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6215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39720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831600" y="1658880"/>
            <a:ext cx="2909160" cy="1832760"/>
            <a:chOff x="831600" y="1658880"/>
            <a:chExt cx="2909160" cy="1832760"/>
          </a:xfrm>
        </p:grpSpPr>
        <p:sp>
          <p:nvSpPr>
            <p:cNvPr id="422" name=""/>
            <p:cNvSpPr/>
            <p:nvPr/>
          </p:nvSpPr>
          <p:spPr>
            <a:xfrm>
              <a:off x="130608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160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4316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4316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004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0956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34316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34316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5526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17636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9828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21924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24019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2611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2820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030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2497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3459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36687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44476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2832120" y="3970440"/>
            <a:ext cx="85572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51680" y="4713120"/>
            <a:ext cx="98244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many states with E &lt; k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543640" y="3089160"/>
            <a:ext cx="336240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5299200" y="3368520"/>
            <a:ext cx="3341520" cy="19908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7532640" y="41878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Actual 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08480" y="3691080"/>
            <a:ext cx="168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=kT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(equiparti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08400" y="5226120"/>
            <a:ext cx="3794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            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 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09120" y="3162240"/>
            <a:ext cx="389520" cy="22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100840" y="3094200"/>
            <a:ext cx="45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477280" y="3452760"/>
            <a:ext cx="0" cy="289080"/>
          </a:xfrm>
          <a:prstGeom prst="line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09600" y="34732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712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derivative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672160" y="1928880"/>
            <a:ext cx="3157560" cy="2666880"/>
            <a:chOff x="5672160" y="1928880"/>
            <a:chExt cx="3157560" cy="2666880"/>
          </a:xfrm>
        </p:grpSpPr>
        <p:sp>
          <p:nvSpPr>
            <p:cNvPr id="466" name=""/>
            <p:cNvSpPr/>
            <p:nvPr/>
          </p:nvSpPr>
          <p:spPr>
            <a:xfrm>
              <a:off x="6056640" y="395424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672160" y="2104920"/>
              <a:ext cx="3157560" cy="1765800"/>
              <a:chOff x="5672160" y="2104920"/>
              <a:chExt cx="3157560" cy="1765800"/>
            </a:xfrm>
          </p:grpSpPr>
          <p:sp>
            <p:nvSpPr>
              <p:cNvPr id="468" name=""/>
              <p:cNvSpPr/>
              <p:nvPr/>
            </p:nvSpPr>
            <p:spPr>
              <a:xfrm>
                <a:off x="6981840" y="349380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143760" y="272052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143920" y="3184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721560" y="35334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6143760" y="244296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43760" y="354456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672160" y="252396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43760" y="272700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964120" y="21049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 flipV="1">
              <a:off x="6524640" y="361440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43920" y="192888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040960" y="226368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3282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584440" y="3811680"/>
            <a:ext cx="18478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89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96720" y="1345680"/>
            <a:ext cx="852984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84440" y="363996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96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991800" y="5891040"/>
            <a:ext cx="56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 =  (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)/(1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/K) = 6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16120" y="528624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509" name="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510" name="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4" name="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566" name="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567" name="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3681360" y="1039680"/>
          <a:ext cx="335916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1360" y="1039680"/>
                    <a:ext cx="3359160" cy="8193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77" name=""/>
          <p:cNvSpPr/>
          <p:nvPr/>
        </p:nvSpPr>
        <p:spPr>
          <a:xfrm>
            <a:off x="819000" y="1104840"/>
            <a:ext cx="30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068720" y="163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3-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582" name="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583" name="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5" name="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90" name="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91" name="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8" name="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99" name="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601" name="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3" name="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4" name="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7" name="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609" name="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611" name="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1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13" name="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5" name="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626" name="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631" name="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34" name="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6" name="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637" name="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644" name="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645" name="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7" name="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1" name="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652" name="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54" name="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55" name="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61" name="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662" name="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663" name="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7" name="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72" name="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6" name="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4" name="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6" name=""/>
          <p:cNvSpPr/>
          <p:nvPr/>
        </p:nvSpPr>
        <p:spPr>
          <a:xfrm>
            <a:off x="955080" y="55440"/>
            <a:ext cx="7244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1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5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8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8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7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e the supplement for the behavior of linear mo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36240" y="1795320"/>
            <a:ext cx="8578440" cy="2926080"/>
            <a:chOff x="336240" y="1795320"/>
            <a:chExt cx="8578440" cy="2926080"/>
          </a:xfrm>
        </p:grpSpPr>
        <p:sp>
          <p:nvSpPr>
            <p:cNvPr id="155" name="PlaceHolder 2"/>
            <p:cNvSpPr>
              <a:spLocks noGrp="1"/>
            </p:cNvSpPr>
            <p:nvPr>
              <p:ph/>
            </p:nvPr>
          </p:nvSpPr>
          <p:spPr>
            <a:xfrm>
              <a:off x="33624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6" name=""/>
            <p:cNvGraphicFramePr/>
            <p:nvPr/>
          </p:nvGraphicFramePr>
          <p:xfrm>
            <a:off x="1375200" y="272268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72268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8" name="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59" name="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60" name="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2" name="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7" name="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69" name="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4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2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5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6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208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molecular version of this experiment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eight is replaced by an atomic force instr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664320" y="2905200"/>
            <a:ext cx="2103480" cy="3107520"/>
            <a:chOff x="6664320" y="2905200"/>
            <a:chExt cx="2103480" cy="3107520"/>
          </a:xfrm>
        </p:grpSpPr>
        <p:sp>
          <p:nvSpPr>
            <p:cNvPr id="219" name=""/>
            <p:cNvSpPr/>
            <p:nvPr/>
          </p:nvSpPr>
          <p:spPr>
            <a:xfrm>
              <a:off x="7593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69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846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96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43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04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23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69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74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04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43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7796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61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7821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7974000" y="3440160"/>
              <a:ext cx="152280" cy="507960"/>
              <a:chOff x="7974000" y="3440160"/>
              <a:chExt cx="152280" cy="507960"/>
            </a:xfrm>
          </p:grpSpPr>
          <p:sp>
            <p:nvSpPr>
              <p:cNvPr id="234" name=""/>
              <p:cNvSpPr/>
              <p:nvPr/>
            </p:nvSpPr>
            <p:spPr>
              <a:xfrm>
                <a:off x="7974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974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107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7211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3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56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64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64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8386920" y="3503520"/>
              <a:ext cx="380880" cy="390600"/>
              <a:chOff x="8386920" y="3503520"/>
              <a:chExt cx="380880" cy="390600"/>
            </a:xfrm>
          </p:grpSpPr>
          <p:sp>
            <p:nvSpPr>
              <p:cNvPr id="243" name=""/>
              <p:cNvSpPr/>
              <p:nvPr/>
            </p:nvSpPr>
            <p:spPr>
              <a:xfrm>
                <a:off x="8402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386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7604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34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611600" y="4295880"/>
            <a:ext cx="1714320" cy="425520"/>
            <a:chOff x="4611600" y="4295880"/>
            <a:chExt cx="1714320" cy="425520"/>
          </a:xfrm>
        </p:grpSpPr>
        <p:sp>
          <p:nvSpPr>
            <p:cNvPr id="248" name=""/>
            <p:cNvSpPr/>
            <p:nvPr/>
          </p:nvSpPr>
          <p:spPr>
            <a:xfrm>
              <a:off x="4638600" y="429588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11600" y="472140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116320" y="433080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73200" y="43243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53" name="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4-08-17T18:01:20Z</dcterms:modified>
  <cp:revision>621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