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35.jpeg" ContentType="image/jpeg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38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796120" y="8710560"/>
            <a:ext cx="1267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0AC199-FC9D-48A5-AF1C-18BE00EDA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768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8F54-2C8A-41E0-9B81-4D13063283DC}" type="slidenum">
              <a:rPr b="0" lang="en-US" sz="1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567F-7747-4C90-AAE2-300FD6C8D637}" type="slidenum">
              <a:rPr b="0" lang="en-US" sz="1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C96662DF-DCCE-4F8B-86A0-DD9D10C6B3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12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6" name="Text Box 8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" name="AutoShape 9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minimize F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6708600" y="5135400"/>
            <a:ext cx="1737000" cy="1484640"/>
            <a:chOff x="6708600" y="5135400"/>
            <a:chExt cx="1737000" cy="1484640"/>
          </a:xfrm>
        </p:grpSpPr>
        <p:grpSp>
          <p:nvGrpSpPr>
            <p:cNvPr id="191" name="Group 6"/>
            <p:cNvGrpSpPr/>
            <p:nvPr/>
          </p:nvGrpSpPr>
          <p:grpSpPr>
            <a:xfrm>
              <a:off x="6708600" y="5135400"/>
              <a:ext cx="1737000" cy="479520"/>
              <a:chOff x="6708600" y="5135400"/>
              <a:chExt cx="1737000" cy="479520"/>
            </a:xfrm>
          </p:grpSpPr>
          <p:sp>
            <p:nvSpPr>
              <p:cNvPr id="192" name="Rectangle 7"/>
              <p:cNvSpPr/>
              <p:nvPr/>
            </p:nvSpPr>
            <p:spPr>
              <a:xfrm>
                <a:off x="6708600" y="514008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7856640" y="513540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9"/>
              <p:cNvSpPr/>
              <p:nvPr/>
            </p:nvSpPr>
            <p:spPr>
              <a:xfrm>
                <a:off x="7315200" y="5360760"/>
                <a:ext cx="53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5" name="Text Box 10"/>
              <p:cNvSpPr/>
              <p:nvPr/>
            </p:nvSpPr>
            <p:spPr>
              <a:xfrm>
                <a:off x="7313040" y="5194080"/>
                <a:ext cx="56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energy 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articles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6" name="Text Box 11"/>
              <p:cNvSpPr/>
              <p:nvPr/>
            </p:nvSpPr>
            <p:spPr>
              <a:xfrm>
                <a:off x="8016480" y="5236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Text Box 12"/>
              <p:cNvSpPr/>
              <p:nvPr/>
            </p:nvSpPr>
            <p:spPr>
              <a:xfrm>
                <a:off x="6859080" y="5238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8" name="Arc 13"/>
            <p:cNvSpPr/>
            <p:nvPr/>
          </p:nvSpPr>
          <p:spPr>
            <a:xfrm flipV="1">
              <a:off x="7057800" y="6090480"/>
              <a:ext cx="1052640" cy="23004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-360 h 230040"/>
                <a:gd name="textAreaBottom" fmla="*/ 230040 h 230040"/>
              </a:gdLst>
              <a:ahLst/>
              <a:rect l="textAreaLeft" t="textAreaTop" r="textAreaRight" b="textAreaBottom"/>
              <a:pathLst>
                <a:path fill="none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</a:path>
                <a:path stroke="0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  <a:lnTo>
                    <a:pt x="19315" y="21600"/>
                  </a:lnTo>
                  <a:lnTo>
                    <a:pt x="-1" y="1193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857640" y="5864040"/>
              <a:ext cx="0" cy="70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>
              <a:off x="6857640" y="6559560"/>
              <a:ext cx="1459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>
              <a:off x="8140680" y="6343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2" name="Text Box 17"/>
            <p:cNvSpPr/>
            <p:nvPr/>
          </p:nvSpPr>
          <p:spPr>
            <a:xfrm>
              <a:off x="6819840" y="5771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09" name="Group 6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210" name="AutoShape 7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11" name="Group 8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12" name="Group 9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15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16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17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18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19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20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21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Oval 22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Oval 23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" name="Oval 24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" name="Oval 25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26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30" name="Group 27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31" name="Oval 28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1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Oval 32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Oval 33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Oval 42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Oval 43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AutoShape 44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284040 w 493560"/>
                  <a:gd name="textAreaRight" fmla="*/ 415800 w 493560"/>
                  <a:gd name="textAreaTop" fmla="*/ 34920 h 260280"/>
                  <a:gd name="textAreaBottom" fmla="*/ 1112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Line 9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Rectangle 41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67" name="Object 42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70" name="Text Box 3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72" name="Line 5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73" name="Group 6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74" name="AutoShape 7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75" name="Group 8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76" name="Group 9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77" name="Oval 10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Oval 11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Oval 12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Oval 13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14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15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16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17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8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19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20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21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Oval 22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3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Oval 24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Oval 25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26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94" name="Group 27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95" name="Oval 28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Oval 29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Oval 30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Oval 31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2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Oval 33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Oval 34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Oval 35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Oval 36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Oval 37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Oval 38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Oval 39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Oval 40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Oval 41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Oval 42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43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1" name="AutoShape 44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284040 w 493560"/>
                    <a:gd name="textAreaRight" fmla="*/ 415800 w 493560"/>
                    <a:gd name="textAreaTop" fmla="*/ 34920 h 259920"/>
                    <a:gd name="textAreaBottom" fmla="*/ 1108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6079"/>
                      </a:moveTo>
                      <a:lnTo>
                        <a:pt x="15126" y="0"/>
                      </a:lnTo>
                      <a:lnTo>
                        <a:pt x="15126" y="2912"/>
                      </a:lnTo>
                      <a:lnTo>
                        <a:pt x="12427" y="2912"/>
                      </a:lnTo>
                      <a:cubicBezTo>
                        <a:pt x="5564" y="2912"/>
                        <a:pt x="0" y="7052"/>
                        <a:pt x="0" y="12158"/>
                      </a:cubicBezTo>
                      <a:lnTo>
                        <a:pt x="0" y="21600"/>
                      </a:lnTo>
                      <a:lnTo>
                        <a:pt x="6474" y="21600"/>
                      </a:lnTo>
                      <a:lnTo>
                        <a:pt x="6474" y="12158"/>
                      </a:lnTo>
                      <a:cubicBezTo>
                        <a:pt x="6474" y="10550"/>
                        <a:pt x="9139" y="9246"/>
                        <a:pt x="12427" y="9246"/>
                      </a:cubicBezTo>
                      <a:lnTo>
                        <a:pt x="15126" y="9246"/>
                      </a:lnTo>
                      <a:lnTo>
                        <a:pt x="15126" y="12158"/>
                      </a:lnTo>
                      <a:lnTo>
                        <a:pt x="21600" y="60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Text Box 45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Rectangle 46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16" name="Object 51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52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3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54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23" name="Object 55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4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5" name="Rectangle 56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0" name="Group 1"/>
          <p:cNvGrpSpPr/>
          <p:nvPr/>
        </p:nvGrpSpPr>
        <p:grpSpPr>
          <a:xfrm>
            <a:off x="366840" y="5095800"/>
            <a:ext cx="8385120" cy="1635480"/>
            <a:chOff x="366840" y="5095800"/>
            <a:chExt cx="8385120" cy="1635480"/>
          </a:xfrm>
        </p:grpSpPr>
        <p:sp>
          <p:nvSpPr>
            <p:cNvPr id="331" name="Text Box 8"/>
            <p:cNvSpPr/>
            <p:nvPr/>
          </p:nvSpPr>
          <p:spPr>
            <a:xfrm>
              <a:off x="587160" y="6454800"/>
              <a:ext cx="618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This is not Robert Stirling (“Stirling engine”) but James Stirling, Scottish mathematicia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7540920" y="5298840"/>
              <a:ext cx="1211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derivative is only defined for large 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333" name="Object 15"/>
            <p:cNvGraphicFramePr/>
            <p:nvPr/>
          </p:nvGraphicFramePr>
          <p:xfrm>
            <a:off x="366840" y="5316480"/>
            <a:ext cx="7016760" cy="61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4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6840" y="5316480"/>
                      <a:ext cx="7016760" cy="61740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35" name="Oval 16"/>
            <p:cNvSpPr/>
            <p:nvPr/>
          </p:nvSpPr>
          <p:spPr>
            <a:xfrm>
              <a:off x="473040" y="5095800"/>
              <a:ext cx="1028520" cy="1016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Oval 17"/>
            <p:cNvSpPr/>
            <p:nvPr/>
          </p:nvSpPr>
          <p:spPr>
            <a:xfrm>
              <a:off x="6542280" y="5187600"/>
              <a:ext cx="819000" cy="865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40" name="Object 50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51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52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6" name="Text Box 53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Text Box 54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8" name="Line 56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49" name="Object 57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Object 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9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2" name="Object 5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3" name="Text Box 61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54" name="Object 62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5" name="Object 6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Text Box 63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7" name="Text Box 64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Object 10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4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6" name="Object 9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7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Text Box 11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4" name="Object 5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6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68" name="Object 11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72" name="Object 5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Rectangle 6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78" name="Object 11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Object 4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5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87" name="Object 8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Group 9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90" name="Group 10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91" name="Group 11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92" name="Oval 12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Oval 13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4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5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Oval 16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Oval 17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Oval 18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Oval 19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0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Oval 21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2" name="Oval 22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3" name="Oval 23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5" name="Oval 25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6" name="Oval 26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7" name="Oval 27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8" name="Oval 28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9" name="Oval 29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410" name="Group 30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411" name="Oval 31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2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3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4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5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36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Oval 37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Oval 38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Oval 39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Group 40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21" name="Oval 41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Oval 42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Oval 43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4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5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Oval 46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Oval 47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Oval 48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Group 49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30" name="Group 50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31" name="Oval 51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52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53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54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55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56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57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Oval 58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59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60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41" name="Oval 61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62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63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64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65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66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67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68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69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Group 70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51" name="Oval 71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72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73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74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75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76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77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78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79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80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61" name="Oval 81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82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83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84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85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86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87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88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Oval 89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70" name="Oval 90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71" name="Arc 91"/>
          <p:cNvSpPr/>
          <p:nvPr/>
        </p:nvSpPr>
        <p:spPr>
          <a:xfrm flipV="1">
            <a:off x="3759120" y="5378400"/>
            <a:ext cx="1482840" cy="488880"/>
          </a:xfrm>
          <a:custGeom>
            <a:avLst/>
            <a:gdLst/>
            <a:ahLst/>
            <a:rect l="l" t="t" r="r" b="b"/>
            <a:pathLst>
              <a:path fill="none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</a:path>
              <a:path stroke="0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  <a:lnTo>
                  <a:pt x="18993" y="21600"/>
                </a:lnTo>
                <a:lnTo>
                  <a:pt x="-1" y="11313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5715000" y="6095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6529320" y="5945040"/>
          <a:ext cx="1457280" cy="6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9320" y="5945040"/>
                    <a:ext cx="145728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cropped 403-d"/>
          <p:cNvPicPr/>
          <p:nvPr/>
        </p:nvPicPr>
        <p:blipFill>
          <a:blip r:embed="rId1"/>
          <a:stretch/>
        </p:blipFill>
        <p:spPr>
          <a:xfrm>
            <a:off x="457200" y="378000"/>
            <a:ext cx="8199360" cy="52606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3"/>
          <p:cNvSpPr/>
          <p:nvPr/>
        </p:nvSpPr>
        <p:spPr>
          <a:xfrm>
            <a:off x="304920" y="57913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Paramount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7" name="Line 4"/>
          <p:cNvSpPr/>
          <p:nvPr/>
        </p:nvSpPr>
        <p:spPr>
          <a:xfrm>
            <a:off x="457200" y="64008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8" name="Picture 5" descr="UILogoCL4L C"/>
          <p:cNvPicPr/>
          <p:nvPr/>
        </p:nvPicPr>
        <p:blipFill>
          <a:blip r:embed="rId2"/>
          <a:stretch/>
        </p:blipFill>
        <p:spPr>
          <a:xfrm>
            <a:off x="8381880" y="5867280"/>
            <a:ext cx="454320" cy="76212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6"/>
          <p:cNvSpPr/>
          <p:nvPr/>
        </p:nvSpPr>
        <p:spPr>
          <a:xfrm>
            <a:off x="6019920" y="64008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Paramount"/>
              </a:rPr>
              <a:t>University of Illinoi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0" name="TextBox 1"/>
          <p:cNvSpPr/>
          <p:nvPr/>
        </p:nvSpPr>
        <p:spPr>
          <a:xfrm>
            <a:off x="24120" y="58672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ltra High Vacuum:  Ozon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1" name="TextBox 7"/>
          <p:cNvSpPr/>
          <p:nvPr/>
        </p:nvSpPr>
        <p:spPr>
          <a:xfrm>
            <a:off x="2902320" y="5867280"/>
            <a:ext cx="33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rate Heater:  0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00 C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TextBox 8"/>
          <p:cNvSpPr/>
          <p:nvPr/>
        </p:nvSpPr>
        <p:spPr>
          <a:xfrm>
            <a:off x="6262920" y="58672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HEED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3" name="TextBox 9"/>
          <p:cNvSpPr/>
          <p:nvPr/>
        </p:nvSpPr>
        <p:spPr>
          <a:xfrm>
            <a:off x="7380360" y="5867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Evaporation 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am flux controlled by source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mperature measured by thermocouple and then power supplied to keep temperature cons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uter controlled beam shutter opens and closes to turn beam on and 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ble source means composition uniformity – that’s goo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656160" cy="2494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VaporPress2b_large"/>
          <p:cNvPicPr/>
          <p:nvPr/>
        </p:nvPicPr>
        <p:blipFill>
          <a:blip r:embed="rId2"/>
          <a:stretch/>
        </p:blipFill>
        <p:spPr>
          <a:xfrm>
            <a:off x="104760" y="3429000"/>
            <a:ext cx="501804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952200" y="590400"/>
            <a:ext cx="72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many atoms come out of the end of the effusion cell per secon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89" name="Group 4"/>
          <p:cNvGrpSpPr/>
          <p:nvPr/>
        </p:nvGrpSpPr>
        <p:grpSpPr>
          <a:xfrm>
            <a:off x="2766960" y="2348280"/>
            <a:ext cx="1182600" cy="835920"/>
            <a:chOff x="2766960" y="2348280"/>
            <a:chExt cx="1182600" cy="835920"/>
          </a:xfrm>
        </p:grpSpPr>
        <p:sp>
          <p:nvSpPr>
            <p:cNvPr id="490" name="Isosceles Triangle 2"/>
            <p:cNvSpPr/>
            <p:nvPr/>
          </p:nvSpPr>
          <p:spPr>
            <a:xfrm rot="14821800">
              <a:off x="3136680" y="2217600"/>
              <a:ext cx="442800" cy="10969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91" name="Freeform 3"/>
            <p:cNvSpPr/>
            <p:nvPr/>
          </p:nvSpPr>
          <p:spPr>
            <a:xfrm rot="5400000">
              <a:off x="3121920" y="2683800"/>
              <a:ext cx="182880" cy="237240"/>
            </a:xfrm>
            <a:custGeom>
              <a:avLst/>
              <a:gdLst/>
              <a:ahLst/>
              <a:rect l="l" t="t" r="r" b="b"/>
              <a:pathLst>
                <a:path w="284178" h="368709">
                  <a:moveTo>
                    <a:pt x="62952" y="103238"/>
                  </a:moveTo>
                  <a:cubicBezTo>
                    <a:pt x="48204" y="135193"/>
                    <a:pt x="-37062" y="188172"/>
                    <a:pt x="18707" y="235974"/>
                  </a:cubicBezTo>
                  <a:cubicBezTo>
                    <a:pt x="42314" y="256209"/>
                    <a:pt x="107197" y="265471"/>
                    <a:pt x="107197" y="265471"/>
                  </a:cubicBezTo>
                  <a:cubicBezTo>
                    <a:pt x="116913" y="294619"/>
                    <a:pt x="125450" y="333168"/>
                    <a:pt x="151442" y="353961"/>
                  </a:cubicBezTo>
                  <a:cubicBezTo>
                    <a:pt x="163581" y="363672"/>
                    <a:pt x="180939" y="363793"/>
                    <a:pt x="195687" y="368709"/>
                  </a:cubicBezTo>
                  <a:cubicBezTo>
                    <a:pt x="205519" y="353961"/>
                    <a:pt x="217257" y="340318"/>
                    <a:pt x="225184" y="324464"/>
                  </a:cubicBezTo>
                  <a:cubicBezTo>
                    <a:pt x="232137" y="310559"/>
                    <a:pt x="230221" y="292358"/>
                    <a:pt x="239933" y="280219"/>
                  </a:cubicBezTo>
                  <a:cubicBezTo>
                    <a:pt x="251006" y="266378"/>
                    <a:pt x="269430" y="260554"/>
                    <a:pt x="284178" y="250722"/>
                  </a:cubicBezTo>
                  <a:cubicBezTo>
                    <a:pt x="280411" y="209282"/>
                    <a:pt x="283053" y="100989"/>
                    <a:pt x="254681" y="44245"/>
                  </a:cubicBezTo>
                  <a:cubicBezTo>
                    <a:pt x="246754" y="28391"/>
                    <a:pt x="235016" y="14748"/>
                    <a:pt x="225184" y="0"/>
                  </a:cubicBezTo>
                  <a:cubicBezTo>
                    <a:pt x="193079" y="6421"/>
                    <a:pt x="130567" y="9189"/>
                    <a:pt x="107197" y="44245"/>
                  </a:cubicBezTo>
                  <a:cubicBezTo>
                    <a:pt x="46246" y="135672"/>
                    <a:pt x="77700" y="71283"/>
                    <a:pt x="62952" y="103238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492" name="Straight Arrow Connector 6"/>
          <p:cNvCxnSpPr/>
          <p:nvPr/>
        </p:nvCxnSpPr>
        <p:spPr>
          <a:xfrm flipV="1">
            <a:off x="3949560" y="1945800"/>
            <a:ext cx="627840" cy="403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3" name="Straight Arrow Connector 8"/>
          <p:cNvCxnSpPr/>
          <p:nvPr/>
        </p:nvCxnSpPr>
        <p:spPr>
          <a:xfrm flipV="1">
            <a:off x="4100040" y="2505960"/>
            <a:ext cx="693000" cy="205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4" name="Straight Arrow Connector 10"/>
          <p:cNvCxnSpPr/>
          <p:nvPr/>
        </p:nvCxnSpPr>
        <p:spPr>
          <a:xfrm flipV="1">
            <a:off x="4100040" y="2147040"/>
            <a:ext cx="69300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95" name="TextBox 11"/>
          <p:cNvSpPr/>
          <p:nvPr/>
        </p:nvSpPr>
        <p:spPr>
          <a:xfrm>
            <a:off x="4979160" y="19461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lux of atom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3682440" y="3540240"/>
            <a:ext cx="476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hunk of crystals held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ur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4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0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5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7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6689880" y="557280"/>
            <a:ext cx="1129680" cy="2987640"/>
            <a:chOff x="6689880" y="557280"/>
            <a:chExt cx="1129680" cy="2987640"/>
          </a:xfrm>
        </p:grpSpPr>
        <p:sp>
          <p:nvSpPr>
            <p:cNvPr id="93" name="Rectangle 5"/>
            <p:cNvSpPr/>
            <p:nvPr/>
          </p:nvSpPr>
          <p:spPr>
            <a:xfrm rot="16200000">
              <a:off x="6689880" y="2419560"/>
              <a:ext cx="112536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 rot="16200000">
              <a:off x="6693840" y="588960"/>
              <a:ext cx="112572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7243560" y="1716120"/>
              <a:ext cx="0" cy="72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 rot="16200000">
              <a:off x="6886080" y="258912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 rot="16200000">
              <a:off x="6886080" y="76860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98" name="Straight Arrow Connector 2"/>
          <p:cNvCxnSpPr/>
          <p:nvPr/>
        </p:nvCxnSpPr>
        <p:spPr>
          <a:xfrm>
            <a:off x="8218080" y="1593720"/>
            <a:ext cx="1080" cy="9151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9" name="TextBox 3"/>
          <p:cNvSpPr/>
          <p:nvPr/>
        </p:nvSpPr>
        <p:spPr>
          <a:xfrm>
            <a:off x="8305560" y="1876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689880" y="557280"/>
            <a:ext cx="1129680" cy="2987640"/>
            <a:chOff x="6689880" y="557280"/>
            <a:chExt cx="1129680" cy="2987640"/>
          </a:xfrm>
        </p:grpSpPr>
        <p:sp>
          <p:nvSpPr>
            <p:cNvPr id="105" name="Rectangle 5"/>
            <p:cNvSpPr/>
            <p:nvPr/>
          </p:nvSpPr>
          <p:spPr>
            <a:xfrm rot="16200000">
              <a:off x="6689880" y="2419560"/>
              <a:ext cx="112536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 rot="16200000">
              <a:off x="6693840" y="588960"/>
              <a:ext cx="112572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 flipV="1">
              <a:off x="7243560" y="1716120"/>
              <a:ext cx="0" cy="72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 rot="16200000">
              <a:off x="6886080" y="258912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 rot="16200000">
              <a:off x="6886080" y="76860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110" name="Straight Arrow Connector 17"/>
          <p:cNvCxnSpPr/>
          <p:nvPr/>
        </p:nvCxnSpPr>
        <p:spPr>
          <a:xfrm>
            <a:off x="8218080" y="1593720"/>
            <a:ext cx="1080" cy="9151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11" name="TextBox 18"/>
          <p:cNvSpPr/>
          <p:nvPr/>
        </p:nvSpPr>
        <p:spPr>
          <a:xfrm>
            <a:off x="8305560" y="1876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91960" y="695160"/>
            <a:ext cx="830916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1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2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2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2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2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3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3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3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3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3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4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4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4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64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Object 58"/>
          <p:cNvGraphicFramePr/>
          <p:nvPr/>
        </p:nvGraphicFramePr>
        <p:xfrm>
          <a:off x="6724800" y="5864400"/>
          <a:ext cx="1049040" cy="48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4800" y="5864400"/>
                    <a:ext cx="1049040" cy="4838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8" name="TextBox 1"/>
          <p:cNvSpPr/>
          <p:nvPr/>
        </p:nvSpPr>
        <p:spPr>
          <a:xfrm>
            <a:off x="3501360" y="5410080"/>
            <a:ext cx="4062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chemical potential of sub-system i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7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7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7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Jim Eckstein</cp:lastModifiedBy>
  <cp:lastPrinted>2014-11-17T14:41:41Z</cp:lastPrinted>
  <dcterms:modified xsi:type="dcterms:W3CDTF">2015-02-19T22:33:18Z</dcterms:modified>
  <cp:revision>57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