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225C8C-97FA-42B9-A815-6441F2A89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lie Cube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how black  [~10.1], aluminum (not anodized) [~2.8], and mirror [0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 Discussio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FE2A12D9-C086-41CC-9FFE-1463E5B28F9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re an efficiency li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rl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9"/>
          <p:cNvSpPr/>
          <p:nvPr/>
        </p:nvSpPr>
        <p:spPr>
          <a:xfrm>
            <a:off x="5118120" y="556884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80" name="Object 13"/>
          <p:cNvGraphicFramePr/>
          <p:nvPr/>
        </p:nvGraphicFramePr>
        <p:xfrm>
          <a:off x="736560" y="5251320"/>
          <a:ext cx="3987720" cy="10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51320"/>
                    <a:ext cx="3987720" cy="100512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Text Box 15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85" name="Group 36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286" name="Freeform 6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7" name="Freeform 7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8" name="Line 8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0" name="Text Box 10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4" name="Text Box 14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9" name="Rectangle 19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 - that’s isothermal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00" name="Object 20"/>
          <p:cNvGraphicFramePr/>
          <p:nvPr/>
        </p:nvGraphicFramePr>
        <p:xfrm>
          <a:off x="1035000" y="2568600"/>
          <a:ext cx="38228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2568600"/>
                    <a:ext cx="38228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21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37"/>
          <p:cNvSpPr/>
          <p:nvPr/>
        </p:nvSpPr>
        <p:spPr>
          <a:xfrm>
            <a:off x="5099760" y="2736720"/>
            <a:ext cx="4129560" cy="459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770760" y="6357960"/>
            <a:ext cx="428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seen this before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/ N!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09" name="Rectangle 5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Rectangle 7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9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18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 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dS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4" name="Group 39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335" name="Rectangle 8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Rectangle 10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Line 13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Rectangle 14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42" name="Group 15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343" name="Line 16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44" name="Line 17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45" name="Line 18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40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347" name="Freeform 20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Freeform 21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22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23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Text Box 24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Text Box 25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26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27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Text Box 28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Text Box 29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Freeform 30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32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Text Box 33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61" name="Rectangle 41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2" name="Rectangle 1"/>
          <p:cNvSpPr/>
          <p:nvPr/>
        </p:nvSpPr>
        <p:spPr>
          <a:xfrm>
            <a:off x="5102280" y="1351080"/>
            <a:ext cx="9763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515880" y="1012680"/>
            <a:ext cx="845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, and that doesn’t happen!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Text Box 38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67" name="Group 49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368" name="Text Box 5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69" name="Group 45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370" name="Text Box 22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1" name="Line 23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2" name="Line 24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3" name="Text Box 25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4" name="Text Box 26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5" name="Freeform 27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46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377" name="Freeform 29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Line 31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Line 32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Text Box 34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Text Box 39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Text Box 42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47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384" name="Line 11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Line 12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Text Box 35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Text Box 40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Text Box 43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48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391" name="Line 17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Line 18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3" name="Line 20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4" name="Text Box 36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5" name="Text Box 41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6" name="Text Box 44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00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1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2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10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16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426" name="Text Box 6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7" name="Line 7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8" name="Line 8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Text Box 9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Line 10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Text Box 12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Text Box 13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14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15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436" name="Object 16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8" name="Group 17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439" name="Group 18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440" name="Group 19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441" name="Group 20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442" name="Oval 21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22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23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24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Rectangle 25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Rectangle 26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Rectangle 27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28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Oval 29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30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31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32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Oval 33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34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Oval 35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Oval 36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37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38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Oval 39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40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41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42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Rectangle 43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Rectangle 44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Group 45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467" name="Rectangle 46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9" name="Rectangle 48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470" name="Text Box 49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71" name="Group 50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472" name="Text Box 51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3" name="Rectangle 52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4" name="Line 53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5" name="Line 54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6" name="Text Box 55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7" name="Line 56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8" name="Line 57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9" name="Text Box 58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0" name="Text Box 59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1" name="Oval 60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2" name="Oval 61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83" name="Group 62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484" name="Group 63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485" name="Group 64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486" name="Group 65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487" name="Oval 66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67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Oval 68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Oval 69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Rectangle 70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Rectangle 71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Rectangle 72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Oval 73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Oval 74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Oval 75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Oval 76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77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Oval 78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Oval 79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80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Oval 81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Oval 82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Oval 83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Oval 84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Oval 85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Oval 86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87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Rectangle 88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Group 89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511" name="Rectangle 90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91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3" name="Line 92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4" name="Text Box 93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15" name="Text Box 94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16" name="Text Box 95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17" name="Object 96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9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97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836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12: Blackbody Radiation</a:t>
            </a:r>
            <a:br>
              <a:rPr sz="40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09480" y="920880"/>
            <a:ext cx="74772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nck law gives the spectrum of electromagnetic energy contained in modes with frequencies between f and f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grating over all frequencies giv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radiated energy per unit surface are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wer radiated per unit surface area by a perfect radiator i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power radiated = J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262320" y="5310360"/>
            <a:ext cx="5002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fan-Boltzmann Law of Radiatio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.67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 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Stefan-Boltzmann consta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1181160" y="1631880"/>
          <a:ext cx="19969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631880"/>
                    <a:ext cx="199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Group 6"/>
          <p:cNvGrpSpPr/>
          <p:nvPr/>
        </p:nvGrpSpPr>
        <p:grpSpPr>
          <a:xfrm>
            <a:off x="5753160" y="1333440"/>
            <a:ext cx="3155400" cy="1942560"/>
            <a:chOff x="5753160" y="1333440"/>
            <a:chExt cx="3155400" cy="1942560"/>
          </a:xfrm>
        </p:grpSpPr>
        <p:sp>
          <p:nvSpPr>
            <p:cNvPr id="52" name="Line 7"/>
            <p:cNvSpPr/>
            <p:nvPr/>
          </p:nvSpPr>
          <p:spPr>
            <a:xfrm flipV="1">
              <a:off x="5760720" y="139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5762520" y="2959200"/>
              <a:ext cx="253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6549840" y="28497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157800" y="2970360"/>
              <a:ext cx="105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6487920" y="1449360"/>
              <a:ext cx="241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Planck Radiation Law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8265960" y="2692440"/>
              <a:ext cx="642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/k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5760720" y="186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5753160" y="13334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6202080" y="2338560"/>
              <a:ext cx="738000" cy="59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7478280" y="2632320"/>
              <a:ext cx="374400" cy="29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" name="Line 17"/>
            <p:cNvSpPr/>
            <p:nvPr/>
          </p:nvSpPr>
          <p:spPr>
            <a:xfrm>
              <a:off x="6437160" y="1940040"/>
              <a:ext cx="1218600" cy="10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" name="Line 18"/>
            <p:cNvSpPr/>
            <p:nvPr/>
          </p:nvSpPr>
          <p:spPr>
            <a:xfrm>
              <a:off x="6319440" y="2044800"/>
              <a:ext cx="1112760" cy="90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6259320" y="2185920"/>
              <a:ext cx="91404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" name="Line 20"/>
            <p:cNvSpPr/>
            <p:nvPr/>
          </p:nvSpPr>
          <p:spPr>
            <a:xfrm>
              <a:off x="5968800" y="2808360"/>
              <a:ext cx="16308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" name="Line 21"/>
            <p:cNvSpPr/>
            <p:nvPr/>
          </p:nvSpPr>
          <p:spPr>
            <a:xfrm>
              <a:off x="6071760" y="2689200"/>
              <a:ext cx="29016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" name="Line 22"/>
            <p:cNvSpPr/>
            <p:nvPr/>
          </p:nvSpPr>
          <p:spPr>
            <a:xfrm>
              <a:off x="6154560" y="2525760"/>
              <a:ext cx="5266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8" name="Line 23"/>
            <p:cNvSpPr/>
            <p:nvPr/>
          </p:nvSpPr>
          <p:spPr>
            <a:xfrm>
              <a:off x="7948440" y="2830680"/>
              <a:ext cx="1393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69" name="Group 24"/>
          <p:cNvGrpSpPr/>
          <p:nvPr/>
        </p:nvGrpSpPr>
        <p:grpSpPr>
          <a:xfrm>
            <a:off x="1233360" y="3639960"/>
            <a:ext cx="5981760" cy="1110600"/>
            <a:chOff x="1233360" y="3639960"/>
            <a:chExt cx="5981760" cy="1110600"/>
          </a:xfrm>
        </p:grpSpPr>
        <p:graphicFrame>
          <p:nvGraphicFramePr>
            <p:cNvPr id="70" name="Object 25"/>
            <p:cNvGraphicFramePr/>
            <p:nvPr/>
          </p:nvGraphicFramePr>
          <p:xfrm>
            <a:off x="1233360" y="3639960"/>
            <a:ext cx="598176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3360" y="3639960"/>
                      <a:ext cx="5981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Rectangle 26"/>
            <p:cNvSpPr/>
            <p:nvPr/>
          </p:nvSpPr>
          <p:spPr>
            <a:xfrm>
              <a:off x="4770360" y="3681360"/>
              <a:ext cx="1144800" cy="87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" name="Text Box 27"/>
            <p:cNvSpPr/>
            <p:nvPr/>
          </p:nvSpPr>
          <p:spPr>
            <a:xfrm>
              <a:off x="4724640" y="4519440"/>
              <a:ext cx="123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Just a number: </a:t>
              </a:r>
              <a:r>
                <a:rPr b="0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/15</a:t>
              </a:r>
              <a:endParaRPr b="0" lang="en-US" sz="9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74" name="Object 28"/>
          <p:cNvGraphicFramePr/>
          <p:nvPr/>
        </p:nvGraphicFramePr>
        <p:xfrm>
          <a:off x="1239840" y="5359320"/>
          <a:ext cx="136836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9840" y="5359320"/>
                    <a:ext cx="1368360" cy="4906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521" name="Freeform 3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2" name="Line 4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3" name="Text Box 5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4" name="Text Box 6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5" name="Text Box 7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Text Box 8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Line 9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Line 10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Line 11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Line 12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Freeform 13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4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5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34" name="Group 16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535" name="Group 17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536" name="Object 18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7" name="Group 19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538" name="Group 20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539" name="Group 21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540" name="Oval 22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Oval 23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Oval 24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Oval 25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Rectangle 26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Rectangle 27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Rectangle 28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Oval 29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Oval 30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Oval 31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Oval 32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Oval 33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Oval 34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Oval 35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Oval 36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Oval 37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Oval 38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Oval 39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Oval 40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Oval 41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Oval 42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Oval 43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Rectangle 44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45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564" name="Rectangle 46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Line 47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6" name="Rectangle 48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Text Box 49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  <a:p>
                    <a:pPr marL="285840" indent="-285840"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8" name="Line 50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9" name="Text Box 51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70" name="Group 52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571" name="Text Box 53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72" name="Group 54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573" name="Freeform 55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4" name="Freeform 56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5" name="Line 57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6" name="Text Box 58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7" name="Text Box 59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8" name="Text Box 60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9" name="Line 61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0" name="Line 62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1" name="Line 63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2" name="Line 64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3" name="Freeform 65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Oval 66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5" name="Oval 67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6" name="Group 68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587" name="Group 69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588" name="Object 70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89" name="Group 71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590" name="Oval 72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73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74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75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Rectangle 76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Rectangle 77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78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Oval 79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Oval 80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Oval 81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Oval 82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Oval 83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Oval 84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3" name="Oval 85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86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Oval 87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88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7" name="Oval 89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8" name="Oval 90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Oval 91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Oval 92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Oval 93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94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Line 95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14" name="Text Box 96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15" name="Text Box 97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16" name="Object 98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99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9" name="Text Box 100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20" name="Object 101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1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23" name="Group 30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624" name="Line 14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Text Box 15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Text Box 16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Text Box 17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Text Box 18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Line 19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Text Box 20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Line 22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Line 23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Line 24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Oval 25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Oval 26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Oval 27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38" name="Text Box 28"/>
          <p:cNvSpPr/>
          <p:nvPr/>
        </p:nvSpPr>
        <p:spPr>
          <a:xfrm>
            <a:off x="36360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9" name="Text Box 29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40" name="Object 31"/>
          <p:cNvGraphicFramePr/>
          <p:nvPr/>
        </p:nvGraphicFramePr>
        <p:xfrm>
          <a:off x="414504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504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AutoShape 32"/>
          <p:cNvSpPr/>
          <p:nvPr/>
        </p:nvSpPr>
        <p:spPr>
          <a:xfrm>
            <a:off x="578340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6013440" y="4616280"/>
            <a:ext cx="3089160" cy="9464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 Box 34"/>
          <p:cNvSpPr/>
          <p:nvPr/>
        </p:nvSpPr>
        <p:spPr>
          <a:xfrm>
            <a:off x="520560" y="5757840"/>
            <a:ext cx="553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5178600" y="3327480"/>
            <a:ext cx="377820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48" name="Group 2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649" name="Text Box 7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0" name="Rectangle 8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1" name="Rectangle 9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2" name="Line 11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654" name="Line 13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6" name="Line 15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8" name="Line 17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9" name="Line 18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0" name="Line 19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61" name="Text Box 20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2" name="Line 21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3" name="Line 22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4" name="Text Box 23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5" name="Text Box 25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6" name="Line 26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7" name="Text Box 27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68" name="Rectangle 28"/>
          <p:cNvSpPr/>
          <p:nvPr/>
        </p:nvSpPr>
        <p:spPr>
          <a:xfrm>
            <a:off x="1222200" y="5935680"/>
            <a:ext cx="408960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9" name="Text Box 29"/>
          <p:cNvSpPr/>
          <p:nvPr/>
        </p:nvSpPr>
        <p:spPr>
          <a:xfrm>
            <a:off x="5189400" y="4681440"/>
            <a:ext cx="3694320" cy="64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1" name="Text Box 111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72" name="Group 116"/>
          <p:cNvGrpSpPr/>
          <p:nvPr/>
        </p:nvGrpSpPr>
        <p:grpSpPr>
          <a:xfrm>
            <a:off x="2262240" y="1577880"/>
            <a:ext cx="4181040" cy="3271320"/>
            <a:chOff x="2262240" y="1577880"/>
            <a:chExt cx="4181040" cy="3271320"/>
          </a:xfrm>
        </p:grpSpPr>
        <p:grpSp>
          <p:nvGrpSpPr>
            <p:cNvPr id="673" name="Group 110"/>
            <p:cNvGrpSpPr/>
            <p:nvPr/>
          </p:nvGrpSpPr>
          <p:grpSpPr>
            <a:xfrm>
              <a:off x="2262240" y="1577880"/>
              <a:ext cx="4181040" cy="3271320"/>
              <a:chOff x="2262240" y="1577880"/>
              <a:chExt cx="4181040" cy="3271320"/>
            </a:xfrm>
          </p:grpSpPr>
          <p:sp>
            <p:nvSpPr>
              <p:cNvPr id="674" name="Rectangle 64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5" name="Line 65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6" name="Line 66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7" name="Text Box 69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8" name="Rectangle 70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9" name="Rectangle 72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0" name="Rectangle 74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1" name="Text Box 101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2" name="Arc 102"/>
              <p:cNvSpPr/>
              <p:nvPr/>
            </p:nvSpPr>
            <p:spPr>
              <a:xfrm>
                <a:off x="3460680" y="17874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3" name="Arc 103"/>
              <p:cNvSpPr/>
              <p:nvPr/>
            </p:nvSpPr>
            <p:spPr>
              <a:xfrm>
                <a:off x="3097080" y="22874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4" name="Arc 104"/>
              <p:cNvSpPr/>
              <p:nvPr/>
            </p:nvSpPr>
            <p:spPr>
              <a:xfrm>
                <a:off x="3660480" y="17762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5" name="Arc 105"/>
              <p:cNvSpPr/>
              <p:nvPr/>
            </p:nvSpPr>
            <p:spPr>
              <a:xfrm>
                <a:off x="3668400" y="22813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6" name="Line 106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7" name="Line 107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8" name="Line 108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9" name="Line 109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90" name="Text Box 112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1" name="Text Box 113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2" name="Text Box 114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3" name="Text Box 115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6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96" name="Group 7"/>
          <p:cNvGrpSpPr/>
          <p:nvPr/>
        </p:nvGrpSpPr>
        <p:grpSpPr>
          <a:xfrm>
            <a:off x="5247000" y="2787480"/>
            <a:ext cx="4181040" cy="3271320"/>
            <a:chOff x="5247000" y="2787480"/>
            <a:chExt cx="4181040" cy="3271320"/>
          </a:xfrm>
        </p:grpSpPr>
        <p:grpSp>
          <p:nvGrpSpPr>
            <p:cNvPr id="697" name="Group 8"/>
            <p:cNvGrpSpPr/>
            <p:nvPr/>
          </p:nvGrpSpPr>
          <p:grpSpPr>
            <a:xfrm>
              <a:off x="5247000" y="2787480"/>
              <a:ext cx="4181040" cy="3271320"/>
              <a:chOff x="5247000" y="2787480"/>
              <a:chExt cx="4181040" cy="3271320"/>
            </a:xfrm>
          </p:grpSpPr>
          <p:sp>
            <p:nvSpPr>
              <p:cNvPr id="698" name="Rectangle 9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0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1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Text Box 12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Rectangle 13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Rectangle 14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Rectangle 15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Text Box 16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Arc 17"/>
              <p:cNvSpPr/>
              <p:nvPr/>
            </p:nvSpPr>
            <p:spPr>
              <a:xfrm>
                <a:off x="6445440" y="29970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Arc 18"/>
              <p:cNvSpPr/>
              <p:nvPr/>
            </p:nvSpPr>
            <p:spPr>
              <a:xfrm>
                <a:off x="6081840" y="34970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Arc 19"/>
              <p:cNvSpPr/>
              <p:nvPr/>
            </p:nvSpPr>
            <p:spPr>
              <a:xfrm>
                <a:off x="6645240" y="29858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9" name="Arc 20"/>
              <p:cNvSpPr/>
              <p:nvPr/>
            </p:nvSpPr>
            <p:spPr>
              <a:xfrm>
                <a:off x="6653160" y="34909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0" name="Line 21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1" name="Line 22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2" name="Line 23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3" name="Line 24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14" name="Text Box 25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5" name="Text Box 26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6" name="Text Box 27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7" name="Text Box 28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18" name="Group 29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19" name="Text Box 30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0" name="Rectangle 31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1" name="Rectangle 32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2" name="Line 33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23" name="Group 34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24" name="Line 35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5" name="Freeform 36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6" name="Line 37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7" name="Freeform 38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8" name="Line 39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9" name="Line 40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30" name="Line 41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31" name="Text Box 42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2" name="Line 43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3" name="Line 44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4" name="Text Box 45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5" name="Text Box 46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6" name="Line 47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7" name="Text Box 48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743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744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65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70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85" name="Group 221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786" name="Rectangle 151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7" name="Text Box 152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8" name="Text Box 162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89" name="Group 177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790" name="Group 178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791" name="Line 179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80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181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Group 182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795" name="Line 183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84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Text Box 185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98" name="Line 193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99" name="Text Box 195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00" name="Group 218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801" name="Rectangle 164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2" name="Text Box 165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03" name="Group 166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804" name="Group 167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805" name="Line 168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69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70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171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809" name="Line 172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73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Text Box 174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12" name="Text Box 175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3" name="Line 191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4" name="Text Box 192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5" name="Line 194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6" name="Text Box 196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17" name="Group 219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818" name="Rectangle 105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9" name="Text Box 119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20" name="Group 134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821" name="Group 132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822" name="Line 122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23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24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5" name="Group 133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826" name="Line 125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26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8" name="Text Box 130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29" name="Text Box 135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0" name="Line 197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1" name="Text Box 198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32" name="Group 220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833" name="Rectangle 138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4" name="Text Box 139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35" name="Group 176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836" name="Group 141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837" name="Line 142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143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4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Group 145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841" name="Line 146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147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Text Box 148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44" name="Text Box 149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5" name="Line 187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6" name="Text Box 188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7" name="Line 199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Text Box 200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49" name="Group 208"/>
          <p:cNvGrpSpPr/>
          <p:nvPr/>
        </p:nvGrpSpPr>
        <p:grpSpPr>
          <a:xfrm>
            <a:off x="3078000" y="2350800"/>
            <a:ext cx="2480400" cy="2496240"/>
            <a:chOff x="3078000" y="2350800"/>
            <a:chExt cx="2480400" cy="2496240"/>
          </a:xfrm>
        </p:grpSpPr>
        <p:sp>
          <p:nvSpPr>
            <p:cNvPr id="850" name="Arc 204"/>
            <p:cNvSpPr/>
            <p:nvPr/>
          </p:nvSpPr>
          <p:spPr>
            <a:xfrm flipH="1" flipV="1" rot="3079200">
              <a:off x="3241440" y="30852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Arc 203"/>
            <p:cNvSpPr/>
            <p:nvPr/>
          </p:nvSpPr>
          <p:spPr>
            <a:xfrm rot="3079200">
              <a:off x="4479840" y="32634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Arc 205"/>
            <p:cNvSpPr/>
            <p:nvPr/>
          </p:nvSpPr>
          <p:spPr>
            <a:xfrm flipH="1" flipV="1" rot="19279200">
              <a:off x="3834360" y="376380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Arc 206"/>
            <p:cNvSpPr/>
            <p:nvPr/>
          </p:nvSpPr>
          <p:spPr>
            <a:xfrm flipH="1" flipV="1" rot="8479200">
              <a:off x="3940200" y="251856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54" name="Text Box 209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855" name="Picture 245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7" name="Text Box 56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58" name="Rectangle 57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2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otal work done by the gas is the sum of steps 2 and 4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Example: Efficiency of Stirling Cycle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62" name="Group 5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863" name="Line 6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7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Line 8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Rectangle 9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Line 10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Line 11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12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13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Text Box 14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Line 16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Rectangle 17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Line 18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Rectangle 19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Line 20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Freeform 21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Text Box 22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Text Box 23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Text Box 24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Line 25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Freeform 26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Text Box 27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Line 28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Line 29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Line 30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Line 31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Line 32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Line 33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Line 34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Line 35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Line 36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Line 37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Line 38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Line 39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97" name="Group 40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98" name="Freeform 41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9" name="Line 42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900" name="Text Box 43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44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2" name="Rectangle 45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903" name="Object 46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4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5" name="Text Box 47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et work out of the engin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2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907" name="Object 3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Rectangle 4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0" name="Text Box 5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11" name="Group 6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912" name="Line 7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3" name="Line 8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4" name="Line 9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5" name="Rectangle 10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6" name="Line 11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7" name="Line 12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8" name="Freeform 13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9" name="Freeform 14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0" name="Text Box 15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1" name="Rectangle 16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2" name="Line 17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3" name="Rectangle 18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4" name="Line 19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5" name="Rectangle 20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6" name="Line 21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7" name="Freeform 22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8" name="Text Box 23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9" name="Text Box 24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0" name="Text Box 25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1" name="Line 26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2" name="Freeform 27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3" name="Text Box 28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4" name="Line 29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5" name="Line 30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6" name="Line 31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7" name="Line 32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8" name="Line 33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9" name="Line 34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0" name="Line 35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1" name="Line 36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2" name="Line 37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3" name="Line 38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4" name="Line 39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5" name="Line 40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46" name="Group 41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947" name="Freeform 42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8" name="Line 43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949" name="Text Box 44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Object 45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51" name="Rectangle 46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3240" y="5724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t all Bodies are Blac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1595520" y="4732200"/>
          <a:ext cx="1790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732200"/>
                    <a:ext cx="1790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5"/>
          <p:cNvSpPr/>
          <p:nvPr/>
        </p:nvSpPr>
        <p:spPr>
          <a:xfrm>
            <a:off x="809640" y="4051440"/>
            <a:ext cx="31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dified Stefan-Boltzmann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w of Radi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529160" y="3795840"/>
            <a:ext cx="34844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ypical emissivities (300 K)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po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, anodiz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pa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c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 (!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647640" y="1463040"/>
            <a:ext cx="8288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l materials are not truly “black”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y don’t completely absorb all wavelengths).  The fraction absorbed is call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ban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ich is equ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to i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, 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 dimensionless number 0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 that depends on the properties of the surfac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an ideal emitter (an ide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bod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bsorber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omething that doesn’t emit (or absorb) at all, i.e., a perf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60320" y="6192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is equality didn’t hold, we wouldn’t have thermal equilibri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54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6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273K (ice water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011240" y="516996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We’ll see next time that this is NOT the maximum possible efficiency, which is determined solely by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law of thermodynamic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0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2920" y="65160"/>
            <a:ext cx="86756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lication: 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Earth’s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4960" y="4543560"/>
            <a:ext cx="774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Earth’s temperature remains approximately constant, because the thermal radiation it receives from the Sun is balanced by the thermal radiation it emit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works because, although the Sun is much hotter (and therefore emits much more energy), the Earth only receives a small fraction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3138120" y="1294200"/>
            <a:ext cx="516240" cy="573840"/>
            <a:chOff x="3138120" y="1294200"/>
            <a:chExt cx="516240" cy="573840"/>
          </a:xfrm>
        </p:grpSpPr>
        <p:grpSp>
          <p:nvGrpSpPr>
            <p:cNvPr id="87" name="Group 5"/>
            <p:cNvGrpSpPr/>
            <p:nvPr/>
          </p:nvGrpSpPr>
          <p:grpSpPr>
            <a:xfrm>
              <a:off x="3138120" y="1294200"/>
              <a:ext cx="516240" cy="573840"/>
              <a:chOff x="3138120" y="1294200"/>
              <a:chExt cx="516240" cy="573840"/>
            </a:xfrm>
          </p:grpSpPr>
          <p:sp>
            <p:nvSpPr>
              <p:cNvPr id="88" name="Oval 6"/>
              <p:cNvSpPr/>
              <p:nvPr/>
            </p:nvSpPr>
            <p:spPr>
              <a:xfrm>
                <a:off x="3280320" y="1446120"/>
                <a:ext cx="232200" cy="268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7"/>
              <p:cNvSpPr/>
              <p:nvPr/>
            </p:nvSpPr>
            <p:spPr>
              <a:xfrm>
                <a:off x="3303720" y="151632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90" name="Group 8"/>
              <p:cNvGrpSpPr/>
              <p:nvPr/>
            </p:nvGrpSpPr>
            <p:grpSpPr>
              <a:xfrm>
                <a:off x="3138120" y="1558080"/>
                <a:ext cx="126360" cy="39960"/>
                <a:chOff x="3138120" y="1558080"/>
                <a:chExt cx="126360" cy="39960"/>
              </a:xfrm>
            </p:grpSpPr>
            <p:sp>
              <p:nvSpPr>
                <p:cNvPr id="91" name="Freeform 9"/>
                <p:cNvSpPr/>
                <p:nvPr/>
              </p:nvSpPr>
              <p:spPr>
                <a:xfrm flipH="1">
                  <a:off x="3154320" y="1558080"/>
                  <a:ext cx="11016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" name="Line 10"/>
                <p:cNvSpPr/>
                <p:nvPr/>
              </p:nvSpPr>
              <p:spPr>
                <a:xfrm flipH="1">
                  <a:off x="3138120" y="1578600"/>
                  <a:ext cx="26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11"/>
              <p:cNvGrpSpPr/>
              <p:nvPr/>
            </p:nvGrpSpPr>
            <p:grpSpPr>
              <a:xfrm>
                <a:off x="3379320" y="1294200"/>
                <a:ext cx="36720" cy="135720"/>
                <a:chOff x="3379320" y="1294200"/>
                <a:chExt cx="36720" cy="135720"/>
              </a:xfrm>
            </p:grpSpPr>
            <p:sp>
              <p:nvSpPr>
                <p:cNvPr id="94" name="Freeform 12"/>
                <p:cNvSpPr/>
                <p:nvPr/>
              </p:nvSpPr>
              <p:spPr>
                <a:xfrm rot="16200000">
                  <a:off x="3338280" y="1352160"/>
                  <a:ext cx="118440" cy="367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" name="Line 13"/>
                <p:cNvSpPr/>
                <p:nvPr/>
              </p:nvSpPr>
              <p:spPr>
                <a:xfrm flipV="1">
                  <a:off x="3398040" y="1294200"/>
                  <a:ext cx="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14"/>
              <p:cNvGrpSpPr/>
              <p:nvPr/>
            </p:nvGrpSpPr>
            <p:grpSpPr>
              <a:xfrm>
                <a:off x="3369600" y="1729800"/>
                <a:ext cx="38880" cy="138240"/>
                <a:chOff x="3369600" y="1729800"/>
                <a:chExt cx="38880" cy="138240"/>
              </a:xfrm>
            </p:grpSpPr>
            <p:sp>
              <p:nvSpPr>
                <p:cNvPr id="97" name="Freeform 15"/>
                <p:cNvSpPr/>
                <p:nvPr/>
              </p:nvSpPr>
              <p:spPr>
                <a:xfrm rot="5400000">
                  <a:off x="3328560" y="17704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" name="Line 16"/>
                <p:cNvSpPr/>
                <p:nvPr/>
              </p:nvSpPr>
              <p:spPr>
                <a:xfrm>
                  <a:off x="3388680" y="1838880"/>
                  <a:ext cx="0" cy="2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17"/>
              <p:cNvGrpSpPr/>
              <p:nvPr/>
            </p:nvGrpSpPr>
            <p:grpSpPr>
              <a:xfrm>
                <a:off x="3200400" y="1664640"/>
                <a:ext cx="110880" cy="110160"/>
                <a:chOff x="3200400" y="1664640"/>
                <a:chExt cx="110880" cy="110160"/>
              </a:xfrm>
            </p:grpSpPr>
            <p:sp>
              <p:nvSpPr>
                <p:cNvPr id="100" name="Freeform 18"/>
                <p:cNvSpPr/>
                <p:nvPr/>
              </p:nvSpPr>
              <p:spPr>
                <a:xfrm rot="8123400">
                  <a:off x="3197520" y="1699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" name="Line 19"/>
                <p:cNvSpPr/>
                <p:nvPr/>
              </p:nvSpPr>
              <p:spPr>
                <a:xfrm flipH="1">
                  <a:off x="3201840" y="175248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0"/>
              <p:cNvGrpSpPr/>
              <p:nvPr/>
            </p:nvGrpSpPr>
            <p:grpSpPr>
              <a:xfrm>
                <a:off x="3520800" y="1560240"/>
                <a:ext cx="133560" cy="39960"/>
                <a:chOff x="3520800" y="1560240"/>
                <a:chExt cx="133560" cy="39960"/>
              </a:xfrm>
            </p:grpSpPr>
            <p:sp>
              <p:nvSpPr>
                <p:cNvPr id="103" name="Freeform 21"/>
                <p:cNvSpPr/>
                <p:nvPr/>
              </p:nvSpPr>
              <p:spPr>
                <a:xfrm>
                  <a:off x="3520800" y="156024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Line 22"/>
                <p:cNvSpPr/>
                <p:nvPr/>
              </p:nvSpPr>
              <p:spPr>
                <a:xfrm>
                  <a:off x="3626280" y="1580760"/>
                  <a:ext cx="2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23"/>
              <p:cNvGrpSpPr/>
              <p:nvPr/>
            </p:nvGrpSpPr>
            <p:grpSpPr>
              <a:xfrm>
                <a:off x="3211200" y="1375560"/>
                <a:ext cx="112320" cy="113040"/>
                <a:chOff x="3211200" y="1375560"/>
                <a:chExt cx="112320" cy="113040"/>
              </a:xfrm>
            </p:grpSpPr>
            <p:sp>
              <p:nvSpPr>
                <p:cNvPr id="106" name="Freeform 24"/>
                <p:cNvSpPr/>
                <p:nvPr/>
              </p:nvSpPr>
              <p:spPr>
                <a:xfrm rot="13523400">
                  <a:off x="3206880" y="14122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Line 25"/>
                <p:cNvSpPr/>
                <p:nvPr/>
              </p:nvSpPr>
              <p:spPr>
                <a:xfrm flipH="1" flipV="1">
                  <a:off x="3213000" y="137628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26"/>
              <p:cNvGrpSpPr/>
              <p:nvPr/>
            </p:nvGrpSpPr>
            <p:grpSpPr>
              <a:xfrm>
                <a:off x="3474720" y="1376640"/>
                <a:ext cx="110880" cy="110160"/>
                <a:chOff x="3474720" y="1376640"/>
                <a:chExt cx="110880" cy="110160"/>
              </a:xfrm>
            </p:grpSpPr>
            <p:sp>
              <p:nvSpPr>
                <p:cNvPr id="109" name="Freeform 27"/>
                <p:cNvSpPr/>
                <p:nvPr/>
              </p:nvSpPr>
              <p:spPr>
                <a:xfrm rot="18923400">
                  <a:off x="3471840" y="1411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" name="Line 28"/>
                <p:cNvSpPr/>
                <p:nvPr/>
              </p:nvSpPr>
              <p:spPr>
                <a:xfrm flipV="1">
                  <a:off x="3564000" y="137916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29"/>
              <p:cNvGrpSpPr/>
              <p:nvPr/>
            </p:nvGrpSpPr>
            <p:grpSpPr>
              <a:xfrm>
                <a:off x="3474000" y="1667520"/>
                <a:ext cx="112320" cy="113040"/>
                <a:chOff x="3474000" y="1667520"/>
                <a:chExt cx="112320" cy="113040"/>
              </a:xfrm>
            </p:grpSpPr>
            <p:sp>
              <p:nvSpPr>
                <p:cNvPr id="112" name="Freeform 30"/>
                <p:cNvSpPr/>
                <p:nvPr/>
              </p:nvSpPr>
              <p:spPr>
                <a:xfrm rot="2723400">
                  <a:off x="3469680" y="170460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31"/>
                <p:cNvSpPr/>
                <p:nvPr/>
              </p:nvSpPr>
              <p:spPr>
                <a:xfrm>
                  <a:off x="3564000" y="175932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4" name="Picture 32" descr="EARTH PIC"/>
            <p:cNvPicPr/>
            <p:nvPr/>
          </p:nvPicPr>
          <p:blipFill>
            <a:blip r:embed="rId1"/>
            <a:stretch/>
          </p:blipFill>
          <p:spPr>
            <a:xfrm>
              <a:off x="3272040" y="1441080"/>
              <a:ext cx="281880" cy="2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Group 33"/>
          <p:cNvGrpSpPr/>
          <p:nvPr/>
        </p:nvGrpSpPr>
        <p:grpSpPr>
          <a:xfrm>
            <a:off x="192240" y="1638720"/>
            <a:ext cx="1536120" cy="1651320"/>
            <a:chOff x="192240" y="1638720"/>
            <a:chExt cx="1536120" cy="1651320"/>
          </a:xfrm>
        </p:grpSpPr>
        <p:grpSp>
          <p:nvGrpSpPr>
            <p:cNvPr id="116" name="Group 34"/>
            <p:cNvGrpSpPr/>
            <p:nvPr/>
          </p:nvGrpSpPr>
          <p:grpSpPr>
            <a:xfrm>
              <a:off x="192240" y="1638720"/>
              <a:ext cx="1536120" cy="1651320"/>
              <a:chOff x="192240" y="1638720"/>
              <a:chExt cx="1536120" cy="1651320"/>
            </a:xfrm>
          </p:grpSpPr>
          <p:sp>
            <p:nvSpPr>
              <p:cNvPr id="117" name="Oval 35"/>
              <p:cNvSpPr/>
              <p:nvPr/>
            </p:nvSpPr>
            <p:spPr>
              <a:xfrm>
                <a:off x="614520" y="2076120"/>
                <a:ext cx="691920" cy="771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18" name="Text Box 36"/>
              <p:cNvSpPr/>
              <p:nvPr/>
            </p:nvSpPr>
            <p:spPr>
              <a:xfrm>
                <a:off x="816120" y="2276280"/>
                <a:ext cx="29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19" name="Group 37"/>
              <p:cNvGrpSpPr/>
              <p:nvPr/>
            </p:nvGrpSpPr>
            <p:grpSpPr>
              <a:xfrm>
                <a:off x="192240" y="2398320"/>
                <a:ext cx="375840" cy="115560"/>
                <a:chOff x="192240" y="2398320"/>
                <a:chExt cx="375840" cy="115560"/>
              </a:xfrm>
            </p:grpSpPr>
            <p:sp>
              <p:nvSpPr>
                <p:cNvPr id="120" name="Freeform 38"/>
                <p:cNvSpPr/>
                <p:nvPr/>
              </p:nvSpPr>
              <p:spPr>
                <a:xfrm flipH="1">
                  <a:off x="240480" y="2398320"/>
                  <a:ext cx="32760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" name="Line 39"/>
                <p:cNvSpPr/>
                <p:nvPr/>
              </p:nvSpPr>
              <p:spPr>
                <a:xfrm flipH="1">
                  <a:off x="192240" y="245772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Group 40"/>
              <p:cNvGrpSpPr/>
              <p:nvPr/>
            </p:nvGrpSpPr>
            <p:grpSpPr>
              <a:xfrm>
                <a:off x="909720" y="1638720"/>
                <a:ext cx="109440" cy="391320"/>
                <a:chOff x="909720" y="1638720"/>
                <a:chExt cx="109440" cy="391320"/>
              </a:xfrm>
            </p:grpSpPr>
            <p:sp>
              <p:nvSpPr>
                <p:cNvPr id="123" name="Freeform 41"/>
                <p:cNvSpPr/>
                <p:nvPr/>
              </p:nvSpPr>
              <p:spPr>
                <a:xfrm rot="16200000">
                  <a:off x="793800" y="1804680"/>
                  <a:ext cx="341280" cy="10944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" name="Line 42"/>
                <p:cNvSpPr/>
                <p:nvPr/>
              </p:nvSpPr>
              <p:spPr>
                <a:xfrm flipV="1">
                  <a:off x="965880" y="163872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Group 43"/>
              <p:cNvGrpSpPr/>
              <p:nvPr/>
            </p:nvGrpSpPr>
            <p:grpSpPr>
              <a:xfrm>
                <a:off x="881280" y="2892240"/>
                <a:ext cx="115920" cy="397800"/>
                <a:chOff x="881280" y="2892240"/>
                <a:chExt cx="115920" cy="397800"/>
              </a:xfrm>
            </p:grpSpPr>
            <p:sp>
              <p:nvSpPr>
                <p:cNvPr id="126" name="Freeform 44"/>
                <p:cNvSpPr/>
                <p:nvPr/>
              </p:nvSpPr>
              <p:spPr>
                <a:xfrm rot="5400000">
                  <a:off x="765720" y="300744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" name="Line 45"/>
                <p:cNvSpPr/>
                <p:nvPr/>
              </p:nvSpPr>
              <p:spPr>
                <a:xfrm>
                  <a:off x="937800" y="320616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46"/>
              <p:cNvGrpSpPr/>
              <p:nvPr/>
            </p:nvGrpSpPr>
            <p:grpSpPr>
              <a:xfrm>
                <a:off x="380520" y="2700360"/>
                <a:ext cx="327960" cy="325800"/>
                <a:chOff x="380520" y="2700360"/>
                <a:chExt cx="327960" cy="325800"/>
              </a:xfrm>
            </p:grpSpPr>
            <p:sp>
              <p:nvSpPr>
                <p:cNvPr id="129" name="Freeform 47"/>
                <p:cNvSpPr/>
                <p:nvPr/>
              </p:nvSpPr>
              <p:spPr>
                <a:xfrm rot="8123400">
                  <a:off x="371160" y="280548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" name="Line 48"/>
                <p:cNvSpPr/>
                <p:nvPr/>
              </p:nvSpPr>
              <p:spPr>
                <a:xfrm flipH="1">
                  <a:off x="383760" y="2960640"/>
                  <a:ext cx="5940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49"/>
              <p:cNvGrpSpPr/>
              <p:nvPr/>
            </p:nvGrpSpPr>
            <p:grpSpPr>
              <a:xfrm>
                <a:off x="1330560" y="2404800"/>
                <a:ext cx="397800" cy="115560"/>
                <a:chOff x="1330560" y="2404800"/>
                <a:chExt cx="397800" cy="115560"/>
              </a:xfrm>
            </p:grpSpPr>
            <p:sp>
              <p:nvSpPr>
                <p:cNvPr id="132" name="Freeform 50"/>
                <p:cNvSpPr/>
                <p:nvPr/>
              </p:nvSpPr>
              <p:spPr>
                <a:xfrm>
                  <a:off x="1330560" y="240480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" name="Line 51"/>
                <p:cNvSpPr/>
                <p:nvPr/>
              </p:nvSpPr>
              <p:spPr>
                <a:xfrm>
                  <a:off x="1644480" y="246420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52"/>
              <p:cNvGrpSpPr/>
              <p:nvPr/>
            </p:nvGrpSpPr>
            <p:grpSpPr>
              <a:xfrm>
                <a:off x="413280" y="1872360"/>
                <a:ext cx="325800" cy="328320"/>
                <a:chOff x="413280" y="1872360"/>
                <a:chExt cx="325800" cy="328320"/>
              </a:xfrm>
            </p:grpSpPr>
            <p:sp>
              <p:nvSpPr>
                <p:cNvPr id="135" name="Freeform 53"/>
                <p:cNvSpPr/>
                <p:nvPr/>
              </p:nvSpPr>
              <p:spPr>
                <a:xfrm rot="13523400">
                  <a:off x="402480" y="197856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" name="Line 54"/>
                <p:cNvSpPr/>
                <p:nvPr/>
              </p:nvSpPr>
              <p:spPr>
                <a:xfrm flipH="1" flipV="1">
                  <a:off x="419400" y="18756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55"/>
              <p:cNvGrpSpPr/>
              <p:nvPr/>
            </p:nvGrpSpPr>
            <p:grpSpPr>
              <a:xfrm>
                <a:off x="1194840" y="1872720"/>
                <a:ext cx="328320" cy="326160"/>
                <a:chOff x="1194840" y="1872720"/>
                <a:chExt cx="328320" cy="326160"/>
              </a:xfrm>
            </p:grpSpPr>
            <p:sp>
              <p:nvSpPr>
                <p:cNvPr id="138" name="Freeform 56"/>
                <p:cNvSpPr/>
                <p:nvPr/>
              </p:nvSpPr>
              <p:spPr>
                <a:xfrm rot="18923400">
                  <a:off x="1185120" y="1977840"/>
                  <a:ext cx="34704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" name="Line 57"/>
                <p:cNvSpPr/>
                <p:nvPr/>
              </p:nvSpPr>
              <p:spPr>
                <a:xfrm flipV="1">
                  <a:off x="1460160" y="1879200"/>
                  <a:ext cx="5976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58"/>
              <p:cNvGrpSpPr/>
              <p:nvPr/>
            </p:nvGrpSpPr>
            <p:grpSpPr>
              <a:xfrm>
                <a:off x="1196280" y="2711880"/>
                <a:ext cx="325800" cy="328320"/>
                <a:chOff x="1196280" y="2711880"/>
                <a:chExt cx="325800" cy="328320"/>
              </a:xfrm>
            </p:grpSpPr>
            <p:sp>
              <p:nvSpPr>
                <p:cNvPr id="141" name="Freeform 59"/>
                <p:cNvSpPr/>
                <p:nvPr/>
              </p:nvSpPr>
              <p:spPr>
                <a:xfrm rot="2723400">
                  <a:off x="1185840" y="281772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" name="Line 60"/>
                <p:cNvSpPr/>
                <p:nvPr/>
              </p:nvSpPr>
              <p:spPr>
                <a:xfrm>
                  <a:off x="1456920" y="29772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Oval 61"/>
            <p:cNvSpPr/>
            <p:nvPr/>
          </p:nvSpPr>
          <p:spPr>
            <a:xfrm>
              <a:off x="590400" y="2079720"/>
              <a:ext cx="783720" cy="78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144" name="Picture 62" descr="bbes"/>
          <p:cNvPicPr/>
          <p:nvPr/>
        </p:nvPicPr>
        <p:blipFill>
          <a:blip r:embed="rId2"/>
          <a:stretch/>
        </p:blipFill>
        <p:spPr>
          <a:xfrm>
            <a:off x="4670280" y="1297080"/>
            <a:ext cx="4229280" cy="2493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3"/>
          <p:cNvSpPr/>
          <p:nvPr/>
        </p:nvSpPr>
        <p:spPr>
          <a:xfrm>
            <a:off x="4624560" y="38671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magnitude of the Earth curve has been magnified 500,000 times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2881440"/>
            <a:ext cx="9375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 the energy flow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wer absorbed from sun = Power radiated by earth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80 K (~room temperature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3252960" y="1260360"/>
            <a:ext cx="927000" cy="986040"/>
          </a:xfrm>
          <a:prstGeom prst="ellipse">
            <a:avLst/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847800" y="1560600"/>
            <a:ext cx="287280" cy="28872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" name="Freeform 5"/>
          <p:cNvSpPr/>
          <p:nvPr/>
        </p:nvSpPr>
        <p:spPr>
          <a:xfrm>
            <a:off x="992160" y="741240"/>
            <a:ext cx="241200" cy="1917720"/>
          </a:xfrm>
          <a:custGeom>
            <a:avLst/>
            <a:gdLst/>
            <a:ahLst/>
            <a:rect l="l" t="t" r="r" b="b"/>
            <a:pathLst>
              <a:path w="152" h="1208">
                <a:moveTo>
                  <a:pt x="151" y="1207"/>
                </a:moveTo>
                <a:lnTo>
                  <a:pt x="123" y="1131"/>
                </a:lnTo>
                <a:lnTo>
                  <a:pt x="96" y="1059"/>
                </a:lnTo>
                <a:lnTo>
                  <a:pt x="71" y="983"/>
                </a:lnTo>
                <a:lnTo>
                  <a:pt x="48" y="908"/>
                </a:lnTo>
                <a:lnTo>
                  <a:pt x="29" y="832"/>
                </a:lnTo>
                <a:lnTo>
                  <a:pt x="20" y="796"/>
                </a:lnTo>
                <a:lnTo>
                  <a:pt x="14" y="759"/>
                </a:lnTo>
                <a:lnTo>
                  <a:pt x="8" y="720"/>
                </a:lnTo>
                <a:lnTo>
                  <a:pt x="4" y="684"/>
                </a:lnTo>
                <a:lnTo>
                  <a:pt x="2" y="645"/>
                </a:lnTo>
                <a:lnTo>
                  <a:pt x="0" y="608"/>
                </a:lnTo>
                <a:lnTo>
                  <a:pt x="2" y="569"/>
                </a:lnTo>
                <a:lnTo>
                  <a:pt x="4" y="530"/>
                </a:lnTo>
                <a:lnTo>
                  <a:pt x="10" y="487"/>
                </a:lnTo>
                <a:lnTo>
                  <a:pt x="18" y="442"/>
                </a:lnTo>
                <a:lnTo>
                  <a:pt x="26" y="400"/>
                </a:lnTo>
                <a:lnTo>
                  <a:pt x="36" y="354"/>
                </a:lnTo>
                <a:lnTo>
                  <a:pt x="59" y="267"/>
                </a:lnTo>
                <a:lnTo>
                  <a:pt x="82" y="185"/>
                </a:lnTo>
                <a:lnTo>
                  <a:pt x="105" y="109"/>
                </a:lnTo>
                <a:lnTo>
                  <a:pt x="115" y="76"/>
                </a:lnTo>
                <a:lnTo>
                  <a:pt x="123" y="49"/>
                </a:lnTo>
                <a:lnTo>
                  <a:pt x="131" y="22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 flipH="1" flipV="1">
            <a:off x="1196640" y="901800"/>
            <a:ext cx="2513160" cy="8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H="1" flipV="1">
            <a:off x="3592440" y="1298520"/>
            <a:ext cx="10656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895400" y="861840"/>
            <a:ext cx="2009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425520" y="1378080"/>
            <a:ext cx="51444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33280" y="65160"/>
            <a:ext cx="8675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arth’s Temperature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901320" y="1052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632480" y="1852560"/>
            <a:ext cx="43113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the Earth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R)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rth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954320" y="752400"/>
            <a:ext cx="15847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 = 1.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800 K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141120" y="3605040"/>
            <a:ext cx="79772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wait! We did not account for the fact that about 30% of the sun’s radiation reflects off our atmosphere!  (The planet’s “albedo”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0% less input from the sun means about 8% lower temperature becau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/4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This factor reduces our best estimate of the Earth’s temperature by about 30 K.  Now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50 K, or 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.  Brrr!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fact the average surface temperature of the Earth is about 290 K, or about 6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, just right for Earthly life.  (coincidence? I think not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xtra 60° F of warming is mainly due to the “greenhouse effect”, the fact that some of the radiation from the Earth is reflected back by the atmosphere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exactly is the “greenhouse effect”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member Molecular vibrations: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9360" y="12189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lyatomic molecul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, C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ave rotational and vibrational modes that correspond to photon wavelengths (energies) in the infrared.  These molecules absorb (and emit) IR radiation much more effectively than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absorption is in the middle of the Earth’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spectrum, but in the tail of the Sun’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ult is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ur atmosphere lets most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the sunlight through, but absorbs a larger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action of the radiation that the Earth em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776920" y="3052800"/>
            <a:ext cx="28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ong absorption in the infrared. (rotational and vibrational motions)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6210360" y="2281320"/>
            <a:ext cx="1540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6491160" y="2711520"/>
            <a:ext cx="1558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6826320" y="2271600"/>
            <a:ext cx="154080" cy="1638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" name="Freeform 8"/>
          <p:cNvSpPr/>
          <p:nvPr/>
        </p:nvSpPr>
        <p:spPr>
          <a:xfrm rot="3351600">
            <a:off x="6258240" y="2509200"/>
            <a:ext cx="328680" cy="1681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" name="Freeform 9"/>
          <p:cNvSpPr/>
          <p:nvPr/>
        </p:nvSpPr>
        <p:spPr>
          <a:xfrm rot="18787800">
            <a:off x="6563520" y="2507040"/>
            <a:ext cx="361800" cy="1825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376200" y="4181400"/>
            <a:ext cx="5311800" cy="2476080"/>
            <a:chOff x="376200" y="4181400"/>
            <a:chExt cx="5311800" cy="2476080"/>
          </a:xfrm>
        </p:grpSpPr>
        <p:sp>
          <p:nvSpPr>
            <p:cNvPr id="168" name="Line 11"/>
            <p:cNvSpPr/>
            <p:nvPr/>
          </p:nvSpPr>
          <p:spPr>
            <a:xfrm flipV="1">
              <a:off x="986040" y="4411440"/>
              <a:ext cx="0" cy="13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982800" y="4394160"/>
              <a:ext cx="3624120" cy="1361880"/>
            </a:xfrm>
            <a:custGeom>
              <a:avLst/>
              <a:gdLst/>
              <a:ahLst/>
              <a:rect l="l" t="t" r="r" b="b"/>
              <a:pathLst>
                <a:path w="2283" h="858">
                  <a:moveTo>
                    <a:pt x="0" y="857"/>
                  </a:moveTo>
                  <a:lnTo>
                    <a:pt x="81" y="708"/>
                  </a:lnTo>
                  <a:lnTo>
                    <a:pt x="163" y="563"/>
                  </a:lnTo>
                  <a:lnTo>
                    <a:pt x="204" y="494"/>
                  </a:lnTo>
                  <a:lnTo>
                    <a:pt x="245" y="427"/>
                  </a:lnTo>
                  <a:lnTo>
                    <a:pt x="286" y="363"/>
                  </a:lnTo>
                  <a:lnTo>
                    <a:pt x="327" y="305"/>
                  </a:lnTo>
                  <a:lnTo>
                    <a:pt x="374" y="246"/>
                  </a:lnTo>
                  <a:lnTo>
                    <a:pt x="415" y="195"/>
                  </a:lnTo>
                  <a:lnTo>
                    <a:pt x="463" y="147"/>
                  </a:lnTo>
                  <a:lnTo>
                    <a:pt x="504" y="107"/>
                  </a:lnTo>
                  <a:lnTo>
                    <a:pt x="552" y="72"/>
                  </a:lnTo>
                  <a:lnTo>
                    <a:pt x="599" y="43"/>
                  </a:lnTo>
                  <a:lnTo>
                    <a:pt x="654" y="19"/>
                  </a:lnTo>
                  <a:lnTo>
                    <a:pt x="701" y="6"/>
                  </a:lnTo>
                  <a:lnTo>
                    <a:pt x="729" y="3"/>
                  </a:lnTo>
                  <a:lnTo>
                    <a:pt x="756" y="0"/>
                  </a:lnTo>
                  <a:lnTo>
                    <a:pt x="810" y="6"/>
                  </a:lnTo>
                  <a:lnTo>
                    <a:pt x="872" y="22"/>
                  </a:lnTo>
                  <a:lnTo>
                    <a:pt x="933" y="43"/>
                  </a:lnTo>
                  <a:lnTo>
                    <a:pt x="994" y="72"/>
                  </a:lnTo>
                  <a:lnTo>
                    <a:pt x="1063" y="110"/>
                  </a:lnTo>
                  <a:lnTo>
                    <a:pt x="1124" y="147"/>
                  </a:lnTo>
                  <a:lnTo>
                    <a:pt x="1192" y="192"/>
                  </a:lnTo>
                  <a:lnTo>
                    <a:pt x="1321" y="283"/>
                  </a:lnTo>
                  <a:lnTo>
                    <a:pt x="1444" y="374"/>
                  </a:lnTo>
                  <a:lnTo>
                    <a:pt x="1505" y="417"/>
                  </a:lnTo>
                  <a:lnTo>
                    <a:pt x="1560" y="454"/>
                  </a:lnTo>
                  <a:lnTo>
                    <a:pt x="1614" y="489"/>
                  </a:lnTo>
                  <a:lnTo>
                    <a:pt x="1669" y="515"/>
                  </a:lnTo>
                  <a:lnTo>
                    <a:pt x="1764" y="561"/>
                  </a:lnTo>
                  <a:lnTo>
                    <a:pt x="1846" y="601"/>
                  </a:lnTo>
                  <a:lnTo>
                    <a:pt x="1928" y="635"/>
                  </a:lnTo>
                  <a:lnTo>
                    <a:pt x="2009" y="668"/>
                  </a:lnTo>
                  <a:lnTo>
                    <a:pt x="2078" y="697"/>
                  </a:lnTo>
                  <a:lnTo>
                    <a:pt x="2146" y="724"/>
                  </a:lnTo>
                  <a:lnTo>
                    <a:pt x="2282" y="772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987480" y="5754600"/>
              <a:ext cx="3724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1" name="Rectangle 14"/>
            <p:cNvSpPr/>
            <p:nvPr/>
          </p:nvSpPr>
          <p:spPr>
            <a:xfrm>
              <a:off x="376200" y="468612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2249640" y="56656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3" name="Rectangle 16"/>
            <p:cNvSpPr/>
            <p:nvPr/>
          </p:nvSpPr>
          <p:spPr>
            <a:xfrm>
              <a:off x="1927440" y="57769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4" name="Rectangle 17"/>
            <p:cNvSpPr/>
            <p:nvPr/>
          </p:nvSpPr>
          <p:spPr>
            <a:xfrm>
              <a:off x="2752920" y="4181400"/>
              <a:ext cx="23097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nck Radiation Law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to scale: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u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~ 20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Earth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5" name="Rectangle 18"/>
            <p:cNvSpPr/>
            <p:nvPr/>
          </p:nvSpPr>
          <p:spPr>
            <a:xfrm>
              <a:off x="4124520" y="5806800"/>
              <a:ext cx="156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photon energy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1017720" y="5583240"/>
              <a:ext cx="528480" cy="15696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0" y="98"/>
                  </a:moveTo>
                  <a:lnTo>
                    <a:pt x="23" y="64"/>
                  </a:lnTo>
                  <a:lnTo>
                    <a:pt x="49" y="34"/>
                  </a:lnTo>
                  <a:lnTo>
                    <a:pt x="60" y="21"/>
                  </a:lnTo>
                  <a:lnTo>
                    <a:pt x="75" y="10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0"/>
                  </a:lnTo>
                  <a:lnTo>
                    <a:pt x="134" y="2"/>
                  </a:lnTo>
                  <a:lnTo>
                    <a:pt x="153" y="10"/>
                  </a:lnTo>
                  <a:lnTo>
                    <a:pt x="172" y="21"/>
                  </a:lnTo>
                  <a:lnTo>
                    <a:pt x="209" y="42"/>
                  </a:lnTo>
                  <a:lnTo>
                    <a:pt x="228" y="50"/>
                  </a:lnTo>
                  <a:lnTo>
                    <a:pt x="243" y="58"/>
                  </a:lnTo>
                  <a:lnTo>
                    <a:pt x="269" y="69"/>
                  </a:lnTo>
                  <a:lnTo>
                    <a:pt x="291" y="77"/>
                  </a:lnTo>
                  <a:lnTo>
                    <a:pt x="332" y="87"/>
                  </a:lnTo>
                </a:path>
              </a:pathLst>
            </a:custGeom>
            <a:noFill/>
            <a:ln cap="rnd"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851040" y="57625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" name="Line 21"/>
            <p:cNvSpPr/>
            <p:nvPr/>
          </p:nvSpPr>
          <p:spPr>
            <a:xfrm>
              <a:off x="1200240" y="565920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1281240" y="5403600"/>
              <a:ext cx="70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rt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2621160" y="4730760"/>
              <a:ext cx="61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" name="Line 24"/>
            <p:cNvSpPr/>
            <p:nvPr/>
          </p:nvSpPr>
          <p:spPr>
            <a:xfrm>
              <a:off x="1225800" y="6033960"/>
              <a:ext cx="0" cy="1904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" name="Line 25"/>
            <p:cNvSpPr/>
            <p:nvPr/>
          </p:nvSpPr>
          <p:spPr>
            <a:xfrm>
              <a:off x="889200" y="6127560"/>
              <a:ext cx="276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" name="Line 26"/>
            <p:cNvSpPr/>
            <p:nvPr/>
          </p:nvSpPr>
          <p:spPr>
            <a:xfrm flipH="1">
              <a:off x="1298160" y="6129000"/>
              <a:ext cx="287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" name="Rectangle 27"/>
            <p:cNvSpPr/>
            <p:nvPr/>
          </p:nvSpPr>
          <p:spPr>
            <a:xfrm>
              <a:off x="1677960" y="6138720"/>
              <a:ext cx="2394000" cy="518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Greenhouse gas absorption</a:t>
              </a:r>
              <a:br>
                <a:rPr sz="1400"/>
              </a:b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Infrared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85" name="Text Box 28"/>
          <p:cNvSpPr/>
          <p:nvPr/>
        </p:nvSpPr>
        <p:spPr>
          <a:xfrm>
            <a:off x="7324560" y="2187720"/>
            <a:ext cx="92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 or H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6" name="Group 29"/>
          <p:cNvGrpSpPr/>
          <p:nvPr/>
        </p:nvGrpSpPr>
        <p:grpSpPr>
          <a:xfrm>
            <a:off x="6185520" y="4210200"/>
            <a:ext cx="1830240" cy="1745640"/>
            <a:chOff x="6185520" y="4210200"/>
            <a:chExt cx="1830240" cy="1745640"/>
          </a:xfrm>
        </p:grpSpPr>
        <p:sp>
          <p:nvSpPr>
            <p:cNvPr id="187" name="Line 30"/>
            <p:cNvSpPr/>
            <p:nvPr/>
          </p:nvSpPr>
          <p:spPr>
            <a:xfrm>
              <a:off x="6939000" y="550872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8" name="Line 31"/>
            <p:cNvSpPr/>
            <p:nvPr/>
          </p:nvSpPr>
          <p:spPr>
            <a:xfrm>
              <a:off x="6939000" y="46530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9" name="Line 32"/>
            <p:cNvSpPr/>
            <p:nvPr/>
          </p:nvSpPr>
          <p:spPr>
            <a:xfrm>
              <a:off x="6939000" y="421020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0" name="Line 33"/>
            <p:cNvSpPr/>
            <p:nvPr/>
          </p:nvSpPr>
          <p:spPr>
            <a:xfrm>
              <a:off x="6939000" y="50958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1" name="Line 34"/>
            <p:cNvSpPr/>
            <p:nvPr/>
          </p:nvSpPr>
          <p:spPr>
            <a:xfrm>
              <a:off x="6939000" y="589104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2" name="Oval 35"/>
            <p:cNvSpPr/>
            <p:nvPr/>
          </p:nvSpPr>
          <p:spPr>
            <a:xfrm>
              <a:off x="7216560" y="5835600"/>
              <a:ext cx="120960" cy="120240"/>
            </a:xfrm>
            <a:prstGeom prst="ellipse">
              <a:avLst/>
            </a:prstGeom>
            <a:solidFill>
              <a:srgbClr val="fafd00"/>
            </a:solidFill>
            <a:ln w="1908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3" name="Oval 36"/>
            <p:cNvSpPr/>
            <p:nvPr/>
          </p:nvSpPr>
          <p:spPr>
            <a:xfrm>
              <a:off x="7284960" y="5443560"/>
              <a:ext cx="120600" cy="12024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4" name="Freeform 37"/>
            <p:cNvSpPr/>
            <p:nvPr/>
          </p:nvSpPr>
          <p:spPr>
            <a:xfrm>
              <a:off x="7118280" y="5627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54" y="129"/>
                  </a:moveTo>
                  <a:cubicBezTo>
                    <a:pt x="28" y="98"/>
                    <a:pt x="2" y="67"/>
                    <a:pt x="1" y="46"/>
                  </a:cubicBezTo>
                  <a:cubicBezTo>
                    <a:pt x="0" y="25"/>
                    <a:pt x="23" y="12"/>
                    <a:pt x="46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5" name="Line 38"/>
            <p:cNvSpPr/>
            <p:nvPr/>
          </p:nvSpPr>
          <p:spPr>
            <a:xfrm flipV="1">
              <a:off x="7216560" y="5533560"/>
              <a:ext cx="60480" cy="47160"/>
            </a:xfrm>
            <a:prstGeom prst="line">
              <a:avLst/>
            </a:prstGeom>
            <a:ln w="1908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Text Box 39"/>
            <p:cNvSpPr/>
            <p:nvPr/>
          </p:nvSpPr>
          <p:spPr>
            <a:xfrm>
              <a:off x="6185520" y="5577480"/>
              <a:ext cx="123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7" name="Rectangle 40"/>
            <p:cNvSpPr/>
            <p:nvPr/>
          </p:nvSpPr>
          <p:spPr>
            <a:xfrm>
              <a:off x="7403760" y="555624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= hf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Absorption Spectra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869760" y="1179360"/>
            <a:ext cx="6210360" cy="5167080"/>
            <a:chOff x="869760" y="1179360"/>
            <a:chExt cx="6210360" cy="5167080"/>
          </a:xfrm>
        </p:grpSpPr>
        <p:pic>
          <p:nvPicPr>
            <p:cNvPr id="200" name="Picture 4" descr="Infrared absorption spectra for various gases"/>
            <p:cNvPicPr/>
            <p:nvPr/>
          </p:nvPicPr>
          <p:blipFill>
            <a:blip r:embed="rId1"/>
            <a:stretch/>
          </p:blipFill>
          <p:spPr>
            <a:xfrm>
              <a:off x="1179720" y="1179360"/>
              <a:ext cx="5576760" cy="45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5"/>
            <p:cNvSpPr/>
            <p:nvPr/>
          </p:nvSpPr>
          <p:spPr>
            <a:xfrm>
              <a:off x="2757600" y="1371600"/>
              <a:ext cx="379440" cy="3968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 flipV="1">
              <a:off x="4989600" y="1347840"/>
              <a:ext cx="0" cy="4875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4913640" y="5826240"/>
              <a:ext cx="216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rth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 flipV="1">
              <a:off x="2909880" y="1372680"/>
              <a:ext cx="0" cy="4875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9"/>
            <p:cNvSpPr/>
            <p:nvPr/>
          </p:nvSpPr>
          <p:spPr>
            <a:xfrm>
              <a:off x="869760" y="5797440"/>
              <a:ext cx="205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06" name="Text Box 10"/>
          <p:cNvSpPr/>
          <p:nvPr/>
        </p:nvSpPr>
        <p:spPr>
          <a:xfrm>
            <a:off x="6749280" y="45594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ter is the mo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ant greenhouse gas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8560" y="63360"/>
            <a:ext cx="7162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Greenhouse Effec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06520" y="3772080"/>
            <a:ext cx="79880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radiation from the earth (infrared) is absorbed by certain gases in our atmosphere (such as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redirected back to earth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‘greenhouse gases’ provide additional warming to our planet - essential for life as we know i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adiation from the sun is not affected much by the greenhouse gases because it has a much different frequency spectr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rs has a thin atmosphere with few greenhouse gases:  7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in the day and -13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at night.  Venus has lots of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:  T = 800° F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3513240" y="1406520"/>
            <a:ext cx="1612800" cy="161136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005360" y="199548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3146400" y="1119240"/>
            <a:ext cx="2330640" cy="2214000"/>
            <a:chOff x="3146400" y="1119240"/>
            <a:chExt cx="2330640" cy="2214000"/>
          </a:xfrm>
        </p:grpSpPr>
        <p:sp>
          <p:nvSpPr>
            <p:cNvPr id="212" name="Oval 7"/>
            <p:cNvSpPr/>
            <p:nvPr/>
          </p:nvSpPr>
          <p:spPr>
            <a:xfrm>
              <a:off x="3152880" y="1949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Oval 8"/>
            <p:cNvSpPr/>
            <p:nvPr/>
          </p:nvSpPr>
          <p:spPr>
            <a:xfrm>
              <a:off x="4579920" y="1126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Oval 9"/>
            <p:cNvSpPr/>
            <p:nvPr/>
          </p:nvSpPr>
          <p:spPr>
            <a:xfrm>
              <a:off x="4071960" y="31683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Oval 10"/>
            <p:cNvSpPr/>
            <p:nvPr/>
          </p:nvSpPr>
          <p:spPr>
            <a:xfrm>
              <a:off x="3668760" y="30906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Oval 11"/>
            <p:cNvSpPr/>
            <p:nvPr/>
          </p:nvSpPr>
          <p:spPr>
            <a:xfrm>
              <a:off x="4398840" y="32446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Oval 12"/>
            <p:cNvSpPr/>
            <p:nvPr/>
          </p:nvSpPr>
          <p:spPr>
            <a:xfrm>
              <a:off x="4924440" y="28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Oval 13"/>
            <p:cNvSpPr/>
            <p:nvPr/>
          </p:nvSpPr>
          <p:spPr>
            <a:xfrm>
              <a:off x="4824360" y="3152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Oval 14"/>
            <p:cNvSpPr/>
            <p:nvPr/>
          </p:nvSpPr>
          <p:spPr>
            <a:xfrm>
              <a:off x="5221440" y="2550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Oval 15"/>
            <p:cNvSpPr/>
            <p:nvPr/>
          </p:nvSpPr>
          <p:spPr>
            <a:xfrm>
              <a:off x="5337000" y="233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Oval 16"/>
            <p:cNvSpPr/>
            <p:nvPr/>
          </p:nvSpPr>
          <p:spPr>
            <a:xfrm>
              <a:off x="5200560" y="206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Oval 17"/>
            <p:cNvSpPr/>
            <p:nvPr/>
          </p:nvSpPr>
          <p:spPr>
            <a:xfrm>
              <a:off x="4078440" y="1119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Oval 18"/>
            <p:cNvSpPr/>
            <p:nvPr/>
          </p:nvSpPr>
          <p:spPr>
            <a:xfrm>
              <a:off x="4819680" y="1450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Oval 19"/>
            <p:cNvSpPr/>
            <p:nvPr/>
          </p:nvSpPr>
          <p:spPr>
            <a:xfrm>
              <a:off x="5313240" y="2822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Oval 20"/>
            <p:cNvSpPr/>
            <p:nvPr/>
          </p:nvSpPr>
          <p:spPr>
            <a:xfrm>
              <a:off x="4516560" y="13032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Oval 21"/>
            <p:cNvSpPr/>
            <p:nvPr/>
          </p:nvSpPr>
          <p:spPr>
            <a:xfrm>
              <a:off x="4910040" y="1298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Oval 22"/>
            <p:cNvSpPr/>
            <p:nvPr/>
          </p:nvSpPr>
          <p:spPr>
            <a:xfrm>
              <a:off x="5097600" y="16318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8" name="Oval 23"/>
            <p:cNvSpPr/>
            <p:nvPr/>
          </p:nvSpPr>
          <p:spPr>
            <a:xfrm>
              <a:off x="5273640" y="16999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" name="Oval 24"/>
            <p:cNvSpPr/>
            <p:nvPr/>
          </p:nvSpPr>
          <p:spPr>
            <a:xfrm>
              <a:off x="423072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" name="Oval 25"/>
            <p:cNvSpPr/>
            <p:nvPr/>
          </p:nvSpPr>
          <p:spPr>
            <a:xfrm>
              <a:off x="3444840" y="1400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Oval 26"/>
            <p:cNvSpPr/>
            <p:nvPr/>
          </p:nvSpPr>
          <p:spPr>
            <a:xfrm>
              <a:off x="3632040" y="15397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Oval 27"/>
            <p:cNvSpPr/>
            <p:nvPr/>
          </p:nvSpPr>
          <p:spPr>
            <a:xfrm>
              <a:off x="373680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28"/>
            <p:cNvSpPr/>
            <p:nvPr/>
          </p:nvSpPr>
          <p:spPr>
            <a:xfrm>
              <a:off x="3902040" y="132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29"/>
            <p:cNvSpPr/>
            <p:nvPr/>
          </p:nvSpPr>
          <p:spPr>
            <a:xfrm>
              <a:off x="3267000" y="16081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30"/>
            <p:cNvSpPr/>
            <p:nvPr/>
          </p:nvSpPr>
          <p:spPr>
            <a:xfrm>
              <a:off x="3395520" y="19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31"/>
            <p:cNvSpPr/>
            <p:nvPr/>
          </p:nvSpPr>
          <p:spPr>
            <a:xfrm>
              <a:off x="3367080" y="21891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32"/>
            <p:cNvSpPr/>
            <p:nvPr/>
          </p:nvSpPr>
          <p:spPr>
            <a:xfrm>
              <a:off x="3146400" y="2354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Oval 33"/>
            <p:cNvSpPr/>
            <p:nvPr/>
          </p:nvSpPr>
          <p:spPr>
            <a:xfrm>
              <a:off x="5091120" y="3000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34"/>
            <p:cNvSpPr/>
            <p:nvPr/>
          </p:nvSpPr>
          <p:spPr>
            <a:xfrm>
              <a:off x="3370320" y="24825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35"/>
            <p:cNvSpPr/>
            <p:nvPr/>
          </p:nvSpPr>
          <p:spPr>
            <a:xfrm>
              <a:off x="5388120" y="20700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36"/>
            <p:cNvSpPr/>
            <p:nvPr/>
          </p:nvSpPr>
          <p:spPr>
            <a:xfrm>
              <a:off x="3651120" y="28000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37"/>
            <p:cNvSpPr/>
            <p:nvPr/>
          </p:nvSpPr>
          <p:spPr>
            <a:xfrm>
              <a:off x="3827520" y="29397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38"/>
            <p:cNvSpPr/>
            <p:nvPr/>
          </p:nvSpPr>
          <p:spPr>
            <a:xfrm>
              <a:off x="3365640" y="276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Oval 39"/>
            <p:cNvSpPr/>
            <p:nvPr/>
          </p:nvSpPr>
          <p:spPr>
            <a:xfrm flipH="1">
              <a:off x="4603680" y="3058920"/>
              <a:ext cx="90720" cy="8064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5" name="Line 40"/>
          <p:cNvSpPr/>
          <p:nvPr/>
        </p:nvSpPr>
        <p:spPr>
          <a:xfrm>
            <a:off x="5210280" y="2201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Line 41"/>
          <p:cNvSpPr/>
          <p:nvPr/>
        </p:nvSpPr>
        <p:spPr>
          <a:xfrm flipH="1" flipV="1">
            <a:off x="4373280" y="933120"/>
            <a:ext cx="1116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7" name="Line 42"/>
          <p:cNvSpPr/>
          <p:nvPr/>
        </p:nvSpPr>
        <p:spPr>
          <a:xfrm flipV="1">
            <a:off x="4960800" y="1302840"/>
            <a:ext cx="405000" cy="31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Line 43"/>
          <p:cNvSpPr/>
          <p:nvPr/>
        </p:nvSpPr>
        <p:spPr>
          <a:xfrm flipH="1">
            <a:off x="4339800" y="3057480"/>
            <a:ext cx="1800" cy="3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" name="Line 44"/>
          <p:cNvSpPr/>
          <p:nvPr/>
        </p:nvSpPr>
        <p:spPr>
          <a:xfrm>
            <a:off x="5062680" y="2679840"/>
            <a:ext cx="39348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Line 45"/>
          <p:cNvSpPr/>
          <p:nvPr/>
        </p:nvSpPr>
        <p:spPr>
          <a:xfrm flipH="1" flipV="1">
            <a:off x="3532320" y="1165320"/>
            <a:ext cx="31248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Line 46"/>
          <p:cNvSpPr/>
          <p:nvPr/>
        </p:nvSpPr>
        <p:spPr>
          <a:xfrm flipH="1">
            <a:off x="2998800" y="2171880"/>
            <a:ext cx="504720" cy="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Line 47"/>
          <p:cNvSpPr/>
          <p:nvPr/>
        </p:nvSpPr>
        <p:spPr>
          <a:xfrm flipH="1">
            <a:off x="3319200" y="2720880"/>
            <a:ext cx="3603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53" name="Group 48"/>
          <p:cNvGrpSpPr/>
          <p:nvPr/>
        </p:nvGrpSpPr>
        <p:grpSpPr>
          <a:xfrm>
            <a:off x="5089680" y="1814400"/>
            <a:ext cx="304560" cy="181080"/>
            <a:chOff x="5089680" y="1814400"/>
            <a:chExt cx="304560" cy="181080"/>
          </a:xfrm>
        </p:grpSpPr>
        <p:sp>
          <p:nvSpPr>
            <p:cNvPr id="254" name="Freeform 49"/>
            <p:cNvSpPr/>
            <p:nvPr/>
          </p:nvSpPr>
          <p:spPr>
            <a:xfrm>
              <a:off x="5089680" y="1814400"/>
              <a:ext cx="304560" cy="18108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0" y="41"/>
                  </a:moveTo>
                  <a:lnTo>
                    <a:pt x="44" y="27"/>
                  </a:lnTo>
                  <a:lnTo>
                    <a:pt x="82" y="13"/>
                  </a:lnTo>
                  <a:lnTo>
                    <a:pt x="120" y="4"/>
                  </a:lnTo>
                  <a:lnTo>
                    <a:pt x="147" y="0"/>
                  </a:lnTo>
                  <a:lnTo>
                    <a:pt x="169" y="2"/>
                  </a:lnTo>
                  <a:lnTo>
                    <a:pt x="180" y="9"/>
                  </a:lnTo>
                  <a:lnTo>
                    <a:pt x="191" y="20"/>
                  </a:lnTo>
                  <a:lnTo>
                    <a:pt x="191" y="31"/>
                  </a:lnTo>
                  <a:lnTo>
                    <a:pt x="191" y="43"/>
                  </a:lnTo>
                  <a:lnTo>
                    <a:pt x="185" y="59"/>
                  </a:lnTo>
                  <a:lnTo>
                    <a:pt x="174" y="72"/>
                  </a:lnTo>
                  <a:lnTo>
                    <a:pt x="163" y="86"/>
                  </a:lnTo>
                  <a:lnTo>
                    <a:pt x="131" y="99"/>
                  </a:lnTo>
                  <a:lnTo>
                    <a:pt x="93" y="1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50"/>
            <p:cNvSpPr/>
            <p:nvPr/>
          </p:nvSpPr>
          <p:spPr>
            <a:xfrm flipH="1">
              <a:off x="5245200" y="1957320"/>
              <a:ext cx="7128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51"/>
          <p:cNvGrpSpPr/>
          <p:nvPr/>
        </p:nvGrpSpPr>
        <p:grpSpPr>
          <a:xfrm>
            <a:off x="3875040" y="2997360"/>
            <a:ext cx="217440" cy="266400"/>
            <a:chOff x="3875040" y="2997360"/>
            <a:chExt cx="217440" cy="266400"/>
          </a:xfrm>
        </p:grpSpPr>
        <p:sp>
          <p:nvSpPr>
            <p:cNvPr id="257" name="Freeform 52"/>
            <p:cNvSpPr/>
            <p:nvPr/>
          </p:nvSpPr>
          <p:spPr>
            <a:xfrm>
              <a:off x="3875040" y="2997360"/>
              <a:ext cx="217440" cy="266400"/>
            </a:xfrm>
            <a:custGeom>
              <a:avLst/>
              <a:gdLst/>
              <a:ahLst/>
              <a:rect l="l" t="t" r="r" b="b"/>
              <a:pathLst>
                <a:path w="137" h="168">
                  <a:moveTo>
                    <a:pt x="136" y="0"/>
                  </a:moveTo>
                  <a:lnTo>
                    <a:pt x="120" y="46"/>
                  </a:lnTo>
                  <a:lnTo>
                    <a:pt x="99" y="85"/>
                  </a:lnTo>
                  <a:lnTo>
                    <a:pt x="82" y="121"/>
                  </a:lnTo>
                  <a:lnTo>
                    <a:pt x="66" y="146"/>
                  </a:lnTo>
                  <a:lnTo>
                    <a:pt x="49" y="160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12" y="163"/>
                  </a:lnTo>
                  <a:lnTo>
                    <a:pt x="8" y="153"/>
                  </a:lnTo>
                  <a:lnTo>
                    <a:pt x="4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12" y="67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Line 53"/>
            <p:cNvSpPr/>
            <p:nvPr/>
          </p:nvSpPr>
          <p:spPr>
            <a:xfrm flipV="1">
              <a:off x="3890880" y="3052080"/>
              <a:ext cx="23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9" name="Group 54"/>
          <p:cNvGrpSpPr/>
          <p:nvPr/>
        </p:nvGrpSpPr>
        <p:grpSpPr>
          <a:xfrm>
            <a:off x="3386160" y="1581120"/>
            <a:ext cx="214200" cy="241200"/>
            <a:chOff x="3386160" y="1581120"/>
            <a:chExt cx="214200" cy="241200"/>
          </a:xfrm>
        </p:grpSpPr>
        <p:sp>
          <p:nvSpPr>
            <p:cNvPr id="260" name="Freeform 55"/>
            <p:cNvSpPr/>
            <p:nvPr/>
          </p:nvSpPr>
          <p:spPr>
            <a:xfrm>
              <a:off x="3386160" y="1581120"/>
              <a:ext cx="214200" cy="24120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134" y="151"/>
                  </a:moveTo>
                  <a:lnTo>
                    <a:pt x="98" y="130"/>
                  </a:lnTo>
                  <a:lnTo>
                    <a:pt x="61" y="107"/>
                  </a:lnTo>
                  <a:lnTo>
                    <a:pt x="32" y="88"/>
                  </a:lnTo>
                  <a:lnTo>
                    <a:pt x="11" y="69"/>
                  </a:lnTo>
                  <a:lnTo>
                    <a:pt x="0" y="53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7" y="15"/>
                  </a:lnTo>
                  <a:lnTo>
                    <a:pt x="18" y="7"/>
                  </a:lnTo>
                  <a:lnTo>
                    <a:pt x="32" y="3"/>
                  </a:lnTo>
                  <a:lnTo>
                    <a:pt x="51" y="0"/>
                  </a:lnTo>
                  <a:lnTo>
                    <a:pt x="65" y="3"/>
                  </a:lnTo>
                  <a:lnTo>
                    <a:pt x="83" y="7"/>
                  </a:lnTo>
                  <a:lnTo>
                    <a:pt x="98" y="13"/>
                  </a:lnTo>
                  <a:lnTo>
                    <a:pt x="116" y="23"/>
                  </a:lnTo>
                  <a:lnTo>
                    <a:pt x="130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Line 56"/>
            <p:cNvSpPr/>
            <p:nvPr/>
          </p:nvSpPr>
          <p:spPr>
            <a:xfrm>
              <a:off x="3517920" y="1598400"/>
              <a:ext cx="6660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62" name="Line 57"/>
          <p:cNvSpPr/>
          <p:nvPr/>
        </p:nvSpPr>
        <p:spPr>
          <a:xfrm flipH="1">
            <a:off x="6279840" y="156384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3" name="Line 58"/>
          <p:cNvSpPr/>
          <p:nvPr/>
        </p:nvSpPr>
        <p:spPr>
          <a:xfrm flipH="1">
            <a:off x="6325920" y="217188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4" name="Line 59"/>
          <p:cNvSpPr/>
          <p:nvPr/>
        </p:nvSpPr>
        <p:spPr>
          <a:xfrm flipH="1">
            <a:off x="6286320" y="1843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Line 60"/>
          <p:cNvSpPr/>
          <p:nvPr/>
        </p:nvSpPr>
        <p:spPr>
          <a:xfrm flipH="1">
            <a:off x="6341760" y="2500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Line 61"/>
          <p:cNvSpPr/>
          <p:nvPr/>
        </p:nvSpPr>
        <p:spPr>
          <a:xfrm flipH="1">
            <a:off x="6348240" y="3098880"/>
            <a:ext cx="88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7" name="Line 62"/>
          <p:cNvSpPr/>
          <p:nvPr/>
        </p:nvSpPr>
        <p:spPr>
          <a:xfrm flipH="1">
            <a:off x="6345000" y="279396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Rectangle 63"/>
          <p:cNvSpPr/>
          <p:nvPr/>
        </p:nvSpPr>
        <p:spPr>
          <a:xfrm>
            <a:off x="7520040" y="2055960"/>
            <a:ext cx="73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12"/>
          <p:cNvGraphicFramePr/>
          <p:nvPr/>
        </p:nvGraphicFramePr>
        <p:xfrm>
          <a:off x="1654200" y="4389480"/>
          <a:ext cx="568944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4200" y="4389480"/>
                    <a:ext cx="568944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3" name="Object 11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1-10T12:40:35Z</cp:lastPrinted>
  <dcterms:modified xsi:type="dcterms:W3CDTF">2015-04-09T19:16:21Z</dcterms:modified>
  <cp:revision>28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