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2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0.wmf" ContentType="image/x-wmf"/>
  <Override PartName="/ppt/media/image6.png" ContentType="image/png"/>
  <Override PartName="/ppt/media/image4.wmf" ContentType="image/x-wmf"/>
  <Override PartName="/ppt/media/image3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018240" y="91454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AAEDBC0D-91B8-46A7-88B8-EAACDAE888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irling (hand held) - no time for the other Stirling eng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molectric powered f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eam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Because number of states ~V^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ill show this explicitly in HW for an idea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Stirling demo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– it’s probably okay if this gets shifted into Lect. 1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lie Cube Dem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show black  [~10.1], aluminum (not anodized) [~2.8], and mirror [0.7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nt:  You will get the best efficiency for the largest deltaT, and for the largest “compression ratio,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26216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w a Discussion proble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F756DDB0-6D34-4B6D-915E-28119FD3034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3920" y="54000"/>
            <a:ext cx="7452000" cy="8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3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Heat Engines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6360" y="2139840"/>
            <a:ext cx="6135840" cy="24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we define engine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irling cy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2200" y="5149800"/>
            <a:ext cx="34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E, 10A-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2320" y="58680"/>
            <a:ext cx="8350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 in Quasi-static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30000" y="1093320"/>
            <a:ext cx="806436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V is constant: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d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 dU/T = dQ/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W = 0, so dU = d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fact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S = dQ/T during any reversib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quasi-static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 if V chang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eason: In a reversible process, 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ystem plus environment) doesn’t ch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389240" y="3076560"/>
          <a:ext cx="180648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3076560"/>
                    <a:ext cx="18064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Rectangle 9"/>
          <p:cNvSpPr/>
          <p:nvPr/>
        </p:nvSpPr>
        <p:spPr>
          <a:xfrm>
            <a:off x="5118120" y="5506920"/>
            <a:ext cx="29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any reversible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736560" y="5219640"/>
          <a:ext cx="3987720" cy="8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60" y="5219640"/>
                    <a:ext cx="3987720" cy="8841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3159000" y="3089160"/>
            <a:ext cx="554688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if process is reversi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 is supplying (or absorbing) hea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’s energy gain is the system’s heat los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how they interac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72880" y="57240"/>
            <a:ext cx="85932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 in Isothermal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35200" y="3922560"/>
            <a:ext cx="6886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526360" y="3760920"/>
            <a:ext cx="2982600" cy="2709720"/>
            <a:chOff x="5526360" y="3760920"/>
            <a:chExt cx="2982600" cy="2709720"/>
          </a:xfrm>
        </p:grpSpPr>
        <p:sp>
          <p:nvSpPr>
            <p:cNvPr id="286" name=""/>
            <p:cNvSpPr/>
            <p:nvPr/>
          </p:nvSpPr>
          <p:spPr>
            <a:xfrm>
              <a:off x="6404040" y="3881520"/>
              <a:ext cx="655560" cy="1485720"/>
            </a:xfrm>
            <a:custGeom>
              <a:avLst/>
              <a:gdLst/>
              <a:ahLst/>
              <a:rect l="l" t="t" r="r" b="b"/>
              <a:pathLst>
                <a:path w="413" h="936">
                  <a:moveTo>
                    <a:pt x="0" y="0"/>
                  </a:moveTo>
                  <a:cubicBezTo>
                    <a:pt x="4" y="45"/>
                    <a:pt x="17" y="204"/>
                    <a:pt x="27" y="276"/>
                  </a:cubicBezTo>
                  <a:cubicBezTo>
                    <a:pt x="37" y="348"/>
                    <a:pt x="38" y="366"/>
                    <a:pt x="60" y="430"/>
                  </a:cubicBezTo>
                  <a:cubicBezTo>
                    <a:pt x="82" y="494"/>
                    <a:pt x="124" y="595"/>
                    <a:pt x="159" y="661"/>
                  </a:cubicBezTo>
                  <a:cubicBezTo>
                    <a:pt x="194" y="727"/>
                    <a:pt x="227" y="780"/>
                    <a:pt x="269" y="826"/>
                  </a:cubicBezTo>
                  <a:cubicBezTo>
                    <a:pt x="311" y="872"/>
                    <a:pt x="383" y="913"/>
                    <a:pt x="413" y="9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681960" y="4989600"/>
              <a:ext cx="1591920" cy="65700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948280" y="3916440"/>
              <a:ext cx="0" cy="22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870520" y="6073920"/>
              <a:ext cx="26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526360" y="3760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74120" y="6102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10640" y="558180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69200" y="451656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20080" y="4584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774200" y="5708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2320" y="4546440"/>
              <a:ext cx="1452600" cy="107640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837560" y="5619600"/>
              <a:ext cx="79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45800" y="37782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=const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506520" y="1190520"/>
            <a:ext cx="84279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45000"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V &amp; p change but T doesn’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ork is done (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dV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must enter to keep T constant: dQ = dU+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 case,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n ideal gas, if dT = 0, then dU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160640" y="2568600"/>
          <a:ext cx="382248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0640" y="2568600"/>
                    <a:ext cx="38224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1162080" y="4635360"/>
          <a:ext cx="367020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2080" y="4635360"/>
                    <a:ext cx="3670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5393880" y="2736720"/>
            <a:ext cx="3449880" cy="39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member: This holds for 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quasi-static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processes, in which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system remains near thermal equilibrium at all tim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308" name="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317" name="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846720" y="2835360"/>
            <a:ext cx="6571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y (heat) leaves the environment, so its entropy decrease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n fact, since the environment and gas have the same T,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two entropy changes cancel: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0.  This is a reversible proces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88960" y="2265480"/>
            <a:ext cx="152100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46720" y="2835360"/>
            <a:ext cx="6571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y (heat) leaves the environment, so its entropy decrease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n fact, since the environment and gas have the same T,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two entropy changes cancel: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0.  This is a reversible proces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488960" y="2265480"/>
            <a:ext cx="152100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42040" y="5122800"/>
            <a:ext cx="7485120" cy="11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 is no work or heat flow, so U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is constant. 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T is consta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owever, because the volume increases, so does the number of available states,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nd therefore 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increases.  Nothing is happening to the environme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fore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&gt; 0.  This is not a reversible proces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05520" y="4562640"/>
            <a:ext cx="152064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498240" y="1386000"/>
            <a:ext cx="640692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definition of an adiabatic pro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and T both change as the applied pressur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xample, if p increases (compress the system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decreases, and the associated S also decreases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increases, and the associated S also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two effects must exactly cancel !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?  Becau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reversible process, so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 other entropy is changing.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Q = 0, and 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ust moves the piston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a quasi-static adiabatic process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We did not assume that the system is a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deal ga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general resul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157320" y="45720"/>
            <a:ext cx="88502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asi-static Adiabatic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7174080" y="2076480"/>
            <a:ext cx="1425240" cy="2185920"/>
            <a:chOff x="7174080" y="2076480"/>
            <a:chExt cx="1425240" cy="2185920"/>
          </a:xfrm>
        </p:grpSpPr>
        <p:sp>
          <p:nvSpPr>
            <p:cNvPr id="334" name=""/>
            <p:cNvSpPr/>
            <p:nvPr/>
          </p:nvSpPr>
          <p:spPr>
            <a:xfrm>
              <a:off x="7286760" y="2198520"/>
              <a:ext cx="787320" cy="841680"/>
            </a:xfrm>
            <a:prstGeom prst="rect">
              <a:avLst/>
            </a:prstGeom>
            <a:noFill/>
            <a:ln w="648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174080" y="2076480"/>
              <a:ext cx="1415880" cy="18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05640" y="2373480"/>
              <a:ext cx="777960" cy="1161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09600" y="31305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00960" y="2867040"/>
              <a:ext cx="792000" cy="745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91560" y="2408400"/>
              <a:ext cx="0" cy="45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199280" y="3940200"/>
              <a:ext cx="1400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285840" indent="-285840"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sulated w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7494480" y="2774880"/>
              <a:ext cx="800280" cy="762120"/>
              <a:chOff x="7494480" y="2774880"/>
              <a:chExt cx="800280" cy="762120"/>
            </a:xfrm>
          </p:grpSpPr>
          <p:sp>
            <p:nvSpPr>
              <p:cNvPr id="342" name=""/>
              <p:cNvSpPr/>
              <p:nvPr/>
            </p:nvSpPr>
            <p:spPr>
              <a:xfrm>
                <a:off x="750420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29476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494480" y="3537000"/>
                <a:ext cx="800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6459480" y="4371840"/>
            <a:ext cx="2061720" cy="2091240"/>
            <a:chOff x="6459480" y="4371840"/>
            <a:chExt cx="2061720" cy="2091240"/>
          </a:xfrm>
        </p:grpSpPr>
        <p:sp>
          <p:nvSpPr>
            <p:cNvPr id="346" name=""/>
            <p:cNvSpPr/>
            <p:nvPr/>
          </p:nvSpPr>
          <p:spPr>
            <a:xfrm rot="490800">
              <a:off x="6816240" y="52354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789000">
              <a:off x="6835680" y="48052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518160" y="4535640"/>
              <a:ext cx="0" cy="160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459480" y="6086520"/>
              <a:ext cx="196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486480" y="437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171280" y="6064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81840" y="4878360"/>
              <a:ext cx="5544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53160" y="5672160"/>
              <a:ext cx="5580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013520" y="471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458120" y="573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702600">
              <a:off x="6927480" y="4962240"/>
              <a:ext cx="731880" cy="67788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>
              <a:off x="7013160" y="5113440"/>
              <a:ext cx="34920" cy="1238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923600" y="522612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938000" y="563868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4557600" y="4819680"/>
            <a:ext cx="1173240" cy="425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15880" y="101268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tropy-increasing processes are irreversibl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reverse processes would reduce entrop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-expansion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ctually, any particle flow between regions of different densit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flow between two systems with different temperatur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72760" y="568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rreversible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06520" y="2859120"/>
            <a:ext cx="815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e four processes of interest 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thermal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eat flow but no T differenc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iabatic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Q = 0.  No heat flow at al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amp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Heat flow between different T’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r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ssuming that there are only two reservoirs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630360" y="4664160"/>
            <a:ext cx="7562880" cy="1580040"/>
            <a:chOff x="630360" y="4664160"/>
            <a:chExt cx="7562880" cy="1580040"/>
          </a:xfrm>
        </p:grpSpPr>
        <p:sp>
          <p:nvSpPr>
            <p:cNvPr id="366" name=""/>
            <p:cNvSpPr/>
            <p:nvPr/>
          </p:nvSpPr>
          <p:spPr>
            <a:xfrm>
              <a:off x="1013400" y="5875920"/>
              <a:ext cx="70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reversible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ir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  irreversi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630360" y="4664160"/>
              <a:ext cx="1855800" cy="1329120"/>
              <a:chOff x="630360" y="4664160"/>
              <a:chExt cx="1855800" cy="1329120"/>
            </a:xfrm>
          </p:grpSpPr>
          <p:sp>
            <p:nvSpPr>
              <p:cNvPr id="368" name=""/>
              <p:cNvSpPr/>
              <p:nvPr/>
            </p:nvSpPr>
            <p:spPr>
              <a:xfrm>
                <a:off x="2169720" y="5655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92376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923760" y="5677920"/>
                <a:ext cx="145440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303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278000" y="4771800"/>
                <a:ext cx="93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sother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114560" y="4719600"/>
                <a:ext cx="663480" cy="723240"/>
              </a:xfrm>
              <a:custGeom>
                <a:avLst/>
                <a:gdLst/>
                <a:ahLst/>
                <a:rect l="l" t="t" r="r" b="b"/>
                <a:pathLst>
                  <a:path w="619" h="576">
                    <a:moveTo>
                      <a:pt x="0" y="0"/>
                    </a:moveTo>
                    <a:cubicBezTo>
                      <a:pt x="36" y="115"/>
                      <a:pt x="73" y="231"/>
                      <a:pt x="176" y="327"/>
                    </a:cubicBezTo>
                    <a:cubicBezTo>
                      <a:pt x="279" y="423"/>
                      <a:pt x="449" y="499"/>
                      <a:pt x="619" y="576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2579760" y="4664160"/>
              <a:ext cx="1822680" cy="1337040"/>
              <a:chOff x="2579760" y="4664160"/>
              <a:chExt cx="1822680" cy="1337040"/>
            </a:xfrm>
          </p:grpSpPr>
          <p:sp>
            <p:nvSpPr>
              <p:cNvPr id="375" name=""/>
              <p:cNvSpPr/>
              <p:nvPr/>
            </p:nvSpPr>
            <p:spPr>
              <a:xfrm>
                <a:off x="3122640" y="4763880"/>
                <a:ext cx="493560" cy="747360"/>
              </a:xfrm>
              <a:custGeom>
                <a:avLst/>
                <a:gdLst/>
                <a:ahLst/>
                <a:rect l="l" t="t" r="r" b="b"/>
                <a:pathLst>
                  <a:path w="588" h="533">
                    <a:moveTo>
                      <a:pt x="0" y="0"/>
                    </a:moveTo>
                    <a:cubicBezTo>
                      <a:pt x="57" y="113"/>
                      <a:pt x="114" y="226"/>
                      <a:pt x="212" y="315"/>
                    </a:cubicBezTo>
                    <a:cubicBezTo>
                      <a:pt x="310" y="404"/>
                      <a:pt x="449" y="468"/>
                      <a:pt x="588" y="533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284652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2846520" y="5677920"/>
                <a:ext cx="145404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287880" y="477036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iaba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086000" y="56638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5797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4438800" y="4686120"/>
              <a:ext cx="2083320" cy="1322640"/>
              <a:chOff x="4438800" y="4686120"/>
              <a:chExt cx="2083320" cy="1322640"/>
            </a:xfrm>
          </p:grpSpPr>
          <p:sp>
            <p:nvSpPr>
              <p:cNvPr id="382" name=""/>
              <p:cNvSpPr/>
              <p:nvPr/>
            </p:nvSpPr>
            <p:spPr>
              <a:xfrm flipV="1">
                <a:off x="4711680" y="4817520"/>
                <a:ext cx="0" cy="880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11680" y="5698440"/>
                <a:ext cx="1476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5283360" y="4876200"/>
                <a:ext cx="0" cy="539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114520" y="4790160"/>
                <a:ext cx="140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ch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9702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438800" y="4686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6392880" y="4701960"/>
              <a:ext cx="1800360" cy="1279800"/>
              <a:chOff x="6392880" y="4701960"/>
              <a:chExt cx="1800360" cy="1279800"/>
            </a:xfrm>
          </p:grpSpPr>
          <p:sp>
            <p:nvSpPr>
              <p:cNvPr id="389" name=""/>
              <p:cNvSpPr/>
              <p:nvPr/>
            </p:nvSpPr>
            <p:spPr>
              <a:xfrm flipV="1">
                <a:off x="6664320" y="4839840"/>
                <a:ext cx="0" cy="833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6664320" y="5673240"/>
                <a:ext cx="1428840" cy="5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032600" y="5146200"/>
                <a:ext cx="6523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859440" y="4771080"/>
                <a:ext cx="130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ba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876800" y="5644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392880" y="4701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6" name="Text Box 12"/>
          <p:cNvSpPr/>
          <p:nvPr/>
        </p:nvSpPr>
        <p:spPr>
          <a:xfrm>
            <a:off x="3508560" y="62640"/>
            <a:ext cx="210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398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4" name="Text Box 14"/>
          <p:cNvSpPr/>
          <p:nvPr/>
        </p:nvSpPr>
        <p:spPr>
          <a:xfrm>
            <a:off x="211680" y="6404040"/>
            <a:ext cx="5255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since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Text Box 12"/>
          <p:cNvSpPr/>
          <p:nvPr/>
        </p:nvSpPr>
        <p:spPr>
          <a:xfrm>
            <a:off x="3200040" y="62640"/>
            <a:ext cx="271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408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4" name="Text Box 14"/>
          <p:cNvSpPr/>
          <p:nvPr/>
        </p:nvSpPr>
        <p:spPr>
          <a:xfrm>
            <a:off x="223560" y="6404040"/>
            <a:ext cx="5241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0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0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because </a:t>
            </a:r>
            <a:r>
              <a:rPr b="0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0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94000" y="3384720"/>
            <a:ext cx="1468440" cy="536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550800" y="4035600"/>
            <a:ext cx="752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This is an irreversible process, so there must be a net increase in entropy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Let’s calculate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2544840" y="4433760"/>
          <a:ext cx="4048200" cy="17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4840" y="4433760"/>
                    <a:ext cx="404820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"/>
          <p:cNvSpPr/>
          <p:nvPr/>
        </p:nvSpPr>
        <p:spPr>
          <a:xfrm>
            <a:off x="5578920" y="5076720"/>
            <a:ext cx="255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positive term is slightly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gger than the negative term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8840" y="199404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volu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8800" y="55080"/>
            <a:ext cx="83822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A Review of Some Thermodynamic Processes of an Ideal Ga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4902120" y="2227320"/>
            <a:ext cx="2030400" cy="1703880"/>
            <a:chOff x="4902120" y="2227320"/>
            <a:chExt cx="2030400" cy="1703880"/>
          </a:xfrm>
        </p:grpSpPr>
        <p:sp>
          <p:nvSpPr>
            <p:cNvPr id="424" name=""/>
            <p:cNvSpPr/>
            <p:nvPr/>
          </p:nvSpPr>
          <p:spPr>
            <a:xfrm>
              <a:off x="5999400" y="3532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311800" y="2227320"/>
              <a:ext cx="0" cy="1239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5311800" y="3455640"/>
              <a:ext cx="1620720" cy="11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902120" y="2684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6067440" y="2816280"/>
              <a:ext cx="0" cy="388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067440" y="2552760"/>
              <a:ext cx="0" cy="326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135840" y="312444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148440" y="2344680"/>
              <a:ext cx="1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997600" y="242244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997600" y="320508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34" name=""/>
          <p:cNvGraphicFramePr/>
          <p:nvPr/>
        </p:nvGraphicFramePr>
        <p:xfrm>
          <a:off x="1187280" y="2517840"/>
          <a:ext cx="2587680" cy="12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17840"/>
                    <a:ext cx="2587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6" name=""/>
          <p:cNvGrpSpPr/>
          <p:nvPr/>
        </p:nvGrpSpPr>
        <p:grpSpPr>
          <a:xfrm>
            <a:off x="7088040" y="2463840"/>
            <a:ext cx="1432080" cy="1385280"/>
            <a:chOff x="7088040" y="2463840"/>
            <a:chExt cx="1432080" cy="1385280"/>
          </a:xfrm>
        </p:grpSpPr>
        <p:grpSp>
          <p:nvGrpSpPr>
            <p:cNvPr id="437" name=""/>
            <p:cNvGrpSpPr/>
            <p:nvPr/>
          </p:nvGrpSpPr>
          <p:grpSpPr>
            <a:xfrm>
              <a:off x="7601040" y="2463840"/>
              <a:ext cx="641160" cy="881640"/>
              <a:chOff x="7601040" y="2463840"/>
              <a:chExt cx="641160" cy="88164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7601040" y="2463840"/>
                <a:ext cx="641160" cy="881640"/>
                <a:chOff x="7601040" y="2463840"/>
                <a:chExt cx="641160" cy="881640"/>
              </a:xfrm>
            </p:grpSpPr>
            <p:grpSp>
              <p:nvGrpSpPr>
                <p:cNvPr id="439" name=""/>
                <p:cNvGrpSpPr/>
                <p:nvPr/>
              </p:nvGrpSpPr>
              <p:grpSpPr>
                <a:xfrm>
                  <a:off x="7601040" y="2463840"/>
                  <a:ext cx="641160" cy="615960"/>
                  <a:chOff x="7601040" y="2463840"/>
                  <a:chExt cx="641160" cy="61596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>
                    <a:off x="7763040" y="2744640"/>
                    <a:ext cx="2844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7978680" y="27464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8070840" y="29574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789156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7601040" y="2468520"/>
                    <a:ext cx="120600" cy="58716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8129520" y="246384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7604280" y="3043080"/>
                    <a:ext cx="634680" cy="3672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78660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80694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7738920" y="2849400"/>
                    <a:ext cx="2556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7738920" y="2952720"/>
                    <a:ext cx="2556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796752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799308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81524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89156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94232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794232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7815240" y="28749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804384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806940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8029440" y="2798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7866000" y="29257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7707240" y="2498760"/>
                    <a:ext cx="84240" cy="104760"/>
                  </a:xfrm>
                  <a:prstGeom prst="rect">
                    <a:avLst/>
                  </a:pr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7718400" y="2600280"/>
                    <a:ext cx="411120" cy="10152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7770960" y="2900160"/>
                  <a:ext cx="369720" cy="445320"/>
                  <a:chOff x="7770960" y="2900160"/>
                  <a:chExt cx="369720" cy="44532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>
                    <a:off x="7770960" y="315576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flipH="1" flipV="1">
                    <a:off x="7913160" y="2900160"/>
                    <a:ext cx="8280" cy="27000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67" name=""/>
              <p:cNvSpPr/>
              <p:nvPr/>
            </p:nvSpPr>
            <p:spPr>
              <a:xfrm>
                <a:off x="8062920" y="2502000"/>
                <a:ext cx="84240" cy="1047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>
              <a:off x="7088040" y="3390120"/>
              <a:ext cx="143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chang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964040" y="4772160"/>
            <a:ext cx="2098800" cy="1622880"/>
            <a:chOff x="4964040" y="4772160"/>
            <a:chExt cx="2098800" cy="1622880"/>
          </a:xfrm>
        </p:grpSpPr>
        <p:sp>
          <p:nvSpPr>
            <p:cNvPr id="470" name=""/>
            <p:cNvSpPr/>
            <p:nvPr/>
          </p:nvSpPr>
          <p:spPr>
            <a:xfrm>
              <a:off x="6183720" y="5996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721480" y="5180040"/>
              <a:ext cx="947520" cy="70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5369040" y="4772160"/>
              <a:ext cx="0" cy="1109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369040" y="5889600"/>
              <a:ext cx="169380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64040" y="51800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788080" y="5180040"/>
              <a:ext cx="474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195960" y="5180040"/>
              <a:ext cx="406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584680" y="4830840"/>
              <a:ext cx="2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534000" y="4830840"/>
              <a:ext cx="19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60240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65308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6962760" y="4619880"/>
            <a:ext cx="1782720" cy="1818000"/>
            <a:chOff x="6962760" y="4619880"/>
            <a:chExt cx="1782720" cy="1818000"/>
          </a:xfrm>
        </p:grpSpPr>
        <p:grpSp>
          <p:nvGrpSpPr>
            <p:cNvPr id="482" name=""/>
            <p:cNvGrpSpPr/>
            <p:nvPr/>
          </p:nvGrpSpPr>
          <p:grpSpPr>
            <a:xfrm>
              <a:off x="7448400" y="4619880"/>
              <a:ext cx="860760" cy="1264680"/>
              <a:chOff x="7448400" y="4619880"/>
              <a:chExt cx="860760" cy="1264680"/>
            </a:xfrm>
          </p:grpSpPr>
          <p:grpSp>
            <p:nvGrpSpPr>
              <p:cNvPr id="483" name=""/>
              <p:cNvGrpSpPr/>
              <p:nvPr/>
            </p:nvGrpSpPr>
            <p:grpSpPr>
              <a:xfrm>
                <a:off x="7621560" y="5003280"/>
                <a:ext cx="641520" cy="881280"/>
                <a:chOff x="7621560" y="5003280"/>
                <a:chExt cx="641520" cy="881280"/>
              </a:xfrm>
            </p:grpSpPr>
            <p:grpSp>
              <p:nvGrpSpPr>
                <p:cNvPr id="484" name=""/>
                <p:cNvGrpSpPr/>
                <p:nvPr/>
              </p:nvGrpSpPr>
              <p:grpSpPr>
                <a:xfrm>
                  <a:off x="7621560" y="5003280"/>
                  <a:ext cx="641520" cy="615240"/>
                  <a:chOff x="7621560" y="5003280"/>
                  <a:chExt cx="641520" cy="61524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>
                    <a:off x="7783560" y="5284080"/>
                    <a:ext cx="2844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7999560" y="52855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8091360" y="549684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791208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7621560" y="5007960"/>
                    <a:ext cx="120600" cy="58680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8150400" y="500328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7624800" y="5582520"/>
                    <a:ext cx="635040" cy="3600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788688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808992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7759800" y="5388840"/>
                    <a:ext cx="252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7759800" y="5492160"/>
                    <a:ext cx="252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798840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801360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783576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791208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796284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796284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7835760" y="54144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806436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808992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8050320" y="5338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7886880" y="54651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7738920" y="5139720"/>
                    <a:ext cx="411480" cy="10116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7791480" y="5439240"/>
                  <a:ext cx="369720" cy="445320"/>
                  <a:chOff x="7791480" y="5439240"/>
                  <a:chExt cx="369720" cy="44532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>
                    <a:off x="7791480" y="569484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flipV="1">
                    <a:off x="7933680" y="5439240"/>
                    <a:ext cx="8280" cy="26964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11" name=""/>
              <p:cNvSpPr/>
              <p:nvPr/>
            </p:nvSpPr>
            <p:spPr>
              <a:xfrm>
                <a:off x="7950240" y="4863600"/>
                <a:ext cx="0" cy="255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448400" y="4619880"/>
                <a:ext cx="86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6962760" y="597888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and volum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840" y="4259160"/>
            <a:ext cx="33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press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1150920" y="4908600"/>
          <a:ext cx="337032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0920" y="4908600"/>
                    <a:ext cx="33703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"/>
          <p:cNvSpPr/>
          <p:nvPr/>
        </p:nvSpPr>
        <p:spPr>
          <a:xfrm>
            <a:off x="641520" y="1268280"/>
            <a:ext cx="5712840" cy="5806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ill assume ideal gases in our treatment of heat engines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cause that simplifies the calculatio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66600"/>
            <a:ext cx="88362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Blackbody Radiation</a:t>
            </a:r>
            <a:br>
              <a:rPr sz="4000"/>
            </a:b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920880"/>
            <a:ext cx="7477200" cy="55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lanck law gives the spectrum of electromagnetic energy contained in modes with frequencies between f and f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tegrating over all frequencies give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radiated energy per unit surface are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ower radiated per unit surface area by a perfect radiator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otal power radiated = J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a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62320" y="5310360"/>
            <a:ext cx="50022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efan-Boltzmann Law of Radi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5.67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 m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Stefan-Boltzmann consta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181160" y="1631880"/>
          <a:ext cx="199692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1160" y="1631880"/>
                    <a:ext cx="199692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5753160" y="1333440"/>
            <a:ext cx="3155400" cy="1942560"/>
            <a:chOff x="5753160" y="1333440"/>
            <a:chExt cx="3155400" cy="1942560"/>
          </a:xfrm>
        </p:grpSpPr>
        <p:sp>
          <p:nvSpPr>
            <p:cNvPr id="52" name=""/>
            <p:cNvSpPr/>
            <p:nvPr/>
          </p:nvSpPr>
          <p:spPr>
            <a:xfrm flipV="1">
              <a:off x="5760720" y="1395360"/>
              <a:ext cx="0" cy="156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762520" y="2959200"/>
              <a:ext cx="2539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549840" y="2849760"/>
              <a:ext cx="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157800" y="2970360"/>
              <a:ext cx="1050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87920" y="1449360"/>
              <a:ext cx="2415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Planck Radiation Law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65960" y="2692440"/>
              <a:ext cx="642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f/k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760720" y="1863720"/>
              <a:ext cx="2482560" cy="1095480"/>
            </a:xfrm>
            <a:custGeom>
              <a:avLst/>
              <a:gdLst/>
              <a:ahLst/>
              <a:rect l="l" t="t" r="r" b="b"/>
              <a:pathLst>
                <a:path w="1360" h="470">
                  <a:moveTo>
                    <a:pt x="0" y="470"/>
                  </a:moveTo>
                  <a:cubicBezTo>
                    <a:pt x="37" y="454"/>
                    <a:pt x="74" y="438"/>
                    <a:pt x="143" y="361"/>
                  </a:cubicBezTo>
                  <a:cubicBezTo>
                    <a:pt x="212" y="284"/>
                    <a:pt x="279" y="14"/>
                    <a:pt x="412" y="7"/>
                  </a:cubicBezTo>
                  <a:cubicBezTo>
                    <a:pt x="545" y="0"/>
                    <a:pt x="785" y="245"/>
                    <a:pt x="943" y="316"/>
                  </a:cubicBezTo>
                  <a:cubicBezTo>
                    <a:pt x="1101" y="387"/>
                    <a:pt x="1230" y="411"/>
                    <a:pt x="1360" y="4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53160" y="1333440"/>
              <a:ext cx="49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f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02080" y="2338560"/>
              <a:ext cx="738000" cy="59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478280" y="2632320"/>
              <a:ext cx="374400" cy="29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37160" y="1940040"/>
              <a:ext cx="1218600" cy="10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319440" y="2044800"/>
              <a:ext cx="1112760" cy="90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59320" y="2185920"/>
              <a:ext cx="914040" cy="77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68800" y="2808360"/>
              <a:ext cx="163080" cy="141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71760" y="2689200"/>
              <a:ext cx="290160" cy="244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154560" y="2525760"/>
              <a:ext cx="526680" cy="43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48440" y="2830680"/>
              <a:ext cx="13932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233360" y="3639960"/>
            <a:ext cx="5981760" cy="1110600"/>
            <a:chOff x="1233360" y="3639960"/>
            <a:chExt cx="5981760" cy="1110600"/>
          </a:xfrm>
        </p:grpSpPr>
        <p:graphicFrame>
          <p:nvGraphicFramePr>
            <p:cNvPr id="70" name=""/>
            <p:cNvGraphicFramePr/>
            <p:nvPr/>
          </p:nvGraphicFramePr>
          <p:xfrm>
            <a:off x="1233360" y="3639960"/>
            <a:ext cx="5981760" cy="857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33360" y="3639960"/>
                      <a:ext cx="5981760" cy="85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" name=""/>
            <p:cNvSpPr/>
            <p:nvPr/>
          </p:nvSpPr>
          <p:spPr>
            <a:xfrm>
              <a:off x="4770360" y="3681360"/>
              <a:ext cx="1144800" cy="87768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24640" y="4519440"/>
              <a:ext cx="1232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Just a number: </a:t>
              </a:r>
              <a:r>
                <a:rPr b="0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900" spc="-1" strike="noStrike" baseline="30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/15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4" name=""/>
          <p:cNvGraphicFramePr/>
          <p:nvPr/>
        </p:nvGraphicFramePr>
        <p:xfrm>
          <a:off x="1239840" y="5359320"/>
          <a:ext cx="1368360" cy="49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39840" y="5359320"/>
                    <a:ext cx="1368360" cy="4906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4976640" y="1365120"/>
            <a:ext cx="2065320" cy="1819800"/>
            <a:chOff x="4976640" y="1365120"/>
            <a:chExt cx="2065320" cy="1819800"/>
          </a:xfrm>
        </p:grpSpPr>
        <p:sp>
          <p:nvSpPr>
            <p:cNvPr id="519" name=""/>
            <p:cNvSpPr/>
            <p:nvPr/>
          </p:nvSpPr>
          <p:spPr>
            <a:xfrm>
              <a:off x="5704560" y="1840680"/>
              <a:ext cx="911880" cy="883080"/>
            </a:xfrm>
            <a:custGeom>
              <a:avLst/>
              <a:gdLst/>
              <a:ahLst/>
              <a:rect l="l" t="t" r="r" b="b"/>
              <a:pathLst>
                <a:path w="720" h="624">
                  <a:moveTo>
                    <a:pt x="0" y="624"/>
                  </a:moveTo>
                  <a:lnTo>
                    <a:pt x="0" y="0"/>
                  </a:lnTo>
                  <a:cubicBezTo>
                    <a:pt x="2" y="5"/>
                    <a:pt x="3" y="10"/>
                    <a:pt x="5" y="15"/>
                  </a:cubicBezTo>
                  <a:cubicBezTo>
                    <a:pt x="7" y="24"/>
                    <a:pt x="11" y="26"/>
                    <a:pt x="18" y="33"/>
                  </a:cubicBezTo>
                  <a:cubicBezTo>
                    <a:pt x="32" y="47"/>
                    <a:pt x="43" y="65"/>
                    <a:pt x="59" y="78"/>
                  </a:cubicBezTo>
                  <a:cubicBezTo>
                    <a:pt x="66" y="89"/>
                    <a:pt x="73" y="98"/>
                    <a:pt x="86" y="99"/>
                  </a:cubicBezTo>
                  <a:cubicBezTo>
                    <a:pt x="101" y="118"/>
                    <a:pt x="118" y="119"/>
                    <a:pt x="137" y="132"/>
                  </a:cubicBezTo>
                  <a:cubicBezTo>
                    <a:pt x="152" y="157"/>
                    <a:pt x="201" y="182"/>
                    <a:pt x="228" y="194"/>
                  </a:cubicBezTo>
                  <a:cubicBezTo>
                    <a:pt x="239" y="199"/>
                    <a:pt x="249" y="208"/>
                    <a:pt x="261" y="210"/>
                  </a:cubicBezTo>
                  <a:cubicBezTo>
                    <a:pt x="269" y="214"/>
                    <a:pt x="275" y="218"/>
                    <a:pt x="284" y="219"/>
                  </a:cubicBezTo>
                  <a:cubicBezTo>
                    <a:pt x="296" y="225"/>
                    <a:pt x="290" y="223"/>
                    <a:pt x="299" y="225"/>
                  </a:cubicBezTo>
                  <a:cubicBezTo>
                    <a:pt x="308" y="229"/>
                    <a:pt x="319" y="232"/>
                    <a:pt x="329" y="234"/>
                  </a:cubicBezTo>
                  <a:cubicBezTo>
                    <a:pt x="340" y="239"/>
                    <a:pt x="348" y="242"/>
                    <a:pt x="360" y="243"/>
                  </a:cubicBezTo>
                  <a:cubicBezTo>
                    <a:pt x="368" y="246"/>
                    <a:pt x="375" y="251"/>
                    <a:pt x="384" y="252"/>
                  </a:cubicBezTo>
                  <a:cubicBezTo>
                    <a:pt x="395" y="256"/>
                    <a:pt x="408" y="259"/>
                    <a:pt x="419" y="261"/>
                  </a:cubicBezTo>
                  <a:cubicBezTo>
                    <a:pt x="425" y="264"/>
                    <a:pt x="430" y="266"/>
                    <a:pt x="437" y="267"/>
                  </a:cubicBezTo>
                  <a:cubicBezTo>
                    <a:pt x="446" y="271"/>
                    <a:pt x="458" y="270"/>
                    <a:pt x="468" y="272"/>
                  </a:cubicBezTo>
                  <a:cubicBezTo>
                    <a:pt x="475" y="276"/>
                    <a:pt x="483" y="278"/>
                    <a:pt x="491" y="279"/>
                  </a:cubicBezTo>
                  <a:cubicBezTo>
                    <a:pt x="497" y="282"/>
                    <a:pt x="502" y="284"/>
                    <a:pt x="509" y="285"/>
                  </a:cubicBezTo>
                  <a:cubicBezTo>
                    <a:pt x="515" y="288"/>
                    <a:pt x="523" y="290"/>
                    <a:pt x="530" y="291"/>
                  </a:cubicBezTo>
                  <a:cubicBezTo>
                    <a:pt x="542" y="297"/>
                    <a:pt x="556" y="295"/>
                    <a:pt x="569" y="297"/>
                  </a:cubicBezTo>
                  <a:cubicBezTo>
                    <a:pt x="586" y="306"/>
                    <a:pt x="607" y="307"/>
                    <a:pt x="626" y="308"/>
                  </a:cubicBezTo>
                  <a:cubicBezTo>
                    <a:pt x="639" y="310"/>
                    <a:pt x="655" y="316"/>
                    <a:pt x="668" y="320"/>
                  </a:cubicBezTo>
                  <a:cubicBezTo>
                    <a:pt x="676" y="326"/>
                    <a:pt x="689" y="325"/>
                    <a:pt x="698" y="326"/>
                  </a:cubicBezTo>
                  <a:cubicBezTo>
                    <a:pt x="704" y="326"/>
                    <a:pt x="716" y="327"/>
                    <a:pt x="716" y="327"/>
                  </a:cubicBezTo>
                  <a:lnTo>
                    <a:pt x="720" y="624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5400360" y="1432800"/>
              <a:ext cx="0" cy="129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976640" y="1874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132960" y="27860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582880" y="1365120"/>
              <a:ext cx="2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516720" y="183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08760" y="2112480"/>
              <a:ext cx="182160" cy="68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704560" y="1840680"/>
              <a:ext cx="0" cy="883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16800" y="2316240"/>
              <a:ext cx="0" cy="407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400360" y="2723760"/>
              <a:ext cx="164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00600" y="1861920"/>
              <a:ext cx="901800" cy="4298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632200" y="178560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533280" y="220572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6993000" y="888840"/>
            <a:ext cx="1861920" cy="2822400"/>
            <a:chOff x="6993000" y="888840"/>
            <a:chExt cx="1861920" cy="2822400"/>
          </a:xfrm>
        </p:grpSpPr>
        <p:grpSp>
          <p:nvGrpSpPr>
            <p:cNvPr id="533" name=""/>
            <p:cNvGrpSpPr/>
            <p:nvPr/>
          </p:nvGrpSpPr>
          <p:grpSpPr>
            <a:xfrm>
              <a:off x="6993000" y="888840"/>
              <a:ext cx="1861920" cy="2254320"/>
              <a:chOff x="6993000" y="888840"/>
              <a:chExt cx="1861920" cy="2254320"/>
            </a:xfrm>
          </p:grpSpPr>
          <mc:AlternateContent>
            <mc:Choice xmlns:a14="http://schemas.microsoft.com/office/drawing/2010/main" Requires="a14">
              <p:sp>
                <p:nvSpPr>
                  <p:cNvPr id="534" name=""/>
                  <p:cNvSpPr txBox="1"/>
                  <p:nvPr/>
                </p:nvSpPr>
                <p:spPr>
                  <a:xfrm>
                    <a:off x="7670880" y="888840"/>
                    <a:ext cx="455400" cy="42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35" name=""/>
              <p:cNvGrpSpPr/>
              <p:nvPr/>
            </p:nvGrpSpPr>
            <p:grpSpPr>
              <a:xfrm>
                <a:off x="6993000" y="1352520"/>
                <a:ext cx="1861920" cy="1790640"/>
                <a:chOff x="6993000" y="1352520"/>
                <a:chExt cx="1861920" cy="1790640"/>
              </a:xfrm>
            </p:grpSpPr>
            <p:grpSp>
              <p:nvGrpSpPr>
                <p:cNvPr id="536" name=""/>
                <p:cNvGrpSpPr/>
                <p:nvPr/>
              </p:nvGrpSpPr>
              <p:grpSpPr>
                <a:xfrm>
                  <a:off x="6993000" y="1492200"/>
                  <a:ext cx="1861920" cy="1650960"/>
                  <a:chOff x="6993000" y="1492200"/>
                  <a:chExt cx="1861920" cy="1650960"/>
                </a:xfrm>
              </p:grpSpPr>
              <p:grpSp>
                <p:nvGrpSpPr>
                  <p:cNvPr id="537" name=""/>
                  <p:cNvGrpSpPr/>
                  <p:nvPr/>
                </p:nvGrpSpPr>
                <p:grpSpPr>
                  <a:xfrm>
                    <a:off x="7562880" y="1492200"/>
                    <a:ext cx="640800" cy="615960"/>
                    <a:chOff x="7562880" y="1492200"/>
                    <a:chExt cx="640800" cy="615960"/>
                  </a:xfrm>
                </p:grpSpPr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7724520" y="1773360"/>
                      <a:ext cx="2808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>
                      <a:off x="7940520" y="177480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>
                      <a:off x="8032320" y="198612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>
                      <a:off x="785304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>
                      <a:off x="7562880" y="1497240"/>
                      <a:ext cx="120240" cy="5871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>
                      <a:off x="8091360" y="1492200"/>
                      <a:ext cx="112320" cy="59544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>
                      <a:off x="7565760" y="2071800"/>
                      <a:ext cx="634680" cy="363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>
                      <a:off x="782784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>
                      <a:off x="803088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>
                      <a:off x="7700760" y="1878120"/>
                      <a:ext cx="248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>
                      <a:off x="7700760" y="1981440"/>
                      <a:ext cx="248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>
                      <a:off x="792936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>
                      <a:off x="795456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1" name=""/>
                    <p:cNvSpPr/>
                    <p:nvPr/>
                  </p:nvSpPr>
                  <p:spPr>
                    <a:xfrm>
                      <a:off x="777672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2" name=""/>
                    <p:cNvSpPr/>
                    <p:nvPr/>
                  </p:nvSpPr>
                  <p:spPr>
                    <a:xfrm>
                      <a:off x="785304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>
                      <a:off x="790380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>
                      <a:off x="790380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5" name=""/>
                    <p:cNvSpPr/>
                    <p:nvPr/>
                  </p:nvSpPr>
                  <p:spPr>
                    <a:xfrm>
                      <a:off x="7776720" y="19036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6" name=""/>
                    <p:cNvSpPr/>
                    <p:nvPr/>
                  </p:nvSpPr>
                  <p:spPr>
                    <a:xfrm>
                      <a:off x="800532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7" name=""/>
                    <p:cNvSpPr/>
                    <p:nvPr/>
                  </p:nvSpPr>
                  <p:spPr>
                    <a:xfrm>
                      <a:off x="803088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8" name=""/>
                    <p:cNvSpPr/>
                    <p:nvPr/>
                  </p:nvSpPr>
                  <p:spPr>
                    <a:xfrm>
                      <a:off x="7991280" y="1827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9" name=""/>
                    <p:cNvSpPr/>
                    <p:nvPr/>
                  </p:nvSpPr>
                  <p:spPr>
                    <a:xfrm>
                      <a:off x="7827840" y="19544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>
                      <a:off x="7679880" y="1629000"/>
                      <a:ext cx="411120" cy="1015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61" name=""/>
                  <p:cNvGrpSpPr/>
                  <p:nvPr/>
                </p:nvGrpSpPr>
                <p:grpSpPr>
                  <a:xfrm>
                    <a:off x="7732800" y="1928880"/>
                    <a:ext cx="369720" cy="445320"/>
                    <a:chOff x="7732800" y="1928880"/>
                    <a:chExt cx="369720" cy="445320"/>
                  </a:xfrm>
                </p:grpSpPr>
                <p:sp>
                  <p:nvSpPr>
                    <p:cNvPr id="562" name=""/>
                    <p:cNvSpPr/>
                    <p:nvPr/>
                  </p:nvSpPr>
                  <p:spPr>
                    <a:xfrm>
                      <a:off x="7732800" y="2184480"/>
                      <a:ext cx="369720" cy="18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28440" bIns="28440" anchor="t">
                      <a:sp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Q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3" name=""/>
                    <p:cNvSpPr/>
                    <p:nvPr/>
                  </p:nvSpPr>
                  <p:spPr>
                    <a:xfrm flipH="1" flipV="1">
                      <a:off x="7875000" y="1928880"/>
                      <a:ext cx="8280" cy="270000"/>
                    </a:xfrm>
                    <a:prstGeom prst="line">
                      <a:avLst/>
                    </a:prstGeom>
                    <a:ln w="19080">
                      <a:solidFill>
                        <a:srgbClr val="00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64" name=""/>
                  <p:cNvSpPr/>
                  <p:nvPr/>
                </p:nvSpPr>
                <p:spPr>
                  <a:xfrm>
                    <a:off x="7335720" y="2147760"/>
                    <a:ext cx="1201680" cy="995400"/>
                  </a:xfrm>
                  <a:prstGeom prst="rect">
                    <a:avLst/>
                  </a:prstGeom>
                  <a:solidFill>
                    <a:srgbClr val="990099">
                      <a:alpha val="50000"/>
                    </a:srgbClr>
                  </a:soli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6993000" y="2552400"/>
                    <a:ext cx="1861920" cy="57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Thermal Reservoir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6" name=""/>
                <p:cNvSpPr/>
                <p:nvPr/>
              </p:nvSpPr>
              <p:spPr>
                <a:xfrm>
                  <a:off x="7891560" y="1352520"/>
                  <a:ext cx="0" cy="25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7" name=""/>
            <p:cNvSpPr/>
            <p:nvPr/>
          </p:nvSpPr>
          <p:spPr>
            <a:xfrm>
              <a:off x="7020000" y="325224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and press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5015160" y="4435560"/>
            <a:ext cx="2165040" cy="1625760"/>
            <a:chOff x="5015160" y="4435560"/>
            <a:chExt cx="2165040" cy="1625760"/>
          </a:xfrm>
        </p:grpSpPr>
        <p:sp>
          <p:nvSpPr>
            <p:cNvPr id="569" name=""/>
            <p:cNvSpPr/>
            <p:nvPr/>
          </p:nvSpPr>
          <p:spPr>
            <a:xfrm>
              <a:off x="5015160" y="4933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5440320" y="4435560"/>
              <a:ext cx="1739880" cy="1625760"/>
              <a:chOff x="5440320" y="4435560"/>
              <a:chExt cx="1739880" cy="1625760"/>
            </a:xfrm>
          </p:grpSpPr>
          <p:sp>
            <p:nvSpPr>
              <p:cNvPr id="571" name=""/>
              <p:cNvSpPr/>
              <p:nvPr/>
            </p:nvSpPr>
            <p:spPr>
              <a:xfrm>
                <a:off x="5762160" y="4728960"/>
                <a:ext cx="966600" cy="586080"/>
              </a:xfrm>
              <a:custGeom>
                <a:avLst/>
                <a:gdLst/>
                <a:ahLst/>
                <a:rect l="l" t="t" r="r" b="b"/>
                <a:pathLst>
                  <a:path w="720" h="480">
                    <a:moveTo>
                      <a:pt x="0" y="0"/>
                    </a:moveTo>
                    <a:lnTo>
                      <a:pt x="0" y="480"/>
                    </a:lnTo>
                    <a:lnTo>
                      <a:pt x="720" y="480"/>
                    </a:lnTo>
                    <a:cubicBezTo>
                      <a:pt x="672" y="464"/>
                      <a:pt x="625" y="443"/>
                      <a:pt x="576" y="432"/>
                    </a:cubicBezTo>
                    <a:cubicBezTo>
                      <a:pt x="569" y="431"/>
                      <a:pt x="583" y="444"/>
                      <a:pt x="585" y="450"/>
                    </a:cubicBezTo>
                    <a:cubicBezTo>
                      <a:pt x="586" y="453"/>
                      <a:pt x="579" y="447"/>
                      <a:pt x="576" y="446"/>
                    </a:cubicBezTo>
                    <a:cubicBezTo>
                      <a:pt x="571" y="444"/>
                      <a:pt x="567" y="443"/>
                      <a:pt x="563" y="440"/>
                    </a:cubicBezTo>
                    <a:cubicBezTo>
                      <a:pt x="568" y="434"/>
                      <a:pt x="570" y="435"/>
                      <a:pt x="576" y="432"/>
                    </a:cubicBezTo>
                    <a:cubicBezTo>
                      <a:pt x="566" y="425"/>
                      <a:pt x="548" y="418"/>
                      <a:pt x="536" y="416"/>
                    </a:cubicBezTo>
                    <a:cubicBezTo>
                      <a:pt x="529" y="413"/>
                      <a:pt x="521" y="411"/>
                      <a:pt x="513" y="410"/>
                    </a:cubicBezTo>
                    <a:cubicBezTo>
                      <a:pt x="507" y="407"/>
                      <a:pt x="501" y="405"/>
                      <a:pt x="495" y="404"/>
                    </a:cubicBezTo>
                    <a:cubicBezTo>
                      <a:pt x="488" y="399"/>
                      <a:pt x="479" y="394"/>
                      <a:pt x="471" y="392"/>
                    </a:cubicBezTo>
                    <a:cubicBezTo>
                      <a:pt x="462" y="385"/>
                      <a:pt x="430" y="376"/>
                      <a:pt x="419" y="374"/>
                    </a:cubicBezTo>
                    <a:cubicBezTo>
                      <a:pt x="384" y="362"/>
                      <a:pt x="352" y="330"/>
                      <a:pt x="315" y="326"/>
                    </a:cubicBezTo>
                    <a:cubicBezTo>
                      <a:pt x="307" y="320"/>
                      <a:pt x="296" y="314"/>
                      <a:pt x="287" y="309"/>
                    </a:cubicBezTo>
                    <a:cubicBezTo>
                      <a:pt x="279" y="298"/>
                      <a:pt x="266" y="297"/>
                      <a:pt x="255" y="291"/>
                    </a:cubicBezTo>
                    <a:cubicBezTo>
                      <a:pt x="247" y="286"/>
                      <a:pt x="241" y="279"/>
                      <a:pt x="233" y="273"/>
                    </a:cubicBezTo>
                    <a:cubicBezTo>
                      <a:pt x="222" y="265"/>
                      <a:pt x="209" y="258"/>
                      <a:pt x="198" y="249"/>
                    </a:cubicBezTo>
                    <a:cubicBezTo>
                      <a:pt x="195" y="239"/>
                      <a:pt x="194" y="239"/>
                      <a:pt x="186" y="234"/>
                    </a:cubicBezTo>
                    <a:cubicBezTo>
                      <a:pt x="182" y="228"/>
                      <a:pt x="174" y="223"/>
                      <a:pt x="168" y="219"/>
                    </a:cubicBezTo>
                    <a:cubicBezTo>
                      <a:pt x="163" y="212"/>
                      <a:pt x="157" y="207"/>
                      <a:pt x="150" y="203"/>
                    </a:cubicBezTo>
                    <a:cubicBezTo>
                      <a:pt x="142" y="193"/>
                      <a:pt x="134" y="182"/>
                      <a:pt x="123" y="176"/>
                    </a:cubicBezTo>
                    <a:cubicBezTo>
                      <a:pt x="103" y="147"/>
                      <a:pt x="72" y="123"/>
                      <a:pt x="57" y="90"/>
                    </a:cubicBezTo>
                    <a:cubicBezTo>
                      <a:pt x="56" y="83"/>
                      <a:pt x="52" y="80"/>
                      <a:pt x="48" y="74"/>
                    </a:cubicBezTo>
                    <a:cubicBezTo>
                      <a:pt x="45" y="66"/>
                      <a:pt x="46" y="61"/>
                      <a:pt x="39" y="57"/>
                    </a:cubicBezTo>
                    <a:cubicBezTo>
                      <a:pt x="35" y="49"/>
                      <a:pt x="29" y="45"/>
                      <a:pt x="24" y="38"/>
                    </a:cubicBezTo>
                    <a:cubicBezTo>
                      <a:pt x="21" y="33"/>
                      <a:pt x="14" y="24"/>
                      <a:pt x="14" y="24"/>
                    </a:cubicBezTo>
                    <a:cubicBezTo>
                      <a:pt x="12" y="15"/>
                      <a:pt x="11" y="11"/>
                      <a:pt x="3" y="6"/>
                    </a:cubicBezTo>
                    <a:cubicBezTo>
                      <a:pt x="0" y="1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762160" y="4963320"/>
                <a:ext cx="966600" cy="645120"/>
              </a:xfrm>
              <a:custGeom>
                <a:avLst/>
                <a:gdLst/>
                <a:ahLst/>
                <a:rect l="l" t="t" r="r" b="b"/>
                <a:pathLst>
                  <a:path w="720" h="624">
                    <a:moveTo>
                      <a:pt x="0" y="624"/>
                    </a:moveTo>
                    <a:lnTo>
                      <a:pt x="0" y="0"/>
                    </a:lnTo>
                    <a:cubicBezTo>
                      <a:pt x="2" y="5"/>
                      <a:pt x="3" y="10"/>
                      <a:pt x="5" y="15"/>
                    </a:cubicBezTo>
                    <a:cubicBezTo>
                      <a:pt x="7" y="24"/>
                      <a:pt x="11" y="26"/>
                      <a:pt x="18" y="33"/>
                    </a:cubicBezTo>
                    <a:cubicBezTo>
                      <a:pt x="32" y="47"/>
                      <a:pt x="43" y="65"/>
                      <a:pt x="59" y="78"/>
                    </a:cubicBezTo>
                    <a:cubicBezTo>
                      <a:pt x="66" y="89"/>
                      <a:pt x="73" y="98"/>
                      <a:pt x="86" y="99"/>
                    </a:cubicBezTo>
                    <a:cubicBezTo>
                      <a:pt x="101" y="118"/>
                      <a:pt x="118" y="119"/>
                      <a:pt x="137" y="132"/>
                    </a:cubicBezTo>
                    <a:cubicBezTo>
                      <a:pt x="152" y="157"/>
                      <a:pt x="201" y="182"/>
                      <a:pt x="228" y="194"/>
                    </a:cubicBezTo>
                    <a:cubicBezTo>
                      <a:pt x="239" y="199"/>
                      <a:pt x="249" y="208"/>
                      <a:pt x="261" y="210"/>
                    </a:cubicBezTo>
                    <a:cubicBezTo>
                      <a:pt x="269" y="214"/>
                      <a:pt x="275" y="218"/>
                      <a:pt x="284" y="219"/>
                    </a:cubicBezTo>
                    <a:cubicBezTo>
                      <a:pt x="296" y="225"/>
                      <a:pt x="290" y="223"/>
                      <a:pt x="299" y="225"/>
                    </a:cubicBezTo>
                    <a:cubicBezTo>
                      <a:pt x="308" y="229"/>
                      <a:pt x="319" y="232"/>
                      <a:pt x="329" y="234"/>
                    </a:cubicBezTo>
                    <a:cubicBezTo>
                      <a:pt x="340" y="239"/>
                      <a:pt x="348" y="242"/>
                      <a:pt x="360" y="243"/>
                    </a:cubicBezTo>
                    <a:cubicBezTo>
                      <a:pt x="368" y="246"/>
                      <a:pt x="375" y="251"/>
                      <a:pt x="384" y="252"/>
                    </a:cubicBezTo>
                    <a:cubicBezTo>
                      <a:pt x="395" y="256"/>
                      <a:pt x="408" y="259"/>
                      <a:pt x="419" y="261"/>
                    </a:cubicBezTo>
                    <a:cubicBezTo>
                      <a:pt x="425" y="264"/>
                      <a:pt x="430" y="266"/>
                      <a:pt x="437" y="267"/>
                    </a:cubicBezTo>
                    <a:cubicBezTo>
                      <a:pt x="446" y="271"/>
                      <a:pt x="458" y="270"/>
                      <a:pt x="468" y="272"/>
                    </a:cubicBezTo>
                    <a:cubicBezTo>
                      <a:pt x="475" y="276"/>
                      <a:pt x="483" y="278"/>
                      <a:pt x="491" y="279"/>
                    </a:cubicBezTo>
                    <a:cubicBezTo>
                      <a:pt x="497" y="282"/>
                      <a:pt x="502" y="284"/>
                      <a:pt x="509" y="285"/>
                    </a:cubicBezTo>
                    <a:cubicBezTo>
                      <a:pt x="515" y="288"/>
                      <a:pt x="523" y="290"/>
                      <a:pt x="530" y="291"/>
                    </a:cubicBezTo>
                    <a:cubicBezTo>
                      <a:pt x="542" y="297"/>
                      <a:pt x="556" y="295"/>
                      <a:pt x="569" y="297"/>
                    </a:cubicBezTo>
                    <a:cubicBezTo>
                      <a:pt x="586" y="306"/>
                      <a:pt x="607" y="307"/>
                      <a:pt x="626" y="308"/>
                    </a:cubicBezTo>
                    <a:cubicBezTo>
                      <a:pt x="639" y="310"/>
                      <a:pt x="655" y="316"/>
                      <a:pt x="668" y="320"/>
                    </a:cubicBezTo>
                    <a:cubicBezTo>
                      <a:pt x="676" y="326"/>
                      <a:pt x="689" y="325"/>
                      <a:pt x="698" y="326"/>
                    </a:cubicBezTo>
                    <a:cubicBezTo>
                      <a:pt x="704" y="326"/>
                      <a:pt x="716" y="327"/>
                      <a:pt x="716" y="327"/>
                    </a:cubicBezTo>
                    <a:lnTo>
                      <a:pt x="720" y="624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5440320" y="4493880"/>
                <a:ext cx="0" cy="111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215760" y="56624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635800" y="4435560"/>
                <a:ext cx="266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622920" y="4847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041520" y="5036760"/>
                <a:ext cx="257760" cy="13932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762160" y="4728960"/>
                <a:ext cx="0" cy="87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728760" y="5256720"/>
                <a:ext cx="0" cy="35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440320" y="5608440"/>
                <a:ext cx="1739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762160" y="4731120"/>
                <a:ext cx="966600" cy="58644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681520" y="4669920"/>
                <a:ext cx="154440" cy="14040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648120" y="5231880"/>
                <a:ext cx="154440" cy="14076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4" name=""/>
          <p:cNvGrpSpPr/>
          <p:nvPr/>
        </p:nvGrpSpPr>
        <p:grpSpPr>
          <a:xfrm>
            <a:off x="7088040" y="4222800"/>
            <a:ext cx="1783080" cy="1731240"/>
            <a:chOff x="7088040" y="4222800"/>
            <a:chExt cx="1783080" cy="1731240"/>
          </a:xfrm>
        </p:grpSpPr>
        <p:grpSp>
          <p:nvGrpSpPr>
            <p:cNvPr id="585" name=""/>
            <p:cNvGrpSpPr/>
            <p:nvPr/>
          </p:nvGrpSpPr>
          <p:grpSpPr>
            <a:xfrm>
              <a:off x="7645320" y="4222800"/>
              <a:ext cx="677880" cy="1177920"/>
              <a:chOff x="7645320" y="4222800"/>
              <a:chExt cx="677880" cy="1177920"/>
            </a:xfrm>
          </p:grpSpPr>
          <mc:AlternateContent>
            <mc:Choice xmlns:a14="http://schemas.microsoft.com/office/drawing/2010/main" Requires="a14">
              <p:sp>
                <p:nvSpPr>
                  <p:cNvPr id="586" name=""/>
                  <p:cNvSpPr txBox="1"/>
                  <p:nvPr/>
                </p:nvSpPr>
                <p:spPr>
                  <a:xfrm>
                    <a:off x="7723080" y="4222800"/>
                    <a:ext cx="600120" cy="44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γ</m:t>
                                </m:r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87" name=""/>
              <p:cNvGrpSpPr/>
              <p:nvPr/>
            </p:nvGrpSpPr>
            <p:grpSpPr>
              <a:xfrm>
                <a:off x="7645320" y="4784760"/>
                <a:ext cx="641520" cy="615960"/>
                <a:chOff x="7645320" y="4784760"/>
                <a:chExt cx="641520" cy="61596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7807320" y="5065920"/>
                  <a:ext cx="2844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023320" y="506736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8115120" y="527868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793584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7645320" y="4789800"/>
                  <a:ext cx="120600" cy="58716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8174160" y="4784760"/>
                  <a:ext cx="112680" cy="59544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7648560" y="5364360"/>
                  <a:ext cx="635040" cy="36360"/>
                </a:xfrm>
                <a:prstGeom prst="rect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791064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811368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7783560" y="5170680"/>
                  <a:ext cx="252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7783560" y="5274000"/>
                  <a:ext cx="252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801216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803736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85952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793584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798660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798660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7859520" y="51962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808812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11368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8074080" y="5119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7910640" y="52470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7762680" y="4921560"/>
                  <a:ext cx="411480" cy="10152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1" name=""/>
              <p:cNvSpPr/>
              <p:nvPr/>
            </p:nvSpPr>
            <p:spPr>
              <a:xfrm>
                <a:off x="7974000" y="4645080"/>
                <a:ext cx="0" cy="25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2" name=""/>
            <p:cNvSpPr/>
            <p:nvPr/>
          </p:nvSpPr>
          <p:spPr>
            <a:xfrm>
              <a:off x="7088040" y="5495040"/>
              <a:ext cx="178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, pressure and temperat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727920" y="126036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thermal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temperat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704880" y="1820880"/>
          <a:ext cx="42181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820880"/>
                    <a:ext cx="4218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"/>
          <p:cNvSpPr/>
          <p:nvPr/>
        </p:nvSpPr>
        <p:spPr>
          <a:xfrm>
            <a:off x="388800" y="55440"/>
            <a:ext cx="83822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 (2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33680" y="404352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iab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no heat flo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793800" y="4719600"/>
          <a:ext cx="384660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3800" y="4719600"/>
                    <a:ext cx="38466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788760" y="55440"/>
            <a:ext cx="7575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losed Thermodynamic Cyc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995400" y="2386080"/>
            <a:ext cx="2994840" cy="2040480"/>
            <a:chOff x="995400" y="2386080"/>
            <a:chExt cx="2994840" cy="2040480"/>
          </a:xfrm>
        </p:grpSpPr>
        <p:sp>
          <p:nvSpPr>
            <p:cNvPr id="622" name=""/>
            <p:cNvSpPr/>
            <p:nvPr/>
          </p:nvSpPr>
          <p:spPr>
            <a:xfrm flipV="1">
              <a:off x="1344600" y="2544480"/>
              <a:ext cx="0" cy="152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640320" y="4027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995400" y="23860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620720" y="3456000"/>
              <a:ext cx="30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614240" y="2735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344600" y="4068720"/>
              <a:ext cx="254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96960" y="306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947600" y="2913120"/>
              <a:ext cx="1398240" cy="70956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lnTo>
                    <a:pt x="0" y="0"/>
                  </a:lnTo>
                  <a:lnTo>
                    <a:pt x="576" y="144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1947600" y="3136680"/>
              <a:ext cx="0" cy="759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358720" y="3003480"/>
              <a:ext cx="328320" cy="61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2462040" y="3375000"/>
              <a:ext cx="328320" cy="1000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65160" y="283680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263760" y="3141720"/>
              <a:ext cx="1630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65160" y="354168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654120" y="1722600"/>
            <a:ext cx="80010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closed cycle is one in which the system returns to the initial stat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am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 For examp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is a state function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net work is the enclosed are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is conserved (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):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182960" y="1003320"/>
            <a:ext cx="65588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osed cycles will form the basis of our heat engine discus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4446720" y="4464000"/>
          <a:ext cx="165888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720" y="4464000"/>
                    <a:ext cx="1658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0" name=""/>
          <p:cNvSpPr/>
          <p:nvPr/>
        </p:nvSpPr>
        <p:spPr>
          <a:xfrm>
            <a:off x="6126120" y="4794120"/>
            <a:ext cx="185760" cy="590760"/>
          </a:xfrm>
          <a:custGeom>
            <a:avLst/>
            <a:gdLst>
              <a:gd name="textAreaLeft" fmla="*/ 0 w 185760"/>
              <a:gd name="textAreaRight" fmla="*/ 66960 w 185760"/>
              <a:gd name="textAreaTop" fmla="*/ 15120 h 590760"/>
              <a:gd name="textAreaBottom" fmla="*/ 575640 h 5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438960" y="4730760"/>
            <a:ext cx="2705040" cy="82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the reason that neither W nor Q is a state function.  It makes no sense to talk about a state having a certain amount of 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55560" y="5757840"/>
            <a:ext cx="5537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ugh of course we could us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urves to make a closed cycle, here we will consi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sochoric, isobaric, isothermal, and adiabatic proces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51000" y="58680"/>
            <a:ext cx="84326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roduction to Heat Engin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82120" y="972720"/>
            <a:ext cx="82407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of the primary applications of thermodynamics is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urn heat into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ndard heat engine works on a cyclic proces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xtract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a hot reservoi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erform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sing some of the extracted hea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ump unused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to a cold reservoir (often the environmen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ep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ver and over.   We represent this process with a diagra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688000" y="3327480"/>
            <a:ext cx="3133800" cy="7333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 “reservoir” is a large body whose temperature doesn’t change when it absorbs or gives up he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1225440" y="3333600"/>
            <a:ext cx="3962520" cy="2261520"/>
            <a:chOff x="1225440" y="3333600"/>
            <a:chExt cx="3962520" cy="2261520"/>
          </a:xfrm>
        </p:grpSpPr>
        <p:sp>
          <p:nvSpPr>
            <p:cNvPr id="647" name=""/>
            <p:cNvSpPr/>
            <p:nvPr/>
          </p:nvSpPr>
          <p:spPr>
            <a:xfrm>
              <a:off x="4649760" y="4361040"/>
              <a:ext cx="538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147760" y="4152960"/>
              <a:ext cx="156708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67040" y="3333600"/>
              <a:ext cx="240660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419200" y="375444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3151080" y="3754440"/>
              <a:ext cx="1086120" cy="1450440"/>
              <a:chOff x="3151080" y="3754440"/>
              <a:chExt cx="1086120" cy="1450440"/>
            </a:xfrm>
          </p:grpSpPr>
          <p:sp>
            <p:nvSpPr>
              <p:cNvPr id="652" name=""/>
              <p:cNvSpPr/>
              <p:nvPr/>
            </p:nvSpPr>
            <p:spPr>
              <a:xfrm>
                <a:off x="3151080" y="446868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164040" y="4468680"/>
                <a:ext cx="42372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460680" y="375444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460680" y="4233600"/>
                <a:ext cx="38124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801960" y="4397040"/>
                <a:ext cx="4352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575160" y="4678200"/>
                <a:ext cx="6476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V="1">
                <a:off x="4237200" y="439704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>
              <a:off x="1225440" y="4327560"/>
              <a:ext cx="10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3930120" y="4535640"/>
              <a:ext cx="73980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2655720" y="375264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624040" y="3773520"/>
              <a:ext cx="468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994040" y="518940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2681280" y="478764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665440" y="4853160"/>
              <a:ext cx="66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274760" y="5935680"/>
            <a:ext cx="4089240" cy="382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268560" indent="-2685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Energy is conserved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667480" y="4681440"/>
            <a:ext cx="3049560" cy="57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For heat engines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we will define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and W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as positive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Simple Heat Engine: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Stirling Cycl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44200" y="5119560"/>
            <a:ext cx="6560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reservoir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 processes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isotherms and two isoch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et work during one cycle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rea of the “parallelogram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2262240" y="-92880"/>
            <a:ext cx="4855680" cy="4942080"/>
            <a:chOff x="2262240" y="-92880"/>
            <a:chExt cx="4855680" cy="4942080"/>
          </a:xfrm>
        </p:grpSpPr>
        <p:grpSp>
          <p:nvGrpSpPr>
            <p:cNvPr id="671" name=""/>
            <p:cNvGrpSpPr/>
            <p:nvPr/>
          </p:nvGrpSpPr>
          <p:grpSpPr>
            <a:xfrm>
              <a:off x="2262240" y="-92880"/>
              <a:ext cx="4855680" cy="4942080"/>
              <a:chOff x="2262240" y="-92880"/>
              <a:chExt cx="4855680" cy="4942080"/>
            </a:xfrm>
          </p:grpSpPr>
          <p:sp>
            <p:nvSpPr>
              <p:cNvPr id="672" name=""/>
              <p:cNvSpPr/>
              <p:nvPr/>
            </p:nvSpPr>
            <p:spPr>
              <a:xfrm>
                <a:off x="5538600" y="44640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2585880" y="17478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598480" y="44816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733640" y="39909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417920" y="34336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471840" y="44784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238640" y="44784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262240" y="157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384360" y="-8172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952000" y="4186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376080" y="-9288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946960" y="4125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V="1">
                <a:off x="3632040" y="27846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367160" y="34304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632040" y="37227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367160" y="40845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>
              <a:off x="3381120" y="3116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881160" y="2887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341600" y="3630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870000" y="3954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5247000" y="1116720"/>
            <a:ext cx="4855680" cy="4942080"/>
            <a:chOff x="5247000" y="1116720"/>
            <a:chExt cx="4855680" cy="4942080"/>
          </a:xfrm>
        </p:grpSpPr>
        <p:grpSp>
          <p:nvGrpSpPr>
            <p:cNvPr id="695" name=""/>
            <p:cNvGrpSpPr/>
            <p:nvPr/>
          </p:nvGrpSpPr>
          <p:grpSpPr>
            <a:xfrm>
              <a:off x="5247000" y="1116720"/>
              <a:ext cx="4855680" cy="4942080"/>
              <a:chOff x="5247000" y="1116720"/>
              <a:chExt cx="4855680" cy="4942080"/>
            </a:xfrm>
          </p:grpSpPr>
          <p:sp>
            <p:nvSpPr>
              <p:cNvPr id="696" name="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369120" y="112788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936760" y="16282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360840" y="111672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931720" y="16221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12" name="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717" name="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722" name="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29" name="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71360" y="3263760"/>
            <a:ext cx="526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ocess 1 is obvious, since we’re heating the g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 isothermal expansion (process 2), although the temperature is kept consta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still have to put heat in to do the work from the expan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66680" y="2297160"/>
            <a:ext cx="1162080" cy="266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247000" y="1116720"/>
            <a:ext cx="4855680" cy="4942080"/>
            <a:chOff x="5247000" y="1116720"/>
            <a:chExt cx="4855680" cy="4942080"/>
          </a:xfrm>
        </p:grpSpPr>
        <p:grpSp>
          <p:nvGrpSpPr>
            <p:cNvPr id="741" name=""/>
            <p:cNvGrpSpPr/>
            <p:nvPr/>
          </p:nvGrpSpPr>
          <p:grpSpPr>
            <a:xfrm>
              <a:off x="5247000" y="1116720"/>
              <a:ext cx="4855680" cy="4942080"/>
              <a:chOff x="5247000" y="1116720"/>
              <a:chExt cx="4855680" cy="4942080"/>
            </a:xfrm>
          </p:grpSpPr>
          <p:sp>
            <p:nvSpPr>
              <p:cNvPr id="742" name="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369120" y="112788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936760" y="16282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360840" y="111672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931720" y="16221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8" name="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763" name="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67" name="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768" name="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tirling Cycle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5442120" y="4095720"/>
            <a:ext cx="2436480" cy="2269440"/>
            <a:chOff x="5442120" y="4095720"/>
            <a:chExt cx="2436480" cy="2269440"/>
          </a:xfrm>
        </p:grpSpPr>
        <p:sp>
          <p:nvSpPr>
            <p:cNvPr id="784" name=""/>
            <p:cNvSpPr/>
            <p:nvPr/>
          </p:nvSpPr>
          <p:spPr>
            <a:xfrm>
              <a:off x="5442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451480" y="595944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463360" y="409572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3) Isochor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de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7" name=""/>
            <p:cNvGrpSpPr/>
            <p:nvPr/>
          </p:nvGrpSpPr>
          <p:grpSpPr>
            <a:xfrm>
              <a:off x="5781600" y="5595840"/>
              <a:ext cx="1677600" cy="331920"/>
              <a:chOff x="5781600" y="5595840"/>
              <a:chExt cx="1677600" cy="331920"/>
            </a:xfrm>
          </p:grpSpPr>
          <p:grpSp>
            <p:nvGrpSpPr>
              <p:cNvPr id="788" name=""/>
              <p:cNvGrpSpPr/>
              <p:nvPr/>
            </p:nvGrpSpPr>
            <p:grpSpPr>
              <a:xfrm>
                <a:off x="5781600" y="5599080"/>
                <a:ext cx="1573200" cy="328680"/>
                <a:chOff x="5781600" y="5599080"/>
                <a:chExt cx="1573200" cy="32868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5792760" y="59277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792760" y="55990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flipV="1">
                  <a:off x="5781600" y="56023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2" name=""/>
              <p:cNvGrpSpPr/>
              <p:nvPr/>
            </p:nvGrpSpPr>
            <p:grpSpPr>
              <a:xfrm>
                <a:off x="6786720" y="5595840"/>
                <a:ext cx="672480" cy="331560"/>
                <a:chOff x="6786720" y="5595840"/>
                <a:chExt cx="672480" cy="33156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6786720" y="559584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flipV="1">
                  <a:off x="6788160" y="576036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5" name=""/>
              <p:cNvSpPr/>
              <p:nvPr/>
            </p:nvSpPr>
            <p:spPr>
              <a:xfrm>
                <a:off x="5797440" y="561348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>
              <a:off x="5973840" y="575928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556240" y="590724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701640" y="4246560"/>
            <a:ext cx="2525760" cy="2118600"/>
            <a:chOff x="701640" y="4246560"/>
            <a:chExt cx="2525760" cy="2118600"/>
          </a:xfrm>
        </p:grpSpPr>
        <p:sp>
          <p:nvSpPr>
            <p:cNvPr id="799" name=""/>
            <p:cNvSpPr/>
            <p:nvPr/>
          </p:nvSpPr>
          <p:spPr>
            <a:xfrm>
              <a:off x="708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17480" y="595944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01" name=""/>
            <p:cNvGrpSpPr/>
            <p:nvPr/>
          </p:nvGrpSpPr>
          <p:grpSpPr>
            <a:xfrm>
              <a:off x="1084320" y="5602320"/>
              <a:ext cx="1573200" cy="331560"/>
              <a:chOff x="1084320" y="5602320"/>
              <a:chExt cx="1573200" cy="331560"/>
            </a:xfrm>
          </p:grpSpPr>
          <p:grpSp>
            <p:nvGrpSpPr>
              <p:cNvPr id="802" name=""/>
              <p:cNvGrpSpPr/>
              <p:nvPr/>
            </p:nvGrpSpPr>
            <p:grpSpPr>
              <a:xfrm>
                <a:off x="1084320" y="5605200"/>
                <a:ext cx="1573200" cy="328680"/>
                <a:chOff x="1084320" y="5605200"/>
                <a:chExt cx="1573200" cy="32868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1095480" y="59338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1095480" y="560520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 flipV="1">
                  <a:off x="1084320" y="560844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6" name=""/>
              <p:cNvGrpSpPr/>
              <p:nvPr/>
            </p:nvGrpSpPr>
            <p:grpSpPr>
              <a:xfrm>
                <a:off x="1620720" y="5602320"/>
                <a:ext cx="673200" cy="331560"/>
                <a:chOff x="1620720" y="5602320"/>
                <a:chExt cx="673200" cy="33156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1620720" y="560232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 flipV="1">
                  <a:off x="1622520" y="576684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9" name=""/>
              <p:cNvSpPr/>
              <p:nvPr/>
            </p:nvSpPr>
            <p:spPr>
              <a:xfrm>
                <a:off x="1100160" y="561960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0" name=""/>
            <p:cNvSpPr/>
            <p:nvPr/>
          </p:nvSpPr>
          <p:spPr>
            <a:xfrm>
              <a:off x="731520" y="4246560"/>
              <a:ext cx="206928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4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is compressed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2390760" y="5769000"/>
              <a:ext cx="7603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820960" y="542304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143000" y="578952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01640" y="5913360"/>
              <a:ext cx="460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708120" y="1000080"/>
            <a:ext cx="2436840" cy="2221920"/>
            <a:chOff x="708120" y="1000080"/>
            <a:chExt cx="2436840" cy="2221920"/>
          </a:xfrm>
        </p:grpSpPr>
        <p:sp>
          <p:nvSpPr>
            <p:cNvPr id="816" name=""/>
            <p:cNvSpPr/>
            <p:nvPr/>
          </p:nvSpPr>
          <p:spPr>
            <a:xfrm>
              <a:off x="708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17480" y="281628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18" name=""/>
            <p:cNvGrpSpPr/>
            <p:nvPr/>
          </p:nvGrpSpPr>
          <p:grpSpPr>
            <a:xfrm>
              <a:off x="1084320" y="2030400"/>
              <a:ext cx="1573200" cy="331560"/>
              <a:chOff x="1084320" y="2030400"/>
              <a:chExt cx="1573200" cy="331560"/>
            </a:xfrm>
          </p:grpSpPr>
          <p:grpSp>
            <p:nvGrpSpPr>
              <p:cNvPr id="819" name=""/>
              <p:cNvGrpSpPr/>
              <p:nvPr/>
            </p:nvGrpSpPr>
            <p:grpSpPr>
              <a:xfrm>
                <a:off x="1084320" y="2033280"/>
                <a:ext cx="1573200" cy="328680"/>
                <a:chOff x="1084320" y="2033280"/>
                <a:chExt cx="1573200" cy="328680"/>
              </a:xfrm>
            </p:grpSpPr>
            <p:sp>
              <p:nvSpPr>
                <p:cNvPr id="820" name=""/>
                <p:cNvSpPr/>
                <p:nvPr/>
              </p:nvSpPr>
              <p:spPr>
                <a:xfrm>
                  <a:off x="1095480" y="23619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1095480" y="20332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 flipV="1">
                  <a:off x="1084320" y="20365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1620720" y="2030400"/>
                <a:ext cx="673200" cy="331560"/>
                <a:chOff x="1620720" y="2030400"/>
                <a:chExt cx="673200" cy="33156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162072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 flipV="1">
                  <a:off x="1622520" y="219492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6" name=""/>
              <p:cNvSpPr/>
              <p:nvPr/>
            </p:nvSpPr>
            <p:spPr>
              <a:xfrm>
                <a:off x="1100160" y="204768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27" name=""/>
            <p:cNvSpPr/>
            <p:nvPr/>
          </p:nvSpPr>
          <p:spPr>
            <a:xfrm>
              <a:off x="729360" y="100008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1) Isochoric</a:t>
              </a:r>
              <a:br>
                <a:rPr sz="14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in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36044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98748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5442120" y="1103400"/>
            <a:ext cx="2952720" cy="2118600"/>
            <a:chOff x="5442120" y="1103400"/>
            <a:chExt cx="2952720" cy="2118600"/>
          </a:xfrm>
        </p:grpSpPr>
        <p:sp>
          <p:nvSpPr>
            <p:cNvPr id="831" name=""/>
            <p:cNvSpPr/>
            <p:nvPr/>
          </p:nvSpPr>
          <p:spPr>
            <a:xfrm>
              <a:off x="5442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451480" y="281628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33" name=""/>
            <p:cNvGrpSpPr/>
            <p:nvPr/>
          </p:nvGrpSpPr>
          <p:grpSpPr>
            <a:xfrm>
              <a:off x="5818320" y="2030400"/>
              <a:ext cx="1677600" cy="331920"/>
              <a:chOff x="5818320" y="2030400"/>
              <a:chExt cx="1677600" cy="331920"/>
            </a:xfrm>
          </p:grpSpPr>
          <p:grpSp>
            <p:nvGrpSpPr>
              <p:cNvPr id="834" name=""/>
              <p:cNvGrpSpPr/>
              <p:nvPr/>
            </p:nvGrpSpPr>
            <p:grpSpPr>
              <a:xfrm>
                <a:off x="5818320" y="2033640"/>
                <a:ext cx="1573200" cy="328680"/>
                <a:chOff x="5818320" y="2033640"/>
                <a:chExt cx="1573200" cy="328680"/>
              </a:xfrm>
            </p:grpSpPr>
            <p:sp>
              <p:nvSpPr>
                <p:cNvPr id="835" name=""/>
                <p:cNvSpPr/>
                <p:nvPr/>
              </p:nvSpPr>
              <p:spPr>
                <a:xfrm>
                  <a:off x="5829480" y="236232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5829480" y="203364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 flipV="1">
                  <a:off x="5818320" y="203688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6823440" y="2030400"/>
                <a:ext cx="672480" cy="331560"/>
                <a:chOff x="6823440" y="2030400"/>
                <a:chExt cx="672480" cy="33156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682344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flipV="1">
                  <a:off x="6824880" y="219492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1" name=""/>
              <p:cNvSpPr/>
              <p:nvPr/>
            </p:nvSpPr>
            <p:spPr>
              <a:xfrm>
                <a:off x="5834160" y="204804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42" name=""/>
            <p:cNvSpPr/>
            <p:nvPr/>
          </p:nvSpPr>
          <p:spPr>
            <a:xfrm>
              <a:off x="5464800" y="1103400"/>
              <a:ext cx="173520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2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expands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634160" y="2189160"/>
              <a:ext cx="760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967520" y="219060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05808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6892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3071520" y="2345400"/>
            <a:ext cx="2491560" cy="2510280"/>
            <a:chOff x="3071520" y="2345400"/>
            <a:chExt cx="2491560" cy="2510280"/>
          </a:xfrm>
        </p:grpSpPr>
        <p:sp>
          <p:nvSpPr>
            <p:cNvPr id="848" name=""/>
            <p:cNvSpPr/>
            <p:nvPr/>
          </p:nvSpPr>
          <p:spPr>
            <a:xfrm flipH="1" flipV="1" rot="3079200">
              <a:off x="3406680" y="27435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rot="3079200">
              <a:off x="3402000" y="27453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 flipV="1" rot="19279200">
              <a:off x="3453840" y="268164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flipV="1" rot="8479200">
              <a:off x="3460680" y="268632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3332160" y="2860560"/>
            <a:ext cx="2011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ycle goes            around like this.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don’t describe th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echanical parts that mov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gas cylinder back and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rth between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reservoirs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3251160" y="4708440"/>
            <a:ext cx="23893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Does this Engine Do Work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82120" y="1125360"/>
            <a:ext cx="769536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 at the two isothermal processes (2 and 4) on the previous sli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2: expanding gas do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expands 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4: contracting gas is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y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contracts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the net work is positive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rue, because the contracting gas is colder (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ower pressure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ring one cycl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t reservoir has lost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cold reservoir has gained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3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ngine (the gas cylinder) has neither gained nor lost energ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energy to do work comes from the hot reservoir, not from the engine itself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et work done by the engine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Not all of the energy taken from the hot reservoir becomes useful work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me is lost into the cold reservoir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ould like to make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s small as pos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415880" y="4773600"/>
            <a:ext cx="3795840" cy="453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555480" y="353052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otal work done by the gas is the sum of steps 2 and 4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Efficiency of Stirling Cy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861" name="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95" name="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896" name="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8" name="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Area enclosed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00" name="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1981080" y="3936960"/>
          <a:ext cx="4002120" cy="22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936960"/>
                    <a:ext cx="400212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3" name=""/>
          <p:cNvSpPr/>
          <p:nvPr/>
        </p:nvSpPr>
        <p:spPr>
          <a:xfrm>
            <a:off x="6036840" y="5497560"/>
            <a:ext cx="2288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 need a temperatur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difference if we want to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get work out of the engin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290520" y="3662280"/>
            <a:ext cx="84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Heat extracted from the hot reservoir, exhausted to cold reservoi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5" name=""/>
          <p:cNvGraphicFramePr/>
          <p:nvPr/>
        </p:nvGraphicFramePr>
        <p:xfrm>
          <a:off x="1879560" y="4175280"/>
          <a:ext cx="467352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9560" y="4175280"/>
                    <a:ext cx="467352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7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910" name="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44" name="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945" name="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7" name="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Area enclosed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49" name="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3240" y="5724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t all Bodies are Blac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1600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595520" y="4732200"/>
          <a:ext cx="179064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5520" y="4732200"/>
                    <a:ext cx="17906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809640" y="4051440"/>
            <a:ext cx="310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dified Stefan-Boltzman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w of Radia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29160" y="3795840"/>
            <a:ext cx="348444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</a:rPr>
              <a:t>Typical emissivities (300 K)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ld, polish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02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uminum, anodiz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55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te pape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68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ick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3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5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kin (!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7640" y="1463040"/>
            <a:ext cx="828828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l materials are not truly “black”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y don’t completely absorb all wavelengths).  The fraction absorbed is call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orbanc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ich is equal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to i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issivity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, 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 dimensionless number 0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 that depends on the properties of the surfac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an ideal emitter (an ideal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ackbod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bsorber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something that doesn’t emit (or absorb) at all, i.e., a perfec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lect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0320" y="619272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is equality didn’t hold, we wouldn’t have thermal equilibriu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952" name=""/>
          <p:cNvGraphicFramePr/>
          <p:nvPr/>
        </p:nvGraphicFramePr>
        <p:xfrm>
          <a:off x="1519200" y="2840040"/>
          <a:ext cx="479916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2840040"/>
                    <a:ext cx="479916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4" name=""/>
          <p:cNvSpPr/>
          <p:nvPr/>
        </p:nvSpPr>
        <p:spPr>
          <a:xfrm>
            <a:off x="1450800" y="1138320"/>
            <a:ext cx="451512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Let’s put in some number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b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= 2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a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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3/2   (monatomic gas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373K (boiling water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273K (ice wa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011240" y="5169960"/>
            <a:ext cx="72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We’ll see next time that this is NOT the maximum possible efficiency, which is determined solely by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MS PGothic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law of thermodynamic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8" name="Rectangle 2"/>
          <p:cNvSpPr/>
          <p:nvPr/>
        </p:nvSpPr>
        <p:spPr>
          <a:xfrm>
            <a:off x="1954080" y="2039760"/>
            <a:ext cx="49453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not Engine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igerator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Pumps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2920" y="65160"/>
            <a:ext cx="8675640" cy="133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lication: 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Earth’s Temperatur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4960" y="4543560"/>
            <a:ext cx="77486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Earth’s temperature remains approximately constant, because the thermal radiation it receives from the Sun is balanced by the thermal radiation it emi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works because, although the Sun is much hotter (and therefore emits much more energy), the Earth only receives a small frac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138120" y="1294200"/>
            <a:ext cx="516240" cy="573840"/>
            <a:chOff x="3138120" y="1294200"/>
            <a:chExt cx="516240" cy="573840"/>
          </a:xfrm>
        </p:grpSpPr>
        <p:grpSp>
          <p:nvGrpSpPr>
            <p:cNvPr id="87" name=""/>
            <p:cNvGrpSpPr/>
            <p:nvPr/>
          </p:nvGrpSpPr>
          <p:grpSpPr>
            <a:xfrm>
              <a:off x="3138120" y="1294200"/>
              <a:ext cx="516240" cy="573840"/>
              <a:chOff x="3138120" y="1294200"/>
              <a:chExt cx="516240" cy="573840"/>
            </a:xfrm>
          </p:grpSpPr>
          <p:sp>
            <p:nvSpPr>
              <p:cNvPr id="88" name=""/>
              <p:cNvSpPr/>
              <p:nvPr/>
            </p:nvSpPr>
            <p:spPr>
              <a:xfrm>
                <a:off x="3280320" y="1446120"/>
                <a:ext cx="232200" cy="26820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303720" y="1516320"/>
                <a:ext cx="183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0" name=""/>
              <p:cNvGrpSpPr/>
              <p:nvPr/>
            </p:nvGrpSpPr>
            <p:grpSpPr>
              <a:xfrm>
                <a:off x="3138120" y="1558080"/>
                <a:ext cx="126360" cy="39960"/>
                <a:chOff x="3138120" y="1558080"/>
                <a:chExt cx="126360" cy="39960"/>
              </a:xfrm>
            </p:grpSpPr>
            <p:sp>
              <p:nvSpPr>
                <p:cNvPr id="91" name=""/>
                <p:cNvSpPr/>
                <p:nvPr/>
              </p:nvSpPr>
              <p:spPr>
                <a:xfrm flipH="1">
                  <a:off x="3154320" y="1558080"/>
                  <a:ext cx="11016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H="1">
                  <a:off x="3138120" y="1578600"/>
                  <a:ext cx="26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3379320" y="1294200"/>
                <a:ext cx="36720" cy="135720"/>
                <a:chOff x="3379320" y="1294200"/>
                <a:chExt cx="36720" cy="135720"/>
              </a:xfrm>
            </p:grpSpPr>
            <p:sp>
              <p:nvSpPr>
                <p:cNvPr id="94" name=""/>
                <p:cNvSpPr/>
                <p:nvPr/>
              </p:nvSpPr>
              <p:spPr>
                <a:xfrm rot="16200000">
                  <a:off x="3338280" y="1352160"/>
                  <a:ext cx="118440" cy="367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flipV="1">
                  <a:off x="3398040" y="1294200"/>
                  <a:ext cx="0" cy="28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3369600" y="1729800"/>
                <a:ext cx="38880" cy="138240"/>
                <a:chOff x="3369600" y="1729800"/>
                <a:chExt cx="38880" cy="138240"/>
              </a:xfrm>
            </p:grpSpPr>
            <p:sp>
              <p:nvSpPr>
                <p:cNvPr id="97" name=""/>
                <p:cNvSpPr/>
                <p:nvPr/>
              </p:nvSpPr>
              <p:spPr>
                <a:xfrm rot="5400000">
                  <a:off x="3328560" y="177048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388680" y="1838880"/>
                  <a:ext cx="0" cy="2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3200400" y="1664640"/>
                <a:ext cx="110880" cy="110160"/>
                <a:chOff x="3200400" y="1664640"/>
                <a:chExt cx="110880" cy="110160"/>
              </a:xfrm>
            </p:grpSpPr>
            <p:sp>
              <p:nvSpPr>
                <p:cNvPr id="100" name=""/>
                <p:cNvSpPr/>
                <p:nvPr/>
              </p:nvSpPr>
              <p:spPr>
                <a:xfrm rot="8123400">
                  <a:off x="3197520" y="169956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H="1">
                  <a:off x="3201840" y="1752480"/>
                  <a:ext cx="20160" cy="19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3520800" y="1560240"/>
                <a:ext cx="133560" cy="39960"/>
                <a:chOff x="3520800" y="1560240"/>
                <a:chExt cx="133560" cy="3996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3520800" y="156024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626280" y="1580760"/>
                  <a:ext cx="2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3211200" y="1375560"/>
                <a:ext cx="112320" cy="113040"/>
                <a:chOff x="3211200" y="1375560"/>
                <a:chExt cx="112320" cy="113040"/>
              </a:xfrm>
            </p:grpSpPr>
            <p:sp>
              <p:nvSpPr>
                <p:cNvPr id="106" name=""/>
                <p:cNvSpPr/>
                <p:nvPr/>
              </p:nvSpPr>
              <p:spPr>
                <a:xfrm rot="13523400">
                  <a:off x="3206880" y="141228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H="1" flipV="1">
                  <a:off x="3213000" y="1376280"/>
                  <a:ext cx="20520" cy="20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3474720" y="1376640"/>
                <a:ext cx="110880" cy="110160"/>
                <a:chOff x="3474720" y="1376640"/>
                <a:chExt cx="110880" cy="110160"/>
              </a:xfrm>
            </p:grpSpPr>
            <p:sp>
              <p:nvSpPr>
                <p:cNvPr id="109" name=""/>
                <p:cNvSpPr/>
                <p:nvPr/>
              </p:nvSpPr>
              <p:spPr>
                <a:xfrm rot="18923400">
                  <a:off x="3471840" y="141156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V="1">
                  <a:off x="3564000" y="1379160"/>
                  <a:ext cx="20160" cy="19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3474000" y="1667520"/>
                <a:ext cx="112320" cy="113040"/>
                <a:chOff x="3474000" y="1667520"/>
                <a:chExt cx="112320" cy="113040"/>
              </a:xfrm>
            </p:grpSpPr>
            <p:sp>
              <p:nvSpPr>
                <p:cNvPr id="112" name=""/>
                <p:cNvSpPr/>
                <p:nvPr/>
              </p:nvSpPr>
              <p:spPr>
                <a:xfrm rot="2723400">
                  <a:off x="3469680" y="170460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564000" y="1759320"/>
                  <a:ext cx="20520" cy="20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272040" y="1441080"/>
              <a:ext cx="281880" cy="28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192240" y="1638720"/>
            <a:ext cx="1536120" cy="1651320"/>
            <a:chOff x="192240" y="1638720"/>
            <a:chExt cx="1536120" cy="1651320"/>
          </a:xfrm>
        </p:grpSpPr>
        <p:grpSp>
          <p:nvGrpSpPr>
            <p:cNvPr id="116" name=""/>
            <p:cNvGrpSpPr/>
            <p:nvPr/>
          </p:nvGrpSpPr>
          <p:grpSpPr>
            <a:xfrm>
              <a:off x="192240" y="1638720"/>
              <a:ext cx="1536120" cy="1651320"/>
              <a:chOff x="192240" y="1638720"/>
              <a:chExt cx="1536120" cy="1651320"/>
            </a:xfrm>
          </p:grpSpPr>
          <p:sp>
            <p:nvSpPr>
              <p:cNvPr id="117" name=""/>
              <p:cNvSpPr/>
              <p:nvPr/>
            </p:nvSpPr>
            <p:spPr>
              <a:xfrm>
                <a:off x="614520" y="2076120"/>
                <a:ext cx="691920" cy="77112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16120" y="2276280"/>
                <a:ext cx="290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192240" y="2398320"/>
                <a:ext cx="375840" cy="115560"/>
                <a:chOff x="192240" y="2398320"/>
                <a:chExt cx="375840" cy="115560"/>
              </a:xfrm>
            </p:grpSpPr>
            <p:sp>
              <p:nvSpPr>
                <p:cNvPr id="120" name=""/>
                <p:cNvSpPr/>
                <p:nvPr/>
              </p:nvSpPr>
              <p:spPr>
                <a:xfrm flipH="1">
                  <a:off x="240480" y="2398320"/>
                  <a:ext cx="32760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H="1">
                  <a:off x="192240" y="2457720"/>
                  <a:ext cx="79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909720" y="1638720"/>
                <a:ext cx="109440" cy="391320"/>
                <a:chOff x="909720" y="1638720"/>
                <a:chExt cx="109440" cy="391320"/>
              </a:xfrm>
            </p:grpSpPr>
            <p:sp>
              <p:nvSpPr>
                <p:cNvPr id="123" name=""/>
                <p:cNvSpPr/>
                <p:nvPr/>
              </p:nvSpPr>
              <p:spPr>
                <a:xfrm rot="16200000">
                  <a:off x="793800" y="1804680"/>
                  <a:ext cx="341280" cy="10944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V="1">
                  <a:off x="965880" y="1638720"/>
                  <a:ext cx="0" cy="82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881280" y="2892240"/>
                <a:ext cx="115920" cy="397800"/>
                <a:chOff x="881280" y="2892240"/>
                <a:chExt cx="115920" cy="397800"/>
              </a:xfrm>
            </p:grpSpPr>
            <p:sp>
              <p:nvSpPr>
                <p:cNvPr id="126" name=""/>
                <p:cNvSpPr/>
                <p:nvPr/>
              </p:nvSpPr>
              <p:spPr>
                <a:xfrm rot="5400000">
                  <a:off x="765720" y="300744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937800" y="3206160"/>
                  <a:ext cx="0" cy="83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380520" y="2700360"/>
                <a:ext cx="327960" cy="325800"/>
                <a:chOff x="380520" y="2700360"/>
                <a:chExt cx="327960" cy="325800"/>
              </a:xfrm>
            </p:grpSpPr>
            <p:sp>
              <p:nvSpPr>
                <p:cNvPr id="129" name=""/>
                <p:cNvSpPr/>
                <p:nvPr/>
              </p:nvSpPr>
              <p:spPr>
                <a:xfrm rot="8123400">
                  <a:off x="371160" y="2805480"/>
                  <a:ext cx="34668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>
                  <a:off x="383760" y="2960640"/>
                  <a:ext cx="59400" cy="5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330560" y="2404800"/>
                <a:ext cx="397800" cy="115560"/>
                <a:chOff x="1330560" y="2404800"/>
                <a:chExt cx="397800" cy="11556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1330560" y="2404800"/>
                  <a:ext cx="34668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644480" y="2464200"/>
                  <a:ext cx="838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13280" y="1872360"/>
                <a:ext cx="325800" cy="328320"/>
                <a:chOff x="413280" y="1872360"/>
                <a:chExt cx="325800" cy="328320"/>
              </a:xfrm>
            </p:grpSpPr>
            <p:sp>
              <p:nvSpPr>
                <p:cNvPr id="135" name=""/>
                <p:cNvSpPr/>
                <p:nvPr/>
              </p:nvSpPr>
              <p:spPr>
                <a:xfrm rot="13523400">
                  <a:off x="402480" y="197856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 flipV="1">
                  <a:off x="419400" y="1875600"/>
                  <a:ext cx="59040" cy="59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1194840" y="1872720"/>
                <a:ext cx="328320" cy="326160"/>
                <a:chOff x="1194840" y="1872720"/>
                <a:chExt cx="328320" cy="326160"/>
              </a:xfrm>
            </p:grpSpPr>
            <p:sp>
              <p:nvSpPr>
                <p:cNvPr id="138" name=""/>
                <p:cNvSpPr/>
                <p:nvPr/>
              </p:nvSpPr>
              <p:spPr>
                <a:xfrm rot="18923400">
                  <a:off x="1185120" y="1977840"/>
                  <a:ext cx="34704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1460160" y="1879200"/>
                  <a:ext cx="59760" cy="5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1196280" y="2711880"/>
                <a:ext cx="325800" cy="328320"/>
                <a:chOff x="1196280" y="2711880"/>
                <a:chExt cx="325800" cy="328320"/>
              </a:xfrm>
            </p:grpSpPr>
            <p:sp>
              <p:nvSpPr>
                <p:cNvPr id="141" name=""/>
                <p:cNvSpPr/>
                <p:nvPr/>
              </p:nvSpPr>
              <p:spPr>
                <a:xfrm rot="2723400">
                  <a:off x="1185840" y="281772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456920" y="2977200"/>
                  <a:ext cx="59040" cy="59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3" name=""/>
            <p:cNvSpPr/>
            <p:nvPr/>
          </p:nvSpPr>
          <p:spPr>
            <a:xfrm>
              <a:off x="590400" y="2079720"/>
              <a:ext cx="783720" cy="784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70280" y="1297080"/>
            <a:ext cx="4229280" cy="2493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624560" y="3867120"/>
            <a:ext cx="42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The magnitude of the Earth curve has been magnified 500,000 tim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2881440"/>
            <a:ext cx="93758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lance the energy flow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wer absorbed from sun = Power radiated by earth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80 K (~room temperature!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52960" y="1260360"/>
            <a:ext cx="927000" cy="986040"/>
          </a:xfrm>
          <a:prstGeom prst="ellipse">
            <a:avLst/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47800" y="1560600"/>
            <a:ext cx="287280" cy="288720"/>
          </a:xfrm>
          <a:prstGeom prst="ellips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2160" y="741240"/>
            <a:ext cx="241200" cy="1917720"/>
          </a:xfrm>
          <a:custGeom>
            <a:avLst/>
            <a:gdLst/>
            <a:ahLst/>
            <a:rect l="l" t="t" r="r" b="b"/>
            <a:pathLst>
              <a:path w="152" h="1208">
                <a:moveTo>
                  <a:pt x="151" y="1207"/>
                </a:moveTo>
                <a:lnTo>
                  <a:pt x="123" y="1131"/>
                </a:lnTo>
                <a:lnTo>
                  <a:pt x="96" y="1059"/>
                </a:lnTo>
                <a:lnTo>
                  <a:pt x="71" y="983"/>
                </a:lnTo>
                <a:lnTo>
                  <a:pt x="48" y="908"/>
                </a:lnTo>
                <a:lnTo>
                  <a:pt x="29" y="832"/>
                </a:lnTo>
                <a:lnTo>
                  <a:pt x="20" y="796"/>
                </a:lnTo>
                <a:lnTo>
                  <a:pt x="14" y="759"/>
                </a:lnTo>
                <a:lnTo>
                  <a:pt x="8" y="720"/>
                </a:lnTo>
                <a:lnTo>
                  <a:pt x="4" y="684"/>
                </a:lnTo>
                <a:lnTo>
                  <a:pt x="2" y="645"/>
                </a:lnTo>
                <a:lnTo>
                  <a:pt x="0" y="608"/>
                </a:lnTo>
                <a:lnTo>
                  <a:pt x="2" y="569"/>
                </a:lnTo>
                <a:lnTo>
                  <a:pt x="4" y="530"/>
                </a:lnTo>
                <a:lnTo>
                  <a:pt x="10" y="487"/>
                </a:lnTo>
                <a:lnTo>
                  <a:pt x="18" y="442"/>
                </a:lnTo>
                <a:lnTo>
                  <a:pt x="26" y="400"/>
                </a:lnTo>
                <a:lnTo>
                  <a:pt x="36" y="354"/>
                </a:lnTo>
                <a:lnTo>
                  <a:pt x="59" y="267"/>
                </a:lnTo>
                <a:lnTo>
                  <a:pt x="82" y="185"/>
                </a:lnTo>
                <a:lnTo>
                  <a:pt x="105" y="109"/>
                </a:lnTo>
                <a:lnTo>
                  <a:pt x="115" y="76"/>
                </a:lnTo>
                <a:lnTo>
                  <a:pt x="123" y="49"/>
                </a:lnTo>
                <a:lnTo>
                  <a:pt x="131" y="22"/>
                </a:lnTo>
                <a:lnTo>
                  <a:pt x="136" y="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1196640" y="901800"/>
            <a:ext cx="2513160" cy="852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592440" y="1298520"/>
            <a:ext cx="106560" cy="442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95400" y="861840"/>
            <a:ext cx="20098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5520" y="1378080"/>
            <a:ext cx="51444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3280" y="65160"/>
            <a:ext cx="86756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arth’s Temperature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01320" y="1052640"/>
            <a:ext cx="363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32480" y="1852560"/>
            <a:ext cx="431136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n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its surface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n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the Earth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/R)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rth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its surface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4320" y="752400"/>
            <a:ext cx="1584720" cy="10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 = 1.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5800 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1120" y="3605040"/>
            <a:ext cx="79772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wait! We did not account for the fact that about 30% of the sun’s radiation reflects off our atmosphere!  (The planet’s “albedo”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0% less input from the sun means about 8% lower temperature becau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/4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This factor reduces our best estimate of the Earth’s temperature by about 30 K.  Now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50 K, or 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.  Brrr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fact the average surface temperature of the Earth is about 290 K, or about 60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, just right for Earthly life.  (coincidence? I think not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xtra 60° F of warming is mainly due to the “greenhouse effect”, the fact that some of the radiation from the Earth is reflected back by the atmosphere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exactly is the “greenhouse effect”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47280" y="58320"/>
            <a:ext cx="786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member Molecular vibrations: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49360" y="1218960"/>
            <a:ext cx="808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lyatomic molecul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, C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ave rotational and vibrational modes that correspond to photon wavelengths (energies) in the infrared.  These molecules absorb (and emit) IR radiation much more effectively than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absorption is in the middle of the Earth’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spectrum, but in the tail of the Sun’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ult is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ur atmosphere lets most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the sunlight through, but absorbs a larger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fraction of the radiation that the Earth emi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76920" y="3052800"/>
            <a:ext cx="28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ong absorption in the infrared. (rotational and vibrational motion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10360" y="2281320"/>
            <a:ext cx="154080" cy="16344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91160" y="2711520"/>
            <a:ext cx="155880" cy="16344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26320" y="2271600"/>
            <a:ext cx="154080" cy="16380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3351600">
            <a:off x="6258240" y="2509200"/>
            <a:ext cx="328680" cy="168120"/>
          </a:xfrm>
          <a:custGeom>
            <a:avLst/>
            <a:gdLst/>
            <a:ahLst/>
            <a:rect l="l" t="t" r="r" b="b"/>
            <a:pathLst>
              <a:path w="258" h="158">
                <a:moveTo>
                  <a:pt x="0" y="70"/>
                </a:moveTo>
                <a:cubicBezTo>
                  <a:pt x="22" y="42"/>
                  <a:pt x="45" y="15"/>
                  <a:pt x="61" y="24"/>
                </a:cubicBezTo>
                <a:cubicBezTo>
                  <a:pt x="77" y="33"/>
                  <a:pt x="101" y="107"/>
                  <a:pt x="99" y="123"/>
                </a:cubicBezTo>
                <a:cubicBezTo>
                  <a:pt x="97" y="139"/>
                  <a:pt x="39" y="142"/>
                  <a:pt x="46" y="123"/>
                </a:cubicBezTo>
                <a:cubicBezTo>
                  <a:pt x="53" y="104"/>
                  <a:pt x="119" y="7"/>
                  <a:pt x="144" y="9"/>
                </a:cubicBezTo>
                <a:cubicBezTo>
                  <a:pt x="169" y="11"/>
                  <a:pt x="198" y="118"/>
                  <a:pt x="198" y="138"/>
                </a:cubicBezTo>
                <a:cubicBezTo>
                  <a:pt x="198" y="158"/>
                  <a:pt x="139" y="151"/>
                  <a:pt x="144" y="130"/>
                </a:cubicBezTo>
                <a:cubicBezTo>
                  <a:pt x="149" y="109"/>
                  <a:pt x="209" y="18"/>
                  <a:pt x="228" y="9"/>
                </a:cubicBezTo>
                <a:cubicBezTo>
                  <a:pt x="247" y="0"/>
                  <a:pt x="252" y="38"/>
                  <a:pt x="258" y="77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8787800">
            <a:off x="6563520" y="2507040"/>
            <a:ext cx="361800" cy="182520"/>
          </a:xfrm>
          <a:custGeom>
            <a:avLst/>
            <a:gdLst/>
            <a:ahLst/>
            <a:rect l="l" t="t" r="r" b="b"/>
            <a:pathLst>
              <a:path w="258" h="158">
                <a:moveTo>
                  <a:pt x="0" y="70"/>
                </a:moveTo>
                <a:cubicBezTo>
                  <a:pt x="22" y="42"/>
                  <a:pt x="45" y="15"/>
                  <a:pt x="61" y="24"/>
                </a:cubicBezTo>
                <a:cubicBezTo>
                  <a:pt x="77" y="33"/>
                  <a:pt x="101" y="107"/>
                  <a:pt x="99" y="123"/>
                </a:cubicBezTo>
                <a:cubicBezTo>
                  <a:pt x="97" y="139"/>
                  <a:pt x="39" y="142"/>
                  <a:pt x="46" y="123"/>
                </a:cubicBezTo>
                <a:cubicBezTo>
                  <a:pt x="53" y="104"/>
                  <a:pt x="119" y="7"/>
                  <a:pt x="144" y="9"/>
                </a:cubicBezTo>
                <a:cubicBezTo>
                  <a:pt x="169" y="11"/>
                  <a:pt x="198" y="118"/>
                  <a:pt x="198" y="138"/>
                </a:cubicBezTo>
                <a:cubicBezTo>
                  <a:pt x="198" y="158"/>
                  <a:pt x="139" y="151"/>
                  <a:pt x="144" y="130"/>
                </a:cubicBezTo>
                <a:cubicBezTo>
                  <a:pt x="149" y="109"/>
                  <a:pt x="209" y="18"/>
                  <a:pt x="228" y="9"/>
                </a:cubicBezTo>
                <a:cubicBezTo>
                  <a:pt x="247" y="0"/>
                  <a:pt x="252" y="38"/>
                  <a:pt x="258" y="77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76200" y="4181400"/>
            <a:ext cx="5311800" cy="2476080"/>
            <a:chOff x="376200" y="4181400"/>
            <a:chExt cx="5311800" cy="2476080"/>
          </a:xfrm>
        </p:grpSpPr>
        <p:sp>
          <p:nvSpPr>
            <p:cNvPr id="168" name=""/>
            <p:cNvSpPr/>
            <p:nvPr/>
          </p:nvSpPr>
          <p:spPr>
            <a:xfrm flipV="1">
              <a:off x="986040" y="4411440"/>
              <a:ext cx="0" cy="1341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82800" y="4394160"/>
              <a:ext cx="3624120" cy="1361880"/>
            </a:xfrm>
            <a:custGeom>
              <a:avLst/>
              <a:gdLst/>
              <a:ahLst/>
              <a:rect l="l" t="t" r="r" b="b"/>
              <a:pathLst>
                <a:path w="2283" h="858">
                  <a:moveTo>
                    <a:pt x="0" y="857"/>
                  </a:moveTo>
                  <a:lnTo>
                    <a:pt x="81" y="708"/>
                  </a:lnTo>
                  <a:lnTo>
                    <a:pt x="163" y="563"/>
                  </a:lnTo>
                  <a:lnTo>
                    <a:pt x="204" y="494"/>
                  </a:lnTo>
                  <a:lnTo>
                    <a:pt x="245" y="427"/>
                  </a:lnTo>
                  <a:lnTo>
                    <a:pt x="286" y="363"/>
                  </a:lnTo>
                  <a:lnTo>
                    <a:pt x="327" y="305"/>
                  </a:lnTo>
                  <a:lnTo>
                    <a:pt x="374" y="246"/>
                  </a:lnTo>
                  <a:lnTo>
                    <a:pt x="415" y="195"/>
                  </a:lnTo>
                  <a:lnTo>
                    <a:pt x="463" y="147"/>
                  </a:lnTo>
                  <a:lnTo>
                    <a:pt x="504" y="107"/>
                  </a:lnTo>
                  <a:lnTo>
                    <a:pt x="552" y="72"/>
                  </a:lnTo>
                  <a:lnTo>
                    <a:pt x="599" y="43"/>
                  </a:lnTo>
                  <a:lnTo>
                    <a:pt x="654" y="19"/>
                  </a:lnTo>
                  <a:lnTo>
                    <a:pt x="701" y="6"/>
                  </a:lnTo>
                  <a:lnTo>
                    <a:pt x="729" y="3"/>
                  </a:lnTo>
                  <a:lnTo>
                    <a:pt x="756" y="0"/>
                  </a:lnTo>
                  <a:lnTo>
                    <a:pt x="810" y="6"/>
                  </a:lnTo>
                  <a:lnTo>
                    <a:pt x="872" y="22"/>
                  </a:lnTo>
                  <a:lnTo>
                    <a:pt x="933" y="43"/>
                  </a:lnTo>
                  <a:lnTo>
                    <a:pt x="994" y="72"/>
                  </a:lnTo>
                  <a:lnTo>
                    <a:pt x="1063" y="110"/>
                  </a:lnTo>
                  <a:lnTo>
                    <a:pt x="1124" y="147"/>
                  </a:lnTo>
                  <a:lnTo>
                    <a:pt x="1192" y="192"/>
                  </a:lnTo>
                  <a:lnTo>
                    <a:pt x="1321" y="283"/>
                  </a:lnTo>
                  <a:lnTo>
                    <a:pt x="1444" y="374"/>
                  </a:lnTo>
                  <a:lnTo>
                    <a:pt x="1505" y="417"/>
                  </a:lnTo>
                  <a:lnTo>
                    <a:pt x="1560" y="454"/>
                  </a:lnTo>
                  <a:lnTo>
                    <a:pt x="1614" y="489"/>
                  </a:lnTo>
                  <a:lnTo>
                    <a:pt x="1669" y="515"/>
                  </a:lnTo>
                  <a:lnTo>
                    <a:pt x="1764" y="561"/>
                  </a:lnTo>
                  <a:lnTo>
                    <a:pt x="1846" y="601"/>
                  </a:lnTo>
                  <a:lnTo>
                    <a:pt x="1928" y="635"/>
                  </a:lnTo>
                  <a:lnTo>
                    <a:pt x="2009" y="668"/>
                  </a:lnTo>
                  <a:lnTo>
                    <a:pt x="2078" y="697"/>
                  </a:lnTo>
                  <a:lnTo>
                    <a:pt x="2146" y="724"/>
                  </a:lnTo>
                  <a:lnTo>
                    <a:pt x="2282" y="772"/>
                  </a:lnTo>
                </a:path>
              </a:pathLst>
            </a:custGeom>
            <a:noFill/>
            <a:ln cap="rnd"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87480" y="5754600"/>
              <a:ext cx="3724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6200" y="4686120"/>
              <a:ext cx="609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f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49640" y="5665680"/>
              <a:ext cx="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27440" y="5776920"/>
              <a:ext cx="1058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 k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52920" y="4181400"/>
              <a:ext cx="23097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lanck Radiation Law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not to scale: 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un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~ 20 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Earth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124520" y="5806800"/>
              <a:ext cx="1563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f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= photon energ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17720" y="5583240"/>
              <a:ext cx="528480" cy="156960"/>
            </a:xfrm>
            <a:custGeom>
              <a:avLst/>
              <a:gdLst/>
              <a:ahLst/>
              <a:rect l="l" t="t" r="r" b="b"/>
              <a:pathLst>
                <a:path w="333" h="99">
                  <a:moveTo>
                    <a:pt x="0" y="98"/>
                  </a:moveTo>
                  <a:lnTo>
                    <a:pt x="23" y="64"/>
                  </a:lnTo>
                  <a:lnTo>
                    <a:pt x="49" y="34"/>
                  </a:lnTo>
                  <a:lnTo>
                    <a:pt x="60" y="21"/>
                  </a:lnTo>
                  <a:lnTo>
                    <a:pt x="75" y="10"/>
                  </a:lnTo>
                  <a:lnTo>
                    <a:pt x="86" y="2"/>
                  </a:lnTo>
                  <a:lnTo>
                    <a:pt x="101" y="0"/>
                  </a:lnTo>
                  <a:lnTo>
                    <a:pt x="116" y="0"/>
                  </a:lnTo>
                  <a:lnTo>
                    <a:pt x="134" y="2"/>
                  </a:lnTo>
                  <a:lnTo>
                    <a:pt x="153" y="10"/>
                  </a:lnTo>
                  <a:lnTo>
                    <a:pt x="172" y="21"/>
                  </a:lnTo>
                  <a:lnTo>
                    <a:pt x="209" y="42"/>
                  </a:lnTo>
                  <a:lnTo>
                    <a:pt x="228" y="50"/>
                  </a:lnTo>
                  <a:lnTo>
                    <a:pt x="243" y="58"/>
                  </a:lnTo>
                  <a:lnTo>
                    <a:pt x="269" y="69"/>
                  </a:lnTo>
                  <a:lnTo>
                    <a:pt x="291" y="77"/>
                  </a:lnTo>
                  <a:lnTo>
                    <a:pt x="332" y="87"/>
                  </a:lnTo>
                </a:path>
              </a:pathLst>
            </a:custGeom>
            <a:noFill/>
            <a:ln cap="rnd"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51040" y="5762520"/>
              <a:ext cx="1058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 k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00240" y="5659200"/>
              <a:ext cx="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81240" y="5403600"/>
              <a:ext cx="703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arth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621160" y="4730760"/>
              <a:ext cx="614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u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25800" y="6033960"/>
              <a:ext cx="0" cy="19044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89200" y="6127560"/>
              <a:ext cx="2761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1298160" y="6129000"/>
              <a:ext cx="2876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77960" y="6138720"/>
              <a:ext cx="2394000" cy="518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Greenhouse gas absorption</a:t>
              </a:r>
              <a:br>
                <a:rPr sz="1400"/>
              </a:b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Infrared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7324560" y="2187720"/>
            <a:ext cx="927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  or H</a:t>
            </a:r>
            <a:r>
              <a:rPr b="0" lang="en-US" sz="1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185520" y="4210200"/>
            <a:ext cx="1830240" cy="1745640"/>
            <a:chOff x="6185520" y="4210200"/>
            <a:chExt cx="1830240" cy="1745640"/>
          </a:xfrm>
        </p:grpSpPr>
        <p:sp>
          <p:nvSpPr>
            <p:cNvPr id="187" name=""/>
            <p:cNvSpPr/>
            <p:nvPr/>
          </p:nvSpPr>
          <p:spPr>
            <a:xfrm>
              <a:off x="6939000" y="550872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939000" y="465300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39000" y="4210200"/>
              <a:ext cx="63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39000" y="509580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39000" y="5891040"/>
              <a:ext cx="63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216560" y="5835600"/>
              <a:ext cx="120960" cy="120240"/>
            </a:xfrm>
            <a:prstGeom prst="ellipse">
              <a:avLst/>
            </a:prstGeom>
            <a:solidFill>
              <a:srgbClr val="fafd00"/>
            </a:solidFill>
            <a:ln w="19080">
              <a:solidFill>
                <a:srgbClr val="fafd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284960" y="5443560"/>
              <a:ext cx="120600" cy="120240"/>
            </a:xfrm>
            <a:prstGeom prst="ellipse">
              <a:avLst/>
            </a:prstGeom>
            <a:noFill/>
            <a:ln w="28440">
              <a:solidFill>
                <a:srgbClr val="fafd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18280" y="5627520"/>
              <a:ext cx="85680" cy="204480"/>
            </a:xfrm>
            <a:custGeom>
              <a:avLst/>
              <a:gdLst/>
              <a:ahLst/>
              <a:rect l="l" t="t" r="r" b="b"/>
              <a:pathLst>
                <a:path w="54" h="129">
                  <a:moveTo>
                    <a:pt x="54" y="129"/>
                  </a:moveTo>
                  <a:cubicBezTo>
                    <a:pt x="28" y="98"/>
                    <a:pt x="2" y="67"/>
                    <a:pt x="1" y="46"/>
                  </a:cubicBezTo>
                  <a:cubicBezTo>
                    <a:pt x="0" y="25"/>
                    <a:pt x="23" y="12"/>
                    <a:pt x="46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7216560" y="5533560"/>
              <a:ext cx="60480" cy="47160"/>
            </a:xfrm>
            <a:prstGeom prst="line">
              <a:avLst/>
            </a:prstGeom>
            <a:ln w="19080">
              <a:solidFill>
                <a:srgbClr val="fafd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85520" y="5577480"/>
              <a:ext cx="1238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403760" y="5556240"/>
              <a:ext cx="61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= h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47280" y="58320"/>
            <a:ext cx="786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Absorption Spectra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869760" y="1179360"/>
            <a:ext cx="6210360" cy="5167080"/>
            <a:chOff x="869760" y="1179360"/>
            <a:chExt cx="6210360" cy="5167080"/>
          </a:xfrm>
        </p:grpSpPr>
        <p:pic>
          <p:nvPicPr>
            <p:cNvPr id="200" name="" descr="Infrared absorption spectra for various gases"/>
            <p:cNvPicPr/>
            <p:nvPr/>
          </p:nvPicPr>
          <p:blipFill>
            <a:blip r:embed="rId1"/>
            <a:stretch/>
          </p:blipFill>
          <p:spPr>
            <a:xfrm>
              <a:off x="1179720" y="1179360"/>
              <a:ext cx="5576760" cy="456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2757600" y="1371600"/>
              <a:ext cx="379440" cy="39686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4989600" y="1347840"/>
              <a:ext cx="0" cy="48751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13640" y="5826240"/>
              <a:ext cx="2166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eak wavelength of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arth’s thermal spectru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909880" y="1372680"/>
              <a:ext cx="0" cy="487548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69760" y="5797440"/>
              <a:ext cx="205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eak wavelength of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un’s thermal spectru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6749280" y="455940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ater is the mos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mportant greenhouse ga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88560" y="63360"/>
            <a:ext cx="7162920" cy="67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Greenhouse Effec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6520" y="3772080"/>
            <a:ext cx="798804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radiation from the earth (infrared) is absorbed by certain gases in our atmosphere (such as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d redirected back to earth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se ‘greenhouse gases’ provide additional warming to our planet - essential for life as we know i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adiation from the sun is not affected much by the greenhouse gases because it has a much different frequency spectru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rs has a thin atmosphere with few greenhouse gases:  7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in the day and -130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at night.  Venus has lots of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:  T = 800° 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13240" y="1406520"/>
            <a:ext cx="1612800" cy="1611360"/>
          </a:xfrm>
          <a:prstGeom prst="ellips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05360" y="1995480"/>
            <a:ext cx="80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146400" y="1119240"/>
            <a:ext cx="2330640" cy="2214000"/>
            <a:chOff x="3146400" y="1119240"/>
            <a:chExt cx="2330640" cy="2214000"/>
          </a:xfrm>
        </p:grpSpPr>
        <p:sp>
          <p:nvSpPr>
            <p:cNvPr id="212" name=""/>
            <p:cNvSpPr/>
            <p:nvPr/>
          </p:nvSpPr>
          <p:spPr>
            <a:xfrm>
              <a:off x="3152880" y="19494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579920" y="11268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71960" y="31683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68760" y="30906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98840" y="32446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924440" y="28303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24360" y="3152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221440" y="2550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337000" y="23302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00560" y="20602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078440" y="11192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19680" y="14508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13240" y="28224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516560" y="13032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910040" y="1298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097600" y="16318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73640" y="16999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230720" y="1271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44840" y="14000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32040" y="15397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36800" y="1271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02040" y="1326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67000" y="16081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395520" y="19303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7080" y="21891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46400" y="23540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91120" y="30002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70320" y="24825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88120" y="20700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51120" y="28000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27520" y="29397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65640" y="2766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4603680" y="3058920"/>
              <a:ext cx="90720" cy="8064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5210280" y="2201760"/>
            <a:ext cx="514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373280" y="933120"/>
            <a:ext cx="1116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960800" y="1302840"/>
            <a:ext cx="405000" cy="311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339800" y="3057480"/>
            <a:ext cx="1800" cy="39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062680" y="2679840"/>
            <a:ext cx="393480" cy="358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3532320" y="1165320"/>
            <a:ext cx="312480" cy="38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998800" y="2171880"/>
            <a:ext cx="504720" cy="9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3319200" y="2720880"/>
            <a:ext cx="360360" cy="335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089680" y="1814400"/>
            <a:ext cx="304560" cy="181080"/>
            <a:chOff x="5089680" y="1814400"/>
            <a:chExt cx="304560" cy="181080"/>
          </a:xfrm>
        </p:grpSpPr>
        <p:sp>
          <p:nvSpPr>
            <p:cNvPr id="254" name=""/>
            <p:cNvSpPr/>
            <p:nvPr/>
          </p:nvSpPr>
          <p:spPr>
            <a:xfrm>
              <a:off x="5089680" y="1814400"/>
              <a:ext cx="304560" cy="181080"/>
            </a:xfrm>
            <a:custGeom>
              <a:avLst/>
              <a:gdLst/>
              <a:ahLst/>
              <a:rect l="l" t="t" r="r" b="b"/>
              <a:pathLst>
                <a:path w="192" h="114">
                  <a:moveTo>
                    <a:pt x="0" y="41"/>
                  </a:moveTo>
                  <a:lnTo>
                    <a:pt x="44" y="27"/>
                  </a:lnTo>
                  <a:lnTo>
                    <a:pt x="82" y="13"/>
                  </a:lnTo>
                  <a:lnTo>
                    <a:pt x="120" y="4"/>
                  </a:lnTo>
                  <a:lnTo>
                    <a:pt x="147" y="0"/>
                  </a:lnTo>
                  <a:lnTo>
                    <a:pt x="169" y="2"/>
                  </a:lnTo>
                  <a:lnTo>
                    <a:pt x="180" y="9"/>
                  </a:lnTo>
                  <a:lnTo>
                    <a:pt x="191" y="20"/>
                  </a:lnTo>
                  <a:lnTo>
                    <a:pt x="191" y="31"/>
                  </a:lnTo>
                  <a:lnTo>
                    <a:pt x="191" y="43"/>
                  </a:lnTo>
                  <a:lnTo>
                    <a:pt x="185" y="59"/>
                  </a:lnTo>
                  <a:lnTo>
                    <a:pt x="174" y="72"/>
                  </a:lnTo>
                  <a:lnTo>
                    <a:pt x="163" y="86"/>
                  </a:lnTo>
                  <a:lnTo>
                    <a:pt x="131" y="99"/>
                  </a:lnTo>
                  <a:lnTo>
                    <a:pt x="93" y="113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5245200" y="1957320"/>
              <a:ext cx="7128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875040" y="2997360"/>
            <a:ext cx="217440" cy="266400"/>
            <a:chOff x="3875040" y="2997360"/>
            <a:chExt cx="217440" cy="266400"/>
          </a:xfrm>
        </p:grpSpPr>
        <p:sp>
          <p:nvSpPr>
            <p:cNvPr id="257" name=""/>
            <p:cNvSpPr/>
            <p:nvPr/>
          </p:nvSpPr>
          <p:spPr>
            <a:xfrm>
              <a:off x="3875040" y="2997360"/>
              <a:ext cx="217440" cy="266400"/>
            </a:xfrm>
            <a:custGeom>
              <a:avLst/>
              <a:gdLst/>
              <a:ahLst/>
              <a:rect l="l" t="t" r="r" b="b"/>
              <a:pathLst>
                <a:path w="137" h="168">
                  <a:moveTo>
                    <a:pt x="136" y="0"/>
                  </a:moveTo>
                  <a:lnTo>
                    <a:pt x="120" y="46"/>
                  </a:lnTo>
                  <a:lnTo>
                    <a:pt x="99" y="85"/>
                  </a:lnTo>
                  <a:lnTo>
                    <a:pt x="82" y="121"/>
                  </a:lnTo>
                  <a:lnTo>
                    <a:pt x="66" y="146"/>
                  </a:lnTo>
                  <a:lnTo>
                    <a:pt x="49" y="160"/>
                  </a:lnTo>
                  <a:lnTo>
                    <a:pt x="37" y="167"/>
                  </a:lnTo>
                  <a:lnTo>
                    <a:pt x="25" y="167"/>
                  </a:lnTo>
                  <a:lnTo>
                    <a:pt x="12" y="163"/>
                  </a:lnTo>
                  <a:lnTo>
                    <a:pt x="8" y="153"/>
                  </a:lnTo>
                  <a:lnTo>
                    <a:pt x="4" y="138"/>
                  </a:lnTo>
                  <a:lnTo>
                    <a:pt x="0" y="121"/>
                  </a:lnTo>
                  <a:lnTo>
                    <a:pt x="0" y="103"/>
                  </a:lnTo>
                  <a:lnTo>
                    <a:pt x="12" y="67"/>
                  </a:lnTo>
                  <a:lnTo>
                    <a:pt x="29" y="2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890880" y="3052080"/>
              <a:ext cx="2376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3386160" y="1581120"/>
            <a:ext cx="214200" cy="241200"/>
            <a:chOff x="3386160" y="1581120"/>
            <a:chExt cx="214200" cy="241200"/>
          </a:xfrm>
        </p:grpSpPr>
        <p:sp>
          <p:nvSpPr>
            <p:cNvPr id="260" name=""/>
            <p:cNvSpPr/>
            <p:nvPr/>
          </p:nvSpPr>
          <p:spPr>
            <a:xfrm>
              <a:off x="3386160" y="1581120"/>
              <a:ext cx="214200" cy="241200"/>
            </a:xfrm>
            <a:custGeom>
              <a:avLst/>
              <a:gdLst/>
              <a:ahLst/>
              <a:rect l="l" t="t" r="r" b="b"/>
              <a:pathLst>
                <a:path w="135" h="152">
                  <a:moveTo>
                    <a:pt x="134" y="151"/>
                  </a:moveTo>
                  <a:lnTo>
                    <a:pt x="98" y="130"/>
                  </a:lnTo>
                  <a:lnTo>
                    <a:pt x="61" y="107"/>
                  </a:lnTo>
                  <a:lnTo>
                    <a:pt x="32" y="88"/>
                  </a:lnTo>
                  <a:lnTo>
                    <a:pt x="11" y="69"/>
                  </a:lnTo>
                  <a:lnTo>
                    <a:pt x="0" y="53"/>
                  </a:lnTo>
                  <a:lnTo>
                    <a:pt x="0" y="38"/>
                  </a:lnTo>
                  <a:lnTo>
                    <a:pt x="3" y="26"/>
                  </a:lnTo>
                  <a:lnTo>
                    <a:pt x="7" y="15"/>
                  </a:lnTo>
                  <a:lnTo>
                    <a:pt x="18" y="7"/>
                  </a:lnTo>
                  <a:lnTo>
                    <a:pt x="32" y="3"/>
                  </a:lnTo>
                  <a:lnTo>
                    <a:pt x="51" y="0"/>
                  </a:lnTo>
                  <a:lnTo>
                    <a:pt x="65" y="3"/>
                  </a:lnTo>
                  <a:lnTo>
                    <a:pt x="83" y="7"/>
                  </a:lnTo>
                  <a:lnTo>
                    <a:pt x="98" y="13"/>
                  </a:lnTo>
                  <a:lnTo>
                    <a:pt x="116" y="23"/>
                  </a:lnTo>
                  <a:lnTo>
                    <a:pt x="130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17920" y="1598400"/>
              <a:ext cx="6660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 flipH="1">
            <a:off x="6279840" y="156384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6325920" y="217188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286320" y="184320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6341760" y="250020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6348240" y="3098880"/>
            <a:ext cx="889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6345000" y="279396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20040" y="2055960"/>
            <a:ext cx="733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37680" y="58320"/>
            <a:ext cx="8464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Entropy in Macroscopic System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80600" y="1569600"/>
            <a:ext cx="8202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ditional thermodynamic entrop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 = k ln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k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ant to calculate S from macrostate information (p, V, T, U, N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)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tart with the definition of temperature in terms of 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tropy changes when T chang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(We’re keeping V and N fixe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C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consta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809720" y="4389480"/>
          <a:ext cx="568980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9720" y="4389480"/>
                    <a:ext cx="568980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2513160" y="2779560"/>
          <a:ext cx="349092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2779560"/>
                    <a:ext cx="3490920" cy="749520"/>
                  </a:xfrm>
                  <a:prstGeom prst="rect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8-18T16:34:34Z</dcterms:modified>
  <cp:revision>27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