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35.jpeg" ContentType="image/jpeg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38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16B226-A4D4-4C9F-A8E5-7080E1999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768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15D4-D09F-409F-85DE-DEE46B807FA7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FB88-BE86-4220-A563-BB93CFC3A8AD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60FC467E-08DB-4E43-89C1-1152FD3F0B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6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91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92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5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6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8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09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210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11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12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30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31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6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70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73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74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75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76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77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94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95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16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3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5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31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33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4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35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0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6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8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9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2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3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4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5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7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4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6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6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72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7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87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90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91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92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3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5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6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7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8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9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410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411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21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30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31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41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51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61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70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71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cropped 403-d"/>
          <p:cNvPicPr/>
          <p:nvPr/>
        </p:nvPicPr>
        <p:blipFill>
          <a:blip r:embed="rId1"/>
          <a:stretch/>
        </p:blipFill>
        <p:spPr>
          <a:xfrm>
            <a:off x="457200" y="378000"/>
            <a:ext cx="8199360" cy="52606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304920" y="57913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Paramount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7" name="Line 4"/>
          <p:cNvSpPr/>
          <p:nvPr/>
        </p:nvSpPr>
        <p:spPr>
          <a:xfrm>
            <a:off x="457200" y="64008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8" name="Picture 5" descr="UILogoCL4L C"/>
          <p:cNvPicPr/>
          <p:nvPr/>
        </p:nvPicPr>
        <p:blipFill>
          <a:blip r:embed="rId2"/>
          <a:stretch/>
        </p:blipFill>
        <p:spPr>
          <a:xfrm>
            <a:off x="8381880" y="5867280"/>
            <a:ext cx="454320" cy="7621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6019920" y="64008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Paramount"/>
              </a:rPr>
              <a:t>University of Illinoi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24120" y="58672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ltra High Vacuum:  Ozon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1" name="TextBox 7"/>
          <p:cNvSpPr/>
          <p:nvPr/>
        </p:nvSpPr>
        <p:spPr>
          <a:xfrm>
            <a:off x="2902320" y="5867280"/>
            <a:ext cx="33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rate Heater:  0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00 C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6262920" y="5867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HEED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3" name="TextBox 9"/>
          <p:cNvSpPr/>
          <p:nvPr/>
        </p:nvSpPr>
        <p:spPr>
          <a:xfrm>
            <a:off x="7380360" y="5867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vaporation 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am flux controlled by source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mperature measured by thermocouple and then power supplied to keep temperature cons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uter controlled beam shutter opens and closes to turn beam on and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ble source means composition uniformity – that’s goo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656160" cy="2494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VaporPress2b_large"/>
          <p:cNvPicPr/>
          <p:nvPr/>
        </p:nvPicPr>
        <p:blipFill>
          <a:blip r:embed="rId2"/>
          <a:stretch/>
        </p:blipFill>
        <p:spPr>
          <a:xfrm>
            <a:off x="104760" y="3429000"/>
            <a:ext cx="50180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952200" y="590400"/>
            <a:ext cx="72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any atoms come out of the end of the effusion cell per secon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9" name="Group 4"/>
          <p:cNvGrpSpPr/>
          <p:nvPr/>
        </p:nvGrpSpPr>
        <p:grpSpPr>
          <a:xfrm>
            <a:off x="2766960" y="2348280"/>
            <a:ext cx="1182600" cy="835920"/>
            <a:chOff x="2766960" y="2348280"/>
            <a:chExt cx="1182600" cy="835920"/>
          </a:xfrm>
        </p:grpSpPr>
        <p:sp>
          <p:nvSpPr>
            <p:cNvPr id="490" name="Isosceles Triangle 2"/>
            <p:cNvSpPr/>
            <p:nvPr/>
          </p:nvSpPr>
          <p:spPr>
            <a:xfrm rot="14821800">
              <a:off x="3136680" y="2217600"/>
              <a:ext cx="442800" cy="10969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1" name="Freeform 3"/>
            <p:cNvSpPr/>
            <p:nvPr/>
          </p:nvSpPr>
          <p:spPr>
            <a:xfrm rot="5400000">
              <a:off x="3121920" y="2683800"/>
              <a:ext cx="182880" cy="237240"/>
            </a:xfrm>
            <a:custGeom>
              <a:avLst/>
              <a:gdLst/>
              <a:ahLst/>
              <a:rect l="l" t="t" r="r" b="b"/>
              <a:pathLst>
                <a:path w="284178" h="368709">
                  <a:moveTo>
                    <a:pt x="62952" y="103238"/>
                  </a:moveTo>
                  <a:cubicBezTo>
                    <a:pt x="48204" y="135193"/>
                    <a:pt x="-37062" y="188172"/>
                    <a:pt x="18707" y="235974"/>
                  </a:cubicBezTo>
                  <a:cubicBezTo>
                    <a:pt x="42314" y="256209"/>
                    <a:pt x="107197" y="265471"/>
                    <a:pt x="107197" y="265471"/>
                  </a:cubicBezTo>
                  <a:cubicBezTo>
                    <a:pt x="116913" y="294619"/>
                    <a:pt x="125450" y="333168"/>
                    <a:pt x="151442" y="353961"/>
                  </a:cubicBezTo>
                  <a:cubicBezTo>
                    <a:pt x="163581" y="363672"/>
                    <a:pt x="180939" y="363793"/>
                    <a:pt x="195687" y="368709"/>
                  </a:cubicBezTo>
                  <a:cubicBezTo>
                    <a:pt x="205519" y="353961"/>
                    <a:pt x="217257" y="340318"/>
                    <a:pt x="225184" y="324464"/>
                  </a:cubicBezTo>
                  <a:cubicBezTo>
                    <a:pt x="232137" y="310559"/>
                    <a:pt x="230221" y="292358"/>
                    <a:pt x="239933" y="280219"/>
                  </a:cubicBezTo>
                  <a:cubicBezTo>
                    <a:pt x="251006" y="266378"/>
                    <a:pt x="269430" y="260554"/>
                    <a:pt x="284178" y="250722"/>
                  </a:cubicBezTo>
                  <a:cubicBezTo>
                    <a:pt x="280411" y="209282"/>
                    <a:pt x="283053" y="100989"/>
                    <a:pt x="254681" y="44245"/>
                  </a:cubicBezTo>
                  <a:cubicBezTo>
                    <a:pt x="246754" y="28391"/>
                    <a:pt x="235016" y="14748"/>
                    <a:pt x="225184" y="0"/>
                  </a:cubicBezTo>
                  <a:cubicBezTo>
                    <a:pt x="193079" y="6421"/>
                    <a:pt x="130567" y="9189"/>
                    <a:pt x="107197" y="44245"/>
                  </a:cubicBezTo>
                  <a:cubicBezTo>
                    <a:pt x="46246" y="135672"/>
                    <a:pt x="77700" y="71283"/>
                    <a:pt x="62952" y="103238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492" name="Straight Arrow Connector 6"/>
          <p:cNvCxnSpPr/>
          <p:nvPr/>
        </p:nvCxnSpPr>
        <p:spPr>
          <a:xfrm flipV="1">
            <a:off x="3949560" y="1945800"/>
            <a:ext cx="627840" cy="403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3" name="Straight Arrow Connector 8"/>
          <p:cNvCxnSpPr/>
          <p:nvPr/>
        </p:nvCxnSpPr>
        <p:spPr>
          <a:xfrm flipV="1">
            <a:off x="4100040" y="2505960"/>
            <a:ext cx="693000" cy="205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4" name="Straight Arrow Connector 10"/>
          <p:cNvCxnSpPr/>
          <p:nvPr/>
        </p:nvCxnSpPr>
        <p:spPr>
          <a:xfrm flipV="1">
            <a:off x="4100040" y="2147040"/>
            <a:ext cx="69300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95" name="TextBox 11"/>
          <p:cNvSpPr/>
          <p:nvPr/>
        </p:nvSpPr>
        <p:spPr>
          <a:xfrm>
            <a:off x="4979160" y="19461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lux of atom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3682440" y="3540240"/>
            <a:ext cx="476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hunk of crystals held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0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5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7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93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98" name="Straight Arrow Connector 2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9" name="TextBox 3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105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110" name="Straight Arrow Connector 17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1" name="TextBox 18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1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2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2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2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2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3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3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3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3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4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4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4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64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8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7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7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1-17T14:41:41Z</cp:lastPrinted>
  <dcterms:modified xsi:type="dcterms:W3CDTF">2015-02-19T22:33:18Z</dcterms:modified>
  <cp:revision>5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