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149E8E-B77F-41D8-A684-E1C6BA45F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FB7C54B1-3626-41FD-BD2B-8FD0523891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D15591ED-ED79-4588-8469-33F6DCD104D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75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1" name="Group 67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2" name="Oval 40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3" name="Rectangle 41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4" name="Rectangle 42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5" name="Rectangle 43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6" name="Rectangle 44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7" name="Oval 45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8" name="Oval 46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9" name="Oval 47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0" name="Oval 48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1" name="Oval 49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2" name="Oval 50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3" name="Oval 51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4" name="Oval 52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5" name="Oval 53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Oval 54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7" name="Oval 55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8" name="Oval 56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9" name="Oval 57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0" name="Oval 58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1" name="Oval 59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2" name="Oval 60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3" name="Oval 61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4" name="Oval 62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05" name="Group 66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06" name="Line 63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64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65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74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0" name="Group 70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1" name="Rectangle 68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69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Line 71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4" name="Line 72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5" name="Line 73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6" name="Object 79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83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9" name="Rectangle 86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0" name="Rectangle 89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47" name="Object 6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7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0" name="Object 8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4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7" name="Object 5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Rectangle 6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60" name="Object 8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2" name="Group 43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3" name="Oval 11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66" name="Group 32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67" name="Oval 16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8" name="Oval 17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9" name="Oval 18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0" name="Line 20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1" name="Line 21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aphicFrame>
        <p:nvGraphicFramePr>
          <p:cNvPr id="272" name="Object 25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4" name="Text Box 46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75" name="Object 47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5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6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8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91" name="Object 5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6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7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99" name="Object 5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6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7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1" name="Object 4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314" name="Object 6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7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8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Rectangle 42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Text Box 44"/>
          <p:cNvSpPr/>
          <p:nvPr/>
        </p:nvSpPr>
        <p:spPr>
          <a:xfrm>
            <a:off x="630360" y="5759280"/>
            <a:ext cx="87073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24" name="Group 54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5" name="Rectangle 6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26" name="Group 50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28" name="Rectangle 7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29" name="Rectangle 8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49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1" name="Oval 4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2" name="Oval 9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3" name="Oval 10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4" name="Oval 11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5" name="Oval 12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6" name="Oval 13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7" name="Oval 14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8" name="Oval 15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9" name="Oval 16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0" name="Oval 17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1" name="Oval 18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2" name="Oval 19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3" name="Oval 20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4" name="Oval 21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5" name="Oval 22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6" name="Oval 23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8" name="Oval 25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9" name="Oval 26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48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1" name="Line 29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2" name="Line 30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3" name="Line 31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34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5" name="Line 36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6" name="Line 37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7" name="Line 38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8" name="Text Box 45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9" name="Text Box 52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60" name="Rectangle 53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61" name="Text Box 55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2" name="Line 56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2" name="Line 15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6920" y="1294920"/>
            <a:ext cx="67453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Volum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ress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emperat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hermal Energ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28" name="Oval 7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29" name="Oval 8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31" name="Rectangle 12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2" name="Group 60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3" name="Oval 11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136" name="Group 63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37" name="Rectangle 19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8" name="Rectangle 24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9" name="Line 25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0" name="Line 26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2" name="Line 28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3" name="Line 29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4" name="Line 30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5" name="Line 31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6" name="Line 32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7" name="Line 33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8" name="Line 34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9" name="Line 35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0" name="Rectangle 36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1" name="Rectangle 37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2" name="Rectangle 38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4" name="Rectangle 43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6" name="Line 46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7" name="Line 47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9" name="Line 49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0" name="Line 50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1" name="Line 51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2" name="Line 52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3" name="Line 53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4" name="Line 54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5" name="Line 55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6" name="Rectangle 56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7" name="Rectangle 57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8" name="Text Box 58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69" name="Rectangle 59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0" name="Rectangle 64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ntro.chem.okstate.edu/1314F00/Laboratory/GLP.htm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4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5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76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77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0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1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5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87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8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9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0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1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Text Box 13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194" name="Object 14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15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6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19" name="Object 8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7" name="Line 16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29" name="Oval 17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1" name="Oval 19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Jim Eckstein</cp:lastModifiedBy>
  <cp:lastPrinted>1997-01-30T13:11:51Z</cp:lastPrinted>
  <dcterms:modified xsi:type="dcterms:W3CDTF">2015-01-20T22:24:35Z</dcterms:modified>
  <cp:revision>3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