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C956983-DDF1-4A2B-8496-F76C4B0CB6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– it’s probably okay if this gets shifted into Lect. 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C4FE58E8-FC2B-43BF-B996-00FAADD453B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86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08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7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34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42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46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66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68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75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82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89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398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08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24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34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6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37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7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70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82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84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1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4" name="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519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33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34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5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36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4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6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7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69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71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85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86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7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22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47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52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671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672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695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696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17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22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741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742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63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68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84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799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9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816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819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831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834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2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848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61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96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0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5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910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945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7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9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52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4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011240" y="516996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We’ll see next time that this is NOT the maximum possible efficiency, which is determined solely by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law of thermodynamic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7" name="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88" name="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1" name="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4" name="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7" name="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0" name="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6" name="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09" name="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2" name="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6" name="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7" name="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0" name="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3" name="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6" name="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29" name="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5" name="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38" name="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1" name="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68" name="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7" name="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0" name="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2" name="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4" name="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57" name="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0" name="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8T16:34:34Z</dcterms:modified>
  <cp:revision>2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