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00AF-7A5A-44C6-BEDD-052147A2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9664-5E8D-47AA-AEA9-AFD781CE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5040-A23F-4D14-9E78-AC802BE4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AD43-D3EE-4738-8148-1DF1A022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87082-2FB4-4117-A890-6BD73EB2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416AF-16FA-4285-A3BB-C5582AE8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431D1-39E7-498C-ABCB-D0739724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7A43E-0200-4BF1-BCA1-EC26C905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4EB41-B73F-46CA-BB46-2BBCE624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08873-3CEE-4A87-88E4-6FE1C068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0F284-94D2-492A-8B13-9DBCCA23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074C-A2FE-428F-9712-B38CA32D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0CD5C-B7AD-464B-A522-AF951F28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03FA6-39A6-4A1F-B640-349F668C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753A6-803A-4481-AA2D-8E002A7A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678AF-A8A4-4C13-A123-6D73848E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BADF2-0F46-4353-B5F4-A496E7F6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4EA686-80F9-4B6B-BE66-04711EE9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F2636F-5ECC-4623-8AA4-42921728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1B4EE0-63A4-43CB-85BC-9D8C7214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E51A14-BDE2-404B-B0B8-CD8A405A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F3164F-E757-4457-BABB-647FA718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E169-F245-41AE-82D7-C21139C3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1780C-44A4-4E50-8253-03B7D40E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D7524-92FF-47C3-9A1F-3FEDDE52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0D23D-8824-4D08-97F2-9371CDD0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2B035-E784-4189-A362-6377280D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64E6A-BDF0-4756-B6AE-FC838CC3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A79B5A-0B5B-456B-AA20-FB26EAE0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BEF7A5-18C3-4FC1-846D-551D2B25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D7C999-3B28-4C68-99DE-FCF8C47A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E19778-B905-4B6F-8EAB-41A05259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22C407-7235-498C-81B5-4BAA15E5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5F7E-1615-42AC-A4D6-26D77C60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3E7283-1384-4FA1-83BE-9DAA595E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BDE61A-AF9F-4636-8FF4-578EAAEC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68ED42-4431-47B4-B5A4-CD53D38D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B318BF-F505-4009-8332-AF0A53E0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317418-57F1-45B1-9785-5612AC9C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54E8B4-2747-4384-87EA-5D1620FC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0B874F-46E0-4D22-BA50-F2C28005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83D129-C158-4D53-B273-DEF1BEBA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BC5622-9F87-43D3-B2C8-18F441D5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C4188F-1CE1-4D8C-AC77-C94E9DCD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FEA2-5DF8-44FB-8C49-E207AF31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D822B7-1B45-4777-A0B4-0C73F0A7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DDDDB3-B24D-420F-A744-9EE2AA61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9ECB3B-5A4C-4626-92CB-63225B6D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19E92E-CDD3-450F-BE65-DF7FCCD4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B00E68-2710-4F04-AA27-3B48E576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9E9BA1-8F07-420E-9687-D6E6042B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A198FC-EE03-4085-B3B3-88675D9C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E87A70-962D-4D5E-BCA3-A633F549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87976E-CC43-4CA6-AC92-8080F07E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180A3A-0EA4-46F1-81ED-E78B4990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D3EE-C1D3-474C-B0D0-5746C1AA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16DB0C-8C01-4996-A8C8-4AC71075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DC939D-18B5-4C6C-B85D-2EFFD9B7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8C5D43-F721-4DBB-B7E1-170B9525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EC66D2-6A6A-41F9-951E-A4F4758A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C83A1F-E232-4A9E-A379-8F7F56F2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580FFA-3715-450B-B60D-57FDD85E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558209-3CE0-4F12-B303-A3776B67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4333E6-1C38-4A71-9033-62A10002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8CC710-393D-43AA-908B-01853B38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837C6B-DA2E-410E-8A88-5F55177E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929B-888E-43B9-A8C2-23F353F9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3A0C8C-C273-431C-90D2-F6A27A99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D54FCC-F314-4505-9E5F-8CB5281C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D9280E-010A-46C3-A268-6D334EB1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854F-4311-4279-993C-FCB8AF0B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30FC-0701-4316-A0B5-B8ADA8AF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2B86-2ED4-406F-B1E3-7A1D232A2DA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0D79-A90D-4AF9-9B37-76B6890AED1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3341-B614-4289-A317-5E1A432E9CA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4C72-049B-426A-AE9C-2721B29B836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E4D6-6B40-4A33-AEFB-FFD4BCADCF4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D36C-D965-4606-884A-B104A1C85C2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313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314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16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317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19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320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761760" y="380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88c"/>
                </a:solidFill>
                <a:latin typeface="Garamond"/>
              </a:rPr>
              <a:t>Physics 101 – Lecture 5</a:t>
            </a:r>
            <a:endParaRPr b="0" lang="en-US" sz="4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1" name="Content Placeholder 1"/>
          <p:cNvSpPr/>
          <p:nvPr/>
        </p:nvSpPr>
        <p:spPr>
          <a:xfrm>
            <a:off x="914400" y="2174760"/>
            <a:ext cx="7543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Today’s lecture will cover sections 4.3 through 4.5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685440" y="182880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 rock is tossed at a speed of 20m/s from the top of a 10m high cliff.  The initial velocity is 30° above the horizontal.  How far is it from the cliff when it is 5m above the ground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0" name="Content Placeholder 1"/>
          <p:cNvSpPr/>
          <p:nvPr/>
        </p:nvSpPr>
        <p:spPr>
          <a:xfrm>
            <a:off x="762120" y="533520"/>
            <a:ext cx="7696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Example 2  -  A rock off the cliff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728280" y="49525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Garamond"/>
              </a:rPr>
              <a:t>Take 3 minutes and start the solution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761760" y="368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Did you draw a picture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870160" y="3219120"/>
            <a:ext cx="2816280" cy="318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Now write out the relevant kinematic expressions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380880" y="1371600"/>
            <a:ext cx="4991400" cy="2705040"/>
            <a:chOff x="380880" y="1371600"/>
            <a:chExt cx="4991400" cy="2705040"/>
          </a:xfrm>
        </p:grpSpPr>
        <p:cxnSp>
          <p:nvCxnSpPr>
            <p:cNvPr id="445" name="Straight Arrow Connector 4"/>
            <p:cNvCxnSpPr/>
            <p:nvPr/>
          </p:nvCxnSpPr>
          <p:spPr>
            <a:xfrm flipV="1">
              <a:off x="913680" y="1675800"/>
              <a:ext cx="1080" cy="179784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cxnSp>
          <p:nvCxnSpPr>
            <p:cNvPr id="446" name="Straight Arrow Connector 5"/>
            <p:cNvCxnSpPr/>
            <p:nvPr/>
          </p:nvCxnSpPr>
          <p:spPr>
            <a:xfrm>
              <a:off x="913680" y="3473280"/>
              <a:ext cx="4039560" cy="108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447" name="Content Placeholder 1"/>
            <p:cNvSpPr/>
            <p:nvPr/>
          </p:nvSpPr>
          <p:spPr>
            <a:xfrm>
              <a:off x="4534200" y="3276720"/>
              <a:ext cx="83808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x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48" name="Content Placeholder 1"/>
            <p:cNvSpPr/>
            <p:nvPr/>
          </p:nvSpPr>
          <p:spPr>
            <a:xfrm>
              <a:off x="380880" y="1371600"/>
              <a:ext cx="83808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y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49" name="Freeform 10"/>
          <p:cNvSpPr/>
          <p:nvPr/>
        </p:nvSpPr>
        <p:spPr>
          <a:xfrm>
            <a:off x="905040" y="1547640"/>
            <a:ext cx="3454200" cy="1452600"/>
          </a:xfrm>
          <a:custGeom>
            <a:avLst/>
            <a:gdLst/>
            <a:ahLst/>
            <a:rect l="l" t="t" r="r" b="b"/>
            <a:pathLst>
              <a:path w="3453414" h="1452183">
                <a:moveTo>
                  <a:pt x="0" y="706459"/>
                </a:moveTo>
                <a:cubicBezTo>
                  <a:pt x="564472" y="302525"/>
                  <a:pt x="1128944" y="-101408"/>
                  <a:pt x="1704513" y="22879"/>
                </a:cubicBezTo>
                <a:cubicBezTo>
                  <a:pt x="2280082" y="147166"/>
                  <a:pt x="2866748" y="799674"/>
                  <a:pt x="3453414" y="1452183"/>
                </a:cubicBezTo>
              </a:path>
            </a:pathLst>
          </a:custGeom>
          <a:noFill/>
          <a:ln w="38160">
            <a:solidFill>
              <a:srgbClr val="bc2665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cxnSp>
        <p:nvCxnSpPr>
          <p:cNvPr id="450" name="Straight Arrow Connector 12"/>
          <p:cNvCxnSpPr/>
          <p:nvPr/>
        </p:nvCxnSpPr>
        <p:spPr>
          <a:xfrm flipH="1">
            <a:off x="4190760" y="1980720"/>
            <a:ext cx="762480" cy="76284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51" name="Content Placeholder 2"/>
          <p:cNvSpPr/>
          <p:nvPr/>
        </p:nvSpPr>
        <p:spPr>
          <a:xfrm>
            <a:off x="4599000" y="1084320"/>
            <a:ext cx="1295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 = T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2" name="Straight Connector 15"/>
          <p:cNvSpPr/>
          <p:nvPr/>
        </p:nvSpPr>
        <p:spPr>
          <a:xfrm flipH="1">
            <a:off x="905040" y="2743200"/>
            <a:ext cx="3209760" cy="0"/>
          </a:xfrm>
          <a:prstGeom prst="line">
            <a:avLst/>
          </a:prstGeom>
          <a:ln w="3168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3" name="Straight Connector 17"/>
          <p:cNvSpPr/>
          <p:nvPr/>
        </p:nvSpPr>
        <p:spPr>
          <a:xfrm>
            <a:off x="4114800" y="2743200"/>
            <a:ext cx="0" cy="730080"/>
          </a:xfrm>
          <a:prstGeom prst="line">
            <a:avLst/>
          </a:prstGeom>
          <a:ln w="3168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4" name="Content Placeholder 2"/>
          <p:cNvSpPr/>
          <p:nvPr/>
        </p:nvSpPr>
        <p:spPr>
          <a:xfrm>
            <a:off x="905040" y="1981080"/>
            <a:ext cx="17143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y( T )=5m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5" name="Content Placeholder 2"/>
          <p:cNvSpPr/>
          <p:nvPr/>
        </p:nvSpPr>
        <p:spPr>
          <a:xfrm>
            <a:off x="3274920" y="3473280"/>
            <a:ext cx="1714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x( T )=?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cxnSp>
        <p:nvCxnSpPr>
          <p:cNvPr id="456" name="Straight Arrow Connector 21"/>
          <p:cNvCxnSpPr/>
          <p:nvPr/>
        </p:nvCxnSpPr>
        <p:spPr>
          <a:xfrm flipV="1">
            <a:off x="904680" y="1294560"/>
            <a:ext cx="1076760" cy="980280"/>
          </a:xfrm>
          <a:prstGeom prst="straightConnector1">
            <a:avLst/>
          </a:prstGeom>
          <a:ln w="4428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457" name="Content Placeholder 2"/>
          <p:cNvSpPr/>
          <p:nvPr/>
        </p:nvSpPr>
        <p:spPr>
          <a:xfrm>
            <a:off x="990720" y="1236600"/>
            <a:ext cx="63504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v</a:t>
            </a:r>
            <a:r>
              <a:rPr b="0" lang="en-US" sz="2400" spc="-1" strike="noStrike" baseline="-25000">
                <a:solidFill>
                  <a:srgbClr val="00b050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cxnSp>
        <p:nvCxnSpPr>
          <p:cNvPr id="458" name="Straight Arrow Connector 26"/>
          <p:cNvCxnSpPr/>
          <p:nvPr/>
        </p:nvCxnSpPr>
        <p:spPr>
          <a:xfrm flipV="1">
            <a:off x="3580920" y="4514400"/>
            <a:ext cx="1080" cy="1037520"/>
          </a:xfrm>
          <a:prstGeom prst="straightConnector1">
            <a:avLst/>
          </a:prstGeom>
          <a:ln w="442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459" name="Straight Arrow Connector 28"/>
          <p:cNvCxnSpPr/>
          <p:nvPr/>
        </p:nvCxnSpPr>
        <p:spPr>
          <a:xfrm>
            <a:off x="1088640" y="5551200"/>
            <a:ext cx="2493000" cy="1080"/>
          </a:xfrm>
          <a:prstGeom prst="straightConnector1">
            <a:avLst/>
          </a:prstGeom>
          <a:ln w="44280">
            <a:solidFill>
              <a:srgbClr val="00b050"/>
            </a:solidFill>
            <a:miter/>
            <a:tailEnd len="med" type="triangle" w="med"/>
          </a:ln>
        </p:spPr>
      </p:cxnSp>
      <p:grpSp>
        <p:nvGrpSpPr>
          <p:cNvPr id="460" name="Group 33"/>
          <p:cNvGrpSpPr/>
          <p:nvPr/>
        </p:nvGrpSpPr>
        <p:grpSpPr>
          <a:xfrm>
            <a:off x="1088640" y="4352760"/>
            <a:ext cx="2492640" cy="1198440"/>
            <a:chOff x="1088640" y="4352760"/>
            <a:chExt cx="2492640" cy="1198440"/>
          </a:xfrm>
        </p:grpSpPr>
        <p:cxnSp>
          <p:nvCxnSpPr>
            <p:cNvPr id="461" name="Straight Arrow Connector 23"/>
            <p:cNvCxnSpPr/>
            <p:nvPr/>
          </p:nvCxnSpPr>
          <p:spPr>
            <a:xfrm flipV="1">
              <a:off x="1088640" y="4494960"/>
              <a:ext cx="2493000" cy="1056600"/>
            </a:xfrm>
            <a:prstGeom prst="straightConnector1">
              <a:avLst/>
            </a:prstGeom>
            <a:ln w="4428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462" name="Content Placeholder 2"/>
            <p:cNvSpPr/>
            <p:nvPr/>
          </p:nvSpPr>
          <p:spPr>
            <a:xfrm>
              <a:off x="1969920" y="4352760"/>
              <a:ext cx="635040" cy="8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6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b050"/>
                  </a:solidFill>
                  <a:latin typeface="Garamond"/>
                </a:rPr>
                <a:t>v</a:t>
              </a:r>
              <a:r>
                <a:rPr b="0" lang="en-US" sz="2400" spc="-1" strike="noStrike" baseline="-25000">
                  <a:solidFill>
                    <a:srgbClr val="00b050"/>
                  </a:solidFill>
                  <a:latin typeface="Garamond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63" name="Content Placeholder 2"/>
          <p:cNvSpPr/>
          <p:nvPr/>
        </p:nvSpPr>
        <p:spPr>
          <a:xfrm>
            <a:off x="3581280" y="4668840"/>
            <a:ext cx="190512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v</a:t>
            </a:r>
            <a:r>
              <a:rPr b="0" lang="en-US" sz="2400" spc="-1" strike="noStrike" baseline="-25000">
                <a:solidFill>
                  <a:srgbClr val="00b050"/>
                </a:solidFill>
                <a:latin typeface="Garamond"/>
              </a:rPr>
              <a:t>0</a:t>
            </a: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sin(30°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4" name="Content Placeholder 2"/>
          <p:cNvSpPr/>
          <p:nvPr/>
        </p:nvSpPr>
        <p:spPr>
          <a:xfrm>
            <a:off x="1557360" y="5334120"/>
            <a:ext cx="19051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v</a:t>
            </a:r>
            <a:r>
              <a:rPr b="0" lang="en-US" sz="2400" spc="-1" strike="noStrike" baseline="-25000">
                <a:solidFill>
                  <a:srgbClr val="00b050"/>
                </a:solidFill>
                <a:latin typeface="Garamond"/>
              </a:rPr>
              <a:t>0</a:t>
            </a: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cos(30°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5" name="Content Placeholder 2"/>
          <p:cNvSpPr/>
          <p:nvPr/>
        </p:nvSpPr>
        <p:spPr>
          <a:xfrm>
            <a:off x="6754680" y="446040"/>
            <a:ext cx="223704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y(0)=10m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x(0)=0m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Garamond"/>
              </a:rPr>
              <a:t>v</a:t>
            </a:r>
            <a:r>
              <a:rPr b="0" lang="en-US" sz="3200" spc="-1" strike="noStrike" baseline="-25000">
                <a:solidFill>
                  <a:srgbClr val="00b050"/>
                </a:solidFill>
                <a:latin typeface="Garamond"/>
              </a:rPr>
              <a:t>0</a:t>
            </a:r>
            <a:r>
              <a:rPr b="0" lang="en-US" sz="3200" spc="-1" strike="noStrike">
                <a:solidFill>
                  <a:srgbClr val="00b050"/>
                </a:solidFill>
                <a:latin typeface="Garamond"/>
              </a:rPr>
              <a:t>=20m/s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6" name="Content Placeholder 3"/>
              <p:cNvSpPr txBox="1"/>
              <p:nvPr/>
            </p:nvSpPr>
            <p:spPr>
              <a:xfrm>
                <a:off x="380880" y="380880"/>
                <a:ext cx="2845080" cy="238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4"/>
              <p:cNvSpPr txBox="1"/>
              <p:nvPr/>
            </p:nvSpPr>
            <p:spPr>
              <a:xfrm>
                <a:off x="3860640" y="431640"/>
                <a:ext cx="28958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8" name="Content Placeholder 2"/>
          <p:cNvSpPr/>
          <p:nvPr/>
        </p:nvSpPr>
        <p:spPr>
          <a:xfrm>
            <a:off x="380880" y="28195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You need T to compute x(T).  Use y(T) to find T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6"/>
              <p:cNvSpPr txBox="1"/>
              <p:nvPr/>
            </p:nvSpPr>
            <p:spPr>
              <a:xfrm>
                <a:off x="2438280" y="3492360"/>
                <a:ext cx="55371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7"/>
              <p:cNvSpPr txBox="1"/>
              <p:nvPr/>
            </p:nvSpPr>
            <p:spPr>
              <a:xfrm>
                <a:off x="2514600" y="4267080"/>
                <a:ext cx="4267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10"/>
              <p:cNvSpPr txBox="1"/>
              <p:nvPr/>
            </p:nvSpPr>
            <p:spPr>
              <a:xfrm>
                <a:off x="380880" y="4876920"/>
                <a:ext cx="4445280" cy="18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7</m:t>
                                  </m:r>
                                  <m:r>
                                    <m:t xml:space="preserve">s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  <m:r>
                                    <m:t xml:space="preserve">s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761760" y="380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Projectile motion refers to the motion of an object under the influence of a constant total force.  Far and away the most common situation is a ball that has been thrown near the surface of the Earth.  The only force is the weight of the ball.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ut not all the time!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047680" y="572112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48960" y="4438440"/>
            <a:ext cx="685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y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365" name="Group 18"/>
          <p:cNvGrpSpPr/>
          <p:nvPr/>
        </p:nvGrpSpPr>
        <p:grpSpPr>
          <a:xfrm>
            <a:off x="905040" y="4876560"/>
            <a:ext cx="2855880" cy="1372320"/>
            <a:chOff x="905040" y="4876560"/>
            <a:chExt cx="2855880" cy="1372320"/>
          </a:xfrm>
        </p:grpSpPr>
        <p:cxnSp>
          <p:nvCxnSpPr>
            <p:cNvPr id="366" name="Straight Arrow Connector 3"/>
            <p:cNvCxnSpPr/>
            <p:nvPr/>
          </p:nvCxnSpPr>
          <p:spPr>
            <a:xfrm flipV="1">
              <a:off x="914040" y="4876560"/>
              <a:ext cx="1080" cy="137232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cxnSp>
          <p:nvCxnSpPr>
            <p:cNvPr id="367" name="Straight Arrow Connector 5"/>
            <p:cNvCxnSpPr/>
            <p:nvPr/>
          </p:nvCxnSpPr>
          <p:spPr>
            <a:xfrm>
              <a:off x="914400" y="6248160"/>
              <a:ext cx="1296000" cy="108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68" name="Oval 10"/>
            <p:cNvSpPr/>
            <p:nvPr/>
          </p:nvSpPr>
          <p:spPr>
            <a:xfrm>
              <a:off x="1981440" y="5038560"/>
              <a:ext cx="152280" cy="152280"/>
            </a:xfrm>
            <a:prstGeom prst="ellipse">
              <a:avLst/>
            </a:prstGeom>
            <a:solidFill>
              <a:srgbClr val="ff388c"/>
            </a:solidFill>
            <a:ln w="1908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69" name="Freeform 11"/>
            <p:cNvSpPr/>
            <p:nvPr/>
          </p:nvSpPr>
          <p:spPr>
            <a:xfrm>
              <a:off x="905040" y="4976640"/>
              <a:ext cx="2855880" cy="1254240"/>
            </a:xfrm>
            <a:custGeom>
              <a:avLst/>
              <a:gdLst/>
              <a:ahLst/>
              <a:rect l="l" t="t" r="r" b="b"/>
              <a:pathLst>
                <a:path w="2856322" h="1253712">
                  <a:moveTo>
                    <a:pt x="0" y="1253712"/>
                  </a:moveTo>
                  <a:cubicBezTo>
                    <a:pt x="487837" y="681819"/>
                    <a:pt x="975674" y="109926"/>
                    <a:pt x="1451728" y="9373"/>
                  </a:cubicBezTo>
                  <a:cubicBezTo>
                    <a:pt x="1927782" y="-91180"/>
                    <a:pt x="2856322" y="650396"/>
                    <a:pt x="2856322" y="650396"/>
                  </a:cubicBezTo>
                </a:path>
              </a:pathLst>
            </a:custGeom>
            <a:noFill/>
            <a:ln w="25560">
              <a:solidFill>
                <a:srgbClr val="ff388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cxnSp>
        <p:nvCxnSpPr>
          <p:cNvPr id="370" name="Straight Arrow Connector 13"/>
          <p:cNvCxnSpPr/>
          <p:nvPr/>
        </p:nvCxnSpPr>
        <p:spPr>
          <a:xfrm>
            <a:off x="2057040" y="5190840"/>
            <a:ext cx="1080" cy="524160"/>
          </a:xfrm>
          <a:prstGeom prst="straightConnector1">
            <a:avLst/>
          </a:prstGeom>
          <a:ln w="3816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371" name=""/>
          <p:cNvSpPr txBox="1"/>
          <p:nvPr/>
        </p:nvSpPr>
        <p:spPr>
          <a:xfrm>
            <a:off x="2041560" y="4915080"/>
            <a:ext cx="990720" cy="89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mg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419720" y="4772160"/>
            <a:ext cx="396216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x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0m/s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y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-9.8m/s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761760" y="380520"/>
            <a:ext cx="7543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Example 1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 car has an initial velocity of 30m/s.  It skids uniformly to a stop in a distance of 500m.  What is the coefficient of kinetic friction between tires and road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4" name="Content Placeholder 2"/>
          <p:cNvSpPr/>
          <p:nvPr/>
        </p:nvSpPr>
        <p:spPr>
          <a:xfrm>
            <a:off x="838080" y="3429000"/>
            <a:ext cx="73915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Clicker Question:  Which of these expressions is likely to be easier to use in this problem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A)  2a</a:t>
            </a:r>
            <a:r>
              <a:rPr b="0" lang="el-GR" sz="3600" spc="-1" strike="noStrike">
                <a:solidFill>
                  <a:srgbClr val="ffff00"/>
                </a:solidFill>
                <a:latin typeface="Garamond"/>
              </a:rPr>
              <a:t>Δ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00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00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B)  x(t) = x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0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+ v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0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t + 0.5at</a:t>
            </a:r>
            <a:r>
              <a:rPr b="0" lang="en-US" sz="3600" spc="-1" strike="noStrike" baseline="30000">
                <a:solidFill>
                  <a:srgbClr val="ffff00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5" name="Left Arrow 5"/>
          <p:cNvSpPr/>
          <p:nvPr/>
        </p:nvSpPr>
        <p:spPr>
          <a:xfrm>
            <a:off x="5867280" y="5486400"/>
            <a:ext cx="1295640" cy="30492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0b050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76176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How does </a:t>
            </a:r>
            <a:r>
              <a:rPr b="0" lang="el-GR" sz="3600" spc="-1" strike="noStrike">
                <a:solidFill>
                  <a:srgbClr val="ff388c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get into the solution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7" name="Content Placeholder 1"/>
          <p:cNvSpPr/>
          <p:nvPr/>
        </p:nvSpPr>
        <p:spPr>
          <a:xfrm>
            <a:off x="762120" y="112716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Force Model             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 =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</a:t>
            </a:r>
            <a:r>
              <a:rPr b="0" lang="el-GR" sz="3600" spc="-1" strike="noStrike">
                <a:solidFill>
                  <a:srgbClr val="ff388c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∙N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8" name="Content Placeholder 1"/>
          <p:cNvSpPr/>
          <p:nvPr/>
        </p:nvSpPr>
        <p:spPr>
          <a:xfrm>
            <a:off x="762120" y="202716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How are we going to find 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9" name="Content Placeholder 1"/>
          <p:cNvSpPr/>
          <p:nvPr/>
        </p:nvSpPr>
        <p:spPr>
          <a:xfrm>
            <a:off x="762120" y="2773440"/>
            <a:ext cx="7543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Newton’s 2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nd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law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0" name="Content Placeholder 1"/>
          <p:cNvSpPr/>
          <p:nvPr/>
        </p:nvSpPr>
        <p:spPr>
          <a:xfrm>
            <a:off x="762120" y="352116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So what should we be doing?  CLICKER!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1" name="Content Placeholder 1"/>
          <p:cNvSpPr/>
          <p:nvPr/>
        </p:nvSpPr>
        <p:spPr>
          <a:xfrm>
            <a:off x="762120" y="4495680"/>
            <a:ext cx="75438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A)  Looking up equation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B)  Hunting for a table of </a:t>
            </a:r>
            <a:r>
              <a:rPr b="0" lang="el-GR" sz="3600" spc="-1" strike="noStrike">
                <a:solidFill>
                  <a:srgbClr val="ffff00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value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C)  Drawing a picture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18680" y="380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Draw the free body diagram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2286000" y="2666880"/>
            <a:ext cx="990720" cy="457200"/>
          </a:xfrm>
          <a:prstGeom prst="rect">
            <a:avLst/>
          </a:prstGeom>
          <a:solidFill>
            <a:srgbClr val="ff388c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384" name="Group 10"/>
          <p:cNvGrpSpPr/>
          <p:nvPr/>
        </p:nvGrpSpPr>
        <p:grpSpPr>
          <a:xfrm>
            <a:off x="7086240" y="1784520"/>
            <a:ext cx="1535400" cy="1511280"/>
            <a:chOff x="7086240" y="1784520"/>
            <a:chExt cx="1535400" cy="1511280"/>
          </a:xfrm>
        </p:grpSpPr>
        <p:cxnSp>
          <p:nvCxnSpPr>
            <p:cNvPr id="385" name="Straight Arrow Connector 5"/>
            <p:cNvCxnSpPr/>
            <p:nvPr/>
          </p:nvCxnSpPr>
          <p:spPr>
            <a:xfrm flipV="1">
              <a:off x="7086240" y="2209320"/>
              <a:ext cx="1080" cy="76284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cxnSp>
          <p:nvCxnSpPr>
            <p:cNvPr id="386" name="Straight Arrow Connector 7"/>
            <p:cNvCxnSpPr/>
            <p:nvPr/>
          </p:nvCxnSpPr>
          <p:spPr>
            <a:xfrm>
              <a:off x="7086240" y="2971800"/>
              <a:ext cx="762840" cy="108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87" name="Content Placeholder 1"/>
            <p:cNvSpPr/>
            <p:nvPr/>
          </p:nvSpPr>
          <p:spPr>
            <a:xfrm>
              <a:off x="7783560" y="2495520"/>
              <a:ext cx="8380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x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88" name="Content Placeholder 1"/>
            <p:cNvSpPr/>
            <p:nvPr/>
          </p:nvSpPr>
          <p:spPr>
            <a:xfrm>
              <a:off x="7086600" y="1784520"/>
              <a:ext cx="8380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y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89" name="Group 26"/>
          <p:cNvGrpSpPr/>
          <p:nvPr/>
        </p:nvGrpSpPr>
        <p:grpSpPr>
          <a:xfrm>
            <a:off x="2781000" y="1599480"/>
            <a:ext cx="868680" cy="1067040"/>
            <a:chOff x="2781000" y="1599480"/>
            <a:chExt cx="868680" cy="1067040"/>
          </a:xfrm>
        </p:grpSpPr>
        <p:cxnSp>
          <p:nvCxnSpPr>
            <p:cNvPr id="390" name="Straight Arrow Connector 16"/>
            <p:cNvCxnSpPr>
              <a:stCxn id="383" idx="0"/>
            </p:cNvCxnSpPr>
            <p:nvPr/>
          </p:nvCxnSpPr>
          <p:spPr>
            <a:xfrm flipV="1">
              <a:off x="2781000" y="1599480"/>
              <a:ext cx="1080" cy="106740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91" name="Content Placeholder 1"/>
            <p:cNvSpPr/>
            <p:nvPr/>
          </p:nvSpPr>
          <p:spPr>
            <a:xfrm>
              <a:off x="2811240" y="1733400"/>
              <a:ext cx="8384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N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92" name="Group 27"/>
          <p:cNvGrpSpPr/>
          <p:nvPr/>
        </p:nvGrpSpPr>
        <p:grpSpPr>
          <a:xfrm>
            <a:off x="2781000" y="3124080"/>
            <a:ext cx="838440" cy="1067400"/>
            <a:chOff x="2781000" y="3124080"/>
            <a:chExt cx="838440" cy="1067400"/>
          </a:xfrm>
        </p:grpSpPr>
        <p:cxnSp>
          <p:nvCxnSpPr>
            <p:cNvPr id="393" name="Straight Arrow Connector 14"/>
            <p:cNvCxnSpPr>
              <a:stCxn id="383" idx="2"/>
            </p:cNvCxnSpPr>
            <p:nvPr/>
          </p:nvCxnSpPr>
          <p:spPr>
            <a:xfrm>
              <a:off x="2781000" y="3124080"/>
              <a:ext cx="1080" cy="106776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94" name="Content Placeholder 1"/>
            <p:cNvSpPr/>
            <p:nvPr/>
          </p:nvSpPr>
          <p:spPr>
            <a:xfrm>
              <a:off x="2781360" y="3257280"/>
              <a:ext cx="8380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mg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95" name="Group 25"/>
          <p:cNvGrpSpPr/>
          <p:nvPr/>
        </p:nvGrpSpPr>
        <p:grpSpPr>
          <a:xfrm>
            <a:off x="1294920" y="2324160"/>
            <a:ext cx="914760" cy="800280"/>
            <a:chOff x="1294920" y="2324160"/>
            <a:chExt cx="914760" cy="800280"/>
          </a:xfrm>
        </p:grpSpPr>
        <p:cxnSp>
          <p:nvCxnSpPr>
            <p:cNvPr id="396" name="Straight Arrow Connector 12"/>
            <p:cNvCxnSpPr/>
            <p:nvPr/>
          </p:nvCxnSpPr>
          <p:spPr>
            <a:xfrm flipH="1">
              <a:off x="1294920" y="3123720"/>
              <a:ext cx="915120" cy="108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97" name="Content Placeholder 1"/>
            <p:cNvSpPr/>
            <p:nvPr/>
          </p:nvSpPr>
          <p:spPr>
            <a:xfrm>
              <a:off x="1371240" y="2324160"/>
              <a:ext cx="83844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F</a:t>
              </a:r>
              <a:r>
                <a:rPr b="0" lang="en-US" sz="3600" spc="-1" strike="noStrike" baseline="-25000">
                  <a:solidFill>
                    <a:srgbClr val="ff388c"/>
                  </a:solidFill>
                  <a:latin typeface="Garamond"/>
                </a:rPr>
                <a:t>f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98" name="Group 28"/>
          <p:cNvGrpSpPr/>
          <p:nvPr/>
        </p:nvGrpSpPr>
        <p:grpSpPr>
          <a:xfrm>
            <a:off x="3733200" y="2133720"/>
            <a:ext cx="1143720" cy="799920"/>
            <a:chOff x="3733200" y="2133720"/>
            <a:chExt cx="1143720" cy="799920"/>
          </a:xfrm>
        </p:grpSpPr>
        <p:cxnSp>
          <p:nvCxnSpPr>
            <p:cNvPr id="399" name="Straight Arrow Connector 21"/>
            <p:cNvCxnSpPr/>
            <p:nvPr/>
          </p:nvCxnSpPr>
          <p:spPr>
            <a:xfrm flipH="1">
              <a:off x="3733200" y="2895480"/>
              <a:ext cx="839160" cy="1080"/>
            </a:xfrm>
            <a:prstGeom prst="straightConnector1">
              <a:avLst/>
            </a:prstGeom>
            <a:ln w="5076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400" name="Content Placeholder 1"/>
            <p:cNvSpPr/>
            <p:nvPr/>
          </p:nvSpPr>
          <p:spPr>
            <a:xfrm>
              <a:off x="4038480" y="2133720"/>
              <a:ext cx="83844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b050"/>
                  </a:solidFill>
                  <a:latin typeface="Garamond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01" name="Content Placeholder 1"/>
          <p:cNvSpPr/>
          <p:nvPr/>
        </p:nvSpPr>
        <p:spPr>
          <a:xfrm>
            <a:off x="4229280" y="3009960"/>
            <a:ext cx="3619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Trot out Newton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18680" y="4343400"/>
            <a:ext cx="80773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∑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y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→ N - mg = 0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∑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x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→ -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m(-a)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761760" y="380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Write down our model for 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and gather our equations together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4" name="Content Placeholder 1"/>
          <p:cNvSpPr/>
          <p:nvPr/>
        </p:nvSpPr>
        <p:spPr>
          <a:xfrm>
            <a:off x="914400" y="2057400"/>
            <a:ext cx="7543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F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</a:t>
            </a:r>
            <a:r>
              <a:rPr b="0" lang="el-GR" sz="3600" spc="-1" strike="noStrike">
                <a:solidFill>
                  <a:srgbClr val="ffff00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∙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ma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N - mg = 0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2a</a:t>
            </a:r>
            <a:r>
              <a:rPr b="0" lang="el-GR" sz="3600" spc="-1" strike="noStrike">
                <a:solidFill>
                  <a:srgbClr val="ff388c"/>
                </a:solidFill>
                <a:latin typeface="Garamond"/>
              </a:rPr>
              <a:t>Δ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We have 5 unknowns: 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, N, </a:t>
            </a:r>
            <a:r>
              <a:rPr b="0" lang="el-GR" sz="3600" spc="-1" strike="noStrike">
                <a:solidFill>
                  <a:srgbClr val="ff388c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, a, and m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re we stuck?  Maybe.  Let’s find out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5" name="Content Placeholder 3"/>
              <p:cNvSpPr txBox="1"/>
              <p:nvPr/>
            </p:nvSpPr>
            <p:spPr>
              <a:xfrm>
                <a:off x="457200" y="304920"/>
                <a:ext cx="149868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4"/>
              <p:cNvSpPr txBox="1"/>
              <p:nvPr/>
            </p:nvSpPr>
            <p:spPr>
              <a:xfrm>
                <a:off x="2590920" y="380880"/>
                <a:ext cx="165096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 txBox="1"/>
          <p:nvPr/>
        </p:nvSpPr>
        <p:spPr>
          <a:xfrm>
            <a:off x="4571640" y="30456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How NICE!  One additional equation eliminated N and m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6"/>
              <p:cNvSpPr txBox="1"/>
              <p:nvPr/>
            </p:nvSpPr>
            <p:spPr>
              <a:xfrm>
                <a:off x="457200" y="2019240"/>
                <a:ext cx="256536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aΔx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e>
                        </m:d>
                        <m:r>
                          <m:t xml:space="preserve">Δx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Δx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7"/>
              <p:cNvSpPr txBox="1"/>
              <p:nvPr/>
            </p:nvSpPr>
            <p:spPr>
              <a:xfrm>
                <a:off x="3581280" y="2286000"/>
                <a:ext cx="32004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m</m:t>
                                        </m:r>
                                      </m:num>
                                      <m:den>
                                        <m:r>
                                          <m:t xml:space="preserve">s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0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m</m:t>
                                        </m:r>
                                      </m:num>
                                      <m:den>
                                        <m:r>
                                          <m:t xml:space="preserve">s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m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00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 txBox="1"/>
          <p:nvPr/>
        </p:nvSpPr>
        <p:spPr>
          <a:xfrm>
            <a:off x="456840" y="380988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What’s going on?  Must be time for 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Clickers!  What should we do now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A)  What are erasers for?  Rub out the -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B)  Look at our picture and THINK!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761760" y="380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ere is a hint; look at the velocity and </a:t>
            </a:r>
            <a:r>
              <a:rPr b="0" lang="el-GR" sz="36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412" name="Group 28"/>
          <p:cNvGrpSpPr/>
          <p:nvPr/>
        </p:nvGrpSpPr>
        <p:grpSpPr>
          <a:xfrm>
            <a:off x="528120" y="1599480"/>
            <a:ext cx="4348800" cy="2651760"/>
            <a:chOff x="528120" y="1599480"/>
            <a:chExt cx="4348800" cy="2651760"/>
          </a:xfrm>
        </p:grpSpPr>
        <p:sp>
          <p:nvSpPr>
            <p:cNvPr id="413" name="Rectangle 3"/>
            <p:cNvSpPr/>
            <p:nvPr/>
          </p:nvSpPr>
          <p:spPr>
            <a:xfrm>
              <a:off x="2286000" y="2666880"/>
              <a:ext cx="990720" cy="457200"/>
            </a:xfrm>
            <a:prstGeom prst="rect">
              <a:avLst/>
            </a:prstGeom>
            <a:solidFill>
              <a:srgbClr val="ff388c"/>
            </a:solidFill>
            <a:ln w="1908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grpSp>
          <p:nvGrpSpPr>
            <p:cNvPr id="414" name="Group 4"/>
            <p:cNvGrpSpPr/>
            <p:nvPr/>
          </p:nvGrpSpPr>
          <p:grpSpPr>
            <a:xfrm>
              <a:off x="528120" y="2739600"/>
              <a:ext cx="1534680" cy="1511640"/>
              <a:chOff x="528120" y="2739600"/>
              <a:chExt cx="1534680" cy="1511640"/>
            </a:xfrm>
          </p:grpSpPr>
          <p:cxnSp>
            <p:nvCxnSpPr>
              <p:cNvPr id="415" name="Straight Arrow Connector 5"/>
              <p:cNvCxnSpPr/>
              <p:nvPr/>
            </p:nvCxnSpPr>
            <p:spPr>
              <a:xfrm flipV="1">
                <a:off x="528120" y="3164400"/>
                <a:ext cx="1080" cy="76284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cxnSp>
            <p:nvCxnSpPr>
              <p:cNvPr id="416" name="Straight Arrow Connector 6"/>
              <p:cNvCxnSpPr/>
              <p:nvPr/>
            </p:nvCxnSpPr>
            <p:spPr>
              <a:xfrm>
                <a:off x="528480" y="3926880"/>
                <a:ext cx="763200" cy="108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sp>
            <p:nvSpPr>
              <p:cNvPr id="417" name="Content Placeholder 1"/>
              <p:cNvSpPr/>
              <p:nvPr/>
            </p:nvSpPr>
            <p:spPr>
              <a:xfrm>
                <a:off x="1224000" y="3450960"/>
                <a:ext cx="838800" cy="8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x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418" name="Content Placeholder 1"/>
              <p:cNvSpPr/>
              <p:nvPr/>
            </p:nvSpPr>
            <p:spPr>
              <a:xfrm>
                <a:off x="528480" y="2739600"/>
                <a:ext cx="838800" cy="8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y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grpSp>
          <p:nvGrpSpPr>
            <p:cNvPr id="419" name="Group 9"/>
            <p:cNvGrpSpPr/>
            <p:nvPr/>
          </p:nvGrpSpPr>
          <p:grpSpPr>
            <a:xfrm>
              <a:off x="2781000" y="1599480"/>
              <a:ext cx="868680" cy="1067040"/>
              <a:chOff x="2781000" y="1599480"/>
              <a:chExt cx="868680" cy="1067040"/>
            </a:xfrm>
          </p:grpSpPr>
          <p:cxnSp>
            <p:nvCxnSpPr>
              <p:cNvPr id="420" name="Straight Arrow Connector 10"/>
              <p:cNvCxnSpPr>
                <a:stCxn id="413" idx="0"/>
              </p:cNvCxnSpPr>
              <p:nvPr/>
            </p:nvCxnSpPr>
            <p:spPr>
              <a:xfrm flipV="1">
                <a:off x="2781000" y="1599480"/>
                <a:ext cx="1080" cy="106740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sp>
            <p:nvSpPr>
              <p:cNvPr id="421" name="Content Placeholder 1"/>
              <p:cNvSpPr/>
              <p:nvPr/>
            </p:nvSpPr>
            <p:spPr>
              <a:xfrm>
                <a:off x="2811240" y="1733400"/>
                <a:ext cx="838440" cy="8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N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grpSp>
          <p:nvGrpSpPr>
            <p:cNvPr id="422" name="Group 12"/>
            <p:cNvGrpSpPr/>
            <p:nvPr/>
          </p:nvGrpSpPr>
          <p:grpSpPr>
            <a:xfrm>
              <a:off x="2781000" y="3123720"/>
              <a:ext cx="838440" cy="1067040"/>
              <a:chOff x="2781000" y="3123720"/>
              <a:chExt cx="838440" cy="1067040"/>
            </a:xfrm>
          </p:grpSpPr>
          <p:cxnSp>
            <p:nvCxnSpPr>
              <p:cNvPr id="423" name="Straight Arrow Connector 13"/>
              <p:cNvCxnSpPr>
                <a:stCxn id="413" idx="2"/>
              </p:cNvCxnSpPr>
              <p:nvPr/>
            </p:nvCxnSpPr>
            <p:spPr>
              <a:xfrm>
                <a:off x="2781000" y="3123720"/>
                <a:ext cx="1080" cy="106740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sp>
            <p:nvSpPr>
              <p:cNvPr id="424" name="Content Placeholder 1"/>
              <p:cNvSpPr/>
              <p:nvPr/>
            </p:nvSpPr>
            <p:spPr>
              <a:xfrm>
                <a:off x="2781360" y="3257280"/>
                <a:ext cx="838080" cy="8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mg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grpSp>
          <p:nvGrpSpPr>
            <p:cNvPr id="425" name="Group 15"/>
            <p:cNvGrpSpPr/>
            <p:nvPr/>
          </p:nvGrpSpPr>
          <p:grpSpPr>
            <a:xfrm>
              <a:off x="1295280" y="2323800"/>
              <a:ext cx="914760" cy="800280"/>
              <a:chOff x="1295280" y="2323800"/>
              <a:chExt cx="914760" cy="800280"/>
            </a:xfrm>
          </p:grpSpPr>
          <p:cxnSp>
            <p:nvCxnSpPr>
              <p:cNvPr id="426" name="Straight Arrow Connector 16"/>
              <p:cNvCxnSpPr/>
              <p:nvPr/>
            </p:nvCxnSpPr>
            <p:spPr>
              <a:xfrm flipH="1">
                <a:off x="1295280" y="3123360"/>
                <a:ext cx="915120" cy="108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sp>
            <p:nvSpPr>
              <p:cNvPr id="427" name="Content Placeholder 1"/>
              <p:cNvSpPr/>
              <p:nvPr/>
            </p:nvSpPr>
            <p:spPr>
              <a:xfrm>
                <a:off x="1371600" y="2323800"/>
                <a:ext cx="838440" cy="79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F</a:t>
                </a:r>
                <a:r>
                  <a:rPr b="0" lang="en-US" sz="3600" spc="-1" strike="noStrike" baseline="-25000">
                    <a:solidFill>
                      <a:srgbClr val="ff388c"/>
                    </a:solidFill>
                    <a:latin typeface="Garamond"/>
                  </a:rPr>
                  <a:t>f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grpSp>
          <p:nvGrpSpPr>
            <p:cNvPr id="428" name="Group 18"/>
            <p:cNvGrpSpPr/>
            <p:nvPr/>
          </p:nvGrpSpPr>
          <p:grpSpPr>
            <a:xfrm>
              <a:off x="3733200" y="2133360"/>
              <a:ext cx="1143720" cy="799920"/>
              <a:chOff x="3733200" y="2133360"/>
              <a:chExt cx="1143720" cy="799920"/>
            </a:xfrm>
          </p:grpSpPr>
          <p:cxnSp>
            <p:nvCxnSpPr>
              <p:cNvPr id="429" name="Straight Arrow Connector 19"/>
              <p:cNvCxnSpPr/>
              <p:nvPr/>
            </p:nvCxnSpPr>
            <p:spPr>
              <a:xfrm flipH="1">
                <a:off x="3733200" y="2895120"/>
                <a:ext cx="839160" cy="1080"/>
              </a:xfrm>
              <a:prstGeom prst="straightConnector1">
                <a:avLst/>
              </a:prstGeom>
              <a:ln w="50760">
                <a:solidFill>
                  <a:srgbClr val="00b050"/>
                </a:solidFill>
                <a:miter/>
                <a:tailEnd len="med" type="triangle" w="med"/>
              </a:ln>
            </p:spPr>
          </p:cxnSp>
          <p:sp>
            <p:nvSpPr>
              <p:cNvPr id="430" name="Content Placeholder 1"/>
              <p:cNvSpPr/>
              <p:nvPr/>
            </p:nvSpPr>
            <p:spPr>
              <a:xfrm>
                <a:off x="4038480" y="2133360"/>
                <a:ext cx="838440" cy="79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b050"/>
                    </a:solidFill>
                    <a:latin typeface="Garamond"/>
                  </a:rPr>
                  <a:t>a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</p:grpSp>
      <p:grpSp>
        <p:nvGrpSpPr>
          <p:cNvPr id="431" name="Group 21"/>
          <p:cNvGrpSpPr/>
          <p:nvPr/>
        </p:nvGrpSpPr>
        <p:grpSpPr>
          <a:xfrm>
            <a:off x="5904720" y="1682640"/>
            <a:ext cx="1143720" cy="800280"/>
            <a:chOff x="5904720" y="1682640"/>
            <a:chExt cx="1143720" cy="800280"/>
          </a:xfrm>
        </p:grpSpPr>
        <p:cxnSp>
          <p:nvCxnSpPr>
            <p:cNvPr id="432" name="Straight Arrow Connector 22"/>
            <p:cNvCxnSpPr/>
            <p:nvPr/>
          </p:nvCxnSpPr>
          <p:spPr>
            <a:xfrm flipH="1">
              <a:off x="5904720" y="2444760"/>
              <a:ext cx="839160" cy="108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</p:cxnSp>
        <p:sp>
          <p:nvSpPr>
            <p:cNvPr id="433" name="Content Placeholder 1"/>
            <p:cNvSpPr/>
            <p:nvPr/>
          </p:nvSpPr>
          <p:spPr>
            <a:xfrm>
              <a:off x="6210000" y="1682640"/>
              <a:ext cx="8384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Garamond"/>
                </a:rPr>
                <a:t>v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34" name="Group 24"/>
          <p:cNvGrpSpPr/>
          <p:nvPr/>
        </p:nvGrpSpPr>
        <p:grpSpPr>
          <a:xfrm>
            <a:off x="5905080" y="2666880"/>
            <a:ext cx="1791000" cy="800280"/>
            <a:chOff x="5905080" y="2666880"/>
            <a:chExt cx="1791000" cy="800280"/>
          </a:xfrm>
        </p:grpSpPr>
        <p:cxnSp>
          <p:nvCxnSpPr>
            <p:cNvPr id="435" name="Straight Arrow Connector 25"/>
            <p:cNvCxnSpPr/>
            <p:nvPr/>
          </p:nvCxnSpPr>
          <p:spPr>
            <a:xfrm flipH="1">
              <a:off x="5905080" y="3429000"/>
              <a:ext cx="1791360" cy="108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</p:cxnSp>
        <p:sp>
          <p:nvSpPr>
            <p:cNvPr id="436" name="Content Placeholder 1"/>
            <p:cNvSpPr/>
            <p:nvPr/>
          </p:nvSpPr>
          <p:spPr>
            <a:xfrm>
              <a:off x="6383160" y="2666880"/>
              <a:ext cx="13129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Garamond"/>
                </a:rPr>
                <a:t>Δx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37" name="Content Placeholder 1"/>
          <p:cNvSpPr/>
          <p:nvPr/>
        </p:nvSpPr>
        <p:spPr>
          <a:xfrm>
            <a:off x="380880" y="4191120"/>
            <a:ext cx="75438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is equation is subtle. 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2a</a:t>
            </a:r>
            <a:r>
              <a:rPr b="0" lang="el-GR" sz="3600" spc="-1" strike="noStrike">
                <a:solidFill>
                  <a:srgbClr val="ffffff"/>
                </a:solidFill>
                <a:latin typeface="Garamond"/>
              </a:rPr>
              <a:t> Δ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re is an algebraic sign that you must supply on the left hand side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761760" y="14479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+2a</a:t>
            </a:r>
            <a:r>
              <a:rPr b="0" lang="el-GR" sz="3600" spc="-1" strike="noStrike">
                <a:solidFill>
                  <a:srgbClr val="ffffff"/>
                </a:solidFill>
                <a:latin typeface="Garamond"/>
              </a:rPr>
              <a:t> Δ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rite this if acceleration and displacement are in the SAME direction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-2a</a:t>
            </a:r>
            <a:r>
              <a:rPr b="0" lang="el-GR" sz="3600" spc="-1" strike="noStrike">
                <a:solidFill>
                  <a:srgbClr val="87bbff"/>
                </a:solidFill>
                <a:latin typeface="Garamond"/>
              </a:rPr>
              <a:t> Δ</a:t>
            </a: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87bbff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87bbff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87bbff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87bbff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Write this if acceleration and displacement are in OPPOSITE directions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2:58:58Z</dcterms:created>
  <dc:creator>Brad</dc:creator>
  <dc:description/>
  <dc:language>en-US</dc:language>
  <cp:lastModifiedBy>Halfpap, Bradford Lee</cp:lastModifiedBy>
  <dcterms:modified xsi:type="dcterms:W3CDTF">2012-09-13T15:16:54Z</dcterms:modified>
  <cp:revision>25</cp:revision>
  <dc:subject/>
  <dc:title>PowerPoint Presentation</dc:title>
</cp:coreProperties>
</file>