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A5AC5-8124-4BEA-85A5-7C666B0006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E0593-00FE-4EEC-89DA-FC9E608D793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ld add the truck example/demo, or the dog on leash examp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86482-A97C-4B5A-8A38-C06BCCDEBAF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DADCB-4942-477E-B14D-8937C6C7462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9A4DC-05E2-4E62-AFD4-95B84EC47D4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AEC9F-4514-4628-B062-8257DE8C75B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E5117-E41F-4CFA-BFE5-018FAF4EB4D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ld do this on over head to help people work through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659E0-38A3-43FD-81C9-BBBBAF20E77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h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EC5AF-C9BB-4348-B78B-7AEF3CE352C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2C103-BD96-48B8-98DE-65C1C29FA28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6A209-12BD-4CC4-AA1D-7579210876F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64727-C25B-4108-864F-8B7B6D1CA2E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E16DA-CE39-4BEA-8C14-31D639348AB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DCF2B-2DD3-4292-AEC6-E094C059CCB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y idea here is we can do each direction independently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F3C0A-73D6-4C2B-A3DF-611E178146A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be simple demo, add twice as much mass, get twice the stretching before showing the slide. Also make note that this is NOT as big a deal as Newton’s laws. Just an example of a contact for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ED025-9B6E-4086-9B6F-F74807CE4A7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1244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8345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9907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1244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8345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990720" y="6091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41244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8345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9907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41244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8345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990720" y="6091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41244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8345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9907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41244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8345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990720" y="6091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41244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8345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9907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41244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58345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990720" y="6091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90720" y="6091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41244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8345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9907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41244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58345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990720" y="6091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41244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58345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9907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41244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58345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990720" y="6091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41244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58345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9907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41244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58345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990720" y="6091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41244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58345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9907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341244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58345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68d"/>
            </a:gs>
            <a:gs pos="100000">
              <a:srgbClr val="1626f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640" indent="-2286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257480" indent="-17172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565960" y="6573960"/>
            <a:ext cx="37432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Physics 101: Lecture 2, Pg </a:t>
            </a:r>
            <a:fld id="{944961BA-C952-4D7F-9BBD-D1AD48FAC2D6}" type="slidenum">
              <a:rPr b="0" lang="en-US" sz="1400" spc="-1" strike="noStrike">
                <a:solidFill>
                  <a:srgbClr val="fafd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68d"/>
            </a:gs>
            <a:gs pos="100000">
              <a:srgbClr val="1626f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640" indent="-2286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257480" indent="-17172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5565960" y="6573960"/>
            <a:ext cx="37432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Physics 101: Lecture 2, Pg </a:t>
            </a:r>
            <a:fld id="{8B32FED9-7B3B-4B00-9453-DDBBA0336946}" type="slidenum">
              <a:rPr b="0" lang="en-US" sz="1400" spc="-1" strike="noStrike">
                <a:solidFill>
                  <a:srgbClr val="fafd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68d"/>
            </a:gs>
            <a:gs pos="100000">
              <a:srgbClr val="1626f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640" indent="-2286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257480" indent="-17172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5565960" y="6573960"/>
            <a:ext cx="37432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Physics 101: Lecture 2, Pg </a:t>
            </a:r>
            <a:fld id="{49F40D1D-936C-43D7-961F-0AE78908BD2F}" type="slidenum">
              <a:rPr b="0" lang="en-US" sz="1400" spc="-1" strike="noStrike">
                <a:solidFill>
                  <a:srgbClr val="fafd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68d"/>
            </a:gs>
            <a:gs pos="100000">
              <a:srgbClr val="1626f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640" indent="-2286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257480" indent="-17172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5565960" y="6573960"/>
            <a:ext cx="37432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Physics 101: Lecture 2, Pg </a:t>
            </a:r>
            <a:fld id="{EF33427E-C3BC-4364-A488-F8920237B233}" type="slidenum">
              <a:rPr b="0" lang="en-US" sz="1400" spc="-1" strike="noStrike">
                <a:solidFill>
                  <a:srgbClr val="fafd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68d"/>
            </a:gs>
            <a:gs pos="100000">
              <a:srgbClr val="1626f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640" indent="-2286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257480" indent="-17172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5565960" y="6573960"/>
            <a:ext cx="37432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Physics 101: Lecture 2, Pg </a:t>
            </a:r>
            <a:fld id="{CD6A10FB-76FD-4516-B7A6-48032E8DA8E0}" type="slidenum">
              <a:rPr b="0" lang="en-US" sz="1400" spc="-1" strike="noStrike">
                <a:solidFill>
                  <a:srgbClr val="fafd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68d"/>
            </a:gs>
            <a:gs pos="100000">
              <a:srgbClr val="1626f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640" indent="-2286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257480" indent="-17172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Rectangle 4"/>
          <p:cNvSpPr/>
          <p:nvPr/>
        </p:nvSpPr>
        <p:spPr>
          <a:xfrm>
            <a:off x="5565960" y="6573960"/>
            <a:ext cx="37432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Physics 101: Lecture 2, Pg </a:t>
            </a:r>
            <a:fld id="{058DC01A-47E7-42E5-84DD-E6A4D3B1BCD4}" type="slidenum">
              <a:rPr b="0" lang="en-US" sz="1400" spc="-1" strike="noStrike">
                <a:solidFill>
                  <a:srgbClr val="fafd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Rectangle 5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68d"/>
            </a:gs>
            <a:gs pos="100000">
              <a:srgbClr val="1626f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640" indent="-2286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257480" indent="-17172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Rectangle 4"/>
          <p:cNvSpPr/>
          <p:nvPr/>
        </p:nvSpPr>
        <p:spPr>
          <a:xfrm>
            <a:off x="5565960" y="6573960"/>
            <a:ext cx="37432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Physics 101: Lecture 2, Pg </a:t>
            </a:r>
            <a:fld id="{6AA603D1-A77B-4DA6-B5C8-7F81E0F550AF}" type="slidenum">
              <a:rPr b="0" lang="en-US" sz="1400" spc="-1" strike="noStrike">
                <a:solidFill>
                  <a:srgbClr val="fafd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Rectangle 5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68d"/>
            </a:gs>
            <a:gs pos="100000">
              <a:srgbClr val="1626f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640" indent="-2286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257480" indent="-17172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Rectangle 4"/>
          <p:cNvSpPr/>
          <p:nvPr/>
        </p:nvSpPr>
        <p:spPr>
          <a:xfrm>
            <a:off x="5565960" y="6573960"/>
            <a:ext cx="37432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Physics 101: Lecture 2, Pg </a:t>
            </a:r>
            <a:fld id="{5DED32BA-2C33-4D17-9C87-11948FE74077}" type="slidenum">
              <a:rPr b="0" lang="en-US" sz="1400" spc="-1" strike="noStrike">
                <a:solidFill>
                  <a:srgbClr val="fafd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Rectangle 5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6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3"/>
          <p:cNvSpPr/>
          <p:nvPr/>
        </p:nvSpPr>
        <p:spPr>
          <a:xfrm>
            <a:off x="1382760" y="344520"/>
            <a:ext cx="655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Arial Rounded MT Bold"/>
              </a:rPr>
              <a:t>Physics 101: </a:t>
            </a:r>
            <a:r>
              <a:rPr b="1" lang="en-US" sz="40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1" lang="en-US" sz="4000" spc="-1" strike="noStrike">
                <a:solidFill>
                  <a:srgbClr val="00ffff"/>
                </a:solidFill>
                <a:latin typeface="Arial Rounded MT Bold"/>
              </a:rPr>
              <a:t>Lecture 02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/>
          </p:nvPr>
        </p:nvSpPr>
        <p:spPr>
          <a:xfrm>
            <a:off x="239400" y="2133360"/>
            <a:ext cx="883908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 Rounded MT Bold"/>
              </a:rPr>
              <a:t>Today’s lecture will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 Rounded MT Bold"/>
              </a:rPr>
              <a:t>Finish up Monday’s Material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 Rounded MT Bold"/>
              </a:rPr>
              <a:t>Cover Textbook Sections 2.1-2.7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er Question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wo boxes are connected by a string over a frictionless pulley. In equilibrium, box 2 is lower than box 1. Compare the weight of the two box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A) Box 1 is heavi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B) Box 2 is heavi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C) They have the same weigh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Oval 4"/>
          <p:cNvSpPr/>
          <p:nvPr/>
        </p:nvSpPr>
        <p:spPr>
          <a:xfrm>
            <a:off x="7620120" y="2895480"/>
            <a:ext cx="533160" cy="533520"/>
          </a:xfrm>
          <a:prstGeom prst="ellipse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Freeform 5"/>
          <p:cNvSpPr/>
          <p:nvPr/>
        </p:nvSpPr>
        <p:spPr>
          <a:xfrm>
            <a:off x="7467480" y="2832120"/>
            <a:ext cx="698760" cy="2349360"/>
          </a:xfrm>
          <a:custGeom>
            <a:avLst/>
            <a:gdLst/>
            <a:ahLst/>
            <a:rect l="l" t="t" r="r" b="b"/>
            <a:pathLst>
              <a:path w="440" h="1480">
                <a:moveTo>
                  <a:pt x="0" y="904"/>
                </a:moveTo>
                <a:cubicBezTo>
                  <a:pt x="8" y="664"/>
                  <a:pt x="16" y="424"/>
                  <a:pt x="48" y="280"/>
                </a:cubicBezTo>
                <a:cubicBezTo>
                  <a:pt x="80" y="136"/>
                  <a:pt x="152" y="80"/>
                  <a:pt x="192" y="40"/>
                </a:cubicBezTo>
                <a:cubicBezTo>
                  <a:pt x="232" y="0"/>
                  <a:pt x="256" y="32"/>
                  <a:pt x="288" y="40"/>
                </a:cubicBezTo>
                <a:cubicBezTo>
                  <a:pt x="320" y="48"/>
                  <a:pt x="360" y="64"/>
                  <a:pt x="384" y="88"/>
                </a:cubicBezTo>
                <a:cubicBezTo>
                  <a:pt x="408" y="112"/>
                  <a:pt x="424" y="136"/>
                  <a:pt x="432" y="184"/>
                </a:cubicBezTo>
                <a:cubicBezTo>
                  <a:pt x="440" y="232"/>
                  <a:pt x="432" y="160"/>
                  <a:pt x="432" y="376"/>
                </a:cubicBezTo>
                <a:cubicBezTo>
                  <a:pt x="432" y="592"/>
                  <a:pt x="432" y="1036"/>
                  <a:pt x="432" y="1480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Rectangle 6"/>
          <p:cNvSpPr/>
          <p:nvPr/>
        </p:nvSpPr>
        <p:spPr>
          <a:xfrm>
            <a:off x="7010280" y="4191120"/>
            <a:ext cx="838440" cy="4572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Rectangle 7"/>
          <p:cNvSpPr/>
          <p:nvPr/>
        </p:nvSpPr>
        <p:spPr>
          <a:xfrm>
            <a:off x="7772400" y="5105520"/>
            <a:ext cx="838080" cy="4572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Oval 8"/>
          <p:cNvSpPr/>
          <p:nvPr/>
        </p:nvSpPr>
        <p:spPr>
          <a:xfrm>
            <a:off x="380880" y="3809880"/>
            <a:ext cx="5029200" cy="9144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Text Box 9"/>
          <p:cNvSpPr/>
          <p:nvPr/>
        </p:nvSpPr>
        <p:spPr>
          <a:xfrm>
            <a:off x="685800" y="4800600"/>
            <a:ext cx="4114800" cy="22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F = m 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) T - m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g = 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) T – m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g = 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=&gt; m</a:t>
            </a:r>
            <a:r>
              <a:rPr b="0" lang="en-US" sz="3200" spc="-1" strike="noStrike" baseline="-25000">
                <a:solidFill>
                  <a:srgbClr val="fafd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= m</a:t>
            </a:r>
            <a:r>
              <a:rPr b="0" lang="en-US" sz="32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31" name="Group 20"/>
          <p:cNvGrpSpPr/>
          <p:nvPr/>
        </p:nvGrpSpPr>
        <p:grpSpPr>
          <a:xfrm>
            <a:off x="5257800" y="4114800"/>
            <a:ext cx="1295280" cy="2096640"/>
            <a:chOff x="5257800" y="4114800"/>
            <a:chExt cx="1295280" cy="2096640"/>
          </a:xfrm>
        </p:grpSpPr>
        <p:sp>
          <p:nvSpPr>
            <p:cNvPr id="432" name="Rectangle 10"/>
            <p:cNvSpPr/>
            <p:nvPr/>
          </p:nvSpPr>
          <p:spPr>
            <a:xfrm>
              <a:off x="5257800" y="4952880"/>
              <a:ext cx="838080" cy="4572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Line 11"/>
            <p:cNvSpPr/>
            <p:nvPr/>
          </p:nvSpPr>
          <p:spPr>
            <a:xfrm flipV="1">
              <a:off x="5715000" y="4419360"/>
              <a:ext cx="0" cy="533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Text Box 12"/>
            <p:cNvSpPr/>
            <p:nvPr/>
          </p:nvSpPr>
          <p:spPr>
            <a:xfrm>
              <a:off x="5638680" y="411480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Line 13"/>
            <p:cNvSpPr/>
            <p:nvPr/>
          </p:nvSpPr>
          <p:spPr>
            <a:xfrm>
              <a:off x="5715000" y="5334120"/>
              <a:ext cx="0" cy="533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Text Box 14"/>
            <p:cNvSpPr/>
            <p:nvPr/>
          </p:nvSpPr>
          <p:spPr>
            <a:xfrm>
              <a:off x="5715000" y="5562720"/>
              <a:ext cx="8380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m</a:t>
              </a:r>
              <a:r>
                <a:rPr b="0" lang="en-US" sz="3200" spc="-1" strike="noStrike" baseline="-25000">
                  <a:solidFill>
                    <a:srgbClr val="ffffff"/>
                  </a:solidFill>
                  <a:latin typeface="Times New Roman"/>
                </a:rPr>
                <a:t>1</a:t>
              </a: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g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37" name="Group 21"/>
          <p:cNvGrpSpPr/>
          <p:nvPr/>
        </p:nvGrpSpPr>
        <p:grpSpPr>
          <a:xfrm>
            <a:off x="6781680" y="4830840"/>
            <a:ext cx="1295640" cy="2096280"/>
            <a:chOff x="6781680" y="4830840"/>
            <a:chExt cx="1295640" cy="2096280"/>
          </a:xfrm>
        </p:grpSpPr>
        <p:sp>
          <p:nvSpPr>
            <p:cNvPr id="438" name="Rectangle 15"/>
            <p:cNvSpPr/>
            <p:nvPr/>
          </p:nvSpPr>
          <p:spPr>
            <a:xfrm>
              <a:off x="6781680" y="5668920"/>
              <a:ext cx="838440" cy="4572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Line 16"/>
            <p:cNvSpPr/>
            <p:nvPr/>
          </p:nvSpPr>
          <p:spPr>
            <a:xfrm flipV="1">
              <a:off x="7238880" y="5135400"/>
              <a:ext cx="0" cy="533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Text Box 17"/>
            <p:cNvSpPr/>
            <p:nvPr/>
          </p:nvSpPr>
          <p:spPr>
            <a:xfrm>
              <a:off x="7162920" y="483084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Line 18"/>
            <p:cNvSpPr/>
            <p:nvPr/>
          </p:nvSpPr>
          <p:spPr>
            <a:xfrm>
              <a:off x="7238880" y="6049800"/>
              <a:ext cx="0" cy="533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Text Box 19"/>
            <p:cNvSpPr/>
            <p:nvPr/>
          </p:nvSpPr>
          <p:spPr>
            <a:xfrm>
              <a:off x="7238880" y="6278400"/>
              <a:ext cx="8384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m</a:t>
              </a:r>
              <a:r>
                <a:rPr b="0" lang="en-US" sz="32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g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d"/>
  </p:transition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500"/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500"/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Tension Example: 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termine the force exerted by the hand to suspend the 45 kg mass as shown in the pictu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Rectangle 4"/>
          <p:cNvSpPr/>
          <p:nvPr/>
        </p:nvSpPr>
        <p:spPr>
          <a:xfrm>
            <a:off x="5867280" y="3733920"/>
            <a:ext cx="228600" cy="22860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46" name="Group 5"/>
          <p:cNvGrpSpPr/>
          <p:nvPr/>
        </p:nvGrpSpPr>
        <p:grpSpPr>
          <a:xfrm>
            <a:off x="6324480" y="2362320"/>
            <a:ext cx="990720" cy="978120"/>
            <a:chOff x="6324480" y="2362320"/>
            <a:chExt cx="990720" cy="978120"/>
          </a:xfrm>
        </p:grpSpPr>
        <p:sp>
          <p:nvSpPr>
            <p:cNvPr id="447" name="Line 6"/>
            <p:cNvSpPr/>
            <p:nvPr/>
          </p:nvSpPr>
          <p:spPr>
            <a:xfrm flipV="1">
              <a:off x="6324480" y="2590560"/>
              <a:ext cx="0" cy="685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Line 7"/>
            <p:cNvSpPr/>
            <p:nvPr/>
          </p:nvSpPr>
          <p:spPr>
            <a:xfrm>
              <a:off x="6324480" y="3276720"/>
              <a:ext cx="68580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Text Box 8"/>
            <p:cNvSpPr/>
            <p:nvPr/>
          </p:nvSpPr>
          <p:spPr>
            <a:xfrm>
              <a:off x="6324480" y="23623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Times New Roman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Text Box 9"/>
            <p:cNvSpPr/>
            <p:nvPr/>
          </p:nvSpPr>
          <p:spPr>
            <a:xfrm>
              <a:off x="7010280" y="297216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51" name="Text Box 10"/>
          <p:cNvSpPr/>
          <p:nvPr/>
        </p:nvSpPr>
        <p:spPr>
          <a:xfrm>
            <a:off x="990720" y="3429000"/>
            <a:ext cx="4190760" cy="24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F = m 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T + T – W =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2 T = 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T = m g / 2</a:t>
            </a: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= (45</a:t>
            </a: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kg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x (9.8</a:t>
            </a: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m/s</a:t>
            </a:r>
            <a:r>
              <a:rPr b="0" lang="en-US" sz="2400" spc="-1" strike="noStrike" baseline="30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)/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ff00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220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52" name="Object 11"/>
          <p:cNvGraphicFramePr/>
          <p:nvPr/>
        </p:nvGraphicFramePr>
        <p:xfrm>
          <a:off x="7412040" y="2057400"/>
          <a:ext cx="1731960" cy="26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3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12040" y="2057400"/>
                    <a:ext cx="1731960" cy="26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4" name="Text Box 12"/>
          <p:cNvSpPr/>
          <p:nvPr/>
        </p:nvSpPr>
        <p:spPr>
          <a:xfrm>
            <a:off x="228600" y="571500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member the magnitude of the tension is the same everywhere along the rope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55" name="Group 14"/>
          <p:cNvGrpSpPr/>
          <p:nvPr/>
        </p:nvGrpSpPr>
        <p:grpSpPr>
          <a:xfrm>
            <a:off x="5410080" y="2971800"/>
            <a:ext cx="489240" cy="761760"/>
            <a:chOff x="5410080" y="2971800"/>
            <a:chExt cx="489240" cy="761760"/>
          </a:xfrm>
        </p:grpSpPr>
        <p:sp>
          <p:nvSpPr>
            <p:cNvPr id="456" name="Line 15"/>
            <p:cNvSpPr/>
            <p:nvPr/>
          </p:nvSpPr>
          <p:spPr>
            <a:xfrm flipV="1">
              <a:off x="5899320" y="3047760"/>
              <a:ext cx="0" cy="685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Text Box 16"/>
            <p:cNvSpPr/>
            <p:nvPr/>
          </p:nvSpPr>
          <p:spPr>
            <a:xfrm>
              <a:off x="5410080" y="297180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8" name="Group 17"/>
          <p:cNvGrpSpPr/>
          <p:nvPr/>
        </p:nvGrpSpPr>
        <p:grpSpPr>
          <a:xfrm>
            <a:off x="6019920" y="3047760"/>
            <a:ext cx="380880" cy="685800"/>
            <a:chOff x="6019920" y="3047760"/>
            <a:chExt cx="380880" cy="685800"/>
          </a:xfrm>
        </p:grpSpPr>
        <p:sp>
          <p:nvSpPr>
            <p:cNvPr id="459" name="Line 18"/>
            <p:cNvSpPr/>
            <p:nvPr/>
          </p:nvSpPr>
          <p:spPr>
            <a:xfrm flipV="1">
              <a:off x="6064200" y="3047760"/>
              <a:ext cx="0" cy="685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Text Box 19"/>
            <p:cNvSpPr/>
            <p:nvPr/>
          </p:nvSpPr>
          <p:spPr>
            <a:xfrm>
              <a:off x="6019920" y="31240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1" name="Group 20"/>
          <p:cNvGrpSpPr/>
          <p:nvPr/>
        </p:nvGrpSpPr>
        <p:grpSpPr>
          <a:xfrm>
            <a:off x="5972040" y="3961800"/>
            <a:ext cx="581040" cy="886680"/>
            <a:chOff x="5972040" y="3961800"/>
            <a:chExt cx="581040" cy="886680"/>
          </a:xfrm>
        </p:grpSpPr>
        <p:sp>
          <p:nvSpPr>
            <p:cNvPr id="462" name="Line 21"/>
            <p:cNvSpPr/>
            <p:nvPr/>
          </p:nvSpPr>
          <p:spPr>
            <a:xfrm>
              <a:off x="5972040" y="3961800"/>
              <a:ext cx="0" cy="685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Text Box 22"/>
            <p:cNvSpPr/>
            <p:nvPr/>
          </p:nvSpPr>
          <p:spPr>
            <a:xfrm>
              <a:off x="6019920" y="426708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W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64" name="Text Box 23"/>
          <p:cNvSpPr/>
          <p:nvPr/>
        </p:nvSpPr>
        <p:spPr>
          <a:xfrm>
            <a:off x="609480" y="2438280"/>
            <a:ext cx="5181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A) 220 N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B) 440 N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C) 660 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D) 880 N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E) 1100 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Oval 24"/>
          <p:cNvSpPr/>
          <p:nvPr/>
        </p:nvSpPr>
        <p:spPr>
          <a:xfrm>
            <a:off x="152280" y="2514600"/>
            <a:ext cx="2286000" cy="45720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0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5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500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0" dur="500"/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500"/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0" dur="500"/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" dur="500"/>
                                        <p:tgtEl>
                                          <p:spTgt spid="4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0" dur="500"/>
                                        <p:tgtEl>
                                          <p:spTgt spid="4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er Question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termine the force exerted by the ceiling to suspend pulley holding the 45 kg mass as shown in the pictu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8" name="Group 5"/>
          <p:cNvGrpSpPr/>
          <p:nvPr/>
        </p:nvGrpSpPr>
        <p:grpSpPr>
          <a:xfrm>
            <a:off x="6324480" y="2362320"/>
            <a:ext cx="990720" cy="978120"/>
            <a:chOff x="6324480" y="2362320"/>
            <a:chExt cx="990720" cy="978120"/>
          </a:xfrm>
        </p:grpSpPr>
        <p:sp>
          <p:nvSpPr>
            <p:cNvPr id="469" name="Line 6"/>
            <p:cNvSpPr/>
            <p:nvPr/>
          </p:nvSpPr>
          <p:spPr>
            <a:xfrm flipV="1">
              <a:off x="6324480" y="2590560"/>
              <a:ext cx="0" cy="685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Line 7"/>
            <p:cNvSpPr/>
            <p:nvPr/>
          </p:nvSpPr>
          <p:spPr>
            <a:xfrm>
              <a:off x="6324480" y="3276720"/>
              <a:ext cx="68580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Text Box 8"/>
            <p:cNvSpPr/>
            <p:nvPr/>
          </p:nvSpPr>
          <p:spPr>
            <a:xfrm>
              <a:off x="6324480" y="23623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Times New Roman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Text Box 9"/>
            <p:cNvSpPr/>
            <p:nvPr/>
          </p:nvSpPr>
          <p:spPr>
            <a:xfrm>
              <a:off x="7010280" y="297216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3" name="Text Box 10"/>
          <p:cNvSpPr/>
          <p:nvPr/>
        </p:nvSpPr>
        <p:spPr>
          <a:xfrm>
            <a:off x="609480" y="3962520"/>
            <a:ext cx="4191120" cy="20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= m 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ff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 -T - T – T =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ff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 = 3 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ff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 = 3 x 220 N = 660 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74" name="Object 11"/>
          <p:cNvGraphicFramePr/>
          <p:nvPr/>
        </p:nvGraphicFramePr>
        <p:xfrm>
          <a:off x="7238880" y="2057400"/>
          <a:ext cx="1731960" cy="26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5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38880" y="2057400"/>
                    <a:ext cx="1731960" cy="26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6" name="Text Box 12"/>
          <p:cNvSpPr/>
          <p:nvPr/>
        </p:nvSpPr>
        <p:spPr>
          <a:xfrm>
            <a:off x="228600" y="571500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member the magnitude of the tension is the same everywhere along the rope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7" name="Group 14"/>
          <p:cNvGrpSpPr/>
          <p:nvPr/>
        </p:nvGrpSpPr>
        <p:grpSpPr>
          <a:xfrm>
            <a:off x="5362560" y="2895480"/>
            <a:ext cx="685440" cy="761760"/>
            <a:chOff x="5362560" y="2895480"/>
            <a:chExt cx="685440" cy="761760"/>
          </a:xfrm>
        </p:grpSpPr>
        <p:sp>
          <p:nvSpPr>
            <p:cNvPr id="478" name="Line 15"/>
            <p:cNvSpPr/>
            <p:nvPr/>
          </p:nvSpPr>
          <p:spPr>
            <a:xfrm flipV="1">
              <a:off x="6048000" y="2971440"/>
              <a:ext cx="0" cy="685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Text Box 16"/>
            <p:cNvSpPr/>
            <p:nvPr/>
          </p:nvSpPr>
          <p:spPr>
            <a:xfrm>
              <a:off x="5362560" y="2895480"/>
              <a:ext cx="534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F</a:t>
              </a:r>
              <a:r>
                <a:rPr b="0" lang="en-US" sz="3200" spc="-1" strike="noStrike" baseline="-25000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80" name="Group 20"/>
          <p:cNvGrpSpPr/>
          <p:nvPr/>
        </p:nvGrpSpPr>
        <p:grpSpPr>
          <a:xfrm>
            <a:off x="6138720" y="3961800"/>
            <a:ext cx="581040" cy="886680"/>
            <a:chOff x="6138720" y="3961800"/>
            <a:chExt cx="581040" cy="886680"/>
          </a:xfrm>
        </p:grpSpPr>
        <p:sp>
          <p:nvSpPr>
            <p:cNvPr id="481" name="Line 21"/>
            <p:cNvSpPr/>
            <p:nvPr/>
          </p:nvSpPr>
          <p:spPr>
            <a:xfrm>
              <a:off x="6138720" y="3961800"/>
              <a:ext cx="0" cy="685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Text Box 22"/>
            <p:cNvSpPr/>
            <p:nvPr/>
          </p:nvSpPr>
          <p:spPr>
            <a:xfrm>
              <a:off x="6186600" y="426708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83" name="Group 23"/>
          <p:cNvGrpSpPr/>
          <p:nvPr/>
        </p:nvGrpSpPr>
        <p:grpSpPr>
          <a:xfrm>
            <a:off x="5986440" y="3961800"/>
            <a:ext cx="581040" cy="884880"/>
            <a:chOff x="5986440" y="3961800"/>
            <a:chExt cx="581040" cy="884880"/>
          </a:xfrm>
        </p:grpSpPr>
        <p:sp>
          <p:nvSpPr>
            <p:cNvPr id="484" name="Line 24"/>
            <p:cNvSpPr/>
            <p:nvPr/>
          </p:nvSpPr>
          <p:spPr>
            <a:xfrm>
              <a:off x="5986440" y="3961800"/>
              <a:ext cx="0" cy="685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" name="Text Box 25"/>
            <p:cNvSpPr/>
            <p:nvPr/>
          </p:nvSpPr>
          <p:spPr>
            <a:xfrm>
              <a:off x="6034320" y="4267080"/>
              <a:ext cx="5331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86" name="Group 26"/>
          <p:cNvGrpSpPr/>
          <p:nvPr/>
        </p:nvGrpSpPr>
        <p:grpSpPr>
          <a:xfrm>
            <a:off x="6062760" y="3961800"/>
            <a:ext cx="581040" cy="884880"/>
            <a:chOff x="6062760" y="3961800"/>
            <a:chExt cx="581040" cy="884880"/>
          </a:xfrm>
        </p:grpSpPr>
        <p:sp>
          <p:nvSpPr>
            <p:cNvPr id="487" name="Line 27"/>
            <p:cNvSpPr/>
            <p:nvPr/>
          </p:nvSpPr>
          <p:spPr>
            <a:xfrm>
              <a:off x="6062760" y="3961800"/>
              <a:ext cx="0" cy="685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Text Box 28"/>
            <p:cNvSpPr/>
            <p:nvPr/>
          </p:nvSpPr>
          <p:spPr>
            <a:xfrm>
              <a:off x="6110640" y="4267080"/>
              <a:ext cx="5331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9" name="Oval 29"/>
          <p:cNvSpPr/>
          <p:nvPr/>
        </p:nvSpPr>
        <p:spPr>
          <a:xfrm>
            <a:off x="4191120" y="518148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Oval 30"/>
          <p:cNvSpPr/>
          <p:nvPr/>
        </p:nvSpPr>
        <p:spPr>
          <a:xfrm>
            <a:off x="5867280" y="3581280"/>
            <a:ext cx="381240" cy="38124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Text Box 31"/>
          <p:cNvSpPr/>
          <p:nvPr/>
        </p:nvSpPr>
        <p:spPr>
          <a:xfrm>
            <a:off x="380880" y="2819520"/>
            <a:ext cx="5181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A) 220 N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B) 440 N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C) 660 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D) 880 N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E) 1100 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Oval 32"/>
          <p:cNvSpPr/>
          <p:nvPr/>
        </p:nvSpPr>
        <p:spPr>
          <a:xfrm>
            <a:off x="3657600" y="2819520"/>
            <a:ext cx="2286000" cy="45720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3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8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3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8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3" dur="500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8" dur="500"/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3" dur="500"/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8" dur="500"/>
                                        <p:tgtEl>
                                          <p:spTgt spid="4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er Question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graphicFrame>
        <p:nvGraphicFramePr>
          <p:cNvPr id="494" name="Object 3"/>
          <p:cNvGraphicFramePr/>
          <p:nvPr/>
        </p:nvGraphicFramePr>
        <p:xfrm>
          <a:off x="5919840" y="4572000"/>
          <a:ext cx="3224160" cy="22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19840" y="4572000"/>
                    <a:ext cx="322416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6" name="Object 4"/>
          <p:cNvGraphicFramePr/>
          <p:nvPr/>
        </p:nvGraphicFramePr>
        <p:xfrm>
          <a:off x="0" y="4486320"/>
          <a:ext cx="3352680" cy="2371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7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4486320"/>
                    <a:ext cx="3352680" cy="23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8" name="Text Box 5"/>
          <p:cNvSpPr/>
          <p:nvPr/>
        </p:nvSpPr>
        <p:spPr>
          <a:xfrm>
            <a:off x="0" y="1066680"/>
            <a:ext cx="87631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cale 1 reads 550 Newtons. What is the reading on scale 2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)  225 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) 550 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) 1100 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Rectangle 7"/>
          <p:cNvSpPr/>
          <p:nvPr/>
        </p:nvSpPr>
        <p:spPr>
          <a:xfrm>
            <a:off x="7315200" y="4800600"/>
            <a:ext cx="457200" cy="228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Text Box 8"/>
          <p:cNvSpPr/>
          <p:nvPr/>
        </p:nvSpPr>
        <p:spPr>
          <a:xfrm>
            <a:off x="533520" y="3048120"/>
            <a:ext cx="8001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In both cases the NET FORCE on the spring is zero, and the force to the right is 550N. Therefore the force to the left is also 550 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Oval 9"/>
          <p:cNvSpPr/>
          <p:nvPr/>
        </p:nvSpPr>
        <p:spPr>
          <a:xfrm>
            <a:off x="2362320" y="2057400"/>
            <a:ext cx="2361960" cy="106668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Text Box 10"/>
          <p:cNvSpPr/>
          <p:nvPr/>
        </p:nvSpPr>
        <p:spPr>
          <a:xfrm>
            <a:off x="685800" y="571500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Text Box 11"/>
          <p:cNvSpPr/>
          <p:nvPr/>
        </p:nvSpPr>
        <p:spPr>
          <a:xfrm>
            <a:off x="6629400" y="571500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0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Force at Angle Example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person is pushing a 15 kg block across a floor with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= 0.4 at a constant speed. If she is pushing down at an angle of 25 degrees, what is the magnitude of her force on the block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Rectangle 4"/>
          <p:cNvSpPr/>
          <p:nvPr/>
        </p:nvSpPr>
        <p:spPr>
          <a:xfrm>
            <a:off x="2438280" y="5638680"/>
            <a:ext cx="2362320" cy="83844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Rectangle 6"/>
          <p:cNvSpPr/>
          <p:nvPr/>
        </p:nvSpPr>
        <p:spPr>
          <a:xfrm>
            <a:off x="838080" y="6477120"/>
            <a:ext cx="7467840" cy="75960"/>
          </a:xfrm>
          <a:prstGeom prst="rect">
            <a:avLst/>
          </a:prstGeom>
          <a:solidFill>
            <a:srgbClr val="000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08" name="Group 14"/>
          <p:cNvGrpSpPr/>
          <p:nvPr/>
        </p:nvGrpSpPr>
        <p:grpSpPr>
          <a:xfrm>
            <a:off x="1836720" y="4585680"/>
            <a:ext cx="839880" cy="1039320"/>
            <a:chOff x="1836720" y="4585680"/>
            <a:chExt cx="839880" cy="1039320"/>
          </a:xfrm>
        </p:grpSpPr>
        <p:sp>
          <p:nvSpPr>
            <p:cNvPr id="509" name="Line 5"/>
            <p:cNvSpPr/>
            <p:nvPr/>
          </p:nvSpPr>
          <p:spPr>
            <a:xfrm>
              <a:off x="2048760" y="5213880"/>
              <a:ext cx="627840" cy="4111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10" name="Group 9"/>
            <p:cNvGrpSpPr/>
            <p:nvPr/>
          </p:nvGrpSpPr>
          <p:grpSpPr>
            <a:xfrm>
              <a:off x="1836720" y="4585680"/>
              <a:ext cx="686160" cy="1024200"/>
              <a:chOff x="1836720" y="4585680"/>
              <a:chExt cx="686160" cy="1024200"/>
            </a:xfrm>
          </p:grpSpPr>
          <p:sp>
            <p:nvSpPr>
              <p:cNvPr id="511" name="Oval 7"/>
              <p:cNvSpPr/>
              <p:nvPr/>
            </p:nvSpPr>
            <p:spPr>
              <a:xfrm rot="1730400">
                <a:off x="2073600" y="4653720"/>
                <a:ext cx="380880" cy="38088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buClr>
                    <a:srgbClr val="ffffff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2" name="Line 8"/>
              <p:cNvSpPr/>
              <p:nvPr/>
            </p:nvSpPr>
            <p:spPr>
              <a:xfrm flipH="1">
                <a:off x="1836720" y="5009040"/>
                <a:ext cx="330840" cy="6008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13" name="Line 10"/>
          <p:cNvSpPr/>
          <p:nvPr/>
        </p:nvSpPr>
        <p:spPr>
          <a:xfrm>
            <a:off x="1828800" y="5638680"/>
            <a:ext cx="533520" cy="381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Line 11"/>
          <p:cNvSpPr/>
          <p:nvPr/>
        </p:nvSpPr>
        <p:spPr>
          <a:xfrm flipH="1">
            <a:off x="2057040" y="6019920"/>
            <a:ext cx="30492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Line 12"/>
          <p:cNvSpPr/>
          <p:nvPr/>
        </p:nvSpPr>
        <p:spPr>
          <a:xfrm flipH="1">
            <a:off x="1676160" y="5638680"/>
            <a:ext cx="15228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Line 13"/>
          <p:cNvSpPr/>
          <p:nvPr/>
        </p:nvSpPr>
        <p:spPr>
          <a:xfrm flipH="1">
            <a:off x="1371240" y="6172200"/>
            <a:ext cx="30492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Rectangle 15"/>
          <p:cNvSpPr/>
          <p:nvPr/>
        </p:nvSpPr>
        <p:spPr>
          <a:xfrm>
            <a:off x="6934320" y="5334120"/>
            <a:ext cx="228600" cy="22860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18" name="Group 20"/>
          <p:cNvGrpSpPr/>
          <p:nvPr/>
        </p:nvGrpSpPr>
        <p:grpSpPr>
          <a:xfrm>
            <a:off x="8039160" y="4495680"/>
            <a:ext cx="990720" cy="978120"/>
            <a:chOff x="8039160" y="4495680"/>
            <a:chExt cx="990720" cy="978120"/>
          </a:xfrm>
        </p:grpSpPr>
        <p:sp>
          <p:nvSpPr>
            <p:cNvPr id="519" name="Line 21"/>
            <p:cNvSpPr/>
            <p:nvPr/>
          </p:nvSpPr>
          <p:spPr>
            <a:xfrm flipV="1">
              <a:off x="8039160" y="4723920"/>
              <a:ext cx="0" cy="685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Line 22"/>
            <p:cNvSpPr/>
            <p:nvPr/>
          </p:nvSpPr>
          <p:spPr>
            <a:xfrm>
              <a:off x="8039160" y="5410080"/>
              <a:ext cx="68580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Text Box 23"/>
            <p:cNvSpPr/>
            <p:nvPr/>
          </p:nvSpPr>
          <p:spPr>
            <a:xfrm>
              <a:off x="8039160" y="449568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Times New Roman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Text Box 24"/>
            <p:cNvSpPr/>
            <p:nvPr/>
          </p:nvSpPr>
          <p:spPr>
            <a:xfrm>
              <a:off x="8724960" y="51055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23" name="Group 33"/>
          <p:cNvGrpSpPr/>
          <p:nvPr/>
        </p:nvGrpSpPr>
        <p:grpSpPr>
          <a:xfrm>
            <a:off x="6553080" y="4114800"/>
            <a:ext cx="1067040" cy="1219320"/>
            <a:chOff x="6553080" y="4114800"/>
            <a:chExt cx="1067040" cy="1219320"/>
          </a:xfrm>
        </p:grpSpPr>
        <p:sp>
          <p:nvSpPr>
            <p:cNvPr id="524" name="Line 16"/>
            <p:cNvSpPr/>
            <p:nvPr/>
          </p:nvSpPr>
          <p:spPr>
            <a:xfrm flipV="1">
              <a:off x="7043760" y="4496040"/>
              <a:ext cx="0" cy="838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" name="Text Box 25"/>
            <p:cNvSpPr/>
            <p:nvPr/>
          </p:nvSpPr>
          <p:spPr>
            <a:xfrm>
              <a:off x="6553080" y="411480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Norma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26" name="Group 32"/>
          <p:cNvGrpSpPr/>
          <p:nvPr/>
        </p:nvGrpSpPr>
        <p:grpSpPr>
          <a:xfrm>
            <a:off x="6629400" y="5562720"/>
            <a:ext cx="1066680" cy="596520"/>
            <a:chOff x="6629400" y="5562720"/>
            <a:chExt cx="1066680" cy="596520"/>
          </a:xfrm>
        </p:grpSpPr>
        <p:sp>
          <p:nvSpPr>
            <p:cNvPr id="527" name="Line 18"/>
            <p:cNvSpPr/>
            <p:nvPr/>
          </p:nvSpPr>
          <p:spPr>
            <a:xfrm>
              <a:off x="7053120" y="5562720"/>
              <a:ext cx="0" cy="304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Text Box 26"/>
            <p:cNvSpPr/>
            <p:nvPr/>
          </p:nvSpPr>
          <p:spPr>
            <a:xfrm>
              <a:off x="6629400" y="579096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Weigh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29" name="Group 34"/>
          <p:cNvGrpSpPr/>
          <p:nvPr/>
        </p:nvGrpSpPr>
        <p:grpSpPr>
          <a:xfrm>
            <a:off x="4876920" y="4419720"/>
            <a:ext cx="2133360" cy="914400"/>
            <a:chOff x="4876920" y="4419720"/>
            <a:chExt cx="2133360" cy="914400"/>
          </a:xfrm>
        </p:grpSpPr>
        <p:sp>
          <p:nvSpPr>
            <p:cNvPr id="530" name="Line 19"/>
            <p:cNvSpPr/>
            <p:nvPr/>
          </p:nvSpPr>
          <p:spPr>
            <a:xfrm>
              <a:off x="5715000" y="4470480"/>
              <a:ext cx="1295280" cy="863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1" name="Text Box 28"/>
            <p:cNvSpPr/>
            <p:nvPr/>
          </p:nvSpPr>
          <p:spPr>
            <a:xfrm>
              <a:off x="4876920" y="441972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Push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32" name="Text Box 29"/>
          <p:cNvSpPr/>
          <p:nvPr/>
        </p:nvSpPr>
        <p:spPr>
          <a:xfrm>
            <a:off x="609480" y="1981080"/>
            <a:ext cx="3505320" cy="1619640"/>
          </a:xfrm>
          <a:prstGeom prst="rect">
            <a:avLst/>
          </a:prstGeom>
          <a:noFill/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x- direction: </a:t>
            </a:r>
            <a:r>
              <a:rPr b="0" lang="en-US" sz="2800" spc="-1" strike="noStrike">
                <a:solidFill>
                  <a:srgbClr val="fafd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fafd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= ma</a:t>
            </a:r>
            <a:r>
              <a:rPr b="0" lang="en-US" sz="2800" spc="-1" strike="noStrike" baseline="-25000">
                <a:solidFill>
                  <a:srgbClr val="fafd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push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cos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 – F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friction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push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cos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 –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F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Normal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Normal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= F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push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cos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 /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Text Box 30"/>
          <p:cNvSpPr/>
          <p:nvPr/>
        </p:nvSpPr>
        <p:spPr>
          <a:xfrm>
            <a:off x="609480" y="3505320"/>
            <a:ext cx="3733920" cy="1272960"/>
          </a:xfrm>
          <a:prstGeom prst="rect">
            <a:avLst/>
          </a:prstGeom>
          <a:noFill/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y- direction: </a:t>
            </a:r>
            <a:r>
              <a:rPr b="0" lang="en-US" sz="2800" spc="-1" strike="noStrike">
                <a:solidFill>
                  <a:srgbClr val="fafd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fafd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= ma</a:t>
            </a:r>
            <a:r>
              <a:rPr b="0" lang="en-US" sz="2800" spc="-1" strike="noStrike" baseline="-25000">
                <a:solidFill>
                  <a:srgbClr val="fafd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Normal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–F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weight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– F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Push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sin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 = 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Normal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–mg – F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Push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sin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 = 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Text Box 31"/>
          <p:cNvSpPr/>
          <p:nvPr/>
        </p:nvSpPr>
        <p:spPr>
          <a:xfrm>
            <a:off x="4572000" y="2057400"/>
            <a:ext cx="4419720" cy="1560600"/>
          </a:xfrm>
          <a:prstGeom prst="rect">
            <a:avLst/>
          </a:prstGeom>
          <a:noFill/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ombin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F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push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cos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 /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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–mg – F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Push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sin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 = 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push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( cos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 /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- sin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) = m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push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= m g / ( cos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/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– sin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35" name="Group 37"/>
          <p:cNvGrpSpPr/>
          <p:nvPr/>
        </p:nvGrpSpPr>
        <p:grpSpPr>
          <a:xfrm>
            <a:off x="1981080" y="5257800"/>
            <a:ext cx="381240" cy="459720"/>
            <a:chOff x="1981080" y="5257800"/>
            <a:chExt cx="381240" cy="459720"/>
          </a:xfrm>
        </p:grpSpPr>
        <p:sp>
          <p:nvSpPr>
            <p:cNvPr id="536" name="Arc 35"/>
            <p:cNvSpPr/>
            <p:nvPr/>
          </p:nvSpPr>
          <p:spPr>
            <a:xfrm flipH="1">
              <a:off x="2286000" y="5410440"/>
              <a:ext cx="76320" cy="2286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Text Box 36"/>
            <p:cNvSpPr/>
            <p:nvPr/>
          </p:nvSpPr>
          <p:spPr>
            <a:xfrm>
              <a:off x="1981080" y="525780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38" name="Line 41"/>
          <p:cNvSpPr/>
          <p:nvPr/>
        </p:nvSpPr>
        <p:spPr>
          <a:xfrm>
            <a:off x="5715000" y="4495680"/>
            <a:ext cx="0" cy="838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39" name="Group 48"/>
          <p:cNvGrpSpPr/>
          <p:nvPr/>
        </p:nvGrpSpPr>
        <p:grpSpPr>
          <a:xfrm>
            <a:off x="5562720" y="5257800"/>
            <a:ext cx="1371600" cy="368280"/>
            <a:chOff x="5562720" y="5257800"/>
            <a:chExt cx="1371600" cy="368280"/>
          </a:xfrm>
        </p:grpSpPr>
        <p:sp>
          <p:nvSpPr>
            <p:cNvPr id="540" name="Line 17"/>
            <p:cNvSpPr/>
            <p:nvPr/>
          </p:nvSpPr>
          <p:spPr>
            <a:xfrm flipH="1">
              <a:off x="6477120" y="5453280"/>
              <a:ext cx="4572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Text Box 27"/>
            <p:cNvSpPr/>
            <p:nvPr/>
          </p:nvSpPr>
          <p:spPr>
            <a:xfrm>
              <a:off x="5562720" y="525780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Fricti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42" name="Line 42"/>
          <p:cNvSpPr/>
          <p:nvPr/>
        </p:nvSpPr>
        <p:spPr>
          <a:xfrm flipH="1">
            <a:off x="5715000" y="5334120"/>
            <a:ext cx="129528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43" name="Group 43"/>
          <p:cNvGrpSpPr/>
          <p:nvPr/>
        </p:nvGrpSpPr>
        <p:grpSpPr>
          <a:xfrm>
            <a:off x="6276960" y="4952880"/>
            <a:ext cx="380880" cy="459720"/>
            <a:chOff x="6276960" y="4952880"/>
            <a:chExt cx="380880" cy="459720"/>
          </a:xfrm>
        </p:grpSpPr>
        <p:sp>
          <p:nvSpPr>
            <p:cNvPr id="544" name="Arc 44"/>
            <p:cNvSpPr/>
            <p:nvPr/>
          </p:nvSpPr>
          <p:spPr>
            <a:xfrm flipH="1">
              <a:off x="6580800" y="5105520"/>
              <a:ext cx="75960" cy="2286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Text Box 45"/>
            <p:cNvSpPr/>
            <p:nvPr/>
          </p:nvSpPr>
          <p:spPr>
            <a:xfrm>
              <a:off x="6276960" y="49528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46" name="Text Box 49"/>
          <p:cNvSpPr/>
          <p:nvPr/>
        </p:nvSpPr>
        <p:spPr>
          <a:xfrm>
            <a:off x="4648320" y="3581280"/>
            <a:ext cx="2438280" cy="64872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fafd00"/>
                </a:solidFill>
                <a:latin typeface="Times New Roman"/>
              </a:rPr>
              <a:t>push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= 80 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9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2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1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6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1" dur="5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6" dur="500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1" dur="500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6" dur="500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1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6" dur="500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500"/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6" dur="500"/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1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6" dur="500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1" dur="500"/>
                                        <p:tgtEl>
                                          <p:spTgt spid="5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6" dur="500"/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1" dur="500"/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Summary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Contact Force: Spr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push or pull, force proportional to displac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 = -k 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Contact Force: Ten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ways Pulls, tension equal everyw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ce parallel to st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Two Dimensional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oose coordinate syst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eep directions separate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Forces in P101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001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ontact ---- Gravity (|F| = G m M/r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 = 6.7x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-11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m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/ (kg s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arth:   Mass = 6x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24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kg,  radius = 6.4 x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act  (fundamentally E+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rmal: Perpendicular to surf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riction: Parallel to surf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ything touching the obj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ces are </a:t>
            </a:r>
            <a:r>
              <a:rPr b="1" lang="en-US" sz="3200" spc="-1" strike="noStrike" u="sng">
                <a:solidFill>
                  <a:srgbClr val="fafd00"/>
                </a:solidFill>
                <a:uFillTx/>
                <a:latin typeface="Times New Roman"/>
              </a:rPr>
              <a:t>ALWAY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exerted by Agents!  </a:t>
            </a:r>
            <a:r>
              <a:rPr b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Paint The Agent Orang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500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500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3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Example Weight of Object 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lculate the gravitational force on a 3 kg book held 1 meter above the surface of the earth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|F| = G M m / r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6.7x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-1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m</a:t>
            </a:r>
            <a:r>
              <a:rPr b="0" lang="en-US" sz="2400" spc="-1" strike="noStrike" baseline="30000">
                <a:solidFill>
                  <a:srgbClr val="00ff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 / (kg s</a:t>
            </a:r>
            <a:r>
              <a:rPr b="0" lang="en-US" sz="2400" spc="-1" strike="noStrike" baseline="30000">
                <a:solidFill>
                  <a:srgbClr val="00ff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 (6x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24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k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 (3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k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/ (6.4x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+ 1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m</a:t>
            </a:r>
            <a:r>
              <a:rPr b="0" lang="en-US" sz="2400" spc="-1" strike="noStrike" baseline="30000">
                <a:solidFill>
                  <a:srgbClr val="00ff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   29.4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kg m/s</a:t>
            </a:r>
            <a:r>
              <a:rPr b="0" lang="en-US" sz="2400" spc="-1" strike="noStrike" baseline="30000">
                <a:solidFill>
                  <a:srgbClr val="00ff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33" name="Object 5"/>
          <p:cNvGraphicFramePr/>
          <p:nvPr/>
        </p:nvGraphicFramePr>
        <p:xfrm>
          <a:off x="8381880" y="0"/>
          <a:ext cx="762120" cy="7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1880" y="0"/>
                    <a:ext cx="762120" cy="7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d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er Question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the book is raised 10 meters above the surface of the earth, the gravitational force on the book wil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A)    100 times stronger    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B) 10 times strong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C)   Nearly the same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D)   10 times weaker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E) 100 times weak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Rectangle 4"/>
          <p:cNvSpPr/>
          <p:nvPr/>
        </p:nvSpPr>
        <p:spPr>
          <a:xfrm>
            <a:off x="609480" y="4267080"/>
            <a:ext cx="7467840" cy="11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 = G M m / r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= (6.7x10-11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m</a:t>
            </a:r>
            <a:r>
              <a:rPr b="0" lang="en-US" sz="2000" spc="-1" strike="noStrike" baseline="30000">
                <a:solidFill>
                  <a:srgbClr val="00ff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 / (kg s</a:t>
            </a:r>
            <a:r>
              <a:rPr b="0" lang="en-US" sz="2000" spc="-1" strike="noStrike" baseline="30000">
                <a:solidFill>
                  <a:srgbClr val="00ff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 (6x10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24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kg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 (3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kg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/ (6.4x10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10)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m</a:t>
            </a:r>
            <a:r>
              <a:rPr b="0" lang="en-US" sz="2000" spc="-1" strike="noStrike" baseline="30000">
                <a:solidFill>
                  <a:srgbClr val="00ff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=   29.4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kg m/s</a:t>
            </a:r>
            <a:r>
              <a:rPr b="0" lang="en-US" sz="2000" spc="-1" strike="noStrike" baseline="30000">
                <a:solidFill>
                  <a:srgbClr val="00ff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Text Box 5"/>
          <p:cNvSpPr/>
          <p:nvPr/>
        </p:nvSpPr>
        <p:spPr>
          <a:xfrm>
            <a:off x="380880" y="5410080"/>
            <a:ext cx="8153640" cy="1170360"/>
          </a:xfrm>
          <a:prstGeom prst="rect">
            <a:avLst/>
          </a:prstGeom>
          <a:noFill/>
          <a:ln w="38160">
            <a:solidFill>
              <a:srgbClr val="00ba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Near surface of earth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r = 6.4x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m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|F| = m (G M /r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 = m (9.8 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m/s</a:t>
            </a:r>
            <a:r>
              <a:rPr b="0" lang="en-US" sz="3200" spc="-1" strike="noStrike" baseline="30000">
                <a:solidFill>
                  <a:srgbClr val="00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Rectangle 6"/>
          <p:cNvSpPr/>
          <p:nvPr/>
        </p:nvSpPr>
        <p:spPr>
          <a:xfrm>
            <a:off x="8077320" y="44197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Oval 7"/>
          <p:cNvSpPr/>
          <p:nvPr/>
        </p:nvSpPr>
        <p:spPr>
          <a:xfrm>
            <a:off x="3429000" y="3048120"/>
            <a:ext cx="2514600" cy="609480"/>
          </a:xfrm>
          <a:prstGeom prst="ellipse">
            <a:avLst/>
          </a:prstGeom>
          <a:noFill/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41" name="Object 9"/>
          <p:cNvGraphicFramePr/>
          <p:nvPr/>
        </p:nvGraphicFramePr>
        <p:xfrm>
          <a:off x="8381880" y="0"/>
          <a:ext cx="762120" cy="7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2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1880" y="0"/>
                    <a:ext cx="762120" cy="7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d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ontact Forces: Friction, Normal Forces, and H.O.B.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268560" indent="-26856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rmal means perpendicular to the surf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68560" indent="-26856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gnitude of frictional force (parallel to surfaces) is proportional to the normal for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590760" indent="-21456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kinetic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coefficient of Kinetic friction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590760" indent="-21456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static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≤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coefficient of Static friction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68560" indent="-26856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 Careful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590760" indent="-21456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tic frictio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≤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can be any value up to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90760" indent="-21456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rection always opposes mo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8560" indent="-26856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.O.B. is any other explicitly stated for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45" name="Object 5"/>
          <p:cNvGraphicFramePr/>
          <p:nvPr/>
        </p:nvGraphicFramePr>
        <p:xfrm>
          <a:off x="8381880" y="0"/>
          <a:ext cx="762120" cy="7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1880" y="0"/>
                    <a:ext cx="762120" cy="7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d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3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3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Free Body Diagrams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oose Object (book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bel coordinate ax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dentify All For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.O.B. (to righ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ravity (dow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rmal (table, up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riction (table, lef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Rectangle 4"/>
          <p:cNvSpPr/>
          <p:nvPr/>
        </p:nvSpPr>
        <p:spPr>
          <a:xfrm>
            <a:off x="457200" y="6095880"/>
            <a:ext cx="3962520" cy="609840"/>
          </a:xfrm>
          <a:prstGeom prst="rect">
            <a:avLst/>
          </a:prstGeom>
          <a:solidFill>
            <a:srgbClr val="21615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Rectangle 5"/>
          <p:cNvSpPr/>
          <p:nvPr/>
        </p:nvSpPr>
        <p:spPr>
          <a:xfrm>
            <a:off x="1219320" y="5715000"/>
            <a:ext cx="1447560" cy="3808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ysi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51" name="Picture 6" descr="PE03082_"/>
          <p:cNvPicPr/>
          <p:nvPr/>
        </p:nvPicPr>
        <p:blipFill>
          <a:blip r:embed="rId1"/>
          <a:stretch/>
        </p:blipFill>
        <p:spPr>
          <a:xfrm>
            <a:off x="376200" y="5715000"/>
            <a:ext cx="843120" cy="380880"/>
          </a:xfrm>
          <a:prstGeom prst="rect">
            <a:avLst/>
          </a:prstGeom>
          <a:ln w="0">
            <a:noFill/>
          </a:ln>
        </p:spPr>
      </p:pic>
      <p:sp>
        <p:nvSpPr>
          <p:cNvPr id="352" name="Rectangle 7"/>
          <p:cNvSpPr/>
          <p:nvPr/>
        </p:nvSpPr>
        <p:spPr>
          <a:xfrm>
            <a:off x="7010280" y="3962520"/>
            <a:ext cx="381240" cy="228600"/>
          </a:xfrm>
          <a:prstGeom prst="rect">
            <a:avLst/>
          </a:prstGeom>
          <a:solidFill>
            <a:srgbClr val="ff00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3" name="Group 8"/>
          <p:cNvGrpSpPr/>
          <p:nvPr/>
        </p:nvGrpSpPr>
        <p:grpSpPr>
          <a:xfrm>
            <a:off x="7391520" y="3657600"/>
            <a:ext cx="1143000" cy="459720"/>
            <a:chOff x="7391520" y="3657600"/>
            <a:chExt cx="1143000" cy="459720"/>
          </a:xfrm>
        </p:grpSpPr>
        <p:sp>
          <p:nvSpPr>
            <p:cNvPr id="354" name="Line 9"/>
            <p:cNvSpPr/>
            <p:nvPr/>
          </p:nvSpPr>
          <p:spPr>
            <a:xfrm>
              <a:off x="7391520" y="4086360"/>
              <a:ext cx="7617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Text Box 10"/>
            <p:cNvSpPr/>
            <p:nvPr/>
          </p:nvSpPr>
          <p:spPr>
            <a:xfrm>
              <a:off x="7696080" y="365760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han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56" name="Group 11"/>
          <p:cNvGrpSpPr/>
          <p:nvPr/>
        </p:nvGrpSpPr>
        <p:grpSpPr>
          <a:xfrm>
            <a:off x="6553080" y="4157640"/>
            <a:ext cx="1219320" cy="1179000"/>
            <a:chOff x="6553080" y="4157640"/>
            <a:chExt cx="1219320" cy="1179000"/>
          </a:xfrm>
        </p:grpSpPr>
        <p:sp>
          <p:nvSpPr>
            <p:cNvPr id="357" name="Line 12"/>
            <p:cNvSpPr/>
            <p:nvPr/>
          </p:nvSpPr>
          <p:spPr>
            <a:xfrm>
              <a:off x="7191360" y="4157640"/>
              <a:ext cx="0" cy="7621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Text Box 13"/>
            <p:cNvSpPr/>
            <p:nvPr/>
          </p:nvSpPr>
          <p:spPr>
            <a:xfrm>
              <a:off x="6553080" y="487692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Gravit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59" name="Group 14"/>
          <p:cNvGrpSpPr/>
          <p:nvPr/>
        </p:nvGrpSpPr>
        <p:grpSpPr>
          <a:xfrm>
            <a:off x="6934320" y="2819520"/>
            <a:ext cx="1218960" cy="1142640"/>
            <a:chOff x="6934320" y="2819520"/>
            <a:chExt cx="1218960" cy="1142640"/>
          </a:xfrm>
        </p:grpSpPr>
        <p:sp>
          <p:nvSpPr>
            <p:cNvPr id="360" name="Line 15"/>
            <p:cNvSpPr/>
            <p:nvPr/>
          </p:nvSpPr>
          <p:spPr>
            <a:xfrm flipV="1">
              <a:off x="7191360" y="3200040"/>
              <a:ext cx="0" cy="7621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Text Box 16"/>
            <p:cNvSpPr/>
            <p:nvPr/>
          </p:nvSpPr>
          <p:spPr>
            <a:xfrm>
              <a:off x="6934320" y="281952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Normal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62" name="Group 17"/>
          <p:cNvGrpSpPr/>
          <p:nvPr/>
        </p:nvGrpSpPr>
        <p:grpSpPr>
          <a:xfrm>
            <a:off x="5715000" y="3657600"/>
            <a:ext cx="1295280" cy="459720"/>
            <a:chOff x="5715000" y="3657600"/>
            <a:chExt cx="1295280" cy="459720"/>
          </a:xfrm>
        </p:grpSpPr>
        <p:sp>
          <p:nvSpPr>
            <p:cNvPr id="363" name="Line 18"/>
            <p:cNvSpPr/>
            <p:nvPr/>
          </p:nvSpPr>
          <p:spPr>
            <a:xfrm flipH="1">
              <a:off x="6248520" y="4081320"/>
              <a:ext cx="7617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Text Box 19"/>
            <p:cNvSpPr/>
            <p:nvPr/>
          </p:nvSpPr>
          <p:spPr>
            <a:xfrm>
              <a:off x="5715000" y="365760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fric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65" name="Group 20"/>
          <p:cNvGrpSpPr/>
          <p:nvPr/>
        </p:nvGrpSpPr>
        <p:grpSpPr>
          <a:xfrm>
            <a:off x="8001000" y="5500800"/>
            <a:ext cx="990720" cy="978120"/>
            <a:chOff x="8001000" y="5500800"/>
            <a:chExt cx="990720" cy="978120"/>
          </a:xfrm>
        </p:grpSpPr>
        <p:sp>
          <p:nvSpPr>
            <p:cNvPr id="366" name="Line 21"/>
            <p:cNvSpPr/>
            <p:nvPr/>
          </p:nvSpPr>
          <p:spPr>
            <a:xfrm flipV="1">
              <a:off x="8001000" y="5729040"/>
              <a:ext cx="0" cy="685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Line 22"/>
            <p:cNvSpPr/>
            <p:nvPr/>
          </p:nvSpPr>
          <p:spPr>
            <a:xfrm>
              <a:off x="8001000" y="6415200"/>
              <a:ext cx="68580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Text Box 23"/>
            <p:cNvSpPr/>
            <p:nvPr/>
          </p:nvSpPr>
          <p:spPr>
            <a:xfrm>
              <a:off x="8001000" y="5500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Times New Roman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Text Box 24"/>
            <p:cNvSpPr/>
            <p:nvPr/>
          </p:nvSpPr>
          <p:spPr>
            <a:xfrm>
              <a:off x="8686800" y="61106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370" name="Object 26"/>
          <p:cNvGraphicFramePr/>
          <p:nvPr/>
        </p:nvGraphicFramePr>
        <p:xfrm>
          <a:off x="8381880" y="0"/>
          <a:ext cx="762120" cy="716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71" name="Object 2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1880" y="0"/>
                    <a:ext cx="762120" cy="7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d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3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3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0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76212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Book Pushed Across Table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6854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lculate force of hand to keep the book sliding at a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onstant spee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if the mass of the book is 1 Kg,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 .84 and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.75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Rectangle 4"/>
          <p:cNvSpPr/>
          <p:nvPr/>
        </p:nvSpPr>
        <p:spPr>
          <a:xfrm>
            <a:off x="457200" y="6172200"/>
            <a:ext cx="3962520" cy="609480"/>
          </a:xfrm>
          <a:prstGeom prst="rect">
            <a:avLst/>
          </a:prstGeom>
          <a:solidFill>
            <a:srgbClr val="21615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Rectangle 5"/>
          <p:cNvSpPr/>
          <p:nvPr/>
        </p:nvSpPr>
        <p:spPr>
          <a:xfrm>
            <a:off x="1219320" y="5791320"/>
            <a:ext cx="1447560" cy="3808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ysi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76" name="Picture 6" descr="PE03082_"/>
          <p:cNvPicPr/>
          <p:nvPr/>
        </p:nvPicPr>
        <p:blipFill>
          <a:blip r:embed="rId1"/>
          <a:stretch/>
        </p:blipFill>
        <p:spPr>
          <a:xfrm>
            <a:off x="376200" y="5791320"/>
            <a:ext cx="843120" cy="380880"/>
          </a:xfrm>
          <a:prstGeom prst="rect">
            <a:avLst/>
          </a:prstGeom>
          <a:ln w="0">
            <a:noFill/>
          </a:ln>
        </p:spPr>
      </p:pic>
      <p:sp>
        <p:nvSpPr>
          <p:cNvPr id="377" name="Rectangle 7"/>
          <p:cNvSpPr/>
          <p:nvPr/>
        </p:nvSpPr>
        <p:spPr>
          <a:xfrm>
            <a:off x="7010280" y="5257800"/>
            <a:ext cx="381240" cy="228600"/>
          </a:xfrm>
          <a:prstGeom prst="rect">
            <a:avLst/>
          </a:prstGeom>
          <a:solidFill>
            <a:srgbClr val="ff00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Line 8"/>
          <p:cNvSpPr/>
          <p:nvPr/>
        </p:nvSpPr>
        <p:spPr>
          <a:xfrm>
            <a:off x="7391520" y="5381640"/>
            <a:ext cx="7617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Line 9"/>
          <p:cNvSpPr/>
          <p:nvPr/>
        </p:nvSpPr>
        <p:spPr>
          <a:xfrm>
            <a:off x="7191360" y="5452920"/>
            <a:ext cx="0" cy="7621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Line 10"/>
          <p:cNvSpPr/>
          <p:nvPr/>
        </p:nvSpPr>
        <p:spPr>
          <a:xfrm flipV="1">
            <a:off x="7191360" y="4495320"/>
            <a:ext cx="0" cy="7621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Line 11"/>
          <p:cNvSpPr/>
          <p:nvPr/>
        </p:nvSpPr>
        <p:spPr>
          <a:xfrm flipH="1">
            <a:off x="6248520" y="5376960"/>
            <a:ext cx="7617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Text Box 12"/>
          <p:cNvSpPr/>
          <p:nvPr/>
        </p:nvSpPr>
        <p:spPr>
          <a:xfrm>
            <a:off x="7696080" y="49528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Text Box 13"/>
          <p:cNvSpPr/>
          <p:nvPr/>
        </p:nvSpPr>
        <p:spPr>
          <a:xfrm>
            <a:off x="6553080" y="61722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rav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Text Box 14"/>
          <p:cNvSpPr/>
          <p:nvPr/>
        </p:nvSpPr>
        <p:spPr>
          <a:xfrm>
            <a:off x="6934320" y="411480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rm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Text Box 15"/>
          <p:cNvSpPr/>
          <p:nvPr/>
        </p:nvSpPr>
        <p:spPr>
          <a:xfrm>
            <a:off x="5715000" y="49528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ri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86" name="Group 16"/>
          <p:cNvGrpSpPr/>
          <p:nvPr/>
        </p:nvGrpSpPr>
        <p:grpSpPr>
          <a:xfrm>
            <a:off x="8001000" y="5424480"/>
            <a:ext cx="990720" cy="978120"/>
            <a:chOff x="8001000" y="5424480"/>
            <a:chExt cx="990720" cy="978120"/>
          </a:xfrm>
        </p:grpSpPr>
        <p:sp>
          <p:nvSpPr>
            <p:cNvPr id="387" name="Line 17"/>
            <p:cNvSpPr/>
            <p:nvPr/>
          </p:nvSpPr>
          <p:spPr>
            <a:xfrm flipV="1">
              <a:off x="8001000" y="5652720"/>
              <a:ext cx="0" cy="685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Line 18"/>
            <p:cNvSpPr/>
            <p:nvPr/>
          </p:nvSpPr>
          <p:spPr>
            <a:xfrm>
              <a:off x="8001000" y="6338880"/>
              <a:ext cx="68580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Text Box 19"/>
            <p:cNvSpPr/>
            <p:nvPr/>
          </p:nvSpPr>
          <p:spPr>
            <a:xfrm>
              <a:off x="8001000" y="542448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Times New Roman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Text Box 20"/>
            <p:cNvSpPr/>
            <p:nvPr/>
          </p:nvSpPr>
          <p:spPr>
            <a:xfrm>
              <a:off x="8686800" y="60343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1" name="Text Box 21"/>
          <p:cNvSpPr/>
          <p:nvPr/>
        </p:nvSpPr>
        <p:spPr>
          <a:xfrm>
            <a:off x="533520" y="1828800"/>
            <a:ext cx="4343400" cy="1977480"/>
          </a:xfrm>
          <a:prstGeom prst="rect">
            <a:avLst/>
          </a:prstGeom>
          <a:noFill/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x-direction: </a:t>
            </a:r>
            <a:r>
              <a:rPr b="0" lang="en-US" sz="2800" spc="-1" strike="noStrike">
                <a:solidFill>
                  <a:srgbClr val="00ff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F=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han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F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frictio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= 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han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=F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fri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han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k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Norm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Text Box 22"/>
          <p:cNvSpPr/>
          <p:nvPr/>
        </p:nvSpPr>
        <p:spPr>
          <a:xfrm>
            <a:off x="533520" y="3733920"/>
            <a:ext cx="4343400" cy="2046600"/>
          </a:xfrm>
          <a:prstGeom prst="rect">
            <a:avLst/>
          </a:prstGeom>
          <a:noFill/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y-direction:  </a:t>
            </a:r>
            <a:r>
              <a:rPr b="0" lang="en-US" sz="2800" spc="-1" strike="noStrike">
                <a:solidFill>
                  <a:srgbClr val="00ff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F=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Normal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F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Gravit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= 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Normal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= F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Grav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Normal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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x 9.8=9.8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Text Box 23"/>
          <p:cNvSpPr/>
          <p:nvPr/>
        </p:nvSpPr>
        <p:spPr>
          <a:xfrm>
            <a:off x="5181480" y="1981080"/>
            <a:ext cx="3962520" cy="2046600"/>
          </a:xfrm>
          <a:prstGeom prst="rect">
            <a:avLst/>
          </a:prstGeom>
          <a:noFill/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ombin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han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Normal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han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=0.75 x 9.8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han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</a:t>
            </a:r>
            <a:r>
              <a:rPr b="0" lang="en-US" sz="2800" spc="-1" strike="noStrike">
                <a:solidFill>
                  <a:srgbClr val="fafd00"/>
                </a:solidFill>
                <a:latin typeface="Symbol"/>
                <a:ea typeface="Symbol"/>
              </a:rPr>
              <a:t>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ewt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94" name="Object 25"/>
          <p:cNvGraphicFramePr/>
          <p:nvPr/>
        </p:nvGraphicFramePr>
        <p:xfrm>
          <a:off x="8381880" y="0"/>
          <a:ext cx="762120" cy="716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95" name="Object 2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1880" y="0"/>
                    <a:ext cx="762120" cy="7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6" name="Text Box 26"/>
          <p:cNvSpPr/>
          <p:nvPr/>
        </p:nvSpPr>
        <p:spPr>
          <a:xfrm>
            <a:off x="3276720" y="1325520"/>
            <a:ext cx="510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Constant Speed =&gt; </a:t>
            </a:r>
            <a:r>
              <a:rPr b="0" lang="en-US" sz="3200" spc="-1" strike="noStrike">
                <a:solidFill>
                  <a:srgbClr val="00ff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F=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ontact Force: Springs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0010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ce exerted by a spring is directly proportional to its displacement (stretched or compressed).    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00ff00"/>
                </a:solidFill>
                <a:latin typeface="Times New Roman"/>
              </a:rPr>
              <a:t>spring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= -k x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Example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n a 5 kg mass is suspended from a spring, the spring stretches 8 cm. If it is hung by two identical springs, they will stret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A) 4 cm</a:t>
            </a:r>
            <a:r>
              <a:rPr b="0" lang="en-US" sz="28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B) 8 cm</a:t>
            </a:r>
            <a:r>
              <a:rPr b="0" lang="en-US" sz="28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C) 16 c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99" name="Picture 4" descr="j0244051"/>
          <p:cNvPicPr/>
          <p:nvPr/>
        </p:nvPicPr>
        <p:blipFill>
          <a:blip r:embed="rId1"/>
          <a:stretch/>
        </p:blipFill>
        <p:spPr>
          <a:xfrm>
            <a:off x="76320" y="0"/>
            <a:ext cx="1401480" cy="1523880"/>
          </a:xfrm>
          <a:prstGeom prst="rect">
            <a:avLst/>
          </a:prstGeom>
          <a:ln w="0">
            <a:noFill/>
          </a:ln>
        </p:spPr>
      </p:pic>
      <p:sp>
        <p:nvSpPr>
          <p:cNvPr id="400" name="Rectangle 5"/>
          <p:cNvSpPr/>
          <p:nvPr/>
        </p:nvSpPr>
        <p:spPr>
          <a:xfrm>
            <a:off x="7620120" y="4876920"/>
            <a:ext cx="228600" cy="22860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Text Box 6"/>
          <p:cNvSpPr/>
          <p:nvPr/>
        </p:nvSpPr>
        <p:spPr>
          <a:xfrm>
            <a:off x="380880" y="4572000"/>
            <a:ext cx="2590920" cy="2279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ff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+F</a:t>
            </a:r>
            <a:r>
              <a:rPr b="0" lang="en-US" sz="2400" spc="-1" strike="noStrike" baseline="-25000">
                <a:solidFill>
                  <a:srgbClr val="00ff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 - F</a:t>
            </a:r>
            <a:r>
              <a:rPr b="0" lang="en-US" sz="2400" spc="-1" strike="noStrike" baseline="-25000">
                <a:solidFill>
                  <a:srgbClr val="00ff00"/>
                </a:solidFill>
                <a:latin typeface="Times New Roman"/>
              </a:rPr>
              <a:t>gravity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 =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ff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+F</a:t>
            </a:r>
            <a:r>
              <a:rPr b="0" lang="en-US" sz="2400" spc="-1" strike="noStrike" baseline="-25000">
                <a:solidFill>
                  <a:srgbClr val="00ff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  = F</a:t>
            </a:r>
            <a:r>
              <a:rPr b="0" lang="en-US" sz="2400" spc="-1" strike="noStrike" baseline="-25000">
                <a:solidFill>
                  <a:srgbClr val="00ff00"/>
                </a:solidFill>
                <a:latin typeface="Times New Roman"/>
              </a:rPr>
              <a:t>grav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ff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ff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 +  k</a:t>
            </a:r>
            <a:r>
              <a:rPr b="0" lang="en-US" sz="2400" spc="-1" strike="noStrike" baseline="-25000">
                <a:solidFill>
                  <a:srgbClr val="00ff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ff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= m 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2 k x = m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2" name="Group 7"/>
          <p:cNvGrpSpPr/>
          <p:nvPr/>
        </p:nvGrpSpPr>
        <p:grpSpPr>
          <a:xfrm>
            <a:off x="8001000" y="5424480"/>
            <a:ext cx="990720" cy="978120"/>
            <a:chOff x="8001000" y="5424480"/>
            <a:chExt cx="990720" cy="978120"/>
          </a:xfrm>
        </p:grpSpPr>
        <p:sp>
          <p:nvSpPr>
            <p:cNvPr id="403" name="Line 8"/>
            <p:cNvSpPr/>
            <p:nvPr/>
          </p:nvSpPr>
          <p:spPr>
            <a:xfrm flipV="1">
              <a:off x="8001000" y="5652720"/>
              <a:ext cx="0" cy="685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Line 9"/>
            <p:cNvSpPr/>
            <p:nvPr/>
          </p:nvSpPr>
          <p:spPr>
            <a:xfrm>
              <a:off x="8001000" y="6338880"/>
              <a:ext cx="68580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Text Box 10"/>
            <p:cNvSpPr/>
            <p:nvPr/>
          </p:nvSpPr>
          <p:spPr>
            <a:xfrm>
              <a:off x="8001000" y="542448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Times New Roman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Text Box 11"/>
            <p:cNvSpPr/>
            <p:nvPr/>
          </p:nvSpPr>
          <p:spPr>
            <a:xfrm>
              <a:off x="8686800" y="60343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07" name="Text Box 12"/>
          <p:cNvSpPr/>
          <p:nvPr/>
        </p:nvSpPr>
        <p:spPr>
          <a:xfrm>
            <a:off x="3200400" y="4572000"/>
            <a:ext cx="4267080" cy="2128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x  = m g / (2k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= (½ m) g / 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 know  mg/k = 8 cm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: ½ mg /k  = 4 cm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8" name="Group 14"/>
          <p:cNvGrpSpPr/>
          <p:nvPr/>
        </p:nvGrpSpPr>
        <p:grpSpPr>
          <a:xfrm>
            <a:off x="7772400" y="3962520"/>
            <a:ext cx="1295280" cy="914040"/>
            <a:chOff x="7772400" y="3962520"/>
            <a:chExt cx="1295280" cy="914040"/>
          </a:xfrm>
        </p:grpSpPr>
        <p:sp>
          <p:nvSpPr>
            <p:cNvPr id="409" name="Line 15"/>
            <p:cNvSpPr/>
            <p:nvPr/>
          </p:nvSpPr>
          <p:spPr>
            <a:xfrm flipV="1">
              <a:off x="7807320" y="4190760"/>
              <a:ext cx="0" cy="685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Text Box 16"/>
            <p:cNvSpPr/>
            <p:nvPr/>
          </p:nvSpPr>
          <p:spPr>
            <a:xfrm>
              <a:off x="7772400" y="3962520"/>
              <a:ext cx="12952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F</a:t>
              </a:r>
              <a:r>
                <a:rPr b="0" lang="en-US" sz="32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1" name="Group 17"/>
          <p:cNvGrpSpPr/>
          <p:nvPr/>
        </p:nvGrpSpPr>
        <p:grpSpPr>
          <a:xfrm>
            <a:off x="7724880" y="5029200"/>
            <a:ext cx="1307880" cy="761400"/>
            <a:chOff x="7724880" y="5029200"/>
            <a:chExt cx="1307880" cy="761400"/>
          </a:xfrm>
        </p:grpSpPr>
        <p:sp>
          <p:nvSpPr>
            <p:cNvPr id="412" name="Line 18"/>
            <p:cNvSpPr/>
            <p:nvPr/>
          </p:nvSpPr>
          <p:spPr>
            <a:xfrm>
              <a:off x="7724880" y="5104800"/>
              <a:ext cx="0" cy="685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Text Box 19"/>
            <p:cNvSpPr/>
            <p:nvPr/>
          </p:nvSpPr>
          <p:spPr>
            <a:xfrm>
              <a:off x="7737480" y="5029200"/>
              <a:ext cx="12952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F</a:t>
              </a:r>
              <a:r>
                <a:rPr b="0" lang="en-US" sz="3200" spc="-1" strike="noStrike" baseline="-25000">
                  <a:solidFill>
                    <a:srgbClr val="ffffff"/>
                  </a:solidFill>
                  <a:latin typeface="Times New Roman"/>
                </a:rPr>
                <a:t>gravity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4" name="Group 23"/>
          <p:cNvGrpSpPr/>
          <p:nvPr/>
        </p:nvGrpSpPr>
        <p:grpSpPr>
          <a:xfrm>
            <a:off x="7162920" y="3962520"/>
            <a:ext cx="1295280" cy="914040"/>
            <a:chOff x="7162920" y="3962520"/>
            <a:chExt cx="1295280" cy="914040"/>
          </a:xfrm>
        </p:grpSpPr>
        <p:sp>
          <p:nvSpPr>
            <p:cNvPr id="415" name="Line 21"/>
            <p:cNvSpPr/>
            <p:nvPr/>
          </p:nvSpPr>
          <p:spPr>
            <a:xfrm flipV="1">
              <a:off x="7655040" y="4190760"/>
              <a:ext cx="0" cy="685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Text Box 22"/>
            <p:cNvSpPr/>
            <p:nvPr/>
          </p:nvSpPr>
          <p:spPr>
            <a:xfrm>
              <a:off x="7162920" y="3962520"/>
              <a:ext cx="12952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F</a:t>
              </a:r>
              <a:r>
                <a:rPr b="0" lang="en-US" sz="3200" spc="-1" strike="noStrike" baseline="-25000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d"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500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500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500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500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500"/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9" dur="500"/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500"/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ontact Force: Tension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nsion in an Ideal String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gnitude of tension is equal everywher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rection is parallel to string (only pull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Times New Roman"/>
              </a:rPr>
              <a:t>Example 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Determine force applied to string to suspend 45 kg mass hanging over pulley:  Answer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FB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F = 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19" name="Object 4"/>
          <p:cNvGraphicFramePr/>
          <p:nvPr/>
        </p:nvGraphicFramePr>
        <p:xfrm>
          <a:off x="4343400" y="3886200"/>
          <a:ext cx="1641600" cy="259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3400" y="3886200"/>
                    <a:ext cx="1641600" cy="25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1" name="Text Box 19"/>
          <p:cNvSpPr/>
          <p:nvPr/>
        </p:nvSpPr>
        <p:spPr>
          <a:xfrm>
            <a:off x="1219320" y="510552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F = m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Rectangle 20"/>
          <p:cNvSpPr/>
          <p:nvPr/>
        </p:nvSpPr>
        <p:spPr>
          <a:xfrm>
            <a:off x="1597680" y="5646600"/>
            <a:ext cx="267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= 440 Newt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" dur="500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5" dur="500"/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500"/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500"/>
                                        <p:tgtEl>
                                          <p:spTgt spid="4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7" dur="500"/>
                                        <p:tgtEl>
                                          <p:spTgt spid="4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1" dur="500"/>
                                        <p:tgtEl>
                                          <p:spTgt spid="4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30T17:27:08Z</dcterms:created>
  <dc:creator>Tim Stelzer</dc:creator>
  <dc:description/>
  <dc:language>en-US</dc:language>
  <cp:lastModifiedBy>Halfpap, Bradford Lee</cp:lastModifiedBy>
  <dcterms:modified xsi:type="dcterms:W3CDTF">2012-08-30T17:00:05Z</dcterms:modified>
  <cp:revision>349</cp:revision>
  <dc:subject/>
  <dc:title>Outline </dc:title>
</cp:coreProperties>
</file>