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gif" ContentType="image/gif"/>
  <Override PartName="/ppt/media/image11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media/image10.wmf" ContentType="image/x-wmf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7EC5-CD06-43B0-9282-0CF51998A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48DE-6962-4596-965B-E24EDE4FDF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of first pre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54F5-BEFB-4039-BDB8-17E23BA22B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A8E5-849E-424D-9102-28B3B258CF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1C0-C5BC-4525-B980-82BA316D96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do all demos here.  Table cloth, Fred and cart, Equal and Opposite for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55DA-C858-4467-921F-42E922E506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5117-E1A9-4BB8-9633-D883D7DA2E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B2EF-8035-497C-A045-783813662D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D2DE-87F6-4F12-A909-EDCE621FEA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46C4-E1D7-4BEE-88AD-246C4500C5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55E8-691C-46E2-A438-9023945CA9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4CF1-4E3F-4FF0-BBA5-DFC89D0C58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B8F3-333A-4AD1-AD28-3BB92C19CC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474F-206B-4FE6-B64E-541EA12611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doing well is talking about the course. At bars? Show examples of the Lab/Text and Discussion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CA66-2697-4763-8D04-B813D1A753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0DFA-4061-4F3C-9EBF-6FEEC21AA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1085-A4B2-47B1-A45A-86CBE16688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that lecture can’t do everything. Key is particip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BA48-0A36-4816-B87E-5C563DBCF1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874D-2A1F-433D-9B85-7FA8D50B2B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43D8722E-4138-471F-965A-3A3123EF3BD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45947CA-2B4D-46EB-9326-133BE502410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305B355-9254-43AF-B8FD-ABFA90319EE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12654166-7ACD-4B02-AF0E-3D39AA6A7A6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2EED2DA-1A6D-4359-B17C-5393680CBA1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F458F220-8EA6-4788-A9C9-AED34666B81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FA1D1564-2638-4AED-B6CB-CCFC1A14072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DC18A61F-59C5-4BE3-BAE9-76B83CE8872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CCD94BCF-B9CF-4626-BB54-88707216B53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A1389D88-0FF5-4D6A-B4B4-39660DD6751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324957FC-84F2-4A3C-A6E7-4B1B9748C5E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69340C3B-C849-485A-BD9F-E105159E18E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E02BFC46-6CA6-4CF8-91E0-0B666D13CAA4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D5B962DA-180A-48DF-9DBA-24BDE9B030F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C33B81BA-FDD6-4A03-9F67-835FB0EEAB7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AAA2C44-D6A1-4B82-AA5D-5590FF3125A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01, Pg </a:t>
            </a:r>
            <a:fld id="{3160A038-BE7D-4A4C-B46A-F293EF1D5BA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BAA8DBA-203B-4F51-8754-5FE7AA6D02B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halfpap@illinois.edu" TargetMode="External"/><Relationship Id="rId2" Type="http://schemas.openxmlformats.org/officeDocument/2006/relationships/hyperlink" Target="http://online.physics.uiuc.edu/courses/phys101/fall03/index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elcome to Physics 101!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Lecture 01: Introduction to Forc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0880" y="56386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80880" y="19785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hoping the class is explained well and is graded easil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-4232520" y="361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990720" y="2666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very excited about taking Physics 101!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304920" y="341244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 look forward to the dem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322200" y="396252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rvous”    “Anxious”   “Apprehensiv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52600" y="5257800"/>
            <a:ext cx="72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excited to learn about something other than biolog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82320" y="457200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orried about the ma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iscussion Section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Tom Kuh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: tomorr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 during last 20 minutes of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utes l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ection: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,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5" descr="ukujxqjs[1]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31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Philosoph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s is about predicting the fu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scribe large number of “complicated” observations with a few simple ide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n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ative and Quantitative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5" name="Picture 6" descr="rqgknxeg[1]"/>
          <p:cNvPicPr/>
          <p:nvPr/>
        </p:nvPicPr>
        <p:blipFill>
          <a:blip r:embed="rId1"/>
          <a:stretch/>
        </p:blipFill>
        <p:spPr>
          <a:xfrm>
            <a:off x="7783560" y="30240"/>
            <a:ext cx="1360440" cy="222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ncxnuqui[1]"/>
          <p:cNvPicPr/>
          <p:nvPr/>
        </p:nvPicPr>
        <p:blipFill>
          <a:blip r:embed="rId2"/>
          <a:stretch/>
        </p:blipFill>
        <p:spPr>
          <a:xfrm>
            <a:off x="0" y="0"/>
            <a:ext cx="1444680" cy="16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Newton’s Laws of Mo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sum of all external forces on an object is zero, then its speed and direction will not change.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nonzero net force is applied to an object its motion will change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=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nteraction between two objects, the forces that each exerts on the other are equal in magnitude and opposite in dir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9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exerted by Agents!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int Them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3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of Brad, H.O.B. 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Picture 9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0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Group 19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806" name="Line 20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Text Box 22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23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10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Laws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ontact: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:  Friction, Normal, H.O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irection is in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 opposes motion,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f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  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o Do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starts tomorro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s start nex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lecture preflight before 6:00 am Wednes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ave a GREAT WE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101 covers…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/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/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ing M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Brad Halfp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bhalfpap@illinois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Put Phys 101 in subje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Hou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- Room 3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esday 11:00-12:00 &amp; 1:00 – 2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essions – Room 2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 9:00 – 10:00 &amp; 2:00 – 4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4">
            <a:hlinkClick r:id="rId2"/>
          </p:cNvPr>
          <p:cNvSpPr/>
          <p:nvPr/>
        </p:nvSpPr>
        <p:spPr>
          <a:xfrm>
            <a:off x="520920" y="617220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urse Format</a:t>
            </a:r>
            <a:br>
              <a:rPr sz="44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upward) Spiral Learn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Prefligh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lic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19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izzes; drop lowes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 Exams (3 x 100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7162920" y="5638680"/>
            <a:ext cx="99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17"/>
          <p:cNvSpPr/>
          <p:nvPr/>
        </p:nvSpPr>
        <p:spPr>
          <a:xfrm>
            <a:off x="7162920" y="5791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ding Sca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0-1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0-9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0-9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80-89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0-8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5-85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4184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10-8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0-8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0-7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0-7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0-7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0-68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87440" y="569772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y goal is to receive an A…”</a:t>
            </a:r>
            <a:r>
              <a:rPr b="0" lang="en-US" sz="2000" spc="-1" strike="noStrike">
                <a:solidFill>
                  <a:srgbClr val="00ba8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ading &amp; Lecture Prefligh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ed to complete PreLecture for Prefl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swer preflights 25/1000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6:00 am day of lectu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points for honest attempt at preflight (lo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nonsense – and I read these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veryone gets 1 point for to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7" descr="e_hy0znz[1]"/>
          <p:cNvPicPr/>
          <p:nvPr/>
        </p:nvPicPr>
        <p:blipFill>
          <a:blip r:embed="rId1"/>
          <a:stretch/>
        </p:blipFill>
        <p:spPr>
          <a:xfrm flipH="1">
            <a:off x="-36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ectur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on is ke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 to lecture prepar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point for each lecture using iclic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ailable at bookstore---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gister using link on our web pa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multiple clickers is an academic integrity viol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verything you need for exa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Concepts, Connections, 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 Text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culations       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omework +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nds-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L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cture notes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key pieces for you to fill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6400800" y="548640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548640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Picture 6" descr="gp2jglzz[1]"/>
          <p:cNvPicPr/>
          <p:nvPr/>
        </p:nvPicPr>
        <p:blipFill>
          <a:blip r:embed="rId3"/>
          <a:stretch/>
        </p:blipFill>
        <p:spPr>
          <a:xfrm flipH="1">
            <a:off x="7556400" y="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4fsif4ve[1]"/>
          <p:cNvPicPr/>
          <p:nvPr/>
        </p:nvPicPr>
        <p:blipFill>
          <a:blip r:embed="rId4"/>
          <a:stretch/>
        </p:blipFill>
        <p:spPr>
          <a:xfrm>
            <a:off x="0" y="0"/>
            <a:ext cx="9525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Object 9"/>
          <p:cNvGraphicFramePr/>
          <p:nvPr/>
        </p:nvGraphicFramePr>
        <p:xfrm>
          <a:off x="7613640" y="1905120"/>
          <a:ext cx="92088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13640" y="1905120"/>
                    <a:ext cx="920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0"/>
          <p:cNvSpPr/>
          <p:nvPr/>
        </p:nvSpPr>
        <p:spPr>
          <a:xfrm>
            <a:off x="388620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’m looking forward to a fun …   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semest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Homework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eb based, immediat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% if done before 6:00 am dea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credit on unfinished parts until following 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% after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 keep 5 significant fig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ne is due Tues Sept. 4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Picture 5" descr="dingers"/>
          <p:cNvPicPr/>
          <p:nvPr/>
        </p:nvPicPr>
        <p:blipFill>
          <a:blip r:embed="rId1"/>
          <a:stretch/>
        </p:blipFill>
        <p:spPr>
          <a:xfrm>
            <a:off x="0" y="0"/>
            <a:ext cx="1905120" cy="174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argh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4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ab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Paul Selv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Lab is Wednesday Sept. 5!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dropped” labs….. Don’t miss o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Picture 5" descr="jgl12dbb[1]"/>
          <p:cNvPicPr/>
          <p:nvPr/>
        </p:nvPicPr>
        <p:blipFill>
          <a:blip r:embed="rId1"/>
          <a:stretch/>
        </p:blipFill>
        <p:spPr>
          <a:xfrm>
            <a:off x="0" y="0"/>
            <a:ext cx="1449360" cy="2133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1vhjxqfz[1]"/>
          <p:cNvPicPr/>
          <p:nvPr/>
        </p:nvPicPr>
        <p:blipFill>
          <a:blip r:embed="rId2"/>
          <a:stretch/>
        </p:blipFill>
        <p:spPr>
          <a:xfrm>
            <a:off x="7067520" y="0"/>
            <a:ext cx="2076480" cy="21337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1687680" y="14547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looking forward to the labs because I learn better with hands-on activities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27T15:46:51Z</dcterms:modified>
  <cp:revision>364</cp:revision>
  <dc:subject/>
  <dc:title>Outline</dc:title>
</cp:coreProperties>
</file>