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media/image10.wmf" ContentType="image/x-wmf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78B6-6B41-46BE-A9FA-F0DD9474F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1C4-4A1B-411E-A557-1D5853105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of first pre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995A-2D2F-464C-8675-A9880E10B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A89B-20A5-4958-8C38-74F2E8574E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2464-0ED0-463E-8E4E-223FE0505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do all demos here.  Table cloth, Fred and cart, Equal and Opposite fo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C25-4367-4F75-9AE1-199EA87E65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01F1-C98A-48AB-988B-F03DFC7A48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915B-9F04-4832-ADF0-2F471097FE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BA38-DBC8-4949-90F8-323457EF21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AF2-ACFE-489D-8491-21BFF83857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716A-5200-461E-AF29-BF776C5DC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E7CD-1FBE-4F9C-8851-D01ACE2930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97B2-BE86-45E9-9936-97C074C8BD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42B-CE85-4BCE-9864-C23E7726C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doing well is talking about the course. At bars? Show examples of the Lab/Text and Discussion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E5D-26BB-4ADA-BC15-7A2454D3B0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A34-5542-416A-B9AD-D34AA0327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97B3-6AB0-4E37-BEDA-A516718911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that lecture can’t do everything. Key is particip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60CA-3896-46E7-BA1C-575B719486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13E-BE00-41CD-9E9D-E2AD1FC4D5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9081FE0-0013-4B2D-A220-5CE7747E29E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F1C2389-9399-4CE1-BA61-E19397D902E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52515469-A25E-4191-A1A8-D7C61B85391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69682031-2902-44DF-B7AA-F7215D169DD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649A59F-859B-40F8-A761-D5826BB853A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1369106E-4DF8-4CF8-9209-2B27261F34A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B5A44103-F89B-46AA-A1A3-2FACAC3A2F6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29C1088-28D2-4B9E-90A6-0103068DFFF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04079D67-B4B4-4ED6-8EF2-69CCD1F3F0F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6787566B-028F-4CC4-8C69-F7EACF668CA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D2F544F8-6FF4-4FEF-A8F4-6EBAFCC56B1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F74CCFA-B014-41D0-9DD6-E9729098A5C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18529B2-D406-4CA9-B816-9B0DC23C693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BE298BA6-F354-4C6A-80C8-2EC7E51CD73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D8BA5C8-FD46-4D60-AB4F-33F4757B607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7A2B988-CF87-4BDE-8692-DE2BB08F6DD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01, Pg </a:t>
            </a:r>
            <a:fld id="{0F6F6FF3-3FD6-4AA7-A7C7-C40608B3455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6470990-C8C1-49B1-8611-CBCDE3D049A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halfpap@illinois.edu" TargetMode="External"/><Relationship Id="rId2" Type="http://schemas.openxmlformats.org/officeDocument/2006/relationships/hyperlink" Target="http://online.physics.uiuc.edu/courses/phys101/fall03/index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elcome to Physics 101!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ecture 01: Introduction to Forc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0880" y="56386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80880" y="19785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hoping the class is explained well and is graded easil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-4232520" y="361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990720" y="2666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very excited about taking Physics 101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304920" y="341244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 look forward to the dem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322200" y="396252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rvous”    “Anxious”   “Apprehensiv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52600" y="525780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excited to learn about something other than biolog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82320" y="457200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orried about the ma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iscussion Section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Tom Kuh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: tomorr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during last 20 minutes of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utes l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ection: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,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5" descr="ukujxqjs[1]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Philosoph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 is about predicting the fu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scribe large number of “complicated” observations with a few simple ide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n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and Quantitative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" name="Picture 6" descr="rqgknxeg[1]"/>
          <p:cNvPicPr/>
          <p:nvPr/>
        </p:nvPicPr>
        <p:blipFill>
          <a:blip r:embed="rId1"/>
          <a:stretch/>
        </p:blipFill>
        <p:spPr>
          <a:xfrm>
            <a:off x="7783560" y="30240"/>
            <a:ext cx="1360440" cy="222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ncxnuqui[1]"/>
          <p:cNvPicPr/>
          <p:nvPr/>
        </p:nvPicPr>
        <p:blipFill>
          <a:blip r:embed="rId2"/>
          <a:stretch/>
        </p:blipFill>
        <p:spPr>
          <a:xfrm>
            <a:off x="0" y="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Newton’s Laws of Mo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um of all external forces on an object is zero, then its speed and direction will not change.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nonzero net force is applied to an object its motion will change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=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nteraction between two objects, the forces that each exerts on the other are equal in magnitude and opposite in dir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9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exerted by Agents!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int Them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3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of Brad, H.O.B. 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9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0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Group 19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806" name="Line 20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Text Box 22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23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10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Laws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ontact: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:  Friction, Normal, H.O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irection is in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 opposes motion,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f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  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 Do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starts tomorro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s start nex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lecture preflight before 6:00 am Wednes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ave a GREAT WE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101 covers…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/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/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ing M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Brad Halfp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bhalfpap@illinois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ut Phys 101 in subje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Hou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- Room 3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esday 11:00-12:00 &amp; 1:00 – 2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essions – Room 2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 9:00 – 10:00 &amp; 2:00 – 4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4">
            <a:hlinkClick r:id="rId2"/>
          </p:cNvPr>
          <p:cNvSpPr/>
          <p:nvPr/>
        </p:nvSpPr>
        <p:spPr>
          <a:xfrm>
            <a:off x="520920" y="617220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urse Format</a:t>
            </a:r>
            <a:br>
              <a:rPr sz="44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upward) Spiral Learn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Prefligh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lic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19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izzes; drop lowes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 Exams (3 x 10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7162920" y="56386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17"/>
          <p:cNvSpPr/>
          <p:nvPr/>
        </p:nvSpPr>
        <p:spPr>
          <a:xfrm>
            <a:off x="71629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ding Sca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0-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0-9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0-9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0-8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0-8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5-85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184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0-8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0-8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0-7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0-7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0-7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0-68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87440" y="569772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y goal is to receive an A…”</a:t>
            </a:r>
            <a:r>
              <a:rPr b="0" lang="en-US" sz="2000" spc="-1" strike="noStrike">
                <a:solidFill>
                  <a:srgbClr val="00ba8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ading &amp; Lecture Prefligh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ed to complete PreLecture for Prefl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swer preflights 25/1000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6:00 am day of lectu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points for honest attempt at preflight (lo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nonsense – and I read these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veryone gets 1 point for to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7" descr="e_hy0znz[1]"/>
          <p:cNvPicPr/>
          <p:nvPr/>
        </p:nvPicPr>
        <p:blipFill>
          <a:blip r:embed="rId1"/>
          <a:stretch/>
        </p:blipFill>
        <p:spPr>
          <a:xfrm flipH="1">
            <a:off x="-36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ectur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is k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 to lecture prepar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point for each lecture using iclic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at bookstore---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gister using link on our web pa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multiple clickers is an academic integrity viol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verything you need for exa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ncepts, Connections, 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 Text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tions      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omework +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nds-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L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 notes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key pieces for you to fill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6400800" y="548640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48640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Picture 6" descr="gp2jglzz[1]"/>
          <p:cNvPicPr/>
          <p:nvPr/>
        </p:nvPicPr>
        <p:blipFill>
          <a:blip r:embed="rId3"/>
          <a:stretch/>
        </p:blipFill>
        <p:spPr>
          <a:xfrm flipH="1">
            <a:off x="7556400" y="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4fsif4ve[1]"/>
          <p:cNvPicPr/>
          <p:nvPr/>
        </p:nvPicPr>
        <p:blipFill>
          <a:blip r:embed="rId4"/>
          <a:stretch/>
        </p:blipFill>
        <p:spPr>
          <a:xfrm>
            <a:off x="0" y="0"/>
            <a:ext cx="952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Object 9"/>
          <p:cNvGraphicFramePr/>
          <p:nvPr/>
        </p:nvGraphicFramePr>
        <p:xfrm>
          <a:off x="7613640" y="1905120"/>
          <a:ext cx="920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3640" y="1905120"/>
                    <a:ext cx="920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0"/>
          <p:cNvSpPr/>
          <p:nvPr/>
        </p:nvSpPr>
        <p:spPr>
          <a:xfrm>
            <a:off x="388620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’m looking forward to a fun …   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semest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Homework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eb based, immediat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% if done before 6:00 am dea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credit on unfinished parts until following 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% after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 keep 5 significant fig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ne is due Tues Sept.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5" descr="dingers"/>
          <p:cNvPicPr/>
          <p:nvPr/>
        </p:nvPicPr>
        <p:blipFill>
          <a:blip r:embed="rId1"/>
          <a:stretch/>
        </p:blipFill>
        <p:spPr>
          <a:xfrm>
            <a:off x="0" y="0"/>
            <a:ext cx="1905120" cy="174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argh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ab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Paul Selv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Lab is Wednesday Sept. 5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dropped” labs….. Don’t miss o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Picture 5" descr="jgl12dbb[1]"/>
          <p:cNvPicPr/>
          <p:nvPr/>
        </p:nvPicPr>
        <p:blipFill>
          <a:blip r:embed="rId1"/>
          <a:stretch/>
        </p:blipFill>
        <p:spPr>
          <a:xfrm>
            <a:off x="0" y="0"/>
            <a:ext cx="1449360" cy="2133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1vhjxqfz[1]"/>
          <p:cNvPicPr/>
          <p:nvPr/>
        </p:nvPicPr>
        <p:blipFill>
          <a:blip r:embed="rId2"/>
          <a:stretch/>
        </p:blipFill>
        <p:spPr>
          <a:xfrm>
            <a:off x="7067520" y="0"/>
            <a:ext cx="20764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1687680" y="14547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looking forward to the labs because I learn better with hands-on activitie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27T15:46:51Z</dcterms:modified>
  <cp:revision>364</cp:revision>
  <dc:subject/>
  <dc:title>Outline</dc:title>
</cp:coreProperties>
</file>