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69D8-9074-4257-B052-615949FE2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CFB9-569B-4901-A946-194F393FA6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add the truck example/demo, or the dog on le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DFB-0C62-4CBC-939A-3917ECD6BC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9D7-B9E0-4F93-A541-3A4C70801A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7CFA-E3C5-46A0-A7D6-9D34FF15C6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AAA3-3C39-480B-BB1A-23EFF2930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7089-0119-434B-99EA-CD1AE72BE0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CC2B-79D6-4192-9924-2FBDE248E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5AC6-49A2-49F6-BF79-633811D04E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369E-604C-422E-BE36-6129274105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C79A-4F3B-444F-9880-6D6535F8AD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D119-FBBC-4E88-83BE-49576DF37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9DE4-A52D-49F5-B755-D56BAE160B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6D08-73C0-4612-9C16-0C48CE9D2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idea here is we can do each direction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23F0-BA1E-4896-AAED-827ACDA44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simple demo, add twice as much mass, get twice the stretching before showing the slide. Also make note that this is NOT as big a deal as Newton’s laws. Just an example of a contact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3806-6E8C-4EEE-8B44-B5F28876B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A5869242-26E7-459A-8CAE-8234443921BA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B4F06E81-307D-467E-8980-D5E9759492A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82EAC71D-C493-4643-87DF-72F8C2E8BCB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DC1B235D-35AC-4F2F-B324-8813974A89D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70CCC357-438B-49D0-BAAD-83C326408FB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0B9C0DF7-DA0D-40F7-B9D1-B9174E09DC3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71D3462E-E9A6-4F44-B19A-D7A97047643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3B29E185-9D3C-4086-A37A-F6FFAA9DCAF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82760" y="344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3940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Finish up Monday’s Mate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Cover Textbook Sections 2.1-2.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In equilibrium, box 2 is lower than box 1. Compare the weight of the two box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Box 1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Box 2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They have the same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76201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4674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7010280" y="4191120"/>
            <a:ext cx="838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7724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80880" y="3809880"/>
            <a:ext cx="50292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685800" y="4800600"/>
            <a:ext cx="41148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T -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T –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&gt;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Group 20"/>
          <p:cNvGrpSpPr/>
          <p:nvPr/>
        </p:nvGrpSpPr>
        <p:grpSpPr>
          <a:xfrm>
            <a:off x="5257800" y="4114800"/>
            <a:ext cx="1295280" cy="2096640"/>
            <a:chOff x="5257800" y="4114800"/>
            <a:chExt cx="1295280" cy="2096640"/>
          </a:xfrm>
        </p:grpSpPr>
        <p:sp>
          <p:nvSpPr>
            <p:cNvPr id="432" name="Rectangle 10"/>
            <p:cNvSpPr/>
            <p:nvPr/>
          </p:nvSpPr>
          <p:spPr>
            <a:xfrm>
              <a:off x="5257800" y="4952880"/>
              <a:ext cx="83808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1"/>
            <p:cNvSpPr/>
            <p:nvPr/>
          </p:nvSpPr>
          <p:spPr>
            <a:xfrm flipV="1">
              <a:off x="5715000" y="44193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56386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3"/>
            <p:cNvSpPr/>
            <p:nvPr/>
          </p:nvSpPr>
          <p:spPr>
            <a:xfrm>
              <a:off x="5715000" y="533412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5715000" y="55627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1680" y="4830840"/>
            <a:ext cx="1295640" cy="2096280"/>
            <a:chOff x="6781680" y="4830840"/>
            <a:chExt cx="1295640" cy="2096280"/>
          </a:xfrm>
        </p:grpSpPr>
        <p:sp>
          <p:nvSpPr>
            <p:cNvPr id="438" name="Rectangle 15"/>
            <p:cNvSpPr/>
            <p:nvPr/>
          </p:nvSpPr>
          <p:spPr>
            <a:xfrm>
              <a:off x="6781680" y="566892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 flipV="1">
              <a:off x="72388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71629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8"/>
            <p:cNvSpPr/>
            <p:nvPr/>
          </p:nvSpPr>
          <p:spPr>
            <a:xfrm>
              <a:off x="72388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19"/>
            <p:cNvSpPr/>
            <p:nvPr/>
          </p:nvSpPr>
          <p:spPr>
            <a:xfrm>
              <a:off x="72388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47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456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459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462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69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478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481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484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487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5919840" y="4572000"/>
          <a:ext cx="3224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9840" y="4572000"/>
                    <a:ext cx="3224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4"/>
          <p:cNvGraphicFramePr/>
          <p:nvPr/>
        </p:nvGraphicFramePr>
        <p:xfrm>
          <a:off x="0" y="4486320"/>
          <a:ext cx="335268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86320"/>
                    <a:ext cx="33526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5"/>
          <p:cNvSpPr/>
          <p:nvPr/>
        </p:nvSpPr>
        <p:spPr>
          <a:xfrm>
            <a:off x="0" y="106668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1 reads 550 Newtons. What is the reading on scale 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 225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55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110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7315200" y="4800600"/>
            <a:ext cx="45720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533520" y="30481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 both cases the NET FORCE on the spring is zero, and the force to the right is 550N. Therefore the force to the left is also 550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9"/>
          <p:cNvSpPr/>
          <p:nvPr/>
        </p:nvSpPr>
        <p:spPr>
          <a:xfrm>
            <a:off x="2362320" y="2057400"/>
            <a:ext cx="2361960" cy="1066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858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6294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509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511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519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524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527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530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536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540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544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ush or pull, force proportional to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= -k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Pulls, tension equal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parallel to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wo Dimensional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coordinat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irections separa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ar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erted by Agents!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aint The Agent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.O.B.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6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7391520" y="3657600"/>
            <a:ext cx="1143000" cy="459720"/>
            <a:chOff x="7391520" y="3657600"/>
            <a:chExt cx="1143000" cy="459720"/>
          </a:xfrm>
        </p:grpSpPr>
        <p:sp>
          <p:nvSpPr>
            <p:cNvPr id="354" name="Line 9"/>
            <p:cNvSpPr/>
            <p:nvPr/>
          </p:nvSpPr>
          <p:spPr>
            <a:xfrm>
              <a:off x="7391520" y="408636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76960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6553080" y="4157640"/>
            <a:ext cx="1219320" cy="1179000"/>
            <a:chOff x="6553080" y="4157640"/>
            <a:chExt cx="1219320" cy="1179000"/>
          </a:xfrm>
        </p:grpSpPr>
        <p:sp>
          <p:nvSpPr>
            <p:cNvPr id="357" name="Line 12"/>
            <p:cNvSpPr/>
            <p:nvPr/>
          </p:nvSpPr>
          <p:spPr>
            <a:xfrm>
              <a:off x="7191360" y="41576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65530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934320" y="2819520"/>
            <a:ext cx="1218960" cy="1142640"/>
            <a:chOff x="6934320" y="2819520"/>
            <a:chExt cx="1218960" cy="1142640"/>
          </a:xfrm>
        </p:grpSpPr>
        <p:sp>
          <p:nvSpPr>
            <p:cNvPr id="360" name="Line 15"/>
            <p:cNvSpPr/>
            <p:nvPr/>
          </p:nvSpPr>
          <p:spPr>
            <a:xfrm flipV="1">
              <a:off x="7191360" y="32000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6934320" y="2819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17"/>
          <p:cNvGrpSpPr/>
          <p:nvPr/>
        </p:nvGrpSpPr>
        <p:grpSpPr>
          <a:xfrm>
            <a:off x="5715000" y="3657600"/>
            <a:ext cx="1295280" cy="459720"/>
            <a:chOff x="5715000" y="3657600"/>
            <a:chExt cx="1295280" cy="459720"/>
          </a:xfrm>
        </p:grpSpPr>
        <p:sp>
          <p:nvSpPr>
            <p:cNvPr id="363" name="Line 18"/>
            <p:cNvSpPr/>
            <p:nvPr/>
          </p:nvSpPr>
          <p:spPr>
            <a:xfrm flipH="1">
              <a:off x="6248520" y="408132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5715000" y="3657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20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366" name="Line 21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3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70" name="Object 26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ook Pushed Across Tab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force of hand to keep the book sliding at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tant spe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f the mass of the book is 1 Kg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.84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7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57200" y="6172200"/>
            <a:ext cx="3962520" cy="60948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219320" y="579132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6" descr="PE03082_"/>
          <p:cNvPicPr/>
          <p:nvPr/>
        </p:nvPicPr>
        <p:blipFill>
          <a:blip r:embed="rId1"/>
          <a:stretch/>
        </p:blipFill>
        <p:spPr>
          <a:xfrm>
            <a:off x="376200" y="579132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7010280" y="525780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7391520" y="538164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7191360" y="54529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7191360" y="44953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6248520" y="53769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6960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55308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9343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571500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16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387" name="Line 17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533520" y="1828800"/>
            <a:ext cx="4343400" cy="1977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direction: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33520" y="3733920"/>
            <a:ext cx="434340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direction: 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9.8=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181480" y="1981080"/>
            <a:ext cx="396252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.75 x 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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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w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26"/>
          <p:cNvSpPr/>
          <p:nvPr/>
        </p:nvSpPr>
        <p:spPr>
          <a:xfrm>
            <a:off x="3276720" y="1325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stant Speed =&gt;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Spring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exerted by a spring is directly proportional to its displacement (stretched or compressed).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spring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 -k 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5 kg mass is suspended from a spring, the spring stretches 8 cm. If it is hung by two identical springs, they will stre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) 4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) 8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) 16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4" descr="j0244051"/>
          <p:cNvPicPr/>
          <p:nvPr/>
        </p:nvPicPr>
        <p:blipFill>
          <a:blip r:embed="rId1"/>
          <a:stretch/>
        </p:blipFill>
        <p:spPr>
          <a:xfrm>
            <a:off x="76320" y="0"/>
            <a:ext cx="14014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7620120" y="4876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80880" y="4572000"/>
            <a:ext cx="2590920" cy="227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=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+ 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m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k x =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403" name="Line 8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0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1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Text Box 12"/>
          <p:cNvSpPr/>
          <p:nvPr/>
        </p:nvSpPr>
        <p:spPr>
          <a:xfrm>
            <a:off x="3200400" y="4572000"/>
            <a:ext cx="4267080" cy="212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 = m g / (2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½ m) g /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know  mg/k = 8 c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: ½ mg /k  = 4 c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14"/>
          <p:cNvGrpSpPr/>
          <p:nvPr/>
        </p:nvGrpSpPr>
        <p:grpSpPr>
          <a:xfrm>
            <a:off x="7772400" y="3962520"/>
            <a:ext cx="1295280" cy="914040"/>
            <a:chOff x="7772400" y="3962520"/>
            <a:chExt cx="1295280" cy="914040"/>
          </a:xfrm>
        </p:grpSpPr>
        <p:sp>
          <p:nvSpPr>
            <p:cNvPr id="409" name="Line 15"/>
            <p:cNvSpPr/>
            <p:nvPr/>
          </p:nvSpPr>
          <p:spPr>
            <a:xfrm flipV="1">
              <a:off x="780732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16"/>
            <p:cNvSpPr/>
            <p:nvPr/>
          </p:nvSpPr>
          <p:spPr>
            <a:xfrm>
              <a:off x="777240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7724880" y="5029200"/>
            <a:ext cx="1307880" cy="761400"/>
            <a:chOff x="7724880" y="5029200"/>
            <a:chExt cx="1307880" cy="761400"/>
          </a:xfrm>
        </p:grpSpPr>
        <p:sp>
          <p:nvSpPr>
            <p:cNvPr id="412" name="Line 18"/>
            <p:cNvSpPr/>
            <p:nvPr/>
          </p:nvSpPr>
          <p:spPr>
            <a:xfrm>
              <a:off x="7724880" y="5104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7737480" y="50292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23"/>
          <p:cNvGrpSpPr/>
          <p:nvPr/>
        </p:nvGrpSpPr>
        <p:grpSpPr>
          <a:xfrm>
            <a:off x="7162920" y="3962520"/>
            <a:ext cx="1295280" cy="914040"/>
            <a:chOff x="7162920" y="3962520"/>
            <a:chExt cx="1295280" cy="914040"/>
          </a:xfrm>
        </p:grpSpPr>
        <p:sp>
          <p:nvSpPr>
            <p:cNvPr id="415" name="Line 21"/>
            <p:cNvSpPr/>
            <p:nvPr/>
          </p:nvSpPr>
          <p:spPr>
            <a:xfrm flipV="1">
              <a:off x="765504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22"/>
            <p:cNvSpPr/>
            <p:nvPr/>
          </p:nvSpPr>
          <p:spPr>
            <a:xfrm>
              <a:off x="716292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Tens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n an Ideal Str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tension is equal everyw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is parallel to string (only pu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Example 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termine force applied to string to suspend 45 kg mass hanging over pulley:  Answ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4343400" y="3886200"/>
          <a:ext cx="16416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886200"/>
                    <a:ext cx="1641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19"/>
          <p:cNvSpPr/>
          <p:nvPr/>
        </p:nvSpPr>
        <p:spPr>
          <a:xfrm>
            <a:off x="1219320" y="5105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 =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1597680" y="5646600"/>
            <a:ext cx="26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= 440 New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30T17:00:05Z</dcterms:modified>
  <cp:revision>349</cp:revision>
  <dc:subject/>
  <dc:title>Outline </dc:title>
</cp:coreProperties>
</file>