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3CCB-734B-44E9-BFDA-6207DD8CE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E193-5D6C-4664-94B6-8A44E650DD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68A5-EB81-4B81-B84E-D04DD30257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this on transpar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9DE9-6F40-4007-BBC0-67B8278DD0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537F-0C72-4265-89E0-0483A19640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E9A5-A4FE-4213-8132-B1541E1D92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6EE1-0456-4F09-8DB1-2E2F55C60B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9C07-E0F1-45C5-AE4B-73CB1D5675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1C3F-926B-4906-BBA1-EE3B34E28D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DDC1-A5FB-4683-BB8F-8F6DBA62C6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2585-6EC2-4DC3-9184-8295F71108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x_o + v_avg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_avg =   ½ (v_o+v_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6995-46CD-4D3B-A01E-7FC924D800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=v^2+2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@-v^2 / (2 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30^2 / 300  = 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 = V^2 + 2 a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0^2 + 2 (-3)(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1 m/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7736-09CF-48CF-ACF7-C21083AFA2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4, Pg </a:t>
            </a:r>
            <a:fld id="{1A1E162C-704C-4711-BD4C-6490E7F65F2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6094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Lecture 0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21337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 3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s 4.1 &amp; 4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92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.  How long does it take to hit the tab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28600" y="3670200"/>
            <a:ext cx="4114800" cy="3340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(-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 = -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57200" y="2286000"/>
            <a:ext cx="7696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 the acceleration of boxes 1 and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g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=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l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48" name="Line 22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23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24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Oval 30"/>
          <p:cNvSpPr/>
          <p:nvPr/>
        </p:nvSpPr>
        <p:spPr>
          <a:xfrm>
            <a:off x="2590920" y="2819520"/>
            <a:ext cx="3047760" cy="99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503600" y="4764240"/>
            <a:ext cx="1503360" cy="1893240"/>
            <a:chOff x="4503600" y="4764240"/>
            <a:chExt cx="1503360" cy="1893240"/>
          </a:xfrm>
        </p:grpSpPr>
        <p:sp>
          <p:nvSpPr>
            <p:cNvPr id="154" name="Text Box 14"/>
            <p:cNvSpPr/>
            <p:nvPr/>
          </p:nvSpPr>
          <p:spPr>
            <a:xfrm>
              <a:off x="4503600" y="600876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" name="Group 2"/>
            <p:cNvGrpSpPr/>
            <p:nvPr/>
          </p:nvGrpSpPr>
          <p:grpSpPr>
            <a:xfrm>
              <a:off x="4507560" y="4764240"/>
              <a:ext cx="1499400" cy="1596960"/>
              <a:chOff x="4507560" y="4764240"/>
              <a:chExt cx="1499400" cy="1596960"/>
            </a:xfrm>
          </p:grpSpPr>
          <p:sp>
            <p:nvSpPr>
              <p:cNvPr id="156" name="Rectangle 10"/>
              <p:cNvSpPr/>
              <p:nvPr/>
            </p:nvSpPr>
            <p:spPr>
              <a:xfrm>
                <a:off x="4888800" y="5446800"/>
                <a:ext cx="838800" cy="457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11"/>
              <p:cNvSpPr/>
              <p:nvPr/>
            </p:nvSpPr>
            <p:spPr>
              <a:xfrm flipV="1">
                <a:off x="5346360" y="4912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Line 13"/>
              <p:cNvSpPr/>
              <p:nvPr/>
            </p:nvSpPr>
            <p:spPr>
              <a:xfrm>
                <a:off x="5346360" y="582804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1"/>
              <p:cNvGrpSpPr/>
              <p:nvPr/>
            </p:nvGrpSpPr>
            <p:grpSpPr>
              <a:xfrm>
                <a:off x="4507560" y="4764240"/>
                <a:ext cx="609840" cy="648720"/>
                <a:chOff x="4507560" y="4764240"/>
                <a:chExt cx="609840" cy="648720"/>
              </a:xfrm>
            </p:grpSpPr>
            <p:sp>
              <p:nvSpPr>
                <p:cNvPr id="160" name="Text Box 12"/>
                <p:cNvSpPr/>
                <p:nvPr/>
              </p:nvSpPr>
              <p:spPr>
                <a:xfrm>
                  <a:off x="4507560" y="4764240"/>
                  <a:ext cx="6098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0" lang="en-U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11"/>
                <p:cNvSpPr/>
                <p:nvPr/>
              </p:nvSpPr>
              <p:spPr>
                <a:xfrm flipV="1">
                  <a:off x="5041440" y="4768920"/>
                  <a:ext cx="0" cy="53352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Text Box 12"/>
              <p:cNvSpPr/>
              <p:nvPr/>
            </p:nvSpPr>
            <p:spPr>
              <a:xfrm>
                <a:off x="5397120" y="4794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Group 3"/>
          <p:cNvGrpSpPr/>
          <p:nvPr/>
        </p:nvGrpSpPr>
        <p:grpSpPr>
          <a:xfrm>
            <a:off x="5783400" y="4857840"/>
            <a:ext cx="1803240" cy="1877040"/>
            <a:chOff x="5783400" y="4857840"/>
            <a:chExt cx="1803240" cy="1877040"/>
          </a:xfrm>
        </p:grpSpPr>
        <p:grpSp>
          <p:nvGrpSpPr>
            <p:cNvPr id="164" name="Group 28"/>
            <p:cNvGrpSpPr/>
            <p:nvPr/>
          </p:nvGrpSpPr>
          <p:grpSpPr>
            <a:xfrm>
              <a:off x="5783400" y="4857840"/>
              <a:ext cx="1405080" cy="1877040"/>
              <a:chOff x="5783400" y="4857840"/>
              <a:chExt cx="1405080" cy="1877040"/>
            </a:xfrm>
          </p:grpSpPr>
          <p:sp>
            <p:nvSpPr>
              <p:cNvPr id="165" name="Rectangle 15"/>
              <p:cNvSpPr/>
              <p:nvPr/>
            </p:nvSpPr>
            <p:spPr>
              <a:xfrm>
                <a:off x="6121440" y="5486040"/>
                <a:ext cx="838440" cy="456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16"/>
              <p:cNvSpPr/>
              <p:nvPr/>
            </p:nvSpPr>
            <p:spPr>
              <a:xfrm flipV="1">
                <a:off x="6578640" y="495216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Text Box 17"/>
              <p:cNvSpPr/>
              <p:nvPr/>
            </p:nvSpPr>
            <p:spPr>
              <a:xfrm>
                <a:off x="6578640" y="4857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18"/>
              <p:cNvSpPr/>
              <p:nvPr/>
            </p:nvSpPr>
            <p:spPr>
              <a:xfrm>
                <a:off x="6578640" y="5866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Text Box 19"/>
              <p:cNvSpPr/>
              <p:nvPr/>
            </p:nvSpPr>
            <p:spPr>
              <a:xfrm>
                <a:off x="5783400" y="6086160"/>
                <a:ext cx="838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0" lang="en-US" sz="32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32"/>
            <p:cNvGrpSpPr/>
            <p:nvPr/>
          </p:nvGrpSpPr>
          <p:grpSpPr>
            <a:xfrm>
              <a:off x="6976800" y="5437080"/>
              <a:ext cx="609840" cy="648720"/>
              <a:chOff x="6976800" y="5437080"/>
              <a:chExt cx="609840" cy="648720"/>
            </a:xfrm>
          </p:grpSpPr>
          <p:sp>
            <p:nvSpPr>
              <p:cNvPr id="171" name="Text Box 12"/>
              <p:cNvSpPr/>
              <p:nvPr/>
            </p:nvSpPr>
            <p:spPr>
              <a:xfrm>
                <a:off x="6976800" y="5437080"/>
                <a:ext cx="609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0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 flipV="1">
                <a:off x="7510680" y="5441760"/>
                <a:ext cx="0" cy="5335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, how long does it take to hit the 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3670200"/>
            <a:ext cx="4114800" cy="2781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= 2.45 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½ a 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½ a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sqrt(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/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0.81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638680" y="4754520"/>
            <a:ext cx="1295640" cy="2096640"/>
            <a:chOff x="5638680" y="4754520"/>
            <a:chExt cx="1295640" cy="2096640"/>
          </a:xfrm>
        </p:grpSpPr>
        <p:sp>
          <p:nvSpPr>
            <p:cNvPr id="181" name="Rectangle 10"/>
            <p:cNvSpPr/>
            <p:nvPr/>
          </p:nvSpPr>
          <p:spPr>
            <a:xfrm>
              <a:off x="5638680" y="559260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V="1">
              <a:off x="6095880" y="505908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6019920" y="4754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13"/>
            <p:cNvSpPr/>
            <p:nvPr/>
          </p:nvSpPr>
          <p:spPr>
            <a:xfrm>
              <a:off x="6095880" y="597384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095880" y="620244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7010280" y="4830840"/>
            <a:ext cx="1295640" cy="2096280"/>
            <a:chOff x="7010280" y="4830840"/>
            <a:chExt cx="1295640" cy="2096280"/>
          </a:xfrm>
        </p:grpSpPr>
        <p:sp>
          <p:nvSpPr>
            <p:cNvPr id="187" name="Rectangle 16"/>
            <p:cNvSpPr/>
            <p:nvPr/>
          </p:nvSpPr>
          <p:spPr>
            <a:xfrm>
              <a:off x="7010280" y="566892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 flipV="1">
              <a:off x="74674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73915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74674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74674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Text Box 21"/>
          <p:cNvSpPr/>
          <p:nvPr/>
        </p:nvSpPr>
        <p:spPr>
          <a:xfrm>
            <a:off x="457200" y="2286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anted the time to reach the ta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22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94" name="Line 23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4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25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26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219320" y="16761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622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re you looking for acceleration so you can use these kinematic equations?  Newton can hel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362320" y="533520"/>
            <a:ext cx="35049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62120" y="3733920"/>
            <a:ext cx="75438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 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New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 the system of equations; get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632160" y="34920"/>
            <a:ext cx="80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y times these equations will answer your ques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front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lative Velocit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N = 4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53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2209680" y="5578560"/>
            <a:ext cx="762120" cy="581400"/>
            <a:chOff x="2209680" y="5578560"/>
            <a:chExt cx="762120" cy="581400"/>
          </a:xfrm>
        </p:grpSpPr>
        <p:sp>
          <p:nvSpPr>
            <p:cNvPr id="56" name="Line 9"/>
            <p:cNvSpPr/>
            <p:nvPr/>
          </p:nvSpPr>
          <p:spPr>
            <a:xfrm>
              <a:off x="2286000" y="563868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2209680" y="55785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762120" y="6324480"/>
            <a:ext cx="1981080" cy="581400"/>
            <a:chOff x="762120" y="6324480"/>
            <a:chExt cx="1981080" cy="581400"/>
          </a:xfrm>
        </p:grpSpPr>
        <p:sp>
          <p:nvSpPr>
            <p:cNvPr id="59" name="Line 12"/>
            <p:cNvSpPr/>
            <p:nvPr/>
          </p:nvSpPr>
          <p:spPr>
            <a:xfrm>
              <a:off x="762120" y="6400800"/>
              <a:ext cx="19810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1371600" y="63244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4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Oval 14"/>
          <p:cNvSpPr/>
          <p:nvPr/>
        </p:nvSpPr>
        <p:spPr>
          <a:xfrm>
            <a:off x="0" y="342900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rear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- 5 mph N = 3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67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1676520" y="5897520"/>
            <a:ext cx="761760" cy="581400"/>
            <a:chOff x="1676520" y="5897520"/>
            <a:chExt cx="761760" cy="581400"/>
          </a:xfrm>
        </p:grpSpPr>
        <p:sp>
          <p:nvSpPr>
            <p:cNvPr id="70" name="Line 9"/>
            <p:cNvSpPr/>
            <p:nvPr/>
          </p:nvSpPr>
          <p:spPr>
            <a:xfrm>
              <a:off x="1752480" y="595764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1676520" y="589752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762120" y="6324480"/>
            <a:ext cx="1066680" cy="581400"/>
            <a:chOff x="762120" y="6324480"/>
            <a:chExt cx="1066680" cy="581400"/>
          </a:xfrm>
        </p:grpSpPr>
        <p:sp>
          <p:nvSpPr>
            <p:cNvPr id="73" name="Line 12"/>
            <p:cNvSpPr/>
            <p:nvPr/>
          </p:nvSpPr>
          <p:spPr>
            <a:xfrm>
              <a:off x="762120" y="6400800"/>
              <a:ext cx="10666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1090080" y="6324480"/>
              <a:ext cx="69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Oval 14"/>
          <p:cNvSpPr/>
          <p:nvPr/>
        </p:nvSpPr>
        <p:spPr>
          <a:xfrm>
            <a:off x="5486400" y="350532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wo Dimensional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sideways across the car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&lt;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 &gt;40 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3880" y="4343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W = 41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80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2286000" y="5105160"/>
            <a:ext cx="609480" cy="581760"/>
            <a:chOff x="2286000" y="5105160"/>
            <a:chExt cx="609480" cy="581760"/>
          </a:xfrm>
        </p:grpSpPr>
        <p:sp>
          <p:nvSpPr>
            <p:cNvPr id="83" name="Line 9"/>
            <p:cNvSpPr/>
            <p:nvPr/>
          </p:nvSpPr>
          <p:spPr>
            <a:xfrm flipV="1">
              <a:off x="2286000" y="51051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0"/>
            <p:cNvSpPr/>
            <p:nvPr/>
          </p:nvSpPr>
          <p:spPr>
            <a:xfrm>
              <a:off x="22860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Line 11"/>
          <p:cNvSpPr/>
          <p:nvPr/>
        </p:nvSpPr>
        <p:spPr>
          <a:xfrm flipV="1">
            <a:off x="762120" y="5105160"/>
            <a:ext cx="1523880" cy="533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3124080" y="5181480"/>
                <a:ext cx="2095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7" name="Oval 13"/>
          <p:cNvSpPr/>
          <p:nvPr/>
        </p:nvSpPr>
        <p:spPr>
          <a:xfrm>
            <a:off x="5638680" y="3124080"/>
            <a:ext cx="312444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aper is not moving on the table, in which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410080" y="4114800"/>
            <a:ext cx="3276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781680" y="5791320"/>
            <a:ext cx="152640" cy="38088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 flipH="1" flipV="1">
            <a:off x="6477120" y="502884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6858000" y="4952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6858000" y="50288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867280" y="434340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-17640" y="421488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the paper is being pulled to the left.  In what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 flipH="1">
            <a:off x="3581280" y="5334120"/>
            <a:ext cx="19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0" y="373392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562720" y="4191120"/>
            <a:ext cx="327636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934320" y="5867280"/>
            <a:ext cx="152280" cy="38124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 flipH="1" flipV="1">
            <a:off x="6629040" y="51055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701028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7010280" y="51055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19920" y="441972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etter Equations for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Constant Acceleration</a:t>
            </a:r>
            <a:br>
              <a:rPr sz="4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text, page 113-114)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3086280" cy="166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543480" y="2438280"/>
            <a:ext cx="254304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=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399360" y="0"/>
            <a:ext cx="25081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7920" y="4191120"/>
                <a:ext cx="1562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0" y="4800600"/>
                <a:ext cx="142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0" y="5796000"/>
                <a:ext cx="2209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3589200" y="4097160"/>
                <a:ext cx="1549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3589200" y="5029200"/>
                <a:ext cx="1575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1"/>
              <p:cNvSpPr txBox="1"/>
              <p:nvPr/>
            </p:nvSpPr>
            <p:spPr>
              <a:xfrm>
                <a:off x="3589200" y="5894280"/>
                <a:ext cx="2552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86868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7800120" y="14436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ir Tr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533520" y="2819520"/>
            <a:ext cx="8305560" cy="3733560"/>
          </a:xfrm>
          <a:prstGeom prst="rect">
            <a:avLst/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Kinematics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is traveling 30 m/s and applies its breaks to stop after a distance of 150 m.  How fast is the car going after it has traveled ½ the distance (75 meters)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v &lt; 15 m/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v = 15 m/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v &gt; 1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685800" y="2971800"/>
                <a:ext cx="1778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4"/>
              <p:cNvSpPr txBox="1"/>
              <p:nvPr/>
            </p:nvSpPr>
            <p:spPr>
              <a:xfrm>
                <a:off x="3276720" y="2971800"/>
                <a:ext cx="1726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762120" y="3657600"/>
                <a:ext cx="1371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762120" y="4267080"/>
                <a:ext cx="1218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276720" y="3505320"/>
                <a:ext cx="2286000" cy="27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r>
                          <m:t xml:space="preserve">d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9"/>
              <p:cNvSpPr txBox="1"/>
              <p:nvPr/>
            </p:nvSpPr>
            <p:spPr>
              <a:xfrm>
                <a:off x="5859360" y="2895480"/>
                <a:ext cx="281952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Oval 23"/>
          <p:cNvSpPr/>
          <p:nvPr/>
        </p:nvSpPr>
        <p:spPr>
          <a:xfrm>
            <a:off x="6019920" y="2057400"/>
            <a:ext cx="2666880" cy="838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323640"/>
            <a:ext cx="688176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18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accelerates uniformly from rest.  If it travels a distanc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how far will it travel in a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D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D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D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D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1599840" y="3124080"/>
            <a:ext cx="3907440" cy="368280"/>
            <a:chOff x="1599840" y="3124080"/>
            <a:chExt cx="3907440" cy="368280"/>
          </a:xfrm>
        </p:grpSpPr>
        <p:sp>
          <p:nvSpPr>
            <p:cNvPr id="133" name="Text Box 6"/>
            <p:cNvSpPr/>
            <p:nvPr/>
          </p:nvSpPr>
          <p:spPr>
            <a:xfrm>
              <a:off x="2153160" y="3124080"/>
              <a:ext cx="33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  x(t)=0+0+1/2 at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 flipH="1">
              <a:off x="1599840" y="3330720"/>
              <a:ext cx="7045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Rectangle 8"/>
          <p:cNvSpPr/>
          <p:nvPr/>
        </p:nvSpPr>
        <p:spPr>
          <a:xfrm>
            <a:off x="638280" y="4048200"/>
            <a:ext cx="72864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 up question:  If the car has speed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what is the speed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v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v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v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v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1600200" y="5867280"/>
            <a:ext cx="3130920" cy="368280"/>
            <a:chOff x="1600200" y="5867280"/>
            <a:chExt cx="3130920" cy="368280"/>
          </a:xfrm>
        </p:grpSpPr>
        <p:sp>
          <p:nvSpPr>
            <p:cNvPr id="137" name="Text Box 10"/>
            <p:cNvSpPr/>
            <p:nvPr/>
          </p:nvSpPr>
          <p:spPr>
            <a:xfrm>
              <a:off x="2126880" y="5867280"/>
              <a:ext cx="26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33"/>
                  </a:solidFill>
                  <a:latin typeface="Comic Sans MS"/>
                </a:rPr>
                <a:t>Correct  v(t)=0+a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 flipH="1">
              <a:off x="1600200" y="6073560"/>
              <a:ext cx="7048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10T15:02:15Z</dcterms:modified>
  <cp:revision>415</cp:revision>
  <dc:subject/>
  <dc:title>Outline</dc:title>
</cp:coreProperties>
</file>