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E706-B82E-4D83-A77E-55A0D51D7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2388-40B1-4CA7-A89D-ECD1AB0DFB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1E74-9FCA-4D18-98BB-D02A30B684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this on transpar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9F56-758A-4A17-BEC2-80E52A2928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4129-09F9-477C-9CE0-A8D2AF8A4B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7C98-F39E-4ADA-9AE5-C9220F48AF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4600-93C6-4372-9BC2-0396233A89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BDEB-6D18-4571-B831-04DADDCFE1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2926-A399-40B8-8474-9B179DB331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062D-BBF2-49FB-ACA0-2339456E8F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FC81-ED04-4EC2-8CE3-8EB5FA7595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x_o + v_avg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_avg =   ½ (v_o+v_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B831-FC49-430B-802E-7D03053DA6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^2=v^2+2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@-v^2 / (2 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30^2 / 300  = 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^2 = V^2 + 2 a 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0^2 + 2 (-3)(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1 m/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52BB-E8A4-4A70-894B-2671A4270F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4, Pg </a:t>
            </a:r>
            <a:fld id="{D5D24CA8-D40B-4D83-9725-27C7EA56C86F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295280" y="6094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 Rounded MT Bold"/>
              </a:rPr>
              <a:t>Physics 101: </a:t>
            </a: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Lecture 0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320" y="2133720"/>
            <a:ext cx="80010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Today’s lecture will c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Section 3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Sections 4.1 &amp; 4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ulley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923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boxes are connected by a string over a frictionless pulley. Box 1 has mass 1.5 kg, box 2 has a mass of 2.5 kg. Box 2 starts from rest 0.8 meters above the table.  How long does it take to hit the tab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8077320" y="2895480"/>
            <a:ext cx="533160" cy="533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Freeform 5"/>
          <p:cNvSpPr/>
          <p:nvPr/>
        </p:nvSpPr>
        <p:spPr>
          <a:xfrm>
            <a:off x="7924680" y="2832120"/>
            <a:ext cx="698760" cy="2349360"/>
          </a:xfrm>
          <a:custGeom>
            <a:avLst/>
            <a:gdLst/>
            <a:ahLst/>
            <a:rect l="l" t="t" r="r" b="b"/>
            <a:pathLst>
              <a:path w="440" h="1480">
                <a:moveTo>
                  <a:pt x="0" y="904"/>
                </a:moveTo>
                <a:cubicBezTo>
                  <a:pt x="8" y="664"/>
                  <a:pt x="16" y="424"/>
                  <a:pt x="48" y="280"/>
                </a:cubicBezTo>
                <a:cubicBezTo>
                  <a:pt x="80" y="136"/>
                  <a:pt x="152" y="80"/>
                  <a:pt x="192" y="40"/>
                </a:cubicBezTo>
                <a:cubicBezTo>
                  <a:pt x="232" y="0"/>
                  <a:pt x="256" y="32"/>
                  <a:pt x="288" y="40"/>
                </a:cubicBezTo>
                <a:cubicBezTo>
                  <a:pt x="320" y="48"/>
                  <a:pt x="360" y="64"/>
                  <a:pt x="384" y="88"/>
                </a:cubicBezTo>
                <a:cubicBezTo>
                  <a:pt x="408" y="112"/>
                  <a:pt x="424" y="136"/>
                  <a:pt x="432" y="184"/>
                </a:cubicBezTo>
                <a:cubicBezTo>
                  <a:pt x="440" y="232"/>
                  <a:pt x="432" y="160"/>
                  <a:pt x="432" y="376"/>
                </a:cubicBezTo>
                <a:cubicBezTo>
                  <a:pt x="432" y="592"/>
                  <a:pt x="432" y="1036"/>
                  <a:pt x="432" y="14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7467480" y="4191120"/>
            <a:ext cx="83844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8229600" y="5105520"/>
            <a:ext cx="83808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228600" y="3670200"/>
            <a:ext cx="4114800" cy="3340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1) T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) T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(-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 = -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) T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1)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g /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457200" y="2286000"/>
            <a:ext cx="76960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re the acceleration of boxes 1 and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&gt;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=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&lt;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8001000" y="1828800"/>
            <a:ext cx="990720" cy="978120"/>
            <a:chOff x="8001000" y="1828800"/>
            <a:chExt cx="990720" cy="978120"/>
          </a:xfrm>
        </p:grpSpPr>
        <p:sp>
          <p:nvSpPr>
            <p:cNvPr id="148" name="Line 22"/>
            <p:cNvSpPr/>
            <p:nvPr/>
          </p:nvSpPr>
          <p:spPr>
            <a:xfrm flipV="1">
              <a:off x="8001000" y="2057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23"/>
            <p:cNvSpPr/>
            <p:nvPr/>
          </p:nvSpPr>
          <p:spPr>
            <a:xfrm>
              <a:off x="8001000" y="2743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Text Box 24"/>
            <p:cNvSpPr/>
            <p:nvPr/>
          </p:nvSpPr>
          <p:spPr>
            <a:xfrm>
              <a:off x="8001000" y="1828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Text Box 25"/>
            <p:cNvSpPr/>
            <p:nvPr/>
          </p:nvSpPr>
          <p:spPr>
            <a:xfrm>
              <a:off x="8686800" y="2438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" name="Oval 30"/>
          <p:cNvSpPr/>
          <p:nvPr/>
        </p:nvSpPr>
        <p:spPr>
          <a:xfrm>
            <a:off x="2590920" y="2819520"/>
            <a:ext cx="3047760" cy="9903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4503600" y="4764240"/>
            <a:ext cx="1503360" cy="1893240"/>
            <a:chOff x="4503600" y="4764240"/>
            <a:chExt cx="1503360" cy="1893240"/>
          </a:xfrm>
        </p:grpSpPr>
        <p:sp>
          <p:nvSpPr>
            <p:cNvPr id="154" name="Text Box 14"/>
            <p:cNvSpPr/>
            <p:nvPr/>
          </p:nvSpPr>
          <p:spPr>
            <a:xfrm>
              <a:off x="4503600" y="600876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" name="Group 2"/>
            <p:cNvGrpSpPr/>
            <p:nvPr/>
          </p:nvGrpSpPr>
          <p:grpSpPr>
            <a:xfrm>
              <a:off x="4507560" y="4764240"/>
              <a:ext cx="1499400" cy="1596960"/>
              <a:chOff x="4507560" y="4764240"/>
              <a:chExt cx="1499400" cy="1596960"/>
            </a:xfrm>
          </p:grpSpPr>
          <p:sp>
            <p:nvSpPr>
              <p:cNvPr id="156" name="Rectangle 10"/>
              <p:cNvSpPr/>
              <p:nvPr/>
            </p:nvSpPr>
            <p:spPr>
              <a:xfrm>
                <a:off x="4888800" y="5446800"/>
                <a:ext cx="838800" cy="4572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Line 11"/>
              <p:cNvSpPr/>
              <p:nvPr/>
            </p:nvSpPr>
            <p:spPr>
              <a:xfrm flipV="1">
                <a:off x="5346360" y="491292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Line 13"/>
              <p:cNvSpPr/>
              <p:nvPr/>
            </p:nvSpPr>
            <p:spPr>
              <a:xfrm>
                <a:off x="5346360" y="582804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9" name="Group 1"/>
              <p:cNvGrpSpPr/>
              <p:nvPr/>
            </p:nvGrpSpPr>
            <p:grpSpPr>
              <a:xfrm>
                <a:off x="4507560" y="4764240"/>
                <a:ext cx="609840" cy="648720"/>
                <a:chOff x="4507560" y="4764240"/>
                <a:chExt cx="609840" cy="648720"/>
              </a:xfrm>
            </p:grpSpPr>
            <p:sp>
              <p:nvSpPr>
                <p:cNvPr id="160" name="Text Box 12"/>
                <p:cNvSpPr/>
                <p:nvPr/>
              </p:nvSpPr>
              <p:spPr>
                <a:xfrm>
                  <a:off x="4507560" y="4764240"/>
                  <a:ext cx="6098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0" lang="en-US" sz="32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11"/>
                <p:cNvSpPr/>
                <p:nvPr/>
              </p:nvSpPr>
              <p:spPr>
                <a:xfrm flipV="1">
                  <a:off x="5041440" y="4768920"/>
                  <a:ext cx="0" cy="53352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" name="Text Box 12"/>
              <p:cNvSpPr/>
              <p:nvPr/>
            </p:nvSpPr>
            <p:spPr>
              <a:xfrm>
                <a:off x="5397120" y="479484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Group 3"/>
          <p:cNvGrpSpPr/>
          <p:nvPr/>
        </p:nvGrpSpPr>
        <p:grpSpPr>
          <a:xfrm>
            <a:off x="5783400" y="4857840"/>
            <a:ext cx="1803240" cy="1877040"/>
            <a:chOff x="5783400" y="4857840"/>
            <a:chExt cx="1803240" cy="1877040"/>
          </a:xfrm>
        </p:grpSpPr>
        <p:grpSp>
          <p:nvGrpSpPr>
            <p:cNvPr id="164" name="Group 28"/>
            <p:cNvGrpSpPr/>
            <p:nvPr/>
          </p:nvGrpSpPr>
          <p:grpSpPr>
            <a:xfrm>
              <a:off x="5783400" y="4857840"/>
              <a:ext cx="1405080" cy="1877040"/>
              <a:chOff x="5783400" y="4857840"/>
              <a:chExt cx="1405080" cy="1877040"/>
            </a:xfrm>
          </p:grpSpPr>
          <p:sp>
            <p:nvSpPr>
              <p:cNvPr id="165" name="Rectangle 15"/>
              <p:cNvSpPr/>
              <p:nvPr/>
            </p:nvSpPr>
            <p:spPr>
              <a:xfrm>
                <a:off x="6121440" y="5486040"/>
                <a:ext cx="838440" cy="456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Line 16"/>
              <p:cNvSpPr/>
              <p:nvPr/>
            </p:nvSpPr>
            <p:spPr>
              <a:xfrm flipV="1">
                <a:off x="6578640" y="495216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Text Box 17"/>
              <p:cNvSpPr/>
              <p:nvPr/>
            </p:nvSpPr>
            <p:spPr>
              <a:xfrm>
                <a:off x="6578640" y="485784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Line 18"/>
              <p:cNvSpPr/>
              <p:nvPr/>
            </p:nvSpPr>
            <p:spPr>
              <a:xfrm>
                <a:off x="6578640" y="586692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Text Box 19"/>
              <p:cNvSpPr/>
              <p:nvPr/>
            </p:nvSpPr>
            <p:spPr>
              <a:xfrm>
                <a:off x="5783400" y="6086160"/>
                <a:ext cx="838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r>
                  <a:rPr b="0" lang="en-US" sz="32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32"/>
            <p:cNvGrpSpPr/>
            <p:nvPr/>
          </p:nvGrpSpPr>
          <p:grpSpPr>
            <a:xfrm>
              <a:off x="6976800" y="5437080"/>
              <a:ext cx="609840" cy="648720"/>
              <a:chOff x="6976800" y="5437080"/>
              <a:chExt cx="609840" cy="648720"/>
            </a:xfrm>
          </p:grpSpPr>
          <p:sp>
            <p:nvSpPr>
              <p:cNvPr id="171" name="Text Box 12"/>
              <p:cNvSpPr/>
              <p:nvPr/>
            </p:nvSpPr>
            <p:spPr>
              <a:xfrm>
                <a:off x="6976800" y="5437080"/>
                <a:ext cx="609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0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 flipV="1">
                <a:off x="7510680" y="5441760"/>
                <a:ext cx="0" cy="53352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ulley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boxes are connected by a string over a frictionless pulley. Box 1 has mass 1.5 kg, box 2 has a mass of 2.5 kg. Box 2 starts from rest 0.8 meters above the table, how long does it take to hit the t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8077320" y="2895480"/>
            <a:ext cx="533160" cy="533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5"/>
          <p:cNvSpPr/>
          <p:nvPr/>
        </p:nvSpPr>
        <p:spPr>
          <a:xfrm>
            <a:off x="7924680" y="2832120"/>
            <a:ext cx="698760" cy="2349360"/>
          </a:xfrm>
          <a:custGeom>
            <a:avLst/>
            <a:gdLst/>
            <a:ahLst/>
            <a:rect l="l" t="t" r="r" b="b"/>
            <a:pathLst>
              <a:path w="440" h="1480">
                <a:moveTo>
                  <a:pt x="0" y="904"/>
                </a:moveTo>
                <a:cubicBezTo>
                  <a:pt x="8" y="664"/>
                  <a:pt x="16" y="424"/>
                  <a:pt x="48" y="280"/>
                </a:cubicBezTo>
                <a:cubicBezTo>
                  <a:pt x="80" y="136"/>
                  <a:pt x="152" y="80"/>
                  <a:pt x="192" y="40"/>
                </a:cubicBezTo>
                <a:cubicBezTo>
                  <a:pt x="232" y="0"/>
                  <a:pt x="256" y="32"/>
                  <a:pt x="288" y="40"/>
                </a:cubicBezTo>
                <a:cubicBezTo>
                  <a:pt x="320" y="48"/>
                  <a:pt x="360" y="64"/>
                  <a:pt x="384" y="88"/>
                </a:cubicBezTo>
                <a:cubicBezTo>
                  <a:pt x="408" y="112"/>
                  <a:pt x="424" y="136"/>
                  <a:pt x="432" y="184"/>
                </a:cubicBezTo>
                <a:cubicBezTo>
                  <a:pt x="440" y="232"/>
                  <a:pt x="432" y="160"/>
                  <a:pt x="432" y="376"/>
                </a:cubicBezTo>
                <a:cubicBezTo>
                  <a:pt x="432" y="592"/>
                  <a:pt x="432" y="1036"/>
                  <a:pt x="432" y="14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467480" y="4191120"/>
            <a:ext cx="83844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229600" y="5105520"/>
            <a:ext cx="83808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28600" y="3670200"/>
            <a:ext cx="4114800" cy="2781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g /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= 2.45 m/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+ ½ a 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½ a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sqrt(2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/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0.81 sec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638680" y="4754520"/>
            <a:ext cx="1295640" cy="2096640"/>
            <a:chOff x="5638680" y="4754520"/>
            <a:chExt cx="1295640" cy="2096640"/>
          </a:xfrm>
        </p:grpSpPr>
        <p:sp>
          <p:nvSpPr>
            <p:cNvPr id="181" name="Rectangle 10"/>
            <p:cNvSpPr/>
            <p:nvPr/>
          </p:nvSpPr>
          <p:spPr>
            <a:xfrm>
              <a:off x="5638680" y="5592600"/>
              <a:ext cx="838440" cy="457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V="1">
              <a:off x="6095880" y="505908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>
              <a:off x="6019920" y="4754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13"/>
            <p:cNvSpPr/>
            <p:nvPr/>
          </p:nvSpPr>
          <p:spPr>
            <a:xfrm>
              <a:off x="6095880" y="597384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6095880" y="620244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15"/>
          <p:cNvGrpSpPr/>
          <p:nvPr/>
        </p:nvGrpSpPr>
        <p:grpSpPr>
          <a:xfrm>
            <a:off x="7010280" y="4830840"/>
            <a:ext cx="1295640" cy="2096280"/>
            <a:chOff x="7010280" y="4830840"/>
            <a:chExt cx="1295640" cy="2096280"/>
          </a:xfrm>
        </p:grpSpPr>
        <p:sp>
          <p:nvSpPr>
            <p:cNvPr id="187" name="Rectangle 16"/>
            <p:cNvSpPr/>
            <p:nvPr/>
          </p:nvSpPr>
          <p:spPr>
            <a:xfrm>
              <a:off x="7010280" y="5668920"/>
              <a:ext cx="838440" cy="457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 flipV="1">
              <a:off x="7467480" y="51354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7391520" y="48308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19"/>
            <p:cNvSpPr/>
            <p:nvPr/>
          </p:nvSpPr>
          <p:spPr>
            <a:xfrm>
              <a:off x="7467480" y="60498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7467480" y="627840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Text Box 21"/>
          <p:cNvSpPr/>
          <p:nvPr/>
        </p:nvSpPr>
        <p:spPr>
          <a:xfrm>
            <a:off x="457200" y="2286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anted the time to reach the ta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22"/>
          <p:cNvGrpSpPr/>
          <p:nvPr/>
        </p:nvGrpSpPr>
        <p:grpSpPr>
          <a:xfrm>
            <a:off x="8001000" y="1828800"/>
            <a:ext cx="990720" cy="978120"/>
            <a:chOff x="8001000" y="1828800"/>
            <a:chExt cx="990720" cy="978120"/>
          </a:xfrm>
        </p:grpSpPr>
        <p:sp>
          <p:nvSpPr>
            <p:cNvPr id="194" name="Line 23"/>
            <p:cNvSpPr/>
            <p:nvPr/>
          </p:nvSpPr>
          <p:spPr>
            <a:xfrm flipV="1">
              <a:off x="8001000" y="2057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24"/>
            <p:cNvSpPr/>
            <p:nvPr/>
          </p:nvSpPr>
          <p:spPr>
            <a:xfrm>
              <a:off x="8001000" y="2743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Text Box 25"/>
            <p:cNvSpPr/>
            <p:nvPr/>
          </p:nvSpPr>
          <p:spPr>
            <a:xfrm>
              <a:off x="8001000" y="1828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Text Box 26"/>
            <p:cNvSpPr/>
            <p:nvPr/>
          </p:nvSpPr>
          <p:spPr>
            <a:xfrm>
              <a:off x="8686800" y="2438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219320" y="1676160"/>
            <a:ext cx="716256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622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re you looking for acceleration so you can use these kinematic equations?  Newton can hel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362320" y="533520"/>
            <a:ext cx="35049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x(t) = x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+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 + 1/2 at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(t) =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+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+ 2a(x-x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762120" y="3733920"/>
            <a:ext cx="75438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w Free Body Dia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wn equations from New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wn equations from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wn equations from Geome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ve the system of equations; get accel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632160" y="34920"/>
            <a:ext cx="80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ny times these equations will answer your ques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on a train traveling 40 mph North. If you walk 5 mph toward the front of the train, what is your speed relative to the grou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45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35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Relative Velocit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523880" y="4572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0 mph N + 5 mph N = 45 mph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762120" y="5562720"/>
            <a:ext cx="1523880" cy="581400"/>
            <a:chOff x="762120" y="5562720"/>
            <a:chExt cx="1523880" cy="581400"/>
          </a:xfrm>
        </p:grpSpPr>
        <p:sp>
          <p:nvSpPr>
            <p:cNvPr id="53" name="Line 6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Text Box 7"/>
            <p:cNvSpPr/>
            <p:nvPr/>
          </p:nvSpPr>
          <p:spPr>
            <a:xfrm>
              <a:off x="1143000" y="5562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2209680" y="5578560"/>
            <a:ext cx="762120" cy="581400"/>
            <a:chOff x="2209680" y="5578560"/>
            <a:chExt cx="762120" cy="581400"/>
          </a:xfrm>
        </p:grpSpPr>
        <p:sp>
          <p:nvSpPr>
            <p:cNvPr id="56" name="Line 9"/>
            <p:cNvSpPr/>
            <p:nvPr/>
          </p:nvSpPr>
          <p:spPr>
            <a:xfrm>
              <a:off x="2286000" y="563868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Text Box 10"/>
            <p:cNvSpPr/>
            <p:nvPr/>
          </p:nvSpPr>
          <p:spPr>
            <a:xfrm>
              <a:off x="2209680" y="55785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762120" y="6324480"/>
            <a:ext cx="1981080" cy="581400"/>
            <a:chOff x="762120" y="6324480"/>
            <a:chExt cx="1981080" cy="581400"/>
          </a:xfrm>
        </p:grpSpPr>
        <p:sp>
          <p:nvSpPr>
            <p:cNvPr id="59" name="Line 12"/>
            <p:cNvSpPr/>
            <p:nvPr/>
          </p:nvSpPr>
          <p:spPr>
            <a:xfrm>
              <a:off x="762120" y="6400800"/>
              <a:ext cx="19810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Text Box 13"/>
            <p:cNvSpPr/>
            <p:nvPr/>
          </p:nvSpPr>
          <p:spPr>
            <a:xfrm>
              <a:off x="1371600" y="632448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33"/>
                  </a:solidFill>
                  <a:latin typeface="Times New Roman"/>
                </a:rPr>
                <a:t>4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Oval 14"/>
          <p:cNvSpPr/>
          <p:nvPr/>
        </p:nvSpPr>
        <p:spPr>
          <a:xfrm>
            <a:off x="0" y="3429000"/>
            <a:ext cx="3124080" cy="91440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8233560" y="2286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on a train traveling 40 mph North. If you walk 5 mph toward the rear of the train, what is your speed relative to the grou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45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35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3880" y="4572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0 mph N - 5 mph N = 35 mph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762120" y="5562720"/>
            <a:ext cx="1523880" cy="581400"/>
            <a:chOff x="762120" y="5562720"/>
            <a:chExt cx="1523880" cy="581400"/>
          </a:xfrm>
        </p:grpSpPr>
        <p:sp>
          <p:nvSpPr>
            <p:cNvPr id="67" name="Line 6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1143000" y="5562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1676520" y="5897520"/>
            <a:ext cx="761760" cy="581400"/>
            <a:chOff x="1676520" y="5897520"/>
            <a:chExt cx="761760" cy="581400"/>
          </a:xfrm>
        </p:grpSpPr>
        <p:sp>
          <p:nvSpPr>
            <p:cNvPr id="70" name="Line 9"/>
            <p:cNvSpPr/>
            <p:nvPr/>
          </p:nvSpPr>
          <p:spPr>
            <a:xfrm>
              <a:off x="1752480" y="595764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Text Box 10"/>
            <p:cNvSpPr/>
            <p:nvPr/>
          </p:nvSpPr>
          <p:spPr>
            <a:xfrm>
              <a:off x="1676520" y="589752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Group 11"/>
          <p:cNvGrpSpPr/>
          <p:nvPr/>
        </p:nvGrpSpPr>
        <p:grpSpPr>
          <a:xfrm>
            <a:off x="762120" y="6324480"/>
            <a:ext cx="1066680" cy="581400"/>
            <a:chOff x="762120" y="6324480"/>
            <a:chExt cx="1066680" cy="581400"/>
          </a:xfrm>
        </p:grpSpPr>
        <p:sp>
          <p:nvSpPr>
            <p:cNvPr id="73" name="Line 12"/>
            <p:cNvSpPr/>
            <p:nvPr/>
          </p:nvSpPr>
          <p:spPr>
            <a:xfrm>
              <a:off x="762120" y="6400800"/>
              <a:ext cx="10666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Text Box 13"/>
            <p:cNvSpPr/>
            <p:nvPr/>
          </p:nvSpPr>
          <p:spPr>
            <a:xfrm>
              <a:off x="1090080" y="6324480"/>
              <a:ext cx="69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33"/>
                  </a:solidFill>
                  <a:latin typeface="Times New Roman"/>
                </a:rPr>
                <a:t>3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Oval 14"/>
          <p:cNvSpPr/>
          <p:nvPr/>
        </p:nvSpPr>
        <p:spPr>
          <a:xfrm>
            <a:off x="5486400" y="3505320"/>
            <a:ext cx="3124080" cy="91440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wo Dimensional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on a train traveling 40 mph North. If you walk 5 mph sideways across the car, what is your speed relative to the grou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&lt;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 &gt;40 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23880" y="43434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0 mph N + 5 mph W = 41 mph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762120" y="5562720"/>
            <a:ext cx="1523880" cy="581400"/>
            <a:chOff x="762120" y="5562720"/>
            <a:chExt cx="1523880" cy="581400"/>
          </a:xfrm>
        </p:grpSpPr>
        <p:sp>
          <p:nvSpPr>
            <p:cNvPr id="80" name="Line 6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Text Box 7"/>
            <p:cNvSpPr/>
            <p:nvPr/>
          </p:nvSpPr>
          <p:spPr>
            <a:xfrm>
              <a:off x="1143000" y="5562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Group 8"/>
          <p:cNvGrpSpPr/>
          <p:nvPr/>
        </p:nvGrpSpPr>
        <p:grpSpPr>
          <a:xfrm>
            <a:off x="2286000" y="5105160"/>
            <a:ext cx="609480" cy="581760"/>
            <a:chOff x="2286000" y="5105160"/>
            <a:chExt cx="609480" cy="581760"/>
          </a:xfrm>
        </p:grpSpPr>
        <p:sp>
          <p:nvSpPr>
            <p:cNvPr id="83" name="Line 9"/>
            <p:cNvSpPr/>
            <p:nvPr/>
          </p:nvSpPr>
          <p:spPr>
            <a:xfrm flipV="1">
              <a:off x="2286000" y="510516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Text Box 10"/>
            <p:cNvSpPr/>
            <p:nvPr/>
          </p:nvSpPr>
          <p:spPr>
            <a:xfrm>
              <a:off x="22860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Line 11"/>
          <p:cNvSpPr/>
          <p:nvPr/>
        </p:nvSpPr>
        <p:spPr>
          <a:xfrm flipV="1">
            <a:off x="762120" y="5105160"/>
            <a:ext cx="1523880" cy="533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12"/>
              <p:cNvSpPr txBox="1"/>
              <p:nvPr/>
            </p:nvSpPr>
            <p:spPr>
              <a:xfrm>
                <a:off x="3124080" y="5181480"/>
                <a:ext cx="2095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7" name="Oval 13"/>
          <p:cNvSpPr/>
          <p:nvPr/>
        </p:nvSpPr>
        <p:spPr>
          <a:xfrm>
            <a:off x="5638680" y="3124080"/>
            <a:ext cx="3124440" cy="91440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8233560" y="2286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paper is not moving on the table, in which direction should I point the tractor to get it across the paper in the least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) 30 degrees l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) Straight acr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) 30 degrees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410080" y="4114800"/>
            <a:ext cx="3276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781680" y="5791320"/>
            <a:ext cx="152640" cy="38088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6"/>
          <p:cNvSpPr/>
          <p:nvPr/>
        </p:nvSpPr>
        <p:spPr>
          <a:xfrm flipH="1" flipV="1">
            <a:off x="6477120" y="502884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 flipV="1">
            <a:off x="6858000" y="4952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 flipV="1">
            <a:off x="6858000" y="50288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867280" y="4343400"/>
            <a:ext cx="2514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ff"/>
                </a:solidFill>
                <a:latin typeface="Times New Roman"/>
              </a:rPr>
              <a:t>1       2   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Oval 10"/>
          <p:cNvSpPr/>
          <p:nvPr/>
        </p:nvSpPr>
        <p:spPr>
          <a:xfrm>
            <a:off x="-17640" y="4214880"/>
            <a:ext cx="4572000" cy="83808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the paper is being pulled to the left.  In what direction should I point the tractor to get it across the paper in the least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) 30 degrees l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) Straight acr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) 30 degrees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4"/>
          <p:cNvSpPr/>
          <p:nvPr/>
        </p:nvSpPr>
        <p:spPr>
          <a:xfrm flipH="1">
            <a:off x="3581280" y="5334120"/>
            <a:ext cx="1981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0" y="3733920"/>
            <a:ext cx="4572000" cy="83808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562720" y="4191120"/>
            <a:ext cx="327636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934320" y="5867280"/>
            <a:ext cx="152280" cy="38124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 flipH="1" flipV="1">
            <a:off x="6629040" y="51055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7010280" y="5029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10"/>
          <p:cNvSpPr/>
          <p:nvPr/>
        </p:nvSpPr>
        <p:spPr>
          <a:xfrm flipV="1">
            <a:off x="7010280" y="51055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019920" y="4419720"/>
            <a:ext cx="2514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ff"/>
                </a:solidFill>
                <a:latin typeface="Times New Roman"/>
              </a:rPr>
              <a:t>1       2   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Better Equations for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Constant Acceleration</a:t>
            </a:r>
            <a:br>
              <a:rPr sz="4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(text, page 113-114)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3086280" cy="166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(t) =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+ 1/2 a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(t) =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a(x-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543480" y="2438280"/>
            <a:ext cx="2543040" cy="16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x =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 + 1/2 at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 =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a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6399360" y="0"/>
            <a:ext cx="250812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7920" y="4191120"/>
                <a:ext cx="15620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0" y="4800600"/>
                <a:ext cx="142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0" y="5796000"/>
                <a:ext cx="2209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9"/>
              <p:cNvSpPr txBox="1"/>
              <p:nvPr/>
            </p:nvSpPr>
            <p:spPr>
              <a:xfrm>
                <a:off x="3589200" y="4097160"/>
                <a:ext cx="1549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3589200" y="5029200"/>
                <a:ext cx="1575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1"/>
              <p:cNvSpPr txBox="1"/>
              <p:nvPr/>
            </p:nvSpPr>
            <p:spPr>
              <a:xfrm>
                <a:off x="3589200" y="5894280"/>
                <a:ext cx="2552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8" name="Text Box 13"/>
          <p:cNvSpPr/>
          <p:nvPr/>
        </p:nvSpPr>
        <p:spPr>
          <a:xfrm>
            <a:off x="8686800" y="6583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7800120" y="14436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Air Tr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533520" y="2819520"/>
            <a:ext cx="8305560" cy="3733560"/>
          </a:xfrm>
          <a:prstGeom prst="rect">
            <a:avLst/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Kinematics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ar is traveling 30 m/s and applies its breaks to stop after a distance of 150 m.  How fast is the car going after it has traveled ½ the distance (75 meters)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) v &lt; 15 m/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) v = 15 m/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v &gt; 15 m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685800" y="2971800"/>
                <a:ext cx="17780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4"/>
              <p:cNvSpPr txBox="1"/>
              <p:nvPr/>
            </p:nvSpPr>
            <p:spPr>
              <a:xfrm>
                <a:off x="3276720" y="2971800"/>
                <a:ext cx="17269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762120" y="3657600"/>
                <a:ext cx="1371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762120" y="4267080"/>
                <a:ext cx="12189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8"/>
              <p:cNvSpPr txBox="1"/>
              <p:nvPr/>
            </p:nvSpPr>
            <p:spPr>
              <a:xfrm>
                <a:off x="3276720" y="3505320"/>
                <a:ext cx="2286000" cy="27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  <m:r>
                          <m:t xml:space="preserve">d</m:t>
                        </m:r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9"/>
              <p:cNvSpPr txBox="1"/>
              <p:nvPr/>
            </p:nvSpPr>
            <p:spPr>
              <a:xfrm>
                <a:off x="5859360" y="2895480"/>
                <a:ext cx="281952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5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50</m:t>
                                </m:r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Oval 23"/>
          <p:cNvSpPr/>
          <p:nvPr/>
        </p:nvSpPr>
        <p:spPr>
          <a:xfrm>
            <a:off x="6019920" y="2057400"/>
            <a:ext cx="2666880" cy="838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0080" y="323640"/>
            <a:ext cx="6881760" cy="69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18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0000"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ar accelerates uniformly from rest.  If it travels a distanc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n how far will it travel in a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. D/4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. D/2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. D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. 2D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. 4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Group 5"/>
          <p:cNvGrpSpPr/>
          <p:nvPr/>
        </p:nvGrpSpPr>
        <p:grpSpPr>
          <a:xfrm>
            <a:off x="1599840" y="3124080"/>
            <a:ext cx="3907440" cy="368280"/>
            <a:chOff x="1599840" y="3124080"/>
            <a:chExt cx="3907440" cy="368280"/>
          </a:xfrm>
        </p:grpSpPr>
        <p:sp>
          <p:nvSpPr>
            <p:cNvPr id="133" name="Text Box 6"/>
            <p:cNvSpPr/>
            <p:nvPr/>
          </p:nvSpPr>
          <p:spPr>
            <a:xfrm>
              <a:off x="2153160" y="3124080"/>
              <a:ext cx="33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Correct  x(t)=0+0+1/2 at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 flipH="1">
              <a:off x="1599840" y="3330720"/>
              <a:ext cx="7045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Rectangle 8"/>
          <p:cNvSpPr/>
          <p:nvPr/>
        </p:nvSpPr>
        <p:spPr>
          <a:xfrm>
            <a:off x="638280" y="4048200"/>
            <a:ext cx="7286400" cy="25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llow up question:  If the car has speed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t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n what is the speed at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. v/4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. v/2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. v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. 2v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. 4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Group 9"/>
          <p:cNvGrpSpPr/>
          <p:nvPr/>
        </p:nvGrpSpPr>
        <p:grpSpPr>
          <a:xfrm>
            <a:off x="1600200" y="5867280"/>
            <a:ext cx="3130920" cy="368280"/>
            <a:chOff x="1600200" y="5867280"/>
            <a:chExt cx="3130920" cy="368280"/>
          </a:xfrm>
        </p:grpSpPr>
        <p:sp>
          <p:nvSpPr>
            <p:cNvPr id="137" name="Text Box 10"/>
            <p:cNvSpPr/>
            <p:nvPr/>
          </p:nvSpPr>
          <p:spPr>
            <a:xfrm>
              <a:off x="2126880" y="5867280"/>
              <a:ext cx="26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33"/>
                  </a:solidFill>
                  <a:latin typeface="Comic Sans MS"/>
                </a:rPr>
                <a:t>Correct  v(t)=0+a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11"/>
            <p:cNvSpPr/>
            <p:nvPr/>
          </p:nvSpPr>
          <p:spPr>
            <a:xfrm flipH="1">
              <a:off x="1600200" y="6073560"/>
              <a:ext cx="7048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9-10T15:02:15Z</dcterms:modified>
  <cp:revision>415</cp:revision>
  <dc:subject/>
  <dc:title>Outline</dc:title>
</cp:coreProperties>
</file>