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BC6-3C11-424B-B39A-CDF74318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E10-44E1-43FD-978F-68C28962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670-9514-4DE5-9BE7-04D231B4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BC1-1715-427E-B947-22092C08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78857-CE39-44B0-AC0E-F1D2947B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99731-839F-4DAE-AF30-21173D55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118CB-6D2E-4A8D-9A91-93F9A431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F38CA-CB7A-4E5A-B28A-38136B8D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7C840-6263-4F7C-9AC9-4E1C8B65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AF7B2-7AB2-4C29-BCC9-52776E7F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39958-2C80-4236-A66B-5EC279FE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9B0-DB5A-4ACA-93AF-1A30D49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CEA9E-24E1-4035-B5A0-986DB941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4899A-386C-4CB5-B622-C52E96B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7273A-DA7C-4F98-98CE-C2282C56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11A5-4F08-4412-A939-32E47378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C697C-5113-4C52-8C73-ADB826CC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4DCA5-9746-47C0-9C58-0AC9D87E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49C26-8842-4F68-A169-D0669C64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F2F56-A832-4AFD-92B2-ECACB556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F7B88-D77E-4608-86CE-CB1F8974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E5C66-D139-4BDC-9530-38942DCA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D5A-9414-4EEA-A2C4-86FDC220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B228E-8991-49F1-8DD1-0C48CCE4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5802E-8E37-4C0F-99F2-EBF6E14B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D7EDB-B67B-4390-ACD7-6B3CB75E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3E3BC-FD73-476E-A973-2F715AB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B20B6-1AB4-4D00-BFBA-47CF5EE8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9999C-92FA-447A-97C2-82FD51EA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E9A3A-C478-49A4-A4D9-55734ACB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7148D-8764-4B1E-A8CA-95C77B48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059F0-0C99-46E7-AA58-0AD469E8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D6EF1-EC55-4FF5-AD80-E2F6603B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922-EB41-4CBD-A666-9931DD0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24979-C6A1-4029-A167-A2864EF4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1F641-65DD-49F0-BF12-C80DC159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ED25E-8A33-40CF-BC5A-982D04CC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C5394-747A-4BBC-9BBA-CC7E35A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E1083-3C00-4A0A-A617-2E2AFF4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1D0AE-1560-4E7B-BDC2-D7FD69D0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894D4-4E09-40B5-9C94-8EBE7E40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21E2F-6D7B-4BA8-A843-387F826A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B2D53-642D-4481-AD25-9F7B3212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E982A-1097-42C3-A19D-3038DFEE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F43-657F-48C0-BB71-740B222A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297F0-19EB-4EB2-BC08-0C83DB3E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28F68-1EC4-468E-BC4F-4465B399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4430C-DAEA-4465-B300-F5EB0881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B54FF-83BB-4437-8AE6-E38B6597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E8275-71C6-4828-B229-A85CAEF9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35216-8110-4A77-9FA7-9DB6347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14767-EE95-43BB-B27D-7717C38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B5C5F-D4D8-4461-99F1-68BD41B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8455F-330F-4B8E-AB13-7762E7D0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07BF3-7CD1-49DD-81A0-120A0B70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D34-426C-448F-991E-F83AB78A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7AA45-3BD5-4477-9001-BE65674C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FE7E5-9CBE-4EB6-A056-FEE33BA2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85DFF-9BE2-4BED-A7F6-A447F70E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70FCA-7B96-4988-A32D-FEB2A1E2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9D8B0-E528-4780-B93D-67CC35FC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3E666-E047-4DCA-9318-CC8B9F98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60696-35A0-44C0-BF78-48BDE758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C03CA-B8A5-4ED4-9F58-A6501A00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BA3B5-BF0A-4ABB-892E-019DAF7A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036C3-0A58-481D-8D3F-7F9AF682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CBF-0A0F-4855-80BB-F95FBC3A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991AE-FAA7-4D16-B222-74FF17C3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C796A-EAD7-42EB-B760-39FDC835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03BEB-F0B3-40A6-9D7C-B234FBB2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6AB-8661-45AC-A7FB-3385FD0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10B-C49B-474A-B8B6-4E1A991B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0EDB-AD81-49D4-B354-3DF71305D1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4051-1019-4D6E-AE05-D1A9C62E7F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A5E7-52AD-4355-ACFF-9712859B27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EDBF-FE53-4C35-91A9-B799C6B7AC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2E0B-3BAC-4D2C-BC6F-286CABE448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B4FD-4C55-4EF0-BAF8-1A906DA0A9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88c"/>
                </a:solidFill>
                <a:latin typeface="Garamond"/>
              </a:rPr>
              <a:t>Physics 101 – Lecture 5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Content Placeholder 1"/>
          <p:cNvSpPr/>
          <p:nvPr/>
        </p:nvSpPr>
        <p:spPr>
          <a:xfrm>
            <a:off x="914400" y="217476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oday’s lecture will cover sections 4.3 through 4.5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440" y="1828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rock is tossed at a speed of 20m/s from the top of a 10m high cliff.  The initial velocity is 30° above the horizontal.  How far is it from the cliff when it is 5m above the groun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0" name="Content Placeholder 1"/>
          <p:cNvSpPr/>
          <p:nvPr/>
        </p:nvSpPr>
        <p:spPr>
          <a:xfrm>
            <a:off x="76212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2  -  A rock off the cliff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28280" y="4952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Garamond"/>
              </a:rPr>
              <a:t>Take 3 minutes and start the solu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61760" y="368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id you draw a picture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870160" y="3219120"/>
            <a:ext cx="2816280" cy="31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w write out the relevant kinematic expressions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380880" y="1371600"/>
            <a:ext cx="4991400" cy="2705040"/>
            <a:chOff x="380880" y="1371600"/>
            <a:chExt cx="4991400" cy="2705040"/>
          </a:xfrm>
        </p:grpSpPr>
        <p:cxnSp>
          <p:nvCxnSpPr>
            <p:cNvPr id="445" name="Straight Arrow Connector 4"/>
            <p:cNvCxnSpPr/>
            <p:nvPr/>
          </p:nvCxnSpPr>
          <p:spPr>
            <a:xfrm flipV="1">
              <a:off x="913680" y="1675800"/>
              <a:ext cx="1080" cy="1797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446" name="Straight Arrow Connector 5"/>
            <p:cNvCxnSpPr/>
            <p:nvPr/>
          </p:nvCxnSpPr>
          <p:spPr>
            <a:xfrm>
              <a:off x="913680" y="3473280"/>
              <a:ext cx="403956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447" name="Content Placeholder 1"/>
            <p:cNvSpPr/>
            <p:nvPr/>
          </p:nvSpPr>
          <p:spPr>
            <a:xfrm>
              <a:off x="4534200" y="327672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8" name="Content Placeholder 1"/>
            <p:cNvSpPr/>
            <p:nvPr/>
          </p:nvSpPr>
          <p:spPr>
            <a:xfrm>
              <a:off x="380880" y="137160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49" name="Freeform 10"/>
          <p:cNvSpPr/>
          <p:nvPr/>
        </p:nvSpPr>
        <p:spPr>
          <a:xfrm>
            <a:off x="905040" y="1547640"/>
            <a:ext cx="3454200" cy="1452600"/>
          </a:xfrm>
          <a:custGeom>
            <a:avLst/>
            <a:gdLst/>
            <a:ahLst/>
            <a:rect l="l" t="t" r="r" b="b"/>
            <a:pathLst>
              <a:path w="3453414" h="1452183">
                <a:moveTo>
                  <a:pt x="0" y="706459"/>
                </a:moveTo>
                <a:cubicBezTo>
                  <a:pt x="564472" y="302525"/>
                  <a:pt x="1128944" y="-101408"/>
                  <a:pt x="1704513" y="22879"/>
                </a:cubicBezTo>
                <a:cubicBezTo>
                  <a:pt x="2280082" y="147166"/>
                  <a:pt x="2866748" y="799674"/>
                  <a:pt x="3453414" y="1452183"/>
                </a:cubicBezTo>
              </a:path>
            </a:pathLst>
          </a:custGeom>
          <a:noFill/>
          <a:ln w="38160">
            <a:solidFill>
              <a:srgbClr val="bc2665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0" name="Straight Arrow Connector 12"/>
          <p:cNvCxnSpPr/>
          <p:nvPr/>
        </p:nvCxnSpPr>
        <p:spPr>
          <a:xfrm flipH="1">
            <a:off x="4190760" y="1980720"/>
            <a:ext cx="762480" cy="7628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1" name="Content Placeholder 2"/>
          <p:cNvSpPr/>
          <p:nvPr/>
        </p:nvSpPr>
        <p:spPr>
          <a:xfrm>
            <a:off x="4599000" y="10843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 = T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2" name="Straight Connector 15"/>
          <p:cNvSpPr/>
          <p:nvPr/>
        </p:nvSpPr>
        <p:spPr>
          <a:xfrm flipH="1">
            <a:off x="905040" y="2743200"/>
            <a:ext cx="3209760" cy="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3" name="Straight Connector 17"/>
          <p:cNvSpPr/>
          <p:nvPr/>
        </p:nvSpPr>
        <p:spPr>
          <a:xfrm>
            <a:off x="4114800" y="2743200"/>
            <a:ext cx="0" cy="73008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4" name="Content Placeholder 2"/>
          <p:cNvSpPr/>
          <p:nvPr/>
        </p:nvSpPr>
        <p:spPr>
          <a:xfrm>
            <a:off x="905040" y="1981080"/>
            <a:ext cx="1714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y( T )=5m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5" name="Content Placeholder 2"/>
          <p:cNvSpPr/>
          <p:nvPr/>
        </p:nvSpPr>
        <p:spPr>
          <a:xfrm>
            <a:off x="3274920" y="3473280"/>
            <a:ext cx="171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x( T )=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6" name="Straight Arrow Connector 21"/>
          <p:cNvCxnSpPr/>
          <p:nvPr/>
        </p:nvCxnSpPr>
        <p:spPr>
          <a:xfrm flipV="1">
            <a:off x="904680" y="1294560"/>
            <a:ext cx="1076760" cy="9802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457" name="Content Placeholder 2"/>
          <p:cNvSpPr/>
          <p:nvPr/>
        </p:nvSpPr>
        <p:spPr>
          <a:xfrm>
            <a:off x="990720" y="1236600"/>
            <a:ext cx="6350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8" name="Straight Arrow Connector 26"/>
          <p:cNvCxnSpPr/>
          <p:nvPr/>
        </p:nvCxnSpPr>
        <p:spPr>
          <a:xfrm flipV="1">
            <a:off x="3580920" y="4514400"/>
            <a:ext cx="1080" cy="103752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59" name="Straight Arrow Connector 28"/>
          <p:cNvCxnSpPr/>
          <p:nvPr/>
        </p:nvCxnSpPr>
        <p:spPr>
          <a:xfrm>
            <a:off x="1088640" y="5551200"/>
            <a:ext cx="2493000" cy="10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grpSp>
        <p:nvGrpSpPr>
          <p:cNvPr id="460" name="Group 33"/>
          <p:cNvGrpSpPr/>
          <p:nvPr/>
        </p:nvGrpSpPr>
        <p:grpSpPr>
          <a:xfrm>
            <a:off x="1088640" y="4352760"/>
            <a:ext cx="2492640" cy="1198440"/>
            <a:chOff x="1088640" y="4352760"/>
            <a:chExt cx="2492640" cy="1198440"/>
          </a:xfrm>
        </p:grpSpPr>
        <p:cxnSp>
          <p:nvCxnSpPr>
            <p:cNvPr id="461" name="Straight Arrow Connector 23"/>
            <p:cNvCxnSpPr/>
            <p:nvPr/>
          </p:nvCxnSpPr>
          <p:spPr>
            <a:xfrm flipV="1">
              <a:off x="1088640" y="4494960"/>
              <a:ext cx="2493000" cy="1056600"/>
            </a:xfrm>
            <a:prstGeom prst="straightConnector1">
              <a:avLst/>
            </a:prstGeom>
            <a:ln w="4428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62" name="Content Placeholder 2"/>
            <p:cNvSpPr/>
            <p:nvPr/>
          </p:nvSpPr>
          <p:spPr>
            <a:xfrm>
              <a:off x="1969920" y="4352760"/>
              <a:ext cx="635040" cy="8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6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Garamond"/>
                </a:rPr>
                <a:t>v</a:t>
              </a:r>
              <a:r>
                <a:rPr b="0" lang="en-US" sz="2400" spc="-1" strike="noStrike" baseline="-25000">
                  <a:solidFill>
                    <a:srgbClr val="00b05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63" name="Content Placeholder 2"/>
          <p:cNvSpPr/>
          <p:nvPr/>
        </p:nvSpPr>
        <p:spPr>
          <a:xfrm>
            <a:off x="3581280" y="4668840"/>
            <a:ext cx="19051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sin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4" name="Content Placeholder 2"/>
          <p:cNvSpPr/>
          <p:nvPr/>
        </p:nvSpPr>
        <p:spPr>
          <a:xfrm>
            <a:off x="1557360" y="5334120"/>
            <a:ext cx="19051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cos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5" name="Content Placeholder 2"/>
          <p:cNvSpPr/>
          <p:nvPr/>
        </p:nvSpPr>
        <p:spPr>
          <a:xfrm>
            <a:off x="6754680" y="446040"/>
            <a:ext cx="223704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y(0)=1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x(0)=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32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=20m/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Content Placeholder 3"/>
              <p:cNvSpPr txBox="1"/>
              <p:nvPr/>
            </p:nvSpPr>
            <p:spPr>
              <a:xfrm>
                <a:off x="380880" y="380880"/>
                <a:ext cx="2845080" cy="238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3860640" y="431640"/>
                <a:ext cx="2895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Content Placeholder 2"/>
          <p:cNvSpPr/>
          <p:nvPr/>
        </p:nvSpPr>
        <p:spPr>
          <a:xfrm>
            <a:off x="38088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ou need T to compute x(T).  Use y(T) to find 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2438280" y="3492360"/>
                <a:ext cx="5537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2514600" y="4267080"/>
                <a:ext cx="426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0"/>
              <p:cNvSpPr txBox="1"/>
              <p:nvPr/>
            </p:nvSpPr>
            <p:spPr>
              <a:xfrm>
                <a:off x="380880" y="4876920"/>
                <a:ext cx="4445280" cy="18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7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1760" y="380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Projectile motion refers to the motion of an object under the influence of a constant total force.  Far and away the most common situation is a ball that has been thrown near the surface of the Earth.  The only force is the weight of the ball.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not all the time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47680" y="572112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48960" y="4438440"/>
            <a:ext cx="68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905040" y="4876560"/>
            <a:ext cx="2855880" cy="1372320"/>
            <a:chOff x="905040" y="4876560"/>
            <a:chExt cx="2855880" cy="1372320"/>
          </a:xfrm>
        </p:grpSpPr>
        <p:cxnSp>
          <p:nvCxnSpPr>
            <p:cNvPr id="366" name="Straight Arrow Connector 3"/>
            <p:cNvCxnSpPr/>
            <p:nvPr/>
          </p:nvCxnSpPr>
          <p:spPr>
            <a:xfrm flipV="1">
              <a:off x="914040" y="4876560"/>
              <a:ext cx="1080" cy="137232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67" name="Straight Arrow Connector 5"/>
            <p:cNvCxnSpPr/>
            <p:nvPr/>
          </p:nvCxnSpPr>
          <p:spPr>
            <a:xfrm>
              <a:off x="914400" y="6248160"/>
              <a:ext cx="129600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68" name="Oval 10"/>
            <p:cNvSpPr/>
            <p:nvPr/>
          </p:nvSpPr>
          <p:spPr>
            <a:xfrm>
              <a:off x="1981440" y="5038560"/>
              <a:ext cx="152280" cy="152280"/>
            </a:xfrm>
            <a:prstGeom prst="ellipse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>
              <a:off x="905040" y="4976640"/>
              <a:ext cx="2855880" cy="1254240"/>
            </a:xfrm>
            <a:custGeom>
              <a:avLst/>
              <a:gdLst/>
              <a:ahLst/>
              <a:rect l="l" t="t" r="r" b="b"/>
              <a:pathLst>
                <a:path w="2856322" h="1253712">
                  <a:moveTo>
                    <a:pt x="0" y="1253712"/>
                  </a:moveTo>
                  <a:cubicBezTo>
                    <a:pt x="487837" y="681819"/>
                    <a:pt x="975674" y="109926"/>
                    <a:pt x="1451728" y="9373"/>
                  </a:cubicBezTo>
                  <a:cubicBezTo>
                    <a:pt x="1927782" y="-91180"/>
                    <a:pt x="2856322" y="650396"/>
                    <a:pt x="2856322" y="650396"/>
                  </a:cubicBezTo>
                </a:path>
              </a:pathLst>
            </a:custGeom>
            <a:noFill/>
            <a:ln w="25560">
              <a:solidFill>
                <a:srgbClr val="ff388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cxnSp>
        <p:nvCxnSpPr>
          <p:cNvPr id="370" name="Straight Arrow Connector 13"/>
          <p:cNvCxnSpPr/>
          <p:nvPr/>
        </p:nvCxnSpPr>
        <p:spPr>
          <a:xfrm>
            <a:off x="2057040" y="5190840"/>
            <a:ext cx="1080" cy="52416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71" name=""/>
          <p:cNvSpPr txBox="1"/>
          <p:nvPr/>
        </p:nvSpPr>
        <p:spPr>
          <a:xfrm>
            <a:off x="2041560" y="4915080"/>
            <a:ext cx="99072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419720" y="4772160"/>
            <a:ext cx="39621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0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-9.8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61760" y="380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1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car has an initial velocity of 30m/s.  It skids uniformly to a stop in a distance of 500m.  What is the coefficient of kinetic friction between tires and roa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838080" y="342900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 Question:  Which of these expressions is likely to be easier to use in this problem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2a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x(t) = x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+ 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t + 0.5at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Left Arrow 5"/>
          <p:cNvSpPr/>
          <p:nvPr/>
        </p:nvSpPr>
        <p:spPr>
          <a:xfrm>
            <a:off x="5867280" y="5486400"/>
            <a:ext cx="1295640" cy="304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6176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does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get into the solution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Content Placeholder 1"/>
          <p:cNvSpPr/>
          <p:nvPr/>
        </p:nvSpPr>
        <p:spPr>
          <a:xfrm>
            <a:off x="762120" y="11271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orce Model            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 =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Content Placeholder 1"/>
          <p:cNvSpPr/>
          <p:nvPr/>
        </p:nvSpPr>
        <p:spPr>
          <a:xfrm>
            <a:off x="762120" y="20271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are we going to find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Content Placeholder 1"/>
          <p:cNvSpPr/>
          <p:nvPr/>
        </p:nvSpPr>
        <p:spPr>
          <a:xfrm>
            <a:off x="762120" y="277344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ewton’s 2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nd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law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0" name="Content Placeholder 1"/>
          <p:cNvSpPr/>
          <p:nvPr/>
        </p:nvSpPr>
        <p:spPr>
          <a:xfrm>
            <a:off x="762120" y="352116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So what should we be doing?  CLICKER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Content Placeholder 1"/>
          <p:cNvSpPr/>
          <p:nvPr/>
        </p:nvSpPr>
        <p:spPr>
          <a:xfrm>
            <a:off x="762120" y="4495680"/>
            <a:ext cx="7543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Looking up equation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Hunting for a table of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valu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)  Drawing a picture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1868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raw the free body diagra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286000" y="2666880"/>
            <a:ext cx="990720" cy="457200"/>
          </a:xfrm>
          <a:prstGeom prst="rect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84" name="Group 10"/>
          <p:cNvGrpSpPr/>
          <p:nvPr/>
        </p:nvGrpSpPr>
        <p:grpSpPr>
          <a:xfrm>
            <a:off x="7086240" y="1784520"/>
            <a:ext cx="1535400" cy="1511280"/>
            <a:chOff x="7086240" y="1784520"/>
            <a:chExt cx="1535400" cy="1511280"/>
          </a:xfrm>
        </p:grpSpPr>
        <p:cxnSp>
          <p:nvCxnSpPr>
            <p:cNvPr id="385" name="Straight Arrow Connector 5"/>
            <p:cNvCxnSpPr/>
            <p:nvPr/>
          </p:nvCxnSpPr>
          <p:spPr>
            <a:xfrm flipV="1">
              <a:off x="7086240" y="2209320"/>
              <a:ext cx="1080" cy="762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86" name="Straight Arrow Connector 7"/>
            <p:cNvCxnSpPr/>
            <p:nvPr/>
          </p:nvCxnSpPr>
          <p:spPr>
            <a:xfrm>
              <a:off x="7086240" y="2971800"/>
              <a:ext cx="76284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87" name="Content Placeholder 1"/>
            <p:cNvSpPr/>
            <p:nvPr/>
          </p:nvSpPr>
          <p:spPr>
            <a:xfrm>
              <a:off x="7783560" y="2495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8" name="Content Placeholder 1"/>
            <p:cNvSpPr/>
            <p:nvPr/>
          </p:nvSpPr>
          <p:spPr>
            <a:xfrm>
              <a:off x="7086600" y="1784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2781000" y="1599480"/>
            <a:ext cx="868680" cy="1067040"/>
            <a:chOff x="2781000" y="1599480"/>
            <a:chExt cx="868680" cy="1067040"/>
          </a:xfrm>
        </p:grpSpPr>
        <p:cxnSp>
          <p:nvCxnSpPr>
            <p:cNvPr id="390" name="Straight Arrow Connector 16"/>
            <p:cNvCxnSpPr>
              <a:stCxn id="383" idx="0"/>
            </p:cNvCxnSpPr>
            <p:nvPr/>
          </p:nvCxnSpPr>
          <p:spPr>
            <a:xfrm flipV="1">
              <a:off x="2781000" y="1599480"/>
              <a:ext cx="1080" cy="106740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1" name="Content Placeholder 1"/>
            <p:cNvSpPr/>
            <p:nvPr/>
          </p:nvSpPr>
          <p:spPr>
            <a:xfrm>
              <a:off x="2811240" y="173340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2" name="Group 27"/>
          <p:cNvGrpSpPr/>
          <p:nvPr/>
        </p:nvGrpSpPr>
        <p:grpSpPr>
          <a:xfrm>
            <a:off x="2781000" y="3124080"/>
            <a:ext cx="838440" cy="1067400"/>
            <a:chOff x="2781000" y="3124080"/>
            <a:chExt cx="838440" cy="1067400"/>
          </a:xfrm>
        </p:grpSpPr>
        <p:cxnSp>
          <p:nvCxnSpPr>
            <p:cNvPr id="393" name="Straight Arrow Connector 14"/>
            <p:cNvCxnSpPr>
              <a:stCxn id="383" idx="2"/>
            </p:cNvCxnSpPr>
            <p:nvPr/>
          </p:nvCxnSpPr>
          <p:spPr>
            <a:xfrm>
              <a:off x="2781000" y="3124080"/>
              <a:ext cx="1080" cy="10677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4" name="Content Placeholder 1"/>
            <p:cNvSpPr/>
            <p:nvPr/>
          </p:nvSpPr>
          <p:spPr>
            <a:xfrm>
              <a:off x="2781360" y="325728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mg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5" name="Group 25"/>
          <p:cNvGrpSpPr/>
          <p:nvPr/>
        </p:nvGrpSpPr>
        <p:grpSpPr>
          <a:xfrm>
            <a:off x="1294920" y="2324160"/>
            <a:ext cx="914760" cy="800280"/>
            <a:chOff x="1294920" y="2324160"/>
            <a:chExt cx="914760" cy="800280"/>
          </a:xfrm>
        </p:grpSpPr>
        <p:cxnSp>
          <p:nvCxnSpPr>
            <p:cNvPr id="396" name="Straight Arrow Connector 12"/>
            <p:cNvCxnSpPr/>
            <p:nvPr/>
          </p:nvCxnSpPr>
          <p:spPr>
            <a:xfrm flipH="1">
              <a:off x="1294920" y="3123720"/>
              <a:ext cx="91512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7" name="Content Placeholder 1"/>
            <p:cNvSpPr/>
            <p:nvPr/>
          </p:nvSpPr>
          <p:spPr>
            <a:xfrm>
              <a:off x="1371240" y="232416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F</a:t>
              </a:r>
              <a:r>
                <a:rPr b="0" lang="en-US" sz="3600" spc="-1" strike="noStrike" baseline="-25000">
                  <a:solidFill>
                    <a:srgbClr val="ff388c"/>
                  </a:solidFill>
                  <a:latin typeface="Garamond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8" name="Group 28"/>
          <p:cNvGrpSpPr/>
          <p:nvPr/>
        </p:nvGrpSpPr>
        <p:grpSpPr>
          <a:xfrm>
            <a:off x="3733200" y="2133720"/>
            <a:ext cx="1143720" cy="799920"/>
            <a:chOff x="3733200" y="2133720"/>
            <a:chExt cx="1143720" cy="799920"/>
          </a:xfrm>
        </p:grpSpPr>
        <p:cxnSp>
          <p:nvCxnSpPr>
            <p:cNvPr id="399" name="Straight Arrow Connector 21"/>
            <p:cNvCxnSpPr/>
            <p:nvPr/>
          </p:nvCxnSpPr>
          <p:spPr>
            <a:xfrm flipH="1">
              <a:off x="3733200" y="2895480"/>
              <a:ext cx="839160" cy="1080"/>
            </a:xfrm>
            <a:prstGeom prst="straightConnector1">
              <a:avLst/>
            </a:prstGeom>
            <a:ln w="507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00" name="Content Placeholder 1"/>
            <p:cNvSpPr/>
            <p:nvPr/>
          </p:nvSpPr>
          <p:spPr>
            <a:xfrm>
              <a:off x="4038480" y="213372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b050"/>
                  </a:solidFill>
                  <a:latin typeface="Garamond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01" name="Content Placeholder 1"/>
          <p:cNvSpPr/>
          <p:nvPr/>
        </p:nvSpPr>
        <p:spPr>
          <a:xfrm>
            <a:off x="4229280" y="3009960"/>
            <a:ext cx="361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rot out Newt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8680" y="4343400"/>
            <a:ext cx="80773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-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m(-a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rite down our model for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and gather our equations together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4" name="Content Placeholder 1"/>
          <p:cNvSpPr/>
          <p:nvPr/>
        </p:nvSpPr>
        <p:spPr>
          <a:xfrm>
            <a:off x="91440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ma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e have 5 unknowns: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N,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a,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re we stuck?  Maybe.  Let’s find ou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Content Placeholder 3"/>
              <p:cNvSpPr txBox="1"/>
              <p:nvPr/>
            </p:nvSpPr>
            <p:spPr>
              <a:xfrm>
                <a:off x="457200" y="304920"/>
                <a:ext cx="1498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2590920" y="380880"/>
                <a:ext cx="16509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 txBox="1"/>
          <p:nvPr/>
        </p:nvSpPr>
        <p:spPr>
          <a:xfrm>
            <a:off x="4571640" y="304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NICE!  One additional equation eliminated N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457200" y="2019240"/>
                <a:ext cx="2565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a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3581280" y="2286000"/>
                <a:ext cx="3200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 txBox="1"/>
          <p:nvPr/>
        </p:nvSpPr>
        <p:spPr>
          <a:xfrm>
            <a:off x="456840" y="3809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hat’s going on?  Must be time for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s!  What should we do now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What are erasers for?  Rub out the -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Look at our picture and THINK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re is a hint; look at the velocity and 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12" name="Group 28"/>
          <p:cNvGrpSpPr/>
          <p:nvPr/>
        </p:nvGrpSpPr>
        <p:grpSpPr>
          <a:xfrm>
            <a:off x="528120" y="1599480"/>
            <a:ext cx="4348800" cy="2651760"/>
            <a:chOff x="528120" y="1599480"/>
            <a:chExt cx="4348800" cy="2651760"/>
          </a:xfrm>
        </p:grpSpPr>
        <p:sp>
          <p:nvSpPr>
            <p:cNvPr id="413" name="Rectangle 3"/>
            <p:cNvSpPr/>
            <p:nvPr/>
          </p:nvSpPr>
          <p:spPr>
            <a:xfrm>
              <a:off x="2286000" y="2666880"/>
              <a:ext cx="990720" cy="457200"/>
            </a:xfrm>
            <a:prstGeom prst="rect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14" name="Group 4"/>
            <p:cNvGrpSpPr/>
            <p:nvPr/>
          </p:nvGrpSpPr>
          <p:grpSpPr>
            <a:xfrm>
              <a:off x="528120" y="2739600"/>
              <a:ext cx="1534680" cy="1511640"/>
              <a:chOff x="528120" y="2739600"/>
              <a:chExt cx="1534680" cy="1511640"/>
            </a:xfrm>
          </p:grpSpPr>
          <p:cxnSp>
            <p:nvCxnSpPr>
              <p:cNvPr id="415" name="Straight Arrow Connector 5"/>
              <p:cNvCxnSpPr/>
              <p:nvPr/>
            </p:nvCxnSpPr>
            <p:spPr>
              <a:xfrm flipV="1">
                <a:off x="528120" y="3164400"/>
                <a:ext cx="1080" cy="76284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cxnSp>
            <p:nvCxnSpPr>
              <p:cNvPr id="416" name="Straight Arrow Connector 6"/>
              <p:cNvCxnSpPr/>
              <p:nvPr/>
            </p:nvCxnSpPr>
            <p:spPr>
              <a:xfrm>
                <a:off x="528480" y="3926880"/>
                <a:ext cx="76320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17" name="Content Placeholder 1"/>
              <p:cNvSpPr/>
              <p:nvPr/>
            </p:nvSpPr>
            <p:spPr>
              <a:xfrm>
                <a:off x="1224000" y="345096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x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418" name="Content Placeholder 1"/>
              <p:cNvSpPr/>
              <p:nvPr/>
            </p:nvSpPr>
            <p:spPr>
              <a:xfrm>
                <a:off x="528480" y="273960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y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19" name="Group 9"/>
            <p:cNvGrpSpPr/>
            <p:nvPr/>
          </p:nvGrpSpPr>
          <p:grpSpPr>
            <a:xfrm>
              <a:off x="2781000" y="1599480"/>
              <a:ext cx="868680" cy="1067040"/>
              <a:chOff x="2781000" y="1599480"/>
              <a:chExt cx="868680" cy="1067040"/>
            </a:xfrm>
          </p:grpSpPr>
          <p:cxnSp>
            <p:nvCxnSpPr>
              <p:cNvPr id="420" name="Straight Arrow Connector 10"/>
              <p:cNvCxnSpPr>
                <a:stCxn id="413" idx="0"/>
              </p:cNvCxnSpPr>
              <p:nvPr/>
            </p:nvCxnSpPr>
            <p:spPr>
              <a:xfrm flipV="1">
                <a:off x="2781000" y="159948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1" name="Content Placeholder 1"/>
              <p:cNvSpPr/>
              <p:nvPr/>
            </p:nvSpPr>
            <p:spPr>
              <a:xfrm>
                <a:off x="2811240" y="1733400"/>
                <a:ext cx="83844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N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2" name="Group 12"/>
            <p:cNvGrpSpPr/>
            <p:nvPr/>
          </p:nvGrpSpPr>
          <p:grpSpPr>
            <a:xfrm>
              <a:off x="2781000" y="3123720"/>
              <a:ext cx="838440" cy="1067040"/>
              <a:chOff x="2781000" y="3123720"/>
              <a:chExt cx="838440" cy="1067040"/>
            </a:xfrm>
          </p:grpSpPr>
          <p:cxnSp>
            <p:nvCxnSpPr>
              <p:cNvPr id="423" name="Straight Arrow Connector 13"/>
              <p:cNvCxnSpPr>
                <a:stCxn id="413" idx="2"/>
              </p:cNvCxnSpPr>
              <p:nvPr/>
            </p:nvCxnSpPr>
            <p:spPr>
              <a:xfrm>
                <a:off x="2781000" y="312372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4" name="Content Placeholder 1"/>
              <p:cNvSpPr/>
              <p:nvPr/>
            </p:nvSpPr>
            <p:spPr>
              <a:xfrm>
                <a:off x="2781360" y="3257280"/>
                <a:ext cx="83808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mg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5" name="Group 15"/>
            <p:cNvGrpSpPr/>
            <p:nvPr/>
          </p:nvGrpSpPr>
          <p:grpSpPr>
            <a:xfrm>
              <a:off x="1295280" y="2323800"/>
              <a:ext cx="914760" cy="800280"/>
              <a:chOff x="1295280" y="2323800"/>
              <a:chExt cx="914760" cy="800280"/>
            </a:xfrm>
          </p:grpSpPr>
          <p:cxnSp>
            <p:nvCxnSpPr>
              <p:cNvPr id="426" name="Straight Arrow Connector 16"/>
              <p:cNvCxnSpPr/>
              <p:nvPr/>
            </p:nvCxnSpPr>
            <p:spPr>
              <a:xfrm flipH="1">
                <a:off x="1295280" y="3123360"/>
                <a:ext cx="91512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7" name="Content Placeholder 1"/>
              <p:cNvSpPr/>
              <p:nvPr/>
            </p:nvSpPr>
            <p:spPr>
              <a:xfrm>
                <a:off x="1371600" y="232380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F</a:t>
                </a:r>
                <a:r>
                  <a:rPr b="0" lang="en-US" sz="3600" spc="-1" strike="noStrike" baseline="-25000">
                    <a:solidFill>
                      <a:srgbClr val="ff388c"/>
                    </a:solidFill>
                    <a:latin typeface="Garamond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8" name="Group 18"/>
            <p:cNvGrpSpPr/>
            <p:nvPr/>
          </p:nvGrpSpPr>
          <p:grpSpPr>
            <a:xfrm>
              <a:off x="3733200" y="2133360"/>
              <a:ext cx="1143720" cy="799920"/>
              <a:chOff x="3733200" y="2133360"/>
              <a:chExt cx="1143720" cy="799920"/>
            </a:xfrm>
          </p:grpSpPr>
          <p:cxnSp>
            <p:nvCxnSpPr>
              <p:cNvPr id="429" name="Straight Arrow Connector 19"/>
              <p:cNvCxnSpPr/>
              <p:nvPr/>
            </p:nvCxnSpPr>
            <p:spPr>
              <a:xfrm flipH="1">
                <a:off x="3733200" y="2895120"/>
                <a:ext cx="839160" cy="1080"/>
              </a:xfrm>
              <a:prstGeom prst="straightConnector1">
                <a:avLst/>
              </a:prstGeom>
              <a:ln w="50760">
                <a:solidFill>
                  <a:srgbClr val="00b050"/>
                </a:solidFill>
                <a:miter/>
                <a:tailEnd len="med" type="triangle" w="med"/>
              </a:ln>
            </p:spPr>
          </p:cxnSp>
          <p:sp>
            <p:nvSpPr>
              <p:cNvPr id="430" name="Content Placeholder 1"/>
              <p:cNvSpPr/>
              <p:nvPr/>
            </p:nvSpPr>
            <p:spPr>
              <a:xfrm>
                <a:off x="4038480" y="213336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b050"/>
                    </a:solidFill>
                    <a:latin typeface="Garamond"/>
                  </a:rPr>
                  <a:t>a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</p:grpSp>
      <p:grpSp>
        <p:nvGrpSpPr>
          <p:cNvPr id="431" name="Group 21"/>
          <p:cNvGrpSpPr/>
          <p:nvPr/>
        </p:nvGrpSpPr>
        <p:grpSpPr>
          <a:xfrm>
            <a:off x="5904720" y="1682640"/>
            <a:ext cx="1143720" cy="800280"/>
            <a:chOff x="5904720" y="1682640"/>
            <a:chExt cx="1143720" cy="800280"/>
          </a:xfrm>
        </p:grpSpPr>
        <p:cxnSp>
          <p:nvCxnSpPr>
            <p:cNvPr id="432" name="Straight Arrow Connector 22"/>
            <p:cNvCxnSpPr/>
            <p:nvPr/>
          </p:nvCxnSpPr>
          <p:spPr>
            <a:xfrm flipH="1">
              <a:off x="5904720" y="2444760"/>
              <a:ext cx="8391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3" name="Content Placeholder 1"/>
            <p:cNvSpPr/>
            <p:nvPr/>
          </p:nvSpPr>
          <p:spPr>
            <a:xfrm>
              <a:off x="6210000" y="168264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v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34" name="Group 24"/>
          <p:cNvGrpSpPr/>
          <p:nvPr/>
        </p:nvGrpSpPr>
        <p:grpSpPr>
          <a:xfrm>
            <a:off x="5905080" y="2666880"/>
            <a:ext cx="1791000" cy="800280"/>
            <a:chOff x="5905080" y="2666880"/>
            <a:chExt cx="1791000" cy="800280"/>
          </a:xfrm>
        </p:grpSpPr>
        <p:cxnSp>
          <p:nvCxnSpPr>
            <p:cNvPr id="435" name="Straight Arrow Connector 25"/>
            <p:cNvCxnSpPr/>
            <p:nvPr/>
          </p:nvCxnSpPr>
          <p:spPr>
            <a:xfrm flipH="1">
              <a:off x="5905080" y="3429000"/>
              <a:ext cx="17913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6" name="Content Placeholder 1"/>
            <p:cNvSpPr/>
            <p:nvPr/>
          </p:nvSpPr>
          <p:spPr>
            <a:xfrm>
              <a:off x="6383160" y="2666880"/>
              <a:ext cx="13129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Δ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37" name="Content Placeholder 1"/>
          <p:cNvSpPr/>
          <p:nvPr/>
        </p:nvSpPr>
        <p:spPr>
          <a:xfrm>
            <a:off x="380880" y="4191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s equation is subtle.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re is an algebraic sign that you must supply on the left hand side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761760" y="1447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+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rite this if acceleration and displacement are in the SAME direc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-2a</a:t>
            </a:r>
            <a:r>
              <a:rPr b="0" lang="el-GR" sz="3600" spc="-1" strike="noStrike">
                <a:solidFill>
                  <a:srgbClr val="87bb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Write this if acceleration and displacement are in OPPOSITE directions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2:58:58Z</dcterms:created>
  <dc:creator>Brad</dc:creator>
  <dc:description/>
  <dc:language>en-US</dc:language>
  <cp:lastModifiedBy>Halfpap, Bradford Lee</cp:lastModifiedBy>
  <dcterms:modified xsi:type="dcterms:W3CDTF">2012-09-13T15:16:54Z</dcterms:modified>
  <cp:revision>25</cp:revision>
  <dc:subject/>
  <dc:title>PowerPoint Presentation</dc:title>
</cp:coreProperties>
</file>