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532-92AA-4402-9FE1-244B2E79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2B2-B702-42B2-A786-48539F73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38F-C422-435A-AAF9-8AE415E5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C3D-D955-4F1A-B31A-098FF629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706D8-C52D-45D6-8522-4CA8372D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E8809-E5A1-4A19-911F-4F8D244B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7F505-9F94-4996-A3A6-A6400299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CB2CC-336F-463C-95FB-95F6E455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377E6-6005-4CAA-8403-1DC45358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49E93-6F98-4429-85ED-BD9FF0F8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FC346-A10F-4C1C-B046-4BD83D4D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9B1-4CA7-4F29-B757-8D388632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DE44E-B4B8-4D7A-8BE3-5116601D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440F2-1649-4F73-B61C-4DE0D140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B5951-A855-4A8A-ABF3-248C2BC4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DB6C0-37E5-4BCF-9AC2-CC6FBD27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26ED3-1078-4602-856F-43261202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B24D3-6C37-4BC3-A329-B4F6803A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AF5B2-0CDC-4750-9CA2-A1AD1326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38730-1203-4A7D-8099-5C37AB01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79A36-62E3-40A0-8BD8-BDDAC4FF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35695-BBCE-401D-8D71-ECA54546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DF0A-D2A3-4433-8068-04C7AD98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65D38-42C8-4C8E-95F0-A3CBAF69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AD13D-0745-4D98-9F1C-1229D0AD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AD8F9-FCCD-4C83-95A9-7FA16EE0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A9D0D-21FB-4A6E-86C0-FECEBA47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47205-A859-4204-83A5-D84D31FF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1D9AE-48A2-45DF-945F-2CDEB476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D469D-B526-407B-9C5D-EA14C5D7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3DFD81-3B2D-417D-AD69-BC4E04D6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D60A2-DC7E-4B5E-B5B7-659D8D82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8B9D9F-B4DB-4091-A955-6127345D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F38-1EBE-407E-98BF-98A6D2B2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7CDCD9-62AB-4645-9AD4-6B9A818C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544A66-B675-47A5-A710-BF04A2E9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B94CA6-FF8D-4823-BFF7-E01CC1B7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D7AEE2-A21D-41AA-94BA-6A9784EF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73F15C-153E-4622-8128-654BD8CD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BFBF26-9C7D-4965-BC52-1C017B7B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0EF2BF-AB36-47A6-AE9F-F7707C03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42B41E-A4AE-4D70-A87C-C70C7079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78705-6594-4C43-8D65-95DA9ABA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6532D-58C0-40CD-9993-25F78F7B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566-1795-4284-9056-511D4654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7BCC3-4220-467F-8E27-F38C24CD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1436F-05E2-4288-9368-BA821BC4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B93A8-C5E1-499D-A723-7945006B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A136E-6C08-4FB5-AA02-A13BB7F7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AA1A4-B789-4087-AFD3-EFF42C5E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5CEB0-4C78-4CBA-9C7F-895D9797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70CA1-A8D5-46C1-A5CD-F34893DE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90B94-BD0E-4389-9B05-82FB91E5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2AEC17-E672-4525-9DE5-EDF8CCAE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A34EA-CF21-4D0D-A5FA-F0A743C2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318-8128-48E6-96E6-8516003A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B443F-C664-4380-9D0D-1CE5E847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2C264-80BF-472B-92F9-C48FF33F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66C5D-25B4-4C00-A1D8-B921E64A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3102B1-E775-4036-9E66-C0D5D652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9787A4-5FE8-45D0-B9F8-03412F7F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DD9FC7-3D58-4A36-8080-A8A1C175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DE4528-8D65-4A6F-AB46-DF1F1EB4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837254-24EF-4728-9311-3746617A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B224AD-C840-444F-835C-38E9F631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F27E4-76D6-4EFF-9DF1-FD00991D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959-E0E3-4B11-A542-02214CA1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CCAEE4-9225-4CBB-A357-9F5291AB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CA1EE-53A4-4E14-928C-98B5DA22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8E7AC-3206-4959-92DD-E129026A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C1A-6504-4860-A11F-86164DA2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F43-9EE1-4B70-B531-72E239F8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1D97-6864-43D1-B30F-C6188161005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531C-47E8-4975-933C-274B965C6B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F5BD-6398-4E98-BA39-05E79AC131A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AC86-3F5B-4284-9C2F-C40174455D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D3C8-F689-45BC-A9BE-E4E0833BDB5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FEB7-D596-4D70-BFBF-C2D17C41A2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13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314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16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317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19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320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88c"/>
                </a:solidFill>
                <a:latin typeface="Garamond"/>
              </a:rPr>
              <a:t>Physics 101 – Lecture 5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1" name="Content Placeholder 1"/>
          <p:cNvSpPr/>
          <p:nvPr/>
        </p:nvSpPr>
        <p:spPr>
          <a:xfrm>
            <a:off x="914400" y="217476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Today’s lecture will cover sections 4.3 through 4.5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685440" y="182880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 rock is tossed at a speed of 20m/s from the top of a 10m high cliff.  The initial velocity is 30° above the horizontal.  How far is it from the cliff when it is 5m above the ground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0" name="Content Placeholder 1"/>
          <p:cNvSpPr/>
          <p:nvPr/>
        </p:nvSpPr>
        <p:spPr>
          <a:xfrm>
            <a:off x="762120" y="5335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Example 2  -  A rock off the cliff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28280" y="49525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Garamond"/>
              </a:rPr>
              <a:t>Take 3 minutes and start the soluti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761760" y="368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Did you draw a picture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870160" y="3219120"/>
            <a:ext cx="2816280" cy="31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ow write out the relevant kinematic expressions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380880" y="1371600"/>
            <a:ext cx="4991400" cy="2705040"/>
            <a:chOff x="380880" y="1371600"/>
            <a:chExt cx="4991400" cy="2705040"/>
          </a:xfrm>
        </p:grpSpPr>
        <p:cxnSp>
          <p:nvCxnSpPr>
            <p:cNvPr id="445" name="Straight Arrow Connector 4"/>
            <p:cNvCxnSpPr/>
            <p:nvPr/>
          </p:nvCxnSpPr>
          <p:spPr>
            <a:xfrm flipV="1">
              <a:off x="913680" y="1675800"/>
              <a:ext cx="1080" cy="179784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446" name="Straight Arrow Connector 5"/>
            <p:cNvCxnSpPr/>
            <p:nvPr/>
          </p:nvCxnSpPr>
          <p:spPr>
            <a:xfrm>
              <a:off x="913680" y="3473280"/>
              <a:ext cx="403956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447" name="Content Placeholder 1"/>
            <p:cNvSpPr/>
            <p:nvPr/>
          </p:nvSpPr>
          <p:spPr>
            <a:xfrm>
              <a:off x="4534200" y="3276720"/>
              <a:ext cx="8380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48" name="Content Placeholder 1"/>
            <p:cNvSpPr/>
            <p:nvPr/>
          </p:nvSpPr>
          <p:spPr>
            <a:xfrm>
              <a:off x="380880" y="1371600"/>
              <a:ext cx="8380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49" name="Freeform 10"/>
          <p:cNvSpPr/>
          <p:nvPr/>
        </p:nvSpPr>
        <p:spPr>
          <a:xfrm>
            <a:off x="905040" y="1547640"/>
            <a:ext cx="3454200" cy="1452600"/>
          </a:xfrm>
          <a:custGeom>
            <a:avLst/>
            <a:gdLst/>
            <a:ahLst/>
            <a:rect l="l" t="t" r="r" b="b"/>
            <a:pathLst>
              <a:path w="3453414" h="1452183">
                <a:moveTo>
                  <a:pt x="0" y="706459"/>
                </a:moveTo>
                <a:cubicBezTo>
                  <a:pt x="564472" y="302525"/>
                  <a:pt x="1128944" y="-101408"/>
                  <a:pt x="1704513" y="22879"/>
                </a:cubicBezTo>
                <a:cubicBezTo>
                  <a:pt x="2280082" y="147166"/>
                  <a:pt x="2866748" y="799674"/>
                  <a:pt x="3453414" y="1452183"/>
                </a:cubicBezTo>
              </a:path>
            </a:pathLst>
          </a:custGeom>
          <a:noFill/>
          <a:ln w="38160">
            <a:solidFill>
              <a:srgbClr val="bc2665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0" name="Straight Arrow Connector 12"/>
          <p:cNvCxnSpPr/>
          <p:nvPr/>
        </p:nvCxnSpPr>
        <p:spPr>
          <a:xfrm flipH="1">
            <a:off x="4190760" y="1980720"/>
            <a:ext cx="762480" cy="76284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51" name="Content Placeholder 2"/>
          <p:cNvSpPr/>
          <p:nvPr/>
        </p:nvSpPr>
        <p:spPr>
          <a:xfrm>
            <a:off x="4599000" y="108432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 = T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2" name="Straight Connector 15"/>
          <p:cNvSpPr/>
          <p:nvPr/>
        </p:nvSpPr>
        <p:spPr>
          <a:xfrm flipH="1">
            <a:off x="905040" y="2743200"/>
            <a:ext cx="3209760" cy="0"/>
          </a:xfrm>
          <a:prstGeom prst="line">
            <a:avLst/>
          </a:prstGeom>
          <a:ln w="3168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3" name="Straight Connector 17"/>
          <p:cNvSpPr/>
          <p:nvPr/>
        </p:nvSpPr>
        <p:spPr>
          <a:xfrm>
            <a:off x="4114800" y="2743200"/>
            <a:ext cx="0" cy="730080"/>
          </a:xfrm>
          <a:prstGeom prst="line">
            <a:avLst/>
          </a:prstGeom>
          <a:ln w="3168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4" name="Content Placeholder 2"/>
          <p:cNvSpPr/>
          <p:nvPr/>
        </p:nvSpPr>
        <p:spPr>
          <a:xfrm>
            <a:off x="905040" y="1981080"/>
            <a:ext cx="17143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y( T )=5m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5" name="Content Placeholder 2"/>
          <p:cNvSpPr/>
          <p:nvPr/>
        </p:nvSpPr>
        <p:spPr>
          <a:xfrm>
            <a:off x="3274920" y="3473280"/>
            <a:ext cx="171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x( T )=?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6" name="Straight Arrow Connector 21"/>
          <p:cNvCxnSpPr/>
          <p:nvPr/>
        </p:nvCxnSpPr>
        <p:spPr>
          <a:xfrm flipV="1">
            <a:off x="904680" y="1294560"/>
            <a:ext cx="1076760" cy="98028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457" name="Content Placeholder 2"/>
          <p:cNvSpPr/>
          <p:nvPr/>
        </p:nvSpPr>
        <p:spPr>
          <a:xfrm>
            <a:off x="990720" y="1236600"/>
            <a:ext cx="6350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8" name="Straight Arrow Connector 26"/>
          <p:cNvCxnSpPr/>
          <p:nvPr/>
        </p:nvCxnSpPr>
        <p:spPr>
          <a:xfrm flipV="1">
            <a:off x="3580920" y="4514400"/>
            <a:ext cx="1080" cy="103752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459" name="Straight Arrow Connector 28"/>
          <p:cNvCxnSpPr/>
          <p:nvPr/>
        </p:nvCxnSpPr>
        <p:spPr>
          <a:xfrm>
            <a:off x="1088640" y="5551200"/>
            <a:ext cx="2493000" cy="108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grpSp>
        <p:nvGrpSpPr>
          <p:cNvPr id="460" name="Group 33"/>
          <p:cNvGrpSpPr/>
          <p:nvPr/>
        </p:nvGrpSpPr>
        <p:grpSpPr>
          <a:xfrm>
            <a:off x="1088640" y="4352760"/>
            <a:ext cx="2492640" cy="1198440"/>
            <a:chOff x="1088640" y="4352760"/>
            <a:chExt cx="2492640" cy="1198440"/>
          </a:xfrm>
        </p:grpSpPr>
        <p:cxnSp>
          <p:nvCxnSpPr>
            <p:cNvPr id="461" name="Straight Arrow Connector 23"/>
            <p:cNvCxnSpPr/>
            <p:nvPr/>
          </p:nvCxnSpPr>
          <p:spPr>
            <a:xfrm flipV="1">
              <a:off x="1088640" y="4494960"/>
              <a:ext cx="2493000" cy="1056600"/>
            </a:xfrm>
            <a:prstGeom prst="straightConnector1">
              <a:avLst/>
            </a:prstGeom>
            <a:ln w="4428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62" name="Content Placeholder 2"/>
            <p:cNvSpPr/>
            <p:nvPr/>
          </p:nvSpPr>
          <p:spPr>
            <a:xfrm>
              <a:off x="1969920" y="4352760"/>
              <a:ext cx="635040" cy="8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6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Garamond"/>
                </a:rPr>
                <a:t>v</a:t>
              </a:r>
              <a:r>
                <a:rPr b="0" lang="en-US" sz="2400" spc="-1" strike="noStrike" baseline="-25000">
                  <a:solidFill>
                    <a:srgbClr val="00b050"/>
                  </a:solidFill>
                  <a:latin typeface="Garamond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63" name="Content Placeholder 2"/>
          <p:cNvSpPr/>
          <p:nvPr/>
        </p:nvSpPr>
        <p:spPr>
          <a:xfrm>
            <a:off x="3581280" y="4668840"/>
            <a:ext cx="19051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sin(30°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4" name="Content Placeholder 2"/>
          <p:cNvSpPr/>
          <p:nvPr/>
        </p:nvSpPr>
        <p:spPr>
          <a:xfrm>
            <a:off x="1557360" y="5334120"/>
            <a:ext cx="19051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cos(30°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5" name="Content Placeholder 2"/>
          <p:cNvSpPr/>
          <p:nvPr/>
        </p:nvSpPr>
        <p:spPr>
          <a:xfrm>
            <a:off x="6754680" y="446040"/>
            <a:ext cx="223704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y(0)=10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x(0)=0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32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Garamond"/>
              </a:rPr>
              <a:t>=20m/s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6" name="Content Placeholder 3"/>
              <p:cNvSpPr txBox="1"/>
              <p:nvPr/>
            </p:nvSpPr>
            <p:spPr>
              <a:xfrm>
                <a:off x="380880" y="380880"/>
                <a:ext cx="2845080" cy="238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4"/>
              <p:cNvSpPr txBox="1"/>
              <p:nvPr/>
            </p:nvSpPr>
            <p:spPr>
              <a:xfrm>
                <a:off x="3860640" y="431640"/>
                <a:ext cx="28958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8" name="Content Placeholder 2"/>
          <p:cNvSpPr/>
          <p:nvPr/>
        </p:nvSpPr>
        <p:spPr>
          <a:xfrm>
            <a:off x="380880" y="28195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You need T to compute x(T).  Use y(T) to find T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2438280" y="3492360"/>
                <a:ext cx="5537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7"/>
              <p:cNvSpPr txBox="1"/>
              <p:nvPr/>
            </p:nvSpPr>
            <p:spPr>
              <a:xfrm>
                <a:off x="2514600" y="4267080"/>
                <a:ext cx="426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10"/>
              <p:cNvSpPr txBox="1"/>
              <p:nvPr/>
            </p:nvSpPr>
            <p:spPr>
              <a:xfrm>
                <a:off x="380880" y="4876920"/>
                <a:ext cx="4445280" cy="18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7</m:t>
                                  </m:r>
                                  <m:r>
                                    <m:t xml:space="preserve">s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  <m:r>
                                    <m:t xml:space="preserve">s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761760" y="380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Projectile motion refers to the motion of an object under the influence of a constant total force.  Far and away the most common situation is a ball that has been thrown near the surface of the Earth.  The only force is the weight of the ball.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t not all the time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47680" y="572112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48960" y="4438440"/>
            <a:ext cx="68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65" name="Group 18"/>
          <p:cNvGrpSpPr/>
          <p:nvPr/>
        </p:nvGrpSpPr>
        <p:grpSpPr>
          <a:xfrm>
            <a:off x="905040" y="4876560"/>
            <a:ext cx="2855880" cy="1372320"/>
            <a:chOff x="905040" y="4876560"/>
            <a:chExt cx="2855880" cy="1372320"/>
          </a:xfrm>
        </p:grpSpPr>
        <p:cxnSp>
          <p:nvCxnSpPr>
            <p:cNvPr id="366" name="Straight Arrow Connector 3"/>
            <p:cNvCxnSpPr/>
            <p:nvPr/>
          </p:nvCxnSpPr>
          <p:spPr>
            <a:xfrm flipV="1">
              <a:off x="914040" y="4876560"/>
              <a:ext cx="1080" cy="137232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367" name="Straight Arrow Connector 5"/>
            <p:cNvCxnSpPr/>
            <p:nvPr/>
          </p:nvCxnSpPr>
          <p:spPr>
            <a:xfrm>
              <a:off x="914400" y="6248160"/>
              <a:ext cx="129600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68" name="Oval 10"/>
            <p:cNvSpPr/>
            <p:nvPr/>
          </p:nvSpPr>
          <p:spPr>
            <a:xfrm>
              <a:off x="1981440" y="5038560"/>
              <a:ext cx="152280" cy="152280"/>
            </a:xfrm>
            <a:prstGeom prst="ellipse">
              <a:avLst/>
            </a:prstGeom>
            <a:solidFill>
              <a:srgbClr val="ff388c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69" name="Freeform 11"/>
            <p:cNvSpPr/>
            <p:nvPr/>
          </p:nvSpPr>
          <p:spPr>
            <a:xfrm>
              <a:off x="905040" y="4976640"/>
              <a:ext cx="2855880" cy="1254240"/>
            </a:xfrm>
            <a:custGeom>
              <a:avLst/>
              <a:gdLst/>
              <a:ahLst/>
              <a:rect l="l" t="t" r="r" b="b"/>
              <a:pathLst>
                <a:path w="2856322" h="1253712">
                  <a:moveTo>
                    <a:pt x="0" y="1253712"/>
                  </a:moveTo>
                  <a:cubicBezTo>
                    <a:pt x="487837" y="681819"/>
                    <a:pt x="975674" y="109926"/>
                    <a:pt x="1451728" y="9373"/>
                  </a:cubicBezTo>
                  <a:cubicBezTo>
                    <a:pt x="1927782" y="-91180"/>
                    <a:pt x="2856322" y="650396"/>
                    <a:pt x="2856322" y="650396"/>
                  </a:cubicBezTo>
                </a:path>
              </a:pathLst>
            </a:custGeom>
            <a:noFill/>
            <a:ln w="25560">
              <a:solidFill>
                <a:srgbClr val="ff388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cxnSp>
        <p:nvCxnSpPr>
          <p:cNvPr id="370" name="Straight Arrow Connector 13"/>
          <p:cNvCxnSpPr/>
          <p:nvPr/>
        </p:nvCxnSpPr>
        <p:spPr>
          <a:xfrm>
            <a:off x="2057040" y="5190840"/>
            <a:ext cx="1080" cy="52416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371" name=""/>
          <p:cNvSpPr txBox="1"/>
          <p:nvPr/>
        </p:nvSpPr>
        <p:spPr>
          <a:xfrm>
            <a:off x="2041560" y="4915080"/>
            <a:ext cx="99072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m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419720" y="4772160"/>
            <a:ext cx="396216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x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0m/s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y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-9.8m/s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761760" y="3805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Example 1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 car has an initial velocity of 30m/s.  It skids uniformly to a stop in a distance of 500m.  What is the coefficient of kinetic friction between tires and road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838080" y="3429000"/>
            <a:ext cx="7391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licker Question:  Which of these expressions is likely to be easier to use in this problem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2a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x(t) = x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0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+ 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0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t + 0.5at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5" name="Left Arrow 5"/>
          <p:cNvSpPr/>
          <p:nvPr/>
        </p:nvSpPr>
        <p:spPr>
          <a:xfrm>
            <a:off x="5867280" y="5486400"/>
            <a:ext cx="1295640" cy="304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76176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does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get into the solution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7" name="Content Placeholder 1"/>
          <p:cNvSpPr/>
          <p:nvPr/>
        </p:nvSpPr>
        <p:spPr>
          <a:xfrm>
            <a:off x="762120" y="112716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orce Model            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 =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∙N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8" name="Content Placeholder 1"/>
          <p:cNvSpPr/>
          <p:nvPr/>
        </p:nvSpPr>
        <p:spPr>
          <a:xfrm>
            <a:off x="762120" y="202716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are we going to find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9" name="Content Placeholder 1"/>
          <p:cNvSpPr/>
          <p:nvPr/>
        </p:nvSpPr>
        <p:spPr>
          <a:xfrm>
            <a:off x="762120" y="277344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Newton’s 2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nd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law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0" name="Content Placeholder 1"/>
          <p:cNvSpPr/>
          <p:nvPr/>
        </p:nvSpPr>
        <p:spPr>
          <a:xfrm>
            <a:off x="762120" y="352116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So what should we be doing?  CLICKER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1" name="Content Placeholder 1"/>
          <p:cNvSpPr/>
          <p:nvPr/>
        </p:nvSpPr>
        <p:spPr>
          <a:xfrm>
            <a:off x="762120" y="4495680"/>
            <a:ext cx="7543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Looking up equation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Hunting for a table of 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value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)  Drawing a picture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1868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Draw the free body diagra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2286000" y="2666880"/>
            <a:ext cx="990720" cy="457200"/>
          </a:xfrm>
          <a:prstGeom prst="rect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84" name="Group 10"/>
          <p:cNvGrpSpPr/>
          <p:nvPr/>
        </p:nvGrpSpPr>
        <p:grpSpPr>
          <a:xfrm>
            <a:off x="7086240" y="1784520"/>
            <a:ext cx="1535400" cy="1511280"/>
            <a:chOff x="7086240" y="1784520"/>
            <a:chExt cx="1535400" cy="1511280"/>
          </a:xfrm>
        </p:grpSpPr>
        <p:cxnSp>
          <p:nvCxnSpPr>
            <p:cNvPr id="385" name="Straight Arrow Connector 5"/>
            <p:cNvCxnSpPr/>
            <p:nvPr/>
          </p:nvCxnSpPr>
          <p:spPr>
            <a:xfrm flipV="1">
              <a:off x="7086240" y="2209320"/>
              <a:ext cx="1080" cy="76284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386" name="Straight Arrow Connector 7"/>
            <p:cNvCxnSpPr/>
            <p:nvPr/>
          </p:nvCxnSpPr>
          <p:spPr>
            <a:xfrm>
              <a:off x="7086240" y="2971800"/>
              <a:ext cx="76284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87" name="Content Placeholder 1"/>
            <p:cNvSpPr/>
            <p:nvPr/>
          </p:nvSpPr>
          <p:spPr>
            <a:xfrm>
              <a:off x="7783560" y="249552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88" name="Content Placeholder 1"/>
            <p:cNvSpPr/>
            <p:nvPr/>
          </p:nvSpPr>
          <p:spPr>
            <a:xfrm>
              <a:off x="7086600" y="178452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89" name="Group 26"/>
          <p:cNvGrpSpPr/>
          <p:nvPr/>
        </p:nvGrpSpPr>
        <p:grpSpPr>
          <a:xfrm>
            <a:off x="2781000" y="1599480"/>
            <a:ext cx="868680" cy="1067040"/>
            <a:chOff x="2781000" y="1599480"/>
            <a:chExt cx="868680" cy="1067040"/>
          </a:xfrm>
        </p:grpSpPr>
        <p:cxnSp>
          <p:nvCxnSpPr>
            <p:cNvPr id="390" name="Straight Arrow Connector 16"/>
            <p:cNvCxnSpPr>
              <a:stCxn id="383" idx="0"/>
            </p:cNvCxnSpPr>
            <p:nvPr/>
          </p:nvCxnSpPr>
          <p:spPr>
            <a:xfrm flipV="1">
              <a:off x="2781000" y="1599480"/>
              <a:ext cx="1080" cy="106740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1" name="Content Placeholder 1"/>
            <p:cNvSpPr/>
            <p:nvPr/>
          </p:nvSpPr>
          <p:spPr>
            <a:xfrm>
              <a:off x="2811240" y="1733400"/>
              <a:ext cx="838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2" name="Group 27"/>
          <p:cNvGrpSpPr/>
          <p:nvPr/>
        </p:nvGrpSpPr>
        <p:grpSpPr>
          <a:xfrm>
            <a:off x="2781000" y="3124080"/>
            <a:ext cx="838440" cy="1067400"/>
            <a:chOff x="2781000" y="3124080"/>
            <a:chExt cx="838440" cy="1067400"/>
          </a:xfrm>
        </p:grpSpPr>
        <p:cxnSp>
          <p:nvCxnSpPr>
            <p:cNvPr id="393" name="Straight Arrow Connector 14"/>
            <p:cNvCxnSpPr>
              <a:stCxn id="383" idx="2"/>
            </p:cNvCxnSpPr>
            <p:nvPr/>
          </p:nvCxnSpPr>
          <p:spPr>
            <a:xfrm>
              <a:off x="2781000" y="3124080"/>
              <a:ext cx="1080" cy="106776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4" name="Content Placeholder 1"/>
            <p:cNvSpPr/>
            <p:nvPr/>
          </p:nvSpPr>
          <p:spPr>
            <a:xfrm>
              <a:off x="2781360" y="325728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mg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5" name="Group 25"/>
          <p:cNvGrpSpPr/>
          <p:nvPr/>
        </p:nvGrpSpPr>
        <p:grpSpPr>
          <a:xfrm>
            <a:off x="1294920" y="2324160"/>
            <a:ext cx="914760" cy="800280"/>
            <a:chOff x="1294920" y="2324160"/>
            <a:chExt cx="914760" cy="800280"/>
          </a:xfrm>
        </p:grpSpPr>
        <p:cxnSp>
          <p:nvCxnSpPr>
            <p:cNvPr id="396" name="Straight Arrow Connector 12"/>
            <p:cNvCxnSpPr/>
            <p:nvPr/>
          </p:nvCxnSpPr>
          <p:spPr>
            <a:xfrm flipH="1">
              <a:off x="1294920" y="3123720"/>
              <a:ext cx="91512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7" name="Content Placeholder 1"/>
            <p:cNvSpPr/>
            <p:nvPr/>
          </p:nvSpPr>
          <p:spPr>
            <a:xfrm>
              <a:off x="1371240" y="2324160"/>
              <a:ext cx="8384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F</a:t>
              </a:r>
              <a:r>
                <a:rPr b="0" lang="en-US" sz="3600" spc="-1" strike="noStrike" baseline="-25000">
                  <a:solidFill>
                    <a:srgbClr val="ff388c"/>
                  </a:solidFill>
                  <a:latin typeface="Garamond"/>
                </a:rPr>
                <a:t>f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8" name="Group 28"/>
          <p:cNvGrpSpPr/>
          <p:nvPr/>
        </p:nvGrpSpPr>
        <p:grpSpPr>
          <a:xfrm>
            <a:off x="3733200" y="2133720"/>
            <a:ext cx="1143720" cy="799920"/>
            <a:chOff x="3733200" y="2133720"/>
            <a:chExt cx="1143720" cy="799920"/>
          </a:xfrm>
        </p:grpSpPr>
        <p:cxnSp>
          <p:nvCxnSpPr>
            <p:cNvPr id="399" name="Straight Arrow Connector 21"/>
            <p:cNvCxnSpPr/>
            <p:nvPr/>
          </p:nvCxnSpPr>
          <p:spPr>
            <a:xfrm flipH="1">
              <a:off x="3733200" y="2895480"/>
              <a:ext cx="839160" cy="1080"/>
            </a:xfrm>
            <a:prstGeom prst="straightConnector1">
              <a:avLst/>
            </a:prstGeom>
            <a:ln w="507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00" name="Content Placeholder 1"/>
            <p:cNvSpPr/>
            <p:nvPr/>
          </p:nvSpPr>
          <p:spPr>
            <a:xfrm>
              <a:off x="4038480" y="2133720"/>
              <a:ext cx="8384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b050"/>
                  </a:solidFill>
                  <a:latin typeface="Garamond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01" name="Content Placeholder 1"/>
          <p:cNvSpPr/>
          <p:nvPr/>
        </p:nvSpPr>
        <p:spPr>
          <a:xfrm>
            <a:off x="4229280" y="3009960"/>
            <a:ext cx="361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Trot out Newt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18680" y="4343400"/>
            <a:ext cx="80773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∑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y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→ N - mg = 0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∑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x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→ -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m(-a)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rite down our model for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and gather our equations together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4" name="Content Placeholder 1"/>
          <p:cNvSpPr/>
          <p:nvPr/>
        </p:nvSpPr>
        <p:spPr>
          <a:xfrm>
            <a:off x="914400" y="20574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∙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ma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N - mg = 0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2a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e have 5 unknowns: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, N,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, a, and 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re we stuck?  Maybe.  Let’s find out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5" name="Content Placeholder 3"/>
              <p:cNvSpPr txBox="1"/>
              <p:nvPr/>
            </p:nvSpPr>
            <p:spPr>
              <a:xfrm>
                <a:off x="457200" y="304920"/>
                <a:ext cx="14986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2590920" y="380880"/>
                <a:ext cx="165096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 txBox="1"/>
          <p:nvPr/>
        </p:nvSpPr>
        <p:spPr>
          <a:xfrm>
            <a:off x="4571640" y="30456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NICE!  One additional equation eliminated N and 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6"/>
              <p:cNvSpPr txBox="1"/>
              <p:nvPr/>
            </p:nvSpPr>
            <p:spPr>
              <a:xfrm>
                <a:off x="457200" y="2019240"/>
                <a:ext cx="256536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aΔx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Δx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Δ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7"/>
              <p:cNvSpPr txBox="1"/>
              <p:nvPr/>
            </p:nvSpPr>
            <p:spPr>
              <a:xfrm>
                <a:off x="3581280" y="2286000"/>
                <a:ext cx="32004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00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 txBox="1"/>
          <p:nvPr/>
        </p:nvSpPr>
        <p:spPr>
          <a:xfrm>
            <a:off x="456840" y="380988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hat’s going on?  Must be time for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lickers!  What should we do now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What are erasers for?  Rub out the -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Look at our picture and THINK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ere is a hint; look at the velocity and 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12" name="Group 28"/>
          <p:cNvGrpSpPr/>
          <p:nvPr/>
        </p:nvGrpSpPr>
        <p:grpSpPr>
          <a:xfrm>
            <a:off x="528120" y="1599480"/>
            <a:ext cx="4348800" cy="2651760"/>
            <a:chOff x="528120" y="1599480"/>
            <a:chExt cx="4348800" cy="2651760"/>
          </a:xfrm>
        </p:grpSpPr>
        <p:sp>
          <p:nvSpPr>
            <p:cNvPr id="413" name="Rectangle 3"/>
            <p:cNvSpPr/>
            <p:nvPr/>
          </p:nvSpPr>
          <p:spPr>
            <a:xfrm>
              <a:off x="2286000" y="2666880"/>
              <a:ext cx="990720" cy="457200"/>
            </a:xfrm>
            <a:prstGeom prst="rect">
              <a:avLst/>
            </a:prstGeom>
            <a:solidFill>
              <a:srgbClr val="ff388c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414" name="Group 4"/>
            <p:cNvGrpSpPr/>
            <p:nvPr/>
          </p:nvGrpSpPr>
          <p:grpSpPr>
            <a:xfrm>
              <a:off x="528120" y="2739600"/>
              <a:ext cx="1534680" cy="1511640"/>
              <a:chOff x="528120" y="2739600"/>
              <a:chExt cx="1534680" cy="1511640"/>
            </a:xfrm>
          </p:grpSpPr>
          <p:cxnSp>
            <p:nvCxnSpPr>
              <p:cNvPr id="415" name="Straight Arrow Connector 5"/>
              <p:cNvCxnSpPr/>
              <p:nvPr/>
            </p:nvCxnSpPr>
            <p:spPr>
              <a:xfrm flipV="1">
                <a:off x="528120" y="3164400"/>
                <a:ext cx="1080" cy="76284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cxnSp>
            <p:nvCxnSpPr>
              <p:cNvPr id="416" name="Straight Arrow Connector 6"/>
              <p:cNvCxnSpPr/>
              <p:nvPr/>
            </p:nvCxnSpPr>
            <p:spPr>
              <a:xfrm>
                <a:off x="528480" y="3926880"/>
                <a:ext cx="763200" cy="108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17" name="Content Placeholder 1"/>
              <p:cNvSpPr/>
              <p:nvPr/>
            </p:nvSpPr>
            <p:spPr>
              <a:xfrm>
                <a:off x="1224000" y="3450960"/>
                <a:ext cx="83880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x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418" name="Content Placeholder 1"/>
              <p:cNvSpPr/>
              <p:nvPr/>
            </p:nvSpPr>
            <p:spPr>
              <a:xfrm>
                <a:off x="528480" y="2739600"/>
                <a:ext cx="83880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y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19" name="Group 9"/>
            <p:cNvGrpSpPr/>
            <p:nvPr/>
          </p:nvGrpSpPr>
          <p:grpSpPr>
            <a:xfrm>
              <a:off x="2781000" y="1599480"/>
              <a:ext cx="868680" cy="1067040"/>
              <a:chOff x="2781000" y="1599480"/>
              <a:chExt cx="868680" cy="1067040"/>
            </a:xfrm>
          </p:grpSpPr>
          <p:cxnSp>
            <p:nvCxnSpPr>
              <p:cNvPr id="420" name="Straight Arrow Connector 10"/>
              <p:cNvCxnSpPr>
                <a:stCxn id="413" idx="0"/>
              </p:cNvCxnSpPr>
              <p:nvPr/>
            </p:nvCxnSpPr>
            <p:spPr>
              <a:xfrm flipV="1">
                <a:off x="2781000" y="1599480"/>
                <a:ext cx="1080" cy="106740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1" name="Content Placeholder 1"/>
              <p:cNvSpPr/>
              <p:nvPr/>
            </p:nvSpPr>
            <p:spPr>
              <a:xfrm>
                <a:off x="2811240" y="1733400"/>
                <a:ext cx="83844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N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2" name="Group 12"/>
            <p:cNvGrpSpPr/>
            <p:nvPr/>
          </p:nvGrpSpPr>
          <p:grpSpPr>
            <a:xfrm>
              <a:off x="2781000" y="3123720"/>
              <a:ext cx="838440" cy="1067040"/>
              <a:chOff x="2781000" y="3123720"/>
              <a:chExt cx="838440" cy="1067040"/>
            </a:xfrm>
          </p:grpSpPr>
          <p:cxnSp>
            <p:nvCxnSpPr>
              <p:cNvPr id="423" name="Straight Arrow Connector 13"/>
              <p:cNvCxnSpPr>
                <a:stCxn id="413" idx="2"/>
              </p:cNvCxnSpPr>
              <p:nvPr/>
            </p:nvCxnSpPr>
            <p:spPr>
              <a:xfrm>
                <a:off x="2781000" y="3123720"/>
                <a:ext cx="1080" cy="106740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4" name="Content Placeholder 1"/>
              <p:cNvSpPr/>
              <p:nvPr/>
            </p:nvSpPr>
            <p:spPr>
              <a:xfrm>
                <a:off x="2781360" y="3257280"/>
                <a:ext cx="83808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mg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5" name="Group 15"/>
            <p:cNvGrpSpPr/>
            <p:nvPr/>
          </p:nvGrpSpPr>
          <p:grpSpPr>
            <a:xfrm>
              <a:off x="1295280" y="2323800"/>
              <a:ext cx="914760" cy="800280"/>
              <a:chOff x="1295280" y="2323800"/>
              <a:chExt cx="914760" cy="800280"/>
            </a:xfrm>
          </p:grpSpPr>
          <p:cxnSp>
            <p:nvCxnSpPr>
              <p:cNvPr id="426" name="Straight Arrow Connector 16"/>
              <p:cNvCxnSpPr/>
              <p:nvPr/>
            </p:nvCxnSpPr>
            <p:spPr>
              <a:xfrm flipH="1">
                <a:off x="1295280" y="3123360"/>
                <a:ext cx="915120" cy="108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7" name="Content Placeholder 1"/>
              <p:cNvSpPr/>
              <p:nvPr/>
            </p:nvSpPr>
            <p:spPr>
              <a:xfrm>
                <a:off x="1371600" y="2323800"/>
                <a:ext cx="83844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F</a:t>
                </a:r>
                <a:r>
                  <a:rPr b="0" lang="en-US" sz="3600" spc="-1" strike="noStrike" baseline="-25000">
                    <a:solidFill>
                      <a:srgbClr val="ff388c"/>
                    </a:solidFill>
                    <a:latin typeface="Garamond"/>
                  </a:rPr>
                  <a:t>f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8" name="Group 18"/>
            <p:cNvGrpSpPr/>
            <p:nvPr/>
          </p:nvGrpSpPr>
          <p:grpSpPr>
            <a:xfrm>
              <a:off x="3733200" y="2133360"/>
              <a:ext cx="1143720" cy="799920"/>
              <a:chOff x="3733200" y="2133360"/>
              <a:chExt cx="1143720" cy="799920"/>
            </a:xfrm>
          </p:grpSpPr>
          <p:cxnSp>
            <p:nvCxnSpPr>
              <p:cNvPr id="429" name="Straight Arrow Connector 19"/>
              <p:cNvCxnSpPr/>
              <p:nvPr/>
            </p:nvCxnSpPr>
            <p:spPr>
              <a:xfrm flipH="1">
                <a:off x="3733200" y="2895120"/>
                <a:ext cx="839160" cy="1080"/>
              </a:xfrm>
              <a:prstGeom prst="straightConnector1">
                <a:avLst/>
              </a:prstGeom>
              <a:ln w="50760">
                <a:solidFill>
                  <a:srgbClr val="00b050"/>
                </a:solidFill>
                <a:miter/>
                <a:tailEnd len="med" type="triangle" w="med"/>
              </a:ln>
            </p:spPr>
          </p:cxnSp>
          <p:sp>
            <p:nvSpPr>
              <p:cNvPr id="430" name="Content Placeholder 1"/>
              <p:cNvSpPr/>
              <p:nvPr/>
            </p:nvSpPr>
            <p:spPr>
              <a:xfrm>
                <a:off x="4038480" y="2133360"/>
                <a:ext cx="83844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b050"/>
                    </a:solidFill>
                    <a:latin typeface="Garamond"/>
                  </a:rPr>
                  <a:t>a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</p:grpSp>
      <p:grpSp>
        <p:nvGrpSpPr>
          <p:cNvPr id="431" name="Group 21"/>
          <p:cNvGrpSpPr/>
          <p:nvPr/>
        </p:nvGrpSpPr>
        <p:grpSpPr>
          <a:xfrm>
            <a:off x="5904720" y="1682640"/>
            <a:ext cx="1143720" cy="800280"/>
            <a:chOff x="5904720" y="1682640"/>
            <a:chExt cx="1143720" cy="800280"/>
          </a:xfrm>
        </p:grpSpPr>
        <p:cxnSp>
          <p:nvCxnSpPr>
            <p:cNvPr id="432" name="Straight Arrow Connector 22"/>
            <p:cNvCxnSpPr/>
            <p:nvPr/>
          </p:nvCxnSpPr>
          <p:spPr>
            <a:xfrm flipH="1">
              <a:off x="5904720" y="2444760"/>
              <a:ext cx="83916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433" name="Content Placeholder 1"/>
            <p:cNvSpPr/>
            <p:nvPr/>
          </p:nvSpPr>
          <p:spPr>
            <a:xfrm>
              <a:off x="6210000" y="1682640"/>
              <a:ext cx="838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aramond"/>
                </a:rPr>
                <a:t>v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34" name="Group 24"/>
          <p:cNvGrpSpPr/>
          <p:nvPr/>
        </p:nvGrpSpPr>
        <p:grpSpPr>
          <a:xfrm>
            <a:off x="5905080" y="2666880"/>
            <a:ext cx="1791000" cy="800280"/>
            <a:chOff x="5905080" y="2666880"/>
            <a:chExt cx="1791000" cy="800280"/>
          </a:xfrm>
        </p:grpSpPr>
        <p:cxnSp>
          <p:nvCxnSpPr>
            <p:cNvPr id="435" name="Straight Arrow Connector 25"/>
            <p:cNvCxnSpPr/>
            <p:nvPr/>
          </p:nvCxnSpPr>
          <p:spPr>
            <a:xfrm flipH="1">
              <a:off x="5905080" y="3429000"/>
              <a:ext cx="179136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436" name="Content Placeholder 1"/>
            <p:cNvSpPr/>
            <p:nvPr/>
          </p:nvSpPr>
          <p:spPr>
            <a:xfrm>
              <a:off x="6383160" y="2666880"/>
              <a:ext cx="13129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aramond"/>
                </a:rPr>
                <a:t>Δ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37" name="Content Placeholder 1"/>
          <p:cNvSpPr/>
          <p:nvPr/>
        </p:nvSpPr>
        <p:spPr>
          <a:xfrm>
            <a:off x="380880" y="4191120"/>
            <a:ext cx="7543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s equation is subtle. 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a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re is an algebraic sign that you must supply on the left hand side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761760" y="14479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+2a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rite this if acceleration and displacement are in the SAME directi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-2a</a:t>
            </a:r>
            <a:r>
              <a:rPr b="0" lang="el-GR" sz="3600" spc="-1" strike="noStrike">
                <a:solidFill>
                  <a:srgbClr val="87bb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87bb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87bb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87bb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87bb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Write this if acceleration and displacement are in OPPOSITE directions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2:58:58Z</dcterms:created>
  <dc:creator>Brad</dc:creator>
  <dc:description/>
  <dc:language>en-US</dc:language>
  <cp:lastModifiedBy>Halfpap, Bradford Lee</cp:lastModifiedBy>
  <dcterms:modified xsi:type="dcterms:W3CDTF">2012-09-13T15:16:54Z</dcterms:modified>
  <cp:revision>25</cp:revision>
  <dc:subject/>
  <dc:title>PowerPoint Presentation</dc:title>
</cp:coreProperties>
</file>