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1E98-2F58-43CB-BABC-95E99CB49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9572-12D9-46BE-B87D-3AE0927AC6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1910-A5F0-42F6-9F6A-83B035D125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4176-EDA7-458A-BC23-3EDB2A9AC8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2F2E-B7F0-428C-BEDB-4B8016FFA9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2CCF-36A0-443C-B535-39E9860BA2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AD66-BBEC-40D8-AF99-B6645BDCF9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8084-5D80-4102-9532-B8DF8A40A6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B8B6-CE89-4FED-A359-ADA542231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BAD3-774A-43D0-84D3-319242DAA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3, Pg </a:t>
            </a:r>
            <a:fld id="{37A5F092-705E-4DEA-A022-9674B373D70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Last of the material from Ch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Textbook Sections 3.1-3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53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62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65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68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75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84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87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90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93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104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106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114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119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122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125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131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135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139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osi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loc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cement is change in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ation means “(final) – (initial)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815160" y="29538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781680" y="4624560"/>
            <a:ext cx="20894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(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71787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75261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787248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821844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856620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6675480" y="3244320"/>
            <a:ext cx="303120" cy="2426040"/>
            <a:chOff x="6675480" y="3244320"/>
            <a:chExt cx="303120" cy="2426040"/>
          </a:xfrm>
        </p:grpSpPr>
        <p:sp>
          <p:nvSpPr>
            <p:cNvPr id="154" name="Line 27"/>
            <p:cNvSpPr/>
            <p:nvPr/>
          </p:nvSpPr>
          <p:spPr>
            <a:xfrm>
              <a:off x="6675480" y="56703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6675480" y="53244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6675480" y="4978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6675480" y="46317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6675480" y="42847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675480" y="39380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6675480" y="3592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6675480" y="32443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Text Box 35"/>
          <p:cNvSpPr/>
          <p:nvPr/>
        </p:nvSpPr>
        <p:spPr>
          <a:xfrm>
            <a:off x="8082000" y="47451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694836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918480" y="5489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6781680" y="3230640"/>
            <a:ext cx="1798920" cy="1417680"/>
          </a:xfrm>
          <a:custGeom>
            <a:avLst/>
            <a:gdLst/>
            <a:ahLst/>
            <a:rect l="l" t="t" r="r" b="b"/>
            <a:pathLst>
              <a:path w="1133" h="893">
                <a:moveTo>
                  <a:pt x="0" y="893"/>
                </a:moveTo>
                <a:cubicBezTo>
                  <a:pt x="38" y="819"/>
                  <a:pt x="172" y="600"/>
                  <a:pt x="230" y="451"/>
                </a:cubicBezTo>
                <a:cubicBezTo>
                  <a:pt x="288" y="302"/>
                  <a:pt x="306" y="0"/>
                  <a:pt x="346" y="0"/>
                </a:cubicBezTo>
                <a:cubicBezTo>
                  <a:pt x="386" y="0"/>
                  <a:pt x="413" y="342"/>
                  <a:pt x="470" y="451"/>
                </a:cubicBezTo>
                <a:cubicBezTo>
                  <a:pt x="527" y="560"/>
                  <a:pt x="616" y="653"/>
                  <a:pt x="691" y="653"/>
                </a:cubicBezTo>
                <a:cubicBezTo>
                  <a:pt x="766" y="653"/>
                  <a:pt x="861" y="515"/>
                  <a:pt x="922" y="451"/>
                </a:cubicBezTo>
                <a:cubicBezTo>
                  <a:pt x="983" y="387"/>
                  <a:pt x="1021" y="237"/>
                  <a:pt x="1056" y="269"/>
                </a:cubicBezTo>
                <a:cubicBezTo>
                  <a:pt x="1091" y="301"/>
                  <a:pt x="1117" y="565"/>
                  <a:pt x="1133" y="643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228600" y="3657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on at t=3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x(3)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22860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cement between t=5 and t=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228600" y="5486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velocity between t=5 and t=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v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00400" y="35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5334120" y="42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5562720" y="5410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0.2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1295280" y="4800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 m  - 2.0 m = -1.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1143000" y="5943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 m / 4 s = -0.25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37"/>
          <p:cNvSpPr/>
          <p:nvPr/>
        </p:nvSpPr>
        <p:spPr>
          <a:xfrm flipH="1">
            <a:off x="6705720" y="1981080"/>
            <a:ext cx="380880" cy="106704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7086600" y="1981080"/>
            <a:ext cx="6858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Velocity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velocity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displacem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accele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 flipV="1">
            <a:off x="6710400" y="13536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676920" y="3024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753240" y="1143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(m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8475840" y="2979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70740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74214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76772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811368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46144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6570720" y="1644120"/>
            <a:ext cx="303120" cy="2426040"/>
            <a:chOff x="6570720" y="1644120"/>
            <a:chExt cx="303120" cy="2426040"/>
          </a:xfrm>
        </p:grpSpPr>
        <p:sp>
          <p:nvSpPr>
            <p:cNvPr id="188" name="Line 15"/>
            <p:cNvSpPr/>
            <p:nvPr/>
          </p:nvSpPr>
          <p:spPr>
            <a:xfrm>
              <a:off x="6570720" y="40701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570720" y="37242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6570720" y="3377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6570720" y="3031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6570720" y="268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6570720" y="2337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6570720" y="1991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6570720" y="16441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23"/>
          <p:cNvSpPr/>
          <p:nvPr/>
        </p:nvSpPr>
        <p:spPr>
          <a:xfrm>
            <a:off x="7977240" y="31449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338880" y="1768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81680" y="3749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6705720" y="1996920"/>
            <a:ext cx="380880" cy="99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7086600" y="19969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7772400" y="1996920"/>
            <a:ext cx="68580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304920" y="3276720"/>
            <a:ext cx="6324480" cy="3355200"/>
            <a:chOff x="304920" y="3276720"/>
            <a:chExt cx="6324480" cy="3355200"/>
          </a:xfrm>
        </p:grpSpPr>
        <p:sp>
          <p:nvSpPr>
            <p:cNvPr id="203" name="Text Box 27"/>
            <p:cNvSpPr/>
            <p:nvPr/>
          </p:nvSpPr>
          <p:spPr>
            <a:xfrm>
              <a:off x="533520" y="3276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locity at t=2,  v(2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304920" y="56386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5 and t=3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304920" y="6172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acceleration between t=5 and t=3: a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533520" y="3886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placement between t=0 and t=3: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95288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velocity between t=0 and t=3?  v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Text Box 40"/>
          <p:cNvSpPr/>
          <p:nvPr/>
        </p:nvSpPr>
        <p:spPr>
          <a:xfrm>
            <a:off x="3352680" y="3200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 m/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5486400" y="3854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7.5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143000" y="4343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0 to t=1:  ½ (3m/s) (1 s) = 1.5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79132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5 m / 3s  =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.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53341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 m/s – 3 m/s 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0199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5 m/s / (2 s)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2.5 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1143000" y="47242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1 to t=3:  (3m/s) (2 s) = 6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7"/>
          <p:cNvSpPr/>
          <p:nvPr/>
        </p:nvSpPr>
        <p:spPr>
          <a:xfrm>
            <a:off x="7924680" y="4572000"/>
            <a:ext cx="30492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7238880" y="3581280"/>
            <a:ext cx="6858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ccelera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acceler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change in velocit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6862680" y="293796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6829560" y="4608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05520" y="2727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(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722628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757404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792000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826596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861372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6723000" y="3228840"/>
            <a:ext cx="303120" cy="2425680"/>
            <a:chOff x="6723000" y="3228840"/>
            <a:chExt cx="303120" cy="2425680"/>
          </a:xfrm>
        </p:grpSpPr>
        <p:sp>
          <p:nvSpPr>
            <p:cNvPr id="229" name="Line 15"/>
            <p:cNvSpPr/>
            <p:nvPr/>
          </p:nvSpPr>
          <p:spPr>
            <a:xfrm>
              <a:off x="6723000" y="565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>
              <a:off x="6723000" y="5308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6723000" y="49622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6723000" y="46162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6723000" y="4268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0"/>
            <p:cNvSpPr/>
            <p:nvPr/>
          </p:nvSpPr>
          <p:spPr>
            <a:xfrm>
              <a:off x="6723000" y="3922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21"/>
            <p:cNvSpPr/>
            <p:nvPr/>
          </p:nvSpPr>
          <p:spPr>
            <a:xfrm>
              <a:off x="6723000" y="35766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2"/>
            <p:cNvSpPr/>
            <p:nvPr/>
          </p:nvSpPr>
          <p:spPr>
            <a:xfrm>
              <a:off x="6723000" y="3228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Text Box 23"/>
          <p:cNvSpPr/>
          <p:nvPr/>
        </p:nvSpPr>
        <p:spPr>
          <a:xfrm>
            <a:off x="8129520" y="47293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6491160" y="3352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6934320" y="53341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42"/>
          <p:cNvGrpSpPr/>
          <p:nvPr/>
        </p:nvGrpSpPr>
        <p:grpSpPr>
          <a:xfrm>
            <a:off x="380880" y="3657600"/>
            <a:ext cx="5486400" cy="1069200"/>
            <a:chOff x="380880" y="3657600"/>
            <a:chExt cx="5486400" cy="1069200"/>
          </a:xfrm>
        </p:grpSpPr>
        <p:sp>
          <p:nvSpPr>
            <p:cNvPr id="241" name="Text Box 26"/>
            <p:cNvSpPr/>
            <p:nvPr/>
          </p:nvSpPr>
          <p:spPr>
            <a:xfrm>
              <a:off x="457200" y="365760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celeration at t=4,  a(4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80880" y="42670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4 and t=1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Line 30"/>
          <p:cNvSpPr/>
          <p:nvPr/>
        </p:nvSpPr>
        <p:spPr>
          <a:xfrm>
            <a:off x="7238880" y="358128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2"/>
          <p:cNvSpPr/>
          <p:nvPr/>
        </p:nvSpPr>
        <p:spPr>
          <a:xfrm>
            <a:off x="6858000" y="45720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3"/>
          <p:cNvSpPr/>
          <p:nvPr/>
        </p:nvSpPr>
        <p:spPr>
          <a:xfrm flipV="1">
            <a:off x="7238880" y="3581280"/>
            <a:ext cx="0" cy="1067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4"/>
          <p:cNvSpPr/>
          <p:nvPr/>
        </p:nvSpPr>
        <p:spPr>
          <a:xfrm flipV="1">
            <a:off x="7924680" y="3580920"/>
            <a:ext cx="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7924680" y="5334120"/>
            <a:ext cx="838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3886200" y="3581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2 m/s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838080" y="4876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1-3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3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2s) = 6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838080" y="5410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3-4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-2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1s) = -2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52578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+4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3520" y="990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dropped from a height of two meters above the gr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220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256" name="Line 221"/>
            <p:cNvSpPr/>
            <p:nvPr/>
          </p:nvSpPr>
          <p:spPr>
            <a:xfrm flipV="1">
              <a:off x="2825640" y="4860720"/>
              <a:ext cx="0" cy="1941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222"/>
            <p:cNvSpPr/>
            <p:nvPr/>
          </p:nvSpPr>
          <p:spPr>
            <a:xfrm>
              <a:off x="2703600" y="6659640"/>
              <a:ext cx="2667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23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24"/>
            <p:cNvGrpSpPr/>
            <p:nvPr/>
          </p:nvGrpSpPr>
          <p:grpSpPr>
            <a:xfrm>
              <a:off x="457200" y="2666880"/>
              <a:ext cx="7786800" cy="4193640"/>
              <a:chOff x="457200" y="2666880"/>
              <a:chExt cx="7786800" cy="4193640"/>
            </a:xfrm>
          </p:grpSpPr>
          <p:sp>
            <p:nvSpPr>
              <p:cNvPr id="260" name="Line 225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Line 226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Text Box 227"/>
              <p:cNvSpPr/>
              <p:nvPr/>
            </p:nvSpPr>
            <p:spPr>
              <a:xfrm>
                <a:off x="367524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228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229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Line 230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231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232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233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234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235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236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237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238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239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40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241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42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3657600" y="3276720"/>
                <a:ext cx="1295280" cy="761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246"/>
              <p:cNvSpPr/>
              <p:nvPr/>
            </p:nvSpPr>
            <p:spPr>
              <a:xfrm>
                <a:off x="77940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247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248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Line 249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Line 250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Line 251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Line 252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Line 253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Line 254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Line 255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256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257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Line 258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259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260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261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262"/>
              <p:cNvSpPr/>
              <p:nvPr/>
            </p:nvSpPr>
            <p:spPr>
              <a:xfrm flipV="1">
                <a:off x="747720" y="3200400"/>
                <a:ext cx="1233360" cy="838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Line 263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264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Text Box 265"/>
              <p:cNvSpPr/>
              <p:nvPr/>
            </p:nvSpPr>
            <p:spPr>
              <a:xfrm>
                <a:off x="634212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26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Line 26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Line 26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Line 26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Line 27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Line 27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Line 27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27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27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Line 27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27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27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27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27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Text Box 28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281"/>
              <p:cNvSpPr/>
              <p:nvPr/>
            </p:nvSpPr>
            <p:spPr>
              <a:xfrm>
                <a:off x="6310440" y="4038480"/>
                <a:ext cx="1295280" cy="762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282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Text Box 283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Text Box 284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Line 285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Line 286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Line 287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Line 288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Line 289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Line 290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Line 291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292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Line 293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294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Text Box 295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296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Line 297"/>
              <p:cNvSpPr/>
              <p:nvPr/>
            </p:nvSpPr>
            <p:spPr>
              <a:xfrm>
                <a:off x="2819520" y="6553080"/>
                <a:ext cx="12952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Line 298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Line 299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Text Box 300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Text Box 301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Line 302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303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304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305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306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Line 307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308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309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310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Line 311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Line 312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Text Box 313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Text Box 314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Text Box 315"/>
              <p:cNvSpPr/>
              <p:nvPr/>
            </p:nvSpPr>
            <p:spPr>
              <a:xfrm>
                <a:off x="5637240" y="640080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316"/>
              <p:cNvSpPr/>
              <p:nvPr/>
            </p:nvSpPr>
            <p:spPr>
              <a:xfrm flipV="1">
                <a:off x="5486400" y="5562360"/>
                <a:ext cx="1309680" cy="1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Text Box 317"/>
              <p:cNvSpPr/>
              <p:nvPr/>
            </p:nvSpPr>
            <p:spPr>
              <a:xfrm>
                <a:off x="10666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318"/>
              <p:cNvSpPr/>
              <p:nvPr/>
            </p:nvSpPr>
            <p:spPr>
              <a:xfrm>
                <a:off x="41911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319"/>
              <p:cNvSpPr/>
              <p:nvPr/>
            </p:nvSpPr>
            <p:spPr>
              <a:xfrm>
                <a:off x="6858000" y="2971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Text Box 320"/>
              <p:cNvSpPr/>
              <p:nvPr/>
            </p:nvSpPr>
            <p:spPr>
              <a:xfrm>
                <a:off x="3200400" y="5029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Text Box 321"/>
              <p:cNvSpPr/>
              <p:nvPr/>
            </p:nvSpPr>
            <p:spPr>
              <a:xfrm>
                <a:off x="586728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Oval 322"/>
          <p:cNvSpPr/>
          <p:nvPr/>
        </p:nvSpPr>
        <p:spPr>
          <a:xfrm>
            <a:off x="5638680" y="2590920"/>
            <a:ext cx="304812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23"/>
          <p:cNvGrpSpPr/>
          <p:nvPr/>
        </p:nvGrpSpPr>
        <p:grpSpPr>
          <a:xfrm>
            <a:off x="7696080" y="533520"/>
            <a:ext cx="990720" cy="978120"/>
            <a:chOff x="7696080" y="533520"/>
            <a:chExt cx="990720" cy="978120"/>
          </a:xfrm>
        </p:grpSpPr>
        <p:sp>
          <p:nvSpPr>
            <p:cNvPr id="359" name="Line 324"/>
            <p:cNvSpPr/>
            <p:nvPr/>
          </p:nvSpPr>
          <p:spPr>
            <a:xfrm flipV="1">
              <a:off x="7696080" y="7617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325"/>
            <p:cNvSpPr/>
            <p:nvPr/>
          </p:nvSpPr>
          <p:spPr>
            <a:xfrm>
              <a:off x="7696080" y="14479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326"/>
            <p:cNvSpPr/>
            <p:nvPr/>
          </p:nvSpPr>
          <p:spPr>
            <a:xfrm>
              <a:off x="7696080" y="533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327"/>
            <p:cNvSpPr/>
            <p:nvPr/>
          </p:nvSpPr>
          <p:spPr>
            <a:xfrm>
              <a:off x="8381880" y="1143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tossed from the ground up a height of two meters above the ground. And falls back 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212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367" name="Text Box 213"/>
            <p:cNvSpPr/>
            <p:nvPr/>
          </p:nvSpPr>
          <p:spPr>
            <a:xfrm>
              <a:off x="367524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14"/>
            <p:cNvSpPr/>
            <p:nvPr/>
          </p:nvSpPr>
          <p:spPr>
            <a:xfrm>
              <a:off x="77940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15"/>
            <p:cNvSpPr/>
            <p:nvPr/>
          </p:nvSpPr>
          <p:spPr>
            <a:xfrm>
              <a:off x="634212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216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217"/>
            <p:cNvSpPr/>
            <p:nvPr/>
          </p:nvSpPr>
          <p:spPr>
            <a:xfrm>
              <a:off x="563724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Group 218"/>
            <p:cNvGrpSpPr/>
            <p:nvPr/>
          </p:nvGrpSpPr>
          <p:grpSpPr>
            <a:xfrm>
              <a:off x="457200" y="2866680"/>
              <a:ext cx="7786800" cy="3935520"/>
              <a:chOff x="457200" y="2866680"/>
              <a:chExt cx="7786800" cy="3935520"/>
            </a:xfrm>
          </p:grpSpPr>
          <p:sp>
            <p:nvSpPr>
              <p:cNvPr id="373" name="Line 219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Line 220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Text Box 221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Line 222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Line 223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Line 224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225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Line 226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Line 227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Line 228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Line 229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Line 230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Line 231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Line 232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Text Box 233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Text Box 234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Text Box 235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Line 236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Line 237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Text Box 238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Line 239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Line 240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241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Line 242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Line 243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Line 244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Line 247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Line 248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Line 249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250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Text Box 251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Text Box 252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Line 253"/>
              <p:cNvSpPr/>
              <p:nvPr/>
            </p:nvSpPr>
            <p:spPr>
              <a:xfrm flipV="1">
                <a:off x="747720" y="3124080"/>
                <a:ext cx="70020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254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255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25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Line 25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Line 26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Line 26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Line 26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Line 26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Line 26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Line 26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26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Line 26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26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26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27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Line 271"/>
              <p:cNvSpPr/>
              <p:nvPr/>
            </p:nvSpPr>
            <p:spPr>
              <a:xfrm>
                <a:off x="6324480" y="3429000"/>
                <a:ext cx="1295640" cy="6094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272"/>
              <p:cNvSpPr/>
              <p:nvPr/>
            </p:nvSpPr>
            <p:spPr>
              <a:xfrm flipV="1">
                <a:off x="282564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273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Text Box 274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Text Box 275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276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277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Line 278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Line 279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Line 280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Line 281"/>
              <p:cNvSpPr/>
              <p:nvPr/>
            </p:nvSpPr>
            <p:spPr>
              <a:xfrm>
                <a:off x="270360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Line 282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283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Line 284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285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286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287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288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Line 289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Line 290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291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292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Line 293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Line 294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295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296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297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Line 298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299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00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Line 301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Line 302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303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Text Box 304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Text Box 305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Line 306"/>
              <p:cNvSpPr/>
              <p:nvPr/>
            </p:nvSpPr>
            <p:spPr>
              <a:xfrm flipV="1">
                <a:off x="5486400" y="5486040"/>
                <a:ext cx="1295280" cy="12193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Line 307"/>
              <p:cNvSpPr/>
              <p:nvPr/>
            </p:nvSpPr>
            <p:spPr>
              <a:xfrm flipH="1" flipV="1">
                <a:off x="1447560" y="3124080"/>
                <a:ext cx="53316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2" name="Group 308"/>
              <p:cNvGrpSpPr/>
              <p:nvPr/>
            </p:nvGrpSpPr>
            <p:grpSpPr>
              <a:xfrm>
                <a:off x="3672000" y="3429000"/>
                <a:ext cx="1232640" cy="609480"/>
                <a:chOff x="3672000" y="3429000"/>
                <a:chExt cx="1232640" cy="609480"/>
              </a:xfrm>
            </p:grpSpPr>
            <p:sp>
              <p:nvSpPr>
                <p:cNvPr id="463" name="Line 309"/>
                <p:cNvSpPr/>
                <p:nvPr/>
              </p:nvSpPr>
              <p:spPr>
                <a:xfrm>
                  <a:off x="3672000" y="3429000"/>
                  <a:ext cx="69984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10"/>
                <p:cNvSpPr/>
                <p:nvPr/>
              </p:nvSpPr>
              <p:spPr>
                <a:xfrm flipH="1">
                  <a:off x="4371480" y="3429000"/>
                  <a:ext cx="53316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Line 311"/>
              <p:cNvSpPr/>
              <p:nvPr/>
            </p:nvSpPr>
            <p:spPr>
              <a:xfrm>
                <a:off x="2819520" y="5410080"/>
                <a:ext cx="1523880" cy="1295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Text Box 312"/>
              <p:cNvSpPr/>
              <p:nvPr/>
            </p:nvSpPr>
            <p:spPr>
              <a:xfrm>
                <a:off x="1752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Text Box 313"/>
              <p:cNvSpPr/>
              <p:nvPr/>
            </p:nvSpPr>
            <p:spPr>
              <a:xfrm>
                <a:off x="4038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Text Box 314"/>
              <p:cNvSpPr/>
              <p:nvPr/>
            </p:nvSpPr>
            <p:spPr>
              <a:xfrm>
                <a:off x="685800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Text Box 315"/>
              <p:cNvSpPr/>
              <p:nvPr/>
            </p:nvSpPr>
            <p:spPr>
              <a:xfrm>
                <a:off x="33526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Text Box 316"/>
              <p:cNvSpPr/>
              <p:nvPr/>
            </p:nvSpPr>
            <p:spPr>
              <a:xfrm>
                <a:off x="579132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Oval 317"/>
          <p:cNvSpPr/>
          <p:nvPr/>
        </p:nvSpPr>
        <p:spPr>
          <a:xfrm>
            <a:off x="2133720" y="4343400"/>
            <a:ext cx="289548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318"/>
          <p:cNvGrpSpPr/>
          <p:nvPr/>
        </p:nvGrpSpPr>
        <p:grpSpPr>
          <a:xfrm>
            <a:off x="7924680" y="1600200"/>
            <a:ext cx="990720" cy="978120"/>
            <a:chOff x="7924680" y="1600200"/>
            <a:chExt cx="990720" cy="978120"/>
          </a:xfrm>
        </p:grpSpPr>
        <p:sp>
          <p:nvSpPr>
            <p:cNvPr id="473" name="Line 319"/>
            <p:cNvSpPr/>
            <p:nvPr/>
          </p:nvSpPr>
          <p:spPr>
            <a:xfrm flipV="1">
              <a:off x="7924680" y="18284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320"/>
            <p:cNvSpPr/>
            <p:nvPr/>
          </p:nvSpPr>
          <p:spPr>
            <a:xfrm>
              <a:off x="7924680" y="25146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321"/>
            <p:cNvSpPr/>
            <p:nvPr/>
          </p:nvSpPr>
          <p:spPr>
            <a:xfrm>
              <a:off x="7924680" y="1600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322"/>
            <p:cNvSpPr/>
            <p:nvPr/>
          </p:nvSpPr>
          <p:spPr>
            <a:xfrm>
              <a:off x="8610480" y="2210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06T17:05:43Z</dcterms:modified>
  <cp:revision>386</cp:revision>
  <dc:subject/>
  <dc:title>Outline </dc:title>
</cp:coreProperties>
</file>