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5.png" ContentType="image/png"/>
  <Override PartName="/ppt/media/image2.wmf" ContentType="image/x-wmf"/>
  <Override PartName="/ppt/media/image3.gif" ContentType="image/gif"/>
  <Override PartName="/ppt/media/image11.wmf" ContentType="image/x-wmf"/>
  <Override PartName="/ppt/media/image6.gif" ContentType="image/gif"/>
  <Override PartName="/ppt/media/image9.wmf" ContentType="image/x-wmf"/>
  <Override PartName="/ppt/media/image7.gif" ContentType="image/gif"/>
  <Override PartName="/ppt/media/image8.gif" ContentType="image/gif"/>
  <Override PartName="/ppt/media/image10.wmf" ContentType="image/x-wmf"/>
  <Override PartName="/ppt/media/image12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081C-E71C-4A6E-9A59-BF03F8C24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2674-3ABF-409F-9E90-18F7C67708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of first pref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5607-EF46-4BC7-95DA-E7B0F33992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4161-32FA-4307-8B4E-15C453A8C1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D30A-E133-400E-880A-0CF3CF3F41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s do all demos here.  Table cloth, Fred and cart, Equal and Opposite forc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5CB6-E8DB-4A0F-84C1-58B8459CA1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C24D-7226-4B93-9E2B-1542DA1831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07F2-D07C-4664-B547-14137BAC0F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CE21-2453-4527-B720-B7860B10EB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D782-C182-4659-9C71-1BA1300DBF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CD33-52D4-481E-9F24-FAC70DF6B2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B807-4791-48A2-8D74-A54EBC8837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DFB6-DB93-4962-A4F9-1A34F5517E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5415-B0C8-4EA4-9F0A-D6D7EF77B4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to doing well is talking about the course. At bars? Show examples of the Lab/Text and Discussion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BF72-BB94-4515-9D35-029544CDB2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994A-008F-4937-8272-9E4A3E0EBD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FF8C-C9B0-4872-923A-3CFDA0B8DB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nt that lecture can’t do everything. Key is participa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0724-8309-4BD2-968B-278FF452CB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5B63-EC92-4FF0-9E72-28A4E093C9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59CB068E-9E96-45C1-8157-8B1124BBCBFD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7490D42E-A004-424E-913A-795DD6D6B941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F42BEC31-0E4B-4C73-8A21-10EBE3CB615F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00BCE4EE-E846-424F-B7E1-BD4D43A14D0F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FA0EF1F4-EAF3-4F6B-AE39-7E6A6CCD439F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138B389E-8A6E-4486-AD8A-02C3BFCC99A0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67F8BD40-A01E-40B5-9678-BC98B4A13E68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91BD7D02-ABC2-4DDA-B6A1-74A4B7176246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95F9F1E8-7097-4D87-ABAA-F89F3D4A84FC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05219E82-C398-4ECC-B6F1-C6A7BF32BC95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798F97CE-3DC2-4474-8957-F5C4E6098A30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8AE44C56-5D15-429B-9F55-1A9C066AF5E6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028CE932-2D17-401B-92E3-54E9F2E90FED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36141D73-FE81-48C4-850C-BCC6EC9E7DE5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3EAA5F71-367B-465C-8476-31D244F76F77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4DE6B18E-DC3B-4342-8F28-D4EA42E0CEFF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5565600" y="6573960"/>
            <a:ext cx="3842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01, Pg </a:t>
            </a:r>
            <a:fld id="{CCDE9163-8234-4055-B1EB-18A3F8837BD8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68d"/>
            </a:gs>
            <a:gs pos="100000">
              <a:srgbClr val="1626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57480" indent="-17172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5565960" y="6573960"/>
            <a:ext cx="3743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hysics 101: Lecture 1, Pg </a:t>
            </a:r>
            <a:fld id="{B6883D26-027F-410F-B5C2-396DE4525F49}" type="slidenum">
              <a:rPr b="0" lang="en-US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halfpap@illinois.edu" TargetMode="External"/><Relationship Id="rId2" Type="http://schemas.openxmlformats.org/officeDocument/2006/relationships/hyperlink" Target="http://online.physics.uiuc.edu/courses/phys101/fall03/index.html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Welcome to Physics 101!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Lecture 01: Introduction to Forces</a:t>
            </a:r>
            <a:endParaRPr b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8" name="Text Box 3"/>
          <p:cNvSpPr/>
          <p:nvPr/>
        </p:nvSpPr>
        <p:spPr>
          <a:xfrm>
            <a:off x="380880" y="5638680"/>
            <a:ext cx="8382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http://online.physics.uiuc.edu/courses/phys1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Rectangle 5"/>
          <p:cNvSpPr/>
          <p:nvPr/>
        </p:nvSpPr>
        <p:spPr>
          <a:xfrm>
            <a:off x="380880" y="197856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 “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I'm hoping the class is explained well and is graded easily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-4232520" y="36183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Rectangle 7"/>
          <p:cNvSpPr/>
          <p:nvPr/>
        </p:nvSpPr>
        <p:spPr>
          <a:xfrm>
            <a:off x="990720" y="26661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 am very excited about taking Physics 101!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Rectangle 10"/>
          <p:cNvSpPr/>
          <p:nvPr/>
        </p:nvSpPr>
        <p:spPr>
          <a:xfrm>
            <a:off x="304920" y="3412440"/>
            <a:ext cx="68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I look forward to the demo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Text Box 12"/>
          <p:cNvSpPr/>
          <p:nvPr/>
        </p:nvSpPr>
        <p:spPr>
          <a:xfrm>
            <a:off x="322200" y="396252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ervous”    “Anxious”   “Apprehensive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Text Box 13"/>
          <p:cNvSpPr/>
          <p:nvPr/>
        </p:nvSpPr>
        <p:spPr>
          <a:xfrm>
            <a:off x="552600" y="5257800"/>
            <a:ext cx="72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 am excited to learn about something other than biology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Text Box 14"/>
          <p:cNvSpPr/>
          <p:nvPr/>
        </p:nvSpPr>
        <p:spPr>
          <a:xfrm>
            <a:off x="382320" y="4572000"/>
            <a:ext cx="32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worried about the math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Discussion Section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rector: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rofessor Tom Kuhl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: tomorrow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iz during last 20 minutes of s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minutes lat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section: m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ew, dimens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2" name="Picture 5" descr="ukujxqjs[1]"/>
          <p:cNvPicPr/>
          <p:nvPr/>
        </p:nvPicPr>
        <p:blipFill>
          <a:blip r:embed="rId1"/>
          <a:stretch/>
        </p:blipFill>
        <p:spPr>
          <a:xfrm>
            <a:off x="5181480" y="3429000"/>
            <a:ext cx="3276720" cy="311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hysics Philosophy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-282960">
              <a:lnSpc>
                <a:spcPct val="7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s is about predicting the futur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-282960">
              <a:lnSpc>
                <a:spcPct val="7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escribe large number of “complicated” observations with a few simple ideas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-282960">
              <a:lnSpc>
                <a:spcPct val="7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Un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-282960">
              <a:lnSpc>
                <a:spcPct val="7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alitative and Quantitative Reas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5" name="Picture 6" descr="rqgknxeg[1]"/>
          <p:cNvPicPr/>
          <p:nvPr/>
        </p:nvPicPr>
        <p:blipFill>
          <a:blip r:embed="rId1"/>
          <a:stretch/>
        </p:blipFill>
        <p:spPr>
          <a:xfrm>
            <a:off x="7783560" y="30240"/>
            <a:ext cx="1360440" cy="222552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7" descr="ncxnuqui[1]"/>
          <p:cNvPicPr/>
          <p:nvPr/>
        </p:nvPicPr>
        <p:blipFill>
          <a:blip r:embed="rId2"/>
          <a:stretch/>
        </p:blipFill>
        <p:spPr>
          <a:xfrm>
            <a:off x="0" y="0"/>
            <a:ext cx="1444680" cy="1671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7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7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Newton’s Laws of Mo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sum of all external forces on an object is zero, then its speed and direction will not change.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ert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a nonzero net force is applied to an object its motion will change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= 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n interaction between two objects, the forces that each exerts on the other are equal in magnitude and opposite in dire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9" name="Object 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orces in P101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ontact ---- Gravity (|F| = G m M/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 = 6.7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/ (kg 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th:   Mass = 6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kg,  radius = 6.4 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ct  (fundamentally E+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: Perpendicular to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ction: Parallel to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thing touching the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ces exerted by Agents!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aint Them Or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Example Weight of Object 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ulate the gravitational force on a 3 kg book held 1 meter above the surface of the ear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|F| = G M m / 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6.7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/ (kg s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(6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(3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/ (6.4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  29.4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kg m/s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5" name="Object 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licker Question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book is raised 10 meters above the surface of the earth, the gravitational force on the book wi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)    100 times stronger 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B) 10 times stro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C)   Nearly the same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D)   10 times weaker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E) 100 times weak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Rectangle 4"/>
          <p:cNvSpPr/>
          <p:nvPr/>
        </p:nvSpPr>
        <p:spPr>
          <a:xfrm>
            <a:off x="609480" y="4267080"/>
            <a:ext cx="746784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 = G M m / 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(6.7x10-11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/ (kg s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(6x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(3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/ (6.4x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10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  29.4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g m/s</a:t>
            </a:r>
            <a:r>
              <a:rPr b="0" lang="en-US" sz="20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Text Box 5"/>
          <p:cNvSpPr/>
          <p:nvPr/>
        </p:nvSpPr>
        <p:spPr>
          <a:xfrm>
            <a:off x="380880" y="5410080"/>
            <a:ext cx="8153640" cy="1170360"/>
          </a:xfrm>
          <a:prstGeom prst="rect">
            <a:avLst/>
          </a:prstGeom>
          <a:noFill/>
          <a:ln w="38160">
            <a:solidFill>
              <a:srgbClr val="00ba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Near surface of ear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 = 6.4x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|F| = m (G M /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m (9.8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/s</a:t>
            </a:r>
            <a:r>
              <a:rPr b="0" lang="en-US" sz="32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Rectangle 6"/>
          <p:cNvSpPr/>
          <p:nvPr/>
        </p:nvSpPr>
        <p:spPr>
          <a:xfrm>
            <a:off x="8077320" y="4419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Oval 7"/>
          <p:cNvSpPr/>
          <p:nvPr/>
        </p:nvSpPr>
        <p:spPr>
          <a:xfrm>
            <a:off x="3429000" y="3048120"/>
            <a:ext cx="2514600" cy="609480"/>
          </a:xfrm>
          <a:prstGeom prst="ellipse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3" name="Object 9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ntact Forces: Friction, Normal Forces, and H.O.B.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means perpendicular to the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gnitude of frictional force (parallel to surfaces) is proportional to the normal fo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kine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oefficient of Kinetic frictio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sta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oefficient of Static frictio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Carefu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ic fric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can be any value up to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0760" indent="-2145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on always opposes 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.O.B. is any other explicitly stated fo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7" name="Object 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7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ree Body Diagram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ose Object (boo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bel coordinate 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All Fo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nd of Brad, H.O.B.  (to righ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vity (dow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 (table, u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ction (table, lef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457200" y="6095880"/>
            <a:ext cx="3962520" cy="609840"/>
          </a:xfrm>
          <a:prstGeom prst="rect">
            <a:avLst/>
          </a:prstGeom>
          <a:solidFill>
            <a:srgbClr val="2161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Rectangle 6"/>
          <p:cNvSpPr/>
          <p:nvPr/>
        </p:nvSpPr>
        <p:spPr>
          <a:xfrm>
            <a:off x="1219320" y="5715000"/>
            <a:ext cx="1447560" cy="380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3" name="Picture 9" descr="PE03082_"/>
          <p:cNvPicPr/>
          <p:nvPr/>
        </p:nvPicPr>
        <p:blipFill>
          <a:blip r:embed="rId1"/>
          <a:stretch/>
        </p:blipFill>
        <p:spPr>
          <a:xfrm>
            <a:off x="376200" y="5715000"/>
            <a:ext cx="843120" cy="380880"/>
          </a:xfrm>
          <a:prstGeom prst="rect">
            <a:avLst/>
          </a:prstGeom>
          <a:ln w="0">
            <a:noFill/>
          </a:ln>
        </p:spPr>
      </p:pic>
      <p:sp>
        <p:nvSpPr>
          <p:cNvPr id="804" name="Rectangle 10"/>
          <p:cNvSpPr/>
          <p:nvPr/>
        </p:nvSpPr>
        <p:spPr>
          <a:xfrm>
            <a:off x="7010280" y="3962520"/>
            <a:ext cx="381240" cy="228600"/>
          </a:xfrm>
          <a:prstGeom prst="rect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5" name="Group 19"/>
          <p:cNvGrpSpPr/>
          <p:nvPr/>
        </p:nvGrpSpPr>
        <p:grpSpPr>
          <a:xfrm>
            <a:off x="8001000" y="5500800"/>
            <a:ext cx="990720" cy="978120"/>
            <a:chOff x="8001000" y="5500800"/>
            <a:chExt cx="990720" cy="978120"/>
          </a:xfrm>
        </p:grpSpPr>
        <p:sp>
          <p:nvSpPr>
            <p:cNvPr id="806" name="Line 20"/>
            <p:cNvSpPr/>
            <p:nvPr/>
          </p:nvSpPr>
          <p:spPr>
            <a:xfrm flipV="1">
              <a:off x="8001000" y="5729040"/>
              <a:ext cx="0" cy="685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Line 21"/>
            <p:cNvSpPr/>
            <p:nvPr/>
          </p:nvSpPr>
          <p:spPr>
            <a:xfrm>
              <a:off x="8001000" y="6415200"/>
              <a:ext cx="685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Text Box 22"/>
            <p:cNvSpPr/>
            <p:nvPr/>
          </p:nvSpPr>
          <p:spPr>
            <a:xfrm>
              <a:off x="8001000" y="5500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Text Box 23"/>
            <p:cNvSpPr/>
            <p:nvPr/>
          </p:nvSpPr>
          <p:spPr>
            <a:xfrm>
              <a:off x="8686800" y="6110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810" name="Object 25"/>
          <p:cNvGraphicFramePr/>
          <p:nvPr/>
        </p:nvGraphicFramePr>
        <p:xfrm>
          <a:off x="8381880" y="0"/>
          <a:ext cx="762120" cy="71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1" name="Object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1880" y="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8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’s Laws of 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ert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=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i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c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n-Contact: Gr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act:  Friction, Normal, H.O.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e Body Dia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direction is independ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ction  opposes motion, parallel to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netic f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c   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≤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To Do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sions starts tomorrow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bs start next we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lecture preflight before 6:00 am Wednesda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Have a GREAT WEEK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hysics 101 covers…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nema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/Moment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ves/S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modynam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ntacting M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f. Brad Halfpa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bhalfpap@illinois.ed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Put Phys 101 in subject 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fice Hou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nistrative - Room 33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esday 11:00-12:00 &amp; 1:00 – 2: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 Sessions – Room 27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iday 9:00 – 10:00 &amp; 2:00 – 4: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Rectangle 4">
            <a:hlinkClick r:id="rId2"/>
          </p:cNvPr>
          <p:cNvSpPr/>
          <p:nvPr/>
        </p:nvSpPr>
        <p:spPr>
          <a:xfrm>
            <a:off x="520920" y="6172200"/>
            <a:ext cx="50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http://online.physics.uiuc.edu/courses/phys1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urse Format</a:t>
            </a:r>
            <a:br>
              <a:rPr sz="4400"/>
            </a:b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(upward) Spiral Learning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cture Prefligh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Click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ussion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3360" indent="-21924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uizzes; drop lowest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ur Exams (3 x 100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al Exa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Line 16"/>
          <p:cNvSpPr/>
          <p:nvPr/>
        </p:nvSpPr>
        <p:spPr>
          <a:xfrm>
            <a:off x="7162920" y="5638680"/>
            <a:ext cx="990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Text Box 17"/>
          <p:cNvSpPr/>
          <p:nvPr/>
        </p:nvSpPr>
        <p:spPr>
          <a:xfrm>
            <a:off x="7162920" y="5791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Grading Scale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511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50-10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A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20-94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00-91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A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80-89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B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60-87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35-85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B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41840" y="1752480"/>
            <a:ext cx="3511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10-83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C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80-80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50-77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C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20-74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D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90-71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10-68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D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61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Rectangle 6"/>
          <p:cNvSpPr/>
          <p:nvPr/>
        </p:nvSpPr>
        <p:spPr>
          <a:xfrm>
            <a:off x="487440" y="5697720"/>
            <a:ext cx="43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My goal is to receive an A…”</a:t>
            </a:r>
            <a:r>
              <a:rPr b="0" lang="en-US" sz="2000" spc="-1" strike="noStrike">
                <a:solidFill>
                  <a:srgbClr val="00ba8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Reading &amp; Lecture Preflight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Need to complete PreLecture for Prefligh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nswer preflights 25/1000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e 6:00 am day of lectur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points for honest attempt at preflight (lose po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nonsense – and I read these!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1049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EX,  28 Lectures can miss three and still get all 25 poi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Everyone gets 1 point for toda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1" name="Picture 7" descr="e_hy0znz[1]"/>
          <p:cNvPicPr/>
          <p:nvPr/>
        </p:nvPicPr>
        <p:blipFill>
          <a:blip r:embed="rId1"/>
          <a:stretch/>
        </p:blipFill>
        <p:spPr>
          <a:xfrm flipH="1">
            <a:off x="-360" y="0"/>
            <a:ext cx="1546200" cy="1600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101 Lecture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icipation is key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e to lecture prepared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 point for each lecture using iclick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 EX,  28 Lectures can miss three and still get all 25 poi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vailable at bookstore---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register using link on our web pag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640" indent="-2286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sing multiple clickers is an academic integrity viol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verything you need for exam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Concepts, Connections, Motiv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rehensive</a:t>
            </a: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 Text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lculations       </a:t>
            </a: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Homework + Discu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ands-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La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ing 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cture notes availab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2860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me key pieces for you to fill i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4" name="Object 5"/>
          <p:cNvGraphicFramePr/>
          <p:nvPr/>
        </p:nvGraphicFramePr>
        <p:xfrm>
          <a:off x="6400800" y="5486400"/>
          <a:ext cx="76212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5486400"/>
                    <a:ext cx="7621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6" name="Picture 6" descr="gp2jglzz[1]"/>
          <p:cNvPicPr/>
          <p:nvPr/>
        </p:nvPicPr>
        <p:blipFill>
          <a:blip r:embed="rId3"/>
          <a:stretch/>
        </p:blipFill>
        <p:spPr>
          <a:xfrm flipH="1">
            <a:off x="7556400" y="0"/>
            <a:ext cx="1587600" cy="190512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7" descr="4fsif4ve[1]"/>
          <p:cNvPicPr/>
          <p:nvPr/>
        </p:nvPicPr>
        <p:blipFill>
          <a:blip r:embed="rId4"/>
          <a:stretch/>
        </p:blipFill>
        <p:spPr>
          <a:xfrm>
            <a:off x="0" y="0"/>
            <a:ext cx="95256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8" name="Object 9"/>
          <p:cNvGraphicFramePr/>
          <p:nvPr/>
        </p:nvGraphicFramePr>
        <p:xfrm>
          <a:off x="7613640" y="1905120"/>
          <a:ext cx="920880" cy="22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13640" y="1905120"/>
                    <a:ext cx="92088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0" name="Rectangle 10"/>
          <p:cNvSpPr/>
          <p:nvPr/>
        </p:nvSpPr>
        <p:spPr>
          <a:xfrm>
            <a:off x="3886200" y="114264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I’m looking forward to a fun …    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semest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7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7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7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7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101 Homework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web based, immediate feedb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% if done before 6:00 am dead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0% credit on unfinished parts until following Tues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% after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lways keep 5 significant figure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one is due Tues Sept. 4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3" name="Picture 5" descr="dingers"/>
          <p:cNvPicPr/>
          <p:nvPr/>
        </p:nvPicPr>
        <p:blipFill>
          <a:blip r:embed="rId1"/>
          <a:stretch/>
        </p:blipFill>
        <p:spPr>
          <a:xfrm>
            <a:off x="0" y="0"/>
            <a:ext cx="1905120" cy="174456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6" descr="argh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647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101 Labs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28600" y="3429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rector: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rofessor Paul Selv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Lab is Wednesday Sept. 5!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“dropped” labs….. Don’t miss on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7" name="Picture 5" descr="jgl12dbb[1]"/>
          <p:cNvPicPr/>
          <p:nvPr/>
        </p:nvPicPr>
        <p:blipFill>
          <a:blip r:embed="rId1"/>
          <a:stretch/>
        </p:blipFill>
        <p:spPr>
          <a:xfrm>
            <a:off x="0" y="0"/>
            <a:ext cx="1449360" cy="213372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6" descr="1vhjxqfz[1]"/>
          <p:cNvPicPr/>
          <p:nvPr/>
        </p:nvPicPr>
        <p:blipFill>
          <a:blip r:embed="rId2"/>
          <a:stretch/>
        </p:blipFill>
        <p:spPr>
          <a:xfrm>
            <a:off x="7067520" y="0"/>
            <a:ext cx="2076480" cy="2133720"/>
          </a:xfrm>
          <a:prstGeom prst="rect">
            <a:avLst/>
          </a:prstGeom>
          <a:ln w="0">
            <a:noFill/>
          </a:ln>
        </p:spPr>
      </p:pic>
      <p:sp>
        <p:nvSpPr>
          <p:cNvPr id="769" name="Rectangle 7"/>
          <p:cNvSpPr/>
          <p:nvPr/>
        </p:nvSpPr>
        <p:spPr>
          <a:xfrm>
            <a:off x="1687680" y="145476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I'm looking forward to the labs because I learn better with hands-on activities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0T17:27:08Z</dcterms:created>
  <dc:creator>Tim Stelzer</dc:creator>
  <dc:description/>
  <dc:language>en-US</dc:language>
  <cp:lastModifiedBy>Halfpap, Bradford Lee</cp:lastModifiedBy>
  <dcterms:modified xsi:type="dcterms:W3CDTF">2012-08-27T15:46:51Z</dcterms:modified>
  <cp:revision>364</cp:revision>
  <dc:subject/>
  <dc:title>Outline</dc:title>
</cp:coreProperties>
</file>