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5.png" ContentType="image/png"/>
  <Override PartName="/ppt/media/image2.wmf" ContentType="image/x-wmf"/>
  <Override PartName="/ppt/media/image3.gif" ContentType="image/gif"/>
  <Override PartName="/ppt/media/image11.wmf" ContentType="image/x-wmf"/>
  <Override PartName="/ppt/media/image6.gif" ContentType="image/gif"/>
  <Override PartName="/ppt/media/image9.wmf" ContentType="image/x-wmf"/>
  <Override PartName="/ppt/media/image7.gif" ContentType="image/gif"/>
  <Override PartName="/ppt/media/image8.gif" ContentType="image/gif"/>
  <Override PartName="/ppt/media/image10.wmf" ContentType="image/x-wmf"/>
  <Override PartName="/ppt/media/image12.wmf" ContentType="image/x-wmf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F1B7-4188-4FD2-A440-FABA5DA99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3657-58F0-4994-9C9E-CFCCF58972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of first pref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2872-7CB0-4D10-A35F-F8AC4AE8E7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A007-C62D-4B09-91D6-DBAF3E26A9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27CA-8247-4EFF-8B38-FD11D76F2A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s do all demos here.  Table cloth, Fred and cart, Equal and Opposite forc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87A6-F656-407C-AF57-1B9C713811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3605-D223-4893-B561-15C6BF0E19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4A1C-3A2C-4416-B10D-478C1743DB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FBC4-BC6C-4761-803D-EA65448F6E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4EDD-FCAA-466A-9357-104DC9BEBE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66D9-BEE2-4A76-A198-CCC70CBB08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8FD6-22CE-410A-B2E8-0AF8D32DAF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795A-8D2E-4DB8-8F3C-85B61A5009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8A28-D4B2-4580-9BD5-91DB580D83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to doing well is talking about the course. At bars? Show examples of the Lab/Text and Discussion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84B4-5E72-43A7-8886-9AD90FE1A7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EF0C-B055-42A9-99E4-F69E1C656F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CBEC-CCF9-4E42-860F-03C601AEFC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nt that lecture can’t do everything. Key is participa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10AE-ADB7-4E38-8553-E1B9C993EA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73DC-F84D-42CE-9D59-F104B30EAF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91080112-6323-4D91-88A1-CC6DB2F171BE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D26E6BA4-816D-45BD-9F94-4C52C607EB2B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F4FCAA3C-67ED-43CF-9320-176C48B5E5AE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DF49923E-04BB-4E15-9893-FE226C956BB1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58CC2FB6-38C0-43DC-A108-C56C437CC806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185E8934-09CB-4222-A00A-B5D277EC261E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6AC0326E-F06A-402E-AE66-9B54CCCEEA25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E71AF56D-5BF9-415D-ACF0-344708C7475B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867B3F58-FF1A-4B65-A8CC-D108C7B89153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9054C280-7069-436D-AFC4-870C1DFB6A13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BB997FBE-65BF-4BD9-B6AF-018C0C6BAF96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596D1C1A-0C4D-4D86-B6AB-A622AE0CE28C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E72AF3F3-8BB9-4AC2-BA27-34DFC2A170D2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4883C801-ABA4-4F58-8556-54D8F9BDF806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28B61F25-3567-4125-A431-6442DCE472D4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A7A08966-3965-451E-BBAA-708569022DB2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5565600" y="6573960"/>
            <a:ext cx="3842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01, Pg </a:t>
            </a:r>
            <a:fld id="{F74CA615-1C85-437C-B25B-9F113374B77D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7CA5BCA3-9B8F-4C80-9C73-27D661B3C97B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halfpap@illinois.edu" TargetMode="External"/><Relationship Id="rId2" Type="http://schemas.openxmlformats.org/officeDocument/2006/relationships/hyperlink" Target="http://online.physics.uiuc.edu/courses/phys101/fall03/index.html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Welcome to Physics 101!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Lecture 01: Introduction to Forces</a:t>
            </a:r>
            <a:endParaRPr b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8" name="Text Box 3"/>
          <p:cNvSpPr/>
          <p:nvPr/>
        </p:nvSpPr>
        <p:spPr>
          <a:xfrm>
            <a:off x="380880" y="5638680"/>
            <a:ext cx="8382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http://online.physics.uiuc.edu/courses/phys1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Rectangle 5"/>
          <p:cNvSpPr/>
          <p:nvPr/>
        </p:nvSpPr>
        <p:spPr>
          <a:xfrm>
            <a:off x="380880" y="197856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 “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I'm hoping the class is explained well and is graded easily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Rectangle 6"/>
          <p:cNvSpPr/>
          <p:nvPr/>
        </p:nvSpPr>
        <p:spPr>
          <a:xfrm>
            <a:off x="-4232520" y="36183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Rectangle 7"/>
          <p:cNvSpPr/>
          <p:nvPr/>
        </p:nvSpPr>
        <p:spPr>
          <a:xfrm>
            <a:off x="990720" y="26661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 am very excited about taking Physics 101!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Rectangle 10"/>
          <p:cNvSpPr/>
          <p:nvPr/>
        </p:nvSpPr>
        <p:spPr>
          <a:xfrm>
            <a:off x="304920" y="3412440"/>
            <a:ext cx="683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I look forward to the demo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Text Box 12"/>
          <p:cNvSpPr/>
          <p:nvPr/>
        </p:nvSpPr>
        <p:spPr>
          <a:xfrm>
            <a:off x="322200" y="396252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ervous”    “Anxious”   “Apprehensive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Text Box 13"/>
          <p:cNvSpPr/>
          <p:nvPr/>
        </p:nvSpPr>
        <p:spPr>
          <a:xfrm>
            <a:off x="552600" y="5257800"/>
            <a:ext cx="72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 am excited to learn about something other than biology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Text Box 14"/>
          <p:cNvSpPr/>
          <p:nvPr/>
        </p:nvSpPr>
        <p:spPr>
          <a:xfrm>
            <a:off x="382320" y="4572000"/>
            <a:ext cx="321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worried about the math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Discussion Section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rector: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rofessor Tom Kuhlm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: tomorrow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iz during last 20 minutes of s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 minutes late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section: m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ew, dimens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2" name="Picture 5" descr="ukujxqjs[1]"/>
          <p:cNvPicPr/>
          <p:nvPr/>
        </p:nvPicPr>
        <p:blipFill>
          <a:blip r:embed="rId1"/>
          <a:stretch/>
        </p:blipFill>
        <p:spPr>
          <a:xfrm>
            <a:off x="5181480" y="3429000"/>
            <a:ext cx="3276720" cy="3114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hysics Philosophy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-282960">
              <a:lnSpc>
                <a:spcPct val="7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ysics is about predicting the futur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-282960">
              <a:lnSpc>
                <a:spcPct val="7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escribe large number of “complicated” observations with a few simple ideas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-282960">
              <a:lnSpc>
                <a:spcPct val="7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Un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-282960">
              <a:lnSpc>
                <a:spcPct val="7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alitative and Quantitative Reaso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5" name="Picture 6" descr="rqgknxeg[1]"/>
          <p:cNvPicPr/>
          <p:nvPr/>
        </p:nvPicPr>
        <p:blipFill>
          <a:blip r:embed="rId1"/>
          <a:stretch/>
        </p:blipFill>
        <p:spPr>
          <a:xfrm>
            <a:off x="7783560" y="30240"/>
            <a:ext cx="1360440" cy="222552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7" descr="ncxnuqui[1]"/>
          <p:cNvPicPr/>
          <p:nvPr/>
        </p:nvPicPr>
        <p:blipFill>
          <a:blip r:embed="rId2"/>
          <a:stretch/>
        </p:blipFill>
        <p:spPr>
          <a:xfrm>
            <a:off x="0" y="0"/>
            <a:ext cx="1444680" cy="1671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7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7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Newton’s Laws of Mo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sum of all external forces on an object is zero, then its speed and direction will not change.  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ert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a nonzero net force is applied to an object its motion will change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= 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n interaction between two objects, the forces that each exerts on the other are equal in magnitude and opposite in dire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9" name="Object 5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Forces in P101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ontact ---- Gravity (|F| = G m M/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 = 6.7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/ (kg 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th:   Mass = 6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kg,  radius = 6.4 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act  (fundamentally E+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: Perpendicular to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ction: Parallel to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ything touching the 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ces exerted by Agents!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aint Them Oran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Example Weight of Object 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culate the gravitational force on a 3 kg book held 1 meter above the surface of the ear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|F| = G M m / 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6.7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/ (kg s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(6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(3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/ (6.4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  29.4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kg m/s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5" name="Object 5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book is raised 10 meters above the surface of the earth, the gravitational force on the book wi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A)    100 times stronger  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B) 10 times stro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C)   Nearly the same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D)   10 times weaker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E) 100 times weak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Rectangle 4"/>
          <p:cNvSpPr/>
          <p:nvPr/>
        </p:nvSpPr>
        <p:spPr>
          <a:xfrm>
            <a:off x="609480" y="4267080"/>
            <a:ext cx="746784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 = G M m / 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(6.7x10-11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 / (kg s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(6x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(3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/ (6.4x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10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  29.4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g m/s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Text Box 5"/>
          <p:cNvSpPr/>
          <p:nvPr/>
        </p:nvSpPr>
        <p:spPr>
          <a:xfrm>
            <a:off x="380880" y="5410080"/>
            <a:ext cx="8153640" cy="1170360"/>
          </a:xfrm>
          <a:prstGeom prst="rect">
            <a:avLst/>
          </a:prstGeom>
          <a:noFill/>
          <a:ln w="38160">
            <a:solidFill>
              <a:srgbClr val="00ba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Near surface of ear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 = 6.4x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|F| = m (G M /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m (9.8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/s</a:t>
            </a:r>
            <a:r>
              <a:rPr b="0" lang="en-US" sz="32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Rectangle 6"/>
          <p:cNvSpPr/>
          <p:nvPr/>
        </p:nvSpPr>
        <p:spPr>
          <a:xfrm>
            <a:off x="8077320" y="4419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Oval 7"/>
          <p:cNvSpPr/>
          <p:nvPr/>
        </p:nvSpPr>
        <p:spPr>
          <a:xfrm>
            <a:off x="3429000" y="3048120"/>
            <a:ext cx="2514600" cy="609480"/>
          </a:xfrm>
          <a:prstGeom prst="ellipse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3" name="Object 9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ontact Forces: Friction, Normal Forces, and H.O.B.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 means perpendicular to the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gnitude of frictional force (parallel to surfaces) is proportional to the normal fo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kinet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oefficient of Kinetic frictio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stat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oefficient of Static frictio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Carefu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ic fric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can be any value up to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on always opposes 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.O.B. is any other explicitly stated fo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7" name="Object 5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7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Free Body Diagram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oose Object (boo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bel coordinate 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All Fo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nd of Brad, H.O.B.  (to righ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vity (dow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 (table, u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ction (table, lef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457200" y="6095880"/>
            <a:ext cx="3962520" cy="609840"/>
          </a:xfrm>
          <a:prstGeom prst="rect">
            <a:avLst/>
          </a:prstGeom>
          <a:solidFill>
            <a:srgbClr val="2161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Rectangle 6"/>
          <p:cNvSpPr/>
          <p:nvPr/>
        </p:nvSpPr>
        <p:spPr>
          <a:xfrm>
            <a:off x="1219320" y="5715000"/>
            <a:ext cx="1447560" cy="3808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3" name="Picture 9" descr="PE03082_"/>
          <p:cNvPicPr/>
          <p:nvPr/>
        </p:nvPicPr>
        <p:blipFill>
          <a:blip r:embed="rId1"/>
          <a:stretch/>
        </p:blipFill>
        <p:spPr>
          <a:xfrm>
            <a:off x="376200" y="5715000"/>
            <a:ext cx="843120" cy="380880"/>
          </a:xfrm>
          <a:prstGeom prst="rect">
            <a:avLst/>
          </a:prstGeom>
          <a:ln w="0">
            <a:noFill/>
          </a:ln>
        </p:spPr>
      </p:pic>
      <p:sp>
        <p:nvSpPr>
          <p:cNvPr id="804" name="Rectangle 10"/>
          <p:cNvSpPr/>
          <p:nvPr/>
        </p:nvSpPr>
        <p:spPr>
          <a:xfrm>
            <a:off x="7010280" y="3962520"/>
            <a:ext cx="3812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5" name="Group 19"/>
          <p:cNvGrpSpPr/>
          <p:nvPr/>
        </p:nvGrpSpPr>
        <p:grpSpPr>
          <a:xfrm>
            <a:off x="8001000" y="5500800"/>
            <a:ext cx="990720" cy="978120"/>
            <a:chOff x="8001000" y="5500800"/>
            <a:chExt cx="990720" cy="978120"/>
          </a:xfrm>
        </p:grpSpPr>
        <p:sp>
          <p:nvSpPr>
            <p:cNvPr id="806" name="Line 20"/>
            <p:cNvSpPr/>
            <p:nvPr/>
          </p:nvSpPr>
          <p:spPr>
            <a:xfrm flipV="1">
              <a:off x="8001000" y="572904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Line 21"/>
            <p:cNvSpPr/>
            <p:nvPr/>
          </p:nvSpPr>
          <p:spPr>
            <a:xfrm>
              <a:off x="8001000" y="641520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Text Box 22"/>
            <p:cNvSpPr/>
            <p:nvPr/>
          </p:nvSpPr>
          <p:spPr>
            <a:xfrm>
              <a:off x="8001000" y="5500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Text Box 23"/>
            <p:cNvSpPr/>
            <p:nvPr/>
          </p:nvSpPr>
          <p:spPr>
            <a:xfrm>
              <a:off x="8686800" y="6110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810" name="Object 25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1" name="Object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8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ton’s Laws of 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ert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=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i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c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n-Contact: Gra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act:  Friction, Normal, H.O.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e Body Dia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direction is independ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ction  opposes motion, parallel to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netic f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c   f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To Do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sions starts tomorrow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bs start next wee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lecture preflight before 6:00 am Wednesday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Have a GREAT WEEK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hysics 101 covers…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nema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y/Moment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ves/S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modynam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ontacting M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f. Brad Halfpa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00ff"/>
                </a:solidFill>
                <a:uFillTx/>
                <a:latin typeface="Times New Roman"/>
                <a:hlinkClick r:id="rId1"/>
              </a:rPr>
              <a:t>bhalfpap@illinois.ed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Put Phys 101 in subject 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fice Hou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ministrative - Room 33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esday 11:00-12:00 &amp; 1:00 – 2: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lem Sessions – Room 27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iday 9:00 – 10:00 &amp; 2:00 – 4: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Rectangle 4">
            <a:hlinkClick r:id="rId2"/>
          </p:cNvPr>
          <p:cNvSpPr/>
          <p:nvPr/>
        </p:nvSpPr>
        <p:spPr>
          <a:xfrm>
            <a:off x="520920" y="6172200"/>
            <a:ext cx="50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http://online.physics.uiuc.edu/courses/phys1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7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ourse Format</a:t>
            </a:r>
            <a:br>
              <a:rPr sz="4400"/>
            </a:b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(upward) Spiral Learning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cture Prefligh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Click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ussion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3360" indent="-21924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uizzes; drop lowest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ur Exams (3 x 100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al Exa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Line 16"/>
          <p:cNvSpPr/>
          <p:nvPr/>
        </p:nvSpPr>
        <p:spPr>
          <a:xfrm>
            <a:off x="7162920" y="5638680"/>
            <a:ext cx="990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Text Box 17"/>
          <p:cNvSpPr/>
          <p:nvPr/>
        </p:nvSpPr>
        <p:spPr>
          <a:xfrm>
            <a:off x="7162920" y="5791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Grading Sca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511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50-10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A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20-94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00-91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A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80-89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B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60-87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35-85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B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41840" y="1752480"/>
            <a:ext cx="3511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10-83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C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80-80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50-77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C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20-74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D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90-71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10-68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D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61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Rectangle 6"/>
          <p:cNvSpPr/>
          <p:nvPr/>
        </p:nvSpPr>
        <p:spPr>
          <a:xfrm>
            <a:off x="487440" y="5697720"/>
            <a:ext cx="43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My goal is to receive an A…”</a:t>
            </a:r>
            <a:r>
              <a:rPr b="0" lang="en-US" sz="2000" spc="-1" strike="noStrike">
                <a:solidFill>
                  <a:srgbClr val="00ba8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Reading &amp; Lecture Prefligh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Need to complete PreLecture for Prefligh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nswer preflights 25/1000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e 6:00 am day of lectur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points for honest attempt at preflight (lose po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nonsense – and I read these!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EX,  28 Lectures can miss three and still get all 25 poi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Everyone gets 1 point for today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1" name="Picture 7" descr="e_hy0znz[1]"/>
          <p:cNvPicPr/>
          <p:nvPr/>
        </p:nvPicPr>
        <p:blipFill>
          <a:blip r:embed="rId1"/>
          <a:stretch/>
        </p:blipFill>
        <p:spPr>
          <a:xfrm flipH="1">
            <a:off x="-360" y="0"/>
            <a:ext cx="1546200" cy="1600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101 Lecture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icipation is key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e to lecture prepared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 point for each lecture using iclick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 EX,  28 Lectures can miss three and still get all 25 poi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vailable at bookstore---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register using link on our web pag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sing multiple clickers is an academic integrity viol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verything you need for exam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Concepts, Connections, Motiv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rehensive</a:t>
            </a: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 Text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lculations       </a:t>
            </a: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Homework + Discu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ands-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La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ing 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cture notes availab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me key pieces for you to fill i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54" name="Object 5"/>
          <p:cNvGraphicFramePr/>
          <p:nvPr/>
        </p:nvGraphicFramePr>
        <p:xfrm>
          <a:off x="6400800" y="548640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548640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6" name="Picture 6" descr="gp2jglzz[1]"/>
          <p:cNvPicPr/>
          <p:nvPr/>
        </p:nvPicPr>
        <p:blipFill>
          <a:blip r:embed="rId3"/>
          <a:stretch/>
        </p:blipFill>
        <p:spPr>
          <a:xfrm flipH="1">
            <a:off x="7556400" y="0"/>
            <a:ext cx="1587600" cy="190512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7" descr="4fsif4ve[1]"/>
          <p:cNvPicPr/>
          <p:nvPr/>
        </p:nvPicPr>
        <p:blipFill>
          <a:blip r:embed="rId4"/>
          <a:stretch/>
        </p:blipFill>
        <p:spPr>
          <a:xfrm>
            <a:off x="0" y="0"/>
            <a:ext cx="952560" cy="16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8" name="Object 9"/>
          <p:cNvGraphicFramePr/>
          <p:nvPr/>
        </p:nvGraphicFramePr>
        <p:xfrm>
          <a:off x="7613640" y="1905120"/>
          <a:ext cx="920880" cy="22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13640" y="1905120"/>
                    <a:ext cx="92088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0" name="Rectangle 10"/>
          <p:cNvSpPr/>
          <p:nvPr/>
        </p:nvSpPr>
        <p:spPr>
          <a:xfrm>
            <a:off x="3886200" y="114264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I’m looking forward to a fun …    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semest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7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7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7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7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7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101 Homework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web based, immediate feedb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% if done before 6:00 am dead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0% credit on unfinished parts until following Tu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% after 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lways keep 5 significant figure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one is due Tues Sept. 4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3" name="Picture 5" descr="dingers"/>
          <p:cNvPicPr/>
          <p:nvPr/>
        </p:nvPicPr>
        <p:blipFill>
          <a:blip r:embed="rId1"/>
          <a:stretch/>
        </p:blipFill>
        <p:spPr>
          <a:xfrm>
            <a:off x="0" y="0"/>
            <a:ext cx="1905120" cy="174456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6" descr="argh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647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101 Lab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28600" y="3429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rector: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rofessor Paul Selv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Lab is Wednesday Sept. 5!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“dropped” labs….. Don’t miss on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7" name="Picture 5" descr="jgl12dbb[1]"/>
          <p:cNvPicPr/>
          <p:nvPr/>
        </p:nvPicPr>
        <p:blipFill>
          <a:blip r:embed="rId1"/>
          <a:stretch/>
        </p:blipFill>
        <p:spPr>
          <a:xfrm>
            <a:off x="0" y="0"/>
            <a:ext cx="1449360" cy="213372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6" descr="1vhjxqfz[1]"/>
          <p:cNvPicPr/>
          <p:nvPr/>
        </p:nvPicPr>
        <p:blipFill>
          <a:blip r:embed="rId2"/>
          <a:stretch/>
        </p:blipFill>
        <p:spPr>
          <a:xfrm>
            <a:off x="7067520" y="0"/>
            <a:ext cx="2076480" cy="2133720"/>
          </a:xfrm>
          <a:prstGeom prst="rect">
            <a:avLst/>
          </a:prstGeom>
          <a:ln w="0">
            <a:noFill/>
          </a:ln>
        </p:spPr>
      </p:pic>
      <p:sp>
        <p:nvSpPr>
          <p:cNvPr id="769" name="Rectangle 7"/>
          <p:cNvSpPr/>
          <p:nvPr/>
        </p:nvSpPr>
        <p:spPr>
          <a:xfrm>
            <a:off x="1687680" y="145476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I'm looking forward to the labs because I learn better with hands-on activities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30T17:27:08Z</dcterms:created>
  <dc:creator>Tim Stelzer</dc:creator>
  <dc:description/>
  <dc:language>en-US</dc:language>
  <cp:lastModifiedBy>Halfpap, Bradford Lee</cp:lastModifiedBy>
  <dcterms:modified xsi:type="dcterms:W3CDTF">2012-08-27T15:46:51Z</dcterms:modified>
  <cp:revision>364</cp:revision>
  <dc:subject/>
  <dc:title>Outline</dc:title>
</cp:coreProperties>
</file>